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EA54-9B90-4FA6-9985-F96377D789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F1E0-D1D1-482A-8EFC-96702E072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CF03-C4CB-4CAD-A199-602C7E54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0D0-BE62-4D29-BB24-E15774DA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1CF-DBF3-4813-BA4F-6A3E4243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8B6-9FA1-480D-BA64-3BB8AE51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D6D-8712-4930-8240-BD5771D3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3C2B-2A0D-49D8-A4C0-2A817DF3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5B1-14BE-41BC-B03F-A5F48F89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19A-A827-45FC-945A-43C0FD72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405-F225-47F9-8563-039CD888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4F2-C071-467B-BE09-2BE5549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C27-B0CD-461F-8EC7-598D6689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263-6F85-4682-8F89-2D75E921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E577-1C40-4AF8-AAE0-C7980A792D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Предпосылки открыт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Периодического закона 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Д. И. Менделеевы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ктавы Ньюленд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одель был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компрометирова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 настойчивым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пытками автор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йти в таблиц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истическую музы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альную гармонию; при таком расположени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без пропусков исключалась возможность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открытия новых элементов и многие элемент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падали на несоответствующие им мест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File:Newlands periodiska system 1866.png"/>
          <p:cNvPicPr/>
          <p:nvPr/>
        </p:nvPicPr>
        <p:blipFill>
          <a:blip r:embed="rId1"/>
          <a:stretch/>
        </p:blipFill>
        <p:spPr>
          <a:xfrm>
            <a:off x="3886200" y="106668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аблица Мей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м же десятилетии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ились ещё несколько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ток систематизации хи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их элементов; бл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к окончательному 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анту подошёл Мей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64). Он расположил хи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ие элементы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растания их атомных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Юлиус Ло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с.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ей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(1830-1895 г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ttp://900igr.net/datai/fizika/Elementy/0008-006-Tablitsa-Mejera.png"/>
          <p:cNvPicPr/>
          <p:nvPr/>
        </p:nvPicPr>
        <p:blipFill>
          <a:blip r:embed="rId1"/>
          <a:stretch/>
        </p:blipFill>
        <p:spPr>
          <a:xfrm>
            <a:off x="6248520" y="1295280"/>
            <a:ext cx="2438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аблица Мей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35812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его таблицу вошли лишь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ов размещенных в шесть столбц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е. меньше половины известных в 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этом структура таблицы была очень н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ной и не отражала периодич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scimak.ucoz.ru/_pu/0/23144929.jpg"/>
          <p:cNvPicPr/>
          <p:nvPr/>
        </p:nvPicPr>
        <p:blipFill>
          <a:blip r:embed="rId1"/>
          <a:stretch/>
        </p:blipFill>
        <p:spPr>
          <a:xfrm>
            <a:off x="914400" y="1219320"/>
            <a:ext cx="7105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III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.Съезд химиков в Карлсруэ с 3 по 5 сентября 1860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://lib.rus.ec/i/31/362031/i_009.jpg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ъезд химиков в Карлсру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данном съезде окончательно утвердилось атомно-молекулярное учение, были приняты первые единые определения понятий молекулы и атома, а также атомного веса (атомной массы). Именно это понятие как неизменную характеристику атомов Д.И. Менделеев положил в основу своей классиф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289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митрий Иванович Менделеев (1834-1907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33560" y="456840"/>
            <a:ext cx="5181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Масса вещества есть именно такое свойство его, от которого должны находиться в зависимости все остальные свойства. Поэтому ближе и естественнее всего искать зависимость между свойствами и сходствами элементов, с одной стороны, и атомными весами их, с другой сторо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justwater.ru/wp-content/uploads/2011/04/mendeleev.jpg"/>
          <p:cNvPicPr/>
          <p:nvPr/>
        </p:nvPicPr>
        <p:blipFill>
          <a:blip r:embed="rId1"/>
          <a:stretch/>
        </p:blipFill>
        <p:spPr>
          <a:xfrm>
            <a:off x="762120" y="457200"/>
            <a:ext cx="2590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IV.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 Личностные качества Д.И.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нциклопедичность знани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учная интуиц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мение обобща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тоянное стремление к познанию неведомог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ар научного предви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73280" y="2412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I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. Накопление фактологичес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к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 времени открытия Периодического закона было известно 63 химических элемента, описаны состав и свойства их многочисленных соединени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II</a:t>
            </a:r>
            <a:r>
              <a:rPr b="1" i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.Работы ученых – предшественников Д.И.Менделеева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Классификация Берцели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332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разделил все 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металлы и неметаллы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е различий в свой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ных ими прос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ществ и соединений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Йенс Як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ерце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(1779 – 1848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veronium.narod.ru/AllHimiki.files/image002.gif"/>
          <p:cNvPicPr/>
          <p:nvPr/>
        </p:nvPicPr>
        <p:blipFill>
          <a:blip r:embed="rId1"/>
          <a:stretch/>
        </p:blipFill>
        <p:spPr>
          <a:xfrm>
            <a:off x="6324480" y="2590920"/>
            <a:ext cx="2152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Классификация Берцели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 было всего две и включали они значительно отлича- ющиеся друг от друга 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ичие амфотерных оксидов и гидрокси- дов у некоторых ме- таллов вносило пута- ниц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rudocs.exdat.com/pars_docs/tw_refs/19/18275/18275_html_m75ee97b6.png"/>
          <p:cNvPicPr/>
          <p:nvPr/>
        </p:nvPicPr>
        <p:blipFill>
          <a:blip r:embed="rId1"/>
          <a:stretch/>
        </p:blipFill>
        <p:spPr>
          <a:xfrm>
            <a:off x="4971960" y="1523880"/>
            <a:ext cx="41720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риады Дёберей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29 году Дебере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убликовал найд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 «закон триад»: атом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многих элементов бл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к к среднему арифме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ому двух других эл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тов, близких к исход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 по химическим свойс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м (стронций, кальций 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Иоганн Вольфга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ий; хлор, бром и йод 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Дёбере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.).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             (1780-1849 гг.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http://steampunker.ru/uploads/images/00/29/80/2012/01/30/5e928cebda.jpg"/>
          <p:cNvPicPr/>
          <p:nvPr/>
        </p:nvPicPr>
        <p:blipFill>
          <a:blip r:embed="rId1"/>
          <a:stretch/>
        </p:blipFill>
        <p:spPr>
          <a:xfrm>
            <a:off x="5334120" y="990720"/>
            <a:ext cx="3448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риады Деберей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д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ить 5 три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е. использ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 15 эле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льные эле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классифиц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м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physchem.chimfak.rsu.ru/Source/History/Objects/triads-1.gif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пираль Шанкурт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862 году пер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ытку распо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в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растания ато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ов предпри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нкурту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лександр Эм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1820-1886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upload.wikimedia.org/wikipedia/commons/thumb/e/e8/Alexandre-Emile_B%C3%A9guyer_de_Chancourtois.jpg/220px-Alexandre-Emile_B%C3%A9guyer_de_Chancourtois.jpg"/>
          <p:cNvPicPr/>
          <p:nvPr/>
        </p:nvPicPr>
        <p:blipFill>
          <a:blip r:embed="rId1"/>
          <a:stretch/>
        </p:blipFill>
        <p:spPr>
          <a:xfrm>
            <a:off x="6019920" y="1523880"/>
            <a:ext cx="2095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пираль Шанкурт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нкуртуа разместил элементы вдоль винтовой линии и отметил частое циклическое повторение химических свойств по вертик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://rudocs.exdat.com/pars_docs/tw_refs/19/18275/18275_html_m44aaad26.jpg"/>
          <p:cNvPicPr/>
          <p:nvPr/>
        </p:nvPicPr>
        <p:blipFill>
          <a:blip r:embed="rId1"/>
          <a:stretch/>
        </p:blipFill>
        <p:spPr>
          <a:xfrm>
            <a:off x="5486400" y="167652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ктавы Ньюленд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865 году сво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ил химик и муз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т Джон Алекса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юлендс, модель кот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го («закон октав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е немного напом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а менделеевскую.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жон Алекса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ейна Ньюлен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1837-1898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sc.nios.ru/dlrstore/8bdecc58-3661-6478-bd3f-ac735c720882/00149189240718870/73926.jpg"/>
          <p:cNvPicPr/>
          <p:nvPr/>
        </p:nvPicPr>
        <p:blipFill>
          <a:blip r:embed="rId1"/>
          <a:stretch/>
        </p:blipFill>
        <p:spPr>
          <a:xfrm>
            <a:off x="6248520" y="167652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8:47:33Z</dcterms:created>
  <dc:creator>Руся</dc:creator>
  <dc:description/>
  <dc:language>en-US</dc:language>
  <cp:lastModifiedBy>Я</cp:lastModifiedBy>
  <dcterms:modified xsi:type="dcterms:W3CDTF">2013-04-11T14:25:1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