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C90F-9F72-48A3-A685-76B5AF5C08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4ABE-A79C-4D96-B376-13F62F702A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CF2-8FC8-4FE8-B989-D12922FE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E440-8050-44FB-9511-25A2F821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CE18-8DA9-46E0-8C53-A8DDFCEA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3CE9-904D-4168-A4B1-031B97FA7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6ACB-48FF-4753-B31F-208A81CA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BAD6-3B03-48FC-8C12-07C287AF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DE7E-698D-4BAE-B21E-7C9D9E57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AC40-B950-45AE-B4A6-DA0BC1FF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9D34-AAC0-437C-B05C-00B1CA68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AD16-9B93-4B95-A3B4-5FB6FECC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FE07-3AFE-40B6-873C-A6A298BD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9ED1-2893-4406-B064-5027B3B6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80C6-6655-49DA-8FEA-5AAA1E59AE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Arial"/>
              </a:rPr>
              <a:t>Предпосылки открытия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ff0066"/>
                </a:solidFill>
                <a:latin typeface="Arial"/>
              </a:rPr>
              <a:t>Периодического закона </a:t>
            </a:r>
            <a:br>
              <a:rPr sz="5400"/>
            </a:br>
            <a:r>
              <a:rPr b="1" i="1" lang="ru-RU" sz="5400" spc="-1" strike="noStrike">
                <a:solidFill>
                  <a:srgbClr val="ff0066"/>
                </a:solidFill>
                <a:latin typeface="Arial"/>
              </a:rPr>
              <a:t>Д. И. Менделеевы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Октавы Ньюленд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66"/>
                </a:solidFill>
                <a:latin typeface="Arial"/>
              </a:rPr>
              <a:t>Недостатк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модель был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компрометирова-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на настойчивыми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опытками автора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найти в таблиц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мистическую музы-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кальную гармонию; при таком расположении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без пропусков исключалась возможность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открытия новых элементов и многие элементы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попадали на несоответствующие им мест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File:Newlands periodiska system 1866.png"/>
          <p:cNvPicPr/>
          <p:nvPr/>
        </p:nvPicPr>
        <p:blipFill>
          <a:blip r:embed="rId1"/>
          <a:stretch/>
        </p:blipFill>
        <p:spPr>
          <a:xfrm>
            <a:off x="3886200" y="1066680"/>
            <a:ext cx="5029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Таблица Мей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том же десятилетии п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вились ещё несколько п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ыток систематизации хим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ских элементов; бли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го к окончательному 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анту подошёл Мей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864). Он расположил хим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ские элементы в поряд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растания их атомных       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Юлиус Лот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сс.                                                  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ей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                                                       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(1830-1895 г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http://900igr.net/datai/fizika/Elementy/0008-006-Tablitsa-Mejera.png"/>
          <p:cNvPicPr/>
          <p:nvPr/>
        </p:nvPicPr>
        <p:blipFill>
          <a:blip r:embed="rId1"/>
          <a:stretch/>
        </p:blipFill>
        <p:spPr>
          <a:xfrm>
            <a:off x="6248520" y="1295280"/>
            <a:ext cx="24382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Таблица Мей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3581280"/>
            <a:ext cx="8610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достатки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 его таблицу вошли лишь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лементов размещенных в шесть столбц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.е. меньше половины известных в то врем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этом структура таблицы была очень н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енной и не отражала периодич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й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scimak.ucoz.ru/_pu/0/23144929.jpg"/>
          <p:cNvPicPr/>
          <p:nvPr/>
        </p:nvPicPr>
        <p:blipFill>
          <a:blip r:embed="rId1"/>
          <a:stretch/>
        </p:blipFill>
        <p:spPr>
          <a:xfrm>
            <a:off x="914400" y="1219320"/>
            <a:ext cx="710568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III</a:t>
            </a:r>
            <a:r>
              <a:rPr b="1" i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.Съезд химиков в Карлсруэ с 3 по 5 сентября 1860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http://lib.rus.ec/i/31/362031/i_009.jpg"/>
          <p:cNvPicPr/>
          <p:nvPr/>
        </p:nvPicPr>
        <p:blipFill>
          <a:blip r:embed="rId1"/>
          <a:stretch/>
        </p:blipFill>
        <p:spPr>
          <a:xfrm>
            <a:off x="1066680" y="1828800"/>
            <a:ext cx="7086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Съезд химиков в Карлсру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 данном съезде окончательно утвердилось атомно-молекулярное учение, были приняты первые единые определения понятий молекулы и атома, а также атомного веса (атомной массы). Именно это понятие как неизменную характеристику атомов Д.И. Менделеев положил в основу своей классифик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4190760"/>
            <a:ext cx="2895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митрий Иванович Менделеев (1834-1907 г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33560" y="456840"/>
            <a:ext cx="5181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Масса вещества есть именно такое свойство его, от которого должны находиться в зависимости все остальные свойства. Поэтому ближе и естественнее всего искать зависимость между свойствами и сходствами элементов, с одной стороны, и атомными весами их, с другой сторо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http://justwater.ru/wp-content/uploads/2011/04/mendeleev.jpg"/>
          <p:cNvPicPr/>
          <p:nvPr/>
        </p:nvPicPr>
        <p:blipFill>
          <a:blip r:embed="rId1"/>
          <a:stretch/>
        </p:blipFill>
        <p:spPr>
          <a:xfrm>
            <a:off x="762120" y="457200"/>
            <a:ext cx="2590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66"/>
                </a:solidFill>
                <a:latin typeface="Arial"/>
              </a:rPr>
              <a:t>IV.</a:t>
            </a: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 Личностные качества Д.И.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нциклопедичность знаний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аучная интуиция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мение обобщать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стоянное стремление к познанию неведомог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ар научного предвид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73280" y="2412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i="1" lang="en-US" sz="4400" spc="-1" strike="noStrike" u="sng">
                <a:solidFill>
                  <a:srgbClr val="ff0066"/>
                </a:solidFill>
                <a:uFillTx/>
                <a:latin typeface="Arial"/>
              </a:rPr>
              <a:t>I</a:t>
            </a:r>
            <a:r>
              <a:rPr b="1" i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. Накопление фактологичес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i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кого матери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 времени открытия Периодического закона было известно 63 химических элемента, описаны состав и свойства их многочисленных соединений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II</a:t>
            </a:r>
            <a:r>
              <a:rPr b="1" i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.Работы ученых – предшественников Д.И.Менделеева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Классификация Берцели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23320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разделил все эле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металлы и неметаллы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е различий в свойств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нных ими прост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ществ и соединений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Йенс Яко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Берцели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(1779 – 1848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ttp://veronium.narod.ru/AllHimiki.files/image002.gif"/>
          <p:cNvPicPr/>
          <p:nvPr/>
        </p:nvPicPr>
        <p:blipFill>
          <a:blip r:embed="rId1"/>
          <a:stretch/>
        </p:blipFill>
        <p:spPr>
          <a:xfrm>
            <a:off x="6324480" y="2590920"/>
            <a:ext cx="2152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Классификация Берцели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572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достатки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 было всего две и включали они значительно отлича- ющиеся друг от друга эле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личие амфотерных оксидов и гидрокси- дов у некоторых ме- таллов вносило пута- ниц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rudocs.exdat.com/pars_docs/tw_refs/19/18275/18275_html_m75ee97b6.png"/>
          <p:cNvPicPr/>
          <p:nvPr/>
        </p:nvPicPr>
        <p:blipFill>
          <a:blip r:embed="rId1"/>
          <a:stretch/>
        </p:blipFill>
        <p:spPr>
          <a:xfrm>
            <a:off x="4971960" y="1523880"/>
            <a:ext cx="41720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Триады Дёберейн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829 году Деберейн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убликовал найд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 «закон триад»: атом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 многих элементов бл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ок к среднему арифмет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скому двух других эл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тов, близких к исходн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 по химическим свойс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м (стронций, кальций и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Иоганн Вольфга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рий; хлор, бром и йод и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       Дёберейн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.).</a:t>
            </a: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                                                  (1780-1849 гг.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9" descr="http://steampunker.ru/uploads/images/00/29/80/2012/01/30/5e928cebda.jpg"/>
          <p:cNvPicPr/>
          <p:nvPr/>
        </p:nvPicPr>
        <p:blipFill>
          <a:blip r:embed="rId1"/>
          <a:stretch/>
        </p:blipFill>
        <p:spPr>
          <a:xfrm>
            <a:off x="5334120" y="990720"/>
            <a:ext cx="34480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Триады Деберейн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достатки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уда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ить 5 триад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. е. использо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лько 15 элемент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альные элемен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классифицир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см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www.physchem.chimfak.rsu.ru/Source/History/Objects/triads-1.gif"/>
          <p:cNvPicPr/>
          <p:nvPr/>
        </p:nvPicPr>
        <p:blipFill>
          <a:blip r:embed="rId1"/>
          <a:stretch/>
        </p:blipFill>
        <p:spPr>
          <a:xfrm>
            <a:off x="4572000" y="1600200"/>
            <a:ext cx="4572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Спираль Шанкурту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1862 году перв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пытку располо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ементы в поряд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растания атом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сов предпри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нкурту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  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Александр Эм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         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Шанкурту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      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(1820-1886 г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http://upload.wikimedia.org/wikipedia/commons/thumb/e/e8/Alexandre-Emile_B%C3%A9guyer_de_Chancourtois.jpg/220px-Alexandre-Emile_B%C3%A9guyer_de_Chancourtois.jpg"/>
          <p:cNvPicPr/>
          <p:nvPr/>
        </p:nvPicPr>
        <p:blipFill>
          <a:blip r:embed="rId1"/>
          <a:stretch/>
        </p:blipFill>
        <p:spPr>
          <a:xfrm>
            <a:off x="6019920" y="1523880"/>
            <a:ext cx="20955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Спираль Шанкурту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нкуртуа разместил элементы вдоль винтовой линии и отметил частое циклическое повторение химических свойств по вертика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http://rudocs.exdat.com/pars_docs/tw_refs/19/18275/18275_html_m44aaad26.jpg"/>
          <p:cNvPicPr/>
          <p:nvPr/>
        </p:nvPicPr>
        <p:blipFill>
          <a:blip r:embed="rId1"/>
          <a:stretch/>
        </p:blipFill>
        <p:spPr>
          <a:xfrm>
            <a:off x="5486400" y="1676520"/>
            <a:ext cx="3124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Arial"/>
              </a:rPr>
              <a:t>Октавы Ньюленд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1865 году свой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иодиче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ложил химик и музы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нт Джон Алексан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ьюлендс, модель кото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го («закон октав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ешне немного напом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ла менделеевскую.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Джон Алексан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        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Рейна Ньюленд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                                        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(1837-1898 г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http://sc.nios.ru/dlrstore/8bdecc58-3661-6478-bd3f-ac735c720882/00149189240718870/73926.jpg"/>
          <p:cNvPicPr/>
          <p:nvPr/>
        </p:nvPicPr>
        <p:blipFill>
          <a:blip r:embed="rId1"/>
          <a:stretch/>
        </p:blipFill>
        <p:spPr>
          <a:xfrm>
            <a:off x="6248520" y="1676520"/>
            <a:ext cx="2286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8:47:33Z</dcterms:created>
  <dc:creator>Руся</dc:creator>
  <dc:description/>
  <dc:language>en-US</dc:language>
  <cp:lastModifiedBy>Я</cp:lastModifiedBy>
  <dcterms:modified xsi:type="dcterms:W3CDTF">2013-04-11T14:25:10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