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ACC-6C2F-43C6-B64A-F53D606C0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21B0-E996-4708-A1EA-715F53273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593-F661-4C3D-881C-6E85F1B7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601-F497-465C-8E81-0A85A77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CB9-0FAA-4B8C-B91C-2707816A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C80-ABCC-4C44-8E6E-1415D488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1E1-5BA4-4134-92FD-EFDB960C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D55-DC99-4FB1-9BA7-3A22FB56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311-5D80-40ED-BC98-C7B7DD3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7E9-520D-49D8-959A-C1BFA78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DDD-51FA-4F1D-95AB-5C0DA8B0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53B-2415-4AEB-9A19-B8FF9DA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EAA-59C4-478B-B465-D1FE967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D4F-49A1-41F1-B982-6EB8E03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CBF7-5C36-4E01-8398-F0AD89F73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редпосылки открыт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ериодического закона 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Д. И. Менделеевы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дель бы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компрометирова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 настойчивым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ытками автор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йти в таблиц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истическую музы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альную гармонию; при таком расположени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без пропусков исключалась возможность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ткрытия новых элементов и многие элемент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адали на несоответствующие им мес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File:Newlands periodiska system 1866.png"/>
          <p:cNvPicPr/>
          <p:nvPr/>
        </p:nvPicPr>
        <p:blipFill>
          <a:blip r:embed="rId1"/>
          <a:stretch/>
        </p:blipFill>
        <p:spPr>
          <a:xfrm>
            <a:off x="3886200" y="106668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м же десятилетии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лись ещё несколько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ок систематизации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х элементов; бл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к окончательному 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анту подошёл Мей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64). Он расположил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е элементы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ания их атомных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Юлиус Ло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.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ей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(1830-1895 г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900igr.net/datai/fizika/Elementy/0008-006-Tablitsa-Mejera.png"/>
          <p:cNvPicPr/>
          <p:nvPr/>
        </p:nvPicPr>
        <p:blipFill>
          <a:blip r:embed="rId1"/>
          <a:stretch/>
        </p:blipFill>
        <p:spPr>
          <a:xfrm>
            <a:off x="6248520" y="1295280"/>
            <a:ext cx="2438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3581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его таблицу вошли лишь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в размещенных в шесть столб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е. меньше половины известных в 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этом структура таблицы была очень н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ной и не отражала периодич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scimak.ucoz.ru/_pu/0/23144929.jpg"/>
          <p:cNvPicPr/>
          <p:nvPr/>
        </p:nvPicPr>
        <p:blipFill>
          <a:blip r:embed="rId1"/>
          <a:stretch/>
        </p:blipFill>
        <p:spPr>
          <a:xfrm>
            <a:off x="914400" y="1219320"/>
            <a:ext cx="7105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I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Съезд химиков в Карлсруэ с 3 по 5 сентября 1860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://lib.rus.ec/i/31/362031/i_009.jpg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ъезд химиков в Карлсру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данном съезде окончательно утвердилось атомно-молекулярное учение, были приняты первые единые определения понятий молекулы и атома, а также атомного веса (атомной массы). Именно это понятие как неизменную характеристику атомов Д.И. Менделеев положил в основу своей классиф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289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митрий Иванович Менделеев (1834-1907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33560" y="45684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Масса вещества есть именно такое свойство его, от которого должны находиться в зависимости все остальные свойства. Поэтому ближе и естественнее всего искать зависимость между свойствами и сходствами элементов, с одной стороны, и атомными весами их, с другой сторо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justwater.ru/wp-content/uploads/2011/04/mendeleev.jpg"/>
          <p:cNvPicPr/>
          <p:nvPr/>
        </p:nvPicPr>
        <p:blipFill>
          <a:blip r:embed="rId1"/>
          <a:stretch/>
        </p:blipFill>
        <p:spPr>
          <a:xfrm>
            <a:off x="762120" y="457200"/>
            <a:ext cx="2590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IV.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Личностные качества Д.И.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нциклопедичность зн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учная интуиц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мение обобща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оянное стремление к познанию неведомог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р научного предви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73280" y="2412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 Накопление фактологиче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к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 времени открытия Периодического закона было известно 63 химических элемента, описаны состав и свойства их многочисленных соединен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II</a:t>
            </a: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.Работы ученых – предшественников Д.И.Менделеева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332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разделил все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таллы и неметалл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е различий в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ных ими прос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еств и соединени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Йенс Як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(1779 – 1848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veronium.narod.ru/AllHimiki.files/image002.gif"/>
          <p:cNvPicPr/>
          <p:nvPr/>
        </p:nvPicPr>
        <p:blipFill>
          <a:blip r:embed="rId1"/>
          <a:stretch/>
        </p:blipFill>
        <p:spPr>
          <a:xfrm>
            <a:off x="6324480" y="2590920"/>
            <a:ext cx="2152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 было всего две и включали они значительно отлича- ющиеся друг от друга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амфотерных оксидов и гидрокси- дов у некоторых ме- таллов вносило пута- 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rudocs.exdat.com/pars_docs/tw_refs/19/18275/18275_html_m75ee97b6.png"/>
          <p:cNvPicPr/>
          <p:nvPr/>
        </p:nvPicPr>
        <p:blipFill>
          <a:blip r:embed="rId1"/>
          <a:stretch/>
        </p:blipFill>
        <p:spPr>
          <a:xfrm>
            <a:off x="4971960" y="1523880"/>
            <a:ext cx="4172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ё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29 году Де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бликовал най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 «закон триад»: ато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многих элементов бл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к к среднему арифме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ому двух других эл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тов, близких к исход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 по химическим свойс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м (стронций, кальций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Иоганн Вольфга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ий; хлор, бром и йод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Дё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.).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(1780-1849 гг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http://steampunker.ru/uploads/images/00/29/80/2012/01/30/5e928cebda.jpg"/>
          <p:cNvPicPr/>
          <p:nvPr/>
        </p:nvPicPr>
        <p:blipFill>
          <a:blip r:embed="rId1"/>
          <a:stretch/>
        </p:blipFill>
        <p:spPr>
          <a:xfrm>
            <a:off x="5334120" y="990720"/>
            <a:ext cx="3448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е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д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5 три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е. исполь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15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 эле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классифиц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м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physchem.chimfak.rsu.ru/Source/History/Objects/triads-1.gif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2 году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ытку распо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в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растания ато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ов предпри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лександр Эм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20-1886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upload.wikimedia.org/wikipedia/commons/thumb/e/e8/Alexandre-Emile_B%C3%A9guyer_de_Chancourtois.jpg/220px-Alexandre-Emile_B%C3%A9guyer_de_Chancourtois.jpg"/>
          <p:cNvPicPr/>
          <p:nvPr/>
        </p:nvPicPr>
        <p:blipFill>
          <a:blip r:embed="rId1"/>
          <a:stretch/>
        </p:blipFill>
        <p:spPr>
          <a:xfrm>
            <a:off x="6019920" y="1523880"/>
            <a:ext cx="2095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 разместил элементы вдоль винтовой линии и отметил частое циклическое повторение химических свойств по вертик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rudocs.exdat.com/pars_docs/tw_refs/19/18275/18275_html_m44aaad26.jpg"/>
          <p:cNvPicPr/>
          <p:nvPr/>
        </p:nvPicPr>
        <p:blipFill>
          <a:blip r:embed="rId1"/>
          <a:stretch/>
        </p:blipFill>
        <p:spPr>
          <a:xfrm>
            <a:off x="5486400" y="167652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5 году св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л химик и муз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т 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лендс, модель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го («закон окта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 немного напом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а менделеевскую.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ейна Ньюлен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37-1898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sc.nios.ru/dlrstore/8bdecc58-3661-6478-bd3f-ac735c720882/00149189240718870/73926.jpg"/>
          <p:cNvPicPr/>
          <p:nvPr/>
        </p:nvPicPr>
        <p:blipFill>
          <a:blip r:embed="rId1"/>
          <a:stretch/>
        </p:blipFill>
        <p:spPr>
          <a:xfrm>
            <a:off x="6248520" y="167652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47:33Z</dcterms:created>
  <dc:creator>Руся</dc:creator>
  <dc:description/>
  <dc:language>en-US</dc:language>
  <cp:lastModifiedBy>Я</cp:lastModifiedBy>
  <dcterms:modified xsi:type="dcterms:W3CDTF">2013-04-11T14:25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