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9E67-BA51-425A-B916-D609C1AA10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DD8D-485E-4B39-ABBD-8DF9DC92FD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72DE-E1F7-4664-B772-D7723D058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06C7-88EC-43C8-9007-464D60FA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C192-9674-4ED9-92B8-629866155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4F88-F0A1-44A5-A0CD-D735699A0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C960-BC54-4700-AB6F-5C4AD2A7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7A31-FB92-4EA4-AD39-2D6B568F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5908-CC31-406D-AD3B-6A792652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4FF3-48AE-4C52-BA9C-0AC3F441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1AF9-D1D0-418D-8404-34D1CA3B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5507-96F0-44EB-8230-38F8427F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6F7C-2D13-44B6-B169-24E615FB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73D2-0FED-4D71-8C32-EF69BE91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4CAF-CEAB-48CB-B551-BC5C6F395C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66"/>
                </a:solidFill>
                <a:latin typeface="Arial"/>
              </a:rPr>
              <a:t>Предпосылки открытия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5400" spc="-1" strike="noStrike">
                <a:solidFill>
                  <a:srgbClr val="ff0066"/>
                </a:solidFill>
                <a:latin typeface="Arial"/>
              </a:rPr>
              <a:t>Периодического закона </a:t>
            </a:r>
            <a:br>
              <a:rPr sz="5400"/>
            </a:br>
            <a:r>
              <a:rPr b="1" i="1" lang="ru-RU" sz="5400" spc="-1" strike="noStrike">
                <a:solidFill>
                  <a:srgbClr val="ff0066"/>
                </a:solidFill>
                <a:latin typeface="Arial"/>
              </a:rPr>
              <a:t>Д. И. Менделеевым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Октавы Ньюленд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66"/>
                </a:solidFill>
                <a:latin typeface="Arial"/>
              </a:rPr>
              <a:t>Недостатки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модель был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скомпрометирова-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на настойчивыми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попытками автора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найти в таблице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мистическую музы-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кальную гармонию; при таком расположении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без пропусков исключалась возможность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открытия новых элементов и многие элементы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попадали на несоответствующие им места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File:Newlands periodiska system 1866.png"/>
          <p:cNvPicPr/>
          <p:nvPr/>
        </p:nvPicPr>
        <p:blipFill>
          <a:blip r:embed="rId1"/>
          <a:stretch/>
        </p:blipFill>
        <p:spPr>
          <a:xfrm>
            <a:off x="3886200" y="1066680"/>
            <a:ext cx="5029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Таблица Мей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этом же десятилетии п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вились ещё несколько п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ыток систематизации хим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ских элементов; ближ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го к окончательному в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ианту подошёл Мей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1864). Он расположил хим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ские элементы в поряд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зрастания их атомных            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Юлиус Лот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сс.                                                       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Мей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                                                          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(1830-1895 г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http://900igr.net/datai/fizika/Elementy/0008-006-Tablitsa-Mejera.png"/>
          <p:cNvPicPr/>
          <p:nvPr/>
        </p:nvPicPr>
        <p:blipFill>
          <a:blip r:embed="rId1"/>
          <a:stretch/>
        </p:blipFill>
        <p:spPr>
          <a:xfrm>
            <a:off x="6248520" y="1295280"/>
            <a:ext cx="24382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Таблица Мей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3581280"/>
            <a:ext cx="86104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Недостатки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 его таблицу вошли лишь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лементов размещенных в шесть столбц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.е. меньше половины известных в то врем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этом структура таблицы была очень не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енной и не отражала периодич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й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http://scimak.ucoz.ru/_pu/0/23144929.jpg"/>
          <p:cNvPicPr/>
          <p:nvPr/>
        </p:nvPicPr>
        <p:blipFill>
          <a:blip r:embed="rId1"/>
          <a:stretch/>
        </p:blipFill>
        <p:spPr>
          <a:xfrm>
            <a:off x="914400" y="1219320"/>
            <a:ext cx="710568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III</a:t>
            </a:r>
            <a:r>
              <a:rPr b="1" i="1" lang="ru-RU" sz="4400" spc="-1" strike="noStrike" u="sng">
                <a:solidFill>
                  <a:srgbClr val="ff0066"/>
                </a:solidFill>
                <a:uFillTx/>
                <a:latin typeface="Arial"/>
              </a:rPr>
              <a:t>.Съезд химиков в Карлсруэ с 3 по 5 сентября 1860 г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http://lib.rus.ec/i/31/362031/i_009.jpg"/>
          <p:cNvPicPr/>
          <p:nvPr/>
        </p:nvPicPr>
        <p:blipFill>
          <a:blip r:embed="rId1"/>
          <a:stretch/>
        </p:blipFill>
        <p:spPr>
          <a:xfrm>
            <a:off x="1066680" y="1828800"/>
            <a:ext cx="7086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Съезд химиков в Карлсру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а данном съезде окончательно утвердилось атомно-молекулярное учение, были приняты первые единые определения понятий молекулы и атома, а также атомного веса (атомной массы). Именно это понятие как неизменную характеристику атомов Д.И. Менделеев положил в основу своей классификац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4190760"/>
            <a:ext cx="28958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Дмитрий Иванович Менделеев (1834-1907 г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733560" y="456840"/>
            <a:ext cx="5181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Масса вещества есть именно такое свойство его, от которого должны находиться в зависимости все остальные свойства. Поэтому ближе и естественнее всего искать зависимость между свойствами и сходствами элементов, с одной стороны, и атомными весами их, с другой сторон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http://justwater.ru/wp-content/uploads/2011/04/mendeleev.jpg"/>
          <p:cNvPicPr/>
          <p:nvPr/>
        </p:nvPicPr>
        <p:blipFill>
          <a:blip r:embed="rId1"/>
          <a:stretch/>
        </p:blipFill>
        <p:spPr>
          <a:xfrm>
            <a:off x="762120" y="457200"/>
            <a:ext cx="25905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Arial"/>
              </a:rPr>
              <a:t>IV.</a:t>
            </a: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 Личностные качества Д.И.Менделе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энциклопедичность знани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аучная интуици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мение обобщат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стоянное стремление к познанию неведомого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ар научного предвид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773280" y="24123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i="1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I</a:t>
            </a:r>
            <a:r>
              <a:rPr b="1" i="1" lang="ru-RU" sz="4400" spc="-1" strike="noStrike" u="sng">
                <a:solidFill>
                  <a:srgbClr val="ff0066"/>
                </a:solidFill>
                <a:uFillTx/>
                <a:latin typeface="Arial"/>
              </a:rPr>
              <a:t>. Накопление фактологичес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1" i="1" lang="ru-RU" sz="4400" spc="-1" strike="noStrike" u="sng">
                <a:solidFill>
                  <a:srgbClr val="ff0066"/>
                </a:solidFill>
                <a:uFillTx/>
                <a:latin typeface="Arial"/>
              </a:rPr>
              <a:t>кого материа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 времени открытия Периодического закона было известно 63 химических элемента, описаны состав и свойства их многочисленных соединений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3600" spc="-1" strike="noStrike" u="sng">
                <a:solidFill>
                  <a:srgbClr val="ff0066"/>
                </a:solidFill>
                <a:uFillTx/>
                <a:latin typeface="Arial"/>
              </a:rPr>
              <a:t>II</a:t>
            </a:r>
            <a:r>
              <a:rPr b="1" i="1" lang="ru-RU" sz="3600" spc="-1" strike="noStrike" u="sng">
                <a:solidFill>
                  <a:srgbClr val="ff0066"/>
                </a:solidFill>
                <a:uFillTx/>
                <a:latin typeface="Arial"/>
              </a:rPr>
              <a:t>.Работы ученых – предшественников Д.И.Менделеева</a:t>
            </a: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Классификация Берцели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233208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 разделил все эле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металлы и неметаллы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е различий в свойств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зованных ими прост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ществ и соединений.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Йенс Яко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Берцели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(1779 – 1848 г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http://veronium.narod.ru/AllHimiki.files/image002.gif"/>
          <p:cNvPicPr/>
          <p:nvPr/>
        </p:nvPicPr>
        <p:blipFill>
          <a:blip r:embed="rId1"/>
          <a:stretch/>
        </p:blipFill>
        <p:spPr>
          <a:xfrm>
            <a:off x="6324480" y="2590920"/>
            <a:ext cx="2152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Классификация Берцелиу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45720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Недостатки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упп было всего две и включали они значительно отлича- ющиеся друг от друга эле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личие амфотерных оксидов и гидрокси- дов у некоторых ме- таллов вносило пута- ниц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http://rudocs.exdat.com/pars_docs/tw_refs/19/18275/18275_html_m75ee97b6.png"/>
          <p:cNvPicPr/>
          <p:nvPr/>
        </p:nvPicPr>
        <p:blipFill>
          <a:blip r:embed="rId1"/>
          <a:stretch/>
        </p:blipFill>
        <p:spPr>
          <a:xfrm>
            <a:off x="4971960" y="1523880"/>
            <a:ext cx="417204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Триады Дёберейн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1829 году Деберейн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убликовал найде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м «закон триад»: атом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с многих элементов бл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ок к среднему арифмет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скому двух других эле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тов, близких к исходн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 по химическим свойст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ам (стронций, кальций и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    Иоганн Вольфга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рий; хлор, бром и йод и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           Дёберейн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р.).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                                                 (1780-1849 гг.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9" descr="http://steampunker.ru/uploads/images/00/29/80/2012/01/30/5e928cebda.jpg"/>
          <p:cNvPicPr/>
          <p:nvPr/>
        </p:nvPicPr>
        <p:blipFill>
          <a:blip r:embed="rId1"/>
          <a:stretch/>
        </p:blipFill>
        <p:spPr>
          <a:xfrm>
            <a:off x="5334120" y="990720"/>
            <a:ext cx="34480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Триады Деберейн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Недостатки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удало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тавить 5 триа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. е. использов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лько 15 элемент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тальные элемен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 классифициро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смо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ttp://www.physchem.chimfak.rsu.ru/Source/History/Objects/triads-1.gif"/>
          <p:cNvPicPr/>
          <p:nvPr/>
        </p:nvPicPr>
        <p:blipFill>
          <a:blip r:embed="rId1"/>
          <a:stretch/>
        </p:blipFill>
        <p:spPr>
          <a:xfrm>
            <a:off x="4572000" y="1600200"/>
            <a:ext cx="4572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Спираль Шанкурту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1862 году перв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пытку располо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лементы в поряд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зрастания атом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сов предприня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анкурту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                                      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Александр Эми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                                             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Шанкурту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                                          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(1820-1886 г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http://upload.wikimedia.org/wikipedia/commons/thumb/e/e8/Alexandre-Emile_B%C3%A9guyer_de_Chancourtois.jpg/220px-Alexandre-Emile_B%C3%A9guyer_de_Chancourtois.jpg"/>
          <p:cNvPicPr/>
          <p:nvPr/>
        </p:nvPicPr>
        <p:blipFill>
          <a:blip r:embed="rId1"/>
          <a:stretch/>
        </p:blipFill>
        <p:spPr>
          <a:xfrm>
            <a:off x="6019920" y="1523880"/>
            <a:ext cx="20955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Спираль Шанкурту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76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анкуртуа разместил элементы вдоль винтовой линии и отметил частое циклическое повторение химических свойств по вертика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http://rudocs.exdat.com/pars_docs/tw_refs/19/18275/18275_html_m44aaad26.jpg"/>
          <p:cNvPicPr/>
          <p:nvPr/>
        </p:nvPicPr>
        <p:blipFill>
          <a:blip r:embed="rId1"/>
          <a:stretch/>
        </p:blipFill>
        <p:spPr>
          <a:xfrm>
            <a:off x="5486400" y="1676520"/>
            <a:ext cx="3124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Октавы Ньюленд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1865 году свой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иодическ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ложил химик и музы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нт Джон Александ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ьюлендс, модель кот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го («закон октав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нешне немного напоми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ла менделеевскую.     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Джон Александ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                                            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ейна Ньюленд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                                               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(1837-1898 г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http://sc.nios.ru/dlrstore/8bdecc58-3661-6478-bd3f-ac735c720882/00149189240718870/73926.jpg"/>
          <p:cNvPicPr/>
          <p:nvPr/>
        </p:nvPicPr>
        <p:blipFill>
          <a:blip r:embed="rId1"/>
          <a:stretch/>
        </p:blipFill>
        <p:spPr>
          <a:xfrm>
            <a:off x="6248520" y="1676520"/>
            <a:ext cx="2286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8:47:33Z</dcterms:created>
  <dc:creator>Руся</dc:creator>
  <dc:description/>
  <dc:language>en-US</dc:language>
  <cp:lastModifiedBy>Я</cp:lastModifiedBy>
  <dcterms:modified xsi:type="dcterms:W3CDTF">2013-04-11T14:25:10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