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5.gif" ContentType="image/gif"/>
  <Override PartName="/ppt/media/image17.png" ContentType="image/png"/>
  <Override PartName="/ppt/media/image24.gif" ContentType="image/gif"/>
  <Override PartName="/ppt/media/image16.jpeg" ContentType="image/jpeg"/>
  <Override PartName="/ppt/media/image15.jpeg" ContentType="image/jpe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46.gif" ContentType="image/gi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8.gif" ContentType="image/gif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BDD-477B-4DD0-BD94-58A3E5DF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E015-0029-4FE9-B875-AEDF460D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C585-B976-4032-A291-F2F16C63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08A-8EB8-41D7-8148-9DB3C8CA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5A61-6D1A-4A03-AF9B-FD3AAF09E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B42B-9820-4F96-8466-D56B3149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6C32-D6A4-4262-9B20-F0B56CFC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55AD-4390-4CBA-BAA1-0027FE01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B347A-D2FB-4AD6-A899-847B694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C214-E815-4F48-BD4D-AAC67B9C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EF1C-3936-498E-A12A-0F0AAC61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CB1-547D-4C68-83CD-16592B61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14D4-175D-4821-93B0-6F69370D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E65E-FF0C-48F3-95E9-A39EE566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F44F-9688-4C51-9D50-8C9908DE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6F79-1401-4A8E-A8A0-84FDF58D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62B0-8419-43AF-9576-11E13C2D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B8018-E7E6-4B96-9AE7-9BD027E6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D546-1763-4848-941A-BD1EFB5E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4318E-93D2-4C9D-AA34-E5B365A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7584-CFC3-40E8-A6C9-5A01E71B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57764-5B4A-4BB7-ACA9-A267F8F1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F34-AF94-4C20-96C7-A4B4D68A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9E19-A15D-4309-8541-16D3172E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28D6-6B70-456F-9F8E-7A781A9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4682-E4D4-4F62-9045-6E93AB9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2667-1A0E-4AFB-B1F7-D646CCF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2DF0D-B989-4A26-8620-1B02E568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9974-315D-414F-B837-9C330952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C28A-1A33-40D9-A4CD-ED60B7B2F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499B-B9C2-48F7-B1B0-430815D9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5DC1B-8E9A-440E-A749-FE71018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E7D3-E070-430F-86B7-88FBC244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278-9D11-4C00-8C9A-8EEBC5EB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883F-B8E4-490C-8EDB-304DF1B6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2C98-A34E-4AFF-B6B9-6FE5F404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DB65C-D8AD-4E3A-AF4E-2F8FE521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95BA1-665F-4ACA-B54A-A8D0397B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2CE04-B0CE-4678-8E71-9F803B6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1620-075A-49F2-92DC-E344FC6A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CC17-F140-4D6B-AE37-0E4E797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24692-8827-41E5-A471-5FF2CD51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021B5-D5BA-45A0-A389-688E0E76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E8071-041F-432A-9742-D2AE747B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E2BD-C979-4F09-89AC-E4B0B450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FE32E-8071-4793-B41A-7513C316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C4BA9-258C-4D07-A550-9080091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6345-CFF8-4DFE-8D7D-305DF3CF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4B3F6-A965-4B05-AEDC-42564203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AF66B-B80C-4F27-BBD9-38ED5C3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098C4-C983-4CE1-81CF-73D1F085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B9BC-5E74-4573-ABC7-E0DF352C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425D-4E4C-4B74-AA49-F58B031B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8A4EC-0196-414D-B686-E111659E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A333A-268E-4598-9240-A04C00ED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C92-4526-41C5-8057-665C4858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E9CA-91A5-48AC-9279-6325BE26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0557D-2A8C-4454-95E7-DB58A6A8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5D7C3-68B2-406D-B234-8C5F6B9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014A-2ED7-4EAE-98DC-42B05F52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2567-EE9D-445B-94AB-DCC75B76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CAC03-D112-4D5A-A5CE-5477EBA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24837-F500-4D84-A50E-B4AAB492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2A0E0-6FF5-4E7C-A945-68D2A71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78C06-D7A6-47C1-B128-9F96A8B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BE896-E845-42A2-89AE-B9EBD5FC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8A7-F735-4EA8-8840-65345D75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763A3-975D-4862-9BB5-AEB5ED98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3EC7D-7C8E-4AB2-A7CA-1863E5D8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38936-9DAB-4A91-BAC8-CC663A88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8ED65-19B5-4D6E-AE26-DF018DB2D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8E5E6-F282-4A37-A7C9-2F43D90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1A6B7-AA10-4769-99E2-14CC1D80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512B2-C017-4A67-992E-14315F60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8C8B5-9C63-42DC-BA23-2A6B6C66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3DCEE-9F49-415D-A186-9CA3B290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FB987-1D02-4AB1-8763-C1715076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D1D-B3AC-4AB6-8DC3-29DAABB4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AE39-2BCC-4016-9589-95958A2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DE46-7F8E-4500-865C-F0D69AFE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A0B2-E191-4DA7-AA3A-207CF4F5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1B84C-05ED-4C9A-AEC1-96666810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1E27B-15DC-412C-8636-176421F3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E6B-9BB3-487D-B30C-A00154B1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823E-269B-46DF-81D6-5DE12A266110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315C-6720-4B2B-AEBB-66EC2B4CAD9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FA5-022B-443A-8A80-576D8F484E6C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99F0-A07D-4371-946E-301D94E15928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0F37-B141-4C61-AEE1-1C7ABB46AB29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797-9613-433B-AFE7-4C6C30487A4D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3DD8-DE99-4F1B-B687-30F5E7649A38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050F-E39F-4CBB-8008-0AC5B73F3860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D115-A8F9-47CF-89EE-2B6DAB5E23F4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243D-0E28-4F30-90AD-8685A0C85AA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3F74-5BF7-4CDC-9A6A-2F1D0F0F59D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E751-F938-4DF9-B12D-BEB96C5CD64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D387-4F4E-4083-B2B1-398D66DA0B18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DDA7-BD07-4900-98D0-EC6EA28DC93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41.png"/><Relationship Id="rId17" Type="http://schemas.openxmlformats.org/officeDocument/2006/relationships/image" Target="../media/image42.png"/><Relationship Id="rId18" Type="http://schemas.openxmlformats.org/officeDocument/2006/relationships/image" Target="../media/image43.png"/><Relationship Id="rId1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gif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file:///Na-H2O-11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311040" y="828720"/>
            <a:ext cx="8826480" cy="3852720"/>
          </a:xfrm>
          <a:prstGeom prst="rect">
            <a:avLst/>
          </a:prstGeom>
          <a:ln w="0">
            <a:noFill/>
          </a:ln>
        </p:spPr>
      </p:pic>
      <p:sp>
        <p:nvSpPr>
          <p:cNvPr id="304" name="Подзаголовок 2"/>
          <p:cNvSpPr/>
          <p:nvPr/>
        </p:nvSpPr>
        <p:spPr>
          <a:xfrm>
            <a:off x="4309920" y="478620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47A3-8152-4A62-9568-57BD1E6A6143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6" descr=""/>
          <p:cNvPicPr/>
          <p:nvPr/>
        </p:nvPicPr>
        <p:blipFill>
          <a:blip r:embed="rId1"/>
          <a:stretch/>
        </p:blipFill>
        <p:spPr>
          <a:xfrm>
            <a:off x="165240" y="152280"/>
            <a:ext cx="8697600" cy="1262160"/>
          </a:xfrm>
          <a:prstGeom prst="rect">
            <a:avLst/>
          </a:prstGeom>
          <a:ln w="0">
            <a:noFill/>
          </a:ln>
        </p:spPr>
      </p:pic>
      <p:pic>
        <p:nvPicPr>
          <p:cNvPr id="343" name="Содержимое 7" descr=""/>
          <p:cNvPicPr/>
          <p:nvPr/>
        </p:nvPicPr>
        <p:blipFill>
          <a:blip r:embed="rId2"/>
          <a:stretch/>
        </p:blipFill>
        <p:spPr>
          <a:xfrm>
            <a:off x="407880" y="1706400"/>
            <a:ext cx="8382240" cy="4700880"/>
          </a:xfrm>
          <a:prstGeom prst="rect">
            <a:avLst/>
          </a:prstGeom>
          <a:ln w="0">
            <a:noFill/>
          </a:ln>
        </p:spPr>
      </p:pic>
      <p:sp>
        <p:nvSpPr>
          <p:cNvPr id="344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678-D823-4BE0-823D-3FB990B965C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352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Елементи УІІІ групи головної підгруп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Прямоугольник 3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7156440" cy="1103400"/>
          </a:xfrm>
          <a:prstGeom prst="rect">
            <a:avLst/>
          </a:prstGeom>
          <a:ln w="0">
            <a:noFill/>
          </a:ln>
        </p:spPr>
      </p:pic>
      <p:sp>
        <p:nvSpPr>
          <p:cNvPr id="349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6907-B3C0-4BBD-B179-A9C2B2F6DF71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97800" cy="1262160"/>
          </a:xfrm>
          <a:prstGeom prst="rect">
            <a:avLst/>
          </a:prstGeom>
          <a:ln w="0">
            <a:noFill/>
          </a:ln>
        </p:spPr>
      </p:pic>
      <p:pic>
        <p:nvPicPr>
          <p:cNvPr id="352" name="Содержимое 2" descr=""/>
          <p:cNvPicPr/>
          <p:nvPr/>
        </p:nvPicPr>
        <p:blipFill>
          <a:blip r:embed="rId2"/>
          <a:stretch/>
        </p:blipFill>
        <p:spPr>
          <a:xfrm>
            <a:off x="450720" y="1657440"/>
            <a:ext cx="8242560" cy="4749840"/>
          </a:xfrm>
          <a:prstGeom prst="rect">
            <a:avLst/>
          </a:prstGeom>
          <a:ln w="0">
            <a:noFill/>
          </a:ln>
        </p:spPr>
      </p:pic>
      <p:sp>
        <p:nvSpPr>
          <p:cNvPr id="35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96D-74FE-43C0-8634-C7C9128D6BD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56708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3" descr="51.gif"/>
          <p:cNvPicPr/>
          <p:nvPr/>
        </p:nvPicPr>
        <p:blipFill>
          <a:blip r:embed="rId2"/>
          <a:stretch/>
        </p:blipFill>
        <p:spPr>
          <a:xfrm>
            <a:off x="2928960" y="2000160"/>
            <a:ext cx="2722680" cy="2500560"/>
          </a:xfrm>
          <a:prstGeom prst="rect">
            <a:avLst/>
          </a:prstGeom>
          <a:ln w="0">
            <a:noFill/>
          </a:ln>
        </p:spPr>
      </p:pic>
      <p:sp>
        <p:nvSpPr>
          <p:cNvPr id="357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2DD1-8EFE-4B6E-A14C-EB8AC3F7A61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6" dur="250" autoRev="1" fill="hold"/>
                                        <p:tgtEl>
                                          <p:spTgt spid="3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Які природні родини хімічних елементів ви вивчил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rbel"/>
              </a:rPr>
              <a:t>Чим відрізняються ці три родини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Рисунок 3" descr="knigi-157.gif"/>
          <p:cNvPicPr/>
          <p:nvPr/>
        </p:nvPicPr>
        <p:blipFill>
          <a:blip r:embed="rId1"/>
          <a:stretch/>
        </p:blipFill>
        <p:spPr>
          <a:xfrm>
            <a:off x="4000680" y="642960"/>
            <a:ext cx="1323720" cy="785880"/>
          </a:xfrm>
          <a:prstGeom prst="rect">
            <a:avLst/>
          </a:prstGeom>
          <a:ln w="0">
            <a:noFill/>
          </a:ln>
        </p:spPr>
      </p:pic>
      <p:sp>
        <p:nvSpPr>
          <p:cNvPr id="360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A1FB-0B33-4AC5-9FCE-FD99305CC4C3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Демидова О.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Прямоугольник 6" descr=""/>
          <p:cNvPicPr/>
          <p:nvPr/>
        </p:nvPicPr>
        <p:blipFill>
          <a:blip r:embed="rId1"/>
          <a:stretch/>
        </p:blipFill>
        <p:spPr>
          <a:xfrm>
            <a:off x="378000" y="25560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63" name="Прямоугольник 8" descr=""/>
          <p:cNvPicPr/>
          <p:nvPr/>
        </p:nvPicPr>
        <p:blipFill>
          <a:blip r:embed="rId2"/>
          <a:stretch/>
        </p:blipFill>
        <p:spPr>
          <a:xfrm>
            <a:off x="1809720" y="2182680"/>
            <a:ext cx="1549440" cy="1779840"/>
          </a:xfrm>
          <a:prstGeom prst="rect">
            <a:avLst/>
          </a:prstGeom>
          <a:ln w="0">
            <a:noFill/>
          </a:ln>
        </p:spPr>
      </p:pic>
      <p:pic>
        <p:nvPicPr>
          <p:cNvPr id="364" name="Прямоугольник 9" descr=""/>
          <p:cNvPicPr/>
          <p:nvPr/>
        </p:nvPicPr>
        <p:blipFill>
          <a:blip r:embed="rId3"/>
          <a:stretch/>
        </p:blipFill>
        <p:spPr>
          <a:xfrm>
            <a:off x="4443480" y="4181400"/>
            <a:ext cx="1560600" cy="1781280"/>
          </a:xfrm>
          <a:prstGeom prst="rect">
            <a:avLst/>
          </a:prstGeom>
          <a:ln w="0">
            <a:noFill/>
          </a:ln>
        </p:spPr>
      </p:pic>
      <p:pic>
        <p:nvPicPr>
          <p:cNvPr id="365" name="Прямоугольник 10" descr=""/>
          <p:cNvPicPr/>
          <p:nvPr/>
        </p:nvPicPr>
        <p:blipFill>
          <a:blip r:embed="rId4"/>
          <a:stretch/>
        </p:blipFill>
        <p:spPr>
          <a:xfrm>
            <a:off x="6931080" y="3681360"/>
            <a:ext cx="1243080" cy="1781280"/>
          </a:xfrm>
          <a:prstGeom prst="rect">
            <a:avLst/>
          </a:prstGeom>
          <a:ln w="0">
            <a:noFill/>
          </a:ln>
        </p:spPr>
      </p:pic>
      <p:pic>
        <p:nvPicPr>
          <p:cNvPr id="366" name="Прямоугольник 11" descr=""/>
          <p:cNvPicPr/>
          <p:nvPr/>
        </p:nvPicPr>
        <p:blipFill>
          <a:blip r:embed="rId5"/>
          <a:stretch/>
        </p:blipFill>
        <p:spPr>
          <a:xfrm>
            <a:off x="5791320" y="2614680"/>
            <a:ext cx="1249200" cy="1774800"/>
          </a:xfrm>
          <a:prstGeom prst="rect">
            <a:avLst/>
          </a:prstGeom>
          <a:ln w="0">
            <a:noFill/>
          </a:ln>
        </p:spPr>
      </p:pic>
      <p:pic>
        <p:nvPicPr>
          <p:cNvPr id="367" name="Прямоугольник 12" descr=""/>
          <p:cNvPicPr/>
          <p:nvPr/>
        </p:nvPicPr>
        <p:blipFill>
          <a:blip r:embed="rId6"/>
          <a:stretch/>
        </p:blipFill>
        <p:spPr>
          <a:xfrm>
            <a:off x="3524400" y="1682640"/>
            <a:ext cx="1199880" cy="1779840"/>
          </a:xfrm>
          <a:prstGeom prst="rect">
            <a:avLst/>
          </a:prstGeom>
          <a:ln w="0">
            <a:noFill/>
          </a:ln>
        </p:spPr>
      </p:pic>
      <p:pic>
        <p:nvPicPr>
          <p:cNvPr id="368" name="Прямоугольник 13" descr=""/>
          <p:cNvPicPr/>
          <p:nvPr/>
        </p:nvPicPr>
        <p:blipFill>
          <a:blip r:embed="rId7"/>
          <a:stretch/>
        </p:blipFill>
        <p:spPr>
          <a:xfrm>
            <a:off x="7004160" y="2109960"/>
            <a:ext cx="1244520" cy="1779480"/>
          </a:xfrm>
          <a:prstGeom prst="rect">
            <a:avLst/>
          </a:prstGeom>
          <a:ln w="0">
            <a:noFill/>
          </a:ln>
        </p:spPr>
      </p:pic>
      <p:pic>
        <p:nvPicPr>
          <p:cNvPr id="369" name="Прямоугольник 14" descr=""/>
          <p:cNvPicPr/>
          <p:nvPr/>
        </p:nvPicPr>
        <p:blipFill>
          <a:blip r:embed="rId8"/>
          <a:stretch/>
        </p:blipFill>
        <p:spPr>
          <a:xfrm>
            <a:off x="4950000" y="396720"/>
            <a:ext cx="1201680" cy="1779840"/>
          </a:xfrm>
          <a:prstGeom prst="rect">
            <a:avLst/>
          </a:prstGeom>
          <a:ln w="0">
            <a:noFill/>
          </a:ln>
        </p:spPr>
      </p:pic>
      <p:pic>
        <p:nvPicPr>
          <p:cNvPr id="370" name="Прямоугольник 15" descr=""/>
          <p:cNvPicPr/>
          <p:nvPr/>
        </p:nvPicPr>
        <p:blipFill>
          <a:blip r:embed="rId9"/>
          <a:stretch/>
        </p:blipFill>
        <p:spPr>
          <a:xfrm>
            <a:off x="4797360" y="1395360"/>
            <a:ext cx="1231920" cy="1781280"/>
          </a:xfrm>
          <a:prstGeom prst="rect">
            <a:avLst/>
          </a:prstGeom>
          <a:ln w="0">
            <a:noFill/>
          </a:ln>
        </p:spPr>
      </p:pic>
      <p:pic>
        <p:nvPicPr>
          <p:cNvPr id="371" name="Прямоугольник 16" descr=""/>
          <p:cNvPicPr/>
          <p:nvPr/>
        </p:nvPicPr>
        <p:blipFill>
          <a:blip r:embed="rId10"/>
          <a:stretch/>
        </p:blipFill>
        <p:spPr>
          <a:xfrm>
            <a:off x="2951280" y="255600"/>
            <a:ext cx="1199880" cy="177480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7" descr=""/>
          <p:cNvPicPr/>
          <p:nvPr/>
        </p:nvPicPr>
        <p:blipFill>
          <a:blip r:embed="rId11"/>
          <a:stretch/>
        </p:blipFill>
        <p:spPr>
          <a:xfrm>
            <a:off x="7236000" y="328680"/>
            <a:ext cx="1206360" cy="177480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18" descr=""/>
          <p:cNvPicPr/>
          <p:nvPr/>
        </p:nvPicPr>
        <p:blipFill>
          <a:blip r:embed="rId12"/>
          <a:stretch/>
        </p:blipFill>
        <p:spPr>
          <a:xfrm>
            <a:off x="3035160" y="4900680"/>
            <a:ext cx="1524240" cy="177480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19" descr=""/>
          <p:cNvPicPr/>
          <p:nvPr/>
        </p:nvPicPr>
        <p:blipFill>
          <a:blip r:embed="rId13"/>
          <a:stretch/>
        </p:blipFill>
        <p:spPr>
          <a:xfrm>
            <a:off x="738360" y="4041720"/>
            <a:ext cx="1547640" cy="177336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20" descr=""/>
          <p:cNvPicPr/>
          <p:nvPr/>
        </p:nvPicPr>
        <p:blipFill>
          <a:blip r:embed="rId14"/>
          <a:stretch/>
        </p:blipFill>
        <p:spPr>
          <a:xfrm>
            <a:off x="5284800" y="1152360"/>
            <a:ext cx="3279600" cy="1189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21" descr=""/>
          <p:cNvPicPr/>
          <p:nvPr/>
        </p:nvPicPr>
        <p:blipFill>
          <a:blip r:embed="rId15"/>
          <a:stretch/>
        </p:blipFill>
        <p:spPr>
          <a:xfrm>
            <a:off x="139680" y="1011240"/>
            <a:ext cx="3084480" cy="118908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22" descr=""/>
          <p:cNvPicPr/>
          <p:nvPr/>
        </p:nvPicPr>
        <p:blipFill>
          <a:blip r:embed="rId16"/>
          <a:stretch/>
        </p:blipFill>
        <p:spPr>
          <a:xfrm>
            <a:off x="2901960" y="2724120"/>
            <a:ext cx="3517920" cy="11890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23" descr=""/>
          <p:cNvPicPr/>
          <p:nvPr/>
        </p:nvPicPr>
        <p:blipFill>
          <a:blip r:embed="rId17"/>
          <a:stretch/>
        </p:blipFill>
        <p:spPr>
          <a:xfrm>
            <a:off x="328680" y="5084640"/>
            <a:ext cx="3322440" cy="1187640"/>
          </a:xfrm>
          <a:prstGeom prst="rect">
            <a:avLst/>
          </a:prstGeom>
          <a:ln w="0">
            <a:noFill/>
          </a:ln>
        </p:spPr>
      </p:pic>
      <p:pic>
        <p:nvPicPr>
          <p:cNvPr id="379" name="Прямоугольник 24" descr=""/>
          <p:cNvPicPr/>
          <p:nvPr/>
        </p:nvPicPr>
        <p:blipFill>
          <a:blip r:embed="rId18"/>
          <a:stretch/>
        </p:blipFill>
        <p:spPr>
          <a:xfrm>
            <a:off x="5632560" y="4797360"/>
            <a:ext cx="3475080" cy="1189080"/>
          </a:xfrm>
          <a:prstGeom prst="rect">
            <a:avLst/>
          </a:prstGeom>
          <a:ln w="0">
            <a:noFill/>
          </a:ln>
        </p:spPr>
      </p:pic>
      <p:sp>
        <p:nvSpPr>
          <p:cNvPr id="380" name="Номер слайда 2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4802-A8C2-40EA-8F4F-D1B59A973E4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C 0.07622 -0.02245 0.09167 0.00718 0.07882 -0.04236 C 0.07709 -0.07361 0.08247 -0.07523 0.06216 -0.0706 C 0.05539 -0.06157 0.05348 -0.05671 0.04862 -0.04629 C 0.04653 -0.03078 0.0448 -0.00787 0.05 0.00625 C 0.05487 0.01922 0.06632 0.0382 0.07587 0.04445 C 0.08629 0.05903 0.11112 0.05926 0.12431 0.06065 C 0.14948 0.05926 0.17483 0.05857 0.2 0.05672 C 0.20573 0.05625 0.21268 0.04908 0.21667 0.04445 C 0.23004 0.02894 0.23872 0.0044 0.24393 -0.01805 C 0.24167 -0.03773 0.24289 -0.05 0.22882 -0.05648 C 0.20712 -0.05185 0.20539 -0.05231 0.19098 -0.03217 C 0.18924 -0.02546 0.18716 -0.02106 0.18334 -0.01597 C 0.18473 -0.000230000000000001 0.18768 0.01459 0.18941 0.03033 C 0.19132 0.04769 0.19323 0.06597 0.19705 0.08287 C 0.19948 0.09422 0.20434 0.10347 0.20608 0.11528 C 0.20886 0.13496 0.21233 0.15417 0.21528 0.17385 C 0.21598 0.17824 0.21615 0.18727 0.21823 0.1919 C 0.22049 0.19699 0.22344 0.20139 0.22587 0.20625 C 0.22223 0.22477 0.22518 0.20648 0.22587 0.2426 C 0.22674 0.28102 0.22657 0.31922 0.22726 0.35764 C 0.22761 0.3713 0.22709 0.39676 0.23195 0.41227 C 0.24046 0.43912 0.27952 0.46343 0.3 0.46667 C 0.31719 0.46528 0.33438 0.46528 0.35157 0.46273 C 0.35296 0.4625 0.3533 0.45949 0.35452 0.45857 C 0.35643 0.45741 0.35851 0.45741 0.36059 0.45672 C 0.37952 0.43797 0.35504 0.46065 0.37275 0.44861 C 0.37414 0.44769 0.37466 0.4456 0.37587 0.44445 C 0.38247 0.43773 0.3882 0.43403 0.39393 0.42639 C 0.39584 0.41898 0.39862 0.41389 0.4 0.40625 C 0.39948 0.40093 0.40243 0.3919 0.39862 0.39005 C 0.37934 0.38102 0.36962 0.38935 0.35921 0.40417 C 0.35747 0.41088 0.35226 0.4213 0.34862 0.42639 C 0.34809 0.42917 0.34792 0.43195 0.34705 0.43449 C 0.34636 0.43681 0.34445 0.4382 0.34393 0.44051 C 0.34237 0.44838 0.34098 0.46482 0.34098 0.46482 C 0.34046 0.48241 0.33941 0.49977 0.33941 0.51736 C 0.33941 0.54074 0.33768 0.59422 0.35608 0.61019 C 0.3665 0.63357 0.37778 0.64931 0.39254 0.66667 C 0.40053 0.67616 0.40452 0.68472 0.41528 0.68889 C 0.42101 0.69514 0.42171 0.69398 0.42431 0.70301 C 0.425 0.70556 0.42431 0.70903 0.42587 0.71111 C 0.42743 0.7132 0.42987 0.71273 0.43195 0.7132 C 0.44098 0.71528 0.45018 0.7169 0.45921 0.71922 C 0.4632 0.725 0.46737 0.72454 0.47275 0.72732 C 0.48993 0.73611 0.50903 0.74097 0.52726 0.74352 C 0.55226 0.75463 0.62049 0.74584 0.62726 0.7456 C 0.63803 0.74074 0.63334 0.7426 0.64098 0.73959 C 0.64584 0.73287 0.65278 0.72986 0.65764 0.72338 C 0.66025 0.71991 0.66268 0.71667 0.66528 0.7132 C 0.67032 0.70648 0.6698 0.71227 0.6698 0.70718 E">
                                      <p:cBhvr>
                                        <p:cTn id="258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6991 C 0.01372 0.08611 0.01024 0.07083 0.01545 0.08403 C 0.01927 0.09375 0.02101 0.10578 0.02309 0.1162 C 0.02361 0.12708 0.02448 0.13773 0.02448 0.14861 C 0.02448 0.22153 0.02917 0.26782 0.01233 0.32847 C 0.00955 0.33866 0.01059 0.34861 0.00486 0.35671 C -1.66666999999992E-006 0.37569 -0.01007 0.38981 -0.01944 0.40509 C -0.02326 0.42037 -0.01788 0.40278 -0.02552 0.41528 C -0.02691 0.41759 -0.02726 0.42083 -0.02847 0.42338 C -0.03298 0.43241 -0.04149 0.43518 -0.04826 0.43958 C -0.05625 0.44491 -0.06371 0.45185 -0.07239 0.45578 C -0.0941 0.46551 -0.11649 0.47153 -0.13906 0.47592 C -0.27239 0.4662 -0.19028 0.47569 -0.23455 0.46366 C -0.25399 0.44768 -0.23958 0.46018 -0.25729 0.44352 C -0.25868 0.44213 -0.2618 0.43958 -0.2618 0.43958 C -0.26857 0.42731 -0.27847 0.41782 -0.28455 0.40509 C -0.29201 0.38981 -0.28298 0.40347 -0.29219 0.39097 C -0.2941 0.38241 -0.29722 0.37778 -0.30278 0.37291 C -0.30746 0.3625 -0.31076 0.35139 -0.31493 0.34051 C -0.31753 0.33379 -0.31753 0.32546 -0.31944 0.31828 C -0.32517 0.26736 -0.32587 0.32523 -0.32239 0.21921 C -0.32205 0.20856 -0.31753 0.19444 -0.3118 0.18703 C -0.30816 0.17222 -0.29653 0.16342 -0.28611 0.15879 C -0.2816 0.15671 -0.27239 0.15254 -0.27239 0.15254 C -0.24236 0.1537 -0.22726 0.15139 -0.20278 0.16273 C -0.19861 0.17037 -0.19722 0.17384 -0.19062 0.17685 C -0.18455 0.18541 -0.17726 0.19236 -0.17118 0.20116 C -0.16302 0.21273 -0.1658 0.2081 -0.16024 0.21528 C -0.15868 0.21736 -0.15573 0.22129 -0.15573 0.22129 C -0.15382 0.23055 -0.14965 0.23773 -0.14514 0.2456 C -0.14462 0.24907 -0.14444 0.25254 -0.14357 0.25578 C -0.14201 0.26134 -0.13767 0.27176 -0.13767 0.27176 C -0.13038 0.32963 -0.13142 0.3993 -0.15121 0.4537 C -0.15434 0.47315 -0.15816 0.4912 -0.16649 0.5081 C -0.17031 0.5287 -0.16441 0.50393 -0.17239 0.52245 C -0.175 0.52801 -0.175 0.53472 -0.17691 0.54051 C -0.18142 0.55254 -0.18611 0.56412 -0.19236 0.57477 C -0.1941 0.58356 -0.19791 0.58866 -0.20278 0.59514 C -0.20451 0.60092 -0.20469 0.60787 -0.20729 0.61319 C -0.20955 0.61713 -0.21493 0.62315 -0.21493 0.62315 C -0.21944 0.63541 -0.22708 0.64629 -0.23298 0.65741 C -0.23576 0.66805 -0.23333 0.66157 -0.24219 0.67361 C -0.25347 0.68889 -0.22951 0.65741 -0.25295 0.68773 C -0.25538 0.6912 -0.26423 0.69491 -0.26788 0.69583 C -0.28958 0.70069 -0.30382 0.70069 -0.32847 0.70185 C -0.34566 0.70046 -0.36285 0.70023 -0.38003 0.69791 C -0.38472 0.69722 -0.39114 0.69028 -0.39514 0.68773 C -0.40035 0.68426 -0.39913 0.68703 -0.40434 0.68379 C -0.41562 0.67708 -0.42587 0.66782 -0.43611 0.65949 C -0.44132 0.65532 -0.44392 0.64583 -0.44965 0.64328 C -0.46267 0.6375 -0.47222 0.62569 -0.48298 0.61528 C -0.49357 0.60486 -0.48142 0.60879 -0.50121 0.59514 C -0.50955 0.58935 -0.52344 0.57754 -0.53003 0.56875 C -0.53715 0.55926 -0.54288 0.54815 -0.55121 0.54051 C -0.55885 0.52569 -0.54861 0.54352 -0.56024 0.53032 C -0.56875 0.52083 -0.57291 0.51134 -0.5816 0.50416 C -0.58437 0.4919 -0.58194 0.4993 -0.59357 0.48403 C -0.59514 0.48194 -0.59826 0.47801 -0.59826 0.47801 C -0.60295 0.46528 -0.61128 0.45625 -0.61632 0.44352 C -0.62101 0.43148 -0.62274 0.41898 -0.63003 0.40926 C -0.63107 0.40463 -0.63854 0.37361 -0.64062 0.37083 C -0.6467 0.36273 -0.6441 0.36736 -0.64826 0.35671 C -0.65312 0.32824 -0.66094 0.29977 -0.67101 0.27384 C -0.67448 0.24421 -0.66962 0.2743 -0.67552 0.25578 C -0.67812 0.24791 -0.67673 0.2419 -0.6816 0.23541 C -0.68368 0.21458 -0.68767 0.1956 -0.68767 0.17477 E">
                                      <p:cBhvr>
                                        <p:cTn id="261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0.08889 C -0.01354 0.11412 -0.00972 0.14051 -0.01354 0.16597 C -0.01441 0.21412 -0.01302 0.24491 -0.01823 0.28681 C -0.02535 0.43912 0.01181 0.6 -0.02448 0.74514 C -0.025 0.75556 -0.02604 0.76597 -0.02604 0.77639 C -0.02604 0.77986 -0.02673 0.78495 -0.02448 0.78681 C -0.02291 0.7882 -0.02239 0.78264 -0.02135 0.78056 C -0.01823 0.775 -0.0151 0.76945 -0.01198 0.76389 C -0.00642 0.75394 -0.00052 0.74445 0.00521 0.73472 C 0.0092 0.72778 0.01476 0.72176 0.01771 0.71389 C 0.01927 0.70972 0.02049 0.70533 0.0224 0.70139 C 0.02813 0.68982 0.03629 0.68079 0.04271 0.67014 C 0.04601 0.66482 0.04896 0.65903 0.05209 0.65347 C 0.05469 0.64908 0.05521 0.64259 0.05834 0.63889 C 0.06129 0.63542 0.06563 0.63472 0.06927 0.63264 C 0.07535 0.62199 0.08299 0.61296 0.08802 0.60139 C 0.10469 0.56366 0.08351 0.59676 0.10209 0.56181 C 0.10521 0.55579 0.10972 0.55093 0.11302 0.54514 C 0.13281 0.51042 0.15226 0.47546 0.17396 0.44306 C 0.19149 0.4169 0.20486 0.39005 0.22552 0.36806 C 0.23438 0.34445 0.2191 0.38287 0.24271 0.34097 C 0.25365 0.3213 0.27656 0.29908 0.29271 0.28472 C 0.29531 0.28241 0.30174 0.27685 0.30365 0.27431 C 0.31285 0.26204 0.31754 0.24445 0.32865 0.23472 C 0.32969 0.23195 0.33021 0.22847 0.33177 0.22639 C 0.33334 0.22431 0.33629 0.22431 0.33802 0.22222 C 0.33993 0.22014 0.34584 0.21019 0.34584 0.20764 E">
                                      <p:cBhvr>
                                        <p:cTn id="264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0.07847 C -0.00729 0.10324 -0.00243 0.13009 -0.00886 0.15555 C -0.01129 0.25532 0.00555 0.36227 -0.01823 0.45764 C -0.01979 0.47801 -0.02223 0.49815 -0.02604 0.51805 C -0.02709 0.53125 -0.02674 0.53426 -0.02917 0.54514 C -0.03004 0.5493 -0.03177 0.55324 -0.03229 0.55764 C -0.03473 0.57662 -0.03837 0.59375 -0.04636 0.60972 C -0.04688 0.6125 -0.04723 0.61504 -0.04792 0.61805 C -0.04879 0.62199 -0.05104 0.63055 -0.05104 0.63055 C -0.05556 0.62129 -0.05834 0.60995 -0.06042 0.5993 C -0.06094 0.59653 -0.06094 0.59352 -0.06198 0.59097 C -0.06354 0.58727 -0.07066 0.58078 -0.07292 0.57847 C -0.07448 0.5743 -0.07657 0.57014 -0.07761 0.56574 C -0.08039 0.55324 -0.0783 0.54375 -0.08386 0.53264 C -0.08768 0.5125 -0.08438 0.5206 -0.09167 0.50764 C -0.09479 0.49514 -0.09549 0.48287 -0.09792 0.47014 C -0.10052 0.45648 -0.1 0.47083 -0.10261 0.44722 C -0.10278 0.44606 -0.10382 0.43032 -0.10573 0.42639 C -0.11268 0.4125 -0.10851 0.42754 -0.11354 0.41389 C -0.11806 0.40185 -0.12153 0.38727 -0.12448 0.3743 C -0.12587 0.36828 -0.12552 0.36319 -0.12761 0.35764 C -0.13177 0.34653 -0.13611 0.33634 -0.13854 0.3243 C -0.14184 0.30787 -0.14549 0.29259 -0.14948 0.27639 C -0.15 0.27407 -0.15278 0.27384 -0.15417 0.27222 C -0.15591 0.27037 -0.15747 0.26828 -0.15886 0.26597 C -0.16511 0.25602 -0.16146 0.25162 -0.17136 0.24514 C -0.17344 0.23657 -0.17552 0.22291 -0.18073 0.21597 C -0.18195 0.21435 -0.18403 0.21481 -0.18542 0.21389 C -0.19063 0.21041 -0.19115 0.2081 -0.19479 0.20139 C -0.19861 0.19421 -0.19861 0.18171 -0.20417 0.17639 C -0.20643 0.1743 -0.20938 0.17361 -0.21198 0.17222 C -0.21702 0.16389 -0.21945 0.16088 -0.22292 0.15139 C -0.22604 0.14305 -0.22709 0.1375 -0.23229 0.13055 C -0.23629 0.11435 -0.24393 0.10185 -0.24948 0.0868 C -0.25695 0.0669 -0.26094 0.04236 -0.27292 0.02639 C -0.27552 0.01273 -0.275 0.0162 -0.28073 0.00555 C -0.28577 -0.00371 -0.2875 -0.01297 -0.29479 -0.01945 C -0.29896 -0.00648 -0.30087 0.00231 -0.30261 0.01597 C -0.30313 0.025 -0.30313 0.03403 -0.30417 0.04305 C -0.30556 0.05486 -0.31042 0.06643 -0.31198 0.07847 C -0.31372 0.0912 -0.31389 0.10231 -0.31823 0.11389 C -0.31997 0.12801 -0.32292 0.14143 -0.32448 0.15555 C -0.325 0.16041 -0.32518 0.16528 -0.32604 0.17014 C -0.32674 0.1743 -0.32917 0.18264 -0.32917 0.18264 C -0.33091 0.19861 -0.33247 0.21481 -0.33542 0.23055 C -0.3375 0.25602 -0.3408 0.28032 -0.34479 0.30555 C -0.34775 0.35555 -0.35018 0.40555 -0.35261 0.45555 C -0.35052 0.51481 -0.34948 0.55347 -0.35104 0.61805 C -0.35122 0.62916 -0.35174 0.64004 -0.35261 0.65116 C -0.35278 0.65486 -0.35608 0.65926 -0.35417 0.6618 C -0.35226 0.66435 -0.34896 0.66041 -0.34636 0.65972 C -0.34271 0.65486 -0.33907 0.65 -0.33542 0.64514 C -0.3342 0.64352 -0.33212 0.64398 -0.33073 0.64305 C -0.329 0.6419 -0.32049 0.63356 -0.31979 0.63264 C -0.31841 0.63078 -0.31806 0.62801 -0.31667 0.62639 C -0.31545 0.625 -0.31337 0.62546 -0.31198 0.62407 C -0.30868 0.62176 -0.30556 0.61921 -0.30261 0.61597 C -0.28872 0.60069 -0.30174 0.60833 -0.28542 0.60139 C -0.27726 0.59259 -0.27049 0.58078 -0.26042 0.57639 C -0.24896 0.56504 -0.23629 0.5544 -0.22292 0.54722 C -0.21979 0.5456 -0.2165 0.54491 -0.21354 0.54305 C -0.18924 0.52685 -0.21841 0.54097 -0.19479 0.53055 C -0.18229 0.51805 -0.16702 0.51481 -0.15417 0.50347 C -0.15104 0.50046 -0.14809 0.49745 -0.14479 0.49514 C -0.14132 0.49259 -0.13733 0.49166 -0.13386 0.48889 C -0.10087 0.46227 -0.12483 0.47616 -0.10573 0.46597 C -0.08733 0.44491 -0.06736 0.42708 -0.04792 0.40764 C -0.03611 0.39583 -0.02726 0.3794 -0.01511 0.36805 C -0.0132 0.3662 -0.01094 0.36551 -0.00886 0.36389 C -0.00556 0.36134 -0.00243 0.35856 0.00052 0.35555 C 0.0184 0.33819 -0.00191 0.35694 0.01614 0.3368 C 0.02864 0.32291 0.04236 0.30995 0.05521 0.29722 C 0.07118 0.28125 0.05208 0.29722 0.06614 0.27847 C 0.07014 0.27315 0.07621 0.27129 0.08021 0.26597 C 0.08715 0.25671 0.09375 0.24629 0.10208 0.23889 C 0.10729 0.22847 0.1184 0.22129 0.12552 0.2118 C 0.13229 0.20278 0.13576 0.1956 0.14427 0.18889 C 0.15121 0.17662 0.15955 0.16852 0.16771 0.15764 C 0.18003 0.1412 0.1651 0.15671 0.17708 0.14305 C 0.17899 0.14074 0.18159 0.13935 0.18333 0.1368 C 0.19045 0.12639 0.19253 0.11551 0.19896 0.10555 C 0.20086 0.10254 0.2033 0.10023 0.20521 0.09722 C 0.2118 0.08634 0.21701 0.07361 0.22239 0.0618 C 0.2243 0.05741 0.22864 0.0493 0.22864 0.0493 C 0.24774 0.0875 0.23073 0.18403 0.23646 0.24514 C 0.2408 0.36481 0.24114 0.45416 0.24114 0.58889 E">
                                      <p:cBhvr>
                                        <p:cTn id="267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7223 C -0.01597 0.08797 -0.0151 0.10394 -0.01666 0.12014 C -0.01771 0.13056 -0.02135 0.14098 -0.02291 0.15139 C -0.02535 0.16806 -0.02673 0.18519 -0.03073 0.20139 C -0.03264 0.21875 -0.03437 0.23681 -0.03854 0.25348 C -0.04271 0.29862 -0.05035 0.34537 -0.06041 0.38889 C -0.06545 0.41065 -0.07031 0.43588 -0.08541 0.44931 C -0.09583 0.44584 -0.09948 0.44676 -0.09948 0.43056 E">
                                      <p:cBhvr>
                                        <p:cTn id="270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4 0.02871 C 0.00747 0.01829 0.00209 0.02153 0.01198 0.01783 C 0.02622 0.0051 0.04184 0.01412 0.05886 0.01621 C 0.06528 0.01852 0.06771 0.02338 0.07136 0.03056 C 0.07188 0.03357 0.0724 0.03635 0.07292 0.03912 C 0.07344 0.04121 0.07414 0.04329 0.07448 0.04491 C 0.0757 0.05093 0.07761 0.06204 0.07761 0.06227 C 0.07865 0.08357 0.08473 0.10579 0.08073 0.12662 C 0.07639 0.15024 0.07101 0.16297 0.06198 0.18287 C 0.05174 0.20579 0.04098 0.2294 0.0198 0.23496 C 0.00174 0.24885 -0.02083 0.24769 -0.04114 0.24908 C -0.10954 0.24422 -0.07795 0.24954 -0.13645 0.23496 C -0.15416 0.23033 -0.16875 0.21181 -0.18177 0.197 C -0.20295 0.17385 -0.17951 0.20325 -0.20052 0.18287 C -0.2125 0.1713 -0.22309 0.15718 -0.23489 0.14537 C -0.24461 0.13565 -0.24045 0.13658 -0.24739 0.12662 C -0.25868 0.11042 -0.25989 0.10973 -0.27083 0.09746 C -0.27343 0.08681 -0.27899 0.07801 -0.28333 0.06829 C -0.28645 0.04746 -0.28246 0.06899 -0.28958 0.04491 C -0.29409 0.03056 -0.29427 0.01088 -0.29583 -0.00463 C -0.2967 -0.01435 -0.29895 -0.03425 -0.29895 -0.03402 C -0.29843 -0.06782 -0.29826 -0.10185 -0.29739 -0.13588 C -0.2967 -0.16041 -0.2868 -0.18263 -0.2802 -0.20463 C -0.26875 -0.24282 -0.24722 -0.26944 -0.21614 -0.27546 C -0.20659 -0.28194 -0.18489 -0.28588 -0.18489 -0.28564 C -0.10798 -0.28333 -0.14166 -0.28912 -0.10052 -0.27338 C -0.08767 -0.25625 -0.10572 -0.2787 -0.08802 -0.26296 C -0.08072 -0.25648 -0.07656 -0.24814 -0.0677 -0.24421 C -0.06007 -0.23564 -0.05138 -0.2287 -0.04427 -0.21921 C -0.04027 -0.21388 -0.03732 -0.20787 -0.03333 -0.20254 C -0.03125 -0.19537 -0.0276 -0.18888 -0.02552 -0.18171 C -0.02118 -0.16782 -0.01979 -0.15185 -0.01458 -0.13796 C -0.01163 -0.11805 -0.0085 -0.09675 -0.00364 -0.07754 C -0.00416 -0.01967 -0.00416 0.03912 -0.0052 0.09746 C -0.00555 0.12014 -0.01371 0.14283 -0.0177 0.16412 C -0.021 0.18149 -0.02534 0.20139 -0.03489 0.21412 C -0.03819 0.22709 -0.04635 0.23982 -0.05364 0.24908 C -0.05711 0.26343 -0.05243 0.24792 -0.06458 0.26621 C -0.07326 0.27894 -0.07777 0.2919 -0.08802 0.30371 C -0.1085 0.32686 -0.13142 0.34028 -0.15677 0.35116 C -0.17152 0.35811 -0.18472 0.3595 -0.20052 0.36204 C -0.20468 0.36274 -0.21302 0.36412 -0.21302 0.36436 C -0.23333 0.36181 -0.25694 0.37084 -0.27395 0.35533 C -0.29045 0.34121 -0.30694 0.32223 -0.32083 0.30371 C -0.32882 0.29306 -0.33593 0.2801 -0.34427 0.27037 C -0.37534 0.23403 -0.33437 0.28774 -0.35677 0.25787 C -0.3585 0.25209 -0.36145 0.24653 -0.36302 0.24121 C -0.36388 0.23797 -0.36388 0.23426 -0.36458 0.23079 C -0.36545 0.22732 -0.36666 0.22338 -0.3677 0.22014 C -0.36857 0.20857 -0.37083 0.1963 -0.37083 0.18496 C -0.37083 0.14329 -0.37031 0.10162 -0.36927 0.05996 C -0.36892 0.04283 -0.35937 0.0169 -0.35364 0.00162 C -0.34947 -0.00925 -0.346 -0.02731 -0.33958 -0.03588 C -0.3375 -0.03865 -0.33402 -0.03958 -0.33177 -0.04213 C -0.321 -0.05416 -0.31128 -0.07638 -0.29739 -0.08379 C -0.2875 -0.08912 -0.28177 -0.08865 -0.27083 -0.09004 C -0.22586 -0.10995 -0.19843 -0.08356 -0.15989 -0.07338 C -0.15191 -0.06273 -0.14357 -0.05972 -0.13333 -0.05463 C -0.125 -0.05046 -0.11024 -0.03912 -0.10364 -0.03171 C -0.09757 -0.02476 -0.08368 -0.01018 -0.0802 -0.00254 C -0.07638 0.00556 -0.07135 0.01389 -0.0677 0.02246 C -0.06406 0.03056 -0.06371 0.03612 -0.05833 0.04329 C -0.05729 0.04746 -0.05659 0.05186 -0.0552 0.05579 C -0.05451 0.05787 -0.05277 0.0595 -0.05208 0.06204 C -0.0493 0.07153 -0.04757 0.08172 -0.04427 0.09121 C -0.04184 0.09815 -0.03645 0.11204 -0.03645 0.11227 C -0.03559 0.11829 -0.03333 0.12431 -0.03333 0.13079 C -0.03333 0.16065 -0.03576 0.1882 -0.0427 0.21621 C -0.04531 0.22662 -0.04583 0.23936 -0.04895 0.24908 C -0.05225 0.26088 -0.05781 0.27176 -0.06145 0.28287 C -0.06805 0.30232 -0.07187 0.32362 -0.08177 0.34121 C -0.08593 0.36366 -0.09652 0.37894 -0.10677 0.39746 C -0.11371 0.40973 -0.12031 0.4294 -0.13177 0.4345 C -0.13871 0.45047 -0.14878 0.45764 -0.16145 0.46412 C -0.16614 0.46644 -0.17135 0.46667 -0.17552 0.47037 C -0.18645 0.4801 -0.17274 0.46852 -0.18802 0.47871 C -0.19722 0.48426 -0.20486 0.49468 -0.21458 0.49954 C -0.22326 0.50394 -0.23281 0.50649 -0.24114 0.51158 C -0.24392 0.51343 -0.24618 0.5169 -0.24895 0.51829 C -0.25746 0.52246 -0.26961 0.52454 -0.27864 0.52662 C -0.31076 0.54375 -0.35225 0.54121 -0.38645 0.54329 C -0.44635 0.5426 -0.50625 0.54306 -0.56614 0.54121 C -0.58333 0.54075 -0.60225 0.52987 -0.61927 0.52662 C -0.63628 0.51899 -0.61041 0.53125 -0.62864 0.52037 C -0.63559 0.51621 -0.64305 0.51366 -0.65052 0.51158 C -0.65625 0.50649 -0.65434 0.50973 -0.65677 0.50371 E">
                                      <p:cBhvr>
                                        <p:cTn id="273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8264 C -0.01962 0.07454 -0.01996 0.06667 -0.02448 0.05764 C -0.02708 0.04329 -0.02951 0.03149 -0.03385 0.01806 C -0.03472 0.01528 -0.03576 0.0125 -0.03698 0.00973 C -0.03785 0.00764 -0.03941 0.00579 -0.0401 0.00348 C -0.04531 -0.01203 -0.04496 -0.03009 -0.05416 -0.04236 C -0.05625 -0.05324 -0.06024 -0.06157 -0.06354 -0.07152 C -0.06753 -0.08356 -0.06528 -0.08773 -0.07291 -0.09444 C -0.07569 -0.10578 -0.07361 -0.09884 -0.08073 -0.11319 C -0.08541 -0.12245 -0.08246 -0.12199 -0.08541 -0.12986 C -0.08819 -0.1375 -0.09323 -0.14328 -0.09635 -0.15069 C -0.10121 -0.1618 -0.10469 -0.17384 -0.11041 -0.18402 C -0.11232 -0.19398 -0.11285 -0.19768 -0.11823 -0.20486 C -0.12031 -0.2162 -0.12465 -0.22384 -0.13073 -0.23194 C -0.13125 -0.23472 -0.13107 -0.23796 -0.13229 -0.24027 C -0.13489 -0.24513 -0.14166 -0.25277 -0.14166 -0.25277 C -0.14444 -0.26412 -0.14896 -0.27245 -0.15416 -0.28194 C -0.15538 -0.28703 -0.15833 -0.29652 -0.16041 -0.30069 C -0.16267 -0.30509 -0.16597 -0.30879 -0.16823 -0.31319 C -0.18107 -0.30185 -0.18194 -0.2831 -0.18698 -0.26527 C -0.19114 -0.25069 -0.18871 -0.26273 -0.19323 -0.25069 C -0.19618 -0.24305 -0.19739 -0.23518 -0.20104 -0.22777 C -0.20295 -0.21805 -0.20573 -0.20856 -0.20729 -0.19861 C -0.21146 -0.17037 -0.21441 -0.14166 -0.21823 -0.11319 C -0.21996 -0.10046 -0.22396 -0.08819 -0.22604 -0.07569 C -0.22847 -0.06157 -0.22934 -0.04629 -0.23541 -0.03402 C -0.24357 0.03125 -0.23194 -0.00694 -0.1401 -0.00486 C -0.10156 0.00533 -0.06406 0.00625 -0.02448 0.00764 C 0.11441 0.06945 -0.0184 0.01181 0.39427 0.01181 E">
                                      <p:cBhvr>
                                        <p:cTn id="276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4 0.04514 C 0.04236 0.02732 0.03038 0.04838 0.04115 0.03681 C 0.04688 0.03056 0.05261 0.02408 0.05677 0.01597 C 0.06632 -0.00301 0.07431 -0.02454 0.0849 -0.04236 C 0.08837 -0.05648 0.09427 -0.06829 0.09896 -0.08194 C 0.10243 -0.09213 0.10486 -0.1 0.1099 -0.10903 C 0.11285 -0.125 0.10938 -0.10972 0.11615 -0.12778 C 0.11806 -0.1331 0.11893 -0.13912 0.12084 -0.14444 C 0.12344 -0.15162 0.12761 -0.1581 0.13021 -0.16528 C 0.1309 -0.16713 0.1309 -0.16967 0.13177 -0.17153 C 0.13299 -0.17407 0.13524 -0.17546 0.13646 -0.17778 C 0.14132 -0.1868 0.14445 -0.19884 0.15052 -0.20694 C 0.15209 -0.20903 0.15399 -0.21088 0.15521 -0.21319 C 0.16198 -0.22592 0.16441 -0.2419 0.17084 -0.25486 C 0.17674 -0.2868 0.17952 -0.32801 0.15209 -0.34028 C 0.14636 -0.33935 0.13941 -0.34097 0.1349 -0.33611 C 0.12691 -0.32731 0.11459 -0.30092 0.11146 -0.28819 C 0.10851 -0.26018 0.10452 -0.23055 0.11146 -0.20278 C 0.11719 -0.17986 0.13386 -0.16551 0.15052 -0.16111 C 0.1849 -0.1625 0.20643 -0.15231 0.22865 -0.18194 C 0.2309 -0.1912 0.23281 -0.19792 0.23802 -0.20486 C 0.23854 -0.20764 0.23889 -0.21042 0.23959 -0.21319 C 0.24045 -0.21736 0.24271 -0.22569 0.24271 -0.22569 C 0.24149 -0.24815 0.24514 -0.25486 0.23334 -0.26528 C 0.21806 -0.26018 0.21389 -0.24143 0.20365 -0.22778 C 0.20156 -0.21967 0.19774 -0.21389 0.19427 -0.20694 C 0.19028 -0.18565 0.19566 -0.21204 0.18959 -0.19028 C 0.18681 -0.18009 0.18629 -0.17037 0.18177 -0.16111 C 0.18073 -0.15555 0.17969 -0.15 0.17865 -0.14444 C 0.17813 -0.14167 0.17709 -0.13611 0.17709 -0.13611 C 0.17761 -0.12153 0.17778 -0.10694 0.17865 -0.09236 C 0.17969 -0.07616 0.19323 -0.07199 0.20209 -0.06736 C 0.21094 -0.06875 0.22014 -0.06782 0.22865 -0.07153 C 0.23368 -0.07361 0.23698 -0.07986 0.24115 -0.08403 C 0.24323 -0.08611 0.2474 -0.09028 0.2474 -0.09028 C 0.25243 -0.11042 0.24445 -0.07917 0.25209 -0.10486 C 0.2533 -0.10903 0.25521 -0.11736 0.25521 -0.11736 C 0.25261 -0.14236 0.25191 -0.13657 0.23177 -0.13403 C 0.21632 -0.12592 0.22934 -0.13495 0.22084 -0.12361 C 0.21493 -0.11574 0.20643 -0.11065 0.20052 -0.10278 C 0.19479 -0.09514 0.18941 -0.08472 0.1849 -0.07569 C 0.18212 -0.07037 0.17709 -0.06296 0.17552 -0.05694 C 0.17257 -0.04491 0.17136 -0.03217 0.16615 -0.02153 C 0.16493 -0.01458 0.16476 -0.00741 0.16302 -0.00069 C 0.15799 0.01759 0.15903 0.00255 0.15677 0.01597 C 0.15486 0.02755 0.15347 0.03958 0.15209 0.05139 C 0.15278 0.07107 0.14774 0.1037 0.16615 0.11181 C 0.17986 0.11019 0.20295 0.11111 0.21771 0.10139 C 0.225 0.09653 0.22934 0.08958 0.23646 0.08472 C 0.2375 0.08264 0.23837 0.08033 0.23959 0.07847 C 0.24149 0.07546 0.2441 0.07338 0.24584 0.07014 C 0.24792 0.06644 0.24861 0.06158 0.25052 0.05764 C 0.25243 0.04699 0.25417 0.04329 0.24896 0.03056 C 0.24792 0.02778 0.24479 0.02755 0.24271 0.02639 C 0.23959 0.02477 0.23334 0.02222 0.23334 0.02222 C 0.22969 0.02292 0.22587 0.02245 0.2224 0.02431 C 0.21893 0.02616 0.21615 0.02986 0.21302 0.03264 C 0.21111 0.03426 0.20851 0.03495 0.20677 0.03681 C 0.20191 0.04213 0.18125 0.06806 0.17709 0.07639 C 0.17518 0.08033 0.17431 0.08495 0.1724 0.08889 C 0.17118 0.09144 0.16893 0.09283 0.16771 0.09514 C 0.16233 0.10533 0.16094 0.11921 0.15677 0.13056 C 0.15625 0.13403 0.15608 0.1375 0.15521 0.14097 C 0.15452 0.14398 0.15261 0.1463 0.15209 0.14931 C 0.14861 0.16759 0.14861 0.18704 0.14584 0.20556 C 0.14636 0.22222 0.14566 0.23912 0.1474 0.25556 C 0.14774 0.25903 0.15052 0.26111 0.15209 0.26389 C 0.16007 0.27917 0.16511 0.28495 0.17865 0.29097 C 0.19219 0.29028 0.20573 0.29051 0.21927 0.28889 C 0.23038 0.2875 0.24097 0.27662 0.25052 0.27014 C 0.25538 0.26134 0.26042 0.25347 0.26302 0.24306 C 0.2625 0.23125 0.2632 0.21921 0.26146 0.20764 C 0.26059 0.20139 0.25347 0.19653 0.25052 0.19306 C 0.24202 0.18333 0.23177 0.17523 0.22084 0.17222 C 0.20747 0.16343 0.17552 0.15972 0.1599 0.15764 C 0.14965 0.15093 0.13837 0.15116 0.12709 0.14931 C 0.09636 0.15 0.06563 0.14954 0.0349 0.15139 C 0.0191 0.15232 -0.000869999999999999 0.16551 -0.01666 0.17014 C -0.03802 0.17639 -0.05573 0.17523 -0.07916 0.17639 C -0.12708 0.17384 -0.10555 0.17778 -0.13229 0.16597 C -0.13889 0.15718 -0.14948 0.14884 -0.14948 0.13472 E">
                                      <p:cBhvr>
                                        <p:cTn id="279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8681 C -0.01892 0.11019 -0.01007 0.13935 -0.0151 0.16597 C -0.01562 0.17431 -0.0158 0.18264 -0.01666 0.19097 C -0.01736 0.19653 -0.01875 0.20208 -0.01979 0.20764 C -0.02031 0.21042 -0.02135 0.21597 -0.02135 0.21597 C -0.02413 0.25764 -0.02257 0.23611 -0.02604 0.22222 C -0.02656 0.08472 0.025 -0.07592 -0.03229 -0.19028 C -0.03559 -0.20741 -0.03663 -0.22523 -0.0401 -0.24236 C -0.04531 -0.26759 -0.05416 -0.29213 -0.05885 -0.31736 C -0.07309 -0.30463 -0.07934 -0.28217 -0.0901 -0.26528 C -0.0934 -0.25995 -0.09826 -0.25648 -0.10104 -0.25069 C -0.1059 -0.2412 -0.11007 -0.22893 -0.11684 -0.22153 C -0.12326 -0.21435 -0.13333 -0.20671 -0.13715 -0.19653 C -0.14028 -0.18819 -0.13958 -0.18796 -0.14479 -0.18194 C -0.15226 -0.17361 -0.16163 -0.16597 -0.16823 -0.15694 C -0.17812 -0.14375 -0.18854 -0.12986 -0.20121 -0.12153 C -0.20642 -0.11204 -0.21319 -0.10625 -0.21979 -0.09861 C -0.22621 -0.09143 -0.23212 -0.0831 -0.23854 -0.07569 C -0.24566 -0.06759 -0.24114 -0.07616 -0.24809 -0.06528 C -0.2493 -0.06342 -0.24965 -0.06088 -0.25104 -0.05903 C -0.26476 -0.04074 -0.24531 -0.07384 -0.26041 -0.04653 C -0.26215 -0.03935 -0.26562 -0.03125 -0.26996 -0.02569 C -0.2717 -0.02315 -0.2743 -0.02199 -0.27604 -0.01944 C -0.27847 -0.01574 -0.27916 -0.00972 -0.28229 -0.00694 C -0.28732 -0.00255 -0.29132 0.00324 -0.29635 0.00764 C -0.30625 0.00232 -0.30642 -0.00162 -0.31354 -0.01111 C -0.3184 -0.03032 -0.33576 -0.04282 -0.34635 -0.05694 C -0.35746 -0.07176 -0.36649 -0.09005 -0.3776 -0.10486 C -0.38246 -0.11134 -0.38837 -0.11713 -0.39323 -0.12361 C -0.39514 -0.12616 -0.39601 -0.12963 -0.39791 -0.13194 C -0.39965 -0.13403 -0.40226 -0.13426 -0.40416 -0.13611 C -0.40746 -0.13912 -0.41059 -0.14259 -0.41354 -0.14653 C -0.42083 -0.15625 -0.42326 -0.16227 -0.43229 -0.16944 C -0.43958 -0.18426 -0.43003 -0.16643 -0.44166 -0.18194 C -0.44774 -0.19005 -0.45278 -0.19884 -0.45885 -0.20694 C -0.46736 -0.21829 -0.47535 -0.23125 -0.48541 -0.24028 C -0.49271 -0.25509 -0.48316 -0.23727 -0.49479 -0.25278 C -0.49618 -0.25463 -0.49653 -0.25717 -0.49791 -0.25903 C -0.50364 -0.26667 -0.51094 -0.27222 -0.51666 -0.27986 C -0.51857 -0.28241 -0.51944 -0.28565 -0.52135 -0.28819 C -0.53194 -0.30231 -0.52344 -0.28796 -0.53229 -0.29861 C -0.54479 -0.31366 -0.55642 -0.33287 -0.57291 -0.34028 C -0.58368 -0.3213 -0.58194 -0.30185 -0.58541 -0.27986 C -0.58663 -0.27222 -0.59149 -0.26296 -0.59479 -0.25694 C -0.5967 -0.24954 -0.59948 -0.23403 -0.59948 -0.23403 C -0.60052 -0.20278 -0.60347 -0.175 -0.60573 -0.14444 C -0.60625 -0.02222 -0.58767 0.12778 -0.61198 0.25764 C -0.61146 0.27083 -0.61354 0.28472 -0.61041 0.29722 C -0.60955 0.3007 -0.5908 0.30324 -0.5901 0.30347 C -0.58142 0.30255 -0.57101 0.29931 -0.56198 0.29931 E">
                                      <p:cBhvr>
                                        <p:cTn id="282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57 0.01597 C 0.05782 0.01805 0.06407 0.02014 0.07032 0.02222 C 0.0724 0.02291 0.07657 0.0243 0.07657 0.0243 C 0.0908 0.03703 0.10626 0.03958 0.12344 0.04097 C 0.14376 0.04259 0.18612 0.04421 0.20469 0.04514 C 0.22257 0.05301 0.19792 0.04282 0.24688 0.0493 C 0.25278 0.05 0.25816 0.05393 0.26407 0.05555 C 0.26997 0.06088 0.27657 0.06389 0.28282 0.06805 C 0.28959 0.07245 0.29584 0.07731 0.30313 0.08055 C 0.3106 0.09051 0.31771 0.10185 0.32657 0.10972 C 0.32952 0.12153 0.33594 0.13403 0.34376 0.14097 C 0.3481 0.16389 0.34723 0.15625 0.34376 0.1993 C 0.34271 0.21134 0.33299 0.21898 0.32657 0.2243 C 0.31285 0.23565 0.30417 0.2368 0.28751 0.23889 C 0.26094 0.2375 0.23438 0.23773 0.20782 0.23472 C 0.2033 0.23426 0.19948 0.23032 0.19532 0.22847 C 0.18473 0.22384 0.17344 0.22222 0.16251 0.22014 C 0.15643 0.21736 0.14983 0.2169 0.14376 0.21389 C 0.13299 0.20856 0.12917 0.20254 0.11719 0.1993 C 0.09931 0.18449 0.09028 0.18379 0.07032 0.17847 C 0.05903 0.17106 0.04514 0.16504 0.03282 0.1618 C 0.02362 0.1537 0.03282 0.15972 0.01719 0.15972 C 0.01129 0.15972 0.00678 0.1537 0.00157 0.15139 C -0.00138 0.15 -0.00468 0.15 -0.00782 0.1493 C -0.01598 0.14213 -0.025 0.13935 -0.03438 0.1368 C -0.0408 0.13009 -0.0474 0.12569 -0.05313 0.11805 C -0.054 0.11435 -0.05591 0.10602 -0.05782 0.10347 C -0.05938 0.10139 -0.06198 0.10092 -0.06407 0.0993 C -0.07066 0.09421 -0.0769 0.08912 -0.08282 0.08264 C -0.09428 0.07014 -0.10608 0.0581 -0.11719 0.04514 C -0.12535 0.03565 -0.13334 0.0243 -0.14219 0.01597 C -0.14879 0.00972 -0.1533 0.00741 -0.15938 -0.0007 C -0.16164 -0.00972 -0.1658 -0.02199 -0.17188 -0.02778 C -0.17379 -0.02963 -0.17622 -0.03033 -0.17813 -0.03195 C -0.18039 -0.0338 -0.1823 -0.03611 -0.18438 -0.0382 C -0.19185 -0.0632 -0.18889 -0.05185 -0.19375 -0.07153 C -0.19514 -0.07732 -0.2 -0.0882 -0.2 -0.0882 C -0.20122 -0.10209 -0.20209 -0.11829 -0.20469 -0.13195 C -0.20539 -0.13565 -0.20695 -0.13889 -0.20782 -0.14236 C -0.20851 -0.14584 -0.20886 -0.14931 -0.20938 -0.15278 C -0.20782 -0.27454 -0.21198 -0.23403 -0.20313 -0.29653 C -0.20105 -0.31111 -0.20018 -0.32755 -0.19219 -0.3382 C -0.18716 -0.36181 -0.18178 -0.38704 -0.17344 -0.40903 C -0.16893 -0.42084 -0.16389 -0.43264 -0.15938 -0.44445 C -0.15053 -0.46806 -0.14237 -0.49005 -0.12813 -0.50903 C -0.12691 -0.51065 -0.12483 -0.51019 -0.12344 -0.51111 C -0.11372 -0.51806 -0.10695 -0.52547 -0.09688 -0.52986 C -0.09063 -0.52917 -0.08438 -0.52917 -0.07813 -0.52778 C -0.07483 -0.52709 -0.06875 -0.52361 -0.06875 -0.52361 C -0.05903 -0.51389 -0.06441 -0.51991 -0.05313 -0.50486 C -0.05105 -0.50209 -0.04688 -0.49653 -0.04688 -0.49653 C -0.04375 -0.48426 -0.0474 -0.4963 -0.04063 -0.48195 C -0.03733 -0.475 -0.0356 -0.46644 -0.03282 -0.45903 C -0.03073 -0.4456 -0.0283 -0.43241 -0.025 -0.41945 C -0.02448 -0.40556 -0.02362 -0.39167 -0.02344 -0.37778 C -0.02257 -0.28334 -0.02292 -0.18889 -0.02188 -0.09445 C -0.02171 -0.07801 -0.01407 -0.05996 -0.01093 -0.04445 C -0.0059 -0.01991 0.00174 0.00416 0.01407 0.0243 C 0.01928 0.03264 0.02813 0.04004 0.03282 0.0493 C 0.03803 0.05972 0.0474 0.07129 0.05626 0.07639 C 0.06216 0.07963 0.06893 0.08194 0.07501 0.08472 C 0.09271 0.08333 0.11042 0.08241 0.12813 0.08055 C 0.13334 0.08009 0.14254 0.07338 0.14688 0.07014 C 0.15435 0.06481 0.17605 0.04653 0.17969 0.0368 C 0.18403 0.025 0.1882 0.01458 0.19376 0.00347 C 0.19566 -0.00023 0.19549 -0.00509 0.19688 -0.00903 C 0.20122 -0.02199 0.20469 -0.03588 0.20938 -0.04861 C 0.20886 -0.07014 0.20869 -0.09167 0.20782 -0.1132 C 0.20747 -0.12292 0.20278 -0.13172 0.20001 -0.14028 C 0.18976 -0.17084 0.17917 -0.19884 0.16407 -0.2257 C 0.16146 -0.23588 0.15695 -0.24884 0.15157 -0.25695 C 0.14983 -0.25949 0.14723 -0.26065 0.14532 -0.2632 C 0.14219 -0.26736 0.14046 -0.27338 0.13751 -0.27778 C 0.13455 -0.28218 0.13126 -0.28611 0.12813 -0.29028 C 0.11962 -0.30162 0.11667 -0.31644 0.10626 -0.3257 C 0.09792 -0.34236 0.10886 -0.32222 0.09844 -0.33611 C 0.09705 -0.33797 0.09653 -0.34051 0.09532 -0.34236 C 0.09393 -0.34468 0.09063 -0.34861 0.09063 -0.34861 E">
                                      <p:cBhvr>
                                        <p:cTn id="285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0.06806 C 0.02379 0.0787 0.02222 0.08704 0.02032 0.09722 C 0.01684 0.14375 0.00747 0.19745 0.02969 0.23681 C 0.03212 0.24653 0.04011 0.2537 0.04532 0.26181 C 0.0625 0.28843 0.08351 0.31111 0.10625 0.32847 C 0.11354 0.33403 0.11997 0.34028 0.12813 0.34306 C 0.13611 0.35023 0.14566 0.3537 0.15469 0.35764 C 0.15643 0.35833 0.15764 0.36088 0.15938 0.36181 C 0.16545 0.36528 0.16875 0.3625 0.175 0.36806 C 0.17813 0.37083 0.18091 0.37454 0.18438 0.37639 C 0.1915 0.38033 0.20521 0.38148 0.2125 0.38264 C 0.22639 0.38889 0.2382 0.4 0.25157 0.40764 C 0.25608 0.41019 0.26111 0.41134 0.26563 0.41389 C 0.27865 0.42083 0.2908 0.42894 0.30469 0.43264 C 0.34688 0.43195 0.38907 0.43195 0.43125 0.43056 C 0.44636 0.43009 0.46893 0.4044 0.48438 0.39931 C 0.52448 0.38588 0.56511 0.37639 0.60625 0.36806 C 0.61354 0.36898 0.6217 0.36736 0.62813 0.37222 C 0.63004 0.37361 0.63108 0.37685 0.63282 0.37847 C 0.63993 0.38542 0.63768 0.37963 0.64375 0.38681 C 0.65243 0.39699 0.66042 0.40949 0.66407 0.42431 C 0.66354 0.43403 0.66476 0.44421 0.6625 0.45347 C 0.66181 0.45625 0.65816 0.45417 0.65625 0.45556 C 0.65434 0.45695 0.65278 0.45949 0.65157 0.46181 C 0.65018 0.46435 0.65 0.46783 0.64844 0.47014 C 0.64722 0.47199 0.64514 0.47269 0.64375 0.47431 C 0.64063 0.47778 0.63907 0.48333 0.63594 0.48681 C 0.6342 0.48889 0.6316 0.48935 0.62969 0.49097 C 0.61354 0.5044 0.60157 0.51181 0.58282 0.51806 C 0.57969 0.51921 0.57674 0.52176 0.57344 0.52222 C 0.56302 0.52384 0.55261 0.52361 0.54219 0.52431 C 0.48247 0.5375 0.51476 0.53195 0.39219 0.52639 C 0.38195 0.52593 0.37257 0.5088 0.36407 0.50556 C 0.34132 0.49699 0.31719 0.49213 0.29532 0.48056 C 0.28872 0.47708 0.28334 0.47107 0.27657 0.46806 C 0.26962 0.4588 0.26302 0.45 0.25625 0.44097 C 0.25174 0.43495 0.2474 0.43333 0.24219 0.42847 C 0.23368 0.42037 0.22535 0.41204 0.21719 0.40347 C 0.18976 0.375 0.16198 0.34931 0.13282 0.32431 C 0.12309 0.31597 0.11077 0.31181 0.10157 0.30347 C 0.08525 0.28866 0.08698 0.2831 0.07188 0.27431 C 0.04601 0.25926 0.01927 0.24514 -0.00781 0.23472 C -0.01649 0.23148 -0.03541 0.23033 -0.04531 0.22847 C -0.05434 0.22685 -0.06284 0.22384 -0.07187 0.22222 C -0.08663 0.21667 -0.10347 0.21204 -0.11718 0.22431 C -0.13038 0.25926 -0.08698 0.26042 -0.07187 0.26806 C -0.06701 0.27037 -0.06284 0.27523 -0.05781 0.27639 C -0.04705 0.2787 -0.03593 0.27778 -0.025 0.27847 C -0.00764 0.28079 0.0092 0.2882 0.02657 0.28889 C 0.04271 0.28958 0.05886 0.29028 0.075 0.29097 C 0.15261 0.32199 0.23525 0.3 0.31407 0.28681 C 0.32795 0.29236 0.34028 0.29931 0.35469 0.29931 C 0.36702 0.29931 0.38177 0.29144 0.39375 0.28889 C 0.40938 0.28565 0.425 0.28403 0.44063 0.28056 C 0.48143 0.27153 0.52483 0.27222 0.56563 0.27014 C 0.59966 0.26505 0.64306 0.26019 0.66563 0.22014 C 0.67952 0.16482 0.62552 0.16181 0.59844 0.15764 C 0.59063 0.15648 0.58282 0.15509 0.575 0.15347 C 0.5599 0.15023 0.54497 0.1456 0.52969 0.14306 C 0.51927 0.14144 0.50886 0.14167 0.49844 0.14097 C 0.45538 0.12847 0.41459 0.12755 0.37032 0.12431 C 0.34219 0.12616 0.31407 0.13218 0.28594 0.13056 C 0.27969 0.13009 0.27344 0.12755 0.26719 0.12639 C 0.26198 0.12546 0.25677 0.12454 0.25157 0.12431 C 0.21667 0.12245 0.18177 0.12153 0.14688 0.12014 C 0.10729 0.11574 0.06736 0.10718 0.02813 0.09931 C 0.00434 0.09445 -0.01857 0.08287 -0.04218 0.07847 C -0.04583 0.07639 -0.0493 0.07384 -0.05312 0.07222 C -0.05607 0.07107 -0.05955 0.07153 -0.0625 0.07014 C -0.07048 0.06667 -0.07725 0.05833 -0.08593 0.05556 C -0.09253 0.04977 -0.09548 0.05208 -0.1 0.04306 C -0.09843 0.03681 -0.09809 0.02963 -0.09531 0.02431 C -0.09409 0.02199 -0.09114 0.02315 -0.08906 0.02222 C -0.06614 0.01204 -0.0875 0.01898 -0.06093 0.01181 C -0.00416 0.01389 0.05261 0.01366 0.10938 0.01806 C 0.14653 0.02083 0.18455 0.03426 0.22188 0.03889 C 0.31702 0.07315 0.4165 0.05741 0.51407 0.05139 C 0.54861 0.0463 0.5816 0.02917 0.61563 0.02014 C 0.62795 0.01204 0.64063 0.00671 0.65313 -0.00069 C 0.65938 -0.0044 0.66632 -0.00602 0.67188 -0.01111 C 0.675 -0.01389 0.68125 -0.01944 0.68125 -0.01944 C 0.70052 -0.0581 0.64341 -0.08125 0.625 -0.08611 C 0.5908 -0.09514 0.5566 -0.10717 0.52188 -0.11319 C 0.47049 -0.12199 0.41858 -0.12014 0.36702 -0.12778 C 0.325 -0.125 0.28282 -0.12014 0.24063 -0.11736 C 0.20087 -0.11204 0.16181 -0.10509 0.12188 -0.10278 C 0.08663 -0.09097 0.05018 -0.09167 0.01407 -0.08819 C -0.00225 -0.08287 -0.021 -0.08241 -0.0375 -0.07986 C -0.04618 -0.07847 -0.05399 -0.07338 -0.0625 -0.07153 C -0.07743 -0.06852 -0.09271 -0.06667 -0.10781 -0.06528 C -0.12916 -0.0581 -0.14965 -0.05463 -0.17187 -0.05278 C -0.18021 -0.04907 -0.19218 -0.04815 -0.19218 -0.06319 E">
                                      <p:cBhvr>
                                        <p:cTn id="288" dur="3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2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C -0.0132 0.00579 -0.02761 0.0037 -0.04063 -0.00208 C -0.04843 -0.00139 -0.05625 -0.00116 -0.06406 4.44444E-006 C -0.07466 0.00162 -0.08091 0.01829 -0.0875 0.02708 C -0.09462 0.06528 -0.08264 0.11458 -0.05155 0.125 C 0.03126 0.12222 -0.00938 0.1375 0.01875 0.1125 C 0.02205 0.09931 0.02153 0.0838 0.01094 0.07917 C 0.00208 0.07986 -0.00695 0.07894 -0.01563 0.08125 C -0.01754 0.08171 -0.02969 0.10301 -0.03125 0.10625 C -0.03316 0.12431 -0.0375 0.14884 -0.02969 0.16458 C -0.0158 0.19236 0.03611 0.19097 0.05626 0.19375 C 0.08751 0.19815 0.11876 0.20347 0.15001 0.20833 C 0.15331 0.21273 0.16129 0.22523 0.1672 0.22708 C 0.17154 0.22847 0.1823 0.22037 0.18595 0.21875 C 0.20556 0.20995 0.23143 0.19931 0.24532 0.17708 C 0.2514 0.16736 0.254 0.15185 0.25626 0.13958 C 0.25574 0.12014 0.25678 0.10046 0.2547 0.08125 C 0.25417 0.07639 0.24845 0.06875 0.24845 0.06875 C 0.22692 0.07106 0.2231 0.07014 0.20782 0.08542 C 0.20574 0.09352 0.20122 0.09676 0.19845 0.10417 C 0.1948 0.11389 0.1922 0.12245 0.19063 0.13333 C 0.19115 0.14583 0.19098 0.15833 0.1922 0.17083 C 0.19463 0.19653 0.21008 0.2169 0.22813 0.22292 C 0.2323 0.22639 0.23612 0.23102 0.24063 0.23333 C 0.24515 0.23565 0.25001 0.23588 0.2547 0.2375 C 0.29792 0.23588 0.37101 0.25116 0.40938 0.2 C 0.41615 0.19097 0.4198 0.17986 0.42657 0.17083 C 0.43126 0.15185 0.4382 0.12361 0.42345 0.11042 C 0.42032 0.09769 0.41424 0.10255 0.4047 0.10417 C 0.3974 0.10903 0.39185 0.11759 0.38438 0.12083 C 0.3823 0.12894 0.37761 0.13194 0.37501 0.13958 C 0.37362 0.14352 0.37188 0.15208 0.37188 0.15208 C 0.3724 0.15903 0.37379 0.18935 0.37813 0.19792 C 0.37917 0.2 0.38126 0.20069 0.38282 0.20208 C 0.3882 0.21273 0.39532 0.21806 0.4047 0.22083 C 0.40678 0.22153 0.40886 0.22199 0.41095 0.22292 C 0.41407 0.22407 0.42032 0.22708 0.42032 0.22708 C 0.43699 0.22639 0.45365 0.22685 0.47032 0.225 C 0.47362 0.22477 0.47657 0.22222 0.4797 0.22083 C 0.49029 0.2162 0.50487 0.21273 0.51563 0.21042 C 0.5349 0.20625 0.55313 0.19977 0.57032 0.1875 C 0.58595 0.17616 0.60192 0.16343 0.60782 0.13958 C 0.60626 0.12708 0.60591 0.12269 0.59688 0.11875 C 0.58438 0.12199 0.58056 0.12778 0.57657 0.14375 C 0.57813 0.175 0.58039 0.21157 0.60782 0.22083 C 0.61824 0.22014 0.62865 0.22037 0.63907 0.21875 C 0.66424 0.21481 0.67084 0.18819 0.69063 0.175 C 0.69272 0.17083 0.69445 0.1662 0.69688 0.1625 C 0.6981 0.16065 0.70035 0.16019 0.70157 0.15833 C 0.71147 0.14236 0.69792 0.15602 0.70938 0.14583 C 0.71372 0.13611 0.71945 0.12708 0.72657 0.12083 C 0.72883 0.11204 0.73334 0.11134 0.73595 0.10208 C 0.7389 0.09144 0.73994 0.08102 0.74376 0.07083 C 0.74584 0.02176 0.74671 0.000690000000000003 0.72813 -0.03958 C 0.72588 -0.04444 0.72466 -0.05 0.72188 -0.05417 C 0.72015 -0.05671 0.71754 -0.05787 0.71563 -0.06042 C 0.70713 -0.07176 0.7014 -0.08542 0.68907 -0.08958 C 0.67345 -0.10532 0.6566 -0.11042 0.63907 -0.12083 C 0.63421 -0.12384 0.63004 -0.12894 0.62501 -0.13125 C 0.61268 -0.13727 0.5974 -0.13981 0.58438 -0.14375 C 0.57692 -0.14583 0.56997 -0.15069 0.56251 -0.15208 C 0.54601 -0.15532 0.52831 -0.15556 0.51251 -0.1625 C 0.46372 -0.16111 0.45088 -0.16574 0.41563 -0.15 C 0.41407 -0.14792 0.41268 -0.14537 0.41095 -0.14375 C 0.40904 -0.1419 0.40643 -0.14167 0.4047 -0.13958 C 0.39862 -0.13287 0.39254 -0.11551 0.38907 -0.10625 C 0.38629 -0.08056 0.38508 -0.05532 0.39532 -0.03333 C 0.39845 -0.02662 0.39845 -0.02222 0.40313 -0.01667 C 0.40747 -0.01157 0.41355 -0.01157 0.41876 -0.01042 C 0.42865 -0.01111 0.43855 -0.01134 0.44845 -0.0125 C 0.45591 -0.01343 0.46147 -0.02037 0.46876 -0.02292 C 0.47535 -0.03171 0.48369 -0.03611 0.49063 -0.04375 C 0.49549 -0.04907 0.49983 -0.05509 0.5047 -0.06042 C 0.51008 -0.06644 0.51008 -0.06343 0.51563 -0.07083 C 0.52449 -0.08264 0.51164 -0.07222 0.52501 -0.08125 C 0.53091 -0.0919 0.53785 -0.10718 0.5422 -0.11875 C 0.54428 -0.12431 0.54549 -0.13056 0.54845 -0.13542 C 0.55053 -0.13889 0.55296 -0.14213 0.5547 -0.14583 C 0.55921 -0.15579 0.55799 -0.16065 0.56407 -0.16875 C 0.56633 -0.17778 0.56928 -0.18403 0.57345 -0.19167 C 0.57692 -0.20556 0.58299 -0.22106 0.59063 -0.23125 C 0.59289 -0.24028 0.59723 -0.24491 0.60313 -0.25 C 0.60904 -0.26181 0.61442 -0.26921 0.62345 -0.27708 C 0.6257 -0.28148 0.62917 -0.28495 0.63126 -0.28958 C 0.6323 -0.29213 0.63178 -0.29537 0.63282 -0.29792 C 0.63595 -0.30602 0.63994 -0.31181 0.6422 -0.32083 C 0.64515 -0.34838 0.6474 -0.38287 0.62813 -0.4 C 0.62345 -0.40926 0.62084 -0.41019 0.61251 -0.4125 C 0.57084 -0.40741 0.58959 -0.40949 0.55626 -0.40625 C 0.53265 -0.4 0.50956 -0.38958 0.48595 -0.38333 C 0.47883 -0.3787 0.47501 -0.375 0.4672 -0.37292 C 0.46129 -0.36759 0.45713 -0.36644 0.45001 -0.36458 C 0.43855 -0.35694 0.42761 -0.35486 0.41563 -0.35 C 0.40869 -0.34722 0.39931 -0.34097 0.3922 -0.33958 C 0.38438 -0.33796 0.37657 -0.33819 0.36876 -0.3375 C 0.33768 -0.32361 0.30122 -0.32546 0.26876 -0.32292 C 0.21563 -0.32361 0.16251 -0.32315 0.10938 -0.325 C 0.08595 -0.32593 0.05608 -0.34861 0.04844 -0.37917 C 0.04931 -0.38542 0.04844 -0.39306 0.05157 -0.39792 C 0.054 -0.40162 0.05782 -0.40347 0.06095 -0.40625 C 0.06459 -0.40949 0.06789 -0.41389 0.07188 -0.41667 C 0.07865 -0.4213 0.08785 -0.42037 0.09532 -0.42292 C 0.1099 -0.42222 0.12605 -0.42755 0.13907 -0.41875 C 0.15417 -0.4088 0.16772 -0.39676 0.18126 -0.38333 C 0.18716 -0.37755 0.1882 -0.36991 0.19532 -0.36667 C 0.20157 -0.35625 0.20747 -0.35139 0.21407 -0.34167 C 0.21702 -0.33727 0.22345 -0.32917 0.22345 -0.32917 C 0.22692 -0.31528 0.2224 -0.33148 0.2297 -0.31458 C 0.23213 -0.30926 0.23334 -0.30301 0.23595 -0.29792 C 0.23699 -0.29583 0.23803 -0.29375 0.23907 -0.29167 C 0.2422 -0.27731 0.24497 -0.26204 0.24845 -0.24792 C 0.24792 -0.21597 0.24792 -0.18403 0.24688 -0.15208 C 0.24654 -0.14282 0.24393 -0.13403 0.2422 -0.125 C 0.24133 -0.12083 0.23907 -0.1125 0.23907 -0.1125 C 0.23733 -0.09352 0.23213 -0.07593 0.22345 -0.06042 C 0.22119 -0.04514 0.21494 -0.02106 0.20938 -0.00625 C 0.20383 0.0088 0.20869 -0.00995 0.20313 0.00833 C 0.19601 0.03171 0.1922 0.05463 0.18751 0.07917 C 0.18803 0.10764 0.18803 0.13611 0.18907 0.16458 C 0.18942 0.17245 0.19046 0.18102 0.19376 0.1875 C 0.19584 0.19167 0.20001 0.2 0.20001 0.2 C 0.20209 0.19931 0.20626 0.19792 0.20626 0.19792 E">
                                      <p:cBhvr>
                                        <p:cTn id="291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88 0.07825 C 0.02257 0.08866 0.02292 0.1125 0.02657 0.12408 C 0.02796 0.12871 0.03282 0.13658 0.03282 0.13658 C 0.03855 0.13588 0.04462 0.13704 0.05001 0.13473 C 0.05244 0.13357 0.05278 0.12871 0.05469 0.12616 C 0.06025 0.11875 0.06754 0.11227 0.07344 0.10533 C 0.07865 0.09908 0.08143 0.0919 0.0875 0.08681 C 0.08975 0.07662 0.09428 0.06644 0.09843 0.05741 C 0.10105 0.02686 0.10313 0.02362 0.09982 -0.01527 C 0.09982 -0.01805 0.09774 -0.01967 0.09687 -0.02175 C 0.09357 -0.02939 0.08975 -0.04166 0.08593 -0.04884 C 0.07605 -0.06597 0.07865 -0.05648 0.06876 -0.06967 C 0.06007 -0.08125 0.05035 -0.08912 0.04063 -0.09861 C 0.0382 -0.10092 0.03698 -0.10532 0.03438 -0.10694 C 0.02466 -0.11365 0.00955 -0.11805 -0.00156 -0.12175 C -0.08055 -0.11875 -0.03628 -0.12083 -0.075 -0.11342 C -0.08281 -0.10995 -0.09062 -0.10648 -0.09844 -0.10277 C -0.1099 -0.09768 -0.13438 -0.09861 -0.13438 -0.09861 C -0.1731 -0.08148 -0.21632 -0.09629 -0.25625 -0.10486 C -0.27396 -0.11689 -0.24879 -0.10069 -0.27188 -0.11111 C -0.2783 -0.11388 -0.28421 -0.11898 -0.29063 -0.12175 C -0.29775 -0.12893 -0.30504 -0.13217 -0.3125 -0.13842 C -0.32535 -0.14861 -0.3158 -0.14351 -0.325 -0.15277 C -0.33004 -0.15787 -0.33542 -0.16273 -0.34063 -0.16759 C -0.35296 -0.17916 -0.35417 -0.18634 -0.3625 -0.19861 C -0.38924 -0.23912 -0.39827 -0.29027 -0.40313 -0.34259 C -0.40244 -0.40439 -0.41112 -0.46157 -0.39532 -0.51759 C -0.3915 -0.55324 -0.38247 -0.58981 -0.37344 -0.62384 C -0.36563 -0.65254 -0.37205 -0.62338 -0.3625 -0.65486 C -0.3566 -0.67476 -0.3533 -0.69583 -0.34375 -0.71319 C -0.33716 -0.72569 -0.32761 -0.73333 -0.32032 -0.74467 C -0.30244 -0.77199 -0.29601 -0.79745 -0.26719 -0.80694 C -0.25921 -0.80416 -0.25938 -0.80694 -0.25938 -0.79259 C -0.25938 -0.73055 -0.25643 -0.75787 -0.26407 -0.72986 C -0.26962 -0.70995 -0.27379 -0.68796 -0.27813 -0.66736 C -0.28021 -0.65787 -0.28021 -0.64745 -0.28282 -0.63842 C -0.2915 -0.60648 -0.29844 -0.57638 -0.30157 -0.54259 C -0.30521 -0.50439 -0.30695 -0.46597 -0.31094 -0.428 C -0.3099 -0.39375 -0.30955 -0.35995 -0.30782 -0.32569 C -0.30678 -0.30648 -0.29601 -0.28726 -0.29219 -0.26967 C -0.28768 -0.24838 -0.28594 -0.24652 -0.27344 -0.23009 C -0.27136 -0.22708 -0.26997 -0.22268 -0.26719 -0.22175 C -0.25851 -0.21875 -0.25105 -0.21365 -0.24219 -0.21134 C -0.22813 -0.21388 -0.21389 -0.2155 -0.2 -0.21967 C -0.18681 -0.22361 -0.1882 -0.228 -0.1783 -0.23402 C -0.16303 -0.24328 -0.1481 -0.25347 -0.1375 -0.27175 C -0.12466 -0.29398 -0.11389 -0.3405 -0.10938 -0.36759 C -0.10782 -0.38726 -0.10504 -0.40601 -0.10313 -0.42592 C -0.10261 -0.44814 -0.10209 -0.47013 -0.10157 -0.49259 C -0.1 -0.575 -0.12587 -0.66921 -0.06563 -0.70925 C -0.0573 -0.70787 -0.04879 -0.70787 -0.04063 -0.70509 C -0.03854 -0.70439 -0.03768 -0.70046 -0.03594 -0.69884 C -0.02916 -0.6912 -0.025 -0.68425 -0.02031 -0.67384 C -0.02361 -0.60787 -0.02292 -0.59097 -0.03438 -0.5405 C -0.0481 -0.47986 -0.03785 -0.50486 -0.05 -0.47777 C -0.05381 -0.42731 -0.04792 -0.48888 -0.05781 -0.43402 C -0.0606 -0.41921 -0.06076 -0.40324 -0.06407 -0.38842 C -0.06563 -0.38148 -0.06718 -0.37453 -0.06874 -0.36759 C -0.07049 -0.34305 -0.07344 -0.31898 -0.075 -0.29444 C -0.07448 -0.26967 -0.07744 -0.24421 -0.07344 -0.21967 C -0.071 -0.20463 -0.0493 -0.17708 -0.04063 -0.1655 C -0.03628 -0.14259 -0.0276 -0.14143 -0.01094 -0.13842 C -0.00104 -0.13634 0.01876 -0.13425 0.01876 -0.13425 C 0.0375 -0.13541 0.05626 -0.13449 0.07501 -0.13842 C 0.08593 -0.1405 0.12396 -0.17175 0.12657 -0.17384 C 0.19619 -0.22777 0.21476 -0.32268 0.24376 -0.4155 C 0.24879 -0.45995 0.26216 -0.50115 0.27032 -0.54444 C 0.27188 -0.55277 0.27188 -0.56134 0.27344 -0.56944 C 0.28386 -0.62662 0.30157 -0.6905 0.33282 -0.73194 C 0.34185 -0.74421 0.36042 -0.74583 0.37188 -0.75092 C 0.37969 -0.74884 0.38785 -0.74861 0.39532 -0.74467 C 0.39827 -0.74305 0.40504 -0.72268 0.40626 -0.71944 C 0.41355 -0.70046 0.41806 -0.68449 0.42188 -0.66342 C 0.42292 -0.65694 0.42396 -0.65092 0.42501 -0.64444 C 0.42657 -0.63425 0.42969 -0.61342 0.42969 -0.61342 C 0.42813 -0.51203 0.42952 -0.4162 0.41719 -0.31759 C 0.41771 -0.278 0.41771 -0.23819 0.41876 -0.19861 C 0.41962 -0.16597 0.44115 -0.13125 0.45782 -0.10902 C 0.4606 -0.09467 0.46615 -0.0824 0.47188 -0.06967 C 0.47362 -0.06088 0.47587 -0.05439 0.47969 -0.04675 C 0.4816 -0.03449 0.48438 -0.0324 0.48751 -0.02175 C 0.48907 -0.0162 0.48872 -0.01203 0.49063 -0.00694 C 0.4981 0.01274 0.48889 -0.02037 0.49688 0.01158 C 0.4981 0.01644 0.50105 0.01991 0.50313 0.02408 C 0.50417 0.02616 0.50626 0.03033 0.50626 0.03033 C 0.50799 0.03982 0.51094 0.04769 0.51094 0.05741 E">
                                      <p:cBhvr>
                                        <p:cTn id="294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араграф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Підготувати повідомлення з тем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 група – “Правила тріад” німецького хіміка Й.В.Деберейне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 група – “Гвинтовий графік” французького геолога О.Е.Шанкурту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ІІ група – “Хвильовий графік” німецького хіміка Ю.Л.Мейєр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ІУ група – класифікація елементів американського хіміка Дж.Ньюлендс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rbel"/>
              </a:rPr>
              <a:t>У група – періодична система хімічних елементів Д.І.менделєє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602-D073-448A-833A-893E395E8D6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pic>
        <p:nvPicPr>
          <p:cNvPr id="385" name="Содержимое 3" descr="knigi-19.gif"/>
          <p:cNvPicPr/>
          <p:nvPr/>
        </p:nvPicPr>
        <p:blipFill>
          <a:blip r:embed="rId2"/>
          <a:stretch/>
        </p:blipFill>
        <p:spPr>
          <a:xfrm>
            <a:off x="1357200" y="3071880"/>
            <a:ext cx="5643720" cy="171432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4" descr=""/>
          <p:cNvPicPr/>
          <p:nvPr/>
        </p:nvPicPr>
        <p:blipFill>
          <a:blip r:embed="rId3"/>
          <a:stretch/>
        </p:blipFill>
        <p:spPr>
          <a:xfrm>
            <a:off x="1657440" y="3328920"/>
            <a:ext cx="4640040" cy="101124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5" descr="474015577.gif"/>
          <p:cNvPicPr/>
          <p:nvPr/>
        </p:nvPicPr>
        <p:blipFill>
          <a:blip r:embed="rId4"/>
          <a:stretch/>
        </p:blipFill>
        <p:spPr>
          <a:xfrm>
            <a:off x="3786120" y="1857240"/>
            <a:ext cx="1763640" cy="14288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7938-D62C-4B25-BBC5-D150C8937F0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ширити знання про хімічні елементи та їхні властивості на прикладі природних родин хімічних елементів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Розкрити залежність властивостей усередині груп лужних металів і галогенів від порядкового номеру елемент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50B5-6BF5-4E26-88EE-FDE46AA218F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rcRect l="13215" t="28519" r="9919" b="23632"/>
          <a:stretch/>
        </p:blipFill>
        <p:spPr>
          <a:xfrm>
            <a:off x="214200" y="3429000"/>
            <a:ext cx="8929800" cy="3125880"/>
          </a:xfrm>
          <a:prstGeom prst="rect">
            <a:avLst/>
          </a:prstGeom>
          <a:ln w="0">
            <a:noFill/>
          </a:ln>
        </p:spPr>
      </p:pic>
      <p:grpSp>
        <p:nvGrpSpPr>
          <p:cNvPr id="311" name="Группа 5"/>
          <p:cNvGrpSpPr/>
          <p:nvPr/>
        </p:nvGrpSpPr>
        <p:grpSpPr>
          <a:xfrm>
            <a:off x="0" y="-571680"/>
            <a:ext cx="9144000" cy="4508640"/>
            <a:chOff x="0" y="-571680"/>
            <a:chExt cx="9144000" cy="4508640"/>
          </a:xfrm>
        </p:grpSpPr>
        <p:pic>
          <p:nvPicPr>
            <p:cNvPr id="312" name="Picture 2" descr=""/>
            <p:cNvPicPr/>
            <p:nvPr/>
          </p:nvPicPr>
          <p:blipFill>
            <a:blip r:embed="rId2"/>
            <a:srcRect l="9335" t="31250" r="21487" b="33597"/>
            <a:stretch/>
          </p:blipFill>
          <p:spPr>
            <a:xfrm>
              <a:off x="0" y="741960"/>
              <a:ext cx="9144000" cy="20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548640" y="-571680"/>
              <a:ext cx="6467760" cy="450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Номер слайда 6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939-C25A-4C77-B746-8548379D9BB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7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73080" y="79200"/>
            <a:ext cx="8888400" cy="13352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Лужні метал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Галоген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Corbel"/>
              </a:rPr>
              <a:t>Інертні гази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003D-39AC-4A4F-973D-44825ACF8FA7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Елементи з яскраво вираженими металічними властивостям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rbel"/>
              </a:rPr>
              <a:t>Розташовані в І групі, головній підгрупі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2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5005440"/>
            <a:ext cx="7980120" cy="1322280"/>
          </a:xfrm>
          <a:prstGeom prst="rect">
            <a:avLst/>
          </a:prstGeom>
          <a:ln w="0">
            <a:noFill/>
          </a:ln>
        </p:spPr>
      </p:pic>
      <p:sp>
        <p:nvSpPr>
          <p:cNvPr id="323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9841-504A-4CDC-8062-EDB47EDFC23E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ижний колонтитул 6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1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270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13840" y="1571400"/>
            <a:ext cx="8286840" cy="4786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ильні  і слизькі на дотик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Типова валентність – І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М”які, легко ріжуться 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ножем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Легші за воду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У ряді </a:t>
            </a:r>
            <a:r>
              <a:rPr b="0" lang="en-US" sz="3300" spc="-1" strike="noStrike">
                <a:solidFill>
                  <a:srgbClr val="000000"/>
                </a:solidFill>
                <a:latin typeface="Corbel"/>
              </a:rPr>
              <a:t>Li, Na, K, Rb, Cs, Fr</a:t>
            </a: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 температура кипіння та плавлення зменшується, густина збільшується, активність підвищується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rbel"/>
              </a:rPr>
              <a:t>Добре реагує з </a:t>
            </a:r>
            <a:r>
              <a:rPr b="0" lang="uk-UA" sz="33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водою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570F-CC90-4612-B884-D2B2545FCBE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6" descr=""/>
          <p:cNvPicPr/>
          <p:nvPr/>
        </p:nvPicPr>
        <p:blipFill>
          <a:blip r:embed="rId1"/>
          <a:stretch/>
        </p:blipFill>
        <p:spPr>
          <a:xfrm>
            <a:off x="115920" y="-274680"/>
            <a:ext cx="8643960" cy="1890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9288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Типові неметал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Corbel"/>
              </a:rPr>
              <a:t>Розташовані в УІІ групі головній підгрупі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Прямоугольник 8" descr=""/>
          <p:cNvPicPr/>
          <p:nvPr/>
        </p:nvPicPr>
        <p:blipFill>
          <a:blip r:embed="rId2"/>
          <a:stretch/>
        </p:blipFill>
        <p:spPr>
          <a:xfrm>
            <a:off x="933480" y="4737240"/>
            <a:ext cx="6851520" cy="1590480"/>
          </a:xfrm>
          <a:prstGeom prst="rect">
            <a:avLst/>
          </a:prstGeom>
          <a:ln w="0">
            <a:noFill/>
          </a:ln>
        </p:spPr>
      </p:pic>
      <p:sp>
        <p:nvSpPr>
          <p:cNvPr id="332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0421-89EB-4DF1-97DF-F548D433662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231840" y="-6480"/>
            <a:ext cx="8504280" cy="1158840"/>
          </a:xfrm>
          <a:prstGeom prst="rect">
            <a:avLst/>
          </a:prstGeom>
          <a:ln w="0">
            <a:noFill/>
          </a:ln>
        </p:spPr>
      </p:pic>
      <p:pic>
        <p:nvPicPr>
          <p:cNvPr id="334" name="Содержимое 10" descr="chlorine-gas.gif"/>
          <p:cNvPicPr/>
          <p:nvPr/>
        </p:nvPicPr>
        <p:blipFill>
          <a:blip r:embed="rId2"/>
          <a:stretch/>
        </p:blipFill>
        <p:spPr>
          <a:xfrm>
            <a:off x="4572000" y="4357800"/>
            <a:ext cx="4040280" cy="2359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99680" y="1285560"/>
            <a:ext cx="8001000" cy="40719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Флуор – газ ясно-зеленого кольору, дуже отруйний, найактивніший неметал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rbel"/>
              </a:rPr>
              <a:t>Хлор – важкий газ зеленого кольору з різким запахом, отруйний, з воднем реагує повільно за нормальних умов, при нагріванні реакція супроводжується вибух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A1A0-3A6C-4BD3-AFBB-83591870A3D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2285640"/>
            <a:ext cx="8115480" cy="3840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Бром – важка темно-коричнева рідина, активний неметал. З воднем реагує тільки при нагріванні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rbel"/>
              </a:rPr>
              <a:t>Іод – темно-фіолетові кристали, найменш активний у ряді галогенів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3" descr="C:\Chemistry_8-11\08_28\react_01.files\image037.jpg"/>
          <p:cNvPicPr/>
          <p:nvPr/>
        </p:nvPicPr>
        <p:blipFill>
          <a:blip r:embed="rId1"/>
          <a:stretch/>
        </p:blipFill>
        <p:spPr>
          <a:xfrm>
            <a:off x="5429160" y="1429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Chemistry_8-11\08_28\react_01.files\image015.jpg"/>
          <p:cNvPicPr/>
          <p:nvPr/>
        </p:nvPicPr>
        <p:blipFill>
          <a:blip r:embed="rId2"/>
          <a:stretch/>
        </p:blipFill>
        <p:spPr>
          <a:xfrm>
            <a:off x="857160" y="142920"/>
            <a:ext cx="2857680" cy="2286000"/>
          </a:xfrm>
          <a:prstGeom prst="rect">
            <a:avLst/>
          </a:prstGeom>
          <a:ln w="0">
            <a:noFill/>
          </a:ln>
        </p:spPr>
      </p:pic>
      <p:sp>
        <p:nvSpPr>
          <p:cNvPr id="341" name="Номер слайда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2B0B-DFC8-4401-ABA3-8D5E637B81F4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0b5cc"/>
                                      </p:to>
                                    </p:animClr>
                                    <p:set>
                                      <p:cBhvr>
                                        <p:cTn id="192" dur="1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42:24Z</dcterms:modified>
  <cp:revision>36</cp:revision>
  <dc:subject/>
  <dc:title>Поняття про лужні метали, інертні елементи, галогени</dc:title>
</cp:coreProperties>
</file>