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3CA-111F-44C9-81ED-D66D61EC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D9B8-D549-4F18-AEBE-509A8188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26F7-1714-4A42-B4CC-0450BE3B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19C-7ABA-4110-8977-A5BA76F7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EF8E-D0AF-42DB-9377-B889FCA2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394-6FCD-40C9-826B-1F9F8253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1BF-163F-4364-8B2B-142F6D5B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C041-ADE0-46F3-900E-80CF4D9F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DCC-FE3E-48F1-B166-46BA21EF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38F-039C-4FE9-BFB2-D67D0B8E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21C-B17A-4BA1-9FD1-21D688F1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32A-EBDF-44A5-B005-937C02EC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B2FC-47E4-4391-95BA-AE921394FC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people.su/ua/118199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47;&#1072;&#1089;&#1090;&#1086;&#1089;&#1091;&#1074;&#1072;&#1085;&#1085;&#1103;" TargetMode="External"/><Relationship Id="rId2" Type="http://schemas.openxmlformats.org/officeDocument/2006/relationships/hyperlink" Target="http://uk.wikipedia.org/wiki/&#1047;&#1072;&#1089;&#1090;&#1086;&#1089;&#1091;&#1074;&#1072;&#1085;&#1085;&#1103;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іодичний закон і система хімічних елементів Д.І.Менделєєва. Будова атом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408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113280" cy="3663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етарна модель атома </a:t>
            </a:r>
            <a:br>
              <a:rPr sz="40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понована Резерфордом у 1909-1911 ро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8"/>
          <p:cNvSpPr/>
          <p:nvPr/>
        </p:nvSpPr>
        <p:spPr>
          <a:xfrm>
            <a:off x="5867280" y="1916280"/>
            <a:ext cx="1657440" cy="151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9"/>
          <p:cNvSpPr/>
          <p:nvPr/>
        </p:nvSpPr>
        <p:spPr>
          <a:xfrm>
            <a:off x="4643280" y="3573360"/>
            <a:ext cx="1657440" cy="1584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0"/>
          <p:cNvSpPr/>
          <p:nvPr/>
        </p:nvSpPr>
        <p:spPr>
          <a:xfrm>
            <a:off x="7093080" y="3573360"/>
            <a:ext cx="1582560" cy="151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6156360" y="234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4572000" y="4149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д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5"/>
          <p:cNvSpPr/>
          <p:nvPr/>
        </p:nvSpPr>
        <p:spPr>
          <a:xfrm flipV="1" rot="10800000">
            <a:off x="7020000" y="4105800"/>
            <a:ext cx="16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22"/>
          <p:cNvCxnSpPr/>
          <p:nvPr/>
        </p:nvCxnSpPr>
        <p:spPr>
          <a:xfrm flipH="1">
            <a:off x="5795640" y="3357720"/>
            <a:ext cx="505440" cy="358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23"/>
          <p:cNvCxnSpPr/>
          <p:nvPr/>
        </p:nvCxnSpPr>
        <p:spPr>
          <a:xfrm>
            <a:off x="7020000" y="3284640"/>
            <a:ext cx="521280" cy="365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2843280" y="5300640"/>
            <a:ext cx="2808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9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ова</a:t>
            </a: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них яд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2233440" cy="266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2232360" cy="2664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/>
          <p:cNvSpPr/>
          <p:nvPr/>
        </p:nvSpPr>
        <p:spPr>
          <a:xfrm flipH="1">
            <a:off x="394560" y="450864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20 році Резерфорд ввів поняття про позитивно заряджену частинку у складі ядра атома -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788000" y="450864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32 році Джеймс Чедвік виявив в ядрі атома нейтральну частинку -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тр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3780000" y="2421000"/>
            <a:ext cx="143964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рі Мозлі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71640" y="3284640"/>
            <a:ext cx="302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3816360" cy="3527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284360" y="134100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10-1914 працював в лабораторії Е.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Резерфор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Манчестерському університеті, в 1914 р. повернувся до Оксфордського університет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13 в серії блискучих експериментів встановив залежність між частотою спектральних ліній характеристичного рентгенівського випромінювання і атомним номером випромінюючого елемента. Це фундаментальне відкриття мало величезне значення для встановлення фізичного сенсу періодичної системи елементів і атомного номера, і для підтвердження правильності концепції планетарного ато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539640" y="260280"/>
            <a:ext cx="2016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4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визначення елементарного складу атомі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2232000" cy="2592360"/>
          </a:xfrm>
          <a:prstGeom prst="rect">
            <a:avLst/>
          </a:prstGeom>
          <a:ln w="0">
            <a:noFill/>
          </a:ln>
        </p:spPr>
      </p:pic>
      <p:cxnSp>
        <p:nvCxnSpPr>
          <p:cNvPr id="101" name="Прямая со стрелкой 10"/>
          <p:cNvCxnSpPr/>
          <p:nvPr/>
        </p:nvCxnSpPr>
        <p:spPr>
          <a:xfrm>
            <a:off x="2556000" y="2133360"/>
            <a:ext cx="57636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Прямая со стрелкой 12"/>
          <p:cNvCxnSpPr/>
          <p:nvPr/>
        </p:nvCxnSpPr>
        <p:spPr>
          <a:xfrm flipV="1">
            <a:off x="2195280" y="3860280"/>
            <a:ext cx="86436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15"/>
          <p:cNvSpPr/>
          <p:nvPr/>
        </p:nvSpPr>
        <p:spPr>
          <a:xfrm>
            <a:off x="179280" y="170028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на атомна  маса хімічного елемента 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онн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асове чис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250920" y="4076640"/>
            <a:ext cx="266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овий номер хімічного елемента – 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нн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5219640" y="1557360"/>
            <a:ext cx="37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яд ядра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 співпадає з порядковим номером хімічного елемента (протонним числом) і обумовлений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м протон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5940360" y="4221000"/>
            <a:ext cx="2808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5364000" y="328464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електронів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у протонів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кільки атом – електронейтральна част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0"/>
          <p:cNvSpPr/>
          <p:nvPr/>
        </p:nvSpPr>
        <p:spPr>
          <a:xfrm>
            <a:off x="5435640" y="494172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обчислити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нейтронів,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ід відняти від нуклонного числа кількість протон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2987640" y="4724280"/>
            <a:ext cx="216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ійна роб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Таблица 4" descr=""/>
          <p:cNvPicPr/>
          <p:nvPr/>
        </p:nvPicPr>
        <p:blipFill>
          <a:blip r:embed="rId1"/>
          <a:stretch/>
        </p:blipFill>
        <p:spPr>
          <a:xfrm>
            <a:off x="536400" y="1322280"/>
            <a:ext cx="7712280" cy="46278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468360" y="1413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, сим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"/>
          <p:cNvSpPr/>
          <p:nvPr/>
        </p:nvSpPr>
        <p:spPr>
          <a:xfrm>
            <a:off x="1403280" y="134136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і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2340000" y="1341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3059280" y="1341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яд я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3851280" y="1341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3"/>
          <p:cNvSpPr/>
          <p:nvPr/>
        </p:nvSpPr>
        <p:spPr>
          <a:xfrm>
            <a:off x="4788000" y="1341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.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5580000" y="1341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5"/>
          <p:cNvSpPr/>
          <p:nvPr/>
        </p:nvSpPr>
        <p:spPr>
          <a:xfrm>
            <a:off x="6443640" y="134136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7380360" y="134136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3924360" y="13413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.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8"/>
          <p:cNvSpPr/>
          <p:nvPr/>
        </p:nvSpPr>
        <p:spPr>
          <a:xfrm>
            <a:off x="539640" y="2060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ітро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9"/>
          <p:cNvSpPr/>
          <p:nvPr/>
        </p:nvSpPr>
        <p:spPr>
          <a:xfrm>
            <a:off x="539640" y="278136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ь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539640" y="3500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539640" y="4076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ьф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2"/>
          <p:cNvSpPr/>
          <p:nvPr/>
        </p:nvSpPr>
        <p:spPr>
          <a:xfrm>
            <a:off x="61128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3"/>
          <p:cNvSpPr/>
          <p:nvPr/>
        </p:nvSpPr>
        <p:spPr>
          <a:xfrm>
            <a:off x="539640" y="5373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6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итро Іванович Менделєє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628640"/>
            <a:ext cx="36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гадайт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у дату вважають “Днем народження” періодичного закону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було взято вченим за основу при створенні періодичного закону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юйте визначення періодичного закону</a:t>
            </a:r>
            <a:r>
              <a:rPr b="1" i="1" lang="uk-UA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60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084720" y="189000"/>
            <a:ext cx="2838600" cy="228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ова атома.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атомних ядер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0920" y="1916280"/>
            <a:ext cx="784836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 зможет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розуміти зміст понять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іоактивність, випромінювання, протонне та нуклонне числа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ізнатися про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откі відомості з історії розвитку наукових знань про будову атомів хімічних елементів, про фізичний зміст періодичного закон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досконалити навички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значати елементарний склад атомів хімічних елементів відповідно до їх положення в періодичній системі.</a:t>
            </a:r>
            <a:br>
              <a:rPr sz="2400"/>
            </a:b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539640" y="5516640"/>
            <a:ext cx="1944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6588000" y="907920"/>
            <a:ext cx="2221200" cy="1657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38880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гадайт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е визначення атома ви знаєте з уроків фізики, хімії, природознавст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е походження має слово “атом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було відомо про будову атома за часи Д.М.Менделєє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223200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789200" cy="1789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4859280" y="2708280"/>
            <a:ext cx="2378160" cy="180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5"/>
          <a:stretch/>
        </p:blipFill>
        <p:spPr>
          <a:xfrm>
            <a:off x="4067280" y="4724280"/>
            <a:ext cx="24494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уан Анрі Беккер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11280" y="1700280"/>
            <a:ext cx="47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896 році під час одного зі своїх чисельних дослідів французький фізик Антуан Беккерель  загорнув кристали сульфата ураніл-калію K2(UO2)(SO4)2 в чорний світлонепроникаючий папір і поклав на  фотоплівку. Після проявки на ній з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илися силуети кристалі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була відкрита здатність сполук урану випромінювати іонізуючі промені, які засвітлюють в темряві фотоплівку та спричиняють світіння речовин в темряві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60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3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р Кюрі і Марія Склодовська-Кюр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916280"/>
            <a:ext cx="3168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067280" y="1341360"/>
            <a:ext cx="4897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натично віддані своїй справі вчені, не маючи навіть лабораторії, працюючи в невеличкому сараї на вулиці Ломон в Парижі з 1898 по 1902 роки переробили понад 8 тонн уранової руди, щоб добути одну соту грама нової речовини — Раді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03 році за відкриття радіоактивності подружжя отримало Нобелівську премію з фіз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зніше був відкритий новий елемент названий на честь батьківщини Марії  - Полонієм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1911 році, вже після смерті  чоловіка, Марія Кюрі здобула Нобелівську премію вдруге – за відкриття нових хімічних елементів: Полонію та Раді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816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озеф Джон Томс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ький вчений Джозеф  Томсон у 1906 році також отримав Нобелівську премію за відкриття електрона, існування якого передбачив ще у 1897 році. Але модель атома, запропонована вченим у 1903 році, в якій «електрони, наче родзинки в кексі, рівномірно розподіляються в позитивно зарядженій субстанції», не була досконалою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800160" cy="4508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7236000" y="0"/>
            <a:ext cx="1657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нест Резерфор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40000" y="1483920"/>
            <a:ext cx="4546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нест Резерфорд вважається найбільшим фізиком-експериментатором двадцятого сторіччя. Він є людиною, яка поклала початок ядерній фізиці. Крім свого величезного теоретичного значення, його відкриття отримали широкий спектр 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застосуван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ня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ючи, ядерну зброю, атомні електростанції, радіоактивні обчислення і дослідження радіації. Вплив праць Резерфорда на світ величезний. Воно продовжує рости і, схоже, ще збільшиться в майбутньому. У 1908 р. ученого нагородили Нобелівською премією за дослідження різних видів радіоактивності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3598920" cy="482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4"/>
          <a:stretch/>
        </p:blipFill>
        <p:spPr>
          <a:xfrm>
            <a:off x="7451640" y="189000"/>
            <a:ext cx="142884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6:52:34Z</dcterms:created>
  <dc:creator>Дмитрий Каленюк</dc:creator>
  <dc:description/>
  <dc:language>en-US</dc:language>
  <cp:lastModifiedBy>Александра</cp:lastModifiedBy>
  <dcterms:modified xsi:type="dcterms:W3CDTF">2019-09-21T18:43:43Z</dcterms:modified>
  <cp:revision>93</cp:revision>
  <dc:subject/>
  <dc:title>Будова атома:ядро й електронні оболонки</dc:title>
</cp:coreProperties>
</file>