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28A-7CCF-4614-9054-51DB460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A44-9A58-4BA2-8CEA-FD403DE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315-5352-4A17-A2B2-4107A4E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A92-E787-43F2-8D87-C1C09B9D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B5A-B61C-4C2C-A2BF-42541A16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257-E99E-42FC-A4D9-611D6B6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15D-7D32-4480-A42E-57F1F7C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257-F82A-44D1-B065-2960A23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F91-BA05-451B-94D0-4B7CF5BA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C65-9E01-4A4C-9396-756B73A2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4BA-F262-4311-B0AD-3403A73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327-13FA-436F-9ED6-F946701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7771-A9C3-409C-9AC3-1F930BB0A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eople.su/ua/118199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72;&#1089;&#1090;&#1086;&#1089;&#1091;&#1074;&#1072;&#1085;&#1085;&#1103;" TargetMode="External"/><Relationship Id="rId2" Type="http://schemas.openxmlformats.org/officeDocument/2006/relationships/hyperlink" Target="http://uk.wikipedia.org/wiki/&#1047;&#1072;&#1089;&#1090;&#1086;&#1089;&#1091;&#1074;&#1072;&#1085;&#1085;&#1103;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ичний закон і система хімічних елементів Д.І.Менделєєва. Будова ат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113280" cy="3663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рна модель атома </a:t>
            </a:r>
            <a:br>
              <a:rPr sz="4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понована Резерфордом у 1909-1911 ро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8"/>
          <p:cNvSpPr/>
          <p:nvPr/>
        </p:nvSpPr>
        <p:spPr>
          <a:xfrm>
            <a:off x="5867280" y="1916280"/>
            <a:ext cx="16574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4643280" y="3573360"/>
            <a:ext cx="1657440" cy="158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7093080" y="3573360"/>
            <a:ext cx="1582560" cy="151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15636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7200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 flipV="1" rot="10800000">
            <a:off x="7020000" y="410580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22"/>
          <p:cNvCxnSpPr/>
          <p:nvPr/>
        </p:nvCxnSpPr>
        <p:spPr>
          <a:xfrm flipH="1">
            <a:off x="5795640" y="3357720"/>
            <a:ext cx="50544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/>
          <p:nvPr/>
        </p:nvCxnSpPr>
        <p:spPr>
          <a:xfrm>
            <a:off x="7020000" y="3284640"/>
            <a:ext cx="521280" cy="365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843280" y="5300640"/>
            <a:ext cx="280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их я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23236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flipH="1">
            <a:off x="394560" y="4508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20 році Резерфорд ввів поняття про позитивно заряджену частинку у складі ядра атома -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88000" y="4508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32 році Джеймс Чедвік виявив в ядрі атома нейтральну частинку -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780000" y="2421000"/>
            <a:ext cx="1439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і Мозлі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328464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0-1914 працював в лабораторії Е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Резерфор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нчестерському університеті, в 1914 р. повернувся до Оксфордського університ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3 в серії блискучих експериментів встановив залежність між частотою спектральних ліній характеристичного рентгенівського випромінювання і атомним номером випромінюючого елемента. Це фундаментальне відкриття мало величезне значення для встановлення фізичного сенсу періодичної системи елементів і атомного номера, і для підтвердження правильності концепції планетарного ато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изначення елементарного складу атом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232000" cy="259236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10"/>
          <p:cNvCxnSpPr/>
          <p:nvPr/>
        </p:nvCxnSpPr>
        <p:spPr>
          <a:xfrm>
            <a:off x="2556000" y="2133360"/>
            <a:ext cx="576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 flipV="1">
            <a:off x="2195280" y="3860280"/>
            <a:ext cx="8643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5"/>
          <p:cNvSpPr/>
          <p:nvPr/>
        </p:nvSpPr>
        <p:spPr>
          <a:xfrm>
            <a:off x="17928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а атомна  маса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сов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250920" y="407664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ий номер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219640" y="155736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співпадає з порядковим номером хімічного елемента (протонним числом) і обумовлений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м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940360" y="4221000"/>
            <a:ext cx="280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364000" y="32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електрон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у протон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атом – електронейтральна ч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5435640" y="494172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обчислит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ів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ід відняти від нуклонного числа кількість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7712280" cy="4627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468360" y="141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,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403280" y="1341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340000" y="134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059280" y="134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85128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78800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558000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44364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7380360" y="1341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392436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539640" y="20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тр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39640" y="27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539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39640" y="40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611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53964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о Іванович Менделєє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62864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дату вважають “Днем народження”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зято вченим за основу при створенні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юйте визначення періодичного закону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38600" cy="22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 атома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атомних яде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 зможе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розуміти зміст понят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активність, випромінювання, протонне та нуклонне числа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ізнатися про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ткі відомості з історії розвитку наукових знань про будову атомів хімічних елементів, про фізичний зміст періодичного закон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досконалити навички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ати елементарний склад атомів хімічних елементів відповідно до їх положення в періодичній системі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221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визначення атома ви знаєте з уроків фізики, хімії, природознав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походження має слово “атом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ідомо про будову атома за часи Д.М.Менделєє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789200" cy="178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237816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4067280" y="4724280"/>
            <a:ext cx="2449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Анрі Бекке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280" y="170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896 році під час одного зі своїх чисельних дослідів французький фізик Антуан Беккерель  загорнув кристали сульфата ураніл-калію K2(UO2)(SO4)2 в чорний світлонепроникаючий папір і поклав на  фотоплівку. Після проявки на ній 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ися силуети криста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ула відкрита здатність сполук урану випромінювати іонізуючі промені, які засвітлюють в темряві фотоплівку та спричиняють світіння речовин в темряв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р Кюрі і Марія Склодовська-Кюр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916280"/>
            <a:ext cx="3168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7280" y="1341360"/>
            <a:ext cx="489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атично віддані своїй справі вчені, не маючи навіть лабораторії, працюючи в невеличкому сараї на вулиці Ломон в Парижі з 1898 по 1902 роки переробили понад 8 тонн уранової руди, щоб добути одну соту грама нової речовини — Ра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3 році за відкриття радіоактивності подружжя отримало Нобелівську премію з фіз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зніше був відкритий новий елемент названий на честь батьківщини Марії  - Полоніє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1 році, вже після смерті  чоловіка, Марія Кюрі здобула Нобелівську премію вдруге – за відкриття нових хімічних елементів: Полонію та Раді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зеф Джон Том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ький вчений Джозеф  Томсон у 1906 році також отримав Нобелівську премію за відкриття електрона, існування якого передбачив ще у 1897 році. Але модель атома, запропонована вченим у 1903 році, в якій «електрони, наче родзинки в кексі, рівномірно розподіляються в позитивно зарядженій субстанції», не була досконало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001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236000" y="0"/>
            <a:ext cx="165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0000" y="1483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 вважається найбільшим фізиком-експериментатором двадцятого сторіччя. Він є людиною, яка поклала початок ядерній фізиці. Крім свого величезного теоретичного значення, його відкриття отримали широкий спектр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стосуван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ня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, ядерну зброю, атомні електростанції, радіоактивні обчислення і дослідження радіації. Вплив праць Резерфорда на світ величезний. Воно продовжує рости і, схоже, ще збільшиться в майбутньому. У 1908 р. ученого нагородили Нобелівською премією за дослідження різних видів радіоактивност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9892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6:52:34Z</dcterms:created>
  <dc:creator>Дмитрий Каленюк</dc:creator>
  <dc:description/>
  <dc:language>en-US</dc:language>
  <cp:lastModifiedBy>Александра</cp:lastModifiedBy>
  <dcterms:modified xsi:type="dcterms:W3CDTF">2019-09-21T18:43:43Z</dcterms:modified>
  <cp:revision>93</cp:revision>
  <dc:subject/>
  <dc:title>Будова атома:ядро й електронні оболонки</dc:title>
</cp:coreProperties>
</file>