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7341-4B4F-45A3-90F9-6BD4A375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BBC-4352-457E-BCE2-AACA9F0B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AF0-1A91-40A8-9661-62564F9C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ABA-1C0E-4EAE-BB71-7113D43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8132-669D-48D2-8CAE-C0CE43F2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BF28-6A55-4DE4-AD8D-E40D712A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C5C0-48D0-4925-A24C-E955F258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29DA-97C3-45B0-A3A4-663C7377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9F8-DDB8-494D-8A3C-09133F4B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B74-4787-410D-90AE-50516F3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A30C-DAD9-4420-BC78-F17B1C8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4D8-C3A4-4297-ADF1-65CD7315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F3B6-0D5A-4B03-AB87-996D46E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1AC7-1B9F-4FF7-8449-FAFD630F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91D-029A-4F72-87D2-5233E6E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9B95-ACA2-4637-9161-902EC0D2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5948-EE60-4C91-8F95-D7C5BFF8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C889-3CE7-4473-9122-4A333B14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98B6A-50C2-4DC3-9866-19EB51DF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01BC4-7E50-40C3-8F7C-3DFAB010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A4BB-2344-4F9C-B558-610C93D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2CC3-DF34-4338-BAC4-F26CFA51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3FCB-7AD5-437A-BC0B-AD932EBE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B0E7-C7FE-450E-929C-0A31EFDF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EA3D-ACE4-4953-A2D9-1A87AC35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66EF8-49F4-4E4D-9804-B3C14162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F36F-4956-41C7-B5FC-46930D93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408B-DC6A-4268-834A-D47EEEEF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E271-9689-4A3B-92B5-AA96E384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180D-DB25-4D86-B0C6-50CDA184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CEA5-2A86-4CAB-BB77-68A5A735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0E4D0-C777-4054-BA15-6C740615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51535-B845-43C3-84F3-350E6599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5CEE-E044-4C39-8146-C9FEB20E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79688-8297-4620-B62D-7633646E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F141-5666-4F9A-BA07-C828C93D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9B1A1-27CC-4594-9C84-0A350287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20754-D732-466F-A3CB-A4F16B07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F68CB-4B72-47BA-9ADF-1E4C59DA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DFF87-C2F9-47EA-A147-601F2843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D7EE-6AE8-4C73-8B59-4FAE3AE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85FE-A0CF-40B8-888A-D4A300810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D2CA-913A-4A9D-A236-DDA47574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5168-564D-4A05-9BF3-A27EBBB77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140-6082-44A2-8D46-33EFDD12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75D3-F869-4404-94AC-02A16FDB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AA70-D438-47C4-8FB8-4230821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3FF34-F025-463E-AC71-8CA72CB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918F-6E3C-475E-97C8-5E3111D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FE6F-8F22-40A2-BF50-64E10B70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651D-8684-4272-854A-B78B9337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F9B74-61D0-4604-91BC-B45168DC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5720D-7AA8-4700-BF4D-9AE7F25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4BB56-4EF1-49E5-964D-5A68DDED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439C-049B-41C3-ADDD-80A8EF85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31FC-0E4C-4CD4-AFD7-E8980C7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5DB0-4342-449C-B11D-EBE85FE08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362-8DF1-41EB-8E73-ED20643F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535-F6E2-4669-AD59-A418366F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557-B50C-4F6E-895A-5420DE8E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C589-2EAA-45E0-88B6-80060D78E2CF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A7EB-CC90-4CAF-9E6E-F5D1F45371D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CA31-7B61-4C35-AF0A-2B2DED1B3486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A335-AE73-4E27-9C20-34071B927F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201A-EC07-4A1B-A676-F0B90A63FAB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3AA4-A317-4CD2-ACE6-3B9EEC1A98E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B9E6-E60D-403F-96A1-C82C2D4200E2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C3542-E879-4B8D-937C-2D15A938E02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8533-8B21-4DA7-880B-BC357BB730DE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B72-0437-4117-9ECB-D6E9A742456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9_04/inter_01.swf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Calibri"/>
              </a:rPr>
              <a:t>Стан електронів у атом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786120" y="378612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3448-3EA4-4278-A42A-77E9C42FFCD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Рамка 3"/>
          <p:cNvSpPr/>
          <p:nvPr/>
        </p:nvSpPr>
        <p:spPr>
          <a:xfrm>
            <a:off x="2357280" y="1214280"/>
            <a:ext cx="4143600" cy="3571920"/>
          </a:xfrm>
          <a:custGeom>
            <a:avLst/>
            <a:gdLst>
              <a:gd name="textAreaLeft" fmla="*/ 446400 w 4143600"/>
              <a:gd name="textAreaRight" fmla="*/ 3697200 w 4143600"/>
              <a:gd name="textAreaTop" fmla="*/ 446400 h 3571920"/>
              <a:gd name="textAreaBottom" fmla="*/ 3125520 h 3571920"/>
            </a:gdLst>
            <a:ahLst/>
            <a:rect l="textAreaLeft" t="textAreaTop" r="textAreaRight" b="textAreaBottom"/>
            <a:pathLst>
              <a:path w="4143375" h="3571875">
                <a:moveTo>
                  <a:pt x="0" y="0"/>
                </a:moveTo>
                <a:lnTo>
                  <a:pt x="4143375" y="0"/>
                </a:lnTo>
                <a:lnTo>
                  <a:pt x="4143375" y="3571875"/>
                </a:lnTo>
                <a:lnTo>
                  <a:pt x="0" y="3571875"/>
                </a:lnTo>
                <a:close/>
                <a:moveTo>
                  <a:pt x="446484" y="446484"/>
                </a:moveTo>
                <a:lnTo>
                  <a:pt x="446484" y="3125391"/>
                </a:lnTo>
                <a:lnTo>
                  <a:pt x="3696891" y="3125391"/>
                </a:lnTo>
                <a:lnTo>
                  <a:pt x="3696891" y="44648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4"/>
          <p:cNvSpPr/>
          <p:nvPr/>
        </p:nvSpPr>
        <p:spPr>
          <a:xfrm>
            <a:off x="4643280" y="2143080"/>
            <a:ext cx="785880" cy="17146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5"/>
          <p:cNvSpPr/>
          <p:nvPr/>
        </p:nvSpPr>
        <p:spPr>
          <a:xfrm rot="10800000">
            <a:off x="3357720" y="2071800"/>
            <a:ext cx="785520" cy="17143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BC12-164C-4CCD-95F8-5E9E09E0CFC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нергетичний рівень (електронний шар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3871800" y="285840"/>
            <a:ext cx="52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0000"/>
                </a:solidFill>
                <a:latin typeface="Calibri"/>
              </a:rPr>
              <a:t>Підрівень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 …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d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0656-4AA2-4092-B99B-F8310AB2BD3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озподіл електронів за енергетичними рівням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390680"/>
            <a:ext cx="5290920" cy="11700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4" descr=""/>
          <p:cNvPicPr/>
          <p:nvPr/>
        </p:nvPicPr>
        <p:blipFill>
          <a:blip r:embed="rId3"/>
          <a:stretch/>
        </p:blipFill>
        <p:spPr>
          <a:xfrm>
            <a:off x="6145200" y="1139760"/>
            <a:ext cx="105408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1000080" y="264312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На першому рівні максимум може бути 2 * 1 = 2 електрон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Заповнення електронам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4"/>
          <a:stretch/>
        </p:blipFill>
        <p:spPr>
          <a:xfrm>
            <a:off x="4138560" y="3011400"/>
            <a:ext cx="566640" cy="4809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257184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42916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10800000">
            <a:off x="271476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10"/>
          <p:cNvSpPr/>
          <p:nvPr/>
        </p:nvSpPr>
        <p:spPr>
          <a:xfrm rot="10800000">
            <a:off x="550080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11"/>
          <p:cNvSpPr/>
          <p:nvPr/>
        </p:nvSpPr>
        <p:spPr>
          <a:xfrm>
            <a:off x="5929200" y="478620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29"/>
          <p:cNvGrpSpPr/>
          <p:nvPr/>
        </p:nvGrpSpPr>
        <p:grpSpPr>
          <a:xfrm>
            <a:off x="1428840" y="4500720"/>
            <a:ext cx="1014480" cy="1066680"/>
            <a:chOff x="1428840" y="4500720"/>
            <a:chExt cx="1014480" cy="1066680"/>
          </a:xfrm>
        </p:grpSpPr>
        <p:pic>
          <p:nvPicPr>
            <p:cNvPr id="340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1428840" y="4500720"/>
              <a:ext cx="974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963800" y="4517280"/>
              <a:ext cx="479520" cy="60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Группа 30"/>
          <p:cNvGrpSpPr/>
          <p:nvPr/>
        </p:nvGrpSpPr>
        <p:grpSpPr>
          <a:xfrm>
            <a:off x="4357800" y="4572000"/>
            <a:ext cx="942840" cy="995400"/>
            <a:chOff x="4357800" y="4572000"/>
            <a:chExt cx="942840" cy="995400"/>
          </a:xfrm>
        </p:grpSpPr>
        <p:pic>
          <p:nvPicPr>
            <p:cNvPr id="343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4357800" y="4572000"/>
              <a:ext cx="94284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4829400" y="4650120"/>
              <a:ext cx="463680" cy="56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Прямоугольник 16" descr=""/>
          <p:cNvPicPr/>
          <p:nvPr/>
        </p:nvPicPr>
        <p:blipFill>
          <a:blip r:embed="rId9"/>
          <a:stretch/>
        </p:blipFill>
        <p:spPr>
          <a:xfrm>
            <a:off x="208080" y="5662440"/>
            <a:ext cx="3541680" cy="8906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7" descr=""/>
          <p:cNvPicPr/>
          <p:nvPr/>
        </p:nvPicPr>
        <p:blipFill>
          <a:blip r:embed="rId10"/>
          <a:stretch/>
        </p:blipFill>
        <p:spPr>
          <a:xfrm>
            <a:off x="3297240" y="6072120"/>
            <a:ext cx="2494080" cy="60336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8" descr=""/>
          <p:cNvPicPr/>
          <p:nvPr/>
        </p:nvPicPr>
        <p:blipFill>
          <a:blip r:embed="rId11"/>
          <a:stretch/>
        </p:blipFill>
        <p:spPr>
          <a:xfrm>
            <a:off x="5924520" y="5145120"/>
            <a:ext cx="3225960" cy="1463760"/>
          </a:xfrm>
          <a:prstGeom prst="rect">
            <a:avLst/>
          </a:prstGeom>
          <a:ln w="0">
            <a:noFill/>
          </a:ln>
        </p:spPr>
      </p:pic>
      <p:cxnSp>
        <p:nvCxnSpPr>
          <p:cNvPr id="348" name="Прямая со стрелкой 20"/>
          <p:cNvCxnSpPr/>
          <p:nvPr/>
        </p:nvCxnSpPr>
        <p:spPr>
          <a:xfrm flipV="1">
            <a:off x="3571560" y="5285880"/>
            <a:ext cx="857880" cy="5724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49" name="Прямая со стрелкой 23"/>
          <p:cNvCxnSpPr/>
          <p:nvPr/>
        </p:nvCxnSpPr>
        <p:spPr>
          <a:xfrm flipV="1">
            <a:off x="4928040" y="5358600"/>
            <a:ext cx="2520" cy="8578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/>
          <p:nvPr/>
        </p:nvCxnSpPr>
        <p:spPr>
          <a:xfrm flipH="1" flipV="1">
            <a:off x="5285520" y="5000040"/>
            <a:ext cx="1415160" cy="4942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51" name="Номер слайда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07B4-2C2E-48B2-9872-B7B30AED53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ижний колонтитул 2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Други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Може вмістити максимум 2 * 2  = 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Електронна формула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другого енергетичного рівн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2s 2p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2084400"/>
            <a:ext cx="567000" cy="4827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4" descr=""/>
          <p:cNvPicPr/>
          <p:nvPr/>
        </p:nvPicPr>
        <p:blipFill>
          <a:blip r:embed="rId2"/>
          <a:stretch/>
        </p:blipFill>
        <p:spPr>
          <a:xfrm>
            <a:off x="4327560" y="4267080"/>
            <a:ext cx="75708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5" descr=""/>
          <p:cNvPicPr/>
          <p:nvPr/>
        </p:nvPicPr>
        <p:blipFill>
          <a:blip r:embed="rId3"/>
          <a:stretch/>
        </p:blipFill>
        <p:spPr>
          <a:xfrm>
            <a:off x="5473800" y="426708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358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B62-B923-44B3-B146-2DE46B011C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Треті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Вміщує не більше                     2 * 3  = 1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mbria"/>
              </a:rPr>
              <a:t>Самостійно скласти електронну формулу третього енергетичного рівня!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1944720"/>
            <a:ext cx="566640" cy="4809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"/>
          <p:cNvGrpSpPr/>
          <p:nvPr/>
        </p:nvGrpSpPr>
        <p:grpSpPr>
          <a:xfrm>
            <a:off x="2143080" y="5000760"/>
            <a:ext cx="5214960" cy="1446120"/>
            <a:chOff x="2143080" y="5000760"/>
            <a:chExt cx="5214960" cy="1446120"/>
          </a:xfrm>
        </p:grpSpPr>
        <p:pic>
          <p:nvPicPr>
            <p:cNvPr id="3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43080" y="5000760"/>
              <a:ext cx="514332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285360" y="5135760"/>
              <a:ext cx="7725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24440" y="5205960"/>
              <a:ext cx="722880" cy="5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458760" y="5145840"/>
              <a:ext cx="8992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97DC-CF4A-40A6-9ABB-BC3CF5160A4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371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7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8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9" descr=""/>
          <p:cNvPicPr/>
          <p:nvPr/>
        </p:nvPicPr>
        <p:blipFill>
          <a:blip r:embed="rId6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0" descr=""/>
          <p:cNvPicPr/>
          <p:nvPr/>
        </p:nvPicPr>
        <p:blipFill>
          <a:blip r:embed="rId7"/>
          <a:stretch/>
        </p:blipFill>
        <p:spPr>
          <a:xfrm>
            <a:off x="5851440" y="3181320"/>
            <a:ext cx="2719440" cy="7444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1" descr=""/>
          <p:cNvPicPr/>
          <p:nvPr/>
        </p:nvPicPr>
        <p:blipFill>
          <a:blip r:embed="rId8"/>
          <a:stretch/>
        </p:blipFill>
        <p:spPr>
          <a:xfrm>
            <a:off x="5657760" y="4108320"/>
            <a:ext cx="35528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870-67E8-44E4-9FE8-BC9B0ED8784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alibri"/>
              </a:rPr>
              <a:t>Бліц-турнір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визначити кількість електронів у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Де розподіляються електрони в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і форми мають електронні орбітал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розподіляються електрони в атомі на різних енергетичних рівнях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D48C-E454-4B3F-965A-35B0D24D7F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1285920" y="621504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Дякую за урок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14360" y="4786200"/>
            <a:ext cx="48574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mbria"/>
              </a:rPr>
              <a:t>До побачення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87" name="Рисунок 3" descr="417125663.gif"/>
          <p:cNvPicPr/>
          <p:nvPr/>
        </p:nvPicPr>
        <p:blipFill>
          <a:blip r:embed="rId1"/>
          <a:stretch/>
        </p:blipFill>
        <p:spPr>
          <a:xfrm>
            <a:off x="3492360" y="1566720"/>
            <a:ext cx="2036880" cy="20354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562B-2C25-48AD-B55A-0F5BE36941A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ижний колонтитул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96464"/>
                </a:solidFill>
                <a:latin typeface="Calibri"/>
              </a:rPr>
              <a:t>Цілі уроку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Ознайомити з рухом електронів у атомах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Увести поняття електронна орбіталь, енергетичний рівень, квантові числа, напрямок орбіталі в просторі, спін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казати двоїсту природу електрон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яснити відмінність між хімічною та ядерною реакція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474F-E392-43C8-8F44-7FC5DAC74B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6"/>
          <a:stretch/>
        </p:blipFill>
        <p:spPr>
          <a:xfrm>
            <a:off x="6845400" y="3395520"/>
            <a:ext cx="46332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7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8"/>
          <a:stretch/>
        </p:blipFill>
        <p:spPr>
          <a:xfrm>
            <a:off x="6918480" y="4541760"/>
            <a:ext cx="463320" cy="4381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C179-6951-43A4-A587-FC8F7DF7097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220px-Atome_de_Rutherford.png"/>
          <p:cNvPicPr/>
          <p:nvPr/>
        </p:nvPicPr>
        <p:blipFill>
          <a:blip r:embed="rId1"/>
          <a:stretch/>
        </p:blipFill>
        <p:spPr>
          <a:xfrm>
            <a:off x="2066760" y="1066680"/>
            <a:ext cx="4437360" cy="429732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6"/>
          <p:cNvSpPr/>
          <p:nvPr/>
        </p:nvSpPr>
        <p:spPr>
          <a:xfrm>
            <a:off x="292896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35780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2643120" y="3500280"/>
            <a:ext cx="357120" cy="357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3214800" y="321480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0"/>
          <p:cNvSpPr/>
          <p:nvPr/>
        </p:nvSpPr>
        <p:spPr>
          <a:xfrm>
            <a:off x="5929200" y="378612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4643280" y="435780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Прямоугольник 12" descr=""/>
          <p:cNvPicPr/>
          <p:nvPr/>
        </p:nvPicPr>
        <p:blipFill>
          <a:blip r:embed="rId2"/>
          <a:stretch/>
        </p:blipFill>
        <p:spPr>
          <a:xfrm>
            <a:off x="4406760" y="-334800"/>
            <a:ext cx="6035760" cy="556560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3A0A-B941-4310-9A58-21EA7EEFBC6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7.40741E-007 C -0.00938 0.02523 -0.0224 0.07337 -0.0257 0.10509 C -0.029 0.1368 -0.02171 0.16782 -0.01962 0.19004 C -0.01754 0.21226 -0.02188 0.20925 -0.01355 0.23842 C -0.00521 0.26759 0.0144 0.33379 0.03038 0.36574 C 0.04635 0.39768 0.05954 0.41157 0.08176 0.43032 C 0.10399 0.44907 0.13715 0.47824 0.16371 0.47893 C 0.19027 0.47962 0.22152 0.45648 0.24097 0.43449 C 0.26041 0.4125 0.27274 0.38009 0.28038 0.34745 C 0.28801 0.31481 0.28801 0.27337 0.28645 0.23842 C 0.28489 0.20347 0.27968 0.17013 0.27117 0.1375 C 0.26267 0.10486 0.24878 0.06967 0.23489 0.04236 C 0.221 0.01504 0.20295 -0.00996 0.18784 -0.02616 C 0.17274 -0.04237 0.16232 -0.0463 0.14392 -0.0544 C 0.12551 -0.0625 0.09617 -0.07616 0.07725 -0.07477 C 0.05833 -0.07338 0.04322 -0.05903 0.03038 -0.04653 C 0.01753 -0.03403 0.00937 -0.02524 -6.66667E-006 7.40741E-007 Z">
                                      <p:cBhvr>
                                        <p:cTn id="89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0.02327 0.0037 -0.03386 0.01666 -0.05295 0.02824 C -0.07205 0.03981 -0.09549 0.05254 -0.11511 0.06875 C -0.13472 0.08495 -0.15347 0.10138 -0.17118 0.12523 C -0.18889 0.14907 -0.21129 0.18634 -0.22118 0.21226 C -0.23108 0.23819 -0.23247 0.25833 -0.23021 0.28078 C -0.22795 0.30324 -0.2224 0.33032 -0.20747 0.34745 C -0.19254 0.36458 -0.16702 0.3787 -0.1408 0.38379 C -0.11459 0.38888 -0.08056 0.38611 -0.05 0.37777 C -0.01945 0.36944 0.01458 0.35416 0.04253 0.33333 C 0.07048 0.3125 0.09826 0.27986 0.11823 0.25254 C 0.13819 0.22523 0.15364 0.19537 0.16215 0.16967 C 0.17066 0.14398 0.17274 0.12129 0.16979 0.09907 C 0.16684 0.07685 0.15781 0.05185 0.14392 0.03634 C 0.13003 0.02083 0.11024 0.01134 0.08646 0.00601 C 0.06267 0.00069 0.02326 -0.00371 -5.55556E-007 7.40741E-007 Z">
                                      <p:cBhvr>
                                        <p:cTn id="91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0.01458 -0.03982 0.01441 -0.0787 0.01371 -0.11528 C 0.01302 -0.15185 0.00625 -0.18727 -0.00452 -0.22014 C -0.01528 -0.25301 -0.0349 -0.28866 -0.05139 -0.31319 C -0.06788 -0.33773 -0.08021 -0.3537 -0.10295 -0.36759 C -0.1257 -0.38148 -0.1599 -0.39329 -0.18785 -0.39607 C -0.2158 -0.39884 -0.24358 -0.3963 -0.27118 -0.3838 C -0.29879 -0.3713 -0.32969 -0.35394 -0.35295 -0.3213 C -0.37622 -0.28866 -0.40278 -0.24213 -0.41059 -0.18796 C -0.4184 -0.1338 -0.41337 -0.04583 -0.4 0.00393 C -0.38663 0.0537 -0.35955 0.08241 -0.33021 0.11111 C -0.30087 0.13981 -0.26684 0.17361 -0.22413 0.17569 C -0.18143 0.17778 -0.11146 0.15324 -0.07413 0.12315 C -0.03681 0.09306 -0.01459 0.03981 3.88889E-006 -3.7037E-007 Z">
                                      <p:cBhvr>
                                        <p:cTn id="93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C 0.00729 -0.03935 0.0125 -0.10602 0.01371 -0.15764 C 0.01493 -0.20926 0.01441 -0.25949 0.00764 -0.30926 C 0.00087 -0.35903 -0.01268 -0.43241 -0.02726 -0.45671 C -0.04184 -0.48102 -0.06511 -0.48449 -0.08021 -0.45463 C -0.09532 -0.42477 -0.1132 -0.34375 -0.11823 -0.27685 C -0.12327 -0.20995 -0.11823 -0.11204 -0.11059 -0.05254 C -0.10295 0.00695 -0.08611 0.05903 -0.07275 0.08079 C -0.05938 0.10255 -0.04167 0.09097 -0.03021 0.07871 C -0.01875 0.06644 -0.00729 0.03935 3.05556E-006 1.11111E-006 Z">
                                      <p:cBhvr>
                                        <p:cTn id="95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14815E-006 C -0.01215 0.02384 -0.0349 0.07893 -0.04393 0.10717 C -0.05295 0.13541 -0.05903 0.15671 -0.05452 0.1699 C -0.05 0.1831 -0.03959 0.19675 -0.01667 0.18587 C 0.00625 0.17499 0.04323 0.15092 0.08333 0.10509 C 0.12344 0.05925 0.19444 -0.03751 0.2243 -0.08889 C 0.25416 -0.14028 0.26389 -0.1801 0.26215 -0.20394 C 0.26041 -0.22778 0.23455 -0.2382 0.21371 -0.23218 C 0.19288 -0.22616 0.16719 -0.20024 0.13646 -0.1676 C 0.10573 -0.13496 0.05087 -0.06389 0.02882 -0.03635 C 0.00677 -0.0088 0.01215 -0.02385 -1.11111E-006 -8.14815E-006 Z">
                                      <p:cBhvr>
                                        <p:cTn id="9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2222 0.0095 0.04896 0.02709 0.09236 0.03033 C 0.13576 0.03357 0.21545 0.03079 0.26059 0.02014 C 0.30573 0.0095 0.3474 -0.01296 0.36372 -0.03425 C 0.38004 -0.05555 0.37674 -0.08657 0.35903 -0.10717 C 0.34132 -0.12777 0.29653 -0.14652 0.25764 -0.15763 C 0.21875 -0.16874 0.16441 -0.17453 0.12569 -0.17384 C 0.08698 -0.17314 0.05451 -0.1662 0.02569 -0.15347 C -0.00312 -0.14074 -0.03576 -0.11828 -0.04687 -0.09699 C -0.05799 -0.07569 -0.04826 -0.04212 -0.04097 -0.02638 C -0.03368 -0.01064 -0.02222 -0.00949 -3.33333E-006 7.40741E-006 Z">
                                      <p:cBhvr>
                                        <p:cTn id="99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714560" y="213840"/>
            <a:ext cx="4143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Електронна хмарина або електронна орбіталь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частина простору навколо ядра, де перебування електронна наймовірніш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9" name="Овал 5"/>
          <p:cNvGrpSpPr/>
          <p:nvPr/>
        </p:nvGrpSpPr>
        <p:grpSpPr>
          <a:xfrm>
            <a:off x="396720" y="1255680"/>
            <a:ext cx="3705480" cy="3487680"/>
            <a:chOff x="396720" y="1255680"/>
            <a:chExt cx="3705480" cy="3487680"/>
          </a:xfrm>
        </p:grpSpPr>
        <p:pic>
          <p:nvPicPr>
            <p:cNvPr id="260" name="Овал 5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0548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940040"/>
              <a:ext cx="227160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Кольцо 11"/>
          <p:cNvSpPr/>
          <p:nvPr/>
        </p:nvSpPr>
        <p:spPr>
          <a:xfrm>
            <a:off x="1143000" y="2000160"/>
            <a:ext cx="2143080" cy="2071800"/>
          </a:xfrm>
          <a:custGeom>
            <a:avLst/>
            <a:gdLst>
              <a:gd name="textAreaLeft" fmla="*/ 313560 w 2143080"/>
              <a:gd name="textAreaRight" fmla="*/ 1829520 w 2143080"/>
              <a:gd name="textAreaTop" fmla="*/ 303120 h 2071800"/>
              <a:gd name="textAreaBottom" fmla="*/ 1768680 h 2071800"/>
            </a:gdLst>
            <a:ahLst/>
            <a:rect l="textAreaLeft" t="textAreaTop" r="textAreaRight" b="textAreaBottom"/>
            <a:pathLst>
              <a:path w="2143125" h="2071688">
                <a:moveTo>
                  <a:pt x="0" y="1035844"/>
                </a:moveTo>
                <a:lnTo>
                  <a:pt x="0" y="1035844"/>
                </a:lnTo>
                <a:arcTo wR="1071563" hR="1035844" stAng="-10799997" swAng="5400003"/>
                <a:lnTo>
                  <a:pt x="1071565" y="1"/>
                </a:lnTo>
                <a:arcTo wR="1071563" hR="1035844" stAng="-5399997" swAng="5400003"/>
                <a:lnTo>
                  <a:pt x="2143127" y="1035847"/>
                </a:lnTo>
                <a:arcTo wR="1071563" hR="1035844" stAng="0" swAng="5400003"/>
                <a:lnTo>
                  <a:pt x="1071563" y="2071691"/>
                </a:lnTo>
                <a:arcTo wR="1071563" hR="1035844" stAng="5400003" swAng="5400000"/>
                <a:close/>
                <a:moveTo>
                  <a:pt x="126332" y="1035844"/>
                </a:moveTo>
                <a:lnTo>
                  <a:pt x="126332" y="1035844"/>
                </a:lnTo>
                <a:arcTo wR="945231" hR="909512" stAng="-10799996" swAng="-5400000"/>
                <a:lnTo>
                  <a:pt x="1071562" y="1945357"/>
                </a:lnTo>
                <a:arcTo wR="945231" hR="909512" stAng="5400004" swAng="-5400000"/>
                <a:lnTo>
                  <a:pt x="2016794" y="1035846"/>
                </a:lnTo>
                <a:arcTo wR="945231" hR="909512" stAng="0" swAng="-5400000"/>
                <a:lnTo>
                  <a:pt x="1071563" y="126334"/>
                </a:lnTo>
                <a:arcTo wR="945231" hR="909512" stAng="-5399996" swAng="-5400000"/>
                <a:close/>
              </a:path>
            </a:pathLst>
          </a:custGeom>
          <a:solidFill>
            <a:srgbClr val="9e3611"/>
          </a:solidFill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9"/>
          <p:cNvCxnSpPr/>
          <p:nvPr/>
        </p:nvCxnSpPr>
        <p:spPr>
          <a:xfrm flipH="1">
            <a:off x="2928240" y="785880"/>
            <a:ext cx="207252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4" name="Содержимое 4"/>
          <p:cNvSpPr/>
          <p:nvPr/>
        </p:nvSpPr>
        <p:spPr>
          <a:xfrm>
            <a:off x="357120" y="5000760"/>
            <a:ext cx="82868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mbria"/>
              </a:rPr>
              <a:t>Орбіталь  позначають         (електронна    комірка), а електрон у ній – стрілкою (спін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5286240" y="5000760"/>
            <a:ext cx="571680" cy="57132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8072280" y="5572080"/>
            <a:ext cx="571680" cy="57168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5"/>
          <p:cNvCxnSpPr/>
          <p:nvPr/>
        </p:nvCxnSpPr>
        <p:spPr>
          <a:xfrm flipV="1">
            <a:off x="8357040" y="5571720"/>
            <a:ext cx="2520" cy="572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8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B0A3-E2EC-41B5-8112-D538481F8E7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Електронні орбітал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71" name="Овал 3"/>
          <p:cNvGrpSpPr/>
          <p:nvPr/>
        </p:nvGrpSpPr>
        <p:grpSpPr>
          <a:xfrm>
            <a:off x="396720" y="1255680"/>
            <a:ext cx="3778560" cy="3487680"/>
            <a:chOff x="396720" y="1255680"/>
            <a:chExt cx="3778560" cy="3487680"/>
          </a:xfrm>
        </p:grpSpPr>
        <p:pic>
          <p:nvPicPr>
            <p:cNvPr id="272" name="Овал 3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78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23920" y="1940040"/>
              <a:ext cx="232416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2036880"/>
            <a:ext cx="5900760" cy="1535040"/>
          </a:xfrm>
          <a:prstGeom prst="rect">
            <a:avLst/>
          </a:prstGeom>
          <a:ln w="0">
            <a:noFill/>
          </a:ln>
        </p:spPr>
      </p:pic>
      <p:sp>
        <p:nvSpPr>
          <p:cNvPr id="275" name="Рамка 5"/>
          <p:cNvSpPr/>
          <p:nvPr/>
        </p:nvSpPr>
        <p:spPr>
          <a:xfrm>
            <a:off x="3643200" y="442908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6" descr=""/>
          <p:cNvPicPr/>
          <p:nvPr/>
        </p:nvPicPr>
        <p:blipFill>
          <a:blip r:embed="rId3"/>
          <a:stretch/>
        </p:blipFill>
        <p:spPr>
          <a:xfrm>
            <a:off x="950760" y="5718240"/>
            <a:ext cx="7351920" cy="114624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0643-538D-4DD4-B6CE-48A8034994B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Капля 3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"/>
          <p:cNvSpPr/>
          <p:nvPr/>
        </p:nvSpPr>
        <p:spPr>
          <a:xfrm rot="10800000">
            <a:off x="1856880" y="1071720"/>
            <a:ext cx="1000440" cy="1071360"/>
          </a:xfrm>
          <a:custGeom>
            <a:avLst/>
            <a:gdLst>
              <a:gd name="textAreaLeft" fmla="*/ 146520 w 1000440"/>
              <a:gd name="textAreaRight" fmla="*/ 853920 w 100044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6" descr=""/>
          <p:cNvPicPr/>
          <p:nvPr/>
        </p:nvPicPr>
        <p:blipFill>
          <a:blip r:embed="rId1"/>
          <a:stretch/>
        </p:blipFill>
        <p:spPr>
          <a:xfrm>
            <a:off x="2809800" y="1328760"/>
            <a:ext cx="6029280" cy="1457280"/>
          </a:xfrm>
          <a:prstGeom prst="rect">
            <a:avLst/>
          </a:prstGeom>
          <a:ln w="0">
            <a:noFill/>
          </a:ln>
        </p:spPr>
      </p:pic>
      <p:sp>
        <p:nvSpPr>
          <p:cNvPr id="282" name="Рамка 7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8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266240" cy="1145880"/>
          </a:xfrm>
          <a:prstGeom prst="rect">
            <a:avLst/>
          </a:prstGeom>
          <a:ln w="0">
            <a:noFill/>
          </a:ln>
        </p:spPr>
      </p:pic>
      <p:sp>
        <p:nvSpPr>
          <p:cNvPr id="284" name="Рамка 9"/>
          <p:cNvSpPr/>
          <p:nvPr/>
        </p:nvSpPr>
        <p:spPr>
          <a:xfrm>
            <a:off x="38577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мка 10"/>
          <p:cNvSpPr/>
          <p:nvPr/>
        </p:nvSpPr>
        <p:spPr>
          <a:xfrm>
            <a:off x="550080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773D-B1E7-46B5-8237-F2D0888A641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апля 5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Капля 6"/>
          <p:cNvSpPr/>
          <p:nvPr/>
        </p:nvSpPr>
        <p:spPr>
          <a:xfrm rot="10800000">
            <a:off x="1856880" y="999720"/>
            <a:ext cx="1071720" cy="1143000"/>
          </a:xfrm>
          <a:custGeom>
            <a:avLst/>
            <a:gdLst>
              <a:gd name="textAreaLeft" fmla="*/ 156960 w 1071720"/>
              <a:gd name="textAreaRight" fmla="*/ 914760 w 107172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071563" h="1143000">
                <a:moveTo>
                  <a:pt x="0" y="571500"/>
                </a:moveTo>
                <a:lnTo>
                  <a:pt x="0" y="571500"/>
                </a:lnTo>
                <a:arcTo wR="535782" hR="571500" stAng="-10799994" swAng="5400000"/>
                <a:lnTo>
                  <a:pt x="818516" y="0"/>
                </a:lnTo>
                <a:lnTo>
                  <a:pt x="1101250" y="-31667"/>
                </a:lnTo>
                <a:lnTo>
                  <a:pt x="1071563" y="420708"/>
                </a:lnTo>
                <a:arcTo wR="0" hR="150792" stAng="0" swAng="0"/>
                <a:lnTo>
                  <a:pt x="993100" y="1059306"/>
                </a:lnTo>
                <a:arcTo wR="-267891" hR="285750" stAng="281085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Капля 7"/>
          <p:cNvSpPr/>
          <p:nvPr/>
        </p:nvSpPr>
        <p:spPr>
          <a:xfrm rot="5203800">
            <a:off x="776520" y="113724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4"/>
                </a:lnTo>
                <a:arcTo wR="0" hR="13765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Капля 8"/>
          <p:cNvSpPr/>
          <p:nvPr/>
        </p:nvSpPr>
        <p:spPr>
          <a:xfrm rot="16003200">
            <a:off x="1919880" y="213732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9" descr=""/>
          <p:cNvPicPr/>
          <p:nvPr/>
        </p:nvPicPr>
        <p:blipFill>
          <a:blip r:embed="rId1"/>
          <a:stretch/>
        </p:blipFill>
        <p:spPr>
          <a:xfrm>
            <a:off x="2852640" y="1036800"/>
            <a:ext cx="5943600" cy="1535040"/>
          </a:xfrm>
          <a:prstGeom prst="rect">
            <a:avLst/>
          </a:prstGeom>
          <a:ln w="0">
            <a:noFill/>
          </a:ln>
        </p:spPr>
      </p:pic>
      <p:sp>
        <p:nvSpPr>
          <p:cNvPr id="293" name="Рамка 10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Прямоугольник 11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sp>
        <p:nvSpPr>
          <p:cNvPr id="295" name="Рамка 12"/>
          <p:cNvSpPr/>
          <p:nvPr/>
        </p:nvSpPr>
        <p:spPr>
          <a:xfrm>
            <a:off x="371484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мка 13"/>
          <p:cNvSpPr/>
          <p:nvPr/>
        </p:nvSpPr>
        <p:spPr>
          <a:xfrm>
            <a:off x="52149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Рамка 14"/>
          <p:cNvSpPr/>
          <p:nvPr/>
        </p:nvSpPr>
        <p:spPr>
          <a:xfrm>
            <a:off x="7858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Рамка 15"/>
          <p:cNvSpPr/>
          <p:nvPr/>
        </p:nvSpPr>
        <p:spPr>
          <a:xfrm>
            <a:off x="67150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1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428-114A-4119-B84D-2C26D781F0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Капля 4"/>
          <p:cNvSpPr/>
          <p:nvPr/>
        </p:nvSpPr>
        <p:spPr>
          <a:xfrm rot="9602400">
            <a:off x="1644480" y="1044720"/>
            <a:ext cx="857520" cy="1000080"/>
          </a:xfrm>
          <a:custGeom>
            <a:avLst/>
            <a:gdLst>
              <a:gd name="textAreaLeft" fmla="*/ 125280 w 857520"/>
              <a:gd name="textAreaRight" fmla="*/ 732240 w 857520"/>
              <a:gd name="textAreaTop" fmla="*/ 146160 h 1000080"/>
              <a:gd name="textAreaBottom" fmla="*/ 85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0" y="500063"/>
                </a:moveTo>
                <a:lnTo>
                  <a:pt x="0" y="500063"/>
                </a:lnTo>
                <a:arcTo wR="428625" hR="500063" stAng="10800000" swAng="5400007"/>
                <a:lnTo>
                  <a:pt x="654812" y="0"/>
                </a:lnTo>
                <a:lnTo>
                  <a:pt x="881000" y="-27708"/>
                </a:lnTo>
                <a:lnTo>
                  <a:pt x="857250" y="368120"/>
                </a:lnTo>
                <a:arcTo wR="0" hR="131943" stAng="0" swAng="0"/>
                <a:lnTo>
                  <a:pt x="794479" y="926893"/>
                </a:lnTo>
                <a:arcTo wR="-214313" hR="250032" stAng="296392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Капля 17"/>
          <p:cNvSpPr/>
          <p:nvPr/>
        </p:nvSpPr>
        <p:spPr>
          <a:xfrm rot="13746000">
            <a:off x="2125800" y="1716120"/>
            <a:ext cx="877680" cy="960480"/>
          </a:xfrm>
          <a:custGeom>
            <a:avLst/>
            <a:gdLst>
              <a:gd name="textAreaLeft" fmla="*/ 128520 w 877680"/>
              <a:gd name="textAreaRight" fmla="*/ 749160 w 877680"/>
              <a:gd name="textAreaTop" fmla="*/ 140400 h 960480"/>
              <a:gd name="textAreaBottom" fmla="*/ 820080 h 960480"/>
            </a:gdLst>
            <a:ahLst/>
            <a:rect l="textAreaLeft" t="textAreaTop" r="textAreaRight" b="textAreaBottom"/>
            <a:pathLst>
              <a:path w="877887" h="960437">
                <a:moveTo>
                  <a:pt x="0" y="480219"/>
                </a:moveTo>
                <a:lnTo>
                  <a:pt x="0" y="480219"/>
                </a:lnTo>
                <a:arcTo wR="438944" hR="480219" stAng="-10799992" swAng="5399999"/>
                <a:lnTo>
                  <a:pt x="670576" y="0"/>
                </a:lnTo>
                <a:lnTo>
                  <a:pt x="902209" y="-26609"/>
                </a:lnTo>
                <a:lnTo>
                  <a:pt x="877887" y="353512"/>
                </a:lnTo>
                <a:arcTo wR="0" hR="126707" stAng="0" swAng="0"/>
                <a:lnTo>
                  <a:pt x="813605" y="890112"/>
                </a:lnTo>
                <a:arcTo wR="-219472" hR="240110" stAng="2854268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Капля 3"/>
          <p:cNvSpPr/>
          <p:nvPr/>
        </p:nvSpPr>
        <p:spPr>
          <a:xfrm rot="20365800">
            <a:off x="1044720" y="2374920"/>
            <a:ext cx="1071360" cy="85716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71563" h="857250">
                <a:moveTo>
                  <a:pt x="0" y="428625"/>
                </a:moveTo>
                <a:lnTo>
                  <a:pt x="0" y="428625"/>
                </a:lnTo>
                <a:arcTo wR="535782" hR="428625" stAng="-10799994" swAng="5400002"/>
                <a:lnTo>
                  <a:pt x="811095" y="0"/>
                </a:lnTo>
                <a:lnTo>
                  <a:pt x="1086409" y="-11877"/>
                </a:lnTo>
                <a:lnTo>
                  <a:pt x="1071563" y="318500"/>
                </a:lnTo>
                <a:arcTo wR="0" hR="110126" stAng="0" swAng="0"/>
                <a:lnTo>
                  <a:pt x="993100" y="794479"/>
                </a:lnTo>
                <a:arcTo wR="-267891" hR="214313" stAng="2319586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апля 6"/>
          <p:cNvSpPr/>
          <p:nvPr/>
        </p:nvSpPr>
        <p:spPr>
          <a:xfrm rot="16003200">
            <a:off x="1897560" y="2160720"/>
            <a:ext cx="847800" cy="880920"/>
          </a:xfrm>
          <a:custGeom>
            <a:avLst/>
            <a:gdLst>
              <a:gd name="textAreaLeft" fmla="*/ 124200 w 847800"/>
              <a:gd name="textAreaRight" fmla="*/ 723600 w 847800"/>
              <a:gd name="textAreaTop" fmla="*/ 128880 h 880920"/>
              <a:gd name="textAreaBottom" fmla="*/ 752040 h 880920"/>
            </a:gdLst>
            <a:ahLst/>
            <a:rect l="textAreaLeft" t="textAreaTop" r="textAreaRight" b="textAreaBottom"/>
            <a:pathLst>
              <a:path w="847725" h="881062">
                <a:moveTo>
                  <a:pt x="0" y="440531"/>
                </a:moveTo>
                <a:lnTo>
                  <a:pt x="0" y="440531"/>
                </a:lnTo>
                <a:arcTo wR="423863" hR="440531" stAng="10800000" swAng="5400008"/>
                <a:lnTo>
                  <a:pt x="647536" y="0"/>
                </a:lnTo>
                <a:lnTo>
                  <a:pt x="871211" y="-24410"/>
                </a:lnTo>
                <a:lnTo>
                  <a:pt x="847725" y="324296"/>
                </a:lnTo>
                <a:arcTo wR="0" hR="116236" stAng="0" swAng="0"/>
                <a:lnTo>
                  <a:pt x="785652" y="816548"/>
                </a:lnTo>
                <a:arcTo wR="-211932" hR="220266" stAng="2766281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7" descr=""/>
          <p:cNvPicPr/>
          <p:nvPr/>
        </p:nvPicPr>
        <p:blipFill>
          <a:blip r:embed="rId1"/>
          <a:stretch/>
        </p:blipFill>
        <p:spPr>
          <a:xfrm>
            <a:off x="2809800" y="1036800"/>
            <a:ext cx="576108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6"/>
          <p:cNvGrpSpPr/>
          <p:nvPr/>
        </p:nvGrpSpPr>
        <p:grpSpPr>
          <a:xfrm>
            <a:off x="285840" y="3571920"/>
            <a:ext cx="8643960" cy="1428840"/>
            <a:chOff x="285840" y="3571920"/>
            <a:chExt cx="8643960" cy="1428840"/>
          </a:xfrm>
        </p:grpSpPr>
        <p:sp>
          <p:nvSpPr>
            <p:cNvPr id="308" name="Рамка 8"/>
            <p:cNvSpPr/>
            <p:nvPr/>
          </p:nvSpPr>
          <p:spPr>
            <a:xfrm>
              <a:off x="285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Рамка 10"/>
            <p:cNvSpPr/>
            <p:nvPr/>
          </p:nvSpPr>
          <p:spPr>
            <a:xfrm>
              <a:off x="148572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Рамка 11"/>
            <p:cNvSpPr/>
            <p:nvPr/>
          </p:nvSpPr>
          <p:spPr>
            <a:xfrm>
              <a:off x="268776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Рамка 12"/>
            <p:cNvSpPr/>
            <p:nvPr/>
          </p:nvSpPr>
          <p:spPr>
            <a:xfrm>
              <a:off x="388800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Рамка 13"/>
            <p:cNvSpPr/>
            <p:nvPr/>
          </p:nvSpPr>
          <p:spPr>
            <a:xfrm>
              <a:off x="508788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Рамка 14"/>
            <p:cNvSpPr/>
            <p:nvPr/>
          </p:nvSpPr>
          <p:spPr>
            <a:xfrm>
              <a:off x="634860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Рамка 15"/>
            <p:cNvSpPr/>
            <p:nvPr/>
          </p:nvSpPr>
          <p:spPr>
            <a:xfrm>
              <a:off x="7548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Капля 18"/>
          <p:cNvSpPr/>
          <p:nvPr/>
        </p:nvSpPr>
        <p:spPr>
          <a:xfrm rot="1855800">
            <a:off x="701640" y="1843200"/>
            <a:ext cx="933480" cy="104292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2640 h 1042920"/>
              <a:gd name="textAreaBottom" fmla="*/ 890280 h 1042920"/>
            </a:gdLst>
            <a:ahLst/>
            <a:rect l="textAreaLeft" t="textAreaTop" r="textAreaRight" b="textAreaBottom"/>
            <a:pathLst>
              <a:path w="933450" h="1042987">
                <a:moveTo>
                  <a:pt x="0" y="521494"/>
                </a:moveTo>
                <a:lnTo>
                  <a:pt x="0" y="521494"/>
                </a:lnTo>
                <a:arcTo wR="466725" hR="521494" stAng="-10799993" swAng="5399999"/>
                <a:lnTo>
                  <a:pt x="713018" y="0"/>
                </a:lnTo>
                <a:lnTo>
                  <a:pt x="959311" y="-28896"/>
                </a:lnTo>
                <a:lnTo>
                  <a:pt x="933450" y="383897"/>
                </a:lnTo>
                <a:arcTo wR="0" hR="137598" stAng="0" swAng="0"/>
                <a:lnTo>
                  <a:pt x="865100" y="966617"/>
                </a:lnTo>
                <a:arcTo wR="-233363" hR="260747" stAng="2890332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Капля 5"/>
          <p:cNvSpPr/>
          <p:nvPr/>
        </p:nvSpPr>
        <p:spPr>
          <a:xfrm rot="5203800">
            <a:off x="965520" y="1313640"/>
            <a:ext cx="766800" cy="942840"/>
          </a:xfrm>
          <a:custGeom>
            <a:avLst/>
            <a:gdLst>
              <a:gd name="textAreaLeft" fmla="*/ 112320 w 766800"/>
              <a:gd name="textAreaRight" fmla="*/ 654480 w 766800"/>
              <a:gd name="textAreaTop" fmla="*/ 137880 h 942840"/>
              <a:gd name="textAreaBottom" fmla="*/ 804960 h 942840"/>
            </a:gdLst>
            <a:ahLst/>
            <a:rect l="textAreaLeft" t="textAreaTop" r="textAreaRight" b="textAreaBottom"/>
            <a:pathLst>
              <a:path w="766762" h="942975">
                <a:moveTo>
                  <a:pt x="0" y="471488"/>
                </a:moveTo>
                <a:lnTo>
                  <a:pt x="0" y="471488"/>
                </a:lnTo>
                <a:arcTo wR="383381" hR="471488" stAng="10800000" swAng="5400007"/>
                <a:lnTo>
                  <a:pt x="580383" y="0"/>
                </a:lnTo>
                <a:lnTo>
                  <a:pt x="777385" y="-13065"/>
                </a:lnTo>
                <a:lnTo>
                  <a:pt x="766762" y="350350"/>
                </a:lnTo>
                <a:arcTo wR="0" hR="121139" stAng="0" swAng="0"/>
                <a:lnTo>
                  <a:pt x="710617" y="873928"/>
                </a:lnTo>
                <a:arcTo wR="-191691" hR="235744" stAng="305306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1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6E19-4594-45F0-9990-B654979DC02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33:33Z</dcterms:modified>
  <cp:revision>32</cp:revision>
  <dc:subject/>
  <dc:title>Стан електронів у атомі</dc:title>
</cp:coreProperties>
</file>