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5DB6-EFA3-4500-9999-F3267C8A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D01C-AFB8-4EE8-AB6D-5E16E48F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3956-3AF0-4C8B-9462-CC2C27DC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EB8-9705-4D95-BFCD-D8AD1C25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8C80-239E-41F9-87BC-34D4BB35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7B66-442F-4B65-B3F5-FB7092AD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97F8-91D5-46FA-9257-03327B88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769B-5C3C-4D9F-8CA6-4B30DD10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E133-4425-4D4B-A099-F17A3D95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4378-EF6F-4AD8-947C-B22705D0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953C-7A16-4235-9425-85F4C8FF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C11-307B-4A7D-A3FB-9E05144C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B83D-1DC4-4309-87A9-A129968C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7566-8EC0-4983-B14C-1C104D1D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41F5-230D-4815-A2F0-B7B7C0F7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8030-3506-40E8-BCD2-26B8F8F3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47C7-4048-475D-A6F3-C7B71E27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4EB59-2713-4621-B67B-503BDAB1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B0EA1-CC7A-49BC-9145-D5FC78C3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A4051-9168-45BE-9DC0-459CE560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1D8ED-5C43-4DA3-9B26-488938AD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04E94-6865-4C0F-BEEE-2CFEA95B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0147-E39F-4B77-A6CE-3BD17507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A9718-1129-4539-BFFF-8E907435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09F87-AAD4-4E49-BA41-EF344E35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DAD07-93F1-474B-A891-5EC8DF35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FB5E8-5BCD-4C5D-8593-A06602B5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8F281-06D3-4E1B-A1DC-37E84A93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D228C-9833-4DDD-BB4B-70FC0812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FEB17-4AD7-4321-A65E-4338D306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063E5-15AE-4E5C-B7B0-45BDD786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EE359-35CA-4A13-98B4-4DE64787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BB600-3DA0-463D-9D8F-072687E6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EA9-136F-4849-817B-0AFD0ED9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84716-BF89-404D-AEE7-365A3CE0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B57BA-94A2-446B-A714-467CE4CA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74EE6-957D-43C1-B52D-BCF69666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36965-CBF3-4C46-B880-DE83E9E5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A2BF0-49EE-4290-A75E-F14DC3C8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7621D-931B-4742-8E07-876D3693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65328-0D50-4B75-8D71-C02F9601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30EE9-5259-4437-89E0-A991B3B7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D90A1-8C9F-4F7D-9A09-A2C3B18C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1F249-A3DD-4758-9045-A8CAE024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8C6F-C550-4CCA-B672-8EB710DE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620A1-BB6E-44DD-BBE3-DAD3B3DB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BF5F0-C121-473F-90F4-CD5731CD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FBDC7-3A0E-4ED1-B6C1-B4C9D099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F32CA-A212-4D13-B6BE-36EB31AA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987FC-AEF8-4EAF-8E1B-3734186F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073AD-B2ED-445D-8E33-FA180436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E7873-0170-4C59-BD41-C420E0C5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6B092-12DE-4593-85C8-1830BA87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34709-380F-494E-92E7-68041555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0A6A1-DAAE-458C-B082-7318A1E2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4320-9159-48E1-8DD7-DE568948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343ED-B5DF-4FBB-A8ED-A02DECC1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78F-7EA6-4248-9A43-5591158F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0215-928E-4C6A-9F2E-73E3337C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0874-1353-4A2D-B146-D76EB03F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D99E-7DCD-45DB-B57E-BF4C0056D1DC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402A-A63D-4E24-BBBE-4D3C722964F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932A-D954-48F7-9C11-E467A73BA74F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3AFC-45E3-427A-899B-CBD11E20C9A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8F3D-8620-45D1-A937-70E021BB7261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54D7-644B-4BF7-B7B8-B5522D2EEB6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08A9-8DF7-4B64-A12F-9FC51CE55CB3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01EE-819A-4D5F-A31F-4706742F3AE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BE0D-2DEC-45C9-B3CC-7D2B16F6E006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A8BA-1FC5-473D-A894-BAB367DCE8F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09_04/inter_01.swf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Calibri"/>
              </a:rPr>
              <a:t>Стан електронів у атомі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Подзаголовок 2"/>
          <p:cNvSpPr/>
          <p:nvPr/>
        </p:nvSpPr>
        <p:spPr>
          <a:xfrm>
            <a:off x="3786120" y="3786120"/>
            <a:ext cx="483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2B2B-3440-42BB-800A-D500D745F15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Рамка 3"/>
          <p:cNvSpPr/>
          <p:nvPr/>
        </p:nvSpPr>
        <p:spPr>
          <a:xfrm>
            <a:off x="2357280" y="1214280"/>
            <a:ext cx="4143600" cy="3571920"/>
          </a:xfrm>
          <a:custGeom>
            <a:avLst/>
            <a:gdLst>
              <a:gd name="textAreaLeft" fmla="*/ 446400 w 4143600"/>
              <a:gd name="textAreaRight" fmla="*/ 3697200 w 4143600"/>
              <a:gd name="textAreaTop" fmla="*/ 446400 h 3571920"/>
              <a:gd name="textAreaBottom" fmla="*/ 3125520 h 3571920"/>
            </a:gdLst>
            <a:ahLst/>
            <a:rect l="textAreaLeft" t="textAreaTop" r="textAreaRight" b="textAreaBottom"/>
            <a:pathLst>
              <a:path w="4143375" h="3571875">
                <a:moveTo>
                  <a:pt x="0" y="0"/>
                </a:moveTo>
                <a:lnTo>
                  <a:pt x="4143375" y="0"/>
                </a:lnTo>
                <a:lnTo>
                  <a:pt x="4143375" y="3571875"/>
                </a:lnTo>
                <a:lnTo>
                  <a:pt x="0" y="3571875"/>
                </a:lnTo>
                <a:close/>
                <a:moveTo>
                  <a:pt x="446484" y="446484"/>
                </a:moveTo>
                <a:lnTo>
                  <a:pt x="446484" y="3125391"/>
                </a:lnTo>
                <a:lnTo>
                  <a:pt x="3696891" y="3125391"/>
                </a:lnTo>
                <a:lnTo>
                  <a:pt x="3696891" y="44648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трелка вниз 4"/>
          <p:cNvSpPr/>
          <p:nvPr/>
        </p:nvSpPr>
        <p:spPr>
          <a:xfrm>
            <a:off x="4643280" y="2143080"/>
            <a:ext cx="785880" cy="171468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трелка вниз 5"/>
          <p:cNvSpPr/>
          <p:nvPr/>
        </p:nvSpPr>
        <p:spPr>
          <a:xfrm rot="10800000">
            <a:off x="3357720" y="2071800"/>
            <a:ext cx="785520" cy="171432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0107-1A09-49B1-9925-F66E0E0EE6F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Нижний колонтитул 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4357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Енергетичний рівень (електронний шар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5" name="Заголовок 1"/>
          <p:cNvSpPr/>
          <p:nvPr/>
        </p:nvSpPr>
        <p:spPr>
          <a:xfrm>
            <a:off x="3871800" y="285840"/>
            <a:ext cx="52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000000"/>
                </a:solidFill>
                <a:latin typeface="Calibri"/>
              </a:rPr>
              <a:t>Підрівень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Заголовок 1"/>
          <p:cNvSpPr/>
          <p:nvPr/>
        </p:nvSpPr>
        <p:spPr>
          <a:xfrm>
            <a:off x="928800" y="164304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2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3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4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4 …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3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4d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4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B8D4-EDDA-4437-86A4-18CC496C6B4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ижний колонтитул 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Розподіл електронів за енергетичними рівням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30" name="Прямоугольник 3" descr=""/>
          <p:cNvPicPr/>
          <p:nvPr/>
        </p:nvPicPr>
        <p:blipFill>
          <a:blip r:embed="rId2"/>
          <a:stretch/>
        </p:blipFill>
        <p:spPr>
          <a:xfrm>
            <a:off x="1762200" y="1390680"/>
            <a:ext cx="5290920" cy="1170000"/>
          </a:xfrm>
          <a:prstGeom prst="rect">
            <a:avLst/>
          </a:prstGeom>
          <a:ln w="0">
            <a:noFill/>
          </a:ln>
        </p:spPr>
      </p:pic>
      <p:pic>
        <p:nvPicPr>
          <p:cNvPr id="331" name="Прямоугольник 4" descr=""/>
          <p:cNvPicPr/>
          <p:nvPr/>
        </p:nvPicPr>
        <p:blipFill>
          <a:blip r:embed="rId3"/>
          <a:stretch/>
        </p:blipFill>
        <p:spPr>
          <a:xfrm>
            <a:off x="6145200" y="1139760"/>
            <a:ext cx="1054080" cy="901800"/>
          </a:xfrm>
          <a:prstGeom prst="rect">
            <a:avLst/>
          </a:prstGeom>
          <a:ln w="0">
            <a:noFill/>
          </a:ln>
        </p:spPr>
      </p:pic>
      <p:sp>
        <p:nvSpPr>
          <p:cNvPr id="332" name="Заголовок 1"/>
          <p:cNvSpPr/>
          <p:nvPr/>
        </p:nvSpPr>
        <p:spPr>
          <a:xfrm>
            <a:off x="1000080" y="2643120"/>
            <a:ext cx="777240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000000"/>
                </a:solidFill>
                <a:latin typeface="Calibri"/>
              </a:rPr>
              <a:t>На першому рівні максимум може бути 2 * 1 = 2 електрон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000000"/>
                </a:solidFill>
                <a:latin typeface="Calibri"/>
              </a:rPr>
              <a:t>Заповнення електронам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Прямоугольник 6" descr=""/>
          <p:cNvPicPr/>
          <p:nvPr/>
        </p:nvPicPr>
        <p:blipFill>
          <a:blip r:embed="rId4"/>
          <a:stretch/>
        </p:blipFill>
        <p:spPr>
          <a:xfrm>
            <a:off x="4138560" y="3011400"/>
            <a:ext cx="566640" cy="48096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7"/>
          <p:cNvSpPr/>
          <p:nvPr/>
        </p:nvSpPr>
        <p:spPr>
          <a:xfrm>
            <a:off x="2571840" y="4643280"/>
            <a:ext cx="1000080" cy="85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8"/>
          <p:cNvSpPr/>
          <p:nvPr/>
        </p:nvSpPr>
        <p:spPr>
          <a:xfrm>
            <a:off x="5429160" y="4643280"/>
            <a:ext cx="1000080" cy="85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трелка вниз 9"/>
          <p:cNvSpPr/>
          <p:nvPr/>
        </p:nvSpPr>
        <p:spPr>
          <a:xfrm rot="10800000">
            <a:off x="2714760" y="471492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трелка вниз 10"/>
          <p:cNvSpPr/>
          <p:nvPr/>
        </p:nvSpPr>
        <p:spPr>
          <a:xfrm rot="10800000">
            <a:off x="5500800" y="471492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трелка вниз 11"/>
          <p:cNvSpPr/>
          <p:nvPr/>
        </p:nvSpPr>
        <p:spPr>
          <a:xfrm>
            <a:off x="5929200" y="4786200"/>
            <a:ext cx="357480" cy="6429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Группа 29"/>
          <p:cNvGrpSpPr/>
          <p:nvPr/>
        </p:nvGrpSpPr>
        <p:grpSpPr>
          <a:xfrm>
            <a:off x="1428840" y="4500720"/>
            <a:ext cx="1014480" cy="1066680"/>
            <a:chOff x="1428840" y="4500720"/>
            <a:chExt cx="1014480" cy="1066680"/>
          </a:xfrm>
        </p:grpSpPr>
        <p:pic>
          <p:nvPicPr>
            <p:cNvPr id="340" name="Прямоугольник 12" descr=""/>
            <p:cNvPicPr/>
            <p:nvPr/>
          </p:nvPicPr>
          <p:blipFill>
            <a:blip r:embed="rId5"/>
            <a:stretch/>
          </p:blipFill>
          <p:spPr>
            <a:xfrm>
              <a:off x="1428840" y="4500720"/>
              <a:ext cx="9748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Прямоугольник 14" descr=""/>
            <p:cNvPicPr/>
            <p:nvPr/>
          </p:nvPicPr>
          <p:blipFill>
            <a:blip r:embed="rId6"/>
            <a:stretch/>
          </p:blipFill>
          <p:spPr>
            <a:xfrm>
              <a:off x="1963800" y="4517280"/>
              <a:ext cx="479520" cy="60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2" name="Группа 30"/>
          <p:cNvGrpSpPr/>
          <p:nvPr/>
        </p:nvGrpSpPr>
        <p:grpSpPr>
          <a:xfrm>
            <a:off x="4357800" y="4572000"/>
            <a:ext cx="942840" cy="995400"/>
            <a:chOff x="4357800" y="4572000"/>
            <a:chExt cx="942840" cy="995400"/>
          </a:xfrm>
        </p:grpSpPr>
        <p:pic>
          <p:nvPicPr>
            <p:cNvPr id="343" name="Прямоугольник 13" descr=""/>
            <p:cNvPicPr/>
            <p:nvPr/>
          </p:nvPicPr>
          <p:blipFill>
            <a:blip r:embed="rId7"/>
            <a:stretch/>
          </p:blipFill>
          <p:spPr>
            <a:xfrm>
              <a:off x="4357800" y="4572000"/>
              <a:ext cx="942840" cy="9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Прямоугольник 15" descr=""/>
            <p:cNvPicPr/>
            <p:nvPr/>
          </p:nvPicPr>
          <p:blipFill>
            <a:blip r:embed="rId8"/>
            <a:stretch/>
          </p:blipFill>
          <p:spPr>
            <a:xfrm>
              <a:off x="4829400" y="4650120"/>
              <a:ext cx="463680" cy="56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5" name="Прямоугольник 16" descr=""/>
          <p:cNvPicPr/>
          <p:nvPr/>
        </p:nvPicPr>
        <p:blipFill>
          <a:blip r:embed="rId9"/>
          <a:stretch/>
        </p:blipFill>
        <p:spPr>
          <a:xfrm>
            <a:off x="208080" y="5662440"/>
            <a:ext cx="3541680" cy="89064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оугольник 17" descr=""/>
          <p:cNvPicPr/>
          <p:nvPr/>
        </p:nvPicPr>
        <p:blipFill>
          <a:blip r:embed="rId10"/>
          <a:stretch/>
        </p:blipFill>
        <p:spPr>
          <a:xfrm>
            <a:off x="3297240" y="6072120"/>
            <a:ext cx="2494080" cy="60336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оугольник 18" descr=""/>
          <p:cNvPicPr/>
          <p:nvPr/>
        </p:nvPicPr>
        <p:blipFill>
          <a:blip r:embed="rId11"/>
          <a:stretch/>
        </p:blipFill>
        <p:spPr>
          <a:xfrm>
            <a:off x="5924520" y="5145120"/>
            <a:ext cx="3225960" cy="1463760"/>
          </a:xfrm>
          <a:prstGeom prst="rect">
            <a:avLst/>
          </a:prstGeom>
          <a:ln w="0">
            <a:noFill/>
          </a:ln>
        </p:spPr>
      </p:pic>
      <p:cxnSp>
        <p:nvCxnSpPr>
          <p:cNvPr id="348" name="Прямая со стрелкой 20"/>
          <p:cNvCxnSpPr/>
          <p:nvPr/>
        </p:nvCxnSpPr>
        <p:spPr>
          <a:xfrm flipV="1">
            <a:off x="3571560" y="5285880"/>
            <a:ext cx="857880" cy="572400"/>
          </a:xfrm>
          <a:prstGeom prst="straightConnector1">
            <a:avLst/>
          </a:prstGeom>
          <a:ln w="763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49" name="Прямая со стрелкой 23"/>
          <p:cNvCxnSpPr/>
          <p:nvPr/>
        </p:nvCxnSpPr>
        <p:spPr>
          <a:xfrm flipV="1">
            <a:off x="4928040" y="5358600"/>
            <a:ext cx="2520" cy="857880"/>
          </a:xfrm>
          <a:prstGeom prst="straightConnector1">
            <a:avLst/>
          </a:prstGeom>
          <a:ln w="763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50" name="Прямая со стрелкой 26"/>
          <p:cNvCxnSpPr/>
          <p:nvPr/>
        </p:nvCxnSpPr>
        <p:spPr>
          <a:xfrm flipH="1" flipV="1">
            <a:off x="5285520" y="5000040"/>
            <a:ext cx="1415160" cy="494280"/>
          </a:xfrm>
          <a:prstGeom prst="straightConnector1">
            <a:avLst/>
          </a:prstGeom>
          <a:ln w="7632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51" name="Номер слайда 2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88EE-FCDB-4BB4-AA15-AFC3099CB3C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ижний колонтитул 2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cc00"/>
                </a:solidFill>
                <a:latin typeface="Calibri"/>
              </a:rPr>
              <a:t>Другий енергетичний рівень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mbria"/>
              </a:rPr>
              <a:t>Може вмістити максимум 2 * 2  = 8 електронів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Електронна формула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другого енергетичного рівня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Perpetua"/>
              </a:rPr>
              <a:t>2s 2p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5" name="Прямоугольник 3" descr=""/>
          <p:cNvPicPr/>
          <p:nvPr/>
        </p:nvPicPr>
        <p:blipFill>
          <a:blip r:embed="rId1"/>
          <a:stretch/>
        </p:blipFill>
        <p:spPr>
          <a:xfrm>
            <a:off x="2279520" y="2084400"/>
            <a:ext cx="567000" cy="482760"/>
          </a:xfrm>
          <a:prstGeom prst="rect">
            <a:avLst/>
          </a:prstGeom>
          <a:ln w="0">
            <a:noFill/>
          </a:ln>
        </p:spPr>
      </p:pic>
      <p:pic>
        <p:nvPicPr>
          <p:cNvPr id="356" name="Прямоугольник 4" descr=""/>
          <p:cNvPicPr/>
          <p:nvPr/>
        </p:nvPicPr>
        <p:blipFill>
          <a:blip r:embed="rId2"/>
          <a:stretch/>
        </p:blipFill>
        <p:spPr>
          <a:xfrm>
            <a:off x="4327560" y="4267080"/>
            <a:ext cx="757080" cy="646200"/>
          </a:xfrm>
          <a:prstGeom prst="rect">
            <a:avLst/>
          </a:prstGeom>
          <a:ln w="0">
            <a:noFill/>
          </a:ln>
        </p:spPr>
      </p:pic>
      <p:pic>
        <p:nvPicPr>
          <p:cNvPr id="357" name="Прямоугольник 5" descr=""/>
          <p:cNvPicPr/>
          <p:nvPr/>
        </p:nvPicPr>
        <p:blipFill>
          <a:blip r:embed="rId3"/>
          <a:stretch/>
        </p:blipFill>
        <p:spPr>
          <a:xfrm>
            <a:off x="5473800" y="4267080"/>
            <a:ext cx="755640" cy="646200"/>
          </a:xfrm>
          <a:prstGeom prst="rect">
            <a:avLst/>
          </a:prstGeom>
          <a:ln w="0">
            <a:noFill/>
          </a:ln>
        </p:spPr>
      </p:pic>
      <p:sp>
        <p:nvSpPr>
          <p:cNvPr id="358" name="Номер слайда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0551-B0EE-469F-82D7-BD2B71BDF60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Нижний колонтитул 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cc00"/>
                </a:solidFill>
                <a:latin typeface="Calibri"/>
              </a:rPr>
              <a:t>Третій енергетичний рівень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14400" y="1447560"/>
            <a:ext cx="777240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mbria"/>
              </a:rPr>
              <a:t>Вміщує не більше                     2 * 3  = 18 електронів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mbria"/>
              </a:rPr>
              <a:t>Самостійно скласти електронну формулу третього енергетичного рівня!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2" name="Прямоугольник 3" descr=""/>
          <p:cNvPicPr/>
          <p:nvPr/>
        </p:nvPicPr>
        <p:blipFill>
          <a:blip r:embed="rId1"/>
          <a:stretch/>
        </p:blipFill>
        <p:spPr>
          <a:xfrm>
            <a:off x="2206800" y="1944720"/>
            <a:ext cx="566640" cy="480960"/>
          </a:xfrm>
          <a:prstGeom prst="rect">
            <a:avLst/>
          </a:prstGeom>
          <a:ln w="0">
            <a:noFill/>
          </a:ln>
        </p:spPr>
      </p:pic>
      <p:grpSp>
        <p:nvGrpSpPr>
          <p:cNvPr id="363" name="Группа 8"/>
          <p:cNvGrpSpPr/>
          <p:nvPr/>
        </p:nvGrpSpPr>
        <p:grpSpPr>
          <a:xfrm>
            <a:off x="2143080" y="5000760"/>
            <a:ext cx="5214960" cy="1446120"/>
            <a:chOff x="2143080" y="5000760"/>
            <a:chExt cx="5214960" cy="1446120"/>
          </a:xfrm>
        </p:grpSpPr>
        <p:pic>
          <p:nvPicPr>
            <p:cNvPr id="36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143080" y="5000760"/>
              <a:ext cx="5143320" cy="14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3285360" y="5135760"/>
              <a:ext cx="7725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924440" y="5205960"/>
              <a:ext cx="722880" cy="58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6458760" y="5145840"/>
              <a:ext cx="899280" cy="58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Номер слайда 9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D2A3-CC28-4F36-8952-3F1F1209D47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ижний колонтитул 10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142920" y="109440"/>
          <a:ext cx="8786880" cy="6391440"/>
        </p:xfrm>
        <a:graphic>
          <a:graphicData uri="http://schemas.openxmlformats.org/drawingml/2006/table">
            <a:tbl>
              <a:tblPr/>
              <a:tblGrid>
                <a:gridCol w="2428920"/>
                <a:gridCol w="3143160"/>
                <a:gridCol w="3214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оняття в періодичній систем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изначенн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Зв'язок з будовою атом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рядковий номе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ері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руп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ідносна атомна м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</a:tr>
            </a:tbl>
          </a:graphicData>
        </a:graphic>
      </p:graphicFrame>
      <p:pic>
        <p:nvPicPr>
          <p:cNvPr id="371" name="Прямоугольник 4" descr=""/>
          <p:cNvPicPr/>
          <p:nvPr/>
        </p:nvPicPr>
        <p:blipFill>
          <a:blip r:embed="rId1"/>
          <a:stretch/>
        </p:blipFill>
        <p:spPr>
          <a:xfrm>
            <a:off x="2571840" y="2109960"/>
            <a:ext cx="2609640" cy="105408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5" descr=""/>
          <p:cNvPicPr/>
          <p:nvPr/>
        </p:nvPicPr>
        <p:blipFill>
          <a:blip r:embed="rId2"/>
          <a:stretch/>
        </p:blipFill>
        <p:spPr>
          <a:xfrm>
            <a:off x="2639880" y="3181320"/>
            <a:ext cx="2865600" cy="105588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6" descr=""/>
          <p:cNvPicPr/>
          <p:nvPr/>
        </p:nvPicPr>
        <p:blipFill>
          <a:blip r:embed="rId3"/>
          <a:stretch/>
        </p:blipFill>
        <p:spPr>
          <a:xfrm>
            <a:off x="2571840" y="4254480"/>
            <a:ext cx="2865240" cy="105588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7" descr=""/>
          <p:cNvPicPr/>
          <p:nvPr/>
        </p:nvPicPr>
        <p:blipFill>
          <a:blip r:embed="rId4"/>
          <a:stretch/>
        </p:blipFill>
        <p:spPr>
          <a:xfrm>
            <a:off x="2571840" y="5321160"/>
            <a:ext cx="3060720" cy="136548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8" descr=""/>
          <p:cNvPicPr/>
          <p:nvPr/>
        </p:nvPicPr>
        <p:blipFill>
          <a:blip r:embed="rId5"/>
          <a:stretch/>
        </p:blipFill>
        <p:spPr>
          <a:xfrm>
            <a:off x="5711760" y="2036880"/>
            <a:ext cx="2462400" cy="105408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9" descr=""/>
          <p:cNvPicPr/>
          <p:nvPr/>
        </p:nvPicPr>
        <p:blipFill>
          <a:blip r:embed="rId6"/>
          <a:stretch/>
        </p:blipFill>
        <p:spPr>
          <a:xfrm>
            <a:off x="5638680" y="5394240"/>
            <a:ext cx="3372120" cy="43992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0" descr=""/>
          <p:cNvPicPr/>
          <p:nvPr/>
        </p:nvPicPr>
        <p:blipFill>
          <a:blip r:embed="rId7"/>
          <a:stretch/>
        </p:blipFill>
        <p:spPr>
          <a:xfrm>
            <a:off x="5851440" y="3181320"/>
            <a:ext cx="2719440" cy="74448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1" descr=""/>
          <p:cNvPicPr/>
          <p:nvPr/>
        </p:nvPicPr>
        <p:blipFill>
          <a:blip r:embed="rId8"/>
          <a:stretch/>
        </p:blipFill>
        <p:spPr>
          <a:xfrm>
            <a:off x="5657760" y="4108320"/>
            <a:ext cx="3552840" cy="1365480"/>
          </a:xfrm>
          <a:prstGeom prst="rect">
            <a:avLst/>
          </a:prstGeom>
          <a:ln w="0">
            <a:noFill/>
          </a:ln>
        </p:spPr>
      </p:pic>
      <p:sp>
        <p:nvSpPr>
          <p:cNvPr id="379" name="Номер слайда 1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B59E-71AB-4FCC-8E31-CFC3C54AE71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ижний колонтитул 1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cc00"/>
                </a:solidFill>
                <a:latin typeface="Calibri"/>
              </a:rPr>
              <a:t>Бліц-турнір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mbria"/>
              </a:rPr>
              <a:t>Як визначити кількість електронів у атомі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mbria"/>
              </a:rPr>
              <a:t>Де розподіляються електрони в атомі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mbria"/>
              </a:rPr>
              <a:t>Які форми мають електронні орбіталі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mbria"/>
              </a:rPr>
              <a:t>Як розподіляються електрони в атомі на різних енергетичних рівнях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F6D6-50DA-4276-8B0A-361A02272B8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Нижний колонтитул 4"/>
          <p:cNvSpPr/>
          <p:nvPr/>
        </p:nvSpPr>
        <p:spPr>
          <a:xfrm>
            <a:off x="1285920" y="621504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Calibri"/>
              </a:rPr>
              <a:t>Дякую за урок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214360" y="4786200"/>
            <a:ext cx="485748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mbria"/>
              </a:rPr>
              <a:t>До побачення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87" name="Рисунок 3" descr="417125663.gif"/>
          <p:cNvPicPr/>
          <p:nvPr/>
        </p:nvPicPr>
        <p:blipFill>
          <a:blip r:embed="rId1"/>
          <a:stretch/>
        </p:blipFill>
        <p:spPr>
          <a:xfrm>
            <a:off x="3492360" y="1566720"/>
            <a:ext cx="2036880" cy="2035440"/>
          </a:xfrm>
          <a:prstGeom prst="rect">
            <a:avLst/>
          </a:prstGeom>
          <a:ln w="0">
            <a:noFill/>
          </a:ln>
        </p:spPr>
      </p:pic>
      <p:sp>
        <p:nvSpPr>
          <p:cNvPr id="388" name="Номер слайда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9EFE-C30C-4459-810A-7EC9A4DD237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ижний колонтитул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96464"/>
                </a:solidFill>
                <a:latin typeface="Calibri"/>
              </a:rPr>
              <a:t>Цілі уроку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Ознайомити з рухом електронів у атомах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Увести поняття електронна орбіталь, енергетичний рівень, квантові числа, напрямок орбіталі в просторі, спін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Показати двоїсту природу електрона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Пояснити відмінність між хімічною та ядерною реакціями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546E-ED21-41F9-A801-0EE081A646D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42920" y="109440"/>
          <a:ext cx="8786880" cy="6391440"/>
        </p:xfrm>
        <a:graphic>
          <a:graphicData uri="http://schemas.openxmlformats.org/drawingml/2006/table">
            <a:tbl>
              <a:tblPr/>
              <a:tblGrid>
                <a:gridCol w="2428920"/>
                <a:gridCol w="3143160"/>
                <a:gridCol w="3214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оняття в періодичній систем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изначенн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Зв'язок з будовою атом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рядковий номе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ері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руп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ідносна атомна м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</a:tr>
            </a:tbl>
          </a:graphicData>
        </a:graphic>
      </p:graphicFrame>
      <p:pic>
        <p:nvPicPr>
          <p:cNvPr id="238" name="Прямоугольник 4" descr=""/>
          <p:cNvPicPr/>
          <p:nvPr/>
        </p:nvPicPr>
        <p:blipFill>
          <a:blip r:embed="rId1"/>
          <a:stretch/>
        </p:blipFill>
        <p:spPr>
          <a:xfrm>
            <a:off x="2571840" y="2109960"/>
            <a:ext cx="2609640" cy="105408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5" descr=""/>
          <p:cNvPicPr/>
          <p:nvPr/>
        </p:nvPicPr>
        <p:blipFill>
          <a:blip r:embed="rId2"/>
          <a:stretch/>
        </p:blipFill>
        <p:spPr>
          <a:xfrm>
            <a:off x="2639880" y="3181320"/>
            <a:ext cx="2865600" cy="105588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7" descr=""/>
          <p:cNvPicPr/>
          <p:nvPr/>
        </p:nvPicPr>
        <p:blipFill>
          <a:blip r:embed="rId3"/>
          <a:stretch/>
        </p:blipFill>
        <p:spPr>
          <a:xfrm>
            <a:off x="2571840" y="4254480"/>
            <a:ext cx="2865240" cy="105588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8" descr=""/>
          <p:cNvPicPr/>
          <p:nvPr/>
        </p:nvPicPr>
        <p:blipFill>
          <a:blip r:embed="rId4"/>
          <a:stretch/>
        </p:blipFill>
        <p:spPr>
          <a:xfrm>
            <a:off x="2571840" y="5321160"/>
            <a:ext cx="3060720" cy="136548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9" descr=""/>
          <p:cNvPicPr/>
          <p:nvPr/>
        </p:nvPicPr>
        <p:blipFill>
          <a:blip r:embed="rId5"/>
          <a:stretch/>
        </p:blipFill>
        <p:spPr>
          <a:xfrm>
            <a:off x="5711760" y="2036880"/>
            <a:ext cx="2462400" cy="105408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10" descr=""/>
          <p:cNvPicPr/>
          <p:nvPr/>
        </p:nvPicPr>
        <p:blipFill>
          <a:blip r:embed="rId6"/>
          <a:stretch/>
        </p:blipFill>
        <p:spPr>
          <a:xfrm>
            <a:off x="6845400" y="3395520"/>
            <a:ext cx="463320" cy="43812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11" descr=""/>
          <p:cNvPicPr/>
          <p:nvPr/>
        </p:nvPicPr>
        <p:blipFill>
          <a:blip r:embed="rId7"/>
          <a:stretch/>
        </p:blipFill>
        <p:spPr>
          <a:xfrm>
            <a:off x="5638680" y="5394240"/>
            <a:ext cx="3372120" cy="43992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12" descr=""/>
          <p:cNvPicPr/>
          <p:nvPr/>
        </p:nvPicPr>
        <p:blipFill>
          <a:blip r:embed="rId8"/>
          <a:stretch/>
        </p:blipFill>
        <p:spPr>
          <a:xfrm>
            <a:off x="6918480" y="4541760"/>
            <a:ext cx="463320" cy="438120"/>
          </a:xfrm>
          <a:prstGeom prst="rect">
            <a:avLst/>
          </a:prstGeom>
          <a:ln w="0">
            <a:noFill/>
          </a:ln>
        </p:spPr>
      </p:pic>
      <p:sp>
        <p:nvSpPr>
          <p:cNvPr id="246" name="Номер слайда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5E61-2AEC-41D5-83E5-9B09BD324C7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ижний колонтитул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4" descr="220px-Atome_de_Rutherford.png"/>
          <p:cNvPicPr/>
          <p:nvPr/>
        </p:nvPicPr>
        <p:blipFill>
          <a:blip r:embed="rId1"/>
          <a:stretch/>
        </p:blipFill>
        <p:spPr>
          <a:xfrm>
            <a:off x="2066760" y="1066680"/>
            <a:ext cx="4437360" cy="4297320"/>
          </a:xfrm>
          <a:prstGeom prst="rect">
            <a:avLst/>
          </a:prstGeom>
          <a:ln w="0">
            <a:noFill/>
          </a:ln>
        </p:spPr>
      </p:pic>
      <p:sp>
        <p:nvSpPr>
          <p:cNvPr id="249" name="Овал 6"/>
          <p:cNvSpPr/>
          <p:nvPr/>
        </p:nvSpPr>
        <p:spPr>
          <a:xfrm>
            <a:off x="2928960" y="1714680"/>
            <a:ext cx="357120" cy="357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7"/>
          <p:cNvSpPr/>
          <p:nvPr/>
        </p:nvSpPr>
        <p:spPr>
          <a:xfrm>
            <a:off x="4357800" y="1714680"/>
            <a:ext cx="357120" cy="357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8"/>
          <p:cNvSpPr/>
          <p:nvPr/>
        </p:nvSpPr>
        <p:spPr>
          <a:xfrm>
            <a:off x="2643120" y="3500280"/>
            <a:ext cx="357120" cy="357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9"/>
          <p:cNvSpPr/>
          <p:nvPr/>
        </p:nvSpPr>
        <p:spPr>
          <a:xfrm>
            <a:off x="3214800" y="3214800"/>
            <a:ext cx="357120" cy="357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10"/>
          <p:cNvSpPr/>
          <p:nvPr/>
        </p:nvSpPr>
        <p:spPr>
          <a:xfrm>
            <a:off x="5929200" y="3786120"/>
            <a:ext cx="357480" cy="357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11"/>
          <p:cNvSpPr/>
          <p:nvPr/>
        </p:nvSpPr>
        <p:spPr>
          <a:xfrm>
            <a:off x="4643280" y="4357800"/>
            <a:ext cx="357480" cy="357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Прямоугольник 12" descr=""/>
          <p:cNvPicPr/>
          <p:nvPr/>
        </p:nvPicPr>
        <p:blipFill>
          <a:blip r:embed="rId2"/>
          <a:stretch/>
        </p:blipFill>
        <p:spPr>
          <a:xfrm>
            <a:off x="4406760" y="-334800"/>
            <a:ext cx="6035760" cy="5565600"/>
          </a:xfrm>
          <a:prstGeom prst="rect">
            <a:avLst/>
          </a:prstGeom>
          <a:ln w="0">
            <a:noFill/>
          </a:ln>
        </p:spPr>
      </p:pic>
      <p:sp>
        <p:nvSpPr>
          <p:cNvPr id="256" name="Номер слайда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862D-A98C-46D8-91BB-69CD6261AE6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ижний колонтитул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7.40741E-007 C -0.00938 0.02523 -0.0224 0.07337 -0.0257 0.10509 C -0.029 0.1368 -0.02171 0.16782 -0.01962 0.19004 C -0.01754 0.21226 -0.02188 0.20925 -0.01355 0.23842 C -0.00521 0.26759 0.0144 0.33379 0.03038 0.36574 C 0.04635 0.39768 0.05954 0.41157 0.08176 0.43032 C 0.10399 0.44907 0.13715 0.47824 0.16371 0.47893 C 0.19027 0.47962 0.22152 0.45648 0.24097 0.43449 C 0.26041 0.4125 0.27274 0.38009 0.28038 0.34745 C 0.28801 0.31481 0.28801 0.27337 0.28645 0.23842 C 0.28489 0.20347 0.27968 0.17013 0.27117 0.1375 C 0.26267 0.10486 0.24878 0.06967 0.23489 0.04236 C 0.221 0.01504 0.20295 -0.00996 0.18784 -0.02616 C 0.17274 -0.04237 0.16232 -0.0463 0.14392 -0.0544 C 0.12551 -0.0625 0.09617 -0.07616 0.07725 -0.07477 C 0.05833 -0.07338 0.04322 -0.05903 0.03038 -0.04653 C 0.01753 -0.03403 0.00937 -0.02524 -6.66667E-006 7.40741E-007 Z">
                                      <p:cBhvr>
                                        <p:cTn id="89" dur="5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40741E-007 C -0.02327 0.0037 -0.03386 0.01666 -0.05295 0.02824 C -0.07205 0.03981 -0.09549 0.05254 -0.11511 0.06875 C -0.13472 0.08495 -0.15347 0.10138 -0.17118 0.12523 C -0.18889 0.14907 -0.21129 0.18634 -0.22118 0.21226 C -0.23108 0.23819 -0.23247 0.25833 -0.23021 0.28078 C -0.22795 0.30324 -0.2224 0.33032 -0.20747 0.34745 C -0.19254 0.36458 -0.16702 0.3787 -0.1408 0.38379 C -0.11459 0.38888 -0.08056 0.38611 -0.05 0.37777 C -0.01945 0.36944 0.01458 0.35416 0.04253 0.33333 C 0.07048 0.3125 0.09826 0.27986 0.11823 0.25254 C 0.13819 0.22523 0.15364 0.19537 0.16215 0.16967 C 0.17066 0.14398 0.17274 0.12129 0.16979 0.09907 C 0.16684 0.07685 0.15781 0.05185 0.14392 0.03634 C 0.13003 0.02083 0.11024 0.01134 0.08646 0.00601 C 0.06267 0.00069 0.02326 -0.00371 -5.55556E-007 7.40741E-007 Z">
                                      <p:cBhvr>
                                        <p:cTn id="91" dur="5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037E-007 C 0.01458 -0.03982 0.01441 -0.0787 0.01371 -0.11528 C 0.01302 -0.15185 0.00625 -0.18727 -0.00452 -0.22014 C -0.01528 -0.25301 -0.0349 -0.28866 -0.05139 -0.31319 C -0.06788 -0.33773 -0.08021 -0.3537 -0.10295 -0.36759 C -0.1257 -0.38148 -0.1599 -0.39329 -0.18785 -0.39607 C -0.2158 -0.39884 -0.24358 -0.3963 -0.27118 -0.3838 C -0.29879 -0.3713 -0.32969 -0.35394 -0.35295 -0.3213 C -0.37622 -0.28866 -0.40278 -0.24213 -0.41059 -0.18796 C -0.4184 -0.1338 -0.41337 -0.04583 -0.4 0.00393 C -0.38663 0.0537 -0.35955 0.08241 -0.33021 0.11111 C -0.30087 0.13981 -0.26684 0.17361 -0.22413 0.17569 C -0.18143 0.17778 -0.11146 0.15324 -0.07413 0.12315 C -0.03681 0.09306 -0.01459 0.03981 3.88889E-006 -3.7037E-007 Z">
                                      <p:cBhvr>
                                        <p:cTn id="93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11111E-006 C 0.00729 -0.03935 0.0125 -0.10602 0.01371 -0.15764 C 0.01493 -0.20926 0.01441 -0.25949 0.00764 -0.30926 C 0.00087 -0.35903 -0.01268 -0.43241 -0.02726 -0.45671 C -0.04184 -0.48102 -0.06511 -0.48449 -0.08021 -0.45463 C -0.09532 -0.42477 -0.1132 -0.34375 -0.11823 -0.27685 C -0.12327 -0.20995 -0.11823 -0.11204 -0.11059 -0.05254 C -0.10295 0.00695 -0.08611 0.05903 -0.07275 0.08079 C -0.05938 0.10255 -0.04167 0.09097 -0.03021 0.07871 C -0.01875 0.06644 -0.00729 0.03935 3.05556E-006 1.11111E-006 Z">
                                      <p:cBhvr>
                                        <p:cTn id="95" dur="5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8.14815E-006 C -0.01215 0.02384 -0.0349 0.07893 -0.04393 0.10717 C -0.05295 0.13541 -0.05903 0.15671 -0.05452 0.1699 C -0.05 0.1831 -0.03959 0.19675 -0.01667 0.18587 C 0.00625 0.17499 0.04323 0.15092 0.08333 0.10509 C 0.12344 0.05925 0.19444 -0.03751 0.2243 -0.08889 C 0.25416 -0.14028 0.26389 -0.1801 0.26215 -0.20394 C 0.26041 -0.22778 0.23455 -0.2382 0.21371 -0.23218 C 0.19288 -0.22616 0.16719 -0.20024 0.13646 -0.1676 C 0.10573 -0.13496 0.05087 -0.06389 0.02882 -0.03635 C 0.00677 -0.0088 0.01215 -0.02385 -1.11111E-006 -8.14815E-006 Z">
                                      <p:cBhvr>
                                        <p:cTn id="97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6 C 0.02222 0.0095 0.04896 0.02709 0.09236 0.03033 C 0.13576 0.03357 0.21545 0.03079 0.26059 0.02014 C 0.30573 0.0095 0.3474 -0.01296 0.36372 -0.03425 C 0.38004 -0.05555 0.37674 -0.08657 0.35903 -0.10717 C 0.34132 -0.12777 0.29653 -0.14652 0.25764 -0.15763 C 0.21875 -0.16874 0.16441 -0.17453 0.12569 -0.17384 C 0.08698 -0.17314 0.05451 -0.1662 0.02569 -0.15347 C -0.00312 -0.14074 -0.03576 -0.11828 -0.04687 -0.09699 C -0.05799 -0.07569 -0.04826 -0.04212 -0.04097 -0.02638 C -0.03368 -0.01064 -0.02222 -0.00949 -3.33333E-006 7.40741E-006 Z">
                                      <p:cBhvr>
                                        <p:cTn id="99" dur="5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714560" y="213840"/>
            <a:ext cx="4143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uk-UA" sz="3200" spc="-1" strike="noStrike">
                <a:solidFill>
                  <a:srgbClr val="ff0000"/>
                </a:solidFill>
                <a:latin typeface="Cambria"/>
              </a:rPr>
              <a:t>Електронна хмарина або електронна орбіталь 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частина простору навколо ядра, де перебування електронна наймовірніше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59" name="Овал 5"/>
          <p:cNvGrpSpPr/>
          <p:nvPr/>
        </p:nvGrpSpPr>
        <p:grpSpPr>
          <a:xfrm>
            <a:off x="396720" y="1255680"/>
            <a:ext cx="3705480" cy="3487680"/>
            <a:chOff x="396720" y="1255680"/>
            <a:chExt cx="3705480" cy="3487680"/>
          </a:xfrm>
        </p:grpSpPr>
        <p:pic>
          <p:nvPicPr>
            <p:cNvPr id="260" name="Овал 5" descr=""/>
            <p:cNvPicPr/>
            <p:nvPr/>
          </p:nvPicPr>
          <p:blipFill>
            <a:blip r:embed="rId1"/>
            <a:stretch/>
          </p:blipFill>
          <p:spPr>
            <a:xfrm>
              <a:off x="396720" y="1255680"/>
              <a:ext cx="3705480" cy="34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114560" y="1940040"/>
              <a:ext cx="227160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Кольцо 11"/>
          <p:cNvSpPr/>
          <p:nvPr/>
        </p:nvSpPr>
        <p:spPr>
          <a:xfrm>
            <a:off x="1143000" y="2000160"/>
            <a:ext cx="2143080" cy="2071800"/>
          </a:xfrm>
          <a:custGeom>
            <a:avLst/>
            <a:gdLst>
              <a:gd name="textAreaLeft" fmla="*/ 313560 w 2143080"/>
              <a:gd name="textAreaRight" fmla="*/ 1829520 w 2143080"/>
              <a:gd name="textAreaTop" fmla="*/ 303120 h 2071800"/>
              <a:gd name="textAreaBottom" fmla="*/ 1768680 h 2071800"/>
            </a:gdLst>
            <a:ahLst/>
            <a:rect l="textAreaLeft" t="textAreaTop" r="textAreaRight" b="textAreaBottom"/>
            <a:pathLst>
              <a:path w="2143125" h="2071688">
                <a:moveTo>
                  <a:pt x="0" y="1035844"/>
                </a:moveTo>
                <a:lnTo>
                  <a:pt x="0" y="1035844"/>
                </a:lnTo>
                <a:arcTo wR="1071563" hR="1035844" stAng="-10799997" swAng="5400003"/>
                <a:lnTo>
                  <a:pt x="1071565" y="1"/>
                </a:lnTo>
                <a:arcTo wR="1071563" hR="1035844" stAng="-5399997" swAng="5400003"/>
                <a:lnTo>
                  <a:pt x="2143127" y="1035847"/>
                </a:lnTo>
                <a:arcTo wR="1071563" hR="1035844" stAng="0" swAng="5400003"/>
                <a:lnTo>
                  <a:pt x="1071563" y="2071691"/>
                </a:lnTo>
                <a:arcTo wR="1071563" hR="1035844" stAng="5400003" swAng="5400000"/>
                <a:close/>
                <a:moveTo>
                  <a:pt x="126332" y="1035844"/>
                </a:moveTo>
                <a:lnTo>
                  <a:pt x="126332" y="1035844"/>
                </a:lnTo>
                <a:arcTo wR="945231" hR="909512" stAng="-10799996" swAng="-5400000"/>
                <a:lnTo>
                  <a:pt x="1071562" y="1945357"/>
                </a:lnTo>
                <a:arcTo wR="945231" hR="909512" stAng="5400004" swAng="-5400000"/>
                <a:lnTo>
                  <a:pt x="2016794" y="1035846"/>
                </a:lnTo>
                <a:arcTo wR="945231" hR="909512" stAng="0" swAng="-5400000"/>
                <a:lnTo>
                  <a:pt x="1071563" y="126334"/>
                </a:lnTo>
                <a:arcTo wR="945231" hR="909512" stAng="-5399996" swAng="-5400000"/>
                <a:close/>
              </a:path>
            </a:pathLst>
          </a:custGeom>
          <a:solidFill>
            <a:srgbClr val="9e3611"/>
          </a:solidFill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Прямая со стрелкой 9"/>
          <p:cNvCxnSpPr/>
          <p:nvPr/>
        </p:nvCxnSpPr>
        <p:spPr>
          <a:xfrm flipH="1">
            <a:off x="2928240" y="785880"/>
            <a:ext cx="2072520" cy="1643760"/>
          </a:xfrm>
          <a:prstGeom prst="straightConnector1">
            <a:avLst/>
          </a:prstGeom>
          <a:ln w="7632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264" name="Содержимое 4"/>
          <p:cNvSpPr/>
          <p:nvPr/>
        </p:nvSpPr>
        <p:spPr>
          <a:xfrm>
            <a:off x="357120" y="5000760"/>
            <a:ext cx="82868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uk-UA" sz="3200" spc="-1" strike="noStrike">
                <a:solidFill>
                  <a:srgbClr val="000000"/>
                </a:solidFill>
                <a:latin typeface="Cambria"/>
              </a:rPr>
              <a:t>Орбіталь  позначають         (електронна    комірка), а електрон у ній – стрілкою (спін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3"/>
          <p:cNvSpPr/>
          <p:nvPr/>
        </p:nvSpPr>
        <p:spPr>
          <a:xfrm>
            <a:off x="5286240" y="5000760"/>
            <a:ext cx="571680" cy="571320"/>
          </a:xfrm>
          <a:prstGeom prst="rect">
            <a:avLst/>
          </a:prstGeom>
          <a:solidFill>
            <a:srgbClr val="956251"/>
          </a:solidFill>
          <a:ln w="12600">
            <a:solidFill>
              <a:srgbClr val="6c4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8072280" y="5572080"/>
            <a:ext cx="571680" cy="571680"/>
          </a:xfrm>
          <a:prstGeom prst="rect">
            <a:avLst/>
          </a:prstGeom>
          <a:solidFill>
            <a:srgbClr val="956251"/>
          </a:solidFill>
          <a:ln w="12600">
            <a:solidFill>
              <a:srgbClr val="6c4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Прямая со стрелкой 15"/>
          <p:cNvCxnSpPr/>
          <p:nvPr/>
        </p:nvCxnSpPr>
        <p:spPr>
          <a:xfrm flipV="1">
            <a:off x="8357040" y="5571720"/>
            <a:ext cx="2520" cy="572400"/>
          </a:xfrm>
          <a:prstGeom prst="straightConnector1">
            <a:avLst/>
          </a:prstGeom>
          <a:ln w="7632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268" name="Номер слайда 10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DB4E-F96D-4D18-A2FE-884210A0702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ижний колонтитул 1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Calibri"/>
              </a:rPr>
              <a:t>Електронні орбіталі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grpSp>
        <p:nvGrpSpPr>
          <p:cNvPr id="271" name="Овал 3"/>
          <p:cNvGrpSpPr/>
          <p:nvPr/>
        </p:nvGrpSpPr>
        <p:grpSpPr>
          <a:xfrm>
            <a:off x="396720" y="1255680"/>
            <a:ext cx="3778560" cy="3487680"/>
            <a:chOff x="396720" y="1255680"/>
            <a:chExt cx="3778560" cy="3487680"/>
          </a:xfrm>
        </p:grpSpPr>
        <p:pic>
          <p:nvPicPr>
            <p:cNvPr id="272" name="Овал 3" descr=""/>
            <p:cNvPicPr/>
            <p:nvPr/>
          </p:nvPicPr>
          <p:blipFill>
            <a:blip r:embed="rId1"/>
            <a:stretch/>
          </p:blipFill>
          <p:spPr>
            <a:xfrm>
              <a:off x="396720" y="1255680"/>
              <a:ext cx="3778560" cy="34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1123920" y="1940040"/>
              <a:ext cx="232416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Прямоугольник 4" descr=""/>
          <p:cNvPicPr/>
          <p:nvPr/>
        </p:nvPicPr>
        <p:blipFill>
          <a:blip r:embed="rId2"/>
          <a:stretch/>
        </p:blipFill>
        <p:spPr>
          <a:xfrm>
            <a:off x="3524400" y="2036880"/>
            <a:ext cx="5900760" cy="1535040"/>
          </a:xfrm>
          <a:prstGeom prst="rect">
            <a:avLst/>
          </a:prstGeom>
          <a:ln w="0">
            <a:noFill/>
          </a:ln>
        </p:spPr>
      </p:pic>
      <p:sp>
        <p:nvSpPr>
          <p:cNvPr id="275" name="Рамка 5"/>
          <p:cNvSpPr/>
          <p:nvPr/>
        </p:nvSpPr>
        <p:spPr>
          <a:xfrm>
            <a:off x="3643200" y="442908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Прямоугольник 6" descr=""/>
          <p:cNvPicPr/>
          <p:nvPr/>
        </p:nvPicPr>
        <p:blipFill>
          <a:blip r:embed="rId3"/>
          <a:stretch/>
        </p:blipFill>
        <p:spPr>
          <a:xfrm>
            <a:off x="950760" y="5718240"/>
            <a:ext cx="7351920" cy="1146240"/>
          </a:xfrm>
          <a:prstGeom prst="rect">
            <a:avLst/>
          </a:prstGeom>
          <a:ln w="0">
            <a:noFill/>
          </a:ln>
        </p:spPr>
      </p:pic>
      <p:sp>
        <p:nvSpPr>
          <p:cNvPr id="277" name="Номер слайда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7091-55A6-4035-9FED-6850E69E940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ижний колонтитул 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Капля 3"/>
          <p:cNvSpPr/>
          <p:nvPr/>
        </p:nvSpPr>
        <p:spPr>
          <a:xfrm>
            <a:off x="857160" y="2143080"/>
            <a:ext cx="1000080" cy="1071720"/>
          </a:xfrm>
          <a:custGeom>
            <a:avLst/>
            <a:gdLst>
              <a:gd name="textAreaLeft" fmla="*/ 146160 w 1000080"/>
              <a:gd name="textAreaRight" fmla="*/ 853920 w 1000080"/>
              <a:gd name="textAreaTop" fmla="*/ 156960 h 1071720"/>
              <a:gd name="textAreaBottom" fmla="*/ 914760 h 1071720"/>
            </a:gdLst>
            <a:ahLst/>
            <a:rect l="textAreaLeft" t="textAreaTop" r="textAreaRight" b="textAreaBottom"/>
            <a:pathLst>
              <a:path w="1000125" h="1071563">
                <a:moveTo>
                  <a:pt x="0" y="535782"/>
                </a:moveTo>
                <a:lnTo>
                  <a:pt x="0" y="535782"/>
                </a:lnTo>
                <a:arcTo wR="500063" hR="535782" stAng="-10799993" swAng="5400000"/>
                <a:lnTo>
                  <a:pt x="757022" y="0"/>
                </a:lnTo>
                <a:lnTo>
                  <a:pt x="1013981" y="-14847"/>
                </a:lnTo>
                <a:lnTo>
                  <a:pt x="1000125" y="398125"/>
                </a:lnTo>
                <a:arcTo wR="0" hR="137658" stAng="0" swAng="0"/>
                <a:lnTo>
                  <a:pt x="926892" y="993101"/>
                </a:lnTo>
                <a:arcTo wR="-250032" hR="267891" stAng="2818497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Капля 4"/>
          <p:cNvSpPr/>
          <p:nvPr/>
        </p:nvSpPr>
        <p:spPr>
          <a:xfrm rot="10800000">
            <a:off x="1856880" y="1071720"/>
            <a:ext cx="1000440" cy="1071360"/>
          </a:xfrm>
          <a:custGeom>
            <a:avLst/>
            <a:gdLst>
              <a:gd name="textAreaLeft" fmla="*/ 146520 w 1000440"/>
              <a:gd name="textAreaRight" fmla="*/ 853920 w 1000440"/>
              <a:gd name="textAreaTop" fmla="*/ 156600 h 1071360"/>
              <a:gd name="textAreaBottom" fmla="*/ 914760 h 1071360"/>
            </a:gdLst>
            <a:ahLst/>
            <a:rect l="textAreaLeft" t="textAreaTop" r="textAreaRight" b="textAreaBottom"/>
            <a:pathLst>
              <a:path w="1000125" h="1071562">
                <a:moveTo>
                  <a:pt x="0" y="535781"/>
                </a:moveTo>
                <a:lnTo>
                  <a:pt x="0" y="535781"/>
                </a:lnTo>
                <a:arcTo wR="500063" hR="535781" stAng="-10799993" swAng="5400000"/>
                <a:lnTo>
                  <a:pt x="763947" y="0"/>
                </a:lnTo>
                <a:lnTo>
                  <a:pt x="1027833" y="-29688"/>
                </a:lnTo>
                <a:lnTo>
                  <a:pt x="1000125" y="394414"/>
                </a:lnTo>
                <a:arcTo wR="0" hR="141367" stAng="0" swAng="0"/>
                <a:lnTo>
                  <a:pt x="926892" y="993099"/>
                </a:lnTo>
                <a:arcTo wR="-250032" hR="267891" stAng="281849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Прямоугольник 6" descr=""/>
          <p:cNvPicPr/>
          <p:nvPr/>
        </p:nvPicPr>
        <p:blipFill>
          <a:blip r:embed="rId1"/>
          <a:stretch/>
        </p:blipFill>
        <p:spPr>
          <a:xfrm>
            <a:off x="2809800" y="1328760"/>
            <a:ext cx="6029280" cy="1457280"/>
          </a:xfrm>
          <a:prstGeom prst="rect">
            <a:avLst/>
          </a:prstGeom>
          <a:ln w="0">
            <a:noFill/>
          </a:ln>
        </p:spPr>
      </p:pic>
      <p:sp>
        <p:nvSpPr>
          <p:cNvPr id="282" name="Рамка 7"/>
          <p:cNvSpPr/>
          <p:nvPr/>
        </p:nvSpPr>
        <p:spPr>
          <a:xfrm>
            <a:off x="221472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Прямоугольник 8" descr=""/>
          <p:cNvPicPr/>
          <p:nvPr/>
        </p:nvPicPr>
        <p:blipFill>
          <a:blip r:embed="rId2"/>
          <a:stretch/>
        </p:blipFill>
        <p:spPr>
          <a:xfrm>
            <a:off x="811080" y="5291280"/>
            <a:ext cx="7266240" cy="1145880"/>
          </a:xfrm>
          <a:prstGeom prst="rect">
            <a:avLst/>
          </a:prstGeom>
          <a:ln w="0">
            <a:noFill/>
          </a:ln>
        </p:spPr>
      </p:pic>
      <p:sp>
        <p:nvSpPr>
          <p:cNvPr id="284" name="Рамка 9"/>
          <p:cNvSpPr/>
          <p:nvPr/>
        </p:nvSpPr>
        <p:spPr>
          <a:xfrm>
            <a:off x="385776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3" h="1571625">
                <a:moveTo>
                  <a:pt x="0" y="0"/>
                </a:moveTo>
                <a:lnTo>
                  <a:pt x="1643063" y="0"/>
                </a:lnTo>
                <a:lnTo>
                  <a:pt x="1643063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10" y="1375172"/>
                </a:lnTo>
                <a:lnTo>
                  <a:pt x="1446610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Рамка 10"/>
          <p:cNvSpPr/>
          <p:nvPr/>
        </p:nvSpPr>
        <p:spPr>
          <a:xfrm>
            <a:off x="550080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омер слайда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64A8-BDE4-4708-A75C-773998F5C73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Нижний колонтитул 1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Капля 5"/>
          <p:cNvSpPr/>
          <p:nvPr/>
        </p:nvSpPr>
        <p:spPr>
          <a:xfrm>
            <a:off x="857160" y="2143080"/>
            <a:ext cx="1000080" cy="1071720"/>
          </a:xfrm>
          <a:custGeom>
            <a:avLst/>
            <a:gdLst>
              <a:gd name="textAreaLeft" fmla="*/ 146160 w 1000080"/>
              <a:gd name="textAreaRight" fmla="*/ 853920 w 1000080"/>
              <a:gd name="textAreaTop" fmla="*/ 156960 h 1071720"/>
              <a:gd name="textAreaBottom" fmla="*/ 914760 h 1071720"/>
            </a:gdLst>
            <a:ahLst/>
            <a:rect l="textAreaLeft" t="textAreaTop" r="textAreaRight" b="textAreaBottom"/>
            <a:pathLst>
              <a:path w="1000125" h="1071563">
                <a:moveTo>
                  <a:pt x="0" y="535782"/>
                </a:moveTo>
                <a:lnTo>
                  <a:pt x="0" y="535782"/>
                </a:lnTo>
                <a:arcTo wR="500063" hR="535782" stAng="-10799993" swAng="5400000"/>
                <a:lnTo>
                  <a:pt x="757022" y="0"/>
                </a:lnTo>
                <a:lnTo>
                  <a:pt x="1013981" y="-14847"/>
                </a:lnTo>
                <a:lnTo>
                  <a:pt x="1000125" y="398125"/>
                </a:lnTo>
                <a:arcTo wR="0" hR="137658" stAng="0" swAng="0"/>
                <a:lnTo>
                  <a:pt x="926892" y="993101"/>
                </a:lnTo>
                <a:arcTo wR="-250032" hR="267891" stAng="2818497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Капля 6"/>
          <p:cNvSpPr/>
          <p:nvPr/>
        </p:nvSpPr>
        <p:spPr>
          <a:xfrm rot="10800000">
            <a:off x="1856880" y="999720"/>
            <a:ext cx="1071720" cy="1143000"/>
          </a:xfrm>
          <a:custGeom>
            <a:avLst/>
            <a:gdLst>
              <a:gd name="textAreaLeft" fmla="*/ 156960 w 1071720"/>
              <a:gd name="textAreaRight" fmla="*/ 914760 w 1071720"/>
              <a:gd name="textAreaTop" fmla="*/ 167400 h 1143000"/>
              <a:gd name="textAreaBottom" fmla="*/ 975600 h 1143000"/>
            </a:gdLst>
            <a:ahLst/>
            <a:rect l="textAreaLeft" t="textAreaTop" r="textAreaRight" b="textAreaBottom"/>
            <a:pathLst>
              <a:path w="1071563" h="1143000">
                <a:moveTo>
                  <a:pt x="0" y="571500"/>
                </a:moveTo>
                <a:lnTo>
                  <a:pt x="0" y="571500"/>
                </a:lnTo>
                <a:arcTo wR="535782" hR="571500" stAng="-10799994" swAng="5400000"/>
                <a:lnTo>
                  <a:pt x="818516" y="0"/>
                </a:lnTo>
                <a:lnTo>
                  <a:pt x="1101250" y="-31667"/>
                </a:lnTo>
                <a:lnTo>
                  <a:pt x="1071563" y="420708"/>
                </a:lnTo>
                <a:arcTo wR="0" hR="150792" stAng="0" swAng="0"/>
                <a:lnTo>
                  <a:pt x="993100" y="1059306"/>
                </a:lnTo>
                <a:arcTo wR="-267891" hR="285750" stAng="281085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Капля 7"/>
          <p:cNvSpPr/>
          <p:nvPr/>
        </p:nvSpPr>
        <p:spPr>
          <a:xfrm rot="5203800">
            <a:off x="776520" y="1137240"/>
            <a:ext cx="1000080" cy="1071720"/>
          </a:xfrm>
          <a:custGeom>
            <a:avLst/>
            <a:gdLst>
              <a:gd name="textAreaLeft" fmla="*/ 146160 w 1000080"/>
              <a:gd name="textAreaRight" fmla="*/ 853920 w 1000080"/>
              <a:gd name="textAreaTop" fmla="*/ 156960 h 1071720"/>
              <a:gd name="textAreaBottom" fmla="*/ 914760 h 1071720"/>
            </a:gdLst>
            <a:ahLst/>
            <a:rect l="textAreaLeft" t="textAreaTop" r="textAreaRight" b="textAreaBottom"/>
            <a:pathLst>
              <a:path w="1000125" h="1071562">
                <a:moveTo>
                  <a:pt x="0" y="535781"/>
                </a:moveTo>
                <a:lnTo>
                  <a:pt x="0" y="535781"/>
                </a:lnTo>
                <a:arcTo wR="500063" hR="535781" stAng="-10799993" swAng="5400000"/>
                <a:lnTo>
                  <a:pt x="757022" y="0"/>
                </a:lnTo>
                <a:lnTo>
                  <a:pt x="1013981" y="-14847"/>
                </a:lnTo>
                <a:lnTo>
                  <a:pt x="1000125" y="398124"/>
                </a:lnTo>
                <a:arcTo wR="0" hR="137657" stAng="0" swAng="0"/>
                <a:lnTo>
                  <a:pt x="926892" y="993099"/>
                </a:lnTo>
                <a:arcTo wR="-250032" hR="267891" stAng="281849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Капля 8"/>
          <p:cNvSpPr/>
          <p:nvPr/>
        </p:nvSpPr>
        <p:spPr>
          <a:xfrm rot="16003200">
            <a:off x="1919880" y="2137320"/>
            <a:ext cx="1000080" cy="1071720"/>
          </a:xfrm>
          <a:custGeom>
            <a:avLst/>
            <a:gdLst>
              <a:gd name="textAreaLeft" fmla="*/ 146160 w 1000080"/>
              <a:gd name="textAreaRight" fmla="*/ 853920 w 1000080"/>
              <a:gd name="textAreaTop" fmla="*/ 156960 h 1071720"/>
              <a:gd name="textAreaBottom" fmla="*/ 914760 h 1071720"/>
            </a:gdLst>
            <a:ahLst/>
            <a:rect l="textAreaLeft" t="textAreaTop" r="textAreaRight" b="textAreaBottom"/>
            <a:pathLst>
              <a:path w="1000125" h="1071562">
                <a:moveTo>
                  <a:pt x="0" y="535781"/>
                </a:moveTo>
                <a:lnTo>
                  <a:pt x="0" y="535781"/>
                </a:lnTo>
                <a:arcTo wR="500063" hR="535781" stAng="-10799993" swAng="5400000"/>
                <a:lnTo>
                  <a:pt x="763947" y="0"/>
                </a:lnTo>
                <a:lnTo>
                  <a:pt x="1027833" y="-29688"/>
                </a:lnTo>
                <a:lnTo>
                  <a:pt x="1000125" y="394414"/>
                </a:lnTo>
                <a:arcTo wR="0" hR="141367" stAng="0" swAng="0"/>
                <a:lnTo>
                  <a:pt x="926892" y="993099"/>
                </a:lnTo>
                <a:arcTo wR="-250032" hR="267891" stAng="281849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Прямоугольник 9" descr=""/>
          <p:cNvPicPr/>
          <p:nvPr/>
        </p:nvPicPr>
        <p:blipFill>
          <a:blip r:embed="rId1"/>
          <a:stretch/>
        </p:blipFill>
        <p:spPr>
          <a:xfrm>
            <a:off x="2852640" y="1036800"/>
            <a:ext cx="5943600" cy="1535040"/>
          </a:xfrm>
          <a:prstGeom prst="rect">
            <a:avLst/>
          </a:prstGeom>
          <a:ln w="0">
            <a:noFill/>
          </a:ln>
        </p:spPr>
      </p:pic>
      <p:sp>
        <p:nvSpPr>
          <p:cNvPr id="293" name="Рамка 10"/>
          <p:cNvSpPr/>
          <p:nvPr/>
        </p:nvSpPr>
        <p:spPr>
          <a:xfrm>
            <a:off x="221472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Прямоугольник 11" descr=""/>
          <p:cNvPicPr/>
          <p:nvPr/>
        </p:nvPicPr>
        <p:blipFill>
          <a:blip r:embed="rId2"/>
          <a:stretch/>
        </p:blipFill>
        <p:spPr>
          <a:xfrm>
            <a:off x="811080" y="5291280"/>
            <a:ext cx="7802640" cy="1145880"/>
          </a:xfrm>
          <a:prstGeom prst="rect">
            <a:avLst/>
          </a:prstGeom>
          <a:ln w="0">
            <a:noFill/>
          </a:ln>
        </p:spPr>
      </p:pic>
      <p:sp>
        <p:nvSpPr>
          <p:cNvPr id="295" name="Рамка 12"/>
          <p:cNvSpPr/>
          <p:nvPr/>
        </p:nvSpPr>
        <p:spPr>
          <a:xfrm>
            <a:off x="371484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3" h="1571625">
                <a:moveTo>
                  <a:pt x="0" y="0"/>
                </a:moveTo>
                <a:lnTo>
                  <a:pt x="1643063" y="0"/>
                </a:lnTo>
                <a:lnTo>
                  <a:pt x="1643063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10" y="1375172"/>
                </a:lnTo>
                <a:lnTo>
                  <a:pt x="1446610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Рамка 13"/>
          <p:cNvSpPr/>
          <p:nvPr/>
        </p:nvSpPr>
        <p:spPr>
          <a:xfrm>
            <a:off x="521496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Рамка 14"/>
          <p:cNvSpPr/>
          <p:nvPr/>
        </p:nvSpPr>
        <p:spPr>
          <a:xfrm>
            <a:off x="78588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Рамка 15"/>
          <p:cNvSpPr/>
          <p:nvPr/>
        </p:nvSpPr>
        <p:spPr>
          <a:xfrm>
            <a:off x="671508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3" h="1571625">
                <a:moveTo>
                  <a:pt x="0" y="0"/>
                </a:moveTo>
                <a:lnTo>
                  <a:pt x="1643063" y="0"/>
                </a:lnTo>
                <a:lnTo>
                  <a:pt x="1643063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10" y="1375172"/>
                </a:lnTo>
                <a:lnTo>
                  <a:pt x="1446610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1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106E-57BD-429E-9ED7-6B1DF2D5B7F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ижний колонтитул 1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Капля 4"/>
          <p:cNvSpPr/>
          <p:nvPr/>
        </p:nvSpPr>
        <p:spPr>
          <a:xfrm rot="9602400">
            <a:off x="1644480" y="1044720"/>
            <a:ext cx="857520" cy="1000080"/>
          </a:xfrm>
          <a:custGeom>
            <a:avLst/>
            <a:gdLst>
              <a:gd name="textAreaLeft" fmla="*/ 125280 w 857520"/>
              <a:gd name="textAreaRight" fmla="*/ 732240 w 857520"/>
              <a:gd name="textAreaTop" fmla="*/ 146160 h 1000080"/>
              <a:gd name="textAreaBottom" fmla="*/ 853920 h 1000080"/>
            </a:gdLst>
            <a:ahLst/>
            <a:rect l="textAreaLeft" t="textAreaTop" r="textAreaRight" b="textAreaBottom"/>
            <a:pathLst>
              <a:path w="857250" h="1000125">
                <a:moveTo>
                  <a:pt x="0" y="500063"/>
                </a:moveTo>
                <a:lnTo>
                  <a:pt x="0" y="500063"/>
                </a:lnTo>
                <a:arcTo wR="428625" hR="500063" stAng="10800000" swAng="5400007"/>
                <a:lnTo>
                  <a:pt x="654812" y="0"/>
                </a:lnTo>
                <a:lnTo>
                  <a:pt x="881000" y="-27708"/>
                </a:lnTo>
                <a:lnTo>
                  <a:pt x="857250" y="368120"/>
                </a:lnTo>
                <a:arcTo wR="0" hR="131943" stAng="0" swAng="0"/>
                <a:lnTo>
                  <a:pt x="794479" y="926893"/>
                </a:lnTo>
                <a:arcTo wR="-214313" hR="250032" stAng="296392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Капля 17"/>
          <p:cNvSpPr/>
          <p:nvPr/>
        </p:nvSpPr>
        <p:spPr>
          <a:xfrm rot="13746000">
            <a:off x="2125800" y="1716120"/>
            <a:ext cx="877680" cy="960480"/>
          </a:xfrm>
          <a:custGeom>
            <a:avLst/>
            <a:gdLst>
              <a:gd name="textAreaLeft" fmla="*/ 128520 w 877680"/>
              <a:gd name="textAreaRight" fmla="*/ 749160 w 877680"/>
              <a:gd name="textAreaTop" fmla="*/ 140400 h 960480"/>
              <a:gd name="textAreaBottom" fmla="*/ 820080 h 960480"/>
            </a:gdLst>
            <a:ahLst/>
            <a:rect l="textAreaLeft" t="textAreaTop" r="textAreaRight" b="textAreaBottom"/>
            <a:pathLst>
              <a:path w="877887" h="960437">
                <a:moveTo>
                  <a:pt x="0" y="480219"/>
                </a:moveTo>
                <a:lnTo>
                  <a:pt x="0" y="480219"/>
                </a:lnTo>
                <a:arcTo wR="438944" hR="480219" stAng="-10799992" swAng="5399999"/>
                <a:lnTo>
                  <a:pt x="670576" y="0"/>
                </a:lnTo>
                <a:lnTo>
                  <a:pt x="902209" y="-26609"/>
                </a:lnTo>
                <a:lnTo>
                  <a:pt x="877887" y="353512"/>
                </a:lnTo>
                <a:arcTo wR="0" hR="126707" stAng="0" swAng="0"/>
                <a:lnTo>
                  <a:pt x="813605" y="890112"/>
                </a:lnTo>
                <a:arcTo wR="-219472" hR="240110" stAng="2854268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Капля 3"/>
          <p:cNvSpPr/>
          <p:nvPr/>
        </p:nvSpPr>
        <p:spPr>
          <a:xfrm rot="20365800">
            <a:off x="1044720" y="2374920"/>
            <a:ext cx="1071360" cy="857160"/>
          </a:xfrm>
          <a:custGeom>
            <a:avLst/>
            <a:gdLst>
              <a:gd name="textAreaLeft" fmla="*/ 156600 w 1071360"/>
              <a:gd name="textAreaRight" fmla="*/ 914760 w 1071360"/>
              <a:gd name="textAreaTop" fmla="*/ 125280 h 857160"/>
              <a:gd name="textAreaBottom" fmla="*/ 731880 h 857160"/>
            </a:gdLst>
            <a:ahLst/>
            <a:rect l="textAreaLeft" t="textAreaTop" r="textAreaRight" b="textAreaBottom"/>
            <a:pathLst>
              <a:path w="1071563" h="857250">
                <a:moveTo>
                  <a:pt x="0" y="428625"/>
                </a:moveTo>
                <a:lnTo>
                  <a:pt x="0" y="428625"/>
                </a:lnTo>
                <a:arcTo wR="535782" hR="428625" stAng="-10799994" swAng="5400002"/>
                <a:lnTo>
                  <a:pt x="811095" y="0"/>
                </a:lnTo>
                <a:lnTo>
                  <a:pt x="1086409" y="-11877"/>
                </a:lnTo>
                <a:lnTo>
                  <a:pt x="1071563" y="318500"/>
                </a:lnTo>
                <a:arcTo wR="0" hR="110126" stAng="0" swAng="0"/>
                <a:lnTo>
                  <a:pt x="993100" y="794479"/>
                </a:lnTo>
                <a:arcTo wR="-267891" hR="214313" stAng="2319586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Капля 6"/>
          <p:cNvSpPr/>
          <p:nvPr/>
        </p:nvSpPr>
        <p:spPr>
          <a:xfrm rot="16003200">
            <a:off x="1897560" y="2160720"/>
            <a:ext cx="847800" cy="880920"/>
          </a:xfrm>
          <a:custGeom>
            <a:avLst/>
            <a:gdLst>
              <a:gd name="textAreaLeft" fmla="*/ 124200 w 847800"/>
              <a:gd name="textAreaRight" fmla="*/ 723600 w 847800"/>
              <a:gd name="textAreaTop" fmla="*/ 128880 h 880920"/>
              <a:gd name="textAreaBottom" fmla="*/ 752040 h 880920"/>
            </a:gdLst>
            <a:ahLst/>
            <a:rect l="textAreaLeft" t="textAreaTop" r="textAreaRight" b="textAreaBottom"/>
            <a:pathLst>
              <a:path w="847725" h="881062">
                <a:moveTo>
                  <a:pt x="0" y="440531"/>
                </a:moveTo>
                <a:lnTo>
                  <a:pt x="0" y="440531"/>
                </a:lnTo>
                <a:arcTo wR="423863" hR="440531" stAng="10800000" swAng="5400008"/>
                <a:lnTo>
                  <a:pt x="647536" y="0"/>
                </a:lnTo>
                <a:lnTo>
                  <a:pt x="871211" y="-24410"/>
                </a:lnTo>
                <a:lnTo>
                  <a:pt x="847725" y="324296"/>
                </a:lnTo>
                <a:arcTo wR="0" hR="116236" stAng="0" swAng="0"/>
                <a:lnTo>
                  <a:pt x="785652" y="816548"/>
                </a:lnTo>
                <a:arcTo wR="-211932" hR="220266" stAng="2766281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Прямоугольник 7" descr=""/>
          <p:cNvPicPr/>
          <p:nvPr/>
        </p:nvPicPr>
        <p:blipFill>
          <a:blip r:embed="rId1"/>
          <a:stretch/>
        </p:blipFill>
        <p:spPr>
          <a:xfrm>
            <a:off x="2809800" y="1036800"/>
            <a:ext cx="5761080" cy="153504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9" descr=""/>
          <p:cNvPicPr/>
          <p:nvPr/>
        </p:nvPicPr>
        <p:blipFill>
          <a:blip r:embed="rId2"/>
          <a:stretch/>
        </p:blipFill>
        <p:spPr>
          <a:xfrm>
            <a:off x="811080" y="5291280"/>
            <a:ext cx="7802640" cy="1145880"/>
          </a:xfrm>
          <a:prstGeom prst="rect">
            <a:avLst/>
          </a:prstGeom>
          <a:ln w="0">
            <a:noFill/>
          </a:ln>
        </p:spPr>
      </p:pic>
      <p:grpSp>
        <p:nvGrpSpPr>
          <p:cNvPr id="307" name="Группа 16"/>
          <p:cNvGrpSpPr/>
          <p:nvPr/>
        </p:nvGrpSpPr>
        <p:grpSpPr>
          <a:xfrm>
            <a:off x="285840" y="3571920"/>
            <a:ext cx="8643960" cy="1428840"/>
            <a:chOff x="285840" y="3571920"/>
            <a:chExt cx="8643960" cy="1428840"/>
          </a:xfrm>
        </p:grpSpPr>
        <p:sp>
          <p:nvSpPr>
            <p:cNvPr id="308" name="Рамка 8"/>
            <p:cNvSpPr/>
            <p:nvPr/>
          </p:nvSpPr>
          <p:spPr>
            <a:xfrm>
              <a:off x="285840" y="3571920"/>
              <a:ext cx="1380960" cy="1428840"/>
            </a:xfrm>
            <a:custGeom>
              <a:avLst/>
              <a:gdLst>
                <a:gd name="textAreaLeft" fmla="*/ 164880 w 1380960"/>
                <a:gd name="textAreaRight" fmla="*/ 1216080 w 138096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3664" h="1571636">
                  <a:moveTo>
                    <a:pt x="0" y="0"/>
                  </a:moveTo>
                  <a:lnTo>
                    <a:pt x="1643664" y="0"/>
                  </a:lnTo>
                  <a:lnTo>
                    <a:pt x="164366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7210" y="1375182"/>
                  </a:lnTo>
                  <a:lnTo>
                    <a:pt x="144721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Рамка 10"/>
            <p:cNvSpPr/>
            <p:nvPr/>
          </p:nvSpPr>
          <p:spPr>
            <a:xfrm>
              <a:off x="1485720" y="3571920"/>
              <a:ext cx="1380960" cy="1428840"/>
            </a:xfrm>
            <a:custGeom>
              <a:avLst/>
              <a:gdLst>
                <a:gd name="textAreaLeft" fmla="*/ 164880 w 1380960"/>
                <a:gd name="textAreaRight" fmla="*/ 1216080 w 138096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3664" h="1571636">
                  <a:moveTo>
                    <a:pt x="0" y="0"/>
                  </a:moveTo>
                  <a:lnTo>
                    <a:pt x="1643664" y="0"/>
                  </a:lnTo>
                  <a:lnTo>
                    <a:pt x="164366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7210" y="1375182"/>
                  </a:lnTo>
                  <a:lnTo>
                    <a:pt x="144721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Рамка 11"/>
            <p:cNvSpPr/>
            <p:nvPr/>
          </p:nvSpPr>
          <p:spPr>
            <a:xfrm>
              <a:off x="2687760" y="3571920"/>
              <a:ext cx="1379520" cy="1428840"/>
            </a:xfrm>
            <a:custGeom>
              <a:avLst/>
              <a:gdLst>
                <a:gd name="textAreaLeft" fmla="*/ 164880 w 1379520"/>
                <a:gd name="textAreaRight" fmla="*/ 1214640 w 137952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1774" h="1571636">
                  <a:moveTo>
                    <a:pt x="0" y="0"/>
                  </a:moveTo>
                  <a:lnTo>
                    <a:pt x="1641774" y="0"/>
                  </a:lnTo>
                  <a:lnTo>
                    <a:pt x="164177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5320" y="1375182"/>
                  </a:lnTo>
                  <a:lnTo>
                    <a:pt x="144532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Рамка 12"/>
            <p:cNvSpPr/>
            <p:nvPr/>
          </p:nvSpPr>
          <p:spPr>
            <a:xfrm>
              <a:off x="3888000" y="3571920"/>
              <a:ext cx="1379520" cy="1428840"/>
            </a:xfrm>
            <a:custGeom>
              <a:avLst/>
              <a:gdLst>
                <a:gd name="textAreaLeft" fmla="*/ 164880 w 1379520"/>
                <a:gd name="textAreaRight" fmla="*/ 1214640 w 137952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1774" h="1571636">
                  <a:moveTo>
                    <a:pt x="0" y="0"/>
                  </a:moveTo>
                  <a:lnTo>
                    <a:pt x="1641774" y="0"/>
                  </a:lnTo>
                  <a:lnTo>
                    <a:pt x="164177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5320" y="1375182"/>
                  </a:lnTo>
                  <a:lnTo>
                    <a:pt x="144532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Рамка 13"/>
            <p:cNvSpPr/>
            <p:nvPr/>
          </p:nvSpPr>
          <p:spPr>
            <a:xfrm>
              <a:off x="5087880" y="3571920"/>
              <a:ext cx="1380960" cy="1428840"/>
            </a:xfrm>
            <a:custGeom>
              <a:avLst/>
              <a:gdLst>
                <a:gd name="textAreaLeft" fmla="*/ 164880 w 1380960"/>
                <a:gd name="textAreaRight" fmla="*/ 1216080 w 138096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3664" h="1571636">
                  <a:moveTo>
                    <a:pt x="0" y="0"/>
                  </a:moveTo>
                  <a:lnTo>
                    <a:pt x="1643664" y="0"/>
                  </a:lnTo>
                  <a:lnTo>
                    <a:pt x="164366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7210" y="1375182"/>
                  </a:lnTo>
                  <a:lnTo>
                    <a:pt x="144721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Рамка 14"/>
            <p:cNvSpPr/>
            <p:nvPr/>
          </p:nvSpPr>
          <p:spPr>
            <a:xfrm>
              <a:off x="6348600" y="3571920"/>
              <a:ext cx="1380960" cy="1428840"/>
            </a:xfrm>
            <a:custGeom>
              <a:avLst/>
              <a:gdLst>
                <a:gd name="textAreaLeft" fmla="*/ 164880 w 1380960"/>
                <a:gd name="textAreaRight" fmla="*/ 1216080 w 138096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3664" h="1571636">
                  <a:moveTo>
                    <a:pt x="0" y="0"/>
                  </a:moveTo>
                  <a:lnTo>
                    <a:pt x="1643664" y="0"/>
                  </a:lnTo>
                  <a:lnTo>
                    <a:pt x="164366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7210" y="1375182"/>
                  </a:lnTo>
                  <a:lnTo>
                    <a:pt x="144721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Рамка 15"/>
            <p:cNvSpPr/>
            <p:nvPr/>
          </p:nvSpPr>
          <p:spPr>
            <a:xfrm>
              <a:off x="7548840" y="3571920"/>
              <a:ext cx="1380960" cy="1428840"/>
            </a:xfrm>
            <a:custGeom>
              <a:avLst/>
              <a:gdLst>
                <a:gd name="textAreaLeft" fmla="*/ 164880 w 1380960"/>
                <a:gd name="textAreaRight" fmla="*/ 1216080 w 138096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3664" h="1571636">
                  <a:moveTo>
                    <a:pt x="0" y="0"/>
                  </a:moveTo>
                  <a:lnTo>
                    <a:pt x="1643664" y="0"/>
                  </a:lnTo>
                  <a:lnTo>
                    <a:pt x="164366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7210" y="1375182"/>
                  </a:lnTo>
                  <a:lnTo>
                    <a:pt x="144721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Капля 18"/>
          <p:cNvSpPr/>
          <p:nvPr/>
        </p:nvSpPr>
        <p:spPr>
          <a:xfrm rot="1855800">
            <a:off x="701640" y="1843200"/>
            <a:ext cx="933480" cy="1042920"/>
          </a:xfrm>
          <a:custGeom>
            <a:avLst/>
            <a:gdLst>
              <a:gd name="textAreaLeft" fmla="*/ 136440 w 933480"/>
              <a:gd name="textAreaRight" fmla="*/ 797040 w 933480"/>
              <a:gd name="textAreaTop" fmla="*/ 152640 h 1042920"/>
              <a:gd name="textAreaBottom" fmla="*/ 890280 h 1042920"/>
            </a:gdLst>
            <a:ahLst/>
            <a:rect l="textAreaLeft" t="textAreaTop" r="textAreaRight" b="textAreaBottom"/>
            <a:pathLst>
              <a:path w="933450" h="1042987">
                <a:moveTo>
                  <a:pt x="0" y="521494"/>
                </a:moveTo>
                <a:lnTo>
                  <a:pt x="0" y="521494"/>
                </a:lnTo>
                <a:arcTo wR="466725" hR="521494" stAng="-10799993" swAng="5399999"/>
                <a:lnTo>
                  <a:pt x="713018" y="0"/>
                </a:lnTo>
                <a:lnTo>
                  <a:pt x="959311" y="-28896"/>
                </a:lnTo>
                <a:lnTo>
                  <a:pt x="933450" y="383897"/>
                </a:lnTo>
                <a:arcTo wR="0" hR="137598" stAng="0" swAng="0"/>
                <a:lnTo>
                  <a:pt x="865100" y="966617"/>
                </a:lnTo>
                <a:arcTo wR="-233363" hR="260747" stAng="2890332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Капля 5"/>
          <p:cNvSpPr/>
          <p:nvPr/>
        </p:nvSpPr>
        <p:spPr>
          <a:xfrm rot="5203800">
            <a:off x="965520" y="1313640"/>
            <a:ext cx="766800" cy="942840"/>
          </a:xfrm>
          <a:custGeom>
            <a:avLst/>
            <a:gdLst>
              <a:gd name="textAreaLeft" fmla="*/ 112320 w 766800"/>
              <a:gd name="textAreaRight" fmla="*/ 654480 w 766800"/>
              <a:gd name="textAreaTop" fmla="*/ 137880 h 942840"/>
              <a:gd name="textAreaBottom" fmla="*/ 804960 h 942840"/>
            </a:gdLst>
            <a:ahLst/>
            <a:rect l="textAreaLeft" t="textAreaTop" r="textAreaRight" b="textAreaBottom"/>
            <a:pathLst>
              <a:path w="766762" h="942975">
                <a:moveTo>
                  <a:pt x="0" y="471488"/>
                </a:moveTo>
                <a:lnTo>
                  <a:pt x="0" y="471488"/>
                </a:lnTo>
                <a:arcTo wR="383381" hR="471488" stAng="10800000" swAng="5400007"/>
                <a:lnTo>
                  <a:pt x="580383" y="0"/>
                </a:lnTo>
                <a:lnTo>
                  <a:pt x="777385" y="-13065"/>
                </a:lnTo>
                <a:lnTo>
                  <a:pt x="766762" y="350350"/>
                </a:lnTo>
                <a:arcTo wR="0" hR="121139" stAng="0" swAng="0"/>
                <a:lnTo>
                  <a:pt x="710617" y="873928"/>
                </a:lnTo>
                <a:arcTo wR="-191691" hR="235744" stAng="305306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Номер слайда 19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46A6-F131-4055-BAD9-83B3363B638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ижний колонтитул 20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а</cp:lastModifiedBy>
  <dcterms:modified xsi:type="dcterms:W3CDTF">2019-09-21T19:33:33Z</dcterms:modified>
  <cp:revision>32</cp:revision>
  <dc:subject/>
  <dc:title>Стан електронів у атомі</dc:title>
</cp:coreProperties>
</file>