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31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7AA8-68F8-4DFB-88B5-C90FAC336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E7B4-58C7-49BB-8AFE-42AF45AD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C51D-9EA1-44BF-9D1D-E954B6CFC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0B08-31EF-48FD-8FB2-71B0EBC89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2F1F-48D3-4447-B1D4-A8E9EF050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8297-00CB-4B44-A9E7-37C4AA81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2B4F-2685-4347-83AA-4AEA5957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DF67-9FF8-436B-A470-BB19DB26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BA69-40C2-4CCC-9723-86D46CCC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0B83-4D36-409F-8282-AD5165B1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95B7-0C82-41C7-9AE9-3E3C1E49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8524-1EEA-4037-9938-B42B00C9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F1AB-14BA-44FA-9F0A-08188468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C129F-904E-4DE6-BDD8-3664CF73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AD4E6-3E03-45C2-866F-AC6DBDDE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6ACC0-9276-4597-9099-2F0F33059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1325-520B-4BAF-A7DD-223FA6789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3FDB0-A25B-45CB-B4D4-C625AEC8E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ABC04-0F53-41AE-AE4A-79ACF04A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51B01-A4D8-4B17-9A3C-ADBB8F01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458D0-5516-40EA-A53A-52735E3A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9D296-7BD7-4EAF-B7E6-CBB7A715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A2B9-1C35-4297-9B90-76ED8A2C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8075F-E6F1-4097-A76A-EA349C05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E64F2-2821-4799-B997-5BF219A6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BABAE-1BFB-4042-8751-C72B91FC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131EF-ECAF-4F64-97EF-BD535450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8B269-C689-410D-9703-86037939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12341-72AF-4499-9930-1B201DA0C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B72A5-5362-412E-80FB-4320BF942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859FD-701B-4BC8-97F2-7FE77C8FC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10115-E321-4BF0-91D8-5E7442DD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0FDC6-B0EA-493F-87F0-EFF354F4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2626-6C0C-408C-9063-D100575F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93CD4-3376-409F-9114-2416BF8B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3789F-ACFA-43AD-B066-8B488B66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FC126-BBD3-42C7-92E7-CCC8C871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974D7-C9B7-481F-B81E-DB014E8E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F5F57-A0DB-482D-87B2-84006EC9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A89CA-2956-4388-9A22-73CAB1EF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A7859-25A4-49EF-98F4-00C5B33D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2AA32-E698-467C-ABC5-E8BFC1113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D49CC-5099-4F44-A250-8E3CB2CFC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6FAA2-84B5-4B28-AE14-628BEAC76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99E9-A29B-4A44-B5CF-CB99AFC9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A09CF-111C-4E4E-A213-A659EBBB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09ACD-28E9-4797-80FB-25A9041E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CB28B-7289-40CA-9E7C-525D030E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FC5E9-CB61-4066-8E53-5E2BB269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35860-3465-43B3-B7D7-95D53632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32088-457A-4C9C-9DD6-9594087C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517D3-9E61-4F2C-96BB-8C0A8D2E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F8FE2-6249-419A-8745-C1F724D3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E54A8-0433-4491-8748-7B0203A2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F24A7-FEDD-422C-B7D4-BDAB6BCE1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7BCA-A2C5-49B3-8EB4-766AD5CD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4FCFA-4D22-49B7-A98C-49B7C9DB2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BBEF-8581-456B-83C3-B3EF6A14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69CA-00B4-4DA6-A143-4D5C5629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7821-5096-45F8-B496-67184430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A738-AC7B-4D83-8C77-D06577E5D314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Демидова О.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8AFA-5BF3-414B-B304-566443FDC31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F1F2-BD86-4E49-8308-F43D535BC250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Демидова О.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6E10-C6D6-4318-9B71-DD5F53EE7B7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B686-336A-4DE5-9D10-E7E85145EF57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Демидова О.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07D3-34C4-4CB9-833A-1A8E37D1466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386F-08A8-4874-B449-1178DB9A1B70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Демидова О.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46C0-524D-4E52-92C3-8B601340288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0175-20FF-47E4-BBE2-028E993158AC}" type="datetime">
              <a:rPr b="0" lang="ru-RU" sz="1400" spc="-1" strike="noStrike">
                <a:solidFill>
                  <a:srgbClr val="696464"/>
                </a:solidFill>
                <a:latin typeface="Cambr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Демидова О.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4955-0BED-4C96-A3DA-FB5C69D0179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09_04/inter_01.swf" TargetMode="External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Calibri"/>
              </a:rPr>
              <a:t>Стан електронів у атомі</a:t>
            </a:r>
            <a:endParaRPr b="0" lang="en-US" sz="6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9" name="Подзаголовок 2"/>
          <p:cNvSpPr/>
          <p:nvPr/>
        </p:nvSpPr>
        <p:spPr>
          <a:xfrm>
            <a:off x="3786120" y="3786120"/>
            <a:ext cx="483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493C-1C82-403A-AB9F-92B1F37CFC1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Нижний колонтитул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Рамка 3"/>
          <p:cNvSpPr/>
          <p:nvPr/>
        </p:nvSpPr>
        <p:spPr>
          <a:xfrm>
            <a:off x="2357280" y="1214280"/>
            <a:ext cx="4143600" cy="3571920"/>
          </a:xfrm>
          <a:custGeom>
            <a:avLst/>
            <a:gdLst>
              <a:gd name="textAreaLeft" fmla="*/ 446400 w 4143600"/>
              <a:gd name="textAreaRight" fmla="*/ 3697200 w 4143600"/>
              <a:gd name="textAreaTop" fmla="*/ 446400 h 3571920"/>
              <a:gd name="textAreaBottom" fmla="*/ 3125520 h 3571920"/>
            </a:gdLst>
            <a:ahLst/>
            <a:rect l="textAreaLeft" t="textAreaTop" r="textAreaRight" b="textAreaBottom"/>
            <a:pathLst>
              <a:path w="4143375" h="3571875">
                <a:moveTo>
                  <a:pt x="0" y="0"/>
                </a:moveTo>
                <a:lnTo>
                  <a:pt x="4143375" y="0"/>
                </a:lnTo>
                <a:lnTo>
                  <a:pt x="4143375" y="3571875"/>
                </a:lnTo>
                <a:lnTo>
                  <a:pt x="0" y="3571875"/>
                </a:lnTo>
                <a:close/>
                <a:moveTo>
                  <a:pt x="446484" y="446484"/>
                </a:moveTo>
                <a:lnTo>
                  <a:pt x="446484" y="3125391"/>
                </a:lnTo>
                <a:lnTo>
                  <a:pt x="3696891" y="3125391"/>
                </a:lnTo>
                <a:lnTo>
                  <a:pt x="3696891" y="446484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Стрелка вниз 4"/>
          <p:cNvSpPr/>
          <p:nvPr/>
        </p:nvSpPr>
        <p:spPr>
          <a:xfrm>
            <a:off x="4643280" y="2143080"/>
            <a:ext cx="785880" cy="171468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Стрелка вниз 5"/>
          <p:cNvSpPr/>
          <p:nvPr/>
        </p:nvSpPr>
        <p:spPr>
          <a:xfrm rot="10800000">
            <a:off x="3357720" y="2071800"/>
            <a:ext cx="785520" cy="171432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d34817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Номер слайда 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5F3A-66C5-41BC-9429-12B4477486A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Нижний колонтитул 7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56760" y="571320"/>
            <a:ext cx="43578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Енергетичний рівень (електронний шар)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5" name="Заголовок 1"/>
          <p:cNvSpPr/>
          <p:nvPr/>
        </p:nvSpPr>
        <p:spPr>
          <a:xfrm>
            <a:off x="3871800" y="285840"/>
            <a:ext cx="52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900" spc="-1" strike="noStrike">
                <a:solidFill>
                  <a:srgbClr val="000000"/>
                </a:solidFill>
                <a:latin typeface="Calibri"/>
              </a:rPr>
              <a:t>Підрівень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Заголовок 1"/>
          <p:cNvSpPr/>
          <p:nvPr/>
        </p:nvSpPr>
        <p:spPr>
          <a:xfrm>
            <a:off x="928800" y="1643040"/>
            <a:ext cx="77724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2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2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3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3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4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Calibri"/>
              </a:rPr>
              <a:t>4 …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3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4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4d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4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Номер слайда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0005-5648-46EB-A54F-80AE0D76F6F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ижний колонтитул 6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 u="sng">
                <a:solidFill>
                  <a:srgbClr val="cc9900"/>
                </a:solidFill>
                <a:uFillTx/>
                <a:latin typeface="Calibri"/>
                <a:hlinkClick r:id="rId1"/>
              </a:rPr>
              <a:t>Розподіл електронів за енергетичними рівнями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30" name="Прямоугольник 3" descr=""/>
          <p:cNvPicPr/>
          <p:nvPr/>
        </p:nvPicPr>
        <p:blipFill>
          <a:blip r:embed="rId2"/>
          <a:stretch/>
        </p:blipFill>
        <p:spPr>
          <a:xfrm>
            <a:off x="1762200" y="1390680"/>
            <a:ext cx="5290920" cy="1170000"/>
          </a:xfrm>
          <a:prstGeom prst="rect">
            <a:avLst/>
          </a:prstGeom>
          <a:ln w="0">
            <a:noFill/>
          </a:ln>
        </p:spPr>
      </p:pic>
      <p:pic>
        <p:nvPicPr>
          <p:cNvPr id="331" name="Прямоугольник 4" descr=""/>
          <p:cNvPicPr/>
          <p:nvPr/>
        </p:nvPicPr>
        <p:blipFill>
          <a:blip r:embed="rId3"/>
          <a:stretch/>
        </p:blipFill>
        <p:spPr>
          <a:xfrm>
            <a:off x="6145200" y="1139760"/>
            <a:ext cx="1054080" cy="901800"/>
          </a:xfrm>
          <a:prstGeom prst="rect">
            <a:avLst/>
          </a:prstGeom>
          <a:ln w="0">
            <a:noFill/>
          </a:ln>
        </p:spPr>
      </p:pic>
      <p:sp>
        <p:nvSpPr>
          <p:cNvPr id="332" name="Заголовок 1"/>
          <p:cNvSpPr/>
          <p:nvPr/>
        </p:nvSpPr>
        <p:spPr>
          <a:xfrm>
            <a:off x="1000080" y="2643120"/>
            <a:ext cx="777240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900" spc="-1" strike="noStrike">
                <a:solidFill>
                  <a:srgbClr val="000000"/>
                </a:solidFill>
                <a:latin typeface="Calibri"/>
              </a:rPr>
              <a:t>На першому рівні максимум може бути 2 * 1 = 2 електрони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900" spc="-1" strike="noStrike">
                <a:solidFill>
                  <a:srgbClr val="000000"/>
                </a:solidFill>
                <a:latin typeface="Calibri"/>
              </a:rPr>
              <a:t>Заповнення електронами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Прямоугольник 6" descr=""/>
          <p:cNvPicPr/>
          <p:nvPr/>
        </p:nvPicPr>
        <p:blipFill>
          <a:blip r:embed="rId4"/>
          <a:stretch/>
        </p:blipFill>
        <p:spPr>
          <a:xfrm>
            <a:off x="4138560" y="3011400"/>
            <a:ext cx="566640" cy="48096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7"/>
          <p:cNvSpPr/>
          <p:nvPr/>
        </p:nvSpPr>
        <p:spPr>
          <a:xfrm>
            <a:off x="2571840" y="4643280"/>
            <a:ext cx="1000080" cy="857520"/>
          </a:xfrm>
          <a:prstGeom prst="rect">
            <a:avLst/>
          </a:prstGeom>
          <a:solidFill>
            <a:srgbClr val="ffffff"/>
          </a:solidFill>
          <a:ln w="12600">
            <a:solidFill>
              <a:srgbClr val="85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8"/>
          <p:cNvSpPr/>
          <p:nvPr/>
        </p:nvSpPr>
        <p:spPr>
          <a:xfrm>
            <a:off x="5429160" y="4643280"/>
            <a:ext cx="1000080" cy="857520"/>
          </a:xfrm>
          <a:prstGeom prst="rect">
            <a:avLst/>
          </a:prstGeom>
          <a:solidFill>
            <a:srgbClr val="ffffff"/>
          </a:solidFill>
          <a:ln w="12600">
            <a:solidFill>
              <a:srgbClr val="85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Стрелка вниз 9"/>
          <p:cNvSpPr/>
          <p:nvPr/>
        </p:nvSpPr>
        <p:spPr>
          <a:xfrm rot="10800000">
            <a:off x="2714760" y="471492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Стрелка вниз 10"/>
          <p:cNvSpPr/>
          <p:nvPr/>
        </p:nvSpPr>
        <p:spPr>
          <a:xfrm rot="10800000">
            <a:off x="5500800" y="471492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Стрелка вниз 11"/>
          <p:cNvSpPr/>
          <p:nvPr/>
        </p:nvSpPr>
        <p:spPr>
          <a:xfrm>
            <a:off x="5929200" y="4786200"/>
            <a:ext cx="357480" cy="642960"/>
          </a:xfrm>
          <a:prstGeom prst="downArrow">
            <a:avLst>
              <a:gd name="adj1" fmla="val 50000"/>
              <a:gd name="adj2" fmla="val 49961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Группа 29"/>
          <p:cNvGrpSpPr/>
          <p:nvPr/>
        </p:nvGrpSpPr>
        <p:grpSpPr>
          <a:xfrm>
            <a:off x="1428840" y="4500720"/>
            <a:ext cx="1014480" cy="1066680"/>
            <a:chOff x="1428840" y="4500720"/>
            <a:chExt cx="1014480" cy="1066680"/>
          </a:xfrm>
        </p:grpSpPr>
        <p:pic>
          <p:nvPicPr>
            <p:cNvPr id="340" name="Прямоугольник 12" descr=""/>
            <p:cNvPicPr/>
            <p:nvPr/>
          </p:nvPicPr>
          <p:blipFill>
            <a:blip r:embed="rId5"/>
            <a:stretch/>
          </p:blipFill>
          <p:spPr>
            <a:xfrm>
              <a:off x="1428840" y="4500720"/>
              <a:ext cx="97488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Прямоугольник 14" descr=""/>
            <p:cNvPicPr/>
            <p:nvPr/>
          </p:nvPicPr>
          <p:blipFill>
            <a:blip r:embed="rId6"/>
            <a:stretch/>
          </p:blipFill>
          <p:spPr>
            <a:xfrm>
              <a:off x="1963800" y="4517280"/>
              <a:ext cx="479520" cy="60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2" name="Группа 30"/>
          <p:cNvGrpSpPr/>
          <p:nvPr/>
        </p:nvGrpSpPr>
        <p:grpSpPr>
          <a:xfrm>
            <a:off x="4357800" y="4572000"/>
            <a:ext cx="942840" cy="995400"/>
            <a:chOff x="4357800" y="4572000"/>
            <a:chExt cx="942840" cy="995400"/>
          </a:xfrm>
        </p:grpSpPr>
        <p:pic>
          <p:nvPicPr>
            <p:cNvPr id="343" name="Прямоугольник 13" descr=""/>
            <p:cNvPicPr/>
            <p:nvPr/>
          </p:nvPicPr>
          <p:blipFill>
            <a:blip r:embed="rId7"/>
            <a:stretch/>
          </p:blipFill>
          <p:spPr>
            <a:xfrm>
              <a:off x="4357800" y="4572000"/>
              <a:ext cx="942840" cy="99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Прямоугольник 15" descr=""/>
            <p:cNvPicPr/>
            <p:nvPr/>
          </p:nvPicPr>
          <p:blipFill>
            <a:blip r:embed="rId8"/>
            <a:stretch/>
          </p:blipFill>
          <p:spPr>
            <a:xfrm>
              <a:off x="4829400" y="4650120"/>
              <a:ext cx="463680" cy="568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5" name="Прямоугольник 16" descr=""/>
          <p:cNvPicPr/>
          <p:nvPr/>
        </p:nvPicPr>
        <p:blipFill>
          <a:blip r:embed="rId9"/>
          <a:stretch/>
        </p:blipFill>
        <p:spPr>
          <a:xfrm>
            <a:off x="208080" y="5662440"/>
            <a:ext cx="3541680" cy="890640"/>
          </a:xfrm>
          <a:prstGeom prst="rect">
            <a:avLst/>
          </a:prstGeom>
          <a:ln w="0">
            <a:noFill/>
          </a:ln>
        </p:spPr>
      </p:pic>
      <p:pic>
        <p:nvPicPr>
          <p:cNvPr id="346" name="Прямоугольник 17" descr=""/>
          <p:cNvPicPr/>
          <p:nvPr/>
        </p:nvPicPr>
        <p:blipFill>
          <a:blip r:embed="rId10"/>
          <a:stretch/>
        </p:blipFill>
        <p:spPr>
          <a:xfrm>
            <a:off x="3297240" y="6072120"/>
            <a:ext cx="2494080" cy="603360"/>
          </a:xfrm>
          <a:prstGeom prst="rect">
            <a:avLst/>
          </a:prstGeom>
          <a:ln w="0">
            <a:noFill/>
          </a:ln>
        </p:spPr>
      </p:pic>
      <p:pic>
        <p:nvPicPr>
          <p:cNvPr id="347" name="Прямоугольник 18" descr=""/>
          <p:cNvPicPr/>
          <p:nvPr/>
        </p:nvPicPr>
        <p:blipFill>
          <a:blip r:embed="rId11"/>
          <a:stretch/>
        </p:blipFill>
        <p:spPr>
          <a:xfrm>
            <a:off x="5924520" y="5145120"/>
            <a:ext cx="3225960" cy="1463760"/>
          </a:xfrm>
          <a:prstGeom prst="rect">
            <a:avLst/>
          </a:prstGeom>
          <a:ln w="0">
            <a:noFill/>
          </a:ln>
        </p:spPr>
      </p:pic>
      <p:cxnSp>
        <p:nvCxnSpPr>
          <p:cNvPr id="348" name="Прямая со стрелкой 20"/>
          <p:cNvCxnSpPr/>
          <p:nvPr/>
        </p:nvCxnSpPr>
        <p:spPr>
          <a:xfrm flipV="1">
            <a:off x="3571560" y="5285880"/>
            <a:ext cx="857880" cy="572400"/>
          </a:xfrm>
          <a:prstGeom prst="straightConnector1">
            <a:avLst/>
          </a:prstGeom>
          <a:ln w="7632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349" name="Прямая со стрелкой 23"/>
          <p:cNvCxnSpPr/>
          <p:nvPr/>
        </p:nvCxnSpPr>
        <p:spPr>
          <a:xfrm flipV="1">
            <a:off x="4928040" y="5358600"/>
            <a:ext cx="2520" cy="857880"/>
          </a:xfrm>
          <a:prstGeom prst="straightConnector1">
            <a:avLst/>
          </a:prstGeom>
          <a:ln w="7632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350" name="Прямая со стрелкой 26"/>
          <p:cNvCxnSpPr/>
          <p:nvPr/>
        </p:nvCxnSpPr>
        <p:spPr>
          <a:xfrm flipH="1" flipV="1">
            <a:off x="5285520" y="5000040"/>
            <a:ext cx="1415160" cy="494280"/>
          </a:xfrm>
          <a:prstGeom prst="straightConnector1">
            <a:avLst/>
          </a:prstGeom>
          <a:ln w="7632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351" name="Номер слайда 2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A528-1FDD-4E64-98DE-FE588989A69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Нижний колонтитул 2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8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cc00"/>
                </a:solidFill>
                <a:latin typeface="Calibri"/>
              </a:rPr>
              <a:t>Другий енергетичний рівень</a:t>
            </a:r>
            <a:endParaRPr b="0" lang="en-US" sz="4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Cambria"/>
              </a:rPr>
              <a:t>Може вмістити максимум 2 * 2  = 8 електронів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ambria"/>
              </a:rPr>
              <a:t>Електронна формула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Cambria"/>
              </a:rPr>
              <a:t>другого енергетичного рівня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Perpetua"/>
              </a:rPr>
              <a:t>2s 2p</a:t>
            </a:r>
            <a:endParaRPr b="0" lang="en-US" sz="8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55" name="Прямоугольник 3" descr=""/>
          <p:cNvPicPr/>
          <p:nvPr/>
        </p:nvPicPr>
        <p:blipFill>
          <a:blip r:embed="rId1"/>
          <a:stretch/>
        </p:blipFill>
        <p:spPr>
          <a:xfrm>
            <a:off x="2279520" y="2084400"/>
            <a:ext cx="567000" cy="482760"/>
          </a:xfrm>
          <a:prstGeom prst="rect">
            <a:avLst/>
          </a:prstGeom>
          <a:ln w="0">
            <a:noFill/>
          </a:ln>
        </p:spPr>
      </p:pic>
      <p:pic>
        <p:nvPicPr>
          <p:cNvPr id="356" name="Прямоугольник 4" descr=""/>
          <p:cNvPicPr/>
          <p:nvPr/>
        </p:nvPicPr>
        <p:blipFill>
          <a:blip r:embed="rId2"/>
          <a:stretch/>
        </p:blipFill>
        <p:spPr>
          <a:xfrm>
            <a:off x="4327560" y="4267080"/>
            <a:ext cx="757080" cy="646200"/>
          </a:xfrm>
          <a:prstGeom prst="rect">
            <a:avLst/>
          </a:prstGeom>
          <a:ln w="0">
            <a:noFill/>
          </a:ln>
        </p:spPr>
      </p:pic>
      <p:pic>
        <p:nvPicPr>
          <p:cNvPr id="357" name="Прямоугольник 5" descr=""/>
          <p:cNvPicPr/>
          <p:nvPr/>
        </p:nvPicPr>
        <p:blipFill>
          <a:blip r:embed="rId3"/>
          <a:stretch/>
        </p:blipFill>
        <p:spPr>
          <a:xfrm>
            <a:off x="5473800" y="4267080"/>
            <a:ext cx="755640" cy="646200"/>
          </a:xfrm>
          <a:prstGeom prst="rect">
            <a:avLst/>
          </a:prstGeom>
          <a:ln w="0">
            <a:noFill/>
          </a:ln>
        </p:spPr>
      </p:pic>
      <p:sp>
        <p:nvSpPr>
          <p:cNvPr id="358" name="Номер слайда 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EE45-4C0D-4AC5-AD70-5E2794A1E33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Нижний колонтитул 7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Демидова О.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cc00"/>
                </a:solidFill>
                <a:latin typeface="Calibri"/>
              </a:rPr>
              <a:t>Третій енергетичний рівень</a:t>
            </a:r>
            <a:endParaRPr b="0" lang="en-US" sz="4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914400" y="1447560"/>
            <a:ext cx="777240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Cambria"/>
              </a:rPr>
              <a:t>Вміщує не більше                     2 * 3  = 18 електронів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ambria"/>
              </a:rPr>
              <a:t>Самостійно скласти електронну формулу третього енергетичного рівня! 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62" name="Прямоугольник 3" descr=""/>
          <p:cNvPicPr/>
          <p:nvPr/>
        </p:nvPicPr>
        <p:blipFill>
          <a:blip r:embed="rId1"/>
          <a:stretch/>
        </p:blipFill>
        <p:spPr>
          <a:xfrm>
            <a:off x="2206800" y="1944720"/>
            <a:ext cx="566640" cy="480960"/>
          </a:xfrm>
          <a:prstGeom prst="rect">
            <a:avLst/>
          </a:prstGeom>
          <a:ln w="0">
            <a:noFill/>
          </a:ln>
        </p:spPr>
      </p:pic>
      <p:grpSp>
        <p:nvGrpSpPr>
          <p:cNvPr id="363" name="Группа 8"/>
          <p:cNvGrpSpPr/>
          <p:nvPr/>
        </p:nvGrpSpPr>
        <p:grpSpPr>
          <a:xfrm>
            <a:off x="2143080" y="5000760"/>
            <a:ext cx="5214960" cy="1446120"/>
            <a:chOff x="2143080" y="5000760"/>
            <a:chExt cx="5214960" cy="1446120"/>
          </a:xfrm>
        </p:grpSpPr>
        <p:pic>
          <p:nvPicPr>
            <p:cNvPr id="364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2143080" y="5000760"/>
              <a:ext cx="5143320" cy="14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3285360" y="5135760"/>
              <a:ext cx="77256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4924440" y="5205960"/>
              <a:ext cx="722880" cy="58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6458760" y="5145840"/>
              <a:ext cx="899280" cy="58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8" name="Номер слайда 9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D3D3-BD69-40D1-8258-784B6DA7AEB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Нижний колонтитул 10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" name=""/>
          <p:cNvGraphicFramePr/>
          <p:nvPr/>
        </p:nvGraphicFramePr>
        <p:xfrm>
          <a:off x="142920" y="109440"/>
          <a:ext cx="8786880" cy="6391440"/>
        </p:xfrm>
        <a:graphic>
          <a:graphicData uri="http://schemas.openxmlformats.org/drawingml/2006/table">
            <a:tbl>
              <a:tblPr/>
              <a:tblGrid>
                <a:gridCol w="2428920"/>
                <a:gridCol w="3143160"/>
                <a:gridCol w="3214800"/>
              </a:tblGrid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Поняття в періодичній системі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1848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Визначенн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1848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Зв'язок з будовою атом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18485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орядковий номе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d9d9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еріо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d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d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ded"/>
                    </a:solidFill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Груп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d9d9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Відносна атомна ма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d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d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ded"/>
                    </a:solidFill>
                  </a:tcPr>
                </a:tc>
              </a:tr>
            </a:tbl>
          </a:graphicData>
        </a:graphic>
      </p:graphicFrame>
      <p:pic>
        <p:nvPicPr>
          <p:cNvPr id="371" name="Прямоугольник 4" descr=""/>
          <p:cNvPicPr/>
          <p:nvPr/>
        </p:nvPicPr>
        <p:blipFill>
          <a:blip r:embed="rId1"/>
          <a:stretch/>
        </p:blipFill>
        <p:spPr>
          <a:xfrm>
            <a:off x="2571840" y="2109960"/>
            <a:ext cx="2609640" cy="1054080"/>
          </a:xfrm>
          <a:prstGeom prst="rect">
            <a:avLst/>
          </a:prstGeom>
          <a:ln w="0">
            <a:noFill/>
          </a:ln>
        </p:spPr>
      </p:pic>
      <p:pic>
        <p:nvPicPr>
          <p:cNvPr id="372" name="Прямоугольник 5" descr=""/>
          <p:cNvPicPr/>
          <p:nvPr/>
        </p:nvPicPr>
        <p:blipFill>
          <a:blip r:embed="rId2"/>
          <a:stretch/>
        </p:blipFill>
        <p:spPr>
          <a:xfrm>
            <a:off x="2639880" y="3181320"/>
            <a:ext cx="2865600" cy="1055880"/>
          </a:xfrm>
          <a:prstGeom prst="rect">
            <a:avLst/>
          </a:prstGeom>
          <a:ln w="0">
            <a:noFill/>
          </a:ln>
        </p:spPr>
      </p:pic>
      <p:pic>
        <p:nvPicPr>
          <p:cNvPr id="373" name="Прямоугольник 6" descr=""/>
          <p:cNvPicPr/>
          <p:nvPr/>
        </p:nvPicPr>
        <p:blipFill>
          <a:blip r:embed="rId3"/>
          <a:stretch/>
        </p:blipFill>
        <p:spPr>
          <a:xfrm>
            <a:off x="2571840" y="4254480"/>
            <a:ext cx="2865240" cy="1055880"/>
          </a:xfrm>
          <a:prstGeom prst="rect">
            <a:avLst/>
          </a:prstGeom>
          <a:ln w="0">
            <a:noFill/>
          </a:ln>
        </p:spPr>
      </p:pic>
      <p:pic>
        <p:nvPicPr>
          <p:cNvPr id="374" name="Прямоугольник 7" descr=""/>
          <p:cNvPicPr/>
          <p:nvPr/>
        </p:nvPicPr>
        <p:blipFill>
          <a:blip r:embed="rId4"/>
          <a:stretch/>
        </p:blipFill>
        <p:spPr>
          <a:xfrm>
            <a:off x="2571840" y="5321160"/>
            <a:ext cx="3060720" cy="1365480"/>
          </a:xfrm>
          <a:prstGeom prst="rect">
            <a:avLst/>
          </a:prstGeom>
          <a:ln w="0">
            <a:noFill/>
          </a:ln>
        </p:spPr>
      </p:pic>
      <p:pic>
        <p:nvPicPr>
          <p:cNvPr id="375" name="Прямоугольник 8" descr=""/>
          <p:cNvPicPr/>
          <p:nvPr/>
        </p:nvPicPr>
        <p:blipFill>
          <a:blip r:embed="rId5"/>
          <a:stretch/>
        </p:blipFill>
        <p:spPr>
          <a:xfrm>
            <a:off x="5711760" y="2036880"/>
            <a:ext cx="2462400" cy="1054080"/>
          </a:xfrm>
          <a:prstGeom prst="rect">
            <a:avLst/>
          </a:prstGeom>
          <a:ln w="0">
            <a:noFill/>
          </a:ln>
        </p:spPr>
      </p:pic>
      <p:pic>
        <p:nvPicPr>
          <p:cNvPr id="376" name="Прямоугольник 9" descr=""/>
          <p:cNvPicPr/>
          <p:nvPr/>
        </p:nvPicPr>
        <p:blipFill>
          <a:blip r:embed="rId6"/>
          <a:stretch/>
        </p:blipFill>
        <p:spPr>
          <a:xfrm>
            <a:off x="5638680" y="5394240"/>
            <a:ext cx="3372120" cy="439920"/>
          </a:xfrm>
          <a:prstGeom prst="rect">
            <a:avLst/>
          </a:prstGeom>
          <a:ln w="0">
            <a:noFill/>
          </a:ln>
        </p:spPr>
      </p:pic>
      <p:pic>
        <p:nvPicPr>
          <p:cNvPr id="377" name="Прямоугольник 10" descr=""/>
          <p:cNvPicPr/>
          <p:nvPr/>
        </p:nvPicPr>
        <p:blipFill>
          <a:blip r:embed="rId7"/>
          <a:stretch/>
        </p:blipFill>
        <p:spPr>
          <a:xfrm>
            <a:off x="5851440" y="3181320"/>
            <a:ext cx="2719440" cy="744480"/>
          </a:xfrm>
          <a:prstGeom prst="rect">
            <a:avLst/>
          </a:prstGeom>
          <a:ln w="0">
            <a:noFill/>
          </a:ln>
        </p:spPr>
      </p:pic>
      <p:pic>
        <p:nvPicPr>
          <p:cNvPr id="378" name="Прямоугольник 11" descr=""/>
          <p:cNvPicPr/>
          <p:nvPr/>
        </p:nvPicPr>
        <p:blipFill>
          <a:blip r:embed="rId8"/>
          <a:stretch/>
        </p:blipFill>
        <p:spPr>
          <a:xfrm>
            <a:off x="5657760" y="4108320"/>
            <a:ext cx="3552840" cy="1365480"/>
          </a:xfrm>
          <a:prstGeom prst="rect">
            <a:avLst/>
          </a:prstGeom>
          <a:ln w="0">
            <a:noFill/>
          </a:ln>
        </p:spPr>
      </p:pic>
      <p:sp>
        <p:nvSpPr>
          <p:cNvPr id="379" name="Номер слайда 1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113E-E18A-48BA-9F71-72314E76370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Нижний колонтитул 1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cc00"/>
                </a:solidFill>
                <a:latin typeface="Calibri"/>
              </a:rPr>
              <a:t>Бліц-турнір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mbria"/>
              </a:rPr>
              <a:t>Як визначити кількість електронів у атомі?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mbria"/>
              </a:rPr>
              <a:t>Де розподіляються електрони в атомі?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mbria"/>
              </a:rPr>
              <a:t>Які форми мають електронні орбіталі?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ambria"/>
              </a:rPr>
              <a:t>Як розподіляються електрони в атомі на різних енергетичних рівнях?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9529-1E75-4A62-8FF4-D1B63EE00F8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Нижний колонтитул 4"/>
          <p:cNvSpPr/>
          <p:nvPr/>
        </p:nvSpPr>
        <p:spPr>
          <a:xfrm>
            <a:off x="1285920" y="621504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Calibri"/>
              </a:rPr>
              <a:t>Дякую за урок</a:t>
            </a:r>
            <a:endParaRPr b="0" lang="en-US" sz="6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2214360" y="4786200"/>
            <a:ext cx="485748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Cambria"/>
              </a:rPr>
              <a:t>До побачення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87" name="Рисунок 3" descr="417125663.gif"/>
          <p:cNvPicPr/>
          <p:nvPr/>
        </p:nvPicPr>
        <p:blipFill>
          <a:blip r:embed="rId1"/>
          <a:stretch/>
        </p:blipFill>
        <p:spPr>
          <a:xfrm>
            <a:off x="3492360" y="1566720"/>
            <a:ext cx="2036880" cy="2035440"/>
          </a:xfrm>
          <a:prstGeom prst="rect">
            <a:avLst/>
          </a:prstGeom>
          <a:ln w="0">
            <a:noFill/>
          </a:ln>
        </p:spPr>
      </p:pic>
      <p:sp>
        <p:nvSpPr>
          <p:cNvPr id="388" name="Номер слайда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B8DD-8403-4C61-B43B-0EB1F0D5C32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Нижний колонтитул 5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696464"/>
                </a:solidFill>
                <a:latin typeface="Calibri"/>
              </a:rPr>
              <a:t>Цілі уроку</a:t>
            </a:r>
            <a:endParaRPr b="0" lang="en-US" sz="54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Ознайомити з рухом електронів у атомах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Увести поняття електронна орбіталь, енергетичний рівень, квантові числа, напрямок орбіталі в просторі, спін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Показати двоїсту природу електрона;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mbria"/>
              </a:rPr>
              <a:t>Пояснити відмінність між хімічною та ядерною реакціями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1E55-EAF7-453B-BF1B-239CDEEE250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Нижний колонтитул 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42920" y="109440"/>
          <a:ext cx="8786880" cy="6391440"/>
        </p:xfrm>
        <a:graphic>
          <a:graphicData uri="http://schemas.openxmlformats.org/drawingml/2006/table">
            <a:tbl>
              <a:tblPr/>
              <a:tblGrid>
                <a:gridCol w="2428920"/>
                <a:gridCol w="3143160"/>
                <a:gridCol w="3214800"/>
              </a:tblGrid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Поняття в періодичній системі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1848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Визначенн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1848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6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Зв'язок з будовою атом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18485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орядковий номе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d9d9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еріо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d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d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ded"/>
                    </a:solidFill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Груп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d9d9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Відносна атомна ма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d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d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ded"/>
                    </a:solidFill>
                  </a:tcPr>
                </a:tc>
              </a:tr>
            </a:tbl>
          </a:graphicData>
        </a:graphic>
      </p:graphicFrame>
      <p:pic>
        <p:nvPicPr>
          <p:cNvPr id="238" name="Прямоугольник 4" descr=""/>
          <p:cNvPicPr/>
          <p:nvPr/>
        </p:nvPicPr>
        <p:blipFill>
          <a:blip r:embed="rId1"/>
          <a:stretch/>
        </p:blipFill>
        <p:spPr>
          <a:xfrm>
            <a:off x="2571840" y="2109960"/>
            <a:ext cx="2609640" cy="1054080"/>
          </a:xfrm>
          <a:prstGeom prst="rect">
            <a:avLst/>
          </a:prstGeom>
          <a:ln w="0">
            <a:noFill/>
          </a:ln>
        </p:spPr>
      </p:pic>
      <p:pic>
        <p:nvPicPr>
          <p:cNvPr id="239" name="Прямоугольник 5" descr=""/>
          <p:cNvPicPr/>
          <p:nvPr/>
        </p:nvPicPr>
        <p:blipFill>
          <a:blip r:embed="rId2"/>
          <a:stretch/>
        </p:blipFill>
        <p:spPr>
          <a:xfrm>
            <a:off x="2639880" y="3181320"/>
            <a:ext cx="2865600" cy="1055880"/>
          </a:xfrm>
          <a:prstGeom prst="rect">
            <a:avLst/>
          </a:prstGeom>
          <a:ln w="0">
            <a:noFill/>
          </a:ln>
        </p:spPr>
      </p:pic>
      <p:pic>
        <p:nvPicPr>
          <p:cNvPr id="240" name="Прямоугольник 7" descr=""/>
          <p:cNvPicPr/>
          <p:nvPr/>
        </p:nvPicPr>
        <p:blipFill>
          <a:blip r:embed="rId3"/>
          <a:stretch/>
        </p:blipFill>
        <p:spPr>
          <a:xfrm>
            <a:off x="2571840" y="4254480"/>
            <a:ext cx="2865240" cy="1055880"/>
          </a:xfrm>
          <a:prstGeom prst="rect">
            <a:avLst/>
          </a:prstGeom>
          <a:ln w="0">
            <a:noFill/>
          </a:ln>
        </p:spPr>
      </p:pic>
      <p:pic>
        <p:nvPicPr>
          <p:cNvPr id="241" name="Прямоугольник 8" descr=""/>
          <p:cNvPicPr/>
          <p:nvPr/>
        </p:nvPicPr>
        <p:blipFill>
          <a:blip r:embed="rId4"/>
          <a:stretch/>
        </p:blipFill>
        <p:spPr>
          <a:xfrm>
            <a:off x="2571840" y="5321160"/>
            <a:ext cx="3060720" cy="1365480"/>
          </a:xfrm>
          <a:prstGeom prst="rect">
            <a:avLst/>
          </a:prstGeom>
          <a:ln w="0">
            <a:noFill/>
          </a:ln>
        </p:spPr>
      </p:pic>
      <p:pic>
        <p:nvPicPr>
          <p:cNvPr id="242" name="Прямоугольник 9" descr=""/>
          <p:cNvPicPr/>
          <p:nvPr/>
        </p:nvPicPr>
        <p:blipFill>
          <a:blip r:embed="rId5"/>
          <a:stretch/>
        </p:blipFill>
        <p:spPr>
          <a:xfrm>
            <a:off x="5711760" y="2036880"/>
            <a:ext cx="2462400" cy="1054080"/>
          </a:xfrm>
          <a:prstGeom prst="rect">
            <a:avLst/>
          </a:prstGeom>
          <a:ln w="0">
            <a:noFill/>
          </a:ln>
        </p:spPr>
      </p:pic>
      <p:pic>
        <p:nvPicPr>
          <p:cNvPr id="243" name="Прямоугольник 10" descr=""/>
          <p:cNvPicPr/>
          <p:nvPr/>
        </p:nvPicPr>
        <p:blipFill>
          <a:blip r:embed="rId6"/>
          <a:stretch/>
        </p:blipFill>
        <p:spPr>
          <a:xfrm>
            <a:off x="6845400" y="3395520"/>
            <a:ext cx="463320" cy="438120"/>
          </a:xfrm>
          <a:prstGeom prst="rect">
            <a:avLst/>
          </a:prstGeom>
          <a:ln w="0">
            <a:noFill/>
          </a:ln>
        </p:spPr>
      </p:pic>
      <p:pic>
        <p:nvPicPr>
          <p:cNvPr id="244" name="Прямоугольник 11" descr=""/>
          <p:cNvPicPr/>
          <p:nvPr/>
        </p:nvPicPr>
        <p:blipFill>
          <a:blip r:embed="rId7"/>
          <a:stretch/>
        </p:blipFill>
        <p:spPr>
          <a:xfrm>
            <a:off x="5638680" y="5394240"/>
            <a:ext cx="3372120" cy="439920"/>
          </a:xfrm>
          <a:prstGeom prst="rect">
            <a:avLst/>
          </a:prstGeom>
          <a:ln w="0">
            <a:noFill/>
          </a:ln>
        </p:spPr>
      </p:pic>
      <p:pic>
        <p:nvPicPr>
          <p:cNvPr id="245" name="Прямоугольник 12" descr=""/>
          <p:cNvPicPr/>
          <p:nvPr/>
        </p:nvPicPr>
        <p:blipFill>
          <a:blip r:embed="rId8"/>
          <a:stretch/>
        </p:blipFill>
        <p:spPr>
          <a:xfrm>
            <a:off x="6918480" y="4541760"/>
            <a:ext cx="463320" cy="438120"/>
          </a:xfrm>
          <a:prstGeom prst="rect">
            <a:avLst/>
          </a:prstGeom>
          <a:ln w="0">
            <a:noFill/>
          </a:ln>
        </p:spPr>
      </p:pic>
      <p:sp>
        <p:nvSpPr>
          <p:cNvPr id="246" name="Номер слайда 1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6085-D791-4006-87F6-CCA1B33EC7F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Нижний колонтитул 1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Рисунок 4" descr="220px-Atome_de_Rutherford.png"/>
          <p:cNvPicPr/>
          <p:nvPr/>
        </p:nvPicPr>
        <p:blipFill>
          <a:blip r:embed="rId1"/>
          <a:stretch/>
        </p:blipFill>
        <p:spPr>
          <a:xfrm>
            <a:off x="2066760" y="1066680"/>
            <a:ext cx="4437360" cy="4297320"/>
          </a:xfrm>
          <a:prstGeom prst="rect">
            <a:avLst/>
          </a:prstGeom>
          <a:ln w="0">
            <a:noFill/>
          </a:ln>
        </p:spPr>
      </p:pic>
      <p:sp>
        <p:nvSpPr>
          <p:cNvPr id="249" name="Овал 6"/>
          <p:cNvSpPr/>
          <p:nvPr/>
        </p:nvSpPr>
        <p:spPr>
          <a:xfrm>
            <a:off x="2928960" y="1714680"/>
            <a:ext cx="357120" cy="3571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Овал 7"/>
          <p:cNvSpPr/>
          <p:nvPr/>
        </p:nvSpPr>
        <p:spPr>
          <a:xfrm>
            <a:off x="4357800" y="1714680"/>
            <a:ext cx="357120" cy="3571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Овал 8"/>
          <p:cNvSpPr/>
          <p:nvPr/>
        </p:nvSpPr>
        <p:spPr>
          <a:xfrm>
            <a:off x="2643120" y="3500280"/>
            <a:ext cx="357120" cy="3574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Овал 9"/>
          <p:cNvSpPr/>
          <p:nvPr/>
        </p:nvSpPr>
        <p:spPr>
          <a:xfrm>
            <a:off x="3214800" y="3214800"/>
            <a:ext cx="357120" cy="3571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Овал 10"/>
          <p:cNvSpPr/>
          <p:nvPr/>
        </p:nvSpPr>
        <p:spPr>
          <a:xfrm>
            <a:off x="5929200" y="3786120"/>
            <a:ext cx="357480" cy="3571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Овал 11"/>
          <p:cNvSpPr/>
          <p:nvPr/>
        </p:nvSpPr>
        <p:spPr>
          <a:xfrm>
            <a:off x="4643280" y="4357800"/>
            <a:ext cx="357480" cy="3571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Прямоугольник 12" descr=""/>
          <p:cNvPicPr/>
          <p:nvPr/>
        </p:nvPicPr>
        <p:blipFill>
          <a:blip r:embed="rId2"/>
          <a:stretch/>
        </p:blipFill>
        <p:spPr>
          <a:xfrm>
            <a:off x="4406760" y="-334800"/>
            <a:ext cx="6035760" cy="5565600"/>
          </a:xfrm>
          <a:prstGeom prst="rect">
            <a:avLst/>
          </a:prstGeom>
          <a:ln w="0">
            <a:noFill/>
          </a:ln>
        </p:spPr>
      </p:pic>
      <p:sp>
        <p:nvSpPr>
          <p:cNvPr id="256" name="Номер слайда 1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D851-43FD-4189-9FD7-D231AD1C4AA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Нижний колонтитул 14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7.40741E-007 C -0.00938 0.02523 -0.0224 0.07337 -0.0257 0.10509 C -0.029 0.1368 -0.02171 0.16782 -0.01962 0.19004 C -0.01754 0.21226 -0.02188 0.20925 -0.01355 0.23842 C -0.00521 0.26759 0.0144 0.33379 0.03038 0.36574 C 0.04635 0.39768 0.05954 0.41157 0.08176 0.43032 C 0.10399 0.44907 0.13715 0.47824 0.16371 0.47893 C 0.19027 0.47962 0.22152 0.45648 0.24097 0.43449 C 0.26041 0.4125 0.27274 0.38009 0.28038 0.34745 C 0.28801 0.31481 0.28801 0.27337 0.28645 0.23842 C 0.28489 0.20347 0.27968 0.17013 0.27117 0.1375 C 0.26267 0.10486 0.24878 0.06967 0.23489 0.04236 C 0.221 0.01504 0.20295 -0.00996 0.18784 -0.02616 C 0.17274 -0.04237 0.16232 -0.0463 0.14392 -0.0544 C 0.12551 -0.0625 0.09617 -0.07616 0.07725 -0.07477 C 0.05833 -0.07338 0.04322 -0.05903 0.03038 -0.04653 C 0.01753 -0.03403 0.00937 -0.02524 -6.66667E-006 7.40741E-007 Z">
                                      <p:cBhvr>
                                        <p:cTn id="89" dur="5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7.40741E-007 C -0.02327 0.0037 -0.03386 0.01666 -0.05295 0.02824 C -0.07205 0.03981 -0.09549 0.05254 -0.11511 0.06875 C -0.13472 0.08495 -0.15347 0.10138 -0.17118 0.12523 C -0.18889 0.14907 -0.21129 0.18634 -0.22118 0.21226 C -0.23108 0.23819 -0.23247 0.25833 -0.23021 0.28078 C -0.22795 0.30324 -0.2224 0.33032 -0.20747 0.34745 C -0.19254 0.36458 -0.16702 0.3787 -0.1408 0.38379 C -0.11459 0.38888 -0.08056 0.38611 -0.05 0.37777 C -0.01945 0.36944 0.01458 0.35416 0.04253 0.33333 C 0.07048 0.3125 0.09826 0.27986 0.11823 0.25254 C 0.13819 0.22523 0.15364 0.19537 0.16215 0.16967 C 0.17066 0.14398 0.17274 0.12129 0.16979 0.09907 C 0.16684 0.07685 0.15781 0.05185 0.14392 0.03634 C 0.13003 0.02083 0.11024 0.01134 0.08646 0.00601 C 0.06267 0.00069 0.02326 -0.00371 -5.55556E-007 7.40741E-007 Z">
                                      <p:cBhvr>
                                        <p:cTn id="91" dur="5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3.7037E-007 C 0.01458 -0.03982 0.01441 -0.0787 0.01371 -0.11528 C 0.01302 -0.15185 0.00625 -0.18727 -0.00452 -0.22014 C -0.01528 -0.25301 -0.0349 -0.28866 -0.05139 -0.31319 C -0.06788 -0.33773 -0.08021 -0.3537 -0.10295 -0.36759 C -0.1257 -0.38148 -0.1599 -0.39329 -0.18785 -0.39607 C -0.2158 -0.39884 -0.24358 -0.3963 -0.27118 -0.3838 C -0.29879 -0.3713 -0.32969 -0.35394 -0.35295 -0.3213 C -0.37622 -0.28866 -0.40278 -0.24213 -0.41059 -0.18796 C -0.4184 -0.1338 -0.41337 -0.04583 -0.4 0.00393 C -0.38663 0.0537 -0.35955 0.08241 -0.33021 0.11111 C -0.30087 0.13981 -0.26684 0.17361 -0.22413 0.17569 C -0.18143 0.17778 -0.11146 0.15324 -0.07413 0.12315 C -0.03681 0.09306 -0.01459 0.03981 3.88889E-006 -3.7037E-007 Z">
                                      <p:cBhvr>
                                        <p:cTn id="93" dur="5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11111E-006 C 0.00729 -0.03935 0.0125 -0.10602 0.01371 -0.15764 C 0.01493 -0.20926 0.01441 -0.25949 0.00764 -0.30926 C 0.00087 -0.35903 -0.01268 -0.43241 -0.02726 -0.45671 C -0.04184 -0.48102 -0.06511 -0.48449 -0.08021 -0.45463 C -0.09532 -0.42477 -0.1132 -0.34375 -0.11823 -0.27685 C -0.12327 -0.20995 -0.11823 -0.11204 -0.11059 -0.05254 C -0.10295 0.00695 -0.08611 0.05903 -0.07275 0.08079 C -0.05938 0.10255 -0.04167 0.09097 -0.03021 0.07871 C -0.01875 0.06644 -0.00729 0.03935 3.05556E-006 1.11111E-006 Z">
                                      <p:cBhvr>
                                        <p:cTn id="95" dur="5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8.14815E-006 C -0.01215 0.02384 -0.0349 0.07893 -0.04393 0.10717 C -0.05295 0.13541 -0.05903 0.15671 -0.05452 0.1699 C -0.05 0.1831 -0.03959 0.19675 -0.01667 0.18587 C 0.00625 0.17499 0.04323 0.15092 0.08333 0.10509 C 0.12344 0.05925 0.19444 -0.03751 0.2243 -0.08889 C 0.25416 -0.14028 0.26389 -0.1801 0.26215 -0.20394 C 0.26041 -0.22778 0.23455 -0.2382 0.21371 -0.23218 C 0.19288 -0.22616 0.16719 -0.20024 0.13646 -0.1676 C 0.10573 -0.13496 0.05087 -0.06389 0.02882 -0.03635 C 0.00677 -0.0088 0.01215 -0.02385 -1.11111E-006 -8.14815E-006 Z">
                                      <p:cBhvr>
                                        <p:cTn id="97" dur="5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7.40741E-006 C 0.02222 0.0095 0.04896 0.02709 0.09236 0.03033 C 0.13576 0.03357 0.21545 0.03079 0.26059 0.02014 C 0.30573 0.0095 0.3474 -0.01296 0.36372 -0.03425 C 0.38004 -0.05555 0.37674 -0.08657 0.35903 -0.10717 C 0.34132 -0.12777 0.29653 -0.14652 0.25764 -0.15763 C 0.21875 -0.16874 0.16441 -0.17453 0.12569 -0.17384 C 0.08698 -0.17314 0.05451 -0.1662 0.02569 -0.15347 C -0.00312 -0.14074 -0.03576 -0.11828 -0.04687 -0.09699 C -0.05799 -0.07569 -0.04826 -0.04212 -0.04097 -0.02638 C -0.03368 -0.01064 -0.02222 -0.00949 -3.33333E-006 7.40741E-006 Z">
                                      <p:cBhvr>
                                        <p:cTn id="99" dur="5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714560" y="213840"/>
            <a:ext cx="41432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1" lang="uk-UA" sz="3200" spc="-1" strike="noStrike">
                <a:solidFill>
                  <a:srgbClr val="ff0000"/>
                </a:solidFill>
                <a:latin typeface="Cambria"/>
              </a:rPr>
              <a:t>Електронна хмарина або електронна орбіталь </a:t>
            </a: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– </a:t>
            </a:r>
            <a:r>
              <a:rPr b="0" lang="uk-UA" sz="3600" spc="-1" strike="noStrike">
                <a:solidFill>
                  <a:srgbClr val="000000"/>
                </a:solidFill>
                <a:latin typeface="Cambria"/>
              </a:rPr>
              <a:t>частина простору навколо ядра, де перебування електронна наймовірніше.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59" name="Овал 5"/>
          <p:cNvGrpSpPr/>
          <p:nvPr/>
        </p:nvGrpSpPr>
        <p:grpSpPr>
          <a:xfrm>
            <a:off x="396720" y="1255680"/>
            <a:ext cx="3705480" cy="3487680"/>
            <a:chOff x="396720" y="1255680"/>
            <a:chExt cx="3705480" cy="3487680"/>
          </a:xfrm>
        </p:grpSpPr>
        <p:pic>
          <p:nvPicPr>
            <p:cNvPr id="260" name="Овал 5" descr=""/>
            <p:cNvPicPr/>
            <p:nvPr/>
          </p:nvPicPr>
          <p:blipFill>
            <a:blip r:embed="rId1"/>
            <a:stretch/>
          </p:blipFill>
          <p:spPr>
            <a:xfrm>
              <a:off x="396720" y="1255680"/>
              <a:ext cx="3705480" cy="348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1114560" y="1940040"/>
              <a:ext cx="2271600" cy="21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Кольцо 11"/>
          <p:cNvSpPr/>
          <p:nvPr/>
        </p:nvSpPr>
        <p:spPr>
          <a:xfrm>
            <a:off x="1143000" y="2000160"/>
            <a:ext cx="2143080" cy="2071800"/>
          </a:xfrm>
          <a:custGeom>
            <a:avLst/>
            <a:gdLst>
              <a:gd name="textAreaLeft" fmla="*/ 313560 w 2143080"/>
              <a:gd name="textAreaRight" fmla="*/ 1829520 w 2143080"/>
              <a:gd name="textAreaTop" fmla="*/ 303120 h 2071800"/>
              <a:gd name="textAreaBottom" fmla="*/ 1768680 h 2071800"/>
            </a:gdLst>
            <a:ahLst/>
            <a:rect l="textAreaLeft" t="textAreaTop" r="textAreaRight" b="textAreaBottom"/>
            <a:pathLst>
              <a:path w="2143125" h="2071688">
                <a:moveTo>
                  <a:pt x="0" y="1035844"/>
                </a:moveTo>
                <a:lnTo>
                  <a:pt x="0" y="1035844"/>
                </a:lnTo>
                <a:arcTo wR="1071563" hR="1035844" stAng="-10799997" swAng="5400003"/>
                <a:lnTo>
                  <a:pt x="1071565" y="1"/>
                </a:lnTo>
                <a:arcTo wR="1071563" hR="1035844" stAng="-5399997" swAng="5400003"/>
                <a:lnTo>
                  <a:pt x="2143127" y="1035847"/>
                </a:lnTo>
                <a:arcTo wR="1071563" hR="1035844" stAng="0" swAng="5400003"/>
                <a:lnTo>
                  <a:pt x="1071563" y="2071691"/>
                </a:lnTo>
                <a:arcTo wR="1071563" hR="1035844" stAng="5400003" swAng="5400000"/>
                <a:close/>
                <a:moveTo>
                  <a:pt x="126332" y="1035844"/>
                </a:moveTo>
                <a:lnTo>
                  <a:pt x="126332" y="1035844"/>
                </a:lnTo>
                <a:arcTo wR="945231" hR="909512" stAng="-10799996" swAng="-5400000"/>
                <a:lnTo>
                  <a:pt x="1071562" y="1945357"/>
                </a:lnTo>
                <a:arcTo wR="945231" hR="909512" stAng="5400004" swAng="-5400000"/>
                <a:lnTo>
                  <a:pt x="2016794" y="1035846"/>
                </a:lnTo>
                <a:arcTo wR="945231" hR="909512" stAng="0" swAng="-5400000"/>
                <a:lnTo>
                  <a:pt x="1071563" y="126334"/>
                </a:lnTo>
                <a:arcTo wR="945231" hR="909512" stAng="-5399996" swAng="-5400000"/>
                <a:close/>
              </a:path>
            </a:pathLst>
          </a:custGeom>
          <a:solidFill>
            <a:srgbClr val="9e3611"/>
          </a:solidFill>
          <a:ln w="1260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Прямая со стрелкой 9"/>
          <p:cNvCxnSpPr/>
          <p:nvPr/>
        </p:nvCxnSpPr>
        <p:spPr>
          <a:xfrm flipH="1">
            <a:off x="2928240" y="785880"/>
            <a:ext cx="2072520" cy="1643760"/>
          </a:xfrm>
          <a:prstGeom prst="straightConnector1">
            <a:avLst/>
          </a:prstGeom>
          <a:ln w="7632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264" name="Содержимое 4"/>
          <p:cNvSpPr/>
          <p:nvPr/>
        </p:nvSpPr>
        <p:spPr>
          <a:xfrm>
            <a:off x="357120" y="5000760"/>
            <a:ext cx="828684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1" lang="uk-UA" sz="3200" spc="-1" strike="noStrike">
                <a:solidFill>
                  <a:srgbClr val="000000"/>
                </a:solidFill>
                <a:latin typeface="Cambria"/>
              </a:rPr>
              <a:t>Орбіталь  позначають         (електронна    комірка), а електрон у ній – стрілкою (спін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13"/>
          <p:cNvSpPr/>
          <p:nvPr/>
        </p:nvSpPr>
        <p:spPr>
          <a:xfrm>
            <a:off x="5286240" y="5000760"/>
            <a:ext cx="571680" cy="571320"/>
          </a:xfrm>
          <a:prstGeom prst="rect">
            <a:avLst/>
          </a:prstGeom>
          <a:solidFill>
            <a:srgbClr val="956251"/>
          </a:solidFill>
          <a:ln w="12600">
            <a:solidFill>
              <a:srgbClr val="6c4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4"/>
          <p:cNvSpPr/>
          <p:nvPr/>
        </p:nvSpPr>
        <p:spPr>
          <a:xfrm>
            <a:off x="8072280" y="5572080"/>
            <a:ext cx="571680" cy="571680"/>
          </a:xfrm>
          <a:prstGeom prst="rect">
            <a:avLst/>
          </a:prstGeom>
          <a:solidFill>
            <a:srgbClr val="956251"/>
          </a:solidFill>
          <a:ln w="12600">
            <a:solidFill>
              <a:srgbClr val="6c46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Прямая со стрелкой 15"/>
          <p:cNvCxnSpPr/>
          <p:nvPr/>
        </p:nvCxnSpPr>
        <p:spPr>
          <a:xfrm flipV="1">
            <a:off x="8357040" y="5571720"/>
            <a:ext cx="2520" cy="572400"/>
          </a:xfrm>
          <a:prstGeom prst="straightConnector1">
            <a:avLst/>
          </a:prstGeom>
          <a:ln w="7632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268" name="Номер слайда 10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E893-9CED-480B-8D95-0F76F31611B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Нижний колонтитул 16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Calibri"/>
              </a:rPr>
              <a:t>Електронні орбіталі</a:t>
            </a:r>
            <a:endParaRPr b="0" lang="en-US" sz="6000" spc="-1" strike="noStrike">
              <a:solidFill>
                <a:srgbClr val="696464"/>
              </a:solidFill>
              <a:latin typeface="Calibri"/>
            </a:endParaRPr>
          </a:p>
        </p:txBody>
      </p:sp>
      <p:grpSp>
        <p:nvGrpSpPr>
          <p:cNvPr id="271" name="Овал 3"/>
          <p:cNvGrpSpPr/>
          <p:nvPr/>
        </p:nvGrpSpPr>
        <p:grpSpPr>
          <a:xfrm>
            <a:off x="396720" y="1255680"/>
            <a:ext cx="3778560" cy="3487680"/>
            <a:chOff x="396720" y="1255680"/>
            <a:chExt cx="3778560" cy="3487680"/>
          </a:xfrm>
        </p:grpSpPr>
        <p:pic>
          <p:nvPicPr>
            <p:cNvPr id="272" name="Овал 3" descr=""/>
            <p:cNvPicPr/>
            <p:nvPr/>
          </p:nvPicPr>
          <p:blipFill>
            <a:blip r:embed="rId1"/>
            <a:stretch/>
          </p:blipFill>
          <p:spPr>
            <a:xfrm>
              <a:off x="396720" y="1255680"/>
              <a:ext cx="3778560" cy="348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1123920" y="1940040"/>
              <a:ext cx="2324160" cy="21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4" name="Прямоугольник 4" descr=""/>
          <p:cNvPicPr/>
          <p:nvPr/>
        </p:nvPicPr>
        <p:blipFill>
          <a:blip r:embed="rId2"/>
          <a:stretch/>
        </p:blipFill>
        <p:spPr>
          <a:xfrm>
            <a:off x="3524400" y="2036880"/>
            <a:ext cx="5900760" cy="1535040"/>
          </a:xfrm>
          <a:prstGeom prst="rect">
            <a:avLst/>
          </a:prstGeom>
          <a:ln w="0">
            <a:noFill/>
          </a:ln>
        </p:spPr>
      </p:pic>
      <p:sp>
        <p:nvSpPr>
          <p:cNvPr id="275" name="Рамка 5"/>
          <p:cNvSpPr/>
          <p:nvPr/>
        </p:nvSpPr>
        <p:spPr>
          <a:xfrm>
            <a:off x="3643200" y="4429080"/>
            <a:ext cx="1643040" cy="1571760"/>
          </a:xfrm>
          <a:custGeom>
            <a:avLst/>
            <a:gdLst>
              <a:gd name="textAreaLeft" fmla="*/ 196200 w 1643040"/>
              <a:gd name="textAreaRight" fmla="*/ 1446840 w 1643040"/>
              <a:gd name="textAreaTop" fmla="*/ 196200 h 1571760"/>
              <a:gd name="textAreaBottom" fmla="*/ 1375560 h 1571760"/>
            </a:gdLst>
            <a:ahLst/>
            <a:rect l="textAreaLeft" t="textAreaTop" r="textAreaRight" b="textAreaBottom"/>
            <a:pathLst>
              <a:path w="1643062" h="1571625">
                <a:moveTo>
                  <a:pt x="0" y="0"/>
                </a:moveTo>
                <a:lnTo>
                  <a:pt x="1643062" y="0"/>
                </a:lnTo>
                <a:lnTo>
                  <a:pt x="1643062" y="1571625"/>
                </a:lnTo>
                <a:lnTo>
                  <a:pt x="0" y="1571625"/>
                </a:lnTo>
                <a:close/>
                <a:moveTo>
                  <a:pt x="196453" y="196453"/>
                </a:moveTo>
                <a:lnTo>
                  <a:pt x="196453" y="1375172"/>
                </a:lnTo>
                <a:lnTo>
                  <a:pt x="1446609" y="1375172"/>
                </a:lnTo>
                <a:lnTo>
                  <a:pt x="1446609" y="19645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Прямоугольник 6" descr=""/>
          <p:cNvPicPr/>
          <p:nvPr/>
        </p:nvPicPr>
        <p:blipFill>
          <a:blip r:embed="rId3"/>
          <a:stretch/>
        </p:blipFill>
        <p:spPr>
          <a:xfrm>
            <a:off x="950760" y="5718240"/>
            <a:ext cx="7351920" cy="1146240"/>
          </a:xfrm>
          <a:prstGeom prst="rect">
            <a:avLst/>
          </a:prstGeom>
          <a:ln w="0">
            <a:noFill/>
          </a:ln>
        </p:spPr>
      </p:pic>
      <p:sp>
        <p:nvSpPr>
          <p:cNvPr id="277" name="Номер слайда 7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E050-29A9-48DF-8665-F31BBBED833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Нижний колонтитул 8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Капля 3"/>
          <p:cNvSpPr/>
          <p:nvPr/>
        </p:nvSpPr>
        <p:spPr>
          <a:xfrm>
            <a:off x="857160" y="2143080"/>
            <a:ext cx="1000080" cy="1071720"/>
          </a:xfrm>
          <a:custGeom>
            <a:avLst/>
            <a:gdLst>
              <a:gd name="textAreaLeft" fmla="*/ 146160 w 1000080"/>
              <a:gd name="textAreaRight" fmla="*/ 853920 w 1000080"/>
              <a:gd name="textAreaTop" fmla="*/ 156960 h 1071720"/>
              <a:gd name="textAreaBottom" fmla="*/ 914760 h 1071720"/>
            </a:gdLst>
            <a:ahLst/>
            <a:rect l="textAreaLeft" t="textAreaTop" r="textAreaRight" b="textAreaBottom"/>
            <a:pathLst>
              <a:path w="1000125" h="1071563">
                <a:moveTo>
                  <a:pt x="0" y="535782"/>
                </a:moveTo>
                <a:lnTo>
                  <a:pt x="0" y="535782"/>
                </a:lnTo>
                <a:arcTo wR="500063" hR="535782" stAng="-10799993" swAng="5400000"/>
                <a:lnTo>
                  <a:pt x="757022" y="0"/>
                </a:lnTo>
                <a:lnTo>
                  <a:pt x="1013981" y="-14847"/>
                </a:lnTo>
                <a:lnTo>
                  <a:pt x="1000125" y="398125"/>
                </a:lnTo>
                <a:arcTo wR="0" hR="137658" stAng="0" swAng="0"/>
                <a:lnTo>
                  <a:pt x="926892" y="993101"/>
                </a:lnTo>
                <a:arcTo wR="-250032" hR="267891" stAng="2818497" swAng="10800000"/>
                <a:close/>
              </a:path>
            </a:pathLst>
          </a:custGeom>
          <a:gradFill rotWithShape="0">
            <a:gsLst>
              <a:gs pos="0">
                <a:srgbClr val="832200"/>
              </a:gs>
              <a:gs pos="100000">
                <a:srgbClr val="e1410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Капля 4"/>
          <p:cNvSpPr/>
          <p:nvPr/>
        </p:nvSpPr>
        <p:spPr>
          <a:xfrm rot="10800000">
            <a:off x="1856880" y="1071720"/>
            <a:ext cx="1000440" cy="1071360"/>
          </a:xfrm>
          <a:custGeom>
            <a:avLst/>
            <a:gdLst>
              <a:gd name="textAreaLeft" fmla="*/ 146520 w 1000440"/>
              <a:gd name="textAreaRight" fmla="*/ 853920 w 1000440"/>
              <a:gd name="textAreaTop" fmla="*/ 156600 h 1071360"/>
              <a:gd name="textAreaBottom" fmla="*/ 914760 h 1071360"/>
            </a:gdLst>
            <a:ahLst/>
            <a:rect l="textAreaLeft" t="textAreaTop" r="textAreaRight" b="textAreaBottom"/>
            <a:pathLst>
              <a:path w="1000125" h="1071562">
                <a:moveTo>
                  <a:pt x="0" y="535781"/>
                </a:moveTo>
                <a:lnTo>
                  <a:pt x="0" y="535781"/>
                </a:lnTo>
                <a:arcTo wR="500063" hR="535781" stAng="-10799993" swAng="5400000"/>
                <a:lnTo>
                  <a:pt x="763947" y="0"/>
                </a:lnTo>
                <a:lnTo>
                  <a:pt x="1027833" y="-29688"/>
                </a:lnTo>
                <a:lnTo>
                  <a:pt x="1000125" y="394414"/>
                </a:lnTo>
                <a:arcTo wR="0" hR="141367" stAng="0" swAng="0"/>
                <a:lnTo>
                  <a:pt x="926892" y="993099"/>
                </a:lnTo>
                <a:arcTo wR="-250032" hR="267891" stAng="2818494" swAng="10800000"/>
                <a:close/>
              </a:path>
            </a:pathLst>
          </a:custGeom>
          <a:gradFill rotWithShape="0">
            <a:gsLst>
              <a:gs pos="0">
                <a:srgbClr val="832200"/>
              </a:gs>
              <a:gs pos="100000">
                <a:srgbClr val="e1410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Прямоугольник 6" descr=""/>
          <p:cNvPicPr/>
          <p:nvPr/>
        </p:nvPicPr>
        <p:blipFill>
          <a:blip r:embed="rId1"/>
          <a:stretch/>
        </p:blipFill>
        <p:spPr>
          <a:xfrm>
            <a:off x="2809800" y="1328760"/>
            <a:ext cx="6029280" cy="1457280"/>
          </a:xfrm>
          <a:prstGeom prst="rect">
            <a:avLst/>
          </a:prstGeom>
          <a:ln w="0">
            <a:noFill/>
          </a:ln>
        </p:spPr>
      </p:pic>
      <p:sp>
        <p:nvSpPr>
          <p:cNvPr id="282" name="Рамка 7"/>
          <p:cNvSpPr/>
          <p:nvPr/>
        </p:nvSpPr>
        <p:spPr>
          <a:xfrm>
            <a:off x="2214720" y="3643200"/>
            <a:ext cx="1643040" cy="1571760"/>
          </a:xfrm>
          <a:custGeom>
            <a:avLst/>
            <a:gdLst>
              <a:gd name="textAreaLeft" fmla="*/ 196200 w 1643040"/>
              <a:gd name="textAreaRight" fmla="*/ 1446840 w 1643040"/>
              <a:gd name="textAreaTop" fmla="*/ 196200 h 1571760"/>
              <a:gd name="textAreaBottom" fmla="*/ 1375560 h 1571760"/>
            </a:gdLst>
            <a:ahLst/>
            <a:rect l="textAreaLeft" t="textAreaTop" r="textAreaRight" b="textAreaBottom"/>
            <a:pathLst>
              <a:path w="1643062" h="1571625">
                <a:moveTo>
                  <a:pt x="0" y="0"/>
                </a:moveTo>
                <a:lnTo>
                  <a:pt x="1643062" y="0"/>
                </a:lnTo>
                <a:lnTo>
                  <a:pt x="1643062" y="1571625"/>
                </a:lnTo>
                <a:lnTo>
                  <a:pt x="0" y="1571625"/>
                </a:lnTo>
                <a:close/>
                <a:moveTo>
                  <a:pt x="196453" y="196453"/>
                </a:moveTo>
                <a:lnTo>
                  <a:pt x="196453" y="1375172"/>
                </a:lnTo>
                <a:lnTo>
                  <a:pt x="1446609" y="1375172"/>
                </a:lnTo>
                <a:lnTo>
                  <a:pt x="1446609" y="19645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Прямоугольник 8" descr=""/>
          <p:cNvPicPr/>
          <p:nvPr/>
        </p:nvPicPr>
        <p:blipFill>
          <a:blip r:embed="rId2"/>
          <a:stretch/>
        </p:blipFill>
        <p:spPr>
          <a:xfrm>
            <a:off x="811080" y="5291280"/>
            <a:ext cx="7266240" cy="1145880"/>
          </a:xfrm>
          <a:prstGeom prst="rect">
            <a:avLst/>
          </a:prstGeom>
          <a:ln w="0">
            <a:noFill/>
          </a:ln>
        </p:spPr>
      </p:pic>
      <p:sp>
        <p:nvSpPr>
          <p:cNvPr id="284" name="Рамка 9"/>
          <p:cNvSpPr/>
          <p:nvPr/>
        </p:nvSpPr>
        <p:spPr>
          <a:xfrm>
            <a:off x="3857760" y="3643200"/>
            <a:ext cx="1643040" cy="1571760"/>
          </a:xfrm>
          <a:custGeom>
            <a:avLst/>
            <a:gdLst>
              <a:gd name="textAreaLeft" fmla="*/ 196200 w 1643040"/>
              <a:gd name="textAreaRight" fmla="*/ 1446840 w 1643040"/>
              <a:gd name="textAreaTop" fmla="*/ 196200 h 1571760"/>
              <a:gd name="textAreaBottom" fmla="*/ 1375560 h 1571760"/>
            </a:gdLst>
            <a:ahLst/>
            <a:rect l="textAreaLeft" t="textAreaTop" r="textAreaRight" b="textAreaBottom"/>
            <a:pathLst>
              <a:path w="1643063" h="1571625">
                <a:moveTo>
                  <a:pt x="0" y="0"/>
                </a:moveTo>
                <a:lnTo>
                  <a:pt x="1643063" y="0"/>
                </a:lnTo>
                <a:lnTo>
                  <a:pt x="1643063" y="1571625"/>
                </a:lnTo>
                <a:lnTo>
                  <a:pt x="0" y="1571625"/>
                </a:lnTo>
                <a:close/>
                <a:moveTo>
                  <a:pt x="196453" y="196453"/>
                </a:moveTo>
                <a:lnTo>
                  <a:pt x="196453" y="1375172"/>
                </a:lnTo>
                <a:lnTo>
                  <a:pt x="1446610" y="1375172"/>
                </a:lnTo>
                <a:lnTo>
                  <a:pt x="1446610" y="19645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Рамка 10"/>
          <p:cNvSpPr/>
          <p:nvPr/>
        </p:nvSpPr>
        <p:spPr>
          <a:xfrm>
            <a:off x="5500800" y="3643200"/>
            <a:ext cx="1643040" cy="1571760"/>
          </a:xfrm>
          <a:custGeom>
            <a:avLst/>
            <a:gdLst>
              <a:gd name="textAreaLeft" fmla="*/ 196200 w 1643040"/>
              <a:gd name="textAreaRight" fmla="*/ 1446840 w 1643040"/>
              <a:gd name="textAreaTop" fmla="*/ 196200 h 1571760"/>
              <a:gd name="textAreaBottom" fmla="*/ 1375560 h 1571760"/>
            </a:gdLst>
            <a:ahLst/>
            <a:rect l="textAreaLeft" t="textAreaTop" r="textAreaRight" b="textAreaBottom"/>
            <a:pathLst>
              <a:path w="1643062" h="1571625">
                <a:moveTo>
                  <a:pt x="0" y="0"/>
                </a:moveTo>
                <a:lnTo>
                  <a:pt x="1643062" y="0"/>
                </a:lnTo>
                <a:lnTo>
                  <a:pt x="1643062" y="1571625"/>
                </a:lnTo>
                <a:lnTo>
                  <a:pt x="0" y="1571625"/>
                </a:lnTo>
                <a:close/>
                <a:moveTo>
                  <a:pt x="196453" y="196453"/>
                </a:moveTo>
                <a:lnTo>
                  <a:pt x="196453" y="1375172"/>
                </a:lnTo>
                <a:lnTo>
                  <a:pt x="1446609" y="1375172"/>
                </a:lnTo>
                <a:lnTo>
                  <a:pt x="1446609" y="19645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Номер слайда 1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C14C-335C-4D9F-8EE2-DAC8372ADDC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Нижний колонтитул 1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Капля 5"/>
          <p:cNvSpPr/>
          <p:nvPr/>
        </p:nvSpPr>
        <p:spPr>
          <a:xfrm>
            <a:off x="857160" y="2143080"/>
            <a:ext cx="1000080" cy="1071720"/>
          </a:xfrm>
          <a:custGeom>
            <a:avLst/>
            <a:gdLst>
              <a:gd name="textAreaLeft" fmla="*/ 146160 w 1000080"/>
              <a:gd name="textAreaRight" fmla="*/ 853920 w 1000080"/>
              <a:gd name="textAreaTop" fmla="*/ 156960 h 1071720"/>
              <a:gd name="textAreaBottom" fmla="*/ 914760 h 1071720"/>
            </a:gdLst>
            <a:ahLst/>
            <a:rect l="textAreaLeft" t="textAreaTop" r="textAreaRight" b="textAreaBottom"/>
            <a:pathLst>
              <a:path w="1000125" h="1071563">
                <a:moveTo>
                  <a:pt x="0" y="535782"/>
                </a:moveTo>
                <a:lnTo>
                  <a:pt x="0" y="535782"/>
                </a:lnTo>
                <a:arcTo wR="500063" hR="535782" stAng="-10799993" swAng="5400000"/>
                <a:lnTo>
                  <a:pt x="757022" y="0"/>
                </a:lnTo>
                <a:lnTo>
                  <a:pt x="1013981" y="-14847"/>
                </a:lnTo>
                <a:lnTo>
                  <a:pt x="1000125" y="398125"/>
                </a:lnTo>
                <a:arcTo wR="0" hR="137658" stAng="0" swAng="0"/>
                <a:lnTo>
                  <a:pt x="926892" y="993101"/>
                </a:lnTo>
                <a:arcTo wR="-250032" hR="267891" stAng="2818497" swAng="10800000"/>
                <a:close/>
              </a:path>
            </a:pathLst>
          </a:custGeom>
          <a:gradFill rotWithShape="0">
            <a:gsLst>
              <a:gs pos="0">
                <a:srgbClr val="832200"/>
              </a:gs>
              <a:gs pos="100000">
                <a:srgbClr val="e1410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Капля 6"/>
          <p:cNvSpPr/>
          <p:nvPr/>
        </p:nvSpPr>
        <p:spPr>
          <a:xfrm rot="10800000">
            <a:off x="1856880" y="999720"/>
            <a:ext cx="1071720" cy="1143000"/>
          </a:xfrm>
          <a:custGeom>
            <a:avLst/>
            <a:gdLst>
              <a:gd name="textAreaLeft" fmla="*/ 156960 w 1071720"/>
              <a:gd name="textAreaRight" fmla="*/ 914760 w 1071720"/>
              <a:gd name="textAreaTop" fmla="*/ 167400 h 1143000"/>
              <a:gd name="textAreaBottom" fmla="*/ 975600 h 1143000"/>
            </a:gdLst>
            <a:ahLst/>
            <a:rect l="textAreaLeft" t="textAreaTop" r="textAreaRight" b="textAreaBottom"/>
            <a:pathLst>
              <a:path w="1071563" h="1143000">
                <a:moveTo>
                  <a:pt x="0" y="571500"/>
                </a:moveTo>
                <a:lnTo>
                  <a:pt x="0" y="571500"/>
                </a:lnTo>
                <a:arcTo wR="535782" hR="571500" stAng="-10799994" swAng="5400000"/>
                <a:lnTo>
                  <a:pt x="818516" y="0"/>
                </a:lnTo>
                <a:lnTo>
                  <a:pt x="1101250" y="-31667"/>
                </a:lnTo>
                <a:lnTo>
                  <a:pt x="1071563" y="420708"/>
                </a:lnTo>
                <a:arcTo wR="0" hR="150792" stAng="0" swAng="0"/>
                <a:lnTo>
                  <a:pt x="993100" y="1059306"/>
                </a:lnTo>
                <a:arcTo wR="-267891" hR="285750" stAng="2810854" swAng="10800000"/>
                <a:close/>
              </a:path>
            </a:pathLst>
          </a:custGeom>
          <a:gradFill rotWithShape="0">
            <a:gsLst>
              <a:gs pos="0">
                <a:srgbClr val="832200"/>
              </a:gs>
              <a:gs pos="100000">
                <a:srgbClr val="e1410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Капля 7"/>
          <p:cNvSpPr/>
          <p:nvPr/>
        </p:nvSpPr>
        <p:spPr>
          <a:xfrm rot="5203800">
            <a:off x="776520" y="1137240"/>
            <a:ext cx="1000080" cy="1071720"/>
          </a:xfrm>
          <a:custGeom>
            <a:avLst/>
            <a:gdLst>
              <a:gd name="textAreaLeft" fmla="*/ 146160 w 1000080"/>
              <a:gd name="textAreaRight" fmla="*/ 853920 w 1000080"/>
              <a:gd name="textAreaTop" fmla="*/ 156960 h 1071720"/>
              <a:gd name="textAreaBottom" fmla="*/ 914760 h 1071720"/>
            </a:gdLst>
            <a:ahLst/>
            <a:rect l="textAreaLeft" t="textAreaTop" r="textAreaRight" b="textAreaBottom"/>
            <a:pathLst>
              <a:path w="1000125" h="1071562">
                <a:moveTo>
                  <a:pt x="0" y="535781"/>
                </a:moveTo>
                <a:lnTo>
                  <a:pt x="0" y="535781"/>
                </a:lnTo>
                <a:arcTo wR="500063" hR="535781" stAng="-10799993" swAng="5400000"/>
                <a:lnTo>
                  <a:pt x="757022" y="0"/>
                </a:lnTo>
                <a:lnTo>
                  <a:pt x="1013981" y="-14847"/>
                </a:lnTo>
                <a:lnTo>
                  <a:pt x="1000125" y="398124"/>
                </a:lnTo>
                <a:arcTo wR="0" hR="137657" stAng="0" swAng="0"/>
                <a:lnTo>
                  <a:pt x="926892" y="993099"/>
                </a:lnTo>
                <a:arcTo wR="-250032" hR="267891" stAng="2818494" swAng="10800000"/>
                <a:close/>
              </a:path>
            </a:pathLst>
          </a:custGeom>
          <a:gradFill rotWithShape="0">
            <a:gsLst>
              <a:gs pos="0">
                <a:srgbClr val="832200"/>
              </a:gs>
              <a:gs pos="100000">
                <a:srgbClr val="e1410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Капля 8"/>
          <p:cNvSpPr/>
          <p:nvPr/>
        </p:nvSpPr>
        <p:spPr>
          <a:xfrm rot="16003200">
            <a:off x="1919880" y="2137320"/>
            <a:ext cx="1000080" cy="1071720"/>
          </a:xfrm>
          <a:custGeom>
            <a:avLst/>
            <a:gdLst>
              <a:gd name="textAreaLeft" fmla="*/ 146160 w 1000080"/>
              <a:gd name="textAreaRight" fmla="*/ 853920 w 1000080"/>
              <a:gd name="textAreaTop" fmla="*/ 156960 h 1071720"/>
              <a:gd name="textAreaBottom" fmla="*/ 914760 h 1071720"/>
            </a:gdLst>
            <a:ahLst/>
            <a:rect l="textAreaLeft" t="textAreaTop" r="textAreaRight" b="textAreaBottom"/>
            <a:pathLst>
              <a:path w="1000125" h="1071562">
                <a:moveTo>
                  <a:pt x="0" y="535781"/>
                </a:moveTo>
                <a:lnTo>
                  <a:pt x="0" y="535781"/>
                </a:lnTo>
                <a:arcTo wR="500063" hR="535781" stAng="-10799993" swAng="5400000"/>
                <a:lnTo>
                  <a:pt x="763947" y="0"/>
                </a:lnTo>
                <a:lnTo>
                  <a:pt x="1027833" y="-29688"/>
                </a:lnTo>
                <a:lnTo>
                  <a:pt x="1000125" y="394414"/>
                </a:lnTo>
                <a:arcTo wR="0" hR="141367" stAng="0" swAng="0"/>
                <a:lnTo>
                  <a:pt x="926892" y="993099"/>
                </a:lnTo>
                <a:arcTo wR="-250032" hR="267891" stAng="2818494" swAng="10800000"/>
                <a:close/>
              </a:path>
            </a:pathLst>
          </a:custGeom>
          <a:gradFill rotWithShape="0">
            <a:gsLst>
              <a:gs pos="0">
                <a:srgbClr val="832200"/>
              </a:gs>
              <a:gs pos="100000">
                <a:srgbClr val="e1410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Прямоугольник 9" descr=""/>
          <p:cNvPicPr/>
          <p:nvPr/>
        </p:nvPicPr>
        <p:blipFill>
          <a:blip r:embed="rId1"/>
          <a:stretch/>
        </p:blipFill>
        <p:spPr>
          <a:xfrm>
            <a:off x="2852640" y="1036800"/>
            <a:ext cx="5943600" cy="1535040"/>
          </a:xfrm>
          <a:prstGeom prst="rect">
            <a:avLst/>
          </a:prstGeom>
          <a:ln w="0">
            <a:noFill/>
          </a:ln>
        </p:spPr>
      </p:pic>
      <p:sp>
        <p:nvSpPr>
          <p:cNvPr id="293" name="Рамка 10"/>
          <p:cNvSpPr/>
          <p:nvPr/>
        </p:nvSpPr>
        <p:spPr>
          <a:xfrm>
            <a:off x="2214720" y="3643200"/>
            <a:ext cx="1643040" cy="1571760"/>
          </a:xfrm>
          <a:custGeom>
            <a:avLst/>
            <a:gdLst>
              <a:gd name="textAreaLeft" fmla="*/ 196200 w 1643040"/>
              <a:gd name="textAreaRight" fmla="*/ 1446840 w 1643040"/>
              <a:gd name="textAreaTop" fmla="*/ 196200 h 1571760"/>
              <a:gd name="textAreaBottom" fmla="*/ 1375560 h 1571760"/>
            </a:gdLst>
            <a:ahLst/>
            <a:rect l="textAreaLeft" t="textAreaTop" r="textAreaRight" b="textAreaBottom"/>
            <a:pathLst>
              <a:path w="1643062" h="1571625">
                <a:moveTo>
                  <a:pt x="0" y="0"/>
                </a:moveTo>
                <a:lnTo>
                  <a:pt x="1643062" y="0"/>
                </a:lnTo>
                <a:lnTo>
                  <a:pt x="1643062" y="1571625"/>
                </a:lnTo>
                <a:lnTo>
                  <a:pt x="0" y="1571625"/>
                </a:lnTo>
                <a:close/>
                <a:moveTo>
                  <a:pt x="196453" y="196453"/>
                </a:moveTo>
                <a:lnTo>
                  <a:pt x="196453" y="1375172"/>
                </a:lnTo>
                <a:lnTo>
                  <a:pt x="1446609" y="1375172"/>
                </a:lnTo>
                <a:lnTo>
                  <a:pt x="1446609" y="19645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Прямоугольник 11" descr=""/>
          <p:cNvPicPr/>
          <p:nvPr/>
        </p:nvPicPr>
        <p:blipFill>
          <a:blip r:embed="rId2"/>
          <a:stretch/>
        </p:blipFill>
        <p:spPr>
          <a:xfrm>
            <a:off x="811080" y="5291280"/>
            <a:ext cx="7802640" cy="1145880"/>
          </a:xfrm>
          <a:prstGeom prst="rect">
            <a:avLst/>
          </a:prstGeom>
          <a:ln w="0">
            <a:noFill/>
          </a:ln>
        </p:spPr>
      </p:pic>
      <p:sp>
        <p:nvSpPr>
          <p:cNvPr id="295" name="Рамка 12"/>
          <p:cNvSpPr/>
          <p:nvPr/>
        </p:nvSpPr>
        <p:spPr>
          <a:xfrm>
            <a:off x="3714840" y="3643200"/>
            <a:ext cx="1643040" cy="1571760"/>
          </a:xfrm>
          <a:custGeom>
            <a:avLst/>
            <a:gdLst>
              <a:gd name="textAreaLeft" fmla="*/ 196200 w 1643040"/>
              <a:gd name="textAreaRight" fmla="*/ 1446840 w 1643040"/>
              <a:gd name="textAreaTop" fmla="*/ 196200 h 1571760"/>
              <a:gd name="textAreaBottom" fmla="*/ 1375560 h 1571760"/>
            </a:gdLst>
            <a:ahLst/>
            <a:rect l="textAreaLeft" t="textAreaTop" r="textAreaRight" b="textAreaBottom"/>
            <a:pathLst>
              <a:path w="1643063" h="1571625">
                <a:moveTo>
                  <a:pt x="0" y="0"/>
                </a:moveTo>
                <a:lnTo>
                  <a:pt x="1643063" y="0"/>
                </a:lnTo>
                <a:lnTo>
                  <a:pt x="1643063" y="1571625"/>
                </a:lnTo>
                <a:lnTo>
                  <a:pt x="0" y="1571625"/>
                </a:lnTo>
                <a:close/>
                <a:moveTo>
                  <a:pt x="196453" y="196453"/>
                </a:moveTo>
                <a:lnTo>
                  <a:pt x="196453" y="1375172"/>
                </a:lnTo>
                <a:lnTo>
                  <a:pt x="1446610" y="1375172"/>
                </a:lnTo>
                <a:lnTo>
                  <a:pt x="1446610" y="19645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Рамка 13"/>
          <p:cNvSpPr/>
          <p:nvPr/>
        </p:nvSpPr>
        <p:spPr>
          <a:xfrm>
            <a:off x="5214960" y="3643200"/>
            <a:ext cx="1643040" cy="1571760"/>
          </a:xfrm>
          <a:custGeom>
            <a:avLst/>
            <a:gdLst>
              <a:gd name="textAreaLeft" fmla="*/ 196200 w 1643040"/>
              <a:gd name="textAreaRight" fmla="*/ 1446840 w 1643040"/>
              <a:gd name="textAreaTop" fmla="*/ 196200 h 1571760"/>
              <a:gd name="textAreaBottom" fmla="*/ 1375560 h 1571760"/>
            </a:gdLst>
            <a:ahLst/>
            <a:rect l="textAreaLeft" t="textAreaTop" r="textAreaRight" b="textAreaBottom"/>
            <a:pathLst>
              <a:path w="1643062" h="1571625">
                <a:moveTo>
                  <a:pt x="0" y="0"/>
                </a:moveTo>
                <a:lnTo>
                  <a:pt x="1643062" y="0"/>
                </a:lnTo>
                <a:lnTo>
                  <a:pt x="1643062" y="1571625"/>
                </a:lnTo>
                <a:lnTo>
                  <a:pt x="0" y="1571625"/>
                </a:lnTo>
                <a:close/>
                <a:moveTo>
                  <a:pt x="196453" y="196453"/>
                </a:moveTo>
                <a:lnTo>
                  <a:pt x="196453" y="1375172"/>
                </a:lnTo>
                <a:lnTo>
                  <a:pt x="1446609" y="1375172"/>
                </a:lnTo>
                <a:lnTo>
                  <a:pt x="1446609" y="19645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Рамка 14"/>
          <p:cNvSpPr/>
          <p:nvPr/>
        </p:nvSpPr>
        <p:spPr>
          <a:xfrm>
            <a:off x="785880" y="3643200"/>
            <a:ext cx="1643040" cy="1571760"/>
          </a:xfrm>
          <a:custGeom>
            <a:avLst/>
            <a:gdLst>
              <a:gd name="textAreaLeft" fmla="*/ 196200 w 1643040"/>
              <a:gd name="textAreaRight" fmla="*/ 1446840 w 1643040"/>
              <a:gd name="textAreaTop" fmla="*/ 196200 h 1571760"/>
              <a:gd name="textAreaBottom" fmla="*/ 1375560 h 1571760"/>
            </a:gdLst>
            <a:ahLst/>
            <a:rect l="textAreaLeft" t="textAreaTop" r="textAreaRight" b="textAreaBottom"/>
            <a:pathLst>
              <a:path w="1643062" h="1571625">
                <a:moveTo>
                  <a:pt x="0" y="0"/>
                </a:moveTo>
                <a:lnTo>
                  <a:pt x="1643062" y="0"/>
                </a:lnTo>
                <a:lnTo>
                  <a:pt x="1643062" y="1571625"/>
                </a:lnTo>
                <a:lnTo>
                  <a:pt x="0" y="1571625"/>
                </a:lnTo>
                <a:close/>
                <a:moveTo>
                  <a:pt x="196453" y="196453"/>
                </a:moveTo>
                <a:lnTo>
                  <a:pt x="196453" y="1375172"/>
                </a:lnTo>
                <a:lnTo>
                  <a:pt x="1446609" y="1375172"/>
                </a:lnTo>
                <a:lnTo>
                  <a:pt x="1446609" y="19645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Рамка 15"/>
          <p:cNvSpPr/>
          <p:nvPr/>
        </p:nvSpPr>
        <p:spPr>
          <a:xfrm>
            <a:off x="6715080" y="3643200"/>
            <a:ext cx="1643040" cy="1571760"/>
          </a:xfrm>
          <a:custGeom>
            <a:avLst/>
            <a:gdLst>
              <a:gd name="textAreaLeft" fmla="*/ 196200 w 1643040"/>
              <a:gd name="textAreaRight" fmla="*/ 1446840 w 1643040"/>
              <a:gd name="textAreaTop" fmla="*/ 196200 h 1571760"/>
              <a:gd name="textAreaBottom" fmla="*/ 1375560 h 1571760"/>
            </a:gdLst>
            <a:ahLst/>
            <a:rect l="textAreaLeft" t="textAreaTop" r="textAreaRight" b="textAreaBottom"/>
            <a:pathLst>
              <a:path w="1643063" h="1571625">
                <a:moveTo>
                  <a:pt x="0" y="0"/>
                </a:moveTo>
                <a:lnTo>
                  <a:pt x="1643063" y="0"/>
                </a:lnTo>
                <a:lnTo>
                  <a:pt x="1643063" y="1571625"/>
                </a:lnTo>
                <a:lnTo>
                  <a:pt x="0" y="1571625"/>
                </a:lnTo>
                <a:close/>
                <a:moveTo>
                  <a:pt x="196453" y="196453"/>
                </a:moveTo>
                <a:lnTo>
                  <a:pt x="196453" y="1375172"/>
                </a:lnTo>
                <a:lnTo>
                  <a:pt x="1446610" y="1375172"/>
                </a:lnTo>
                <a:lnTo>
                  <a:pt x="1446610" y="19645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Номер слайда 1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CAFA-F2B3-4A84-8A75-6F0C02B8140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Нижний колонтитул 17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Капля 4"/>
          <p:cNvSpPr/>
          <p:nvPr/>
        </p:nvSpPr>
        <p:spPr>
          <a:xfrm rot="9602400">
            <a:off x="1644480" y="1044720"/>
            <a:ext cx="857520" cy="1000080"/>
          </a:xfrm>
          <a:custGeom>
            <a:avLst/>
            <a:gdLst>
              <a:gd name="textAreaLeft" fmla="*/ 125280 w 857520"/>
              <a:gd name="textAreaRight" fmla="*/ 732240 w 857520"/>
              <a:gd name="textAreaTop" fmla="*/ 146160 h 1000080"/>
              <a:gd name="textAreaBottom" fmla="*/ 853920 h 1000080"/>
            </a:gdLst>
            <a:ahLst/>
            <a:rect l="textAreaLeft" t="textAreaTop" r="textAreaRight" b="textAreaBottom"/>
            <a:pathLst>
              <a:path w="857250" h="1000125">
                <a:moveTo>
                  <a:pt x="0" y="500063"/>
                </a:moveTo>
                <a:lnTo>
                  <a:pt x="0" y="500063"/>
                </a:lnTo>
                <a:arcTo wR="428625" hR="500063" stAng="10800000" swAng="5400007"/>
                <a:lnTo>
                  <a:pt x="654812" y="0"/>
                </a:lnTo>
                <a:lnTo>
                  <a:pt x="881000" y="-27708"/>
                </a:lnTo>
                <a:lnTo>
                  <a:pt x="857250" y="368120"/>
                </a:lnTo>
                <a:arcTo wR="0" hR="131943" stAng="0" swAng="0"/>
                <a:lnTo>
                  <a:pt x="794479" y="926893"/>
                </a:lnTo>
                <a:arcTo wR="-214313" hR="250032" stAng="2963924" swAng="10800000"/>
                <a:close/>
              </a:path>
            </a:pathLst>
          </a:custGeom>
          <a:gradFill rotWithShape="0">
            <a:gsLst>
              <a:gs pos="0">
                <a:srgbClr val="832200"/>
              </a:gs>
              <a:gs pos="100000">
                <a:srgbClr val="e1410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Капля 17"/>
          <p:cNvSpPr/>
          <p:nvPr/>
        </p:nvSpPr>
        <p:spPr>
          <a:xfrm rot="13746000">
            <a:off x="2125800" y="1716120"/>
            <a:ext cx="877680" cy="960480"/>
          </a:xfrm>
          <a:custGeom>
            <a:avLst/>
            <a:gdLst>
              <a:gd name="textAreaLeft" fmla="*/ 128520 w 877680"/>
              <a:gd name="textAreaRight" fmla="*/ 749160 w 877680"/>
              <a:gd name="textAreaTop" fmla="*/ 140400 h 960480"/>
              <a:gd name="textAreaBottom" fmla="*/ 820080 h 960480"/>
            </a:gdLst>
            <a:ahLst/>
            <a:rect l="textAreaLeft" t="textAreaTop" r="textAreaRight" b="textAreaBottom"/>
            <a:pathLst>
              <a:path w="877887" h="960437">
                <a:moveTo>
                  <a:pt x="0" y="480219"/>
                </a:moveTo>
                <a:lnTo>
                  <a:pt x="0" y="480219"/>
                </a:lnTo>
                <a:arcTo wR="438944" hR="480219" stAng="-10799992" swAng="5399999"/>
                <a:lnTo>
                  <a:pt x="670576" y="0"/>
                </a:lnTo>
                <a:lnTo>
                  <a:pt x="902209" y="-26609"/>
                </a:lnTo>
                <a:lnTo>
                  <a:pt x="877887" y="353512"/>
                </a:lnTo>
                <a:arcTo wR="0" hR="126707" stAng="0" swAng="0"/>
                <a:lnTo>
                  <a:pt x="813605" y="890112"/>
                </a:lnTo>
                <a:arcTo wR="-219472" hR="240110" stAng="2854268" swAng="10800000"/>
                <a:close/>
              </a:path>
            </a:pathLst>
          </a:custGeom>
          <a:gradFill rotWithShape="0">
            <a:gsLst>
              <a:gs pos="0">
                <a:srgbClr val="832200"/>
              </a:gs>
              <a:gs pos="100000">
                <a:srgbClr val="e1410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Капля 3"/>
          <p:cNvSpPr/>
          <p:nvPr/>
        </p:nvSpPr>
        <p:spPr>
          <a:xfrm rot="20365800">
            <a:off x="1044720" y="2374920"/>
            <a:ext cx="1071360" cy="857160"/>
          </a:xfrm>
          <a:custGeom>
            <a:avLst/>
            <a:gdLst>
              <a:gd name="textAreaLeft" fmla="*/ 156600 w 1071360"/>
              <a:gd name="textAreaRight" fmla="*/ 914760 w 1071360"/>
              <a:gd name="textAreaTop" fmla="*/ 125280 h 857160"/>
              <a:gd name="textAreaBottom" fmla="*/ 731880 h 857160"/>
            </a:gdLst>
            <a:ahLst/>
            <a:rect l="textAreaLeft" t="textAreaTop" r="textAreaRight" b="textAreaBottom"/>
            <a:pathLst>
              <a:path w="1071563" h="857250">
                <a:moveTo>
                  <a:pt x="0" y="428625"/>
                </a:moveTo>
                <a:lnTo>
                  <a:pt x="0" y="428625"/>
                </a:lnTo>
                <a:arcTo wR="535782" hR="428625" stAng="-10799994" swAng="5400002"/>
                <a:lnTo>
                  <a:pt x="811095" y="0"/>
                </a:lnTo>
                <a:lnTo>
                  <a:pt x="1086409" y="-11877"/>
                </a:lnTo>
                <a:lnTo>
                  <a:pt x="1071563" y="318500"/>
                </a:lnTo>
                <a:arcTo wR="0" hR="110126" stAng="0" swAng="0"/>
                <a:lnTo>
                  <a:pt x="993100" y="794479"/>
                </a:lnTo>
                <a:arcTo wR="-267891" hR="214313" stAng="2319586" swAng="10800000"/>
                <a:close/>
              </a:path>
            </a:pathLst>
          </a:custGeom>
          <a:gradFill rotWithShape="0">
            <a:gsLst>
              <a:gs pos="0">
                <a:srgbClr val="832200"/>
              </a:gs>
              <a:gs pos="100000">
                <a:srgbClr val="e1410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Капля 6"/>
          <p:cNvSpPr/>
          <p:nvPr/>
        </p:nvSpPr>
        <p:spPr>
          <a:xfrm rot="16003200">
            <a:off x="1897560" y="2160720"/>
            <a:ext cx="847800" cy="880920"/>
          </a:xfrm>
          <a:custGeom>
            <a:avLst/>
            <a:gdLst>
              <a:gd name="textAreaLeft" fmla="*/ 124200 w 847800"/>
              <a:gd name="textAreaRight" fmla="*/ 723600 w 847800"/>
              <a:gd name="textAreaTop" fmla="*/ 128880 h 880920"/>
              <a:gd name="textAreaBottom" fmla="*/ 752040 h 880920"/>
            </a:gdLst>
            <a:ahLst/>
            <a:rect l="textAreaLeft" t="textAreaTop" r="textAreaRight" b="textAreaBottom"/>
            <a:pathLst>
              <a:path w="847725" h="881062">
                <a:moveTo>
                  <a:pt x="0" y="440531"/>
                </a:moveTo>
                <a:lnTo>
                  <a:pt x="0" y="440531"/>
                </a:lnTo>
                <a:arcTo wR="423863" hR="440531" stAng="10800000" swAng="5400008"/>
                <a:lnTo>
                  <a:pt x="647536" y="0"/>
                </a:lnTo>
                <a:lnTo>
                  <a:pt x="871211" y="-24410"/>
                </a:lnTo>
                <a:lnTo>
                  <a:pt x="847725" y="324296"/>
                </a:lnTo>
                <a:arcTo wR="0" hR="116236" stAng="0" swAng="0"/>
                <a:lnTo>
                  <a:pt x="785652" y="816548"/>
                </a:lnTo>
                <a:arcTo wR="-211932" hR="220266" stAng="2766281" swAng="10800000"/>
                <a:close/>
              </a:path>
            </a:pathLst>
          </a:custGeom>
          <a:gradFill rotWithShape="0">
            <a:gsLst>
              <a:gs pos="0">
                <a:srgbClr val="832200"/>
              </a:gs>
              <a:gs pos="100000">
                <a:srgbClr val="e1410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Прямоугольник 7" descr=""/>
          <p:cNvPicPr/>
          <p:nvPr/>
        </p:nvPicPr>
        <p:blipFill>
          <a:blip r:embed="rId1"/>
          <a:stretch/>
        </p:blipFill>
        <p:spPr>
          <a:xfrm>
            <a:off x="2809800" y="1036800"/>
            <a:ext cx="5761080" cy="1535040"/>
          </a:xfrm>
          <a:prstGeom prst="rect">
            <a:avLst/>
          </a:prstGeom>
          <a:ln w="0">
            <a:noFill/>
          </a:ln>
        </p:spPr>
      </p:pic>
      <p:pic>
        <p:nvPicPr>
          <p:cNvPr id="306" name="Прямоугольник 9" descr=""/>
          <p:cNvPicPr/>
          <p:nvPr/>
        </p:nvPicPr>
        <p:blipFill>
          <a:blip r:embed="rId2"/>
          <a:stretch/>
        </p:blipFill>
        <p:spPr>
          <a:xfrm>
            <a:off x="811080" y="5291280"/>
            <a:ext cx="7802640" cy="1145880"/>
          </a:xfrm>
          <a:prstGeom prst="rect">
            <a:avLst/>
          </a:prstGeom>
          <a:ln w="0">
            <a:noFill/>
          </a:ln>
        </p:spPr>
      </p:pic>
      <p:grpSp>
        <p:nvGrpSpPr>
          <p:cNvPr id="307" name="Группа 16"/>
          <p:cNvGrpSpPr/>
          <p:nvPr/>
        </p:nvGrpSpPr>
        <p:grpSpPr>
          <a:xfrm>
            <a:off x="285840" y="3571920"/>
            <a:ext cx="8643960" cy="1428840"/>
            <a:chOff x="285840" y="3571920"/>
            <a:chExt cx="8643960" cy="1428840"/>
          </a:xfrm>
        </p:grpSpPr>
        <p:sp>
          <p:nvSpPr>
            <p:cNvPr id="308" name="Рамка 8"/>
            <p:cNvSpPr/>
            <p:nvPr/>
          </p:nvSpPr>
          <p:spPr>
            <a:xfrm>
              <a:off x="285840" y="3571920"/>
              <a:ext cx="1380960" cy="1428840"/>
            </a:xfrm>
            <a:custGeom>
              <a:avLst/>
              <a:gdLst>
                <a:gd name="textAreaLeft" fmla="*/ 164880 w 1380960"/>
                <a:gd name="textAreaRight" fmla="*/ 1216080 w 1380960"/>
                <a:gd name="textAreaTop" fmla="*/ 178560 h 1428840"/>
                <a:gd name="textAreaBottom" fmla="*/ 1250280 h 1428840"/>
              </a:gdLst>
              <a:ahLst/>
              <a:rect l="textAreaLeft" t="textAreaTop" r="textAreaRight" b="textAreaBottom"/>
              <a:pathLst>
                <a:path w="1643664" h="1571636">
                  <a:moveTo>
                    <a:pt x="0" y="0"/>
                  </a:moveTo>
                  <a:lnTo>
                    <a:pt x="1643664" y="0"/>
                  </a:lnTo>
                  <a:lnTo>
                    <a:pt x="1643664" y="1571636"/>
                  </a:lnTo>
                  <a:lnTo>
                    <a:pt x="0" y="1571636"/>
                  </a:lnTo>
                  <a:close/>
                  <a:moveTo>
                    <a:pt x="196455" y="196455"/>
                  </a:moveTo>
                  <a:lnTo>
                    <a:pt x="196455" y="1375182"/>
                  </a:lnTo>
                  <a:lnTo>
                    <a:pt x="1447210" y="1375182"/>
                  </a:lnTo>
                  <a:lnTo>
                    <a:pt x="1447210" y="1964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Рамка 10"/>
            <p:cNvSpPr/>
            <p:nvPr/>
          </p:nvSpPr>
          <p:spPr>
            <a:xfrm>
              <a:off x="1485720" y="3571920"/>
              <a:ext cx="1380960" cy="1428840"/>
            </a:xfrm>
            <a:custGeom>
              <a:avLst/>
              <a:gdLst>
                <a:gd name="textAreaLeft" fmla="*/ 164880 w 1380960"/>
                <a:gd name="textAreaRight" fmla="*/ 1216080 w 1380960"/>
                <a:gd name="textAreaTop" fmla="*/ 178560 h 1428840"/>
                <a:gd name="textAreaBottom" fmla="*/ 1250280 h 1428840"/>
              </a:gdLst>
              <a:ahLst/>
              <a:rect l="textAreaLeft" t="textAreaTop" r="textAreaRight" b="textAreaBottom"/>
              <a:pathLst>
                <a:path w="1643664" h="1571636">
                  <a:moveTo>
                    <a:pt x="0" y="0"/>
                  </a:moveTo>
                  <a:lnTo>
                    <a:pt x="1643664" y="0"/>
                  </a:lnTo>
                  <a:lnTo>
                    <a:pt x="1643664" y="1571636"/>
                  </a:lnTo>
                  <a:lnTo>
                    <a:pt x="0" y="1571636"/>
                  </a:lnTo>
                  <a:close/>
                  <a:moveTo>
                    <a:pt x="196455" y="196455"/>
                  </a:moveTo>
                  <a:lnTo>
                    <a:pt x="196455" y="1375182"/>
                  </a:lnTo>
                  <a:lnTo>
                    <a:pt x="1447210" y="1375182"/>
                  </a:lnTo>
                  <a:lnTo>
                    <a:pt x="1447210" y="1964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Рамка 11"/>
            <p:cNvSpPr/>
            <p:nvPr/>
          </p:nvSpPr>
          <p:spPr>
            <a:xfrm>
              <a:off x="2687760" y="3571920"/>
              <a:ext cx="1379520" cy="1428840"/>
            </a:xfrm>
            <a:custGeom>
              <a:avLst/>
              <a:gdLst>
                <a:gd name="textAreaLeft" fmla="*/ 164880 w 1379520"/>
                <a:gd name="textAreaRight" fmla="*/ 1214640 w 1379520"/>
                <a:gd name="textAreaTop" fmla="*/ 178560 h 1428840"/>
                <a:gd name="textAreaBottom" fmla="*/ 1250280 h 1428840"/>
              </a:gdLst>
              <a:ahLst/>
              <a:rect l="textAreaLeft" t="textAreaTop" r="textAreaRight" b="textAreaBottom"/>
              <a:pathLst>
                <a:path w="1641774" h="1571636">
                  <a:moveTo>
                    <a:pt x="0" y="0"/>
                  </a:moveTo>
                  <a:lnTo>
                    <a:pt x="1641774" y="0"/>
                  </a:lnTo>
                  <a:lnTo>
                    <a:pt x="1641774" y="1571636"/>
                  </a:lnTo>
                  <a:lnTo>
                    <a:pt x="0" y="1571636"/>
                  </a:lnTo>
                  <a:close/>
                  <a:moveTo>
                    <a:pt x="196455" y="196455"/>
                  </a:moveTo>
                  <a:lnTo>
                    <a:pt x="196455" y="1375182"/>
                  </a:lnTo>
                  <a:lnTo>
                    <a:pt x="1445320" y="1375182"/>
                  </a:lnTo>
                  <a:lnTo>
                    <a:pt x="1445320" y="1964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Рамка 12"/>
            <p:cNvSpPr/>
            <p:nvPr/>
          </p:nvSpPr>
          <p:spPr>
            <a:xfrm>
              <a:off x="3888000" y="3571920"/>
              <a:ext cx="1379520" cy="1428840"/>
            </a:xfrm>
            <a:custGeom>
              <a:avLst/>
              <a:gdLst>
                <a:gd name="textAreaLeft" fmla="*/ 164880 w 1379520"/>
                <a:gd name="textAreaRight" fmla="*/ 1214640 w 1379520"/>
                <a:gd name="textAreaTop" fmla="*/ 178560 h 1428840"/>
                <a:gd name="textAreaBottom" fmla="*/ 1250280 h 1428840"/>
              </a:gdLst>
              <a:ahLst/>
              <a:rect l="textAreaLeft" t="textAreaTop" r="textAreaRight" b="textAreaBottom"/>
              <a:pathLst>
                <a:path w="1641774" h="1571636">
                  <a:moveTo>
                    <a:pt x="0" y="0"/>
                  </a:moveTo>
                  <a:lnTo>
                    <a:pt x="1641774" y="0"/>
                  </a:lnTo>
                  <a:lnTo>
                    <a:pt x="1641774" y="1571636"/>
                  </a:lnTo>
                  <a:lnTo>
                    <a:pt x="0" y="1571636"/>
                  </a:lnTo>
                  <a:close/>
                  <a:moveTo>
                    <a:pt x="196455" y="196455"/>
                  </a:moveTo>
                  <a:lnTo>
                    <a:pt x="196455" y="1375182"/>
                  </a:lnTo>
                  <a:lnTo>
                    <a:pt x="1445320" y="1375182"/>
                  </a:lnTo>
                  <a:lnTo>
                    <a:pt x="1445320" y="1964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Рамка 13"/>
            <p:cNvSpPr/>
            <p:nvPr/>
          </p:nvSpPr>
          <p:spPr>
            <a:xfrm>
              <a:off x="5087880" y="3571920"/>
              <a:ext cx="1380960" cy="1428840"/>
            </a:xfrm>
            <a:custGeom>
              <a:avLst/>
              <a:gdLst>
                <a:gd name="textAreaLeft" fmla="*/ 164880 w 1380960"/>
                <a:gd name="textAreaRight" fmla="*/ 1216080 w 1380960"/>
                <a:gd name="textAreaTop" fmla="*/ 178560 h 1428840"/>
                <a:gd name="textAreaBottom" fmla="*/ 1250280 h 1428840"/>
              </a:gdLst>
              <a:ahLst/>
              <a:rect l="textAreaLeft" t="textAreaTop" r="textAreaRight" b="textAreaBottom"/>
              <a:pathLst>
                <a:path w="1643664" h="1571636">
                  <a:moveTo>
                    <a:pt x="0" y="0"/>
                  </a:moveTo>
                  <a:lnTo>
                    <a:pt x="1643664" y="0"/>
                  </a:lnTo>
                  <a:lnTo>
                    <a:pt x="1643664" y="1571636"/>
                  </a:lnTo>
                  <a:lnTo>
                    <a:pt x="0" y="1571636"/>
                  </a:lnTo>
                  <a:close/>
                  <a:moveTo>
                    <a:pt x="196455" y="196455"/>
                  </a:moveTo>
                  <a:lnTo>
                    <a:pt x="196455" y="1375182"/>
                  </a:lnTo>
                  <a:lnTo>
                    <a:pt x="1447210" y="1375182"/>
                  </a:lnTo>
                  <a:lnTo>
                    <a:pt x="1447210" y="1964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Рамка 14"/>
            <p:cNvSpPr/>
            <p:nvPr/>
          </p:nvSpPr>
          <p:spPr>
            <a:xfrm>
              <a:off x="6348600" y="3571920"/>
              <a:ext cx="1380960" cy="1428840"/>
            </a:xfrm>
            <a:custGeom>
              <a:avLst/>
              <a:gdLst>
                <a:gd name="textAreaLeft" fmla="*/ 164880 w 1380960"/>
                <a:gd name="textAreaRight" fmla="*/ 1216080 w 1380960"/>
                <a:gd name="textAreaTop" fmla="*/ 178560 h 1428840"/>
                <a:gd name="textAreaBottom" fmla="*/ 1250280 h 1428840"/>
              </a:gdLst>
              <a:ahLst/>
              <a:rect l="textAreaLeft" t="textAreaTop" r="textAreaRight" b="textAreaBottom"/>
              <a:pathLst>
                <a:path w="1643664" h="1571636">
                  <a:moveTo>
                    <a:pt x="0" y="0"/>
                  </a:moveTo>
                  <a:lnTo>
                    <a:pt x="1643664" y="0"/>
                  </a:lnTo>
                  <a:lnTo>
                    <a:pt x="1643664" y="1571636"/>
                  </a:lnTo>
                  <a:lnTo>
                    <a:pt x="0" y="1571636"/>
                  </a:lnTo>
                  <a:close/>
                  <a:moveTo>
                    <a:pt x="196455" y="196455"/>
                  </a:moveTo>
                  <a:lnTo>
                    <a:pt x="196455" y="1375182"/>
                  </a:lnTo>
                  <a:lnTo>
                    <a:pt x="1447210" y="1375182"/>
                  </a:lnTo>
                  <a:lnTo>
                    <a:pt x="1447210" y="1964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Рамка 15"/>
            <p:cNvSpPr/>
            <p:nvPr/>
          </p:nvSpPr>
          <p:spPr>
            <a:xfrm>
              <a:off x="7548840" y="3571920"/>
              <a:ext cx="1380960" cy="1428840"/>
            </a:xfrm>
            <a:custGeom>
              <a:avLst/>
              <a:gdLst>
                <a:gd name="textAreaLeft" fmla="*/ 164880 w 1380960"/>
                <a:gd name="textAreaRight" fmla="*/ 1216080 w 1380960"/>
                <a:gd name="textAreaTop" fmla="*/ 178560 h 1428840"/>
                <a:gd name="textAreaBottom" fmla="*/ 1250280 h 1428840"/>
              </a:gdLst>
              <a:ahLst/>
              <a:rect l="textAreaLeft" t="textAreaTop" r="textAreaRight" b="textAreaBottom"/>
              <a:pathLst>
                <a:path w="1643664" h="1571636">
                  <a:moveTo>
                    <a:pt x="0" y="0"/>
                  </a:moveTo>
                  <a:lnTo>
                    <a:pt x="1643664" y="0"/>
                  </a:lnTo>
                  <a:lnTo>
                    <a:pt x="1643664" y="1571636"/>
                  </a:lnTo>
                  <a:lnTo>
                    <a:pt x="0" y="1571636"/>
                  </a:lnTo>
                  <a:close/>
                  <a:moveTo>
                    <a:pt x="196455" y="196455"/>
                  </a:moveTo>
                  <a:lnTo>
                    <a:pt x="196455" y="1375182"/>
                  </a:lnTo>
                  <a:lnTo>
                    <a:pt x="1447210" y="1375182"/>
                  </a:lnTo>
                  <a:lnTo>
                    <a:pt x="1447210" y="1964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Капля 18"/>
          <p:cNvSpPr/>
          <p:nvPr/>
        </p:nvSpPr>
        <p:spPr>
          <a:xfrm rot="1855800">
            <a:off x="701640" y="1843200"/>
            <a:ext cx="933480" cy="1042920"/>
          </a:xfrm>
          <a:custGeom>
            <a:avLst/>
            <a:gdLst>
              <a:gd name="textAreaLeft" fmla="*/ 136440 w 933480"/>
              <a:gd name="textAreaRight" fmla="*/ 797040 w 933480"/>
              <a:gd name="textAreaTop" fmla="*/ 152640 h 1042920"/>
              <a:gd name="textAreaBottom" fmla="*/ 890280 h 1042920"/>
            </a:gdLst>
            <a:ahLst/>
            <a:rect l="textAreaLeft" t="textAreaTop" r="textAreaRight" b="textAreaBottom"/>
            <a:pathLst>
              <a:path w="933450" h="1042987">
                <a:moveTo>
                  <a:pt x="0" y="521494"/>
                </a:moveTo>
                <a:lnTo>
                  <a:pt x="0" y="521494"/>
                </a:lnTo>
                <a:arcTo wR="466725" hR="521494" stAng="-10799993" swAng="5399999"/>
                <a:lnTo>
                  <a:pt x="713018" y="0"/>
                </a:lnTo>
                <a:lnTo>
                  <a:pt x="959311" y="-28896"/>
                </a:lnTo>
                <a:lnTo>
                  <a:pt x="933450" y="383897"/>
                </a:lnTo>
                <a:arcTo wR="0" hR="137598" stAng="0" swAng="0"/>
                <a:lnTo>
                  <a:pt x="865100" y="966617"/>
                </a:lnTo>
                <a:arcTo wR="-233363" hR="260747" stAng="2890332" swAng="10800000"/>
                <a:close/>
              </a:path>
            </a:pathLst>
          </a:custGeom>
          <a:gradFill rotWithShape="0">
            <a:gsLst>
              <a:gs pos="0">
                <a:srgbClr val="832200"/>
              </a:gs>
              <a:gs pos="100000">
                <a:srgbClr val="e1410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Капля 5"/>
          <p:cNvSpPr/>
          <p:nvPr/>
        </p:nvSpPr>
        <p:spPr>
          <a:xfrm rot="5203800">
            <a:off x="965520" y="1313640"/>
            <a:ext cx="766800" cy="942840"/>
          </a:xfrm>
          <a:custGeom>
            <a:avLst/>
            <a:gdLst>
              <a:gd name="textAreaLeft" fmla="*/ 112320 w 766800"/>
              <a:gd name="textAreaRight" fmla="*/ 654480 w 766800"/>
              <a:gd name="textAreaTop" fmla="*/ 137880 h 942840"/>
              <a:gd name="textAreaBottom" fmla="*/ 804960 h 942840"/>
            </a:gdLst>
            <a:ahLst/>
            <a:rect l="textAreaLeft" t="textAreaTop" r="textAreaRight" b="textAreaBottom"/>
            <a:pathLst>
              <a:path w="766762" h="942975">
                <a:moveTo>
                  <a:pt x="0" y="471488"/>
                </a:moveTo>
                <a:lnTo>
                  <a:pt x="0" y="471488"/>
                </a:lnTo>
                <a:arcTo wR="383381" hR="471488" stAng="10800000" swAng="5400007"/>
                <a:lnTo>
                  <a:pt x="580383" y="0"/>
                </a:lnTo>
                <a:lnTo>
                  <a:pt x="777385" y="-13065"/>
                </a:lnTo>
                <a:lnTo>
                  <a:pt x="766762" y="350350"/>
                </a:lnTo>
                <a:arcTo wR="0" hR="121139" stAng="0" swAng="0"/>
                <a:lnTo>
                  <a:pt x="710617" y="873928"/>
                </a:lnTo>
                <a:arcTo wR="-191691" hR="235744" stAng="3053064" swAng="10800000"/>
                <a:close/>
              </a:path>
            </a:pathLst>
          </a:custGeom>
          <a:gradFill rotWithShape="0">
            <a:gsLst>
              <a:gs pos="0">
                <a:srgbClr val="832200"/>
              </a:gs>
              <a:gs pos="100000">
                <a:srgbClr val="e1410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b32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Номер слайда 19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F780-E90B-4F8D-B144-D2F34404844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Нижний колонтитул 20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андра</cp:lastModifiedBy>
  <dcterms:modified xsi:type="dcterms:W3CDTF">2019-09-21T19:33:33Z</dcterms:modified>
  <cp:revision>32</cp:revision>
  <dc:subject/>
  <dc:title>Стан електронів у атомі</dc:title>
</cp:coreProperties>
</file>