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A64-BAF1-41FA-B693-C8D88A50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100-2D00-4621-BF4F-C24BA278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2B8-D163-4F1D-99A9-95E72D2E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A37-346E-4DFC-8E35-28160BC6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61D9-C835-4C0C-BBA4-30F6F8F2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04D0-B5A2-4DA3-9C58-54E7D0F8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0D1-8191-4BDB-BA94-6A4505B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DAFE-0B58-4380-900E-F9D4CBDF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F66-2CB7-4D6C-8977-15BF8A3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B0E1-FAB1-4B05-8F56-9A22CA4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C9F-0844-4617-8D57-7C2CFE3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770-E17A-482A-85C7-DFD3EDA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87C-722F-4658-BE1A-031CD7F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8FA5-5D35-4AA4-8E0F-55BB62E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E72-5EAE-439E-A28C-FBA3281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56C1-FC82-4E08-B066-F9F2F88B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C93-C4AD-430D-BFC8-82852EA0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EA7E-023E-4DA9-AF3D-938492C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BA4F-AD06-4E09-8601-4BB1B4D3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DBDE-F045-43B2-AA85-0BA9D936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B825-251A-4476-B73E-1019ADF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0F8D-D9FE-4398-AB0A-5CEC4D5E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660-2BA7-41EF-98C7-6AF45BA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18EE-C9DA-427B-9EF9-9FD80CC4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3D63-DF3E-47E6-ACA8-689CC8F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4D72-9169-4D2B-B0D9-0A6D314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529D-EE03-4DF1-95E0-1D8EA0B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C17B-E457-4B23-B3CD-946BE16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DF96-1EE7-4BA2-91C5-E1C82861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AB5D-1BF8-4905-9D88-89A5669A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D742-35D7-41FF-B10F-1B8AEEF8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312B-725E-4AA6-9B47-4C83051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8C29-B579-482B-AB8B-2742E87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85C-4E53-4A72-907B-79E2D9D1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A4D1-6E8A-4DAF-9791-4A336FD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CB00-9D23-4922-9CC4-6314037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814A-09ED-4612-A13B-19A4748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892F-5167-4556-84F7-1F837F5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D889-4187-4794-8759-8438226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54BB-4F40-4E33-AF8A-1B97FDE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91D4-B4B0-4C82-96F9-B64FAE47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C351-2348-4D12-B3CF-24361AE8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0FBB-AC3D-4AF2-A016-FF1A715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2B4A-2897-47C1-BE4C-4F4E1E92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49E-391A-4E96-9CCF-CA7D497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81BD-578E-43B6-97CA-17AC59D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6E91-73AD-421A-9DB5-D2A53B8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3C7E-2092-4E6E-9FCF-E3C4A53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08CC-B16B-478C-9844-88CF43A7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590D-9B4D-4313-8E0A-331560A5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7C33-CDB1-448B-8D35-59C280F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2AC5-7851-4FEB-8AA2-A794874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7BCB-6FD2-4BBC-871C-B485EB28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88907-FBBB-468A-BD60-92DDAAD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EE42-7974-4845-87EF-7F618A41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A39-677F-45BF-8AA3-97EBCF4C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B8BF-B676-4DAF-BD5C-09F1DFB1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163-2EC4-42E5-B2A8-1EDF0B8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B92-8E2D-48F4-8E75-F9EDC65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495-E3E4-442F-9988-867851E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7B5-808D-4AB7-8C07-79E736CF9179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AA32-979E-4020-A714-E0412F0727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EF97-9F02-4B46-A9AB-E9042E1626CB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BB17-D113-44AC-A159-1F2E621483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E75-6A56-41E1-836D-697438B3DB96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37D0-57DD-4A5B-9AD7-1E247A3914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4F4-7A9B-4EE3-BBF4-7FF85C06398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4B4-F265-4363-8081-0B6DBB72B2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DD98-9197-45F7-BED7-0479B88D57F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3BE-2D0F-4C88-94E7-26CD34C5102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9_04/inter_01.swf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Calibri"/>
              </a:rPr>
              <a:t>Стан електронів у атом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786120" y="378612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E546-AC31-42D0-93A1-5E95FEE979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Рамка 3"/>
          <p:cNvSpPr/>
          <p:nvPr/>
        </p:nvSpPr>
        <p:spPr>
          <a:xfrm>
            <a:off x="2357280" y="1214280"/>
            <a:ext cx="4143600" cy="3571920"/>
          </a:xfrm>
          <a:custGeom>
            <a:avLst/>
            <a:gdLst>
              <a:gd name="textAreaLeft" fmla="*/ 446400 w 4143600"/>
              <a:gd name="textAreaRight" fmla="*/ 3697200 w 4143600"/>
              <a:gd name="textAreaTop" fmla="*/ 446400 h 3571920"/>
              <a:gd name="textAreaBottom" fmla="*/ 3125520 h 3571920"/>
            </a:gdLst>
            <a:ahLst/>
            <a:rect l="textAreaLeft" t="textAreaTop" r="textAreaRight" b="textAreaBottom"/>
            <a:pathLst>
              <a:path w="4143375" h="3571875">
                <a:moveTo>
                  <a:pt x="0" y="0"/>
                </a:moveTo>
                <a:lnTo>
                  <a:pt x="4143375" y="0"/>
                </a:lnTo>
                <a:lnTo>
                  <a:pt x="4143375" y="3571875"/>
                </a:lnTo>
                <a:lnTo>
                  <a:pt x="0" y="3571875"/>
                </a:lnTo>
                <a:close/>
                <a:moveTo>
                  <a:pt x="446484" y="446484"/>
                </a:moveTo>
                <a:lnTo>
                  <a:pt x="446484" y="3125391"/>
                </a:lnTo>
                <a:lnTo>
                  <a:pt x="3696891" y="3125391"/>
                </a:lnTo>
                <a:lnTo>
                  <a:pt x="3696891" y="44648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4"/>
          <p:cNvSpPr/>
          <p:nvPr/>
        </p:nvSpPr>
        <p:spPr>
          <a:xfrm>
            <a:off x="4643280" y="2143080"/>
            <a:ext cx="785880" cy="17146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5"/>
          <p:cNvSpPr/>
          <p:nvPr/>
        </p:nvSpPr>
        <p:spPr>
          <a:xfrm rot="10800000">
            <a:off x="3357720" y="2071800"/>
            <a:ext cx="785520" cy="17143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CC0-0C25-4187-AC9F-2825CDFCF6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нергетичний рівень (електронний шар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3871800" y="285840"/>
            <a:ext cx="52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0000"/>
                </a:solidFill>
                <a:latin typeface="Calibri"/>
              </a:rPr>
              <a:t>Підрівень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 …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d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64A9-383A-46FD-B781-4E80D28BD0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озподіл електронів за енергетичними рівням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390680"/>
            <a:ext cx="5290920" cy="11700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4" descr=""/>
          <p:cNvPicPr/>
          <p:nvPr/>
        </p:nvPicPr>
        <p:blipFill>
          <a:blip r:embed="rId3"/>
          <a:stretch/>
        </p:blipFill>
        <p:spPr>
          <a:xfrm>
            <a:off x="6145200" y="1139760"/>
            <a:ext cx="105408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1000080" y="264312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На першому рівні максимум може бути 2 * 1 = 2 електрон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Заповнення електронам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4"/>
          <a:stretch/>
        </p:blipFill>
        <p:spPr>
          <a:xfrm>
            <a:off x="4138560" y="3011400"/>
            <a:ext cx="566640" cy="4809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257184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42916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10800000">
            <a:off x="271476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10"/>
          <p:cNvSpPr/>
          <p:nvPr/>
        </p:nvSpPr>
        <p:spPr>
          <a:xfrm rot="10800000">
            <a:off x="550080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11"/>
          <p:cNvSpPr/>
          <p:nvPr/>
        </p:nvSpPr>
        <p:spPr>
          <a:xfrm>
            <a:off x="5929200" y="478620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29"/>
          <p:cNvGrpSpPr/>
          <p:nvPr/>
        </p:nvGrpSpPr>
        <p:grpSpPr>
          <a:xfrm>
            <a:off x="1428840" y="4500720"/>
            <a:ext cx="1014480" cy="1066680"/>
            <a:chOff x="1428840" y="4500720"/>
            <a:chExt cx="1014480" cy="1066680"/>
          </a:xfrm>
        </p:grpSpPr>
        <p:pic>
          <p:nvPicPr>
            <p:cNvPr id="340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1428840" y="4500720"/>
              <a:ext cx="974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963800" y="4517280"/>
              <a:ext cx="479520" cy="60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Группа 30"/>
          <p:cNvGrpSpPr/>
          <p:nvPr/>
        </p:nvGrpSpPr>
        <p:grpSpPr>
          <a:xfrm>
            <a:off x="4357800" y="4572000"/>
            <a:ext cx="942840" cy="995400"/>
            <a:chOff x="4357800" y="4572000"/>
            <a:chExt cx="942840" cy="995400"/>
          </a:xfrm>
        </p:grpSpPr>
        <p:pic>
          <p:nvPicPr>
            <p:cNvPr id="343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4357800" y="4572000"/>
              <a:ext cx="94284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4829400" y="4650120"/>
              <a:ext cx="463680" cy="56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Прямоугольник 16" descr=""/>
          <p:cNvPicPr/>
          <p:nvPr/>
        </p:nvPicPr>
        <p:blipFill>
          <a:blip r:embed="rId9"/>
          <a:stretch/>
        </p:blipFill>
        <p:spPr>
          <a:xfrm>
            <a:off x="208080" y="5662440"/>
            <a:ext cx="3541680" cy="8906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7" descr=""/>
          <p:cNvPicPr/>
          <p:nvPr/>
        </p:nvPicPr>
        <p:blipFill>
          <a:blip r:embed="rId10"/>
          <a:stretch/>
        </p:blipFill>
        <p:spPr>
          <a:xfrm>
            <a:off x="3297240" y="6072120"/>
            <a:ext cx="2494080" cy="60336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8" descr=""/>
          <p:cNvPicPr/>
          <p:nvPr/>
        </p:nvPicPr>
        <p:blipFill>
          <a:blip r:embed="rId11"/>
          <a:stretch/>
        </p:blipFill>
        <p:spPr>
          <a:xfrm>
            <a:off x="5924520" y="5145120"/>
            <a:ext cx="3225960" cy="1463760"/>
          </a:xfrm>
          <a:prstGeom prst="rect">
            <a:avLst/>
          </a:prstGeom>
          <a:ln w="0">
            <a:noFill/>
          </a:ln>
        </p:spPr>
      </p:pic>
      <p:cxnSp>
        <p:nvCxnSpPr>
          <p:cNvPr id="348" name="Прямая со стрелкой 20"/>
          <p:cNvCxnSpPr/>
          <p:nvPr/>
        </p:nvCxnSpPr>
        <p:spPr>
          <a:xfrm flipV="1">
            <a:off x="3571560" y="5285880"/>
            <a:ext cx="857880" cy="5724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49" name="Прямая со стрелкой 23"/>
          <p:cNvCxnSpPr/>
          <p:nvPr/>
        </p:nvCxnSpPr>
        <p:spPr>
          <a:xfrm flipV="1">
            <a:off x="4928040" y="5358600"/>
            <a:ext cx="2520" cy="8578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/>
          <p:nvPr/>
        </p:nvCxnSpPr>
        <p:spPr>
          <a:xfrm flipH="1" flipV="1">
            <a:off x="5285520" y="5000040"/>
            <a:ext cx="1415160" cy="4942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51" name="Номер слайда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4E1-500F-42ED-8EAC-6B6B73C1BB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ижний колонтитул 2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Други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Може вмістити максимум 2 * 2  = 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Електронна формула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другого енергетичного рівн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2s 2p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2084400"/>
            <a:ext cx="567000" cy="4827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4" descr=""/>
          <p:cNvPicPr/>
          <p:nvPr/>
        </p:nvPicPr>
        <p:blipFill>
          <a:blip r:embed="rId2"/>
          <a:stretch/>
        </p:blipFill>
        <p:spPr>
          <a:xfrm>
            <a:off x="4327560" y="4267080"/>
            <a:ext cx="75708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5" descr=""/>
          <p:cNvPicPr/>
          <p:nvPr/>
        </p:nvPicPr>
        <p:blipFill>
          <a:blip r:embed="rId3"/>
          <a:stretch/>
        </p:blipFill>
        <p:spPr>
          <a:xfrm>
            <a:off x="5473800" y="426708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358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149-F7CA-4573-B131-55EF126BEB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Треті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Вміщує не більше                     2 * 3  = 1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mbria"/>
              </a:rPr>
              <a:t>Самостійно скласти електронну формулу третього енергетичного рівня!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1944720"/>
            <a:ext cx="566640" cy="4809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"/>
          <p:cNvGrpSpPr/>
          <p:nvPr/>
        </p:nvGrpSpPr>
        <p:grpSpPr>
          <a:xfrm>
            <a:off x="2143080" y="5000760"/>
            <a:ext cx="5214960" cy="1446120"/>
            <a:chOff x="2143080" y="5000760"/>
            <a:chExt cx="5214960" cy="1446120"/>
          </a:xfrm>
        </p:grpSpPr>
        <p:pic>
          <p:nvPicPr>
            <p:cNvPr id="3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43080" y="5000760"/>
              <a:ext cx="514332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285360" y="5135760"/>
              <a:ext cx="7725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24440" y="5205960"/>
              <a:ext cx="722880" cy="5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458760" y="5145840"/>
              <a:ext cx="8992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926A-8E93-48FA-835A-41D86185E4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371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7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8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9" descr=""/>
          <p:cNvPicPr/>
          <p:nvPr/>
        </p:nvPicPr>
        <p:blipFill>
          <a:blip r:embed="rId6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0" descr=""/>
          <p:cNvPicPr/>
          <p:nvPr/>
        </p:nvPicPr>
        <p:blipFill>
          <a:blip r:embed="rId7"/>
          <a:stretch/>
        </p:blipFill>
        <p:spPr>
          <a:xfrm>
            <a:off x="5851440" y="3181320"/>
            <a:ext cx="2719440" cy="7444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1" descr=""/>
          <p:cNvPicPr/>
          <p:nvPr/>
        </p:nvPicPr>
        <p:blipFill>
          <a:blip r:embed="rId8"/>
          <a:stretch/>
        </p:blipFill>
        <p:spPr>
          <a:xfrm>
            <a:off x="5657760" y="4108320"/>
            <a:ext cx="35528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417-72B2-40F1-99ED-E34F74712C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alibri"/>
              </a:rPr>
              <a:t>Бліц-турнір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визначити кількість електронів у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Де розподіляються електрони в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і форми мають електронні орбітал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розподіляються електрони в атомі на різних енергетичних рівнях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91F-2BBB-4B04-8B90-A3E39B40A5E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1285920" y="621504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Дякую за урок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14360" y="4786200"/>
            <a:ext cx="48574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mbria"/>
              </a:rPr>
              <a:t>До побачення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87" name="Рисунок 3" descr="417125663.gif"/>
          <p:cNvPicPr/>
          <p:nvPr/>
        </p:nvPicPr>
        <p:blipFill>
          <a:blip r:embed="rId1"/>
          <a:stretch/>
        </p:blipFill>
        <p:spPr>
          <a:xfrm>
            <a:off x="3492360" y="1566720"/>
            <a:ext cx="2036880" cy="20354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CDA-A631-4167-B22E-C68FFF96F8A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ижний колонтитул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96464"/>
                </a:solidFill>
                <a:latin typeface="Calibri"/>
              </a:rPr>
              <a:t>Цілі уроку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Ознайомити з рухом електронів у атомах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Увести поняття електронна орбіталь, енергетичний рівень, квантові числа, напрямок орбіталі в просторі, спін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казати двоїсту природу електрон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яснити відмінність між хімічною та ядерною реакція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EE4-0278-40B2-884B-3B0CE7576F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6"/>
          <a:stretch/>
        </p:blipFill>
        <p:spPr>
          <a:xfrm>
            <a:off x="6845400" y="3395520"/>
            <a:ext cx="46332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7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8"/>
          <a:stretch/>
        </p:blipFill>
        <p:spPr>
          <a:xfrm>
            <a:off x="6918480" y="4541760"/>
            <a:ext cx="463320" cy="4381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0BD7-8E7B-4EB7-BBCB-648537C775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220px-Atome_de_Rutherford.png"/>
          <p:cNvPicPr/>
          <p:nvPr/>
        </p:nvPicPr>
        <p:blipFill>
          <a:blip r:embed="rId1"/>
          <a:stretch/>
        </p:blipFill>
        <p:spPr>
          <a:xfrm>
            <a:off x="2066760" y="1066680"/>
            <a:ext cx="4437360" cy="429732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6"/>
          <p:cNvSpPr/>
          <p:nvPr/>
        </p:nvSpPr>
        <p:spPr>
          <a:xfrm>
            <a:off x="292896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35780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2643120" y="3500280"/>
            <a:ext cx="357120" cy="357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3214800" y="321480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0"/>
          <p:cNvSpPr/>
          <p:nvPr/>
        </p:nvSpPr>
        <p:spPr>
          <a:xfrm>
            <a:off x="5929200" y="378612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4643280" y="435780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Прямоугольник 12" descr=""/>
          <p:cNvPicPr/>
          <p:nvPr/>
        </p:nvPicPr>
        <p:blipFill>
          <a:blip r:embed="rId2"/>
          <a:stretch/>
        </p:blipFill>
        <p:spPr>
          <a:xfrm>
            <a:off x="4406760" y="-334800"/>
            <a:ext cx="6035760" cy="556560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6CBE-577E-4C58-A739-B1DEC9548C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7.40741E-007 C -0.00938 0.02523 -0.0224 0.07337 -0.0257 0.10509 C -0.029 0.1368 -0.02171 0.16782 -0.01962 0.19004 C -0.01754 0.21226 -0.02188 0.20925 -0.01355 0.23842 C -0.00521 0.26759 0.0144 0.33379 0.03038 0.36574 C 0.04635 0.39768 0.05954 0.41157 0.08176 0.43032 C 0.10399 0.44907 0.13715 0.47824 0.16371 0.47893 C 0.19027 0.47962 0.22152 0.45648 0.24097 0.43449 C 0.26041 0.4125 0.27274 0.38009 0.28038 0.34745 C 0.28801 0.31481 0.28801 0.27337 0.28645 0.23842 C 0.28489 0.20347 0.27968 0.17013 0.27117 0.1375 C 0.26267 0.10486 0.24878 0.06967 0.23489 0.04236 C 0.221 0.01504 0.20295 -0.00996 0.18784 -0.02616 C 0.17274 -0.04237 0.16232 -0.0463 0.14392 -0.0544 C 0.12551 -0.0625 0.09617 -0.07616 0.07725 -0.07477 C 0.05833 -0.07338 0.04322 -0.05903 0.03038 -0.04653 C 0.01753 -0.03403 0.00937 -0.02524 -6.66667E-006 7.40741E-007 Z">
                                      <p:cBhvr>
                                        <p:cTn id="89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0.02327 0.0037 -0.03386 0.01666 -0.05295 0.02824 C -0.07205 0.03981 -0.09549 0.05254 -0.11511 0.06875 C -0.13472 0.08495 -0.15347 0.10138 -0.17118 0.12523 C -0.18889 0.14907 -0.21129 0.18634 -0.22118 0.21226 C -0.23108 0.23819 -0.23247 0.25833 -0.23021 0.28078 C -0.22795 0.30324 -0.2224 0.33032 -0.20747 0.34745 C -0.19254 0.36458 -0.16702 0.3787 -0.1408 0.38379 C -0.11459 0.38888 -0.08056 0.38611 -0.05 0.37777 C -0.01945 0.36944 0.01458 0.35416 0.04253 0.33333 C 0.07048 0.3125 0.09826 0.27986 0.11823 0.25254 C 0.13819 0.22523 0.15364 0.19537 0.16215 0.16967 C 0.17066 0.14398 0.17274 0.12129 0.16979 0.09907 C 0.16684 0.07685 0.15781 0.05185 0.14392 0.03634 C 0.13003 0.02083 0.11024 0.01134 0.08646 0.00601 C 0.06267 0.00069 0.02326 -0.00371 -5.55556E-007 7.40741E-007 Z">
                                      <p:cBhvr>
                                        <p:cTn id="91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0.01458 -0.03982 0.01441 -0.0787 0.01371 -0.11528 C 0.01302 -0.15185 0.00625 -0.18727 -0.00452 -0.22014 C -0.01528 -0.25301 -0.0349 -0.28866 -0.05139 -0.31319 C -0.06788 -0.33773 -0.08021 -0.3537 -0.10295 -0.36759 C -0.1257 -0.38148 -0.1599 -0.39329 -0.18785 -0.39607 C -0.2158 -0.39884 -0.24358 -0.3963 -0.27118 -0.3838 C -0.29879 -0.3713 -0.32969 -0.35394 -0.35295 -0.3213 C -0.37622 -0.28866 -0.40278 -0.24213 -0.41059 -0.18796 C -0.4184 -0.1338 -0.41337 -0.04583 -0.4 0.00393 C -0.38663 0.0537 -0.35955 0.08241 -0.33021 0.11111 C -0.30087 0.13981 -0.26684 0.17361 -0.22413 0.17569 C -0.18143 0.17778 -0.11146 0.15324 -0.07413 0.12315 C -0.03681 0.09306 -0.01459 0.03981 3.88889E-006 -3.7037E-007 Z">
                                      <p:cBhvr>
                                        <p:cTn id="93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C 0.00729 -0.03935 0.0125 -0.10602 0.01371 -0.15764 C 0.01493 -0.20926 0.01441 -0.25949 0.00764 -0.30926 C 0.00087 -0.35903 -0.01268 -0.43241 -0.02726 -0.45671 C -0.04184 -0.48102 -0.06511 -0.48449 -0.08021 -0.45463 C -0.09532 -0.42477 -0.1132 -0.34375 -0.11823 -0.27685 C -0.12327 -0.20995 -0.11823 -0.11204 -0.11059 -0.05254 C -0.10295 0.00695 -0.08611 0.05903 -0.07275 0.08079 C -0.05938 0.10255 -0.04167 0.09097 -0.03021 0.07871 C -0.01875 0.06644 -0.00729 0.03935 3.05556E-006 1.11111E-006 Z">
                                      <p:cBhvr>
                                        <p:cTn id="95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14815E-006 C -0.01215 0.02384 -0.0349 0.07893 -0.04393 0.10717 C -0.05295 0.13541 -0.05903 0.15671 -0.05452 0.1699 C -0.05 0.1831 -0.03959 0.19675 -0.01667 0.18587 C 0.00625 0.17499 0.04323 0.15092 0.08333 0.10509 C 0.12344 0.05925 0.19444 -0.03751 0.2243 -0.08889 C 0.25416 -0.14028 0.26389 -0.1801 0.26215 -0.20394 C 0.26041 -0.22778 0.23455 -0.2382 0.21371 -0.23218 C 0.19288 -0.22616 0.16719 -0.20024 0.13646 -0.1676 C 0.10573 -0.13496 0.05087 -0.06389 0.02882 -0.03635 C 0.00677 -0.0088 0.01215 -0.02385 -1.11111E-006 -8.14815E-006 Z">
                                      <p:cBhvr>
                                        <p:cTn id="9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2222 0.0095 0.04896 0.02709 0.09236 0.03033 C 0.13576 0.03357 0.21545 0.03079 0.26059 0.02014 C 0.30573 0.0095 0.3474 -0.01296 0.36372 -0.03425 C 0.38004 -0.05555 0.37674 -0.08657 0.35903 -0.10717 C 0.34132 -0.12777 0.29653 -0.14652 0.25764 -0.15763 C 0.21875 -0.16874 0.16441 -0.17453 0.12569 -0.17384 C 0.08698 -0.17314 0.05451 -0.1662 0.02569 -0.15347 C -0.00312 -0.14074 -0.03576 -0.11828 -0.04687 -0.09699 C -0.05799 -0.07569 -0.04826 -0.04212 -0.04097 -0.02638 C -0.03368 -0.01064 -0.02222 -0.00949 -3.33333E-006 7.40741E-006 Z">
                                      <p:cBhvr>
                                        <p:cTn id="99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714560" y="213840"/>
            <a:ext cx="4143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Електронна хмарина або електронна орбіталь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частина простору навколо ядра, де перебування електронна наймовірніш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9" name="Овал 5"/>
          <p:cNvGrpSpPr/>
          <p:nvPr/>
        </p:nvGrpSpPr>
        <p:grpSpPr>
          <a:xfrm>
            <a:off x="396720" y="1255680"/>
            <a:ext cx="3705480" cy="3487680"/>
            <a:chOff x="396720" y="1255680"/>
            <a:chExt cx="3705480" cy="3487680"/>
          </a:xfrm>
        </p:grpSpPr>
        <p:pic>
          <p:nvPicPr>
            <p:cNvPr id="260" name="Овал 5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0548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940040"/>
              <a:ext cx="227160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Кольцо 11"/>
          <p:cNvSpPr/>
          <p:nvPr/>
        </p:nvSpPr>
        <p:spPr>
          <a:xfrm>
            <a:off x="1143000" y="2000160"/>
            <a:ext cx="2143080" cy="2071800"/>
          </a:xfrm>
          <a:custGeom>
            <a:avLst/>
            <a:gdLst>
              <a:gd name="textAreaLeft" fmla="*/ 313560 w 2143080"/>
              <a:gd name="textAreaRight" fmla="*/ 1829520 w 2143080"/>
              <a:gd name="textAreaTop" fmla="*/ 303120 h 2071800"/>
              <a:gd name="textAreaBottom" fmla="*/ 1768680 h 2071800"/>
            </a:gdLst>
            <a:ahLst/>
            <a:rect l="textAreaLeft" t="textAreaTop" r="textAreaRight" b="textAreaBottom"/>
            <a:pathLst>
              <a:path w="2143125" h="2071688">
                <a:moveTo>
                  <a:pt x="0" y="1035844"/>
                </a:moveTo>
                <a:lnTo>
                  <a:pt x="0" y="1035844"/>
                </a:lnTo>
                <a:arcTo wR="1071563" hR="1035844" stAng="-10799997" swAng="5400003"/>
                <a:lnTo>
                  <a:pt x="1071565" y="1"/>
                </a:lnTo>
                <a:arcTo wR="1071563" hR="1035844" stAng="-5399997" swAng="5400003"/>
                <a:lnTo>
                  <a:pt x="2143127" y="1035847"/>
                </a:lnTo>
                <a:arcTo wR="1071563" hR="1035844" stAng="0" swAng="5400003"/>
                <a:lnTo>
                  <a:pt x="1071563" y="2071691"/>
                </a:lnTo>
                <a:arcTo wR="1071563" hR="1035844" stAng="5400003" swAng="5400000"/>
                <a:close/>
                <a:moveTo>
                  <a:pt x="126332" y="1035844"/>
                </a:moveTo>
                <a:lnTo>
                  <a:pt x="126332" y="1035844"/>
                </a:lnTo>
                <a:arcTo wR="945231" hR="909512" stAng="-10799996" swAng="-5400000"/>
                <a:lnTo>
                  <a:pt x="1071562" y="1945357"/>
                </a:lnTo>
                <a:arcTo wR="945231" hR="909512" stAng="5400004" swAng="-5400000"/>
                <a:lnTo>
                  <a:pt x="2016794" y="1035846"/>
                </a:lnTo>
                <a:arcTo wR="945231" hR="909512" stAng="0" swAng="-5400000"/>
                <a:lnTo>
                  <a:pt x="1071563" y="126334"/>
                </a:lnTo>
                <a:arcTo wR="945231" hR="909512" stAng="-5399996" swAng="-5400000"/>
                <a:close/>
              </a:path>
            </a:pathLst>
          </a:custGeom>
          <a:solidFill>
            <a:srgbClr val="9e3611"/>
          </a:solidFill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9"/>
          <p:cNvCxnSpPr/>
          <p:nvPr/>
        </p:nvCxnSpPr>
        <p:spPr>
          <a:xfrm flipH="1">
            <a:off x="2928240" y="785880"/>
            <a:ext cx="207252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4" name="Содержимое 4"/>
          <p:cNvSpPr/>
          <p:nvPr/>
        </p:nvSpPr>
        <p:spPr>
          <a:xfrm>
            <a:off x="357120" y="5000760"/>
            <a:ext cx="82868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mbria"/>
              </a:rPr>
              <a:t>Орбіталь  позначають         (електронна    комірка), а електрон у ній – стрілкою (спін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5286240" y="5000760"/>
            <a:ext cx="571680" cy="57132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8072280" y="5572080"/>
            <a:ext cx="571680" cy="57168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5"/>
          <p:cNvCxnSpPr/>
          <p:nvPr/>
        </p:nvCxnSpPr>
        <p:spPr>
          <a:xfrm flipV="1">
            <a:off x="8357040" y="5571720"/>
            <a:ext cx="2520" cy="572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8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34F-E012-4A41-92DF-FB5160EE4B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Електронні орбітал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71" name="Овал 3"/>
          <p:cNvGrpSpPr/>
          <p:nvPr/>
        </p:nvGrpSpPr>
        <p:grpSpPr>
          <a:xfrm>
            <a:off x="396720" y="1255680"/>
            <a:ext cx="3778560" cy="3487680"/>
            <a:chOff x="396720" y="1255680"/>
            <a:chExt cx="3778560" cy="3487680"/>
          </a:xfrm>
        </p:grpSpPr>
        <p:pic>
          <p:nvPicPr>
            <p:cNvPr id="272" name="Овал 3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78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23920" y="1940040"/>
              <a:ext cx="232416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2036880"/>
            <a:ext cx="5900760" cy="1535040"/>
          </a:xfrm>
          <a:prstGeom prst="rect">
            <a:avLst/>
          </a:prstGeom>
          <a:ln w="0">
            <a:noFill/>
          </a:ln>
        </p:spPr>
      </p:pic>
      <p:sp>
        <p:nvSpPr>
          <p:cNvPr id="275" name="Рамка 5"/>
          <p:cNvSpPr/>
          <p:nvPr/>
        </p:nvSpPr>
        <p:spPr>
          <a:xfrm>
            <a:off x="3643200" y="442908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6" descr=""/>
          <p:cNvPicPr/>
          <p:nvPr/>
        </p:nvPicPr>
        <p:blipFill>
          <a:blip r:embed="rId3"/>
          <a:stretch/>
        </p:blipFill>
        <p:spPr>
          <a:xfrm>
            <a:off x="950760" y="5718240"/>
            <a:ext cx="7351920" cy="114624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386-33FE-4C79-8D3D-B095F00929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Капля 3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"/>
          <p:cNvSpPr/>
          <p:nvPr/>
        </p:nvSpPr>
        <p:spPr>
          <a:xfrm rot="10800000">
            <a:off x="1856880" y="1071720"/>
            <a:ext cx="1000440" cy="1071360"/>
          </a:xfrm>
          <a:custGeom>
            <a:avLst/>
            <a:gdLst>
              <a:gd name="textAreaLeft" fmla="*/ 146520 w 1000440"/>
              <a:gd name="textAreaRight" fmla="*/ 853920 w 100044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6" descr=""/>
          <p:cNvPicPr/>
          <p:nvPr/>
        </p:nvPicPr>
        <p:blipFill>
          <a:blip r:embed="rId1"/>
          <a:stretch/>
        </p:blipFill>
        <p:spPr>
          <a:xfrm>
            <a:off x="2809800" y="1328760"/>
            <a:ext cx="6029280" cy="1457280"/>
          </a:xfrm>
          <a:prstGeom prst="rect">
            <a:avLst/>
          </a:prstGeom>
          <a:ln w="0">
            <a:noFill/>
          </a:ln>
        </p:spPr>
      </p:pic>
      <p:sp>
        <p:nvSpPr>
          <p:cNvPr id="282" name="Рамка 7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8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266240" cy="1145880"/>
          </a:xfrm>
          <a:prstGeom prst="rect">
            <a:avLst/>
          </a:prstGeom>
          <a:ln w="0">
            <a:noFill/>
          </a:ln>
        </p:spPr>
      </p:pic>
      <p:sp>
        <p:nvSpPr>
          <p:cNvPr id="284" name="Рамка 9"/>
          <p:cNvSpPr/>
          <p:nvPr/>
        </p:nvSpPr>
        <p:spPr>
          <a:xfrm>
            <a:off x="38577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мка 10"/>
          <p:cNvSpPr/>
          <p:nvPr/>
        </p:nvSpPr>
        <p:spPr>
          <a:xfrm>
            <a:off x="550080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5BE1-79AE-4DFB-9D35-7EF5BC2DC74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апля 5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Капля 6"/>
          <p:cNvSpPr/>
          <p:nvPr/>
        </p:nvSpPr>
        <p:spPr>
          <a:xfrm rot="10800000">
            <a:off x="1856880" y="999720"/>
            <a:ext cx="1071720" cy="1143000"/>
          </a:xfrm>
          <a:custGeom>
            <a:avLst/>
            <a:gdLst>
              <a:gd name="textAreaLeft" fmla="*/ 156960 w 1071720"/>
              <a:gd name="textAreaRight" fmla="*/ 914760 w 107172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071563" h="1143000">
                <a:moveTo>
                  <a:pt x="0" y="571500"/>
                </a:moveTo>
                <a:lnTo>
                  <a:pt x="0" y="571500"/>
                </a:lnTo>
                <a:arcTo wR="535782" hR="571500" stAng="-10799994" swAng="5400000"/>
                <a:lnTo>
                  <a:pt x="818516" y="0"/>
                </a:lnTo>
                <a:lnTo>
                  <a:pt x="1101250" y="-31667"/>
                </a:lnTo>
                <a:lnTo>
                  <a:pt x="1071563" y="420708"/>
                </a:lnTo>
                <a:arcTo wR="0" hR="150792" stAng="0" swAng="0"/>
                <a:lnTo>
                  <a:pt x="993100" y="1059306"/>
                </a:lnTo>
                <a:arcTo wR="-267891" hR="285750" stAng="281085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Капля 7"/>
          <p:cNvSpPr/>
          <p:nvPr/>
        </p:nvSpPr>
        <p:spPr>
          <a:xfrm rot="5203800">
            <a:off x="776520" y="113724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4"/>
                </a:lnTo>
                <a:arcTo wR="0" hR="13765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Капля 8"/>
          <p:cNvSpPr/>
          <p:nvPr/>
        </p:nvSpPr>
        <p:spPr>
          <a:xfrm rot="16003200">
            <a:off x="1919880" y="213732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9" descr=""/>
          <p:cNvPicPr/>
          <p:nvPr/>
        </p:nvPicPr>
        <p:blipFill>
          <a:blip r:embed="rId1"/>
          <a:stretch/>
        </p:blipFill>
        <p:spPr>
          <a:xfrm>
            <a:off x="2852640" y="1036800"/>
            <a:ext cx="5943600" cy="1535040"/>
          </a:xfrm>
          <a:prstGeom prst="rect">
            <a:avLst/>
          </a:prstGeom>
          <a:ln w="0">
            <a:noFill/>
          </a:ln>
        </p:spPr>
      </p:pic>
      <p:sp>
        <p:nvSpPr>
          <p:cNvPr id="293" name="Рамка 10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Прямоугольник 11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sp>
        <p:nvSpPr>
          <p:cNvPr id="295" name="Рамка 12"/>
          <p:cNvSpPr/>
          <p:nvPr/>
        </p:nvSpPr>
        <p:spPr>
          <a:xfrm>
            <a:off x="371484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мка 13"/>
          <p:cNvSpPr/>
          <p:nvPr/>
        </p:nvSpPr>
        <p:spPr>
          <a:xfrm>
            <a:off x="52149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Рамка 14"/>
          <p:cNvSpPr/>
          <p:nvPr/>
        </p:nvSpPr>
        <p:spPr>
          <a:xfrm>
            <a:off x="7858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Рамка 15"/>
          <p:cNvSpPr/>
          <p:nvPr/>
        </p:nvSpPr>
        <p:spPr>
          <a:xfrm>
            <a:off x="67150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1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C13-0E1D-44B5-8CFD-0F18B0D851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Капля 4"/>
          <p:cNvSpPr/>
          <p:nvPr/>
        </p:nvSpPr>
        <p:spPr>
          <a:xfrm rot="9602400">
            <a:off x="1644480" y="1044720"/>
            <a:ext cx="857520" cy="1000080"/>
          </a:xfrm>
          <a:custGeom>
            <a:avLst/>
            <a:gdLst>
              <a:gd name="textAreaLeft" fmla="*/ 125280 w 857520"/>
              <a:gd name="textAreaRight" fmla="*/ 732240 w 857520"/>
              <a:gd name="textAreaTop" fmla="*/ 146160 h 1000080"/>
              <a:gd name="textAreaBottom" fmla="*/ 85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0" y="500063"/>
                </a:moveTo>
                <a:lnTo>
                  <a:pt x="0" y="500063"/>
                </a:lnTo>
                <a:arcTo wR="428625" hR="500063" stAng="10800000" swAng="5400007"/>
                <a:lnTo>
                  <a:pt x="654812" y="0"/>
                </a:lnTo>
                <a:lnTo>
                  <a:pt x="881000" y="-27708"/>
                </a:lnTo>
                <a:lnTo>
                  <a:pt x="857250" y="368120"/>
                </a:lnTo>
                <a:arcTo wR="0" hR="131943" stAng="0" swAng="0"/>
                <a:lnTo>
                  <a:pt x="794479" y="926893"/>
                </a:lnTo>
                <a:arcTo wR="-214313" hR="250032" stAng="296392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Капля 17"/>
          <p:cNvSpPr/>
          <p:nvPr/>
        </p:nvSpPr>
        <p:spPr>
          <a:xfrm rot="13746000">
            <a:off x="2125800" y="1716120"/>
            <a:ext cx="877680" cy="960480"/>
          </a:xfrm>
          <a:custGeom>
            <a:avLst/>
            <a:gdLst>
              <a:gd name="textAreaLeft" fmla="*/ 128520 w 877680"/>
              <a:gd name="textAreaRight" fmla="*/ 749160 w 877680"/>
              <a:gd name="textAreaTop" fmla="*/ 140400 h 960480"/>
              <a:gd name="textAreaBottom" fmla="*/ 820080 h 960480"/>
            </a:gdLst>
            <a:ahLst/>
            <a:rect l="textAreaLeft" t="textAreaTop" r="textAreaRight" b="textAreaBottom"/>
            <a:pathLst>
              <a:path w="877887" h="960437">
                <a:moveTo>
                  <a:pt x="0" y="480219"/>
                </a:moveTo>
                <a:lnTo>
                  <a:pt x="0" y="480219"/>
                </a:lnTo>
                <a:arcTo wR="438944" hR="480219" stAng="-10799992" swAng="5399999"/>
                <a:lnTo>
                  <a:pt x="670576" y="0"/>
                </a:lnTo>
                <a:lnTo>
                  <a:pt x="902209" y="-26609"/>
                </a:lnTo>
                <a:lnTo>
                  <a:pt x="877887" y="353512"/>
                </a:lnTo>
                <a:arcTo wR="0" hR="126707" stAng="0" swAng="0"/>
                <a:lnTo>
                  <a:pt x="813605" y="890112"/>
                </a:lnTo>
                <a:arcTo wR="-219472" hR="240110" stAng="2854268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Капля 3"/>
          <p:cNvSpPr/>
          <p:nvPr/>
        </p:nvSpPr>
        <p:spPr>
          <a:xfrm rot="20365800">
            <a:off x="1044720" y="2374920"/>
            <a:ext cx="1071360" cy="85716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71563" h="857250">
                <a:moveTo>
                  <a:pt x="0" y="428625"/>
                </a:moveTo>
                <a:lnTo>
                  <a:pt x="0" y="428625"/>
                </a:lnTo>
                <a:arcTo wR="535782" hR="428625" stAng="-10799994" swAng="5400002"/>
                <a:lnTo>
                  <a:pt x="811095" y="0"/>
                </a:lnTo>
                <a:lnTo>
                  <a:pt x="1086409" y="-11877"/>
                </a:lnTo>
                <a:lnTo>
                  <a:pt x="1071563" y="318500"/>
                </a:lnTo>
                <a:arcTo wR="0" hR="110126" stAng="0" swAng="0"/>
                <a:lnTo>
                  <a:pt x="993100" y="794479"/>
                </a:lnTo>
                <a:arcTo wR="-267891" hR="214313" stAng="2319586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апля 6"/>
          <p:cNvSpPr/>
          <p:nvPr/>
        </p:nvSpPr>
        <p:spPr>
          <a:xfrm rot="16003200">
            <a:off x="1897560" y="2160720"/>
            <a:ext cx="847800" cy="880920"/>
          </a:xfrm>
          <a:custGeom>
            <a:avLst/>
            <a:gdLst>
              <a:gd name="textAreaLeft" fmla="*/ 124200 w 847800"/>
              <a:gd name="textAreaRight" fmla="*/ 723600 w 847800"/>
              <a:gd name="textAreaTop" fmla="*/ 128880 h 880920"/>
              <a:gd name="textAreaBottom" fmla="*/ 752040 h 880920"/>
            </a:gdLst>
            <a:ahLst/>
            <a:rect l="textAreaLeft" t="textAreaTop" r="textAreaRight" b="textAreaBottom"/>
            <a:pathLst>
              <a:path w="847725" h="881062">
                <a:moveTo>
                  <a:pt x="0" y="440531"/>
                </a:moveTo>
                <a:lnTo>
                  <a:pt x="0" y="440531"/>
                </a:lnTo>
                <a:arcTo wR="423863" hR="440531" stAng="10800000" swAng="5400008"/>
                <a:lnTo>
                  <a:pt x="647536" y="0"/>
                </a:lnTo>
                <a:lnTo>
                  <a:pt x="871211" y="-24410"/>
                </a:lnTo>
                <a:lnTo>
                  <a:pt x="847725" y="324296"/>
                </a:lnTo>
                <a:arcTo wR="0" hR="116236" stAng="0" swAng="0"/>
                <a:lnTo>
                  <a:pt x="785652" y="816548"/>
                </a:lnTo>
                <a:arcTo wR="-211932" hR="220266" stAng="2766281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7" descr=""/>
          <p:cNvPicPr/>
          <p:nvPr/>
        </p:nvPicPr>
        <p:blipFill>
          <a:blip r:embed="rId1"/>
          <a:stretch/>
        </p:blipFill>
        <p:spPr>
          <a:xfrm>
            <a:off x="2809800" y="1036800"/>
            <a:ext cx="576108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6"/>
          <p:cNvGrpSpPr/>
          <p:nvPr/>
        </p:nvGrpSpPr>
        <p:grpSpPr>
          <a:xfrm>
            <a:off x="285840" y="3571920"/>
            <a:ext cx="8643960" cy="1428840"/>
            <a:chOff x="285840" y="3571920"/>
            <a:chExt cx="8643960" cy="1428840"/>
          </a:xfrm>
        </p:grpSpPr>
        <p:sp>
          <p:nvSpPr>
            <p:cNvPr id="308" name="Рамка 8"/>
            <p:cNvSpPr/>
            <p:nvPr/>
          </p:nvSpPr>
          <p:spPr>
            <a:xfrm>
              <a:off x="285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Рамка 10"/>
            <p:cNvSpPr/>
            <p:nvPr/>
          </p:nvSpPr>
          <p:spPr>
            <a:xfrm>
              <a:off x="148572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Рамка 11"/>
            <p:cNvSpPr/>
            <p:nvPr/>
          </p:nvSpPr>
          <p:spPr>
            <a:xfrm>
              <a:off x="268776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Рамка 12"/>
            <p:cNvSpPr/>
            <p:nvPr/>
          </p:nvSpPr>
          <p:spPr>
            <a:xfrm>
              <a:off x="388800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Рамка 13"/>
            <p:cNvSpPr/>
            <p:nvPr/>
          </p:nvSpPr>
          <p:spPr>
            <a:xfrm>
              <a:off x="508788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Рамка 14"/>
            <p:cNvSpPr/>
            <p:nvPr/>
          </p:nvSpPr>
          <p:spPr>
            <a:xfrm>
              <a:off x="634860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Рамка 15"/>
            <p:cNvSpPr/>
            <p:nvPr/>
          </p:nvSpPr>
          <p:spPr>
            <a:xfrm>
              <a:off x="7548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Капля 18"/>
          <p:cNvSpPr/>
          <p:nvPr/>
        </p:nvSpPr>
        <p:spPr>
          <a:xfrm rot="1855800">
            <a:off x="701640" y="1843200"/>
            <a:ext cx="933480" cy="104292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2640 h 1042920"/>
              <a:gd name="textAreaBottom" fmla="*/ 890280 h 1042920"/>
            </a:gdLst>
            <a:ahLst/>
            <a:rect l="textAreaLeft" t="textAreaTop" r="textAreaRight" b="textAreaBottom"/>
            <a:pathLst>
              <a:path w="933450" h="1042987">
                <a:moveTo>
                  <a:pt x="0" y="521494"/>
                </a:moveTo>
                <a:lnTo>
                  <a:pt x="0" y="521494"/>
                </a:lnTo>
                <a:arcTo wR="466725" hR="521494" stAng="-10799993" swAng="5399999"/>
                <a:lnTo>
                  <a:pt x="713018" y="0"/>
                </a:lnTo>
                <a:lnTo>
                  <a:pt x="959311" y="-28896"/>
                </a:lnTo>
                <a:lnTo>
                  <a:pt x="933450" y="383897"/>
                </a:lnTo>
                <a:arcTo wR="0" hR="137598" stAng="0" swAng="0"/>
                <a:lnTo>
                  <a:pt x="865100" y="966617"/>
                </a:lnTo>
                <a:arcTo wR="-233363" hR="260747" stAng="2890332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Капля 5"/>
          <p:cNvSpPr/>
          <p:nvPr/>
        </p:nvSpPr>
        <p:spPr>
          <a:xfrm rot="5203800">
            <a:off x="965520" y="1313640"/>
            <a:ext cx="766800" cy="942840"/>
          </a:xfrm>
          <a:custGeom>
            <a:avLst/>
            <a:gdLst>
              <a:gd name="textAreaLeft" fmla="*/ 112320 w 766800"/>
              <a:gd name="textAreaRight" fmla="*/ 654480 w 766800"/>
              <a:gd name="textAreaTop" fmla="*/ 137880 h 942840"/>
              <a:gd name="textAreaBottom" fmla="*/ 804960 h 942840"/>
            </a:gdLst>
            <a:ahLst/>
            <a:rect l="textAreaLeft" t="textAreaTop" r="textAreaRight" b="textAreaBottom"/>
            <a:pathLst>
              <a:path w="766762" h="942975">
                <a:moveTo>
                  <a:pt x="0" y="471488"/>
                </a:moveTo>
                <a:lnTo>
                  <a:pt x="0" y="471488"/>
                </a:lnTo>
                <a:arcTo wR="383381" hR="471488" stAng="10800000" swAng="5400007"/>
                <a:lnTo>
                  <a:pt x="580383" y="0"/>
                </a:lnTo>
                <a:lnTo>
                  <a:pt x="777385" y="-13065"/>
                </a:lnTo>
                <a:lnTo>
                  <a:pt x="766762" y="350350"/>
                </a:lnTo>
                <a:arcTo wR="0" hR="121139" stAng="0" swAng="0"/>
                <a:lnTo>
                  <a:pt x="710617" y="873928"/>
                </a:lnTo>
                <a:arcTo wR="-191691" hR="235744" stAng="305306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1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0E31-A13F-4785-8040-F36E7E9B634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33:33Z</dcterms:modified>
  <cp:revision>32</cp:revision>
  <dc:subject/>
  <dc:title>Стан електронів у атомі</dc:title>
</cp:coreProperties>
</file>