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87A0-C680-4BB2-91F0-E82B821B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E243-81EB-4AA3-B492-3C1AD088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DA08B-9A91-495B-9E29-E8C5CF48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01ABF-F671-4CF8-AA1F-17277997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74024-7A3F-4A68-B6A2-CEA84E14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FDC93-5F3F-4459-B9F8-AEFC5F62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19086-3BC9-4731-9724-9E155090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01005-1590-482C-86ED-214F2389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FABBC-451C-4AD9-B0E9-514EB59C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F8388-E55B-4C5B-B29F-5C9F9FEF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E03CE-0938-4F9F-AA39-B20A84D1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7CA15-DA06-40D2-A607-6D575650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711D-1FBF-47A3-96F6-0C093A4B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2A39E-1BF3-4724-8452-5DD3E379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65D28-1FEB-4F36-95E9-F6C02C84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43EAB-21CF-435A-9347-3A584798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83948-9E15-4BA1-9BED-3BFB9973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01724-D684-47F7-B8C7-88C17A2D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2CC88-6C97-4500-8429-B564A8A4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ECA68-B184-4622-A2F3-99ED1F51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1D5BA-FA1F-45AE-98A6-E178CE0F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70E79-F2AB-40F0-9392-B32FE398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A5699-E0F0-4CA0-A4FC-769060F64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C1B8-0E34-4B84-8ABF-F89D0E18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25026-E4A1-4C82-B017-CF078C46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146E2-7D25-44E3-854A-15DF3493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7F501-03FD-4AAB-84AC-C7398284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B6343-8CB5-4E50-84C0-D45EA729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77DC4-C09E-4121-B7E7-E3B7F270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00BB7-DFDF-4731-9213-D7038920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9A342-7417-4474-8435-645EDC2C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4671B-6999-4B86-8BD5-5D5C0118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D936A-32CE-432F-BD55-52E5357C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3DBA6-FB0A-464A-938D-43DC0856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ECB0-46CA-4762-8C3A-4BD21154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ADB4B-89BA-4062-B600-9765C6B4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D3CFB-6C3C-4FE3-9CEF-770E7EEE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C4303-DDD6-48F8-BD75-542923FA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2A55-3E95-4621-A4D8-92CD3A5C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48E2-E5C7-49D9-A7D2-F0C61018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A034-3E6C-41B3-9977-614A7420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DEED-C435-45F9-8982-A2A22B09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D7A8-24B7-4195-B39E-60AADEFB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9E19-044C-4D45-97DE-BB266F14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C016-DDCA-4F4F-97D0-E1666E86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389E-5E35-4851-A867-A8394997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AA8B-7940-4A0D-B65E-F688F7E0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4219-ED98-452F-8B63-EAF57F2D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5B1D-6F6B-4016-A949-B20E66BC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9BD8-E619-42CC-8B37-2410E6CD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0B9C2-C4FC-4C7D-AEA3-E2327FFA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DA2C6-A340-41F7-8EED-748EEC67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EBBB1-F724-4CD4-B9A7-5A04CE7C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CA70C-E67B-4735-8820-1C5A88BD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C400A-F1EF-48CE-9C7D-9706D4FF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6D32-03D4-4792-A2EC-BE8E1A7E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FDBEA-8D07-414A-9F6E-E77C5FE3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36753-C5CA-489B-9AC2-6CAE5A9D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D1E90-2D41-4D5C-9FE1-E7BCB937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CEA2F-8E05-4381-B68C-548EC570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998E4-6E75-4788-BD2F-7AEA6F63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7D3F3-DAA6-496D-881E-7ECA6D2E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1CFA7-3CAE-4DC6-ACA3-39554560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F72F5-BA35-4065-8F9C-FCBABF9B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B9828-5493-4CDE-ABC7-5D2CA238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B1102-B321-4A4E-AE95-99274312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772F-C94E-4E87-9189-4E10AED6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03127-4E63-4CB2-A812-D7CF0154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EBF0A-562D-45D9-9267-FD65A07C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B6B73-EE2C-42C1-98BF-223F70C5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CD704-CC4F-4517-9AD5-8F8F3708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49932-AD84-4CD0-9966-C34587C6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2517D-2E92-4CEA-A7A6-9D237A6D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C1DEA-8653-4C4D-B78C-6230BDB9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7D934-DA08-4433-8A64-28606363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8C49D-1BD5-4302-9E26-76F06E49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7E5AE-983F-47ED-A67E-DE3260D2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2BB3-1ADA-4C35-B682-65494A7E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F7602-BF02-4DE5-B6C0-90B4ACDD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363C1-E562-491F-AB7B-89570B65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42A52-5DE2-4E7D-A9DF-DC97F0F8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2E9E3-4287-4B05-963A-C682C1D2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537FF-D628-4841-8C47-C2FAB2D4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605D1-7E29-47E3-AE3F-D6600B0D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3D192-A28E-46CC-ACAD-40F1A35C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0AE17-CCFE-4AF5-9D94-500E14D2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4A213-0E68-4481-A467-42A9BC5B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9D9B4-68E3-40DE-807B-A5AE601D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088C-E94E-453D-B3D6-0DFD46C9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7DE19-3B65-46CB-AD9C-ACBDE1FB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FF54B-CF57-419C-8CF3-A5D373D8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FEFCB-A7A6-4358-9A71-227104B2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E977B-D191-45E3-8030-DB56A147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C66EE-503E-4340-8035-21D5FF42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21C78-DBE6-40B9-B778-E701FFB2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27C36-7F21-48D7-BE19-B98BA184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D6048-7749-4344-A86C-3C717A3F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7D9D5-4BFF-400E-B588-2DC4974F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0324D-11C5-44AC-871D-7A62C537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2108-E116-4224-A7F7-C60FB946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20D33-90CD-40B7-9CD7-B82A6F2E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B3F9E-0BCB-4CEF-87BD-48C435E5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0D7E4-B1CC-434F-9E80-B595AF8D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B0539-CD21-4BE9-882A-755E192F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D4CF1-1B59-4CD4-A1B9-48CAA4FE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4DCE3-5BFE-45B8-93CE-5BA3C73C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E4130-562D-4655-96DC-51DC22B0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C07F3-6036-4AD5-BEBB-3034671E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542DE-7729-473A-BFB1-05CEEDB4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11782-C651-47A8-B2A9-D8D6CE54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4D5-557B-47D3-8F8D-EE2D17FA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7921D-1C00-496D-990B-49070E70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11741-E863-46CD-B3DD-EAAFB90E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A2E6D-918F-4B65-88A1-9ECD4A17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111C2-91B2-4170-B41F-C043BE84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37380-E016-445C-B2D8-A7ED5310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52117-11C1-4526-BE37-D6BE05BF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17059-9E65-401F-8C8A-9161E612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CE93F-6CAB-4F68-92E6-A522EDA2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68728-12A4-4AB3-A14C-B722B232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89A9B-8326-4E9E-88E7-009A2A07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D6AD-3681-456B-8575-BA8C491A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80CC5-F93B-49F9-80B7-3C487590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02D0A-1F41-480D-987F-F9C66E6E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31D43-9B2E-45D0-84FD-F1A24646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0F900-22B7-44D2-A326-FCFBC94D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275E7-A0BE-4398-A090-9E09EB19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FD919-E768-43D9-A3B5-ADC021EF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E2267-5E2F-4F48-8EBC-6A402D1C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144BD-7749-4DF2-BE64-7C8434E2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76C64-3667-43C0-BB0D-7613EC4E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A5DEC-9FFC-4709-B1ED-64FC92EA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7D80-2585-4B16-B2C1-67047728A3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37D4-E560-45FC-908F-40DFDEF62B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26F2-5C85-496A-A560-6853CC6B35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ADAC-3EE6-4F96-ADBC-178919D69B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6FB3-FFBC-4D30-B841-688982C6BC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1541-3AC9-4531-9316-882C02DA5B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88A5-F76B-4E95-ABBB-0426ECE5DA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82FC-A72A-4F40-8C0B-A4074A8B08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B8E9-8E4B-41C7-BF9C-00F3862E53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BA02-4697-4AAD-9FF8-0F9802CB29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D55D-1414-4DE5-93EF-84BD13F003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87152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Органи і системи органів тварин. Опорнорухова система та покриви тіла твар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349800" y="189000"/>
            <a:ext cx="28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Біологія 8 клас. Урок №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5000760" y="142920"/>
            <a:ext cx="3948120" cy="53578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" descr="C:\Documents and Settings\zhenya\Рабочий стол\Биология 8 класс\04\скелет-5.jpg"/>
          <p:cNvPicPr/>
          <p:nvPr/>
        </p:nvPicPr>
        <p:blipFill>
          <a:blip r:embed="rId2"/>
          <a:stretch/>
        </p:blipFill>
        <p:spPr>
          <a:xfrm>
            <a:off x="142920" y="142920"/>
            <a:ext cx="4643280" cy="6491160"/>
          </a:xfrm>
          <a:prstGeom prst="rect">
            <a:avLst/>
          </a:prstGeom>
          <a:ln w="0">
            <a:noFill/>
          </a:ln>
        </p:spPr>
      </p:pic>
      <p:sp>
        <p:nvSpPr>
          <p:cNvPr id="489" name="TextBox 6"/>
          <p:cNvSpPr/>
          <p:nvPr/>
        </p:nvSpPr>
        <p:spPr>
          <a:xfrm>
            <a:off x="5000760" y="564372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Arial Black"/>
              </a:rPr>
              <a:t>Опорно-рухова система люд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4286160" cy="2714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" descr=""/>
          <p:cNvPicPr/>
          <p:nvPr/>
        </p:nvPicPr>
        <p:blipFill>
          <a:blip r:embed="rId2"/>
          <a:stretch/>
        </p:blipFill>
        <p:spPr>
          <a:xfrm>
            <a:off x="4714920" y="142920"/>
            <a:ext cx="4267080" cy="278604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" descr=""/>
          <p:cNvPicPr/>
          <p:nvPr/>
        </p:nvPicPr>
        <p:blipFill>
          <a:blip r:embed="rId3"/>
          <a:stretch/>
        </p:blipFill>
        <p:spPr>
          <a:xfrm>
            <a:off x="4859280" y="3429000"/>
            <a:ext cx="3591000" cy="2602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5" descr=""/>
          <p:cNvPicPr/>
          <p:nvPr/>
        </p:nvPicPr>
        <p:blipFill>
          <a:blip r:embed="rId4"/>
          <a:stretch/>
        </p:blipFill>
        <p:spPr>
          <a:xfrm>
            <a:off x="900000" y="3429000"/>
            <a:ext cx="3565800" cy="2556000"/>
          </a:xfrm>
          <a:prstGeom prst="rect">
            <a:avLst/>
          </a:prstGeom>
          <a:ln w="0">
            <a:noFill/>
          </a:ln>
        </p:spPr>
      </p:pic>
      <p:sp>
        <p:nvSpPr>
          <p:cNvPr id="494" name="TextBox 7"/>
          <p:cNvSpPr/>
          <p:nvPr/>
        </p:nvSpPr>
        <p:spPr>
          <a:xfrm>
            <a:off x="285840" y="300024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 Black"/>
              </a:rPr>
              <a:t>Покриви тіла тва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8"/>
          <p:cNvSpPr/>
          <p:nvPr/>
        </p:nvSpPr>
        <p:spPr>
          <a:xfrm>
            <a:off x="755640" y="6165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Розглянути покриви тіла твар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СНОВ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23640" y="4508280"/>
            <a:ext cx="78692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33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33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33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33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новні системи органів тварин: опорно-рухова, травна, дихальна, кровоносна, видільна, нервова, ендокринна, стате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684360" y="141300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ргане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— постійна структура, що входить до складу клітини і забезпечує ряд процесів її життєдіяльності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611280" y="299736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рга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— частина багатоклітинного організму, яка має характерну будову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і розташована в певному місці та виконує специфічні функ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вдання для самоконтролю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СТ-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Основні системи органів тварин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а) травна, дихальна, кровоносна, видільна, нервова, статева, газообмін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б) травна, дихальна, видільна,нервова, статева, опорно-рухова, слинн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) ендокрінна, видільна, нервова, статева, дихальна, травна, газообмінн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г) опорно-рухова, травна, дихальна, кровоносна, видільна, ендокрінна, статева,  нерв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Лента лицом вниз 2" descr=""/>
          <p:cNvPicPr/>
          <p:nvPr/>
        </p:nvPicPr>
        <p:blipFill>
          <a:blip r:embed="rId1"/>
          <a:stretch/>
        </p:blipFill>
        <p:spPr>
          <a:xfrm>
            <a:off x="304920" y="890640"/>
            <a:ext cx="8607240" cy="2193840"/>
          </a:xfrm>
          <a:prstGeom prst="rect">
            <a:avLst/>
          </a:prstGeom>
          <a:ln w="0">
            <a:noFill/>
          </a:ln>
        </p:spPr>
      </p:pic>
      <p:sp>
        <p:nvSpPr>
          <p:cNvPr id="503" name="Улыбающееся лицо 3"/>
          <p:cNvSpPr/>
          <p:nvPr/>
        </p:nvSpPr>
        <p:spPr>
          <a:xfrm>
            <a:off x="3059280" y="3573360"/>
            <a:ext cx="2881080" cy="22320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1560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Обмін речовин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— сукупність процесів надходження речовин в організм, їх хімічних і фізичних перетворень у ньому, а також виведення назовні продуктів обміну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15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Органел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— постійна структура, що входить до складу клітини і забезпечує ряд процесів її життєдіяльності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3" descr="C:\Documents and Settings\zhenya\Рабочий стол\Биология 8 класс\01\клетка животного под микроскопом.png"/>
          <p:cNvPicPr/>
          <p:nvPr/>
        </p:nvPicPr>
        <p:blipFill>
          <a:blip r:embed="rId1"/>
          <a:stretch/>
        </p:blipFill>
        <p:spPr>
          <a:xfrm>
            <a:off x="2124000" y="1773360"/>
            <a:ext cx="6488280" cy="385416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5"/>
          <p:cNvSpPr/>
          <p:nvPr/>
        </p:nvSpPr>
        <p:spPr>
          <a:xfrm>
            <a:off x="519120" y="589752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179280" y="5445000"/>
            <a:ext cx="216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глянути органе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642760" y="142920"/>
            <a:ext cx="635796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Орга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— частина багатоклітинного організму, яка має характерну будову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і розташована в певному місці та виконує специфічні функ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4572000" y="2924280"/>
            <a:ext cx="4000680" cy="351468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5"/>
          <p:cNvSpPr/>
          <p:nvPr/>
        </p:nvSpPr>
        <p:spPr>
          <a:xfrm>
            <a:off x="1023840" y="3160800"/>
            <a:ext cx="326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826920" y="4292640"/>
            <a:ext cx="2808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знайомитись з органом, як частиною багатоклітинного організ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432108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Система органів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— послідовність узаємопов’язаних органів, які разом забезпечують певні процеси життєдіяльності організм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5508720" y="765000"/>
            <a:ext cx="3294000" cy="5357880"/>
          </a:xfrm>
          <a:prstGeom prst="rect">
            <a:avLst/>
          </a:prstGeom>
          <a:ln w="0">
            <a:noFill/>
          </a:ln>
        </p:spPr>
      </p:pic>
      <p:sp>
        <p:nvSpPr>
          <p:cNvPr id="465" name="Line 5"/>
          <p:cNvSpPr/>
          <p:nvPr/>
        </p:nvSpPr>
        <p:spPr>
          <a:xfrm flipH="1">
            <a:off x="6443280" y="1773360"/>
            <a:ext cx="289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6"/>
          <p:cNvSpPr/>
          <p:nvPr/>
        </p:nvSpPr>
        <p:spPr>
          <a:xfrm flipH="1">
            <a:off x="5940000" y="1844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7"/>
          <p:cNvSpPr/>
          <p:nvPr/>
        </p:nvSpPr>
        <p:spPr>
          <a:xfrm flipV="1">
            <a:off x="7740720" y="1989000"/>
            <a:ext cx="576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5796000" y="1773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8317080" y="1844640"/>
            <a:ext cx="18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8188200" y="1773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4"/>
          <p:cNvSpPr/>
          <p:nvPr/>
        </p:nvSpPr>
        <p:spPr>
          <a:xfrm>
            <a:off x="8317080" y="19065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5"/>
          <p:cNvSpPr/>
          <p:nvPr/>
        </p:nvSpPr>
        <p:spPr>
          <a:xfrm>
            <a:off x="8028000" y="3922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6"/>
          <p:cNvSpPr/>
          <p:nvPr/>
        </p:nvSpPr>
        <p:spPr>
          <a:xfrm>
            <a:off x="5940360" y="27702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539640" y="472428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гляньте систему органів травлення, знайдіть: 1-печінку, 2- шлунок, 3-кишечник, 4- підшлункову зало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8"/>
          <p:cNvSpPr/>
          <p:nvPr/>
        </p:nvSpPr>
        <p:spPr>
          <a:xfrm>
            <a:off x="755640" y="443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715600" cy="628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Arial Black"/>
              </a:rPr>
              <a:t>Основні системи органів тварин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порно-рухов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рав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халь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ровонос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иділь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рвов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ендокрин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ате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468360" y="4724280"/>
            <a:ext cx="201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знайомитись з основними системами органів твар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78688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Порожнина тіл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— заповнений рідиною простір між органами всередині тіла тварини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зрізняють первинну, вторинну і змішану порожнини тіла. Первинна порожнина представлена проміжками між органами, вторинна — вислана одношаровим епітелієм, а змішана утворюється внаслідок злиття первинної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і вторинної порожнин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Picture 3" descr="C:\Documents and Settings\zhenya\Рабочий стол\Биология 8 класс\04\порожнини.gif"/>
          <p:cNvPicPr/>
          <p:nvPr/>
        </p:nvPicPr>
        <p:blipFill>
          <a:blip r:embed="rId1"/>
          <a:stretch/>
        </p:blipFill>
        <p:spPr>
          <a:xfrm>
            <a:off x="3929040" y="2928960"/>
            <a:ext cx="5024520" cy="371484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324000" y="4425840"/>
            <a:ext cx="2879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найти на малюнку первинну, вторинну і змішану порожнини ті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214200" y="142920"/>
          <a:ext cx="8715600" cy="6568920"/>
        </p:xfrm>
        <a:graphic>
          <a:graphicData uri="http://schemas.openxmlformats.org/drawingml/2006/table">
            <a:tbl>
              <a:tblPr/>
              <a:tblGrid>
                <a:gridCol w="1427400"/>
                <a:gridCol w="4262400"/>
                <a:gridCol w="3025800"/>
              </a:tblGrid>
              <a:tr h="1012680"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Сис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орган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Особливості будо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Функ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1160"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орно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х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ладається зі скелета і скелетн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’язів, які до нього прикріплені. Ске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т може складатися з твердої речов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хітин, кісткова чи хрящова тканин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о рідини (гідростатичний скелет круг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х червів). Розрізняють зовнішній (н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клад, у членистоногих) і внутрішні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наприклад, у хордових) ске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безпечує рух тіл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ору і захист вну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ішніх орган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5080"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ри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 ті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жуть бути жорсткими або м’яки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і легкопроникними для газів і ріди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ставлені кутикулою або шкіро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жуть утворювати багато похідних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ких як луски, пір’я, шерсть тощ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 тварин без жорсткого скелета м’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ом із покривами тіла можуть утв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ювати шкірно-м’язовий міш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хищають органі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ід механічних п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джень та пр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кнення паразит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і патогенних мікр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ізмів. Можу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ідігравати важлив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ль у диханні й в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ілен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"/>
          <p:cNvPicPr/>
          <p:nvPr/>
        </p:nvPicPr>
        <p:blipFill>
          <a:blip r:embed="rId1"/>
          <a:stretch/>
        </p:blipFill>
        <p:spPr>
          <a:xfrm>
            <a:off x="4214880" y="214200"/>
            <a:ext cx="4681440" cy="30718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" descr=""/>
          <p:cNvPicPr/>
          <p:nvPr/>
        </p:nvPicPr>
        <p:blipFill>
          <a:blip r:embed="rId2"/>
          <a:stretch/>
        </p:blipFill>
        <p:spPr>
          <a:xfrm>
            <a:off x="4214880" y="3357720"/>
            <a:ext cx="4714920" cy="32810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" descr=""/>
          <p:cNvPicPr/>
          <p:nvPr/>
        </p:nvPicPr>
        <p:blipFill>
          <a:blip r:embed="rId3"/>
          <a:stretch/>
        </p:blipFill>
        <p:spPr>
          <a:xfrm>
            <a:off x="857160" y="189000"/>
            <a:ext cx="3179880" cy="4176720"/>
          </a:xfrm>
          <a:prstGeom prst="rect">
            <a:avLst/>
          </a:prstGeom>
          <a:ln w="0">
            <a:noFill/>
          </a:ln>
        </p:spPr>
      </p:pic>
      <p:sp>
        <p:nvSpPr>
          <p:cNvPr id="485" name="TextBox 6"/>
          <p:cNvSpPr/>
          <p:nvPr/>
        </p:nvSpPr>
        <p:spPr>
          <a:xfrm>
            <a:off x="179280" y="4365720"/>
            <a:ext cx="371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 Black"/>
              </a:rPr>
              <a:t>Опорно-рухова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663480" y="5465880"/>
            <a:ext cx="23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глянути опорно-рухову систему твар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dmila</cp:lastModifiedBy>
  <dcterms:modified xsi:type="dcterms:W3CDTF">2019-09-18T16:12:3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PT_Export_sFileName">
    <vt:lpwstr>D:\Биология 8 класс\БИОЛОГИЯ 8 КЛАСС НА ДИСК\Урок 04 Органы и системы органов животных\P-Урок 04 Органы и системы органов животных.Ppt</vt:lpwstr>
  </property>
</Properties>
</file>