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6E6-04CE-4969-9096-F9694ADE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269-9CD6-4008-9A41-E953B7F6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CE428-5404-41C1-BD6F-6287282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B3357-89C8-49A3-BFF0-6F66B88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F59F7-9B26-4525-803B-5689DE99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4561E-273A-4592-9C36-4E06040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C46DE-FAC1-4BF9-BFAA-513EBE65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7F8BB-BB61-4D5D-B00C-122C02C7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C3DC0-157A-43D5-B76F-6B611777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8E794-C3F0-4883-B193-F9CF3E73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BFE19-E433-4AF1-B69E-54D9FF7F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9CE5D-9ACB-404F-B34C-EF374CE8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CE4-5D4E-49F0-8C34-C0315CF9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86318-829A-4E16-8784-6B991467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95508-F369-4584-B7A6-FE9E3D5B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90CF7-F09C-42E5-BE30-9CB60190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FF8C0-57EB-4A18-B245-BDA3463C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2BFC1-DEFD-4102-AF3A-A4E960DC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AD140-D49A-4EC0-91CF-F9165F40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35D28-5B96-4551-BBD6-9B5C4000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513B5-CF00-4A11-8B04-3E551ECE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7CE9E-6B1C-4120-9C19-BC8DB2FC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767E0-BDED-4FB3-AB14-CF4AD22E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FB1-4DAE-48C7-B4C5-C71B7A3D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C4467-5A19-4004-B8D9-97F29903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9142D-1B92-4EF0-A828-0541D718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48D6B-C99F-4B12-AEED-006B4D8D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290D7-9466-46FE-9221-FC38EA91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C4776-9F1C-443A-82BC-5505D140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E5329-1F25-4272-A367-CE79F912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9CF5BE-6C74-48B3-BDBA-57B8E296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EBE57-BC26-4C7C-89D1-E8E9A49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9B4412-94BE-4963-9CC1-791EFC22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C80D8-2B71-4CB2-B5B3-68C8B2A7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B466-CDEF-44B9-8838-A2D4C780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5451-6274-41E7-B80D-A359A1D1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42AB7-FB32-4F69-90FD-6EB4DA25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0EF1E-C600-4B60-9C43-27E606B2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6BA4-51B3-4F8B-BCD3-0950CD46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91E1-A40F-4525-ADCC-9717DECE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0442-48EB-47B3-B4F1-BC4D7C16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490E-C47C-403F-BA15-CB8F5D3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18B6-BA1B-4CFA-8E8E-7A0540FB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E9B4-2991-4C24-BD0D-78F05615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7677-FCEE-4D06-BF38-638A5752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A4A5-B047-4C66-9EC4-8A64AAC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D1E4-59B5-457C-BD19-D1F61AD3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A508-1ACF-468A-B788-2178EB7E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469A-43A2-4E6A-A1AA-EFDDE912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E83F-0434-4309-9CB2-1A42E28E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6C9C-4F28-4EFE-9DAC-60AA0774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3C9DE-663E-47F8-8E56-AECF0B60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9FCD-CFE4-4708-8E65-C71C3781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4C17-5852-49D0-B4D9-8A8960CB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ABA3-A27B-46E7-AD7F-6BF7D2C8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885-64A5-4F98-9D33-937595F2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59A32-BFBF-4B4B-9FAE-6AA75A7A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FEB5-C910-4992-94AA-094D5FFA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842DF-F153-4C76-A365-C9A4654D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6E80-C954-4D7D-974B-EC88AD94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DFF2-7E4F-429B-ABAE-D403F975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150F-1DE1-410F-8259-85E41654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A717-7C57-42E0-A008-4E571A68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FFD6-DC0A-49F4-9E68-B153245E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2676-C4F7-4B33-B51D-61BE564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8447-3523-404E-8E40-5864C8CA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9EC-AAF0-432D-A6F9-B694F7ED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4FA9E-89A3-4EC0-B084-C4A7D26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82B92-E346-4ACD-8162-E414F7CA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7564-6B34-4765-9B77-9E13A8E6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8EAC0-1713-4B05-B0DB-E08B880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CE5E-897C-4F47-A1AD-B16B12C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7F14-CE7F-44EF-B390-2323C0DC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F00B-F8F9-4BD5-869A-985C860C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ED9BE-FD3C-43F5-B261-9083B7BB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D2C9-CB6E-4786-B097-71239ED6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8BCB1-9426-4986-9A10-FDFA012C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EAF-39BF-49C9-95CF-B9170F45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F529D-72D9-4B8E-BBBA-12CDFC50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1A90-B66E-4E45-BEA4-7621F211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0199C-D261-4339-916D-3C74C7BE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E1B4-B3F8-4899-97B2-0B38A713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7AB0B7-4F9E-4FBB-B251-59C3468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A2E62-A96D-4AC6-BBE7-06560EAA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F0D1B-F37C-47FB-9392-A8DB101A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C1B07-06E7-4961-B6DC-6C71A703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1060C-4723-4D76-B8B5-701B34A3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CC10-2534-4D7D-903C-BD0F995C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64D-2F37-4772-9755-76961F30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F672C-BCC8-46D1-8695-925EFE46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153E7-6219-4D16-88D0-813F1D4F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2FF7-C174-44FF-A18F-122F7F81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84040-B9C6-43C4-A7D7-888A6917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D23A2-EE25-43A2-8381-2834A3AE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1F09B-1922-4C08-8138-7BABBE11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EC513-C91B-44AD-AB4E-BDC846A6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58D7-D404-4986-8D0B-8CA077BA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DCEF8-3B2B-44CC-A5C2-F02EE89F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C124A-0913-4F17-906F-21560B7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4FE-D731-40C4-B8D8-A4028597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3789F-71A8-498C-9544-12B67A58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B99AE-FA39-41AF-91F6-D3B67E7D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72CED-7A00-49AF-9B45-49BCB53E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E8527-A786-487C-9EB9-B4EF66E4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5FE18-B198-467E-A644-0BB545E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166BC-B558-4CBD-AB24-090E825E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F60CB-1DA6-415D-B1A3-B998A2BD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37F4-B038-499D-9CA2-4D688921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FC2E-1B12-44C8-AC48-7FC467FB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9B55-9F28-4DDB-9875-0F973E1D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CD8-2EAD-4CF7-8A53-98D6C3F8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4674F-01DB-4ADC-85BE-E7E3F9C9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28A59-CE7F-4152-9151-139434EE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FCD48-CDAB-41E4-B3F5-EF15F5BC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B84A7-C64E-441A-8053-9B5066EB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75800-16DF-4633-96C3-F89069B8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565A2-699B-4342-B752-05318D0C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52C6-D33B-4CB1-8AA1-4972D9EA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E2481-DFF2-4905-93A6-C85C2F84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46023-30F0-4241-B011-D13B4A10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69F6E-E462-4BB1-B015-BA87AB4D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005-AE29-4DFA-88E6-080213F4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0854E-138E-4B3B-A758-B510847B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33E33-F1A5-4B3D-B55D-E02E036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0142B-4491-4E87-95E2-18C4A12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743DA-C323-4D13-955D-B441841E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D06C5-7240-4B41-8686-EC0B231C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543C3-57AA-48A1-A392-04F40107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C4ABC-B9F5-4381-8B8F-C17FB5FD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94D6B-4B80-4A22-B375-81306344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29A3F-FAFE-4F96-B8B6-063FBDED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B5575-65C5-4597-B451-F64946C7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EEAD-3268-4CC8-934F-BB8A16BFF5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EDB5-F3CC-4C5B-B3AE-E10A01B1D6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8D5F-9786-4B4A-AF44-EA01961E42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F51-5446-494A-9D50-E72201D9A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15C-C364-4837-8843-296600713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261D-B036-4CED-8DB5-17063FCC6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6A8F-C8A2-4415-B5B0-8F946904D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38BE-1C90-4187-B70E-0CAC1817A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C911-7569-4655-BC3A-BC10855544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EDA9-63AC-408F-83E9-2BA13BD5C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272-406C-4CE6-87F2-706A54D63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836280"/>
            <a:ext cx="871524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Органи і системи органів тварин. Опорнорухова система та покриви тіла твар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349800" y="18900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Arial"/>
              </a:rPr>
              <a:t>Біологія 8 клас. Урок №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3" descr=""/>
          <p:cNvPicPr/>
          <p:nvPr/>
        </p:nvPicPr>
        <p:blipFill>
          <a:blip r:embed="rId1"/>
          <a:stretch/>
        </p:blipFill>
        <p:spPr>
          <a:xfrm>
            <a:off x="5000760" y="142920"/>
            <a:ext cx="3948120" cy="53578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C:\Documents and Settings\zhenya\Рабочий стол\Биология 8 класс\04\скелет-5.jpg"/>
          <p:cNvPicPr/>
          <p:nvPr/>
        </p:nvPicPr>
        <p:blipFill>
          <a:blip r:embed="rId2"/>
          <a:stretch/>
        </p:blipFill>
        <p:spPr>
          <a:xfrm>
            <a:off x="142920" y="142920"/>
            <a:ext cx="4643280" cy="64911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6"/>
          <p:cNvSpPr/>
          <p:nvPr/>
        </p:nvSpPr>
        <p:spPr>
          <a:xfrm>
            <a:off x="5000760" y="56437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ff"/>
                </a:solidFill>
                <a:latin typeface="Arial Black"/>
              </a:rPr>
              <a:t>Опорно-рухова система лю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286160" cy="2714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3" descr=""/>
          <p:cNvPicPr/>
          <p:nvPr/>
        </p:nvPicPr>
        <p:blipFill>
          <a:blip r:embed="rId2"/>
          <a:stretch/>
        </p:blipFill>
        <p:spPr>
          <a:xfrm>
            <a:off x="4714920" y="142920"/>
            <a:ext cx="4267080" cy="27860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3"/>
          <a:stretch/>
        </p:blipFill>
        <p:spPr>
          <a:xfrm>
            <a:off x="4859280" y="3429000"/>
            <a:ext cx="3591000" cy="26020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4"/>
          <a:stretch/>
        </p:blipFill>
        <p:spPr>
          <a:xfrm>
            <a:off x="900000" y="3429000"/>
            <a:ext cx="3565800" cy="2556000"/>
          </a:xfrm>
          <a:prstGeom prst="rect">
            <a:avLst/>
          </a:prstGeom>
          <a:ln w="0">
            <a:noFill/>
          </a:ln>
        </p:spPr>
      </p:pic>
      <p:sp>
        <p:nvSpPr>
          <p:cNvPr id="494" name="TextBox 7"/>
          <p:cNvSpPr/>
          <p:nvPr/>
        </p:nvSpPr>
        <p:spPr>
          <a:xfrm>
            <a:off x="285840" y="300024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Покриви тіла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8"/>
          <p:cNvSpPr/>
          <p:nvPr/>
        </p:nvSpPr>
        <p:spPr>
          <a:xfrm>
            <a:off x="755640" y="6165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Розглянути покриви тіла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СНОВ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78692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 опорно-рухова, травна, дихальна, кровоносна, видільна, нервова, ендокринна, стате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684360" y="141300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е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5"/>
          <p:cNvSpPr/>
          <p:nvPr/>
        </p:nvSpPr>
        <p:spPr>
          <a:xfrm>
            <a:off x="611280" y="299736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рга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 частина багатоклітинного організму, яка має характерну будову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і розташована в певному місці та виконує специфічні функ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вдання для самоконтролю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СТ-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сновні системи органів твари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) травна, дихальна, кровоносна, видільна, нервова, статева, газообмі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) травна, дихальна, видільна,нервова, статева, опорно-рухова, сли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) ендокрінна, видільна, нервова, статева, дихальна, травна, газообмін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г) опорно-рухова, травна, дихальна, кровоносна, видільна, ендокрінна, статева,  нерво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Лента лицом вниз 2" descr=""/>
          <p:cNvPicPr/>
          <p:nvPr/>
        </p:nvPicPr>
        <p:blipFill>
          <a:blip r:embed="rId1"/>
          <a:stretch/>
        </p:blipFill>
        <p:spPr>
          <a:xfrm>
            <a:off x="304920" y="890640"/>
            <a:ext cx="8607240" cy="2193840"/>
          </a:xfrm>
          <a:prstGeom prst="rect">
            <a:avLst/>
          </a:prstGeom>
          <a:ln w="0">
            <a:noFill/>
          </a:ln>
        </p:spPr>
      </p:pic>
      <p:sp>
        <p:nvSpPr>
          <p:cNvPr id="503" name="Улыбающееся лицо 3"/>
          <p:cNvSpPr/>
          <p:nvPr/>
        </p:nvSpPr>
        <p:spPr>
          <a:xfrm>
            <a:off x="3059280" y="3573360"/>
            <a:ext cx="2881080" cy="22320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бмін речовин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— сукупність процесів надходження речовин в організм, їх хімічних і фізичних перетворень у ньому, а також виведення назовні продуктів обміну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рганел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— постійна структура, що входить до складу клітини і забезпечує ряд процесів її життєдіяльності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3" descr="C:\Documents and Settings\zhenya\Рабочий стол\Биология 8 класс\01\клетка животного под микроскопом.png"/>
          <p:cNvPicPr/>
          <p:nvPr/>
        </p:nvPicPr>
        <p:blipFill>
          <a:blip r:embed="rId1"/>
          <a:stretch/>
        </p:blipFill>
        <p:spPr>
          <a:xfrm>
            <a:off x="2124000" y="1773360"/>
            <a:ext cx="6488280" cy="38541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5"/>
          <p:cNvSpPr/>
          <p:nvPr/>
        </p:nvSpPr>
        <p:spPr>
          <a:xfrm>
            <a:off x="519120" y="589752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179280" y="5445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рган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642760" y="142920"/>
            <a:ext cx="635796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 Black"/>
              </a:rPr>
              <a:t>Орга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— частина багатоклітинного організму, яка має характерну будов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і розташована в певному місці та виконує специфічні фун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572000" y="2924280"/>
            <a:ext cx="4000680" cy="351468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5"/>
          <p:cNvSpPr/>
          <p:nvPr/>
        </p:nvSpPr>
        <p:spPr>
          <a:xfrm>
            <a:off x="1023840" y="3160800"/>
            <a:ext cx="326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26920" y="4292640"/>
            <a:ext cx="280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рганом, як частиною багатоклітинного органі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432108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 Black"/>
              </a:rPr>
              <a:t>Система органі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— послідовність узаємопов’язаних органів, які разом забезпечують певні процеси життєдіяльності організм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5508720" y="765000"/>
            <a:ext cx="3294000" cy="5357880"/>
          </a:xfrm>
          <a:prstGeom prst="rect">
            <a:avLst/>
          </a:prstGeom>
          <a:ln w="0">
            <a:noFill/>
          </a:ln>
        </p:spPr>
      </p:pic>
      <p:sp>
        <p:nvSpPr>
          <p:cNvPr id="465" name="Line 5"/>
          <p:cNvSpPr/>
          <p:nvPr/>
        </p:nvSpPr>
        <p:spPr>
          <a:xfrm flipH="1">
            <a:off x="6443280" y="177336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6"/>
          <p:cNvSpPr/>
          <p:nvPr/>
        </p:nvSpPr>
        <p:spPr>
          <a:xfrm flipH="1">
            <a:off x="5940000" y="1844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7"/>
          <p:cNvSpPr/>
          <p:nvPr/>
        </p:nvSpPr>
        <p:spPr>
          <a:xfrm flipV="1">
            <a:off x="7740720" y="1989000"/>
            <a:ext cx="576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5796000" y="1773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8317080" y="1844640"/>
            <a:ext cx="18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8188200" y="1773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8317080" y="1906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8028000" y="3922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5940360" y="27702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539640" y="472428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ьте систему органів травлення, знайдіть: 1-печінку, 2- шлунок, 3-кишечник, 4- підшлункову зало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55640" y="4437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8715600" cy="628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Arial Black"/>
              </a:rPr>
              <a:t>Основні системи органів тварин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порно-рухов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рав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ха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ровонос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іль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рво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ндокринн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тат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468360" y="4724280"/>
            <a:ext cx="201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знайомитись з основними системами органів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Порожнина тіл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— заповнений рідиною простір між органами всередині тіла тварини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зрізняють первинну, вторинну і змішану порожнини тіла. Первинна порожнина представлена проміжками між органами, вторинна — вислана одношаровим епітелієм, а змішана утворюється внаслідок злиття первинної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і вторинної порожнин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Picture 3" descr="C:\Documents and Settings\zhenya\Рабочий стол\Биология 8 класс\04\порожнини.gif"/>
          <p:cNvPicPr/>
          <p:nvPr/>
        </p:nvPicPr>
        <p:blipFill>
          <a:blip r:embed="rId1"/>
          <a:stretch/>
        </p:blipFill>
        <p:spPr>
          <a:xfrm>
            <a:off x="3929040" y="2928960"/>
            <a:ext cx="5024520" cy="371484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324000" y="4425840"/>
            <a:ext cx="2879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найти на малюнку первинну, вторинну і змішану порожнини ті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14200" y="142920"/>
          <a:ext cx="8715600" cy="6568920"/>
        </p:xfrm>
        <a:graphic>
          <a:graphicData uri="http://schemas.openxmlformats.org/drawingml/2006/table">
            <a:tbl>
              <a:tblPr/>
              <a:tblGrid>
                <a:gridCol w="1427400"/>
                <a:gridCol w="4262400"/>
                <a:gridCol w="3025800"/>
              </a:tblGrid>
              <a:tr h="10126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рган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собливості будо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Функці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116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но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х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ладається зі скелета і скелет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’язів, які до нього прикріплені. Ске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т може складатися з твердої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хітин, кісткова чи хрящова ткани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 рідини (гідростатичний скелет круг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х червів). Розрізняють зовнішній (на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клад, у членистоногих) і внутрішні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наприклад, у хордових) ске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безпечує рух тіл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ору і захист вну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ішніх орган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5080"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ри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 ті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бути жорсткими або м’як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легкопроникними для газів і рід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і кутикулою або шкіро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жуть утворювати багато похідних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ких як луски, пір’я, шерсть тощ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тварин без жорсткого скелета м’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ом із покривами тіла можуть утв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ювати шкірно-м’язовий мі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хищають органі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 механічних п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джень та п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икнення паразит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 патогенних мікр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ізмів. Мож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ідігравати важлив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у диханні й в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ілен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4214880" y="214200"/>
            <a:ext cx="4681440" cy="3071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214880" y="3357720"/>
            <a:ext cx="4714920" cy="32810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4" descr=""/>
          <p:cNvPicPr/>
          <p:nvPr/>
        </p:nvPicPr>
        <p:blipFill>
          <a:blip r:embed="rId3"/>
          <a:stretch/>
        </p:blipFill>
        <p:spPr>
          <a:xfrm>
            <a:off x="857160" y="189000"/>
            <a:ext cx="3179880" cy="41767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6"/>
          <p:cNvSpPr/>
          <p:nvPr/>
        </p:nvSpPr>
        <p:spPr>
          <a:xfrm>
            <a:off x="179280" y="4365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 Black"/>
              </a:rPr>
              <a:t>Опорно-рухов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663480" y="5465880"/>
            <a:ext cx="23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авд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глянути опорно-рухову систему твар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udmila</cp:lastModifiedBy>
  <dcterms:modified xsi:type="dcterms:W3CDTF">2019-09-18T16:12:36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Биология 8 класс\БИОЛОГИЯ 8 КЛАСС НА ДИСК\Урок 04 Органы и системы органов животных\P-Урок 04 Органы и системы органов животных.Ppt</vt:lpwstr>
  </property>
</Properties>
</file>