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C51-52FD-450D-B1BC-454AB719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3B4-6FF3-4F0D-B6BD-C2C26889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F896B-9F5F-4D22-8AB8-B8DEE708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264DB-95B6-468E-BFCB-BB17B2F4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E695F-8BC1-460A-A999-3D2B090C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3328-AFC1-4182-BFAE-2821FB91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AB12-1CDA-4C2E-A289-A8D6543A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79D20-9FA6-471F-BC51-4B63BC6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1A891-702E-40DE-BAF0-4AF43414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65158-5497-4418-9B0E-919080F4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E0F24-3CAB-451D-B9FD-4A1E796D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FD942-C628-4DB7-8D88-0B7D1CC7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573C-15FF-4F7B-A797-BF0FC274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870940-7D39-4ACE-893F-1D05E72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C72A-DAD9-4010-9316-7E71A05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E7F64-6424-4860-B215-FB17659C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DCE1E-806E-41E5-933F-7FE0E28B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EAAB2-5874-4889-A15E-5D5CB13F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C2DCF-15B6-4665-A10F-A5AC038E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6575B-0FC5-40C0-8392-861A890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3D519-FDCB-4DD6-9C40-F6F80ED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36B91-29B8-4A2C-BD13-EFB15FC1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F1365-6EF8-47C7-B7BC-0653DBA3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DF8-93BB-4177-9609-03A7037C5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E9858-98F1-48E5-A71F-B39C72BF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F993A-D3CF-4933-9B8C-6C6527E7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413B-77FD-47B3-98D1-19B3C33A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213F3-A973-4BB7-8F49-25703D9A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37EC3-FC78-42EC-B0E5-E5233E0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9C3BD-ED02-42D9-8010-30443D51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E1868-F2C3-48B3-AEDE-70D1CC1F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22E77-9FD1-4C21-B6F0-350201F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836E-1494-46EB-8D4A-E1934087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10DD-A82D-475F-AD39-EDB015E5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473F-F609-4F91-A0C3-2334C276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144DC-3E15-4304-93EF-93C01819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82174-22B2-4BCB-8B6E-84ACF780A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5172AC-B206-4AA8-9228-B65F9791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48A4-6A8F-4F4D-9FF6-3E9011AB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F1CA-C0C5-433E-B37F-DE4C7DE8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43AB-5A44-42FF-A876-64BC91A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5D4B-9530-4831-B63D-8CE88348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2C69-6227-4595-B458-EE1027F6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E319-7507-4F67-AC5B-B961CA4F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F3D-EDF4-480A-B3FB-222FA52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F07-2442-4342-9A5F-4624D72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F6EC-2278-4FE7-B486-97B6F212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21E-B83E-4C1A-A42D-E82EDD60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0EE7-F607-43B4-9BD9-99BABB9A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B54B-B1AA-4BD4-92EA-9C8F0977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216EC-4B47-4562-B969-5C61597C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3588-788E-4ABB-82BB-0702FBEC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C08D-5B40-4CEF-97DB-7789FE7D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0027-EF8A-4686-A1ED-48042FAB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E21C-C949-470B-9785-A215123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875-68BE-4F3B-84D3-2010A661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1CE18-A72F-4C2C-99F5-63ADFA51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605A-7F99-4DA2-8056-EFB08DC7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4D24-109F-4C83-B1B5-1596E51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8E1BF-B8FE-4493-97A3-DFC97799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C556-A8BC-4CB7-A591-21BE237B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5966D-7850-4DAB-B785-F2FF607CD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50A6A-6BFD-40DD-B019-B47BB885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0FF6-17F2-44F4-A069-6394BB36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BB9B7-220F-4222-B5B8-8BC77288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B570-20EA-4EDF-88F1-7ABD6779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BCF-ADCD-4082-9A9B-AB92025C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DBA9-A12E-43FD-BB56-866D981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EC7E0-0B9A-4443-853A-9B35C0A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9CB5-CF5B-4CFF-8EB5-96604645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1AF1-5C3A-41AF-9ECA-1DA2F751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1746-0C25-4112-B22E-EBEBDC70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D47B0-0856-4FEF-BE5C-32763DD3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C0CF6-F3AD-4BFB-94FE-0B54C94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6B6FE-5669-4BB4-A0CD-449A66A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48FF-849B-4455-9BC7-F7C2D686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EC3AC-F504-41CB-8866-62E8A6BE2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F5F-F22C-461D-ADAC-AEE60940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64562-21A8-43EF-80E9-DC13F88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2322A-8408-4F35-8A66-0ADC0D8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C45E-6A3A-4BF2-9559-4555B1BC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51020-5FFD-45F9-A60F-7B563FBF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E809-06EB-4BF3-9547-59C89782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08802-A9E0-4E0C-BB95-B27D3DD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AAA1-3B01-4EB0-94CE-4FC923F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7BCE-41CC-4089-A758-2B8D5F6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58D6-16A5-42FC-903F-9D28D47E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567C9-BCB7-4644-BCAD-9FC04E2C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2A1-590E-4775-89D4-05930206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F44E3-6286-4371-BAE6-74C1A6CD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7959B-96B9-4774-9BCE-174D821A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EEE8-CA3D-4358-B2DE-029C043D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A4A4-573C-4ACF-BF74-F4E1D59F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8BFA5-58BC-45AB-A1F7-8EF06F54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9B2A-E2D0-4BF4-A78F-20F93987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59639-369C-40AF-B539-E4F98C1A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3048-C456-435B-A68C-0D363108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CE396-432F-4009-A527-8EA727B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75FB-387E-4DD4-AD8D-4EA00966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C91-B614-4CA8-B4BD-66AC1C7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B701-9BF4-48BA-92BA-C877D6F4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4208-F272-424B-808F-4CFBCA0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A7FD-912F-400D-A8E1-D85A3466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804D3-2524-45F7-9B94-2C029D3A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9BA07-5C61-4F3E-9C00-877F8745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D0E7-7B3A-451B-8AA5-4BD14837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9352-FCAF-4CC2-8F60-9A009263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AEAB9-C968-40B0-8CC4-D0552E46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A5CEE-DBA8-4814-B6F5-8C10E020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37720-603F-485D-A07D-CBA13E23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71C-2684-45A9-A4B0-99DE80A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2EA5F-B8A0-435A-81A8-7F854D3C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EDC6-A41B-4929-B048-046E7D0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0F66-5F09-45A9-8C67-EF435512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6AC08-23EA-432D-A527-221DD34C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974F-9CE9-46D3-A0E4-C6E439435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7D730-15DB-49D9-9BEB-6D638784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E50D-3A28-431B-AE20-E863D18E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7674-61CF-4D6B-B81D-BADB5CB0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D4B4-03B3-4690-B68D-B96029B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4F17C-30EF-4EA8-B82A-0D31873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3797-C0B7-433C-944B-D340D9B9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523D2-2338-4D0D-ABDD-83762651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5FB79-9820-40A1-A180-A74BE7B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BB3CD-D5DD-4E4C-B5EF-63E12AA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B877-E822-40B1-A80E-1197483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880B5-9140-4FDC-97B4-D309749E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1E813-ECE5-4287-AB9A-6268014F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43B0D-E02B-4DEB-8241-7535D74B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2125B-13A9-40F4-A2B5-3E2EA4BD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1C06C-31D7-4105-A4B7-680D1C3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35D39-E245-43B4-8716-C17BA9D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8BA5-7CE9-472B-A4AA-B043BE17E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BDD3-7185-4829-ADB2-15441C988F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BBD-237F-407D-BC80-56F77A130F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1AC-DF1E-48CE-AE0B-DC8FF71AB7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C5E0-B34F-4BF2-88BB-E4FCCC9B4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16B-0581-466A-8E70-47EB683FE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EDAB-3B45-40E4-A81E-1C3A54287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482-5FC0-48EE-8446-B50F3AD208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3F83-0170-4AD4-8E39-82FF602F1B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8907-2FE5-436E-80AF-4E0F6EE5A3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98F5-BE43-46D1-9B50-3B4F8379CD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ргани і системи органів тварин. Опорнорухова система та покриви тіла тв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349800" y="189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іологія 8 клас. Урок №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5000760" y="142920"/>
            <a:ext cx="3948120" cy="5357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C:\Documents and Settings\zhenya\Рабочий стол\Биология 8 класс\04\скелет-5.jpg"/>
          <p:cNvPicPr/>
          <p:nvPr/>
        </p:nvPicPr>
        <p:blipFill>
          <a:blip r:embed="rId2"/>
          <a:stretch/>
        </p:blipFill>
        <p:spPr>
          <a:xfrm>
            <a:off x="142920" y="142920"/>
            <a:ext cx="4643280" cy="6491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6"/>
          <p:cNvSpPr/>
          <p:nvPr/>
        </p:nvSpPr>
        <p:spPr>
          <a:xfrm>
            <a:off x="5000760" y="5643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 Black"/>
              </a:rPr>
              <a:t>Опорно-рухова система лю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714920" y="142920"/>
            <a:ext cx="4267080" cy="27860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591000" cy="2602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565800" cy="2556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7"/>
          <p:cNvSpPr/>
          <p:nvPr/>
        </p:nvSpPr>
        <p:spPr>
          <a:xfrm>
            <a:off x="285840" y="3000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Покриви тіла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755640" y="61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озглянути покриви тіла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СН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78692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 опорно-рухова, травна, дихальна, кровоносна, видільна, нервова, ендокринна, стате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84360" y="141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611280" y="299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частина багатоклітинного організму, яка має характерну будов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розташована в певному місці та виконує специфічні фун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вдання для самоконтролю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) травна, дихальна, кровоносна, видільна, нервова, статева, газообмі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) травна, дихальна, видільна,нервова, статева, опорно-рухова, сли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) ендокрінна, видільна, нервова, статева, дихальна, травна, газообмі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) опорно-рухова, травна, дихальна, кровоносна, видільна, ендокрінна, статева,  нерв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Лента лицом вниз 2" descr=""/>
          <p:cNvPicPr/>
          <p:nvPr/>
        </p:nvPicPr>
        <p:blipFill>
          <a:blip r:embed="rId1"/>
          <a:stretch/>
        </p:blipFill>
        <p:spPr>
          <a:xfrm>
            <a:off x="304920" y="890640"/>
            <a:ext cx="8607240" cy="2193840"/>
          </a:xfrm>
          <a:prstGeom prst="rect">
            <a:avLst/>
          </a:prstGeom>
          <a:ln w="0">
            <a:noFill/>
          </a:ln>
        </p:spPr>
      </p:pic>
      <p:sp>
        <p:nvSpPr>
          <p:cNvPr id="503" name="Улыбающееся лицо 3"/>
          <p:cNvSpPr/>
          <p:nvPr/>
        </p:nvSpPr>
        <p:spPr>
          <a:xfrm>
            <a:off x="3059280" y="3573360"/>
            <a:ext cx="2881080" cy="22320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бмін речов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сукупність процесів надходження речовин в організм, їх хімічних і фізичних перетворень у ньому, а також виведення назовні продуктів обміну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рганел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3" descr="C:\Documents and Settings\zhenya\Рабочий стол\Биология 8 класс\01\клетка животного под микроскопом.png"/>
          <p:cNvPicPr/>
          <p:nvPr/>
        </p:nvPicPr>
        <p:blipFill>
          <a:blip r:embed="rId1"/>
          <a:stretch/>
        </p:blipFill>
        <p:spPr>
          <a:xfrm>
            <a:off x="2124000" y="1773360"/>
            <a:ext cx="6488280" cy="38541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5"/>
          <p:cNvSpPr/>
          <p:nvPr/>
        </p:nvSpPr>
        <p:spPr>
          <a:xfrm>
            <a:off x="519120" y="58975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79280" y="5445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рган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642760" y="14292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рг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— частина багатоклітинного організму, яка має характерну будов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розташована в певному місці та виконує специфічні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4000680" cy="35146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1023840" y="316080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26920" y="429264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рганом, як частиною багатоклітинного органі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истема органі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послідовність узаємопов’язаних органів, які разом забезпечують певні процеси життєдіяльності організ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94000" cy="5357880"/>
          </a:xfrm>
          <a:prstGeom prst="rect">
            <a:avLst/>
          </a:prstGeom>
          <a:ln w="0">
            <a:noFill/>
          </a:ln>
        </p:spPr>
      </p:pic>
      <p:sp>
        <p:nvSpPr>
          <p:cNvPr id="465" name="Line 5"/>
          <p:cNvSpPr/>
          <p:nvPr/>
        </p:nvSpPr>
        <p:spPr>
          <a:xfrm flipH="1">
            <a:off x="6443280" y="177336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 flipH="1">
            <a:off x="594000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7740720" y="1989000"/>
            <a:ext cx="576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9600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8317080" y="18446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8188200" y="17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8317080" y="1906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8028000" y="3922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5940360" y="2770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39640" y="4724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ьте систему органів травлення, знайдіть: 1-печінку, 2- шлунок, 3-кишечник, 4- підшлункову зал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5564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 Black"/>
              </a:rPr>
              <a:t>Основні системи органів тварин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орно-рухо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в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ха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вонос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і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ндокрин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68360" y="472428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сновними системами органів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Порожнина ті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заповнений рідиною простір між органами всередині тіла тварин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різняють первинну, вторинну і змішану порожнини тіла. Первинна порожнина представлена проміжками між органами, вторинна — вислана одношаровим епітелієм, а змішана утворюється внаслідок злиття первинної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і вторинної порожн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3" descr="C:\Documents and Settings\zhenya\Рабочий стол\Биология 8 класс\04\порожнини.gif"/>
          <p:cNvPicPr/>
          <p:nvPr/>
        </p:nvPicPr>
        <p:blipFill>
          <a:blip r:embed="rId1"/>
          <a:stretch/>
        </p:blipFill>
        <p:spPr>
          <a:xfrm>
            <a:off x="3929040" y="2928960"/>
            <a:ext cx="5024520" cy="37148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24000" y="4425840"/>
            <a:ext cx="287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йти на малюнку первинну, вторинну і змішану порожнини ті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14200" y="142920"/>
          <a:ext cx="8715600" cy="6568920"/>
        </p:xfrm>
        <a:graphic>
          <a:graphicData uri="http://schemas.openxmlformats.org/drawingml/2006/table">
            <a:tbl>
              <a:tblPr/>
              <a:tblGrid>
                <a:gridCol w="1427400"/>
                <a:gridCol w="4262400"/>
                <a:gridCol w="3025800"/>
              </a:tblGrid>
              <a:tr h="10126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рга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собливості буд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16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ється зі скелета і скелет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’язів, які до нього прикріплені. Ск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т може складатися з твердої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хітин, кісткова чи хрящова ткан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 рідини (гідростатичний скелет кр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х червів). Розрізняють зовнішній (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клад, у членистоногих) і внутрішн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приклад, у хордових) ске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езпечує рух ті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у і захист вн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ішніх орга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и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 ті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бути жорсткими або м’як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легкопроникними для газів і рід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і кутикулою або шкіро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утворювати багато похідни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х як луски, пір’я, шерсть тощ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варин без жорсткого скелета м’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ом із покривами тіла можуть утв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ювати шкірно-м’язовий мі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ищають органі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 механічних 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джень та п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нення парази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патогенних мік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мів. Мож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ігравати важ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у диханні й в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іл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4681440" cy="3071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714920" cy="3281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857160" y="189000"/>
            <a:ext cx="3179880" cy="4176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79280" y="4365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Опорно-рухов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63480" y="5465880"/>
            <a:ext cx="23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порно-рухову систему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19-09-18T16:12:3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Биология 8 класс\БИОЛОГИЯ 8 КЛАСС НА ДИСК\Урок 04 Органы и системы органов животных\P-Урок 04 Органы и системы органов животных.Ppt</vt:lpwstr>
  </property>
</Properties>
</file>