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15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D6FE9-48F1-4EA2-9708-0F69AD311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248E1-CAC9-4AE8-9C24-74C1229F7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C64BAE-A677-4607-9881-CF6693B10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E4C148-847B-41CD-A7A2-F9DB89DBD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6E3D4D-502E-412D-9A18-7CF182C03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C3714D-371F-4DEF-A760-7BA766AAC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9B4AED-F648-4299-8B97-DF72984C3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D1A5EF-28C0-42CD-8B88-6A055B6E8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CF345A-0452-4550-880E-12B4D4422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2CC853-14D4-49D6-B979-C555358D6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1EB3C1-70A4-4099-8D3D-4995ED1C6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7F0C0C-B5B7-4810-A72D-BF5AB560D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6138B-DD1B-445D-8372-4D417B522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D5B583-2AB7-4069-AD79-03A8394FE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7846B9-599D-4C7E-9498-F9A5472BA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61AA62-BDAD-4C51-8052-D0BDDA2B4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D29E02-D332-45CC-9F01-681050FCC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C1BB8B-C6DF-4144-B178-B758206CF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F3829F-0F53-4C98-BDB5-F5CBF3A73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97F956-5AA7-4B69-B81B-67A0C257C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4D2839-D823-49D4-A3E6-4D5978ED0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E4B244-736C-4CA7-A93F-B00B28F9C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CEDBA8-E2A4-4414-B695-F92997B78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49254-F00C-4C7C-AA72-D2524E91E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DE50A0-8997-4013-BED8-2C29A0369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B94965-9252-43C4-81E1-87B0E5314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EB3A6F-51AC-41E5-8E2F-CD4CE66AC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7DE958-C303-4F54-AB9E-1FCF9CF41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A692BA-6FB2-45E9-9FAE-515A86DC1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3D8A59-82CC-4C6E-AF76-311E6D862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3C67DC-D488-44E4-A853-8439632E9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C6B799-76A4-46C5-854A-2F3534241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425807-A49A-4591-9CF5-BDA564D91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11159B-00E3-4B90-9A9E-8153330E0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11E83-7029-4C42-B2A6-EAE3FA99D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0BFC71-4A53-411E-8740-EAAC03878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53155A-838B-4AA4-B1DB-210A51952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628E4B-CF59-4D47-9775-5F874E8A6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BD13F-B18E-4F5B-A600-F131F9DAB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E4FCD-B548-49E9-98F1-FAF744C8D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8620F-4450-45B2-8C9E-13B86515C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A7CA0-0FF4-47B6-8EB4-BCBAC5032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48413-4C03-475D-90D4-097A099D3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677F9-11D4-456A-9213-1C4C99EFE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F5626-C436-42FE-A179-399C4FB39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8D5BA-3217-4027-B92C-661BE7C23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30031-52D8-448A-A90F-938D658BC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63801-7636-4A20-8731-FEFA874E3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CEE4E-EFF0-4872-9DAB-44AD15108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44544-0913-4558-8DFF-0AC168948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CFD3A5-4006-49B7-BC4C-E7621CC4F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FB6B6E-A3CE-43A6-89A2-1F2D9BF3E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09B40A-8E91-4903-B3B2-FE37AE019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9AA3BA-6519-4F4E-A763-5BB9B0FBC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FD5B75-A73C-47D3-A4AF-E10938A10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66541-01F9-4F60-AF69-0EA664727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4D08C1-6E9D-4451-89F1-884234883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7C685D-1AAF-4447-9E39-2B81BE6DC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9222E0-0CD6-438E-A8EE-7556CCBEC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D98EC0-B0EC-4419-984C-26E1A1DD6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1DCD3B-3DF1-4AB7-9480-F0E5D22B1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427115-FE60-47F3-A1A4-B82DE8CE6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2262DC-BD23-4D70-A1F8-6E7E0B1D6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D6013C-28BF-4C66-A9F9-B37B9EBDC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7B3852-13DA-4800-99D7-317DC43DC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CE6EF1-59F9-4AD3-9D1F-A9D00064C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C7459-F54E-4681-A5C9-966BCBD3E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C508AA-3193-4CFE-8D47-1B9D8E597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35030E-DEE2-4AB8-BE66-73ED24926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8B505B-B3BC-4FB4-A863-94B821F8A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33688E-83AA-4D42-95F9-7C0C515E3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41DE03-0B0A-4952-BE98-E7B515410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945ACD-0F0B-448F-BDC7-028CB36CB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25907A-1C38-4220-96C8-8FBB23909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0A2FB4-6D5F-4096-A74F-197C2BE2A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DA2941-5DA6-4455-A98F-18579DFD5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C305C3-1490-4E16-A1ED-5BC6A89C7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A1370-ACE0-4EBF-8290-9B91A7E33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A2AE11-9ED3-487F-8615-2585DC506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1AEA8C-5377-446C-8AFF-00AE81FD9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94C7D1-1EA6-4902-A98E-F8CEDAB3C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B42B95-F3EA-4AB1-A3A5-9B891EF42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BC3AE2-B5D4-4222-AF7D-770D1B0C6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4C6237-AF2E-432A-B065-928DE9CAE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A64466-AE76-4FC7-A095-B8BC7DCA9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9AA56D-45D4-47F2-A8E5-F165D7395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D88CBA-6E96-4002-A8C8-6AC737E99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A6D8C5-833B-4560-98CE-3E7DDE64F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82D2D-17BD-4305-A28E-DB464D61E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74D6EC-4ED4-4EC1-8BBD-FBE58CFD1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82167F-C4E5-4B46-9B3A-A0D9556DE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73EC06-FB18-435D-AADD-E86F2A4EF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0AF42A-1532-4650-9566-C57CD76ED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18B661-1649-4652-9281-FA01127DF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BB71C9-6BB2-4B0E-9202-DF92FBC26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F378F1-02FB-4612-BFFA-6D310E1C0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9324DC-80E1-4142-8965-FFB43F08A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57E691-F02A-48AA-8ADD-EC9E872A0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571B42-7EB2-4CF9-9021-38C66541D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BF326-94D7-4F10-A02F-8CE190655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4B1214-32D6-4A41-9B92-4393074F4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9684F2-6F49-40FF-86CC-511751DC3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A2D09B-67C2-4A50-907D-C3BF8FD62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7A36D8-E81D-4DCB-A22A-CA45F9D4E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58B2D1-E4C9-4917-AB6B-500C77AB5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BDA350-D43E-4959-BC56-DFB589A2D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B9EF2C-C505-4731-BB2D-C75CB8712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78EFB5-4DAE-4C5A-BB07-038E9112F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368977-3A93-4928-83B3-601661A53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2392FB-E5FB-4B20-AD9F-901B328E6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7CE43-D9B7-42FE-AD50-C74411807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8BE16E-B1B8-48E8-BC78-7AEEEDB9E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405633-F4B1-4668-A771-BCA5E645E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7BD39E-6391-465C-BE92-C4D06BD78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BE5A58-4ED3-46EC-9C2B-49BA1B009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8F1DB0-9AA5-483C-8494-579BEF3B5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695D73-8BC8-4AEF-BCC8-CC4FDB24C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BE588D-F769-4A2D-B560-48FCEFEDB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B20681-EC19-47C7-BA92-6ED0C5BD9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7F3178-9D35-4D5B-B8FF-1E1DBB775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6A4A79-DD96-4A23-8577-F47770BD1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057D7-5DBC-4B96-A204-BC20C797F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7569D1-459E-46F3-A3EA-CE917DDD5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B69E2D-074C-4208-AC2B-91EAD83EA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F5D3C6-918F-4A94-BB6B-810D02997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8458BC-773C-421E-A9D3-15E6ECF67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628DF2-A21C-4304-8503-FF5AFE90A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B4ABE3-3800-443E-B440-F2773238B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7FE382-B192-4C77-A1B4-2BC430E1C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F1D98E-5361-456B-8E4C-F2D730E8D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4EDBAE-8093-420F-9DCD-A43DD8698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757FCC-DFB3-47A0-87FB-76450425E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50D4F-6FEA-4BBC-9790-138F8E726DA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3A62E-1821-4752-A865-40E7F840509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52655-A0A0-4093-ABE4-8DC44DA9176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6DE0D-E9B0-42E5-B370-9781AE50A05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03637-F78A-455D-A322-AD9F9408D35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2507C-39A5-44F1-89E1-EBA38AD7191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36C46-0101-41F4-948F-421D630230A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AB8AD-0B10-4725-89B3-C91136EFB5A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CFAD9-937B-42C5-807C-2957EDC6371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70735-0ABF-4022-BF16-8214B3F60E7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90932-CD89-4178-AE6F-8CD3344136F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0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2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1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-360" y="836280"/>
            <a:ext cx="8715240" cy="121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 Black"/>
              </a:rPr>
              <a:t>Органи і системи органів тварин. Опорнорухова система та покриви тіла твари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Rectangle 6"/>
          <p:cNvSpPr/>
          <p:nvPr/>
        </p:nvSpPr>
        <p:spPr>
          <a:xfrm>
            <a:off x="3349800" y="189000"/>
            <a:ext cx="281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00"/>
                </a:solidFill>
                <a:latin typeface="Arial"/>
              </a:rPr>
              <a:t>Біологія 8 клас. Урок №4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7" name="Picture 3" descr=""/>
          <p:cNvPicPr/>
          <p:nvPr/>
        </p:nvPicPr>
        <p:blipFill>
          <a:blip r:embed="rId1"/>
          <a:stretch/>
        </p:blipFill>
        <p:spPr>
          <a:xfrm>
            <a:off x="5000760" y="142920"/>
            <a:ext cx="3948120" cy="5357880"/>
          </a:xfrm>
          <a:prstGeom prst="rect">
            <a:avLst/>
          </a:prstGeom>
          <a:ln w="0">
            <a:noFill/>
          </a:ln>
        </p:spPr>
      </p:pic>
      <p:pic>
        <p:nvPicPr>
          <p:cNvPr id="488" name="Picture 4" descr="C:\Documents and Settings\zhenya\Рабочий стол\Биология 8 класс\04\скелет-5.jpg"/>
          <p:cNvPicPr/>
          <p:nvPr/>
        </p:nvPicPr>
        <p:blipFill>
          <a:blip r:embed="rId2"/>
          <a:stretch/>
        </p:blipFill>
        <p:spPr>
          <a:xfrm>
            <a:off x="142920" y="142920"/>
            <a:ext cx="4643280" cy="6491160"/>
          </a:xfrm>
          <a:prstGeom prst="rect">
            <a:avLst/>
          </a:prstGeom>
          <a:ln w="0">
            <a:noFill/>
          </a:ln>
        </p:spPr>
      </p:pic>
      <p:sp>
        <p:nvSpPr>
          <p:cNvPr id="489" name="TextBox 6"/>
          <p:cNvSpPr/>
          <p:nvPr/>
        </p:nvSpPr>
        <p:spPr>
          <a:xfrm>
            <a:off x="5000760" y="5643720"/>
            <a:ext cx="3929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ff"/>
                </a:solidFill>
                <a:latin typeface="Arial Black"/>
              </a:rPr>
              <a:t>Опорно-рухова система люди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0" name="Picture 2" descr=""/>
          <p:cNvPicPr/>
          <p:nvPr/>
        </p:nvPicPr>
        <p:blipFill>
          <a:blip r:embed="rId1"/>
          <a:stretch/>
        </p:blipFill>
        <p:spPr>
          <a:xfrm>
            <a:off x="142920" y="142920"/>
            <a:ext cx="4286160" cy="2714760"/>
          </a:xfrm>
          <a:prstGeom prst="rect">
            <a:avLst/>
          </a:prstGeom>
          <a:ln w="0">
            <a:noFill/>
          </a:ln>
        </p:spPr>
      </p:pic>
      <p:pic>
        <p:nvPicPr>
          <p:cNvPr id="491" name="Picture 3" descr=""/>
          <p:cNvPicPr/>
          <p:nvPr/>
        </p:nvPicPr>
        <p:blipFill>
          <a:blip r:embed="rId2"/>
          <a:stretch/>
        </p:blipFill>
        <p:spPr>
          <a:xfrm>
            <a:off x="4714920" y="142920"/>
            <a:ext cx="4267080" cy="2786040"/>
          </a:xfrm>
          <a:prstGeom prst="rect">
            <a:avLst/>
          </a:prstGeom>
          <a:ln w="0">
            <a:noFill/>
          </a:ln>
        </p:spPr>
      </p:pic>
      <p:pic>
        <p:nvPicPr>
          <p:cNvPr id="492" name="Picture 4" descr=""/>
          <p:cNvPicPr/>
          <p:nvPr/>
        </p:nvPicPr>
        <p:blipFill>
          <a:blip r:embed="rId3"/>
          <a:stretch/>
        </p:blipFill>
        <p:spPr>
          <a:xfrm>
            <a:off x="4859280" y="3429000"/>
            <a:ext cx="3591000" cy="2602080"/>
          </a:xfrm>
          <a:prstGeom prst="rect">
            <a:avLst/>
          </a:prstGeom>
          <a:ln w="0">
            <a:noFill/>
          </a:ln>
        </p:spPr>
      </p:pic>
      <p:pic>
        <p:nvPicPr>
          <p:cNvPr id="493" name="Picture 5" descr=""/>
          <p:cNvPicPr/>
          <p:nvPr/>
        </p:nvPicPr>
        <p:blipFill>
          <a:blip r:embed="rId4"/>
          <a:stretch/>
        </p:blipFill>
        <p:spPr>
          <a:xfrm>
            <a:off x="900000" y="3429000"/>
            <a:ext cx="3565800" cy="2556000"/>
          </a:xfrm>
          <a:prstGeom prst="rect">
            <a:avLst/>
          </a:prstGeom>
          <a:ln w="0">
            <a:noFill/>
          </a:ln>
        </p:spPr>
      </p:pic>
      <p:sp>
        <p:nvSpPr>
          <p:cNvPr id="494" name="TextBox 7"/>
          <p:cNvSpPr/>
          <p:nvPr/>
        </p:nvSpPr>
        <p:spPr>
          <a:xfrm>
            <a:off x="285840" y="3000240"/>
            <a:ext cx="864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ff"/>
                </a:solidFill>
                <a:latin typeface="Arial Black"/>
              </a:rPr>
              <a:t>Покриви тіла твари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 Box 8"/>
          <p:cNvSpPr/>
          <p:nvPr/>
        </p:nvSpPr>
        <p:spPr>
          <a:xfrm>
            <a:off x="755640" y="6165720"/>
            <a:ext cx="273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0000"/>
                </a:solidFill>
                <a:latin typeface="Arial"/>
              </a:rPr>
              <a:t>Завдання.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Розглянути покриви тіла твари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ИСНОВКИ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323640" y="4508280"/>
            <a:ext cx="786924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2332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2332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2332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2332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2332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сновні системи органів тварин: опорно-рухова, травна, дихальна, кровоносна, видільна, нервова, ендокринна, статев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Rectangle 4"/>
          <p:cNvSpPr/>
          <p:nvPr/>
        </p:nvSpPr>
        <p:spPr>
          <a:xfrm>
            <a:off x="684360" y="1413000"/>
            <a:ext cx="7848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Органел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— постійна структура, що входить до складу клітини і забезпечує ряд процесів її життєдіяльності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Rectangle 5"/>
          <p:cNvSpPr/>
          <p:nvPr/>
        </p:nvSpPr>
        <p:spPr>
          <a:xfrm>
            <a:off x="611280" y="2997360"/>
            <a:ext cx="7416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Орган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— частина багатоклітинного організму, яка має характерну будову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і розташована в певному місці та виконує специфічні функції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Завдання для самоконтролю: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ТЕСТ-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Основні системи органів тварин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а) травна, дихальна, кровоносна, видільна, нервова, статева, газообмін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б) травна, дихальна, видільна,нервова, статева, опорно-рухова, слинна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в) ендокрінна, видільна, нервова, статева, дихальна, травна, газообмінна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г) опорно-рухова, травна, дихальна, кровоносна, видільна, ендокрінна, статева,  нервов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2" name="Лента лицом вниз 2" descr=""/>
          <p:cNvPicPr/>
          <p:nvPr/>
        </p:nvPicPr>
        <p:blipFill>
          <a:blip r:embed="rId1"/>
          <a:stretch/>
        </p:blipFill>
        <p:spPr>
          <a:xfrm>
            <a:off x="304920" y="890640"/>
            <a:ext cx="8607240" cy="2193840"/>
          </a:xfrm>
          <a:prstGeom prst="rect">
            <a:avLst/>
          </a:prstGeom>
          <a:ln w="0">
            <a:noFill/>
          </a:ln>
        </p:spPr>
      </p:pic>
      <p:sp>
        <p:nvSpPr>
          <p:cNvPr id="503" name="Улыбающееся лицо 3"/>
          <p:cNvSpPr/>
          <p:nvPr/>
        </p:nvSpPr>
        <p:spPr>
          <a:xfrm>
            <a:off x="3059280" y="3573360"/>
            <a:ext cx="2881080" cy="2232000"/>
          </a:xfrm>
          <a:prstGeom prst="smileyFace">
            <a:avLst>
              <a:gd name="adj" fmla="val 928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214200" y="499680"/>
            <a:ext cx="8715600" cy="607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 Black"/>
              </a:rPr>
              <a:t>Обмін речовин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— сукупність процесів надходження речовин в організм, їх хімічних і фізичних перетворень у ньому, а також виведення назовні продуктів обміну.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79280" y="115920"/>
            <a:ext cx="8715600" cy="192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 Black"/>
              </a:rPr>
              <a:t>Органела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— постійна структура, що входить до складу клітини і забезпечує ряд процесів її життєдіяльності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6" name="Picture 3" descr="C:\Documents and Settings\zhenya\Рабочий стол\Биология 8 класс\01\клетка животного под микроскопом.png"/>
          <p:cNvPicPr/>
          <p:nvPr/>
        </p:nvPicPr>
        <p:blipFill>
          <a:blip r:embed="rId1"/>
          <a:stretch/>
        </p:blipFill>
        <p:spPr>
          <a:xfrm>
            <a:off x="2124000" y="1773360"/>
            <a:ext cx="6488280" cy="3854160"/>
          </a:xfrm>
          <a:prstGeom prst="rect">
            <a:avLst/>
          </a:prstGeom>
          <a:ln w="0">
            <a:noFill/>
          </a:ln>
        </p:spPr>
      </p:pic>
      <p:sp>
        <p:nvSpPr>
          <p:cNvPr id="457" name="Text Box 5"/>
          <p:cNvSpPr/>
          <p:nvPr/>
        </p:nvSpPr>
        <p:spPr>
          <a:xfrm>
            <a:off x="519120" y="5897520"/>
            <a:ext cx="246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 Box 6"/>
          <p:cNvSpPr/>
          <p:nvPr/>
        </p:nvSpPr>
        <p:spPr>
          <a:xfrm>
            <a:off x="179280" y="5445000"/>
            <a:ext cx="21607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0000"/>
                </a:solidFill>
                <a:latin typeface="Arial"/>
              </a:rPr>
              <a:t>Завданн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Розглянути органел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2642760" y="142920"/>
            <a:ext cx="6357960" cy="2643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 Black"/>
              </a:rPr>
              <a:t>Орган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— частина багатоклітинного організму, яка має характерну будову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і розташована в певному місці та виконує специфічні функції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0" name="Picture 2" descr=""/>
          <p:cNvPicPr/>
          <p:nvPr/>
        </p:nvPicPr>
        <p:blipFill>
          <a:blip r:embed="rId1"/>
          <a:stretch/>
        </p:blipFill>
        <p:spPr>
          <a:xfrm>
            <a:off x="4572000" y="2924280"/>
            <a:ext cx="4000680" cy="3514680"/>
          </a:xfrm>
          <a:prstGeom prst="rect">
            <a:avLst/>
          </a:prstGeom>
          <a:ln w="0">
            <a:noFill/>
          </a:ln>
        </p:spPr>
      </p:pic>
      <p:sp>
        <p:nvSpPr>
          <p:cNvPr id="461" name="Text Box 5"/>
          <p:cNvSpPr/>
          <p:nvPr/>
        </p:nvSpPr>
        <p:spPr>
          <a:xfrm>
            <a:off x="1023840" y="3160800"/>
            <a:ext cx="3260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6"/>
          <p:cNvSpPr/>
          <p:nvPr/>
        </p:nvSpPr>
        <p:spPr>
          <a:xfrm>
            <a:off x="826920" y="4292640"/>
            <a:ext cx="280836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0000"/>
                </a:solidFill>
                <a:latin typeface="Arial"/>
              </a:rPr>
              <a:t>Завданн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Ознайомитись з органом, як частиною багатоклітинного організм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10920" y="188640"/>
            <a:ext cx="4321080" cy="410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 Black"/>
              </a:rPr>
              <a:t>Система органів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— послідовність узаємопов’язаних органів, які разом забезпечують певні процеси життєдіяльності організму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4" name="Picture 2" descr=""/>
          <p:cNvPicPr/>
          <p:nvPr/>
        </p:nvPicPr>
        <p:blipFill>
          <a:blip r:embed="rId1"/>
          <a:stretch/>
        </p:blipFill>
        <p:spPr>
          <a:xfrm>
            <a:off x="5508720" y="765000"/>
            <a:ext cx="3294000" cy="5357880"/>
          </a:xfrm>
          <a:prstGeom prst="rect">
            <a:avLst/>
          </a:prstGeom>
          <a:ln w="0">
            <a:noFill/>
          </a:ln>
        </p:spPr>
      </p:pic>
      <p:sp>
        <p:nvSpPr>
          <p:cNvPr id="465" name="Line 5"/>
          <p:cNvSpPr/>
          <p:nvPr/>
        </p:nvSpPr>
        <p:spPr>
          <a:xfrm flipH="1">
            <a:off x="6443280" y="1773360"/>
            <a:ext cx="28908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Line 6"/>
          <p:cNvSpPr/>
          <p:nvPr/>
        </p:nvSpPr>
        <p:spPr>
          <a:xfrm flipH="1">
            <a:off x="5940000" y="184464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Line 7"/>
          <p:cNvSpPr/>
          <p:nvPr/>
        </p:nvSpPr>
        <p:spPr>
          <a:xfrm flipV="1">
            <a:off x="7740720" y="1989000"/>
            <a:ext cx="57636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9"/>
          <p:cNvSpPr/>
          <p:nvPr/>
        </p:nvSpPr>
        <p:spPr>
          <a:xfrm>
            <a:off x="5796000" y="177336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10"/>
          <p:cNvSpPr/>
          <p:nvPr/>
        </p:nvSpPr>
        <p:spPr>
          <a:xfrm>
            <a:off x="8317080" y="1844640"/>
            <a:ext cx="183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2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 Box 11"/>
          <p:cNvSpPr/>
          <p:nvPr/>
        </p:nvSpPr>
        <p:spPr>
          <a:xfrm>
            <a:off x="8188200" y="177336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 Box 14"/>
          <p:cNvSpPr/>
          <p:nvPr/>
        </p:nvSpPr>
        <p:spPr>
          <a:xfrm>
            <a:off x="8317080" y="190656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15"/>
          <p:cNvSpPr/>
          <p:nvPr/>
        </p:nvSpPr>
        <p:spPr>
          <a:xfrm>
            <a:off x="8028000" y="39225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 Box 16"/>
          <p:cNvSpPr/>
          <p:nvPr/>
        </p:nvSpPr>
        <p:spPr>
          <a:xfrm>
            <a:off x="5940360" y="27702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 Box 17"/>
          <p:cNvSpPr/>
          <p:nvPr/>
        </p:nvSpPr>
        <p:spPr>
          <a:xfrm>
            <a:off x="539640" y="4724280"/>
            <a:ext cx="36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Розгляньте систему органів травлення, знайдіть: 1-печінку, 2- шлунок, 3-кишечник, 4- підшлункову залоз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 Box 18"/>
          <p:cNvSpPr/>
          <p:nvPr/>
        </p:nvSpPr>
        <p:spPr>
          <a:xfrm>
            <a:off x="755640" y="443700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0000"/>
                </a:solidFill>
                <a:latin typeface="Arial"/>
              </a:rPr>
              <a:t>Завданн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14200" y="356760"/>
            <a:ext cx="8715600" cy="628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ff"/>
                </a:solidFill>
                <a:latin typeface="Arial Black"/>
              </a:rPr>
              <a:t>Основні системи органів тварин: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опорно-рухова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травна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дихальна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кровоносна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видільна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нервова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ендокринна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статева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Text Box 4"/>
          <p:cNvSpPr/>
          <p:nvPr/>
        </p:nvSpPr>
        <p:spPr>
          <a:xfrm>
            <a:off x="468360" y="4724280"/>
            <a:ext cx="201600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0000"/>
                </a:solidFill>
                <a:latin typeface="Arial"/>
              </a:rPr>
              <a:t>Завданн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Ознайомитись з основними системами органів твари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42920" y="142920"/>
            <a:ext cx="8786880" cy="3571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 Black"/>
              </a:rPr>
              <a:t>Порожнина тіла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— заповнений рідиною простір між органами всередині тіла тварини.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озрізняють первинну, вторинну і змішану порожнини тіла. Первинна порожнина представлена проміжками між органами, вторинна — вислана одношаровим епітелієм, а змішана утворюється внаслідок злиття первинної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і вторинної порожнин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9" name="Picture 3" descr="C:\Documents and Settings\zhenya\Рабочий стол\Биология 8 класс\04\порожнини.gif"/>
          <p:cNvPicPr/>
          <p:nvPr/>
        </p:nvPicPr>
        <p:blipFill>
          <a:blip r:embed="rId1"/>
          <a:stretch/>
        </p:blipFill>
        <p:spPr>
          <a:xfrm>
            <a:off x="3929040" y="2928960"/>
            <a:ext cx="5024520" cy="3714840"/>
          </a:xfrm>
          <a:prstGeom prst="rect">
            <a:avLst/>
          </a:prstGeom>
          <a:ln w="0">
            <a:noFill/>
          </a:ln>
        </p:spPr>
      </p:pic>
      <p:sp>
        <p:nvSpPr>
          <p:cNvPr id="480" name="Text Box 5"/>
          <p:cNvSpPr/>
          <p:nvPr/>
        </p:nvSpPr>
        <p:spPr>
          <a:xfrm>
            <a:off x="324000" y="4425840"/>
            <a:ext cx="287964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0000"/>
                </a:solidFill>
                <a:latin typeface="Arial"/>
              </a:rPr>
              <a:t>Завданн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Знайти на малюнку первинну, вторинну і змішану порожнини ті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1" name=""/>
          <p:cNvGraphicFramePr/>
          <p:nvPr/>
        </p:nvGraphicFramePr>
        <p:xfrm>
          <a:off x="214200" y="142920"/>
          <a:ext cx="8715600" cy="6568920"/>
        </p:xfrm>
        <a:graphic>
          <a:graphicData uri="http://schemas.openxmlformats.org/drawingml/2006/table">
            <a:tbl>
              <a:tblPr/>
              <a:tblGrid>
                <a:gridCol w="1427400"/>
                <a:gridCol w="4262400"/>
                <a:gridCol w="3025800"/>
              </a:tblGrid>
              <a:tr h="1012680">
                <a:tc>
                  <a:txBody>
                    <a:bodyPr lIns="7920" rIns="7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Систем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органі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Особливості будов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Функції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21160">
                <a:tc>
                  <a:txBody>
                    <a:bodyPr lIns="7920" rIns="7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порно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ухов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кладається зі скелета і скелетни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’язів, які до нього прикріплені. Ске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лет може складатися з твердої речовин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(хітин, кісткова чи хрящова тканина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бо рідини (гідростатичний скелет круг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лих червів). Розрізняють зовнішній (на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иклад, у членистоногих) і внутрішні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(наприклад, у хордових) скел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Забезпечує рух тіла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пору і захист вну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рішніх органі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5080">
                <a:tc>
                  <a:txBody>
                    <a:bodyPr lIns="7920" rIns="7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кри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и тіл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ожуть бути жорсткими або м’яким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і легкопроникними для газів і рідин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едставлені кутикулою або шкірою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ожуть утворювати багато похідних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аких як луски, пір’я, шерсть тощо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 тварин без жорсткого скелета м’яз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азом із покривами тіла можуть утво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ювати шкірно-м’язовий мішо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Захищають організ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ід механічних по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шкоджень та про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икнення паразиті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і патогенних мікро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рганізмів. Можу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ідігравати важлив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оль у диханні й ви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іленн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2" name="Picture 2" descr=""/>
          <p:cNvPicPr/>
          <p:nvPr/>
        </p:nvPicPr>
        <p:blipFill>
          <a:blip r:embed="rId1"/>
          <a:stretch/>
        </p:blipFill>
        <p:spPr>
          <a:xfrm>
            <a:off x="4214880" y="214200"/>
            <a:ext cx="4681440" cy="3071880"/>
          </a:xfrm>
          <a:prstGeom prst="rect">
            <a:avLst/>
          </a:prstGeom>
          <a:ln w="0">
            <a:noFill/>
          </a:ln>
        </p:spPr>
      </p:pic>
      <p:pic>
        <p:nvPicPr>
          <p:cNvPr id="483" name="Picture 3" descr=""/>
          <p:cNvPicPr/>
          <p:nvPr/>
        </p:nvPicPr>
        <p:blipFill>
          <a:blip r:embed="rId2"/>
          <a:stretch/>
        </p:blipFill>
        <p:spPr>
          <a:xfrm>
            <a:off x="4214880" y="3357720"/>
            <a:ext cx="4714920" cy="328104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4" descr=""/>
          <p:cNvPicPr/>
          <p:nvPr/>
        </p:nvPicPr>
        <p:blipFill>
          <a:blip r:embed="rId3"/>
          <a:stretch/>
        </p:blipFill>
        <p:spPr>
          <a:xfrm>
            <a:off x="857160" y="189000"/>
            <a:ext cx="3179880" cy="4176720"/>
          </a:xfrm>
          <a:prstGeom prst="rect">
            <a:avLst/>
          </a:prstGeom>
          <a:ln w="0">
            <a:noFill/>
          </a:ln>
        </p:spPr>
      </p:pic>
      <p:sp>
        <p:nvSpPr>
          <p:cNvPr id="485" name="TextBox 6"/>
          <p:cNvSpPr/>
          <p:nvPr/>
        </p:nvSpPr>
        <p:spPr>
          <a:xfrm>
            <a:off x="179280" y="4365720"/>
            <a:ext cx="3714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ff"/>
                </a:solidFill>
                <a:latin typeface="Arial Black"/>
              </a:rPr>
              <a:t>Опорно-рухова систе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 Box 7"/>
          <p:cNvSpPr/>
          <p:nvPr/>
        </p:nvSpPr>
        <p:spPr>
          <a:xfrm>
            <a:off x="663480" y="5465880"/>
            <a:ext cx="239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0000"/>
                </a:solidFill>
                <a:latin typeface="Arial"/>
              </a:rPr>
              <a:t>Завданн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Розглянути опорно-рухову систему твари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udmila</cp:lastModifiedBy>
  <dcterms:modified xsi:type="dcterms:W3CDTF">2019-09-18T16:12:36Z</dcterms:modified>
  <cp:revision>4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PT_Export_sFileName">
    <vt:lpwstr>D:\Биология 8 класс\БИОЛОГИЯ 8 КЛАСС НА ДИСК\Урок 04 Органы и системы органов животных\P-Урок 04 Органы и системы органов животных.Ppt</vt:lpwstr>
  </property>
</Properties>
</file>