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7A84-B476-49B9-96F2-9B49F83E28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FB9-D4DD-4D1B-A6AA-1D4E1FFF3D98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В первой таблице значение у появляется при нажатии на соответствующее значение х. Во второй таблице значения у появляются одновременно при нажатии на «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6BE-4C55-4F0E-A8D9-DFBEAFB8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727-9DF3-492B-967F-860F0296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BCA-C8C2-425D-8BF4-F38F83A8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4670-9801-41FE-B851-9E90743E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7450-E1D7-4E1C-A675-2FB22E68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C182-A098-4F2E-8FDC-1BD1CED2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546-759C-490E-A699-80DED592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4EC1-DA82-4B61-8CF7-BA79D28B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EB03-2B38-4468-92F4-2C2717B3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E47-D3F9-4FF8-A198-EE596AB8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370D-D8BF-4102-91CE-A6134801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5B1-CC74-4344-8210-F0C453CD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12C8-0152-42E0-B4B1-453B20A1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A776-AA2C-4ACA-BDB9-58F9D94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5BD8-F2D0-4C00-B098-00C4FF03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009C-8D61-4FC4-B338-75DA275B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A7E-5263-40C4-9525-536C3F8E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71826-C340-404C-97B5-2E863E883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59B9B-8872-49A1-9177-2AD93EB9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4FC6F-E6FC-474D-93C6-CB5A0DD8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3992-5A80-4C9D-8768-974038A2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30D3-FB91-4387-98CB-85FFFDE3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298-CE69-4B20-9769-46D631AB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3118D-3BEF-44A4-A04F-47D8C046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9547-C38A-4586-8AC2-77436846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B6AF-C538-48A4-8F7C-810FC26E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60E0D-A9E8-4123-B8B9-76EB649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3FA7F-ECD5-4ADA-98E6-BB447F2A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4B6DD-1094-441E-B77A-C352C7C0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85F4-4567-4AE7-B007-29002D9D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B724-308A-4C2C-A204-34D45093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BAC-1D30-4AE8-B0D3-95F57B5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34B6-98F8-471F-B9C2-624B236F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65F8-328F-4AFD-B407-49822FF2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2EB-A2F8-4BFF-8FB2-BBAB7D08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C30-5CEC-43CE-9E7A-602000C7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3215-5979-4A2A-9BF8-6D0C97343D32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5DC7-64A1-456A-9343-07F9E0CA98C4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F5F5-2BB1-4CCD-8A72-949F34BD989B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я у =</a:t>
            </a:r>
            <a:r>
              <a:rPr b="1" i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х</a:t>
            </a:r>
            <a:r>
              <a:rPr b="1" lang="uk-UA" sz="8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7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4140360" y="189000"/>
          <a:ext cx="467964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9000"/>
                    <a:ext cx="467964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90"/>
          <p:cNvSpPr/>
          <p:nvPr/>
        </p:nvSpPr>
        <p:spPr>
          <a:xfrm>
            <a:off x="637236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173"/>
          <p:cNvSpPr/>
          <p:nvPr/>
        </p:nvSpPr>
        <p:spPr>
          <a:xfrm>
            <a:off x="3995640" y="6021360"/>
            <a:ext cx="4680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Freeform 178"/>
          <p:cNvSpPr/>
          <p:nvPr/>
        </p:nvSpPr>
        <p:spPr>
          <a:xfrm>
            <a:off x="6443640" y="189000"/>
            <a:ext cx="1440" cy="583092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0012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визначення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(f):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 – будь-яке числ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значень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(f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значення  у  ≥ 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6836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Управляющая кнопка: далее 9">
            <a:hlinkClick r:id="rId3" action="ppaction://hlinksldjump"/>
          </p:cNvPr>
          <p:cNvSpPr/>
          <p:nvPr/>
        </p:nvSpPr>
        <p:spPr>
          <a:xfrm>
            <a:off x="133200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 txBox="1"/>
          <p:nvPr/>
        </p:nvSpPr>
        <p:spPr>
          <a:xfrm>
            <a:off x="4932360" y="2349000"/>
            <a:ext cx="3960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= 0, то у =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проходить через початок координат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Полилиния 6"/>
          <p:cNvSpPr/>
          <p:nvPr/>
        </p:nvSpPr>
        <p:spPr>
          <a:xfrm>
            <a:off x="755640" y="404640"/>
            <a:ext cx="3384720" cy="55454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 txBox="1"/>
          <p:nvPr/>
        </p:nvSpPr>
        <p:spPr>
          <a:xfrm>
            <a:off x="5003280" y="2491920"/>
            <a:ext cx="3961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≠ 0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то у &gt;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точки графі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ії, крім точ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0; 0), розміщен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ще осі х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Line 173"/>
          <p:cNvSpPr/>
          <p:nvPr/>
        </p:nvSpPr>
        <p:spPr>
          <a:xfrm>
            <a:off x="179280" y="602136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Line 173"/>
          <p:cNvSpPr/>
          <p:nvPr/>
        </p:nvSpPr>
        <p:spPr>
          <a:xfrm>
            <a:off x="2484360" y="6021360"/>
            <a:ext cx="2158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Freeform 178"/>
          <p:cNvSpPr/>
          <p:nvPr/>
        </p:nvSpPr>
        <p:spPr>
          <a:xfrm>
            <a:off x="2411280" y="620640"/>
            <a:ext cx="46080" cy="528156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250920" y="404640"/>
            <a:ext cx="4465440" cy="5545440"/>
          </a:xfrm>
          <a:prstGeom prst="rect">
            <a:avLst/>
          </a:prstGeom>
          <a:solidFill>
            <a:srgbClr val="fcdaa2">
              <a:alpha val="52000"/>
            </a:srgbClr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278880" y="83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1119960" y="83664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Управляющая кнопка: назад 12">
            <a:hlinkClick r:id="rId3" action="ppaction://hlinksldjump"/>
          </p:cNvPr>
          <p:cNvSpPr/>
          <p:nvPr/>
        </p:nvSpPr>
        <p:spPr>
          <a:xfrm>
            <a:off x="8317080" y="6093000"/>
            <a:ext cx="465120" cy="395280"/>
          </a:xfrm>
          <a:custGeom>
            <a:avLst/>
            <a:gdLst>
              <a:gd name="textAreaLeft" fmla="*/ 25560 w 465120"/>
              <a:gd name="textAreaRight" fmla="*/ 439560 w 4651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13" h="21600">
                <a:moveTo>
                  <a:pt x="0" y="0"/>
                </a:moveTo>
                <a:lnTo>
                  <a:pt x="25413" y="0"/>
                </a:lnTo>
                <a:lnTo>
                  <a:pt x="25413" y="21600"/>
                </a:lnTo>
                <a:lnTo>
                  <a:pt x="0" y="21600"/>
                </a:lnTo>
                <a:close/>
              </a:path>
              <a:path fill="lightenLess" w="25413" h="21600">
                <a:moveTo>
                  <a:pt x="0" y="0"/>
                </a:moveTo>
                <a:lnTo>
                  <a:pt x="25413" y="0"/>
                </a:lnTo>
                <a:lnTo>
                  <a:pt x="24013" y="1400"/>
                </a:lnTo>
                <a:lnTo>
                  <a:pt x="1400" y="1400"/>
                </a:lnTo>
                <a:close/>
              </a:path>
              <a:path fill="darken" w="25413" h="21600">
                <a:moveTo>
                  <a:pt x="25413" y="0"/>
                </a:moveTo>
                <a:lnTo>
                  <a:pt x="25413" y="21600"/>
                </a:lnTo>
                <a:lnTo>
                  <a:pt x="24013" y="20200"/>
                </a:lnTo>
                <a:lnTo>
                  <a:pt x="24013" y="1400"/>
                </a:lnTo>
                <a:close/>
              </a:path>
              <a:path fill="darkenLess" w="25413" h="21600">
                <a:moveTo>
                  <a:pt x="25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3" y="20200"/>
                </a:lnTo>
                <a:close/>
              </a:path>
              <a:path fill="lighten" w="25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3" h="21600">
                <a:moveTo>
                  <a:pt x="5700" y="10800"/>
                </a:moveTo>
                <a:lnTo>
                  <a:pt x="19713" y="3794"/>
                </a:lnTo>
                <a:lnTo>
                  <a:pt x="19713" y="17806"/>
                </a:lnTo>
                <a:close/>
              </a:path>
            </a:pathLst>
          </a:custGeom>
          <a:solidFill>
            <a:srgbClr val="fcdaa2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5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392436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 txBox="1"/>
          <p:nvPr/>
        </p:nvSpPr>
        <p:spPr>
          <a:xfrm>
            <a:off x="179280" y="1628640"/>
            <a:ext cx="388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тилежним значенням х відповідає одне й те саме значення 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симетричний відносно осі ордина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V="1">
            <a:off x="8101080" y="90756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 flipV="1">
            <a:off x="4643280" y="98100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13"/>
          <p:cNvSpPr/>
          <p:nvPr/>
        </p:nvSpPr>
        <p:spPr>
          <a:xfrm flipH="1">
            <a:off x="6372360" y="98100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11"/>
          <p:cNvSpPr/>
          <p:nvPr/>
        </p:nvSpPr>
        <p:spPr>
          <a:xfrm flipH="1">
            <a:off x="4642920" y="98100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4572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Овал 12"/>
          <p:cNvSpPr/>
          <p:nvPr/>
        </p:nvSpPr>
        <p:spPr>
          <a:xfrm>
            <a:off x="8028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304200" y="535788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(- х)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= х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при будь-якому 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82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4427640" y="333360"/>
          <a:ext cx="446544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4654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 txBox="1"/>
          <p:nvPr/>
        </p:nvSpPr>
        <p:spPr>
          <a:xfrm>
            <a:off x="214200" y="1428480"/>
            <a:ext cx="457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8a37"/>
                </a:solidFill>
                <a:latin typeface="Times New Roman"/>
                <a:ea typeface="Times New Roman"/>
              </a:rPr>
              <a:t>Геометричні  властивості  парабо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560" y="2786040"/>
            <a:ext cx="410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метрична відносно осі 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ісь розділяє параболу на дві частини: 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гілки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чка (0; 0) –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вершина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240" name="Прямая со стрелкой 99"/>
          <p:cNvCxnSpPr/>
          <p:nvPr/>
        </p:nvCxnSpPr>
        <p:spPr>
          <a:xfrm flipV="1">
            <a:off x="3492000" y="2636640"/>
            <a:ext cx="1872360" cy="151344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41" name="Прямая со стрелкой 104"/>
          <p:cNvCxnSpPr/>
          <p:nvPr/>
        </p:nvCxnSpPr>
        <p:spPr>
          <a:xfrm flipV="1">
            <a:off x="3492360" y="2707920"/>
            <a:ext cx="4393440" cy="144216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109"/>
          <p:cNvSpPr/>
          <p:nvPr/>
        </p:nvSpPr>
        <p:spPr>
          <a:xfrm>
            <a:off x="6659640" y="333360"/>
            <a:ext cx="0" cy="6191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Oval 183"/>
          <p:cNvSpPr/>
          <p:nvPr/>
        </p:nvSpPr>
        <p:spPr>
          <a:xfrm>
            <a:off x="6588000" y="5805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Скругленная прямоугольная выноска 12"/>
          <p:cNvSpPr/>
          <p:nvPr/>
        </p:nvSpPr>
        <p:spPr>
          <a:xfrm>
            <a:off x="7451640" y="5229360"/>
            <a:ext cx="1441440" cy="503280"/>
          </a:xfrm>
          <a:prstGeom prst="wedgeRoundRectCallout">
            <a:avLst>
              <a:gd name="adj1" fmla="val -103935"/>
              <a:gd name="adj2" fmla="val -204013"/>
              <a:gd name="adj3" fmla="val 16667"/>
            </a:avLst>
          </a:prstGeom>
          <a:noFill/>
          <a:ln w="31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6410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b05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99760" y="2286000"/>
            <a:ext cx="7000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є найбільше у світі – Прості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швидше?   – Розу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мудріше? – Час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приємніше всього? 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Досягнути бажан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uk-UA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00b050"/>
                </a:solidFill>
                <a:latin typeface="Times New Roman"/>
                <a:ea typeface="Leelawadee"/>
              </a:rPr>
              <a:t>Фале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95280" y="285264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191960"/>
                <a:gridCol w="895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0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0"/>
          <p:cNvSpPr/>
          <p:nvPr/>
        </p:nvSpPr>
        <p:spPr>
          <a:xfrm>
            <a:off x="250920" y="1285920"/>
            <a:ext cx="856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Заповніть таблицю значен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функції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y = x</a:t>
            </a:r>
            <a:r>
              <a:rPr b="1" i="1" lang="en-US" sz="4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3270b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472428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403280" y="3645000"/>
          <a:ext cx="7058160" cy="720720"/>
        </p:xfrm>
        <a:graphic>
          <a:graphicData uri="http://schemas.openxmlformats.org/drawingml/2006/table">
            <a:tbl>
              <a:tblPr/>
              <a:tblGrid>
                <a:gridCol w="865080"/>
                <a:gridCol w="1152720"/>
                <a:gridCol w="792000"/>
                <a:gridCol w="1224000"/>
                <a:gridCol w="935280"/>
                <a:gridCol w="1191960"/>
                <a:gridCol w="897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 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03280" y="5516640"/>
          <a:ext cx="7056360" cy="720720"/>
        </p:xfrm>
        <a:graphic>
          <a:graphicData uri="http://schemas.openxmlformats.org/drawingml/2006/table">
            <a:tbl>
              <a:tblPr/>
              <a:tblGrid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4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220464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будуйт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фік</a:t>
            </a: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ї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18160" cy="649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олилиния 6"/>
          <p:cNvSpPr/>
          <p:nvPr/>
        </p:nvSpPr>
        <p:spPr>
          <a:xfrm>
            <a:off x="4716360" y="404640"/>
            <a:ext cx="3527640" cy="56167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Овал 15"/>
          <p:cNvSpPr/>
          <p:nvPr/>
        </p:nvSpPr>
        <p:spPr>
          <a:xfrm>
            <a:off x="586728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Овал 16"/>
          <p:cNvSpPr/>
          <p:nvPr/>
        </p:nvSpPr>
        <p:spPr>
          <a:xfrm>
            <a:off x="694836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Овал 17"/>
          <p:cNvSpPr/>
          <p:nvPr/>
        </p:nvSpPr>
        <p:spPr>
          <a:xfrm>
            <a:off x="536400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745164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478800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810108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665964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615636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Овал 23"/>
          <p:cNvSpPr/>
          <p:nvPr/>
        </p:nvSpPr>
        <p:spPr>
          <a:xfrm>
            <a:off x="6443640" y="595008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Овал 25"/>
          <p:cNvSpPr/>
          <p:nvPr/>
        </p:nvSpPr>
        <p:spPr>
          <a:xfrm>
            <a:off x="5076720" y="263700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Овал 27"/>
          <p:cNvSpPr/>
          <p:nvPr/>
        </p:nvSpPr>
        <p:spPr>
          <a:xfrm>
            <a:off x="7740720" y="263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Овал 28"/>
          <p:cNvSpPr/>
          <p:nvPr/>
        </p:nvSpPr>
        <p:spPr>
          <a:xfrm>
            <a:off x="7236000" y="4724280"/>
            <a:ext cx="7128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Овал 29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Рисунок 7" descr="Penc"/>
          <p:cNvPicPr/>
          <p:nvPr/>
        </p:nvPicPr>
        <p:blipFill>
          <a:blip r:embed="rId2"/>
          <a:stretch/>
        </p:blipFill>
        <p:spPr>
          <a:xfrm>
            <a:off x="611280" y="5075280"/>
            <a:ext cx="108108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Rectangle 184"/>
          <p:cNvSpPr/>
          <p:nvPr/>
        </p:nvSpPr>
        <p:spPr>
          <a:xfrm rot="17047200">
            <a:off x="6662520" y="3466800"/>
            <a:ext cx="264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233208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 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Древньогрецький математик Аполлоній Пергський за 200 років до нашої ери, розрізавши конус, лінію зрізу назвав </a:t>
            </a:r>
            <a:r>
              <a:rPr b="1" i="1" lang="uk-UA" sz="2400" spc="-1" strike="noStrike">
                <a:solidFill>
                  <a:srgbClr val="1a8a37"/>
                </a:solidFill>
                <a:latin typeface="Times New Roman"/>
              </a:rPr>
              <a:t>параболою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7" descr=""/>
          <p:cNvPicPr/>
          <p:nvPr/>
        </p:nvPicPr>
        <p:blipFill>
          <a:blip r:embed="rId2"/>
          <a:stretch/>
        </p:blipFill>
        <p:spPr>
          <a:xfrm>
            <a:off x="1663560" y="817560"/>
            <a:ext cx="65167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images.jpeg"/>
          <p:cNvPicPr/>
          <p:nvPr/>
        </p:nvPicPr>
        <p:blipFill>
          <a:blip r:embed="rId1"/>
          <a:stretch/>
        </p:blipFill>
        <p:spPr>
          <a:xfrm>
            <a:off x="357120" y="2143080"/>
            <a:ext cx="6276960" cy="4357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285840" y="642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рирода формує свої закони мовою математики.                               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алілей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6572160" y="20001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Ніколи не замислювалися, але з дитинства знайома нам веселка, теж має форму парабол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Є в математиці щось таке, що викликає людське захоплення</a:t>
            </a:r>
            <a:r>
              <a:rPr b="1" i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.                                                   Ф. Хаусдорф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1" name="Picture 2" descr="F:\images.jpeg"/>
          <p:cNvPicPr/>
          <p:nvPr/>
        </p:nvPicPr>
        <p:blipFill>
          <a:blip r:embed="rId1"/>
          <a:stretch/>
        </p:blipFill>
        <p:spPr>
          <a:xfrm>
            <a:off x="4143240" y="3786120"/>
            <a:ext cx="4714920" cy="2640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F:\images.jpeg"/>
          <p:cNvPicPr/>
          <p:nvPr/>
        </p:nvPicPr>
        <p:blipFill>
          <a:blip r:embed="rId2"/>
          <a:stretch/>
        </p:blipFill>
        <p:spPr>
          <a:xfrm>
            <a:off x="214200" y="2071800"/>
            <a:ext cx="3909960" cy="29289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6160" y="2500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Траєкторія стрибка дельфіна – теж парабола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5" name="Picture 10" descr="F:\images.jpeg"/>
          <p:cNvPicPr/>
          <p:nvPr/>
        </p:nvPicPr>
        <p:blipFill>
          <a:blip r:embed="rId1"/>
          <a:stretch/>
        </p:blipFill>
        <p:spPr>
          <a:xfrm>
            <a:off x="4786200" y="1357200"/>
            <a:ext cx="4143600" cy="238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F:\default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F:\images.jpeg"/>
          <p:cNvPicPr/>
          <p:nvPr/>
        </p:nvPicPr>
        <p:blipFill>
          <a:blip r:embed="rId3"/>
          <a:stretch/>
        </p:blipFill>
        <p:spPr>
          <a:xfrm>
            <a:off x="357120" y="1357200"/>
            <a:ext cx="4143600" cy="232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F:\images.jpeg"/>
          <p:cNvPicPr/>
          <p:nvPr/>
        </p:nvPicPr>
        <p:blipFill>
          <a:blip r:embed="rId4"/>
          <a:stretch/>
        </p:blipFill>
        <p:spPr>
          <a:xfrm>
            <a:off x="214200" y="3936960"/>
            <a:ext cx="40719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5"/>
          <a:stretch/>
        </p:blipFill>
        <p:spPr>
          <a:xfrm>
            <a:off x="828720" y="298440"/>
            <a:ext cx="79185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357192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ластивості функції</a:t>
            </a:r>
            <a:br>
              <a:rPr sz="6600"/>
            </a:br>
            <a:r>
              <a:rPr b="1" i="1" lang="en-US" sz="8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8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br>
              <a:rPr sz="6600"/>
            </a:br>
            <a:br>
              <a:rPr sz="6600"/>
            </a:b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1" name="Рисунок 7" descr="j0410483"/>
          <p:cNvPicPr/>
          <p:nvPr/>
        </p:nvPicPr>
        <p:blipFill>
          <a:blip r:embed="rId1"/>
          <a:stretch/>
        </p:blipFill>
        <p:spPr>
          <a:xfrm>
            <a:off x="755640" y="4703760"/>
            <a:ext cx="1728720" cy="14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9:52:06Z</dcterms:created>
  <dc:creator>Admin</dc:creator>
  <dc:description/>
  <dc:language>en-US</dc:language>
  <cp:lastModifiedBy>User</cp:lastModifiedBy>
  <dcterms:modified xsi:type="dcterms:W3CDTF">2020-02-05T22:40:43Z</dcterms:modified>
  <cp:revision>104</cp:revision>
  <dc:subject/>
  <dc:title>Квадратичная функция</dc:title>
</cp:coreProperties>
</file>