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4D0F-8300-4768-826E-284789D4E7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5E3B-FB0F-4278-A9D1-C9D4F96A49D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тся триггер. В первой таблице значение у появляется при нажатии на соответствующее значение х. Во второй таблице значения у появляются одновременно при нажатии на «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B1C-9BF9-428F-961F-EAC2BD7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D90-4D65-42AD-BE6E-69C21B24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BC3-DA3E-4DDA-A67E-844979B5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DBF-B768-46E9-ABDB-5A1AA184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A630-9EC0-41BD-BD96-F6F6CF59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7EC4-05EC-4BE1-B8E9-67BC1F94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1111-FB25-43EB-BB31-C0B9B712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BF00-99BF-4E3B-B15B-72C33A4D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7CFA-3368-4331-9040-36525DEF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3C88-A041-44EA-B96A-A0AE7DCC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1A55-C23C-4B36-8535-5E36A99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FF2-EA26-45EE-970D-D7557EA4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C5B-80C8-4B10-8FC6-D8D151F0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346-AEAD-4357-866C-98BEB3B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481B-6978-45C7-88EB-3EA22E70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425-E306-4EBB-9D0C-2E9AEA8C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FF01-9757-4F2A-9901-608AE13B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A892-181D-454F-BF52-E014D3B3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5599-2E85-4BB7-AC40-CF84FD9A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0E9A-9456-48BF-BCEA-FB0CF6A1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509B-CC7E-4713-AFB9-4AACF4FF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EEF6-D65A-4BB0-BA8A-0526CC9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B73-F92A-437E-9958-D210A15E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099B-A437-4AFC-B93D-779067E7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7B5A-AEF3-4972-AD34-7C41CC17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0576-1D98-412A-980E-5B131B6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272D-C0F4-4282-B563-E87FB733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4033-CB7F-4704-BDD4-EB40DCBF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AFA9-AA8E-4247-A94A-C8E6789A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1A1C-8185-4566-83D4-DA9A4714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4F9-5B0B-4F1F-9E6A-13DA391A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9E0-AF22-41E1-A83E-A7F75237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D12-3BE2-46A4-837A-4C8B244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BBD-D543-4A52-A916-C44CCA00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7A6-DADC-4ACF-BBAF-F49AD4B6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93B-0221-46E7-99BC-F394F3EA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FADB-522A-4764-B146-E8F69C0E3CCF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4B02-E96A-42D0-BA60-1D3F3862020B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99E9-C6C5-4BA4-8B45-586F34616D40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ункція у =</a:t>
            </a:r>
            <a:r>
              <a:rPr b="1" i="1" lang="uk-UA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х</a:t>
            </a:r>
            <a:r>
              <a:rPr b="1" lang="uk-UA" sz="8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72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7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4140360" y="189000"/>
          <a:ext cx="4679640" cy="64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9000"/>
                    <a:ext cx="467964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Oval 90"/>
          <p:cNvSpPr/>
          <p:nvPr/>
        </p:nvSpPr>
        <p:spPr>
          <a:xfrm>
            <a:off x="637236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Line 173"/>
          <p:cNvSpPr/>
          <p:nvPr/>
        </p:nvSpPr>
        <p:spPr>
          <a:xfrm>
            <a:off x="3995640" y="6021360"/>
            <a:ext cx="4680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Freeform 178"/>
          <p:cNvSpPr/>
          <p:nvPr/>
        </p:nvSpPr>
        <p:spPr>
          <a:xfrm>
            <a:off x="6443640" y="189000"/>
            <a:ext cx="1440" cy="5830920"/>
          </a:xfrm>
          <a:prstGeom prst="pie">
            <a:avLst/>
          </a:pr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0012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ласть визначення функції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(f):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 – будь-яке число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ласть значень функції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(f)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і значення  у  ≥ 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468360" y="616572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fde6c1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Управляющая кнопка: далее 9">
            <a:hlinkClick r:id="rId3" action="ppaction://hlinksldjump"/>
          </p:cNvPr>
          <p:cNvSpPr/>
          <p:nvPr/>
        </p:nvSpPr>
        <p:spPr>
          <a:xfrm>
            <a:off x="1332000" y="616572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fde6c1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5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250920" y="404640"/>
          <a:ext cx="4465440" cy="617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446544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 txBox="1"/>
          <p:nvPr/>
        </p:nvSpPr>
        <p:spPr>
          <a:xfrm>
            <a:off x="4932360" y="2349000"/>
            <a:ext cx="3960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Якщо  х = 0, то у =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фік функції проходить через початок координат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Oval 90"/>
          <p:cNvSpPr/>
          <p:nvPr/>
        </p:nvSpPr>
        <p:spPr>
          <a:xfrm>
            <a:off x="2340000" y="5877000"/>
            <a:ext cx="1443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Полилиния 6"/>
          <p:cNvSpPr/>
          <p:nvPr/>
        </p:nvSpPr>
        <p:spPr>
          <a:xfrm>
            <a:off x="755640" y="404640"/>
            <a:ext cx="3384720" cy="554544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5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0920" y="404640"/>
          <a:ext cx="4465440" cy="617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446544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 txBox="1"/>
          <p:nvPr/>
        </p:nvSpPr>
        <p:spPr>
          <a:xfrm>
            <a:off x="5003280" y="2491920"/>
            <a:ext cx="3961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Якщо  х ≠ 0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то у &gt;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і точки графік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ункції, крім точк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0; 0), розміщені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ще осі х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Oval 90"/>
          <p:cNvSpPr/>
          <p:nvPr/>
        </p:nvSpPr>
        <p:spPr>
          <a:xfrm>
            <a:off x="2340000" y="5877000"/>
            <a:ext cx="1443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Line 173"/>
          <p:cNvSpPr/>
          <p:nvPr/>
        </p:nvSpPr>
        <p:spPr>
          <a:xfrm>
            <a:off x="179280" y="6021360"/>
            <a:ext cx="21607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Line 173"/>
          <p:cNvSpPr/>
          <p:nvPr/>
        </p:nvSpPr>
        <p:spPr>
          <a:xfrm>
            <a:off x="2484360" y="6021360"/>
            <a:ext cx="2158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Freeform 178"/>
          <p:cNvSpPr/>
          <p:nvPr/>
        </p:nvSpPr>
        <p:spPr>
          <a:xfrm>
            <a:off x="2411280" y="620640"/>
            <a:ext cx="46080" cy="5281560"/>
          </a:xfrm>
          <a:prstGeom prst="pie">
            <a:avLst/>
          </a:pr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250920" y="404640"/>
            <a:ext cx="4465440" cy="5545440"/>
          </a:xfrm>
          <a:prstGeom prst="rect">
            <a:avLst/>
          </a:prstGeom>
          <a:solidFill>
            <a:srgbClr val="fcdaa2">
              <a:alpha val="52000"/>
            </a:srgbClr>
          </a:solidFill>
          <a:ln w="25560">
            <a:solidFill>
              <a:srgbClr val="93a2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3278880" y="836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1119960" y="83664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Управляющая кнопка: назад 12">
            <a:hlinkClick r:id="rId3" action="ppaction://hlinksldjump"/>
          </p:cNvPr>
          <p:cNvSpPr/>
          <p:nvPr/>
        </p:nvSpPr>
        <p:spPr>
          <a:xfrm>
            <a:off x="8317080" y="6093000"/>
            <a:ext cx="465120" cy="395280"/>
          </a:xfrm>
          <a:custGeom>
            <a:avLst/>
            <a:gdLst>
              <a:gd name="textAreaLeft" fmla="*/ 25560 w 465120"/>
              <a:gd name="textAreaRight" fmla="*/ 439560 w 4651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413" h="21600">
                <a:moveTo>
                  <a:pt x="0" y="0"/>
                </a:moveTo>
                <a:lnTo>
                  <a:pt x="25413" y="0"/>
                </a:lnTo>
                <a:lnTo>
                  <a:pt x="25413" y="21600"/>
                </a:lnTo>
                <a:lnTo>
                  <a:pt x="0" y="21600"/>
                </a:lnTo>
                <a:close/>
              </a:path>
              <a:path fill="lightenLess" w="25413" h="21600">
                <a:moveTo>
                  <a:pt x="0" y="0"/>
                </a:moveTo>
                <a:lnTo>
                  <a:pt x="25413" y="0"/>
                </a:lnTo>
                <a:lnTo>
                  <a:pt x="24013" y="1400"/>
                </a:lnTo>
                <a:lnTo>
                  <a:pt x="1400" y="1400"/>
                </a:lnTo>
                <a:close/>
              </a:path>
              <a:path fill="darken" w="25413" h="21600">
                <a:moveTo>
                  <a:pt x="25413" y="0"/>
                </a:moveTo>
                <a:lnTo>
                  <a:pt x="25413" y="21600"/>
                </a:lnTo>
                <a:lnTo>
                  <a:pt x="24013" y="20200"/>
                </a:lnTo>
                <a:lnTo>
                  <a:pt x="24013" y="1400"/>
                </a:lnTo>
                <a:close/>
              </a:path>
              <a:path fill="darkenLess" w="25413" h="21600">
                <a:moveTo>
                  <a:pt x="25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3" y="20200"/>
                </a:lnTo>
                <a:close/>
              </a:path>
              <a:path fill="lighten" w="25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3" h="21600">
                <a:moveTo>
                  <a:pt x="5700" y="10800"/>
                </a:moveTo>
                <a:lnTo>
                  <a:pt x="19713" y="3794"/>
                </a:lnTo>
                <a:lnTo>
                  <a:pt x="19713" y="17806"/>
                </a:lnTo>
                <a:close/>
              </a:path>
            </a:pathLst>
          </a:custGeom>
          <a:solidFill>
            <a:srgbClr val="fcdaa2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5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Rectangle 79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392436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 txBox="1"/>
          <p:nvPr/>
        </p:nvSpPr>
        <p:spPr>
          <a:xfrm>
            <a:off x="179280" y="1628640"/>
            <a:ext cx="3888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тилежним значенням х відповідає одне й те саме значення у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фік функції симетричний відносно осі ординат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V="1">
            <a:off x="8101080" y="907560"/>
            <a:ext cx="0" cy="5257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9"/>
          <p:cNvSpPr/>
          <p:nvPr/>
        </p:nvSpPr>
        <p:spPr>
          <a:xfrm flipV="1">
            <a:off x="4643280" y="981000"/>
            <a:ext cx="0" cy="518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13"/>
          <p:cNvSpPr/>
          <p:nvPr/>
        </p:nvSpPr>
        <p:spPr>
          <a:xfrm flipH="1">
            <a:off x="6372360" y="98100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11"/>
          <p:cNvSpPr/>
          <p:nvPr/>
        </p:nvSpPr>
        <p:spPr>
          <a:xfrm flipH="1">
            <a:off x="4642920" y="981000"/>
            <a:ext cx="17290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Овал 10"/>
          <p:cNvSpPr/>
          <p:nvPr/>
        </p:nvSpPr>
        <p:spPr>
          <a:xfrm>
            <a:off x="4572000" y="9079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Овал 12"/>
          <p:cNvSpPr/>
          <p:nvPr/>
        </p:nvSpPr>
        <p:spPr>
          <a:xfrm>
            <a:off x="8028000" y="9079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Прямоугольник 14"/>
          <p:cNvSpPr/>
          <p:nvPr/>
        </p:nvSpPr>
        <p:spPr>
          <a:xfrm>
            <a:off x="304200" y="535788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(- х)</a:t>
            </a:r>
            <a:r>
              <a:rPr b="1" i="1" lang="ru-RU" sz="2400" spc="-1" strike="noStrike" baseline="30000">
                <a:solidFill>
                  <a:srgbClr val="00cc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= х</a:t>
            </a:r>
            <a:r>
              <a:rPr b="1" i="1" lang="ru-RU" sz="2400" spc="-1" strike="noStrike" baseline="30000">
                <a:solidFill>
                  <a:srgbClr val="00cc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при будь-якому 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37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82"/>
          <p:cNvSpPr/>
          <p:nvPr/>
        </p:nvSpPr>
        <p:spPr>
          <a:xfrm>
            <a:off x="442764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4427640" y="333360"/>
          <a:ext cx="446544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46544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 txBox="1"/>
          <p:nvPr/>
        </p:nvSpPr>
        <p:spPr>
          <a:xfrm>
            <a:off x="214200" y="1428480"/>
            <a:ext cx="457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8a37"/>
                </a:solidFill>
                <a:latin typeface="Times New Roman"/>
                <a:ea typeface="Times New Roman"/>
              </a:rPr>
              <a:t>Геометричні  властивості  парабол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2560" y="2786040"/>
            <a:ext cx="4105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метрична відносно осі 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ісь розділяє параболу на дві частини: 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гілки парабол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чка (0; 0) –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вершина парабол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240" name="Прямая со стрелкой 99"/>
          <p:cNvCxnSpPr/>
          <p:nvPr/>
        </p:nvCxnSpPr>
        <p:spPr>
          <a:xfrm flipV="1">
            <a:off x="3492000" y="2636640"/>
            <a:ext cx="1872360" cy="1513440"/>
          </a:xfrm>
          <a:prstGeom prst="straightConnector1">
            <a:avLst/>
          </a:prstGeom>
          <a:ln w="3168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241" name="Прямая со стрелкой 104"/>
          <p:cNvCxnSpPr/>
          <p:nvPr/>
        </p:nvCxnSpPr>
        <p:spPr>
          <a:xfrm flipV="1">
            <a:off x="3492360" y="2707920"/>
            <a:ext cx="4393440" cy="1442160"/>
          </a:xfrm>
          <a:prstGeom prst="straightConnector1">
            <a:avLst/>
          </a:prstGeom>
          <a:ln w="3168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42" name="Прямая соединительная линия 109"/>
          <p:cNvSpPr/>
          <p:nvPr/>
        </p:nvSpPr>
        <p:spPr>
          <a:xfrm>
            <a:off x="6659640" y="333360"/>
            <a:ext cx="0" cy="61912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Oval 183"/>
          <p:cNvSpPr/>
          <p:nvPr/>
        </p:nvSpPr>
        <p:spPr>
          <a:xfrm>
            <a:off x="6588000" y="5805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Скругленная прямоугольная выноска 12"/>
          <p:cNvSpPr/>
          <p:nvPr/>
        </p:nvSpPr>
        <p:spPr>
          <a:xfrm>
            <a:off x="7451640" y="5229360"/>
            <a:ext cx="1441440" cy="503280"/>
          </a:xfrm>
          <a:prstGeom prst="wedgeRoundRectCallout">
            <a:avLst>
              <a:gd name="adj1" fmla="val -103935"/>
              <a:gd name="adj2" fmla="val -204013"/>
              <a:gd name="adj3" fmla="val 16667"/>
            </a:avLst>
          </a:prstGeom>
          <a:noFill/>
          <a:ln w="316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ісь симетрії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444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445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6410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00b05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99760" y="2286000"/>
            <a:ext cx="70009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є найбільше у світі – Прості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найшвидше?   – Розум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наймудріше? – Час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приємніше всього?  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Досягнути бажаного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uk-UA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i="1" lang="uk-UA" sz="4000" spc="-1" strike="noStrike">
                <a:solidFill>
                  <a:srgbClr val="00b050"/>
                </a:solidFill>
                <a:latin typeface="Times New Roman"/>
                <a:ea typeface="Leelawadee"/>
              </a:rPr>
              <a:t>Фале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95280" y="2852640"/>
          <a:ext cx="8064360" cy="152424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1152720"/>
                <a:gridCol w="792000"/>
                <a:gridCol w="1224000"/>
                <a:gridCol w="936720"/>
                <a:gridCol w="1191960"/>
                <a:gridCol w="895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2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1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0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0"/>
          <p:cNvSpPr/>
          <p:nvPr/>
        </p:nvSpPr>
        <p:spPr>
          <a:xfrm>
            <a:off x="250920" y="1285920"/>
            <a:ext cx="8569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Заповніть таблицю значен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функції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y = x</a:t>
            </a:r>
            <a:r>
              <a:rPr b="1" i="1" lang="en-US" sz="4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3270ba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4724280"/>
          <a:ext cx="8064360" cy="152424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1152720"/>
                <a:gridCol w="792000"/>
                <a:gridCol w="1224000"/>
                <a:gridCol w="936720"/>
                <a:gridCol w="1085760"/>
                <a:gridCol w="10015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403280" y="3645000"/>
          <a:ext cx="7058160" cy="720720"/>
        </p:xfrm>
        <a:graphic>
          <a:graphicData uri="http://schemas.openxmlformats.org/drawingml/2006/table">
            <a:tbl>
              <a:tblPr/>
              <a:tblGrid>
                <a:gridCol w="865080"/>
                <a:gridCol w="1152720"/>
                <a:gridCol w="792000"/>
                <a:gridCol w="1224000"/>
                <a:gridCol w="935280"/>
                <a:gridCol w="1191960"/>
                <a:gridCol w="897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, 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03280" y="5516640"/>
          <a:ext cx="7056360" cy="720720"/>
        </p:xfrm>
        <a:graphic>
          <a:graphicData uri="http://schemas.openxmlformats.org/drawingml/2006/table">
            <a:tbl>
              <a:tblPr/>
              <a:tblGrid>
                <a:gridCol w="863640"/>
                <a:gridCol w="1152720"/>
                <a:gridCol w="792000"/>
                <a:gridCol w="1224000"/>
                <a:gridCol w="936720"/>
                <a:gridCol w="1085760"/>
                <a:gridCol w="10015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4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220464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будуйт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афік</a:t>
            </a: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ункції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4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143240" y="214200"/>
            <a:ext cx="4718160" cy="649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Полилиния 6"/>
          <p:cNvSpPr/>
          <p:nvPr/>
        </p:nvSpPr>
        <p:spPr>
          <a:xfrm>
            <a:off x="4716360" y="404640"/>
            <a:ext cx="3527640" cy="56167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Овал 15"/>
          <p:cNvSpPr/>
          <p:nvPr/>
        </p:nvSpPr>
        <p:spPr>
          <a:xfrm>
            <a:off x="5867280" y="544500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Овал 16"/>
          <p:cNvSpPr/>
          <p:nvPr/>
        </p:nvSpPr>
        <p:spPr>
          <a:xfrm>
            <a:off x="6948360" y="544500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Овал 17"/>
          <p:cNvSpPr/>
          <p:nvPr/>
        </p:nvSpPr>
        <p:spPr>
          <a:xfrm>
            <a:off x="5364000" y="386064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7451640" y="386064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4788000" y="1125360"/>
            <a:ext cx="71280" cy="7020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8101080" y="1125360"/>
            <a:ext cx="71280" cy="7020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6659640" y="587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6156360" y="587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Овал 23"/>
          <p:cNvSpPr/>
          <p:nvPr/>
        </p:nvSpPr>
        <p:spPr>
          <a:xfrm>
            <a:off x="6443640" y="5950080"/>
            <a:ext cx="7164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Овал 25"/>
          <p:cNvSpPr/>
          <p:nvPr/>
        </p:nvSpPr>
        <p:spPr>
          <a:xfrm>
            <a:off x="5076720" y="2637000"/>
            <a:ext cx="7164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Овал 27"/>
          <p:cNvSpPr/>
          <p:nvPr/>
        </p:nvSpPr>
        <p:spPr>
          <a:xfrm>
            <a:off x="7740720" y="263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Овал 28"/>
          <p:cNvSpPr/>
          <p:nvPr/>
        </p:nvSpPr>
        <p:spPr>
          <a:xfrm>
            <a:off x="7236000" y="4724280"/>
            <a:ext cx="7128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Овал 29"/>
          <p:cNvSpPr/>
          <p:nvPr/>
        </p:nvSpPr>
        <p:spPr>
          <a:xfrm>
            <a:off x="5580000" y="472428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1" name="Рисунок 7" descr="Penc"/>
          <p:cNvPicPr/>
          <p:nvPr/>
        </p:nvPicPr>
        <p:blipFill>
          <a:blip r:embed="rId2"/>
          <a:stretch/>
        </p:blipFill>
        <p:spPr>
          <a:xfrm>
            <a:off x="611280" y="5075280"/>
            <a:ext cx="1081080" cy="12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Rectangle 184"/>
          <p:cNvSpPr/>
          <p:nvPr/>
        </p:nvSpPr>
        <p:spPr>
          <a:xfrm rot="17047200">
            <a:off x="6662520" y="3466800"/>
            <a:ext cx="264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арабол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with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with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with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7120" y="2332080"/>
            <a:ext cx="38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 </a:t>
            </a: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Древньогрецький математик Аполлоній Пергський за 200 років до нашої ери, розрізавши конус, лінію зрізу назвав </a:t>
            </a:r>
            <a:r>
              <a:rPr b="1" i="1" lang="uk-UA" sz="2400" spc="-1" strike="noStrike">
                <a:solidFill>
                  <a:srgbClr val="1a8a37"/>
                </a:solidFill>
                <a:latin typeface="Times New Roman"/>
              </a:rPr>
              <a:t>параболою</a:t>
            </a: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929120" y="264312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7" descr=""/>
          <p:cNvPicPr/>
          <p:nvPr/>
        </p:nvPicPr>
        <p:blipFill>
          <a:blip r:embed="rId2"/>
          <a:stretch/>
        </p:blipFill>
        <p:spPr>
          <a:xfrm>
            <a:off x="1663560" y="817560"/>
            <a:ext cx="65167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:\images.jpeg"/>
          <p:cNvPicPr/>
          <p:nvPr/>
        </p:nvPicPr>
        <p:blipFill>
          <a:blip r:embed="rId1"/>
          <a:stretch/>
        </p:blipFill>
        <p:spPr>
          <a:xfrm>
            <a:off x="357120" y="2143080"/>
            <a:ext cx="6276960" cy="43578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6"/>
          <p:cNvSpPr/>
          <p:nvPr/>
        </p:nvSpPr>
        <p:spPr>
          <a:xfrm>
            <a:off x="285840" y="64296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Природа формує свої закони мовою математики.                               </a:t>
            </a:r>
            <a:r>
              <a:rPr b="1" lang="ru-RU" sz="4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Галілей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6572160" y="2000160"/>
            <a:ext cx="228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Ніколи не замислювалися, але з дитинства знайома нам веселка, теж має форму парабол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Є в математиці щось таке, що викликає людське захоплення</a:t>
            </a:r>
            <a:r>
              <a:rPr b="1" i="1" lang="uk-UA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.                                                   Ф. Хаусдорф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1" name="Picture 2" descr="F:\images.jpeg"/>
          <p:cNvPicPr/>
          <p:nvPr/>
        </p:nvPicPr>
        <p:blipFill>
          <a:blip r:embed="rId1"/>
          <a:stretch/>
        </p:blipFill>
        <p:spPr>
          <a:xfrm>
            <a:off x="4143240" y="3786120"/>
            <a:ext cx="4714920" cy="2640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F:\images.jpeg"/>
          <p:cNvPicPr/>
          <p:nvPr/>
        </p:nvPicPr>
        <p:blipFill>
          <a:blip r:embed="rId2"/>
          <a:stretch/>
        </p:blipFill>
        <p:spPr>
          <a:xfrm>
            <a:off x="214200" y="2071800"/>
            <a:ext cx="3909960" cy="29289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"/>
          <p:cNvSpPr/>
          <p:nvPr/>
        </p:nvSpPr>
        <p:spPr>
          <a:xfrm>
            <a:off x="4286160" y="2500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Траєкторія стрибка дельфіна – теж парабола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5" name="Picture 10" descr="F:\images.jpeg"/>
          <p:cNvPicPr/>
          <p:nvPr/>
        </p:nvPicPr>
        <p:blipFill>
          <a:blip r:embed="rId1"/>
          <a:stretch/>
        </p:blipFill>
        <p:spPr>
          <a:xfrm>
            <a:off x="4786200" y="1357200"/>
            <a:ext cx="4143600" cy="2386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F:\default.jpeg"/>
          <p:cNvPicPr/>
          <p:nvPr/>
        </p:nvPicPr>
        <p:blipFill>
          <a:blip r:embed="rId2"/>
          <a:stretch/>
        </p:blipFill>
        <p:spPr>
          <a:xfrm>
            <a:off x="4786200" y="3929040"/>
            <a:ext cx="414360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F:\images.jpeg"/>
          <p:cNvPicPr/>
          <p:nvPr/>
        </p:nvPicPr>
        <p:blipFill>
          <a:blip r:embed="rId3"/>
          <a:stretch/>
        </p:blipFill>
        <p:spPr>
          <a:xfrm>
            <a:off x="357120" y="1357200"/>
            <a:ext cx="4143600" cy="2320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F:\images.jpeg"/>
          <p:cNvPicPr/>
          <p:nvPr/>
        </p:nvPicPr>
        <p:blipFill>
          <a:blip r:embed="rId4"/>
          <a:stretch/>
        </p:blipFill>
        <p:spPr>
          <a:xfrm>
            <a:off x="214200" y="3936960"/>
            <a:ext cx="4071960" cy="261468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10" descr=""/>
          <p:cNvPicPr/>
          <p:nvPr/>
        </p:nvPicPr>
        <p:blipFill>
          <a:blip r:embed="rId5"/>
          <a:stretch/>
        </p:blipFill>
        <p:spPr>
          <a:xfrm>
            <a:off x="828720" y="298440"/>
            <a:ext cx="7918560" cy="11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3571920"/>
            <a:ext cx="813744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5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Властивості функції</a:t>
            </a:r>
            <a:br>
              <a:rPr sz="6600"/>
            </a:br>
            <a:r>
              <a:rPr b="1" i="1" lang="en-US" sz="8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8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br>
              <a:rPr sz="6600"/>
            </a:br>
            <a:br>
              <a:rPr sz="6600"/>
            </a:b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91" name="Рисунок 7" descr="j0410483"/>
          <p:cNvPicPr/>
          <p:nvPr/>
        </p:nvPicPr>
        <p:blipFill>
          <a:blip r:embed="rId1"/>
          <a:stretch/>
        </p:blipFill>
        <p:spPr>
          <a:xfrm>
            <a:off x="755640" y="4703760"/>
            <a:ext cx="1728720" cy="147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9:52:06Z</dcterms:created>
  <dc:creator>Admin</dc:creator>
  <dc:description/>
  <dc:language>en-US</dc:language>
  <cp:lastModifiedBy>User</cp:lastModifiedBy>
  <dcterms:modified xsi:type="dcterms:W3CDTF">2020-02-05T22:40:43Z</dcterms:modified>
  <cp:revision>104</cp:revision>
  <dc:subject/>
  <dc:title>Квадратичная функция</dc:title>
</cp:coreProperties>
</file>