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media/image6.jpeg" ContentType="image/jpe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0E37-902E-4EE8-B10C-E5D1B257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180A-DD4B-496B-94F9-9ECFD9F3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4B2D-C662-4A6D-B5FA-5DC4FE5C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0F8C-8DEC-45D4-AC39-93B394C1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41E3-A557-45A9-B324-4AC2B5AA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3CE1-B167-4E5D-B19D-873E4EB4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796E-440F-468D-95C6-92E72655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8EFC-1211-4773-9429-BADA74EB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AB54-8B9F-4189-885D-B23251FE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3C1D-D835-49DC-A4FD-7BE56BBD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9B7C-E0DB-4AEE-82BB-BCB7D171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2070-8F30-444C-9E2D-222394B9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8033-C6FC-43B3-B1C2-5E6EE20F35D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640" y="1500120"/>
            <a:ext cx="5905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СВІТ ФАНТАЗІЇ, МУДРОСТІ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3500280"/>
            <a:ext cx="568944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МІФИ ТА ЛЕГЕНДИ УКРАЇНЦІВ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4" descr="C:\Documents and Settings\Учитель\Рабочий стол\орнаменти\Gimn.jpg"/>
          <p:cNvPicPr/>
          <p:nvPr/>
        </p:nvPicPr>
        <p:blipFill>
          <a:blip r:embed="rId2"/>
          <a:stretch/>
        </p:blipFill>
        <p:spPr>
          <a:xfrm>
            <a:off x="4932360" y="4146480"/>
            <a:ext cx="4032360" cy="2711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C:\Documents and Settings\Учитель\Рабочий стол\орнаменти\UkrainianOrnament.jpg"/>
          <p:cNvPicPr/>
          <p:nvPr/>
        </p:nvPicPr>
        <p:blipFill>
          <a:blip r:embed="rId3"/>
          <a:stretch/>
        </p:blipFill>
        <p:spPr>
          <a:xfrm>
            <a:off x="0" y="3286080"/>
            <a:ext cx="2381400" cy="3571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C:\Documents and Settings\Учитель\Рабочий стол\орнаменти\UkrainianOrnament.jpg"/>
          <p:cNvPicPr/>
          <p:nvPr/>
        </p:nvPicPr>
        <p:blipFill>
          <a:blip r:embed="rId4"/>
          <a:stretch/>
        </p:blipFill>
        <p:spPr>
          <a:xfrm>
            <a:off x="0" y="0"/>
            <a:ext cx="238140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Чому буває сумне сонце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4883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Якось Сонце вкрало у батьків красуню дочку й узяло її собі за дружину. Брат дівчини пішов її шукати туди, де заходить сонце. Сестра побачила його, злякалася, що Сонце його запече, й сховала у погріб. Сонце прийшло, скинуло свої ризи на погріб, а брат ледь не загинув там од спеки. Тоді сестра відлила його водою й повела до хати. Сонце попросило брата, щоб той пішов замість нього на небо хоч на день. Хлопець погодився, вдягнув ризи й поліз на небо. Там він усе потрощив, поперекидав, набив вітра та мороза, що перешкоджали йому в дорозі. Потім забрав сестру та й утік разом із нею. Сонце, побачивши безладдя на небі, так розсердилось, що цілий тиждень не показувалося людям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Picture 8" descr="C:\Documents and Settings\Учитель\Рабочий стол\орнаменти\UkrainianOrnament.jpg"/>
          <p:cNvPicPr/>
          <p:nvPr/>
        </p:nvPicPr>
        <p:blipFill>
          <a:blip r:embed="rId2"/>
          <a:stretch/>
        </p:blipFill>
        <p:spPr>
          <a:xfrm>
            <a:off x="8072280" y="0"/>
            <a:ext cx="1071720" cy="2214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C:\Documents and Settings\Учитель\Рабочий стол\орнаменти\UkrainianOrnament.jpg"/>
          <p:cNvPicPr/>
          <p:nvPr/>
        </p:nvPicPr>
        <p:blipFill>
          <a:blip r:embed="rId3"/>
          <a:stretch/>
        </p:blipFill>
        <p:spPr>
          <a:xfrm>
            <a:off x="8072280" y="2071800"/>
            <a:ext cx="1071720" cy="221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C:\Documents and Settings\Учитель\Рабочий стол\орнаменти\UkrainianOrnament.jpg"/>
          <p:cNvPicPr/>
          <p:nvPr/>
        </p:nvPicPr>
        <p:blipFill>
          <a:blip r:embed="rId4"/>
          <a:stretch/>
        </p:blipFill>
        <p:spPr>
          <a:xfrm>
            <a:off x="8072280" y="4143240"/>
            <a:ext cx="1071720" cy="221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Documents and Settings\Учитель\Рабочий стол\орнаменти\UkrainianOrnament.jpg"/>
          <p:cNvPicPr/>
          <p:nvPr/>
        </p:nvPicPr>
        <p:blipFill>
          <a:blip r:embed="rId5"/>
          <a:srcRect l="0" t="0" r="0" b="70977"/>
          <a:stretch/>
        </p:blipFill>
        <p:spPr>
          <a:xfrm>
            <a:off x="8072280" y="6215040"/>
            <a:ext cx="107172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74883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Якось давно трапилася велика посуха. Вода повисихала не лише в річках та озерах, а й у колодязях. Одна вдова захворіла без води. Тоді дочка, щоб урятувати матір взяла глечик і пішла шукати воду. Знайшла десь, набрала та й несе додому. Аж тут назустріч один спраглий чоловік, що помирав без моди, а за ним другий, третій ... сьомий. Усіх напоїла дівчина, усіх урятувала, тільки води в глечику залишилося на дні. Сіла дівчина відпочити. Як ось біжить собака — та й перекинув посудину. Вилетіло звідти сім великих зірок і одна маленька, поставали вони на небі в пам'ять про щиру дівчину та врятованих нею душ — сім людських і собачу. Назвали те сузір'я Віз. А Бог послав на ту країну дощ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8" descr="C:\Documents and Settings\Учитель\Рабочий стол\орнаменти\UkrainianOrnament.jpg"/>
          <p:cNvPicPr/>
          <p:nvPr/>
        </p:nvPicPr>
        <p:blipFill>
          <a:blip r:embed="rId2"/>
          <a:stretch/>
        </p:blipFill>
        <p:spPr>
          <a:xfrm>
            <a:off x="8072280" y="2071800"/>
            <a:ext cx="1071720" cy="221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C:\Documents and Settings\Учитель\Рабочий стол\орнаменти\UkrainianOrnament.jpg"/>
          <p:cNvPicPr/>
          <p:nvPr/>
        </p:nvPicPr>
        <p:blipFill>
          <a:blip r:embed="rId3"/>
          <a:stretch/>
        </p:blipFill>
        <p:spPr>
          <a:xfrm>
            <a:off x="8072280" y="4076640"/>
            <a:ext cx="1071720" cy="221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C:\Documents and Settings\Учитель\Рабочий стол\орнаменти\UkrainianOrnament.jpg"/>
          <p:cNvPicPr/>
          <p:nvPr/>
        </p:nvPicPr>
        <p:blipFill>
          <a:blip r:embed="rId4"/>
          <a:stretch/>
        </p:blipFill>
        <p:spPr>
          <a:xfrm>
            <a:off x="8072280" y="0"/>
            <a:ext cx="1071720" cy="221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C:\Documents and Settings\Учитель\Рабочий стол\орнаменти\UkrainianOrnament.jpg"/>
          <p:cNvPicPr/>
          <p:nvPr/>
        </p:nvPicPr>
        <p:blipFill>
          <a:blip r:embed="rId5"/>
          <a:srcRect l="0" t="0" r="0" b="70977"/>
          <a:stretch/>
        </p:blipFill>
        <p:spPr>
          <a:xfrm>
            <a:off x="8072280" y="6215040"/>
            <a:ext cx="1071720" cy="642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692360" y="620640"/>
            <a:ext cx="496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о зоряний Віз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Один господар змолотив зерно й почав його віяти. А вітер усе йому заважав. От чоловік і кинув спересердя у нього ніж. Вітер щез, але чоловікові перестало таланити: за що не візьметься — погано скінчить. Пішов чоловік у світ, покинувши господарство. Приходить до одного села, проситься до якоїсь хати переночувати, а господар каже, що не може його пустити, бо він же йому ногу ножем врізав. Аж тоді зрозумів чолов'яга, що самого вітра поранив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8" descr="C:\Documents and Settings\Учитель\Рабочий стол\орнаменти\UkrainianOrnament.jpg"/>
          <p:cNvPicPr/>
          <p:nvPr/>
        </p:nvPicPr>
        <p:blipFill>
          <a:blip r:embed="rId2"/>
          <a:srcRect l="0" t="0" r="0" b="70977"/>
          <a:stretch/>
        </p:blipFill>
        <p:spPr>
          <a:xfrm>
            <a:off x="8072280" y="6215040"/>
            <a:ext cx="1071720" cy="642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C:\Documents and Settings\Учитель\Рабочий стол\орнаменти\UkrainianOrnament.jpg"/>
          <p:cNvPicPr/>
          <p:nvPr/>
        </p:nvPicPr>
        <p:blipFill>
          <a:blip r:embed="rId3"/>
          <a:stretch/>
        </p:blipFill>
        <p:spPr>
          <a:xfrm>
            <a:off x="8072280" y="4149720"/>
            <a:ext cx="1071720" cy="2214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C:\Documents and Settings\Учитель\Рабочий стол\орнаменти\UkrainianOrnament.jpg"/>
          <p:cNvPicPr/>
          <p:nvPr/>
        </p:nvPicPr>
        <p:blipFill>
          <a:blip r:embed="rId4"/>
          <a:stretch/>
        </p:blipFill>
        <p:spPr>
          <a:xfrm>
            <a:off x="8072280" y="2060640"/>
            <a:ext cx="1071720" cy="2214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C:\Documents and Settings\Учитель\Рабочий стол\орнаменти\UkrainianOrnament.jpg"/>
          <p:cNvPicPr/>
          <p:nvPr/>
        </p:nvPicPr>
        <p:blipFill>
          <a:blip r:embed="rId5"/>
          <a:stretch/>
        </p:blipFill>
        <p:spPr>
          <a:xfrm>
            <a:off x="8072280" y="0"/>
            <a:ext cx="1071720" cy="221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2050920" y="189000"/>
            <a:ext cx="475308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 віте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1961" t="3103" r="1961" b="21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770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Є повір'я, що Бог має особливі сховища дощу. Коли треба пустити дощ на землю, Бог посилає пророка Іллю та глухого янгола. Вони набирають дощ у хмару і розносять його по світу. Часто буває, що дощ ллється кілька днів підряд. Це трапляється тому, що Бог каже глухому янголові: «Ходи там, де чорно», — а той чує: «Де вчора». Бог каже, щоб лив дощ, де просять, а глухий думає, що треба лити туди, де косять.</a:t>
            </a:r>
            <a:br>
              <a:rPr sz="2800"/>
            </a:b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Райдуга — це «насос», що набирає воду з морів та рік у хмару. «Веселка» від того, що все навкруги стає веселішим; це дорога для янголів, які сходять з неба, щоб набрати води й вилити крізь особливе сито на землю у вигляді дощу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8" descr="C:\Documents and Settings\Учитель\Рабочий стол\орнаменти\UkrainianOrnament.jpg"/>
          <p:cNvPicPr/>
          <p:nvPr/>
        </p:nvPicPr>
        <p:blipFill>
          <a:blip r:embed="rId2"/>
          <a:stretch/>
        </p:blipFill>
        <p:spPr>
          <a:xfrm>
            <a:off x="8072280" y="0"/>
            <a:ext cx="1071720" cy="2214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C:\Documents and Settings\Учитель\Рабочий стол\орнаменти\UkrainianOrnament.jpg"/>
          <p:cNvPicPr/>
          <p:nvPr/>
        </p:nvPicPr>
        <p:blipFill>
          <a:blip r:embed="rId3"/>
          <a:stretch/>
        </p:blipFill>
        <p:spPr>
          <a:xfrm>
            <a:off x="8072280" y="2060640"/>
            <a:ext cx="1071720" cy="2214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Documents and Settings\Учитель\Рабочий стол\орнаменти\UkrainianOrnament.jpg"/>
          <p:cNvPicPr/>
          <p:nvPr/>
        </p:nvPicPr>
        <p:blipFill>
          <a:blip r:embed="rId4"/>
          <a:stretch/>
        </p:blipFill>
        <p:spPr>
          <a:xfrm>
            <a:off x="8072280" y="4149720"/>
            <a:ext cx="1071720" cy="221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C:\Documents and Settings\Учитель\Рабочий стол\орнаменти\UkrainianOrnament.jpg"/>
          <p:cNvPicPr/>
          <p:nvPr/>
        </p:nvPicPr>
        <p:blipFill>
          <a:blip r:embed="rId5"/>
          <a:srcRect l="0" t="0" r="0" b="70977"/>
          <a:stretch/>
        </p:blipFill>
        <p:spPr>
          <a:xfrm>
            <a:off x="8072280" y="6215040"/>
            <a:ext cx="1071720" cy="642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258920" y="189000"/>
            <a:ext cx="58341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Про до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3T08:38:16Z</dcterms:created>
  <dc:creator>Андрей</dc:creator>
  <dc:description/>
  <dc:language>en-US</dc:language>
  <cp:lastModifiedBy>User</cp:lastModifiedBy>
  <dcterms:modified xsi:type="dcterms:W3CDTF">2014-07-18T05:22:30Z</dcterms:modified>
  <cp:revision>10</cp:revision>
  <dc:subject/>
  <dc:title>Заголовок</dc:title>
</cp:coreProperties>
</file>