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26E-986A-4FF3-9D7D-D0E6DEB5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3D5-7917-4B8E-96C9-CD8D2DD5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618-5FBC-4618-8239-FE0171DF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1E7-0542-441C-B1D0-D64D1B47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228-CB54-434E-899E-E71035FA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C96-2BD0-419C-8A57-97B9CECE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1CAE-9B90-40B3-9874-FE112095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E5E-4B4B-4CC7-A45F-8AFCE5ED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47C7-E345-41AB-A7A1-4D36C9DC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3FC-E101-4C85-9B7D-C9909E11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234-4415-4A7A-9466-A04AFC91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0AE-4183-4015-8878-930EBC42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B7E6-0221-4B64-AE75-07542B8601B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1500120"/>
            <a:ext cx="5905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СВІТ ФАНТАЗІЇ, МУДРОСТІ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3500280"/>
            <a:ext cx="568944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МІФИ ТА ЛЕГЕНДИ УКРАЇНЦІ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4" descr="C:\Documents and Settings\Учитель\Рабочий стол\орнаменти\Gimn.jpg"/>
          <p:cNvPicPr/>
          <p:nvPr/>
        </p:nvPicPr>
        <p:blipFill>
          <a:blip r:embed="rId2"/>
          <a:stretch/>
        </p:blipFill>
        <p:spPr>
          <a:xfrm>
            <a:off x="4932360" y="4146480"/>
            <a:ext cx="4032360" cy="2711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0" y="3286080"/>
            <a:ext cx="2381400" cy="3571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0" y="0"/>
            <a:ext cx="238140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Чому буває сумне сонце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488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Якось Сонце вкрало у батьків красуню дочку й узяло її собі за дружину. Брат дівчини пішов її шукати туди, де заходить сонце. Сестра побачила його, злякалася, що Сонце його запече, й сховала у погріб. Сонце прийшло, скинуло свої ризи на погріб, а брат ледь не загинув там од спеки. Тоді сестра відлила його водою й повела до хати. Сонце попросило брата, щоб той пішов замість нього на небо хоч на день. Хлопець погодився, вдягнув ризи й поліз на небо. Там він усе потрощив, поперекидав, набив вітра та мороза, що перешкоджали йому в дорозі. Потім забрав сестру та й утік разом із нею. Сонце, побачивши безладдя на небі, так розсердилось, що цілий тиждень не показувалося людям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8" descr="C:\Documents and Settings\Учитель\Рабочий стол\орнаменти\UkrainianOrnament.jpg"/>
          <p:cNvPicPr/>
          <p:nvPr/>
        </p:nvPicPr>
        <p:blipFill>
          <a:blip r:embed="rId2"/>
          <a:stretch/>
        </p:blipFill>
        <p:spPr>
          <a:xfrm>
            <a:off x="8072280" y="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8072280" y="2071800"/>
            <a:ext cx="1071720" cy="221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8072280" y="414324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Documents and Settings\Учитель\Рабочий стол\орнаменти\UkrainianOrnament.jpg"/>
          <p:cNvPicPr/>
          <p:nvPr/>
        </p:nvPicPr>
        <p:blipFill>
          <a:blip r:embed="rId5"/>
          <a:srcRect l="0" t="0" r="0" b="70977"/>
          <a:stretch/>
        </p:blipFill>
        <p:spPr>
          <a:xfrm>
            <a:off x="8072280" y="621504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7488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Якось давно трапилася велика посуха. Вода повисихала не лише в річках та озерах, а й у колодязях. Одна вдова захворіла без води. Тоді дочка, щоб урятувати матір взяла глечик і пішла шукати воду. Знайшла десь, набрала та й несе додому. Аж тут назустріч один спраглий чоловік, що помирав без моди, а за ним другий, третій ... сьомий. Усіх напоїла дівчина, усіх урятувала, тільки води в глечику залишилося на дні. Сіла дівчина відпочити. Як ось біжить собака — та й перекинув посудину. Вилетіло звідти сім великих зірок і одна маленька, поставали вони на небі в пам'ять про щиру дівчину та врятованих нею душ — сім людських і собачу. Назвали те сузір'я Віз. А Бог послав на ту країну дощ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8" descr="C:\Documents and Settings\Учитель\Рабочий стол\орнаменти\UkrainianOrnament.jpg"/>
          <p:cNvPicPr/>
          <p:nvPr/>
        </p:nvPicPr>
        <p:blipFill>
          <a:blip r:embed="rId2"/>
          <a:stretch/>
        </p:blipFill>
        <p:spPr>
          <a:xfrm>
            <a:off x="8072280" y="2071800"/>
            <a:ext cx="1071720" cy="221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8072280" y="407664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8072280" y="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:\Documents and Settings\Учитель\Рабочий стол\орнаменти\UkrainianOrnament.jpg"/>
          <p:cNvPicPr/>
          <p:nvPr/>
        </p:nvPicPr>
        <p:blipFill>
          <a:blip r:embed="rId5"/>
          <a:srcRect l="0" t="0" r="0" b="70977"/>
          <a:stretch/>
        </p:blipFill>
        <p:spPr>
          <a:xfrm>
            <a:off x="8072280" y="6215040"/>
            <a:ext cx="1071720" cy="642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692360" y="62064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 зоряний Віз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Один господар змолотив зерно й почав його віяти. А вітер усе йому заважав. От чоловік і кинув спересердя у нього ніж. Вітер щез, але чоловікові перестало таланити: за що не візьметься — погано скінчить. Пішов чоловік у світ, покинувши господарство. Приходить до одного села, проситься до якоїсь хати переночувати, а господар каже, що не може його пустити, бо він же йому ногу ножем врізав. Аж тоді зрозумів чолов'яга, що самого вітра поранив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8" descr="C:\Documents and Settings\Учитель\Рабочий стол\орнаменти\UkrainianOrnament.jpg"/>
          <p:cNvPicPr/>
          <p:nvPr/>
        </p:nvPicPr>
        <p:blipFill>
          <a:blip r:embed="rId2"/>
          <a:srcRect l="0" t="0" r="0" b="70977"/>
          <a:stretch/>
        </p:blipFill>
        <p:spPr>
          <a:xfrm>
            <a:off x="8072280" y="6215040"/>
            <a:ext cx="1071720" cy="642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8072280" y="414972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8072280" y="2060640"/>
            <a:ext cx="1071720" cy="221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Documents and Settings\Учитель\Рабочий стол\орнаменти\UkrainianOrnament.jpg"/>
          <p:cNvPicPr/>
          <p:nvPr/>
        </p:nvPicPr>
        <p:blipFill>
          <a:blip r:embed="rId5"/>
          <a:stretch/>
        </p:blipFill>
        <p:spPr>
          <a:xfrm>
            <a:off x="8072280" y="0"/>
            <a:ext cx="1071720" cy="221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050920" y="189000"/>
            <a:ext cx="475308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 віте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1961" t="3103" r="1961" b="2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770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Є повір'я, що Бог має особливі сховища дощу. Коли треба пустити дощ на землю, Бог посилає пророка Іллю та глухого янгола. Вони набирають дощ у хмару і розносять його по світу. Часто буває, що дощ ллється кілька днів підряд. Це трапляється тому, що Бог каже глухому янголові: «Ходи там, де чорно», — а той чує: «Де вчора». Бог каже, щоб лив дощ, де просять, а глухий думає, що треба лити туди, де косять.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Райдуга — це «насос», що набирає воду з морів та рік у хмару. «Веселка» від того, що все навкруги стає веселішим; це дорога для янголів, які сходять з неба, щоб набрати води й вилити крізь особливе сито на землю у вигляді дощу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8" descr="C:\Documents and Settings\Учитель\Рабочий стол\орнаменти\UkrainianOrnament.jpg"/>
          <p:cNvPicPr/>
          <p:nvPr/>
        </p:nvPicPr>
        <p:blipFill>
          <a:blip r:embed="rId2"/>
          <a:stretch/>
        </p:blipFill>
        <p:spPr>
          <a:xfrm>
            <a:off x="8072280" y="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8072280" y="2060640"/>
            <a:ext cx="1071720" cy="221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8072280" y="414972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:\Documents and Settings\Учитель\Рабочий стол\орнаменти\UkrainianOrnament.jpg"/>
          <p:cNvPicPr/>
          <p:nvPr/>
        </p:nvPicPr>
        <p:blipFill>
          <a:blip r:embed="rId5"/>
          <a:srcRect l="0" t="0" r="0" b="70977"/>
          <a:stretch/>
        </p:blipFill>
        <p:spPr>
          <a:xfrm>
            <a:off x="8072280" y="6215040"/>
            <a:ext cx="1071720" cy="642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258920" y="189000"/>
            <a:ext cx="58341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Про до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08:38:16Z</dcterms:created>
  <dc:creator>Андрей</dc:creator>
  <dc:description/>
  <dc:language>en-US</dc:language>
  <cp:lastModifiedBy>User</cp:lastModifiedBy>
  <dcterms:modified xsi:type="dcterms:W3CDTF">2014-07-18T05:22:30Z</dcterms:modified>
  <cp:revision>10</cp:revision>
  <dc:subject/>
  <dc:title>Заголовок</dc:title>
</cp:coreProperties>
</file>