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233-66DA-493A-92B9-22C254E5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610-9FEF-4461-A2E3-B8FB46FC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646-FB82-4902-A152-E271252C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6CB-A475-4A51-ACEE-D2D38336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4B6-BA51-475E-8E17-487B324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603-C89F-478A-BDCE-B64172D9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0E5-ED39-4DC2-B7F6-840885BD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AC4-2E31-4B9C-8CE9-CDD2BBDB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0B6-CD1C-45D5-85B4-80D21428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50E-BF24-4C9F-BF46-EACDB2E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AB5-2598-4F9B-9758-A3CF25F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B48-BBDC-4611-8633-C4A54A7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4295-AD05-4FC2-AAE5-A41418F887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500120"/>
            <a:ext cx="590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СВІТ ФАНТАЗІЇ, МУДРОСТІ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689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МІФИ ТА ЛЕГЕНДИ УКРАЇНЦІ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C:\Documents and Settings\Учитель\Рабочий стол\орнаменти\Gimn.jpg"/>
          <p:cNvPicPr/>
          <p:nvPr/>
        </p:nvPicPr>
        <p:blipFill>
          <a:blip r:embed="rId2"/>
          <a:stretch/>
        </p:blipFill>
        <p:spPr>
          <a:xfrm>
            <a:off x="4932360" y="4146480"/>
            <a:ext cx="4032360" cy="271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0" y="328608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0" y="0"/>
            <a:ext cx="23814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Чому буває сумне сонц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488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Сонце вкрало у батьків красуню дочку й узяло її собі за дружину. Брат дівчини пішов її шукати туди, де заходить сонце. Сестра побачила його, злякалася, що Сонце його запече, й сховала у погріб. Сонце прийшло, скинуло свої ризи на погріб, а брат ледь не загинув там од спеки. Тоді сестра відлила його водою й повела до хати. Сонце попросило брата, щоб той пішов замість нього на небо хоч на день. Хлопець погодився, вдягнув ризи й поліз на небо. Там він усе потрощив, поперекидав, набив вітра та мороза, що перешкоджали йому в дорозі. Потім забрав сестру та й утік разом із нею. Сонце, побачивши безладдя на небі, так розсердилось, що цілий тиждень не показувалося людя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32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7488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давно трапилася велика посуха. Вода повисихала не лише в річках та озерах, а й у колодязях. Одна вдова захворіла без води. Тоді дочка, щоб урятувати матір взяла глечик і пішла шукати воду. Знайшла десь, набрала та й несе додому. Аж тут назустріч один спраглий чоловік, що помирав без моди, а за ним другий, третій ... сьомий. Усіх напоїла дівчина, усіх урятувала, тільки води в глечику залишилося на дні. Сіла дівчина відпочити. Як ось біжить собака — та й перекинув посудину. Вилетіло звідти сім великих зірок і одна маленька, поставали вони на небі в пам'ять про щиру дівчину та врятованих нею душ — сім людських і собачу. Назвали те сузір'я Віз. А Бог послав на ту країну дощ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0766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92360" y="62064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 зоряний Ві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Один господар змолотив зерно й почав його віяти. А вітер усе йому заважав. От чоловік і кинув спересердя у нього ніж. Вітер щез, але чоловікові перестало таланити: за що не візьметься — погано скінчить. Пішов чоловік у світ, покинувши господарство. Приходить до одного села, проситься до якоїсь хати переночувати, а господар каже, що не може його пустити, бо він же йому ногу ножем врізав. Аж тоді зрозумів чолов'яга, що самого вітра порани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8" descr="C:\Documents and Settings\Учитель\Рабочий стол\орнаменти\UkrainianOrnament.jpg"/>
          <p:cNvPicPr/>
          <p:nvPr/>
        </p:nvPicPr>
        <p:blipFill>
          <a:blip r:embed="rId2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Учитель\Рабочий стол\орнаменти\UkrainianOrnament.jpg"/>
          <p:cNvPicPr/>
          <p:nvPr/>
        </p:nvPicPr>
        <p:blipFill>
          <a:blip r:embed="rId5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0920" y="189000"/>
            <a:ext cx="47530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 віт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961" t="3103" r="1961" b="2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Є повір'я, що Бог має особливі сховища дощу. Коли треба пустити дощ на землю, Бог посилає пророка Іллю та глухого янгола. Вони набирають дощ у хмару і розносять його по світу. Часто буває, що дощ ллється кілька днів підряд. Це трапляється тому, що Бог каже глухому янголові: «Ходи там, де чорно», — а той чує: «Де вчора». Бог каже, щоб лив дощ, де просять, а глухий думає, що треба лити туди, де косять.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Райдуга — це «насос», що набирає воду з морів та рік у хмару. «Веселка» від того, що все навкруги стає веселішим; це дорога для янголів, які сходять з неба, щоб набрати води й вилити крізь особливе сито на землю у вигляді дощу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189000"/>
            <a:ext cx="58341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Про до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8:38:16Z</dcterms:created>
  <dc:creator>Андрей</dc:creator>
  <dc:description/>
  <dc:language>en-US</dc:language>
  <cp:lastModifiedBy>User</cp:lastModifiedBy>
  <dcterms:modified xsi:type="dcterms:W3CDTF">2014-07-18T05:22:30Z</dcterms:modified>
  <cp:revision>10</cp:revision>
  <dc:subject/>
  <dc:title>Заголовок</dc:title>
</cp:coreProperties>
</file>