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B41-329A-4B59-90BE-984C5AF8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478-3311-4DA7-88C3-4E839C9F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692-F023-4105-B371-F2679389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6B7-46C0-4ABB-B375-9D4C6556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686D-EBEE-4372-B439-A930C488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DA6-B7D0-4000-B208-4A1B471C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37D-50BF-4DC5-A3C6-5704EB98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6F6-13DB-4BA7-A241-63F217BD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00B-27CF-44D8-9793-4520B8CE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B9F-574B-4DDF-AB27-9912C504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04C-FDCC-4BBF-BCB2-262A5660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7C8-85D2-4CBF-9C68-13BE4BA3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18F9-A191-4BDE-B23D-3606F7F883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24000" y="1628640"/>
            <a:ext cx="8424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більши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ільни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ільн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79280" y="62064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Найбільшим спільним дільником (НСД) кількох чисел називається найбільше число, на яке ділиться кожне з дан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79280" y="278136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Щоб знайти найбільший спільний дільник кількох чисел, треба їх розкласти на прості множники і перемножити всі їхні спільні множ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50920" y="836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Знайти НСД (84,9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24000" y="1557360"/>
            <a:ext cx="4968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84     2            90     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42     2            45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1     3            15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7       7             5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       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116000" y="1628640"/>
            <a:ext cx="0" cy="3313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708360" y="1628640"/>
            <a:ext cx="0" cy="3240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>
            <a:off x="1332000" y="213372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332000" y="364500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3924360" y="213372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3924360" y="285264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851280" y="50846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НСД (84,90) = 2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  <a:ea typeface="Arial"/>
              </a:rPr>
              <a:t>∙3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50920" y="549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Знайдіть НСД (42,7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24000" y="1341360"/>
            <a:ext cx="856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4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                70      2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3                35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7                 7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         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1042920" y="1341360"/>
            <a:ext cx="0" cy="2808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4140360" y="1341360"/>
            <a:ext cx="0" cy="273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1258920" y="1916280"/>
            <a:ext cx="433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1258920" y="3357720"/>
            <a:ext cx="433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4356000" y="191628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4356000" y="342900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39640" y="450864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НСД (42, 70) = 2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  <a:ea typeface="Arial"/>
              </a:rPr>
              <a:t>∙7 =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77" name="Text Box 15" descr=""/>
          <p:cNvPicPr/>
          <p:nvPr/>
        </p:nvPicPr>
        <p:blipFill>
          <a:blip r:embed="rId2"/>
          <a:stretch/>
        </p:blipFill>
        <p:spPr>
          <a:xfrm>
            <a:off x="231840" y="646200"/>
            <a:ext cx="8478720" cy="524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50920" y="692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Два числа, найбільший спільний дільник яких дорівнює 1, називаються взаємно прост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79280" y="2421000"/>
            <a:ext cx="842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Взаємно простими можуть бути не тільки два числа, а й три, і більше. Наприклад, числа 8, 9 і 25 – взаємно прості. Ці три числа не лише взаємно прості, а й попарно взаємно прості. Бо кожні два з них – числа взаємно пр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56-11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50920" y="692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Знайдемо НСД (65, 3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1341360"/>
            <a:ext cx="8569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6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5                          32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3                         16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                         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8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4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5292720" y="1341360"/>
            <a:ext cx="0" cy="4319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042920" y="1413000"/>
            <a:ext cx="0" cy="20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0" y="3429000"/>
            <a:ext cx="424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Числа 65 і 32 мають один спільний дільник – число 1. Тому ці числа взаємно пр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смайлик Здорово"/>
          <p:cNvPicPr/>
          <p:nvPr/>
        </p:nvPicPr>
        <p:blipFill>
          <a:blip r:embed="rId2"/>
          <a:stretch/>
        </p:blipFill>
        <p:spPr>
          <a:xfrm>
            <a:off x="3419640" y="1700280"/>
            <a:ext cx="2023920" cy="217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4:29:04Z</dcterms:created>
  <dc:creator>UserXP</dc:creator>
  <dc:description/>
  <dc:language>en-US</dc:language>
  <cp:lastModifiedBy>Пользователь Windows</cp:lastModifiedBy>
  <dcterms:modified xsi:type="dcterms:W3CDTF">2016-11-13T21:50:06Z</dcterms:modified>
  <cp:revision>6</cp:revision>
  <dc:subject/>
  <dc:title>Слайд 1</dc:title>
</cp:coreProperties>
</file>