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B0AD-30CC-45FB-B4D2-E80AB3EA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0C4C-0417-4EA2-B390-C5692A7D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ACFD-4B9A-4D35-A90B-51D09F2A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86D-705D-42DE-A052-5C3C2366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22F2-A213-4E03-931F-29FE9FBB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0594-5AFA-4451-A1C3-AF38A5C6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A00-0EF4-40E2-BA35-8E412185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E19-7464-4319-A50F-97004FB0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2186-AAB4-40BC-A153-D3C78CCF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CBB-B428-4C4C-B8CA-DA277FE9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16B4-E5C3-4C61-A637-A423DD11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2520-5B38-456A-A478-162109B6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7A3D-9093-4126-B9FE-865CA422F6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324000" y="1628640"/>
            <a:ext cx="8424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більши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ільни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ільни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79280" y="62064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Найбільшим спільним дільником (НСД) кількох чисел називається найбільше число, на яке ділиться кожне з дани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79280" y="278136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Щоб знайти найбільший спільний дільник кількох чисел, треба їх розкласти на прості множники і перемножити всі їхні спільні множ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50920" y="836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Знайти НСД (84,9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24000" y="1557360"/>
            <a:ext cx="4968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84     2            90     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42     2            45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21     3            15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7       7             5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1         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1116000" y="1628640"/>
            <a:ext cx="0" cy="3313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708360" y="1628640"/>
            <a:ext cx="0" cy="3240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>
            <a:off x="1332000" y="213372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1332000" y="364500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3924360" y="213372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3924360" y="285264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3851280" y="508464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НСД (84,90) = 2</a:t>
            </a:r>
            <a:r>
              <a:rPr b="1" lang="uk-UA" sz="3600" spc="-1" strike="noStrike">
                <a:solidFill>
                  <a:srgbClr val="0000ff"/>
                </a:solidFill>
                <a:latin typeface="Arial"/>
                <a:ea typeface="Arial"/>
              </a:rPr>
              <a:t>∙3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50920" y="549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Знайдіть НСД (42,7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24000" y="1341360"/>
            <a:ext cx="8569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 startAt="4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2                70      2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3                35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7                 7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1           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1042920" y="1341360"/>
            <a:ext cx="0" cy="2808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>
            <a:off x="4140360" y="1341360"/>
            <a:ext cx="0" cy="2735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1258920" y="1916280"/>
            <a:ext cx="433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1258920" y="3357720"/>
            <a:ext cx="433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4356000" y="191628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4356000" y="342900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539640" y="450864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НСД (42, 70) = 2</a:t>
            </a:r>
            <a:r>
              <a:rPr b="1" lang="uk-UA" sz="3600" spc="-1" strike="noStrike">
                <a:solidFill>
                  <a:srgbClr val="0000ff"/>
                </a:solidFill>
                <a:latin typeface="Arial"/>
                <a:ea typeface="Arial"/>
              </a:rPr>
              <a:t>∙7 =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77" name="Text Box 15" descr=""/>
          <p:cNvPicPr/>
          <p:nvPr/>
        </p:nvPicPr>
        <p:blipFill>
          <a:blip r:embed="rId2"/>
          <a:stretch/>
        </p:blipFill>
        <p:spPr>
          <a:xfrm>
            <a:off x="231840" y="646200"/>
            <a:ext cx="8478720" cy="524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250920" y="69228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Два числа, найбільший спільний дільник яких дорівнює 1, називаються взаємно прост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79280" y="2421000"/>
            <a:ext cx="842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Взаємно простими можуть бути не тільки два числа, а й три, і більше. Наприклад, числа 8, 9 і 25 – взаємно прості. Ці три числа не лише взаємно прості, а й попарно взаємно прості. Бо кожні два з них – числа взаємно пр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56-11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250920" y="692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Знайдемо НСД (65, 3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1341360"/>
            <a:ext cx="8569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 startAt="6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5                          32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13                         16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                           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8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4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2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>
            <a:off x="5292720" y="1341360"/>
            <a:ext cx="0" cy="4319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1042920" y="1413000"/>
            <a:ext cx="0" cy="20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0" y="3429000"/>
            <a:ext cx="424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Числа 65 і 32 мають один спільний дільник – число 1. Тому ці числа взаємно пр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смайлик Здорово"/>
          <p:cNvPicPr/>
          <p:nvPr/>
        </p:nvPicPr>
        <p:blipFill>
          <a:blip r:embed="rId2"/>
          <a:stretch/>
        </p:blipFill>
        <p:spPr>
          <a:xfrm>
            <a:off x="3419640" y="1700280"/>
            <a:ext cx="2023920" cy="2174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4:29:04Z</dcterms:created>
  <dc:creator>UserXP</dc:creator>
  <dc:description/>
  <dc:language>en-US</dc:language>
  <cp:lastModifiedBy>Пользователь Windows</cp:lastModifiedBy>
  <dcterms:modified xsi:type="dcterms:W3CDTF">2016-11-13T21:50:06Z</dcterms:modified>
  <cp:revision>6</cp:revision>
  <dc:subject/>
  <dc:title>Слайд 1</dc:title>
</cp:coreProperties>
</file>