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24AA-CEBD-47B0-9122-668DD4AF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A7E-2C91-4CB7-BE1E-C5F0C814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B628-2ADE-4CBE-8827-F6ADF652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728-E0BE-479E-99D2-8F70332C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DE7-5120-4FE0-BD4C-E4EE8B7C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3D96-5EA4-4818-9EC9-3B38F17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4E3-82DC-446B-A29A-834EBC1F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E8D3-5103-4A35-BD5C-F5B74681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074-F108-491E-9D06-C1460088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018-0CD9-49F0-978E-D78C147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0A9-AB22-4AF4-A1DD-779B9178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9B3-5D1A-4C06-8DDA-81525BC5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6B99-2DA9-442F-A54C-ED44F9F883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324000" y="1628640"/>
            <a:ext cx="8424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більш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ільний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ільни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79280" y="620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Найбільшим спільним дільником (НСД) кількох чисел називається найбільше число, на яке ділиться кожне з даних чис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9280" y="278136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Щоб знайти найбільший спільний дільник кількох чисел, треба їх розкласти на прості множники і перемножити всі їхні спільні множ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50920" y="836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ти НСД (84,9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4000" y="1557360"/>
            <a:ext cx="496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84     2            90     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42     2            45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1     3            15   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7       7             5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1116000" y="1628640"/>
            <a:ext cx="0" cy="331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3708360" y="1628640"/>
            <a:ext cx="0" cy="324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133200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1332000" y="364500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3924360" y="213372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3924360" y="2852640"/>
            <a:ext cx="4316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851280" y="5084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СД (84,90) = 2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  <a:ea typeface="Arial"/>
              </a:rPr>
              <a:t>∙3 =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0920" y="549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діть НСД (42,7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24000" y="1341360"/>
            <a:ext cx="8569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4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                70      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3                35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7                 7     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           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1042920" y="1341360"/>
            <a:ext cx="0" cy="2808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4140360" y="1341360"/>
            <a:ext cx="0" cy="2735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1258920" y="1916280"/>
            <a:ext cx="43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1258920" y="3357720"/>
            <a:ext cx="433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356000" y="191628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356000" y="3429000"/>
            <a:ext cx="432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539640" y="45086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НСД (42, 70) = 2</a:t>
            </a:r>
            <a:r>
              <a:rPr b="1" lang="uk-UA" sz="3600" spc="-1" strike="noStrike">
                <a:solidFill>
                  <a:srgbClr val="0000ff"/>
                </a:solidFill>
                <a:latin typeface="Arial"/>
                <a:ea typeface="Arial"/>
              </a:rPr>
              <a:t>∙7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77" name="Text Box 15" descr=""/>
          <p:cNvPicPr/>
          <p:nvPr/>
        </p:nvPicPr>
        <p:blipFill>
          <a:blip r:embed="rId2"/>
          <a:stretch/>
        </p:blipFill>
        <p:spPr>
          <a:xfrm>
            <a:off x="231840" y="646200"/>
            <a:ext cx="8478720" cy="524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50920" y="692280"/>
            <a:ext cx="84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Два числа, найбільший спільний дільник яких дорівнює 1, називаються взаємно прости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79280" y="2421000"/>
            <a:ext cx="842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Взаємно простими можуть бути не тільки два числа, а й три, і більше. Наприклад, числа 8, 9 і 25 – взаємно прості. Ці три числа не лише взаємно прості, а й попарно взаємно прості. Бо кожні два з них – числа взаємно пр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56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250920" y="692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Знайдемо НСД (65, 3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1341360"/>
            <a:ext cx="8569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6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5                          32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3                         16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8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4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2   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                                      </a:t>
            </a: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5292720" y="1341360"/>
            <a:ext cx="0" cy="4319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1042920" y="1413000"/>
            <a:ext cx="0" cy="20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0" y="3429000"/>
            <a:ext cx="4249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Числа 65 і 32 мають один спільний дільник – число 1. Тому ці числа взаємно пр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56-1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смайлик Здорово"/>
          <p:cNvPicPr/>
          <p:nvPr/>
        </p:nvPicPr>
        <p:blipFill>
          <a:blip r:embed="rId2"/>
          <a:stretch/>
        </p:blipFill>
        <p:spPr>
          <a:xfrm>
            <a:off x="3419640" y="1700280"/>
            <a:ext cx="2023920" cy="2174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4:29:04Z</dcterms:created>
  <dc:creator>UserXP</dc:creator>
  <dc:description/>
  <dc:language>en-US</dc:language>
  <cp:lastModifiedBy>Пользователь Windows</cp:lastModifiedBy>
  <dcterms:modified xsi:type="dcterms:W3CDTF">2016-11-13T21:50:06Z</dcterms:modified>
  <cp:revision>6</cp:revision>
  <dc:subject/>
  <dc:title>Слайд 1</dc:title>
</cp:coreProperties>
</file>