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4A69-AAB5-4F7D-9A3C-5735864E1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92F7-F450-4BF7-A6FB-25FDE2534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9811-4663-4F49-8E0B-5A26BBBC4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9F73-002D-4807-9DE4-55B4DB81B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C034-EEDF-4DE7-9D21-822182438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C830-05A3-48A8-811A-A659172FA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982D-B7A2-4F37-A558-0C83031AB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C83A-BCD7-48DE-843B-E66D6A072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030F-36AA-4051-8742-144102D53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854A-78DC-46DB-B745-5CFF666C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AB47-E2B1-47C3-9149-45D5CA61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EC80-D91A-410D-9B1A-46020C7E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A1342-3EE7-4036-846C-7F906F6136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56-11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44" name="WordArt 5"/>
          <p:cNvSpPr txBox="1"/>
          <p:nvPr/>
        </p:nvSpPr>
        <p:spPr>
          <a:xfrm>
            <a:off x="324000" y="1628640"/>
            <a:ext cx="842472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йбільший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ільний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ільни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56-11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179280" y="620640"/>
            <a:ext cx="8353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Arial"/>
              </a:rPr>
              <a:t>Найбільшим спільним дільником (НСД) кількох чисел називається найбільше число, на яке ділиться кожне з даних чис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179280" y="2781360"/>
            <a:ext cx="878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Щоб знайти найбільший спільний дільник кількох чисел, треба їх розкласти на прості множники і перемножити всі їхні спільні множн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56-11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250920" y="83664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Знайти НСД (84,90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324000" y="1557360"/>
            <a:ext cx="49687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84     2            90     2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42     2            45   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21     3            15   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7       7             5    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1                    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>
            <a:off x="1116000" y="1628640"/>
            <a:ext cx="0" cy="33130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8"/>
          <p:cNvSpPr/>
          <p:nvPr/>
        </p:nvSpPr>
        <p:spPr>
          <a:xfrm>
            <a:off x="3708360" y="1628640"/>
            <a:ext cx="0" cy="32403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9"/>
          <p:cNvSpPr/>
          <p:nvPr/>
        </p:nvSpPr>
        <p:spPr>
          <a:xfrm>
            <a:off x="1332000" y="2133720"/>
            <a:ext cx="4316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0"/>
          <p:cNvSpPr/>
          <p:nvPr/>
        </p:nvSpPr>
        <p:spPr>
          <a:xfrm>
            <a:off x="1332000" y="3645000"/>
            <a:ext cx="4316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1"/>
          <p:cNvSpPr/>
          <p:nvPr/>
        </p:nvSpPr>
        <p:spPr>
          <a:xfrm>
            <a:off x="3924360" y="2133720"/>
            <a:ext cx="4316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2"/>
          <p:cNvSpPr/>
          <p:nvPr/>
        </p:nvSpPr>
        <p:spPr>
          <a:xfrm>
            <a:off x="3924360" y="2852640"/>
            <a:ext cx="4316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3851280" y="5084640"/>
            <a:ext cx="51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ff"/>
                </a:solidFill>
                <a:latin typeface="Arial"/>
              </a:rPr>
              <a:t>НСД (84,90) = 2</a:t>
            </a:r>
            <a:r>
              <a:rPr b="1" lang="uk-UA" sz="3600" spc="-1" strike="noStrike">
                <a:solidFill>
                  <a:srgbClr val="0000ff"/>
                </a:solidFill>
                <a:latin typeface="Arial"/>
                <a:ea typeface="Arial"/>
              </a:rPr>
              <a:t>∙3 =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56-11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250920" y="54936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Знайдіть НСД (42,70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324000" y="1341360"/>
            <a:ext cx="8569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ff"/>
              </a:buClr>
              <a:buFont typeface="Arial"/>
              <a:buAutoNum type="arabicPlain" startAt="4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2                70      2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ff"/>
              </a:buClr>
              <a:buFont typeface="Arial"/>
              <a:buAutoNum type="arabicPlain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3                35    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ff"/>
              </a:buClr>
              <a:buFont typeface="Arial"/>
              <a:buAutoNum type="arabicPlain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7                 7      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1                      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7"/>
          <p:cNvSpPr/>
          <p:nvPr/>
        </p:nvSpPr>
        <p:spPr>
          <a:xfrm>
            <a:off x="1042920" y="1341360"/>
            <a:ext cx="0" cy="28083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9"/>
          <p:cNvSpPr/>
          <p:nvPr/>
        </p:nvSpPr>
        <p:spPr>
          <a:xfrm>
            <a:off x="4140360" y="1341360"/>
            <a:ext cx="0" cy="27352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0"/>
          <p:cNvSpPr/>
          <p:nvPr/>
        </p:nvSpPr>
        <p:spPr>
          <a:xfrm>
            <a:off x="1258920" y="1916280"/>
            <a:ext cx="4334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1"/>
          <p:cNvSpPr/>
          <p:nvPr/>
        </p:nvSpPr>
        <p:spPr>
          <a:xfrm>
            <a:off x="1258920" y="3357720"/>
            <a:ext cx="4334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2"/>
          <p:cNvSpPr/>
          <p:nvPr/>
        </p:nvSpPr>
        <p:spPr>
          <a:xfrm>
            <a:off x="4356000" y="1916280"/>
            <a:ext cx="432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3"/>
          <p:cNvSpPr/>
          <p:nvPr/>
        </p:nvSpPr>
        <p:spPr>
          <a:xfrm>
            <a:off x="4356000" y="3429000"/>
            <a:ext cx="432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5"/>
          <p:cNvSpPr/>
          <p:nvPr/>
        </p:nvSpPr>
        <p:spPr>
          <a:xfrm>
            <a:off x="539640" y="450864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ff"/>
                </a:solidFill>
                <a:latin typeface="Arial"/>
              </a:rPr>
              <a:t>НСД (42, 70) = 2</a:t>
            </a:r>
            <a:r>
              <a:rPr b="1" lang="uk-UA" sz="3600" spc="-1" strike="noStrike">
                <a:solidFill>
                  <a:srgbClr val="0000ff"/>
                </a:solidFill>
                <a:latin typeface="Arial"/>
                <a:ea typeface="Arial"/>
              </a:rPr>
              <a:t>∙7 = 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56-11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pic>
        <p:nvPicPr>
          <p:cNvPr id="77" name="Text Box 15" descr=""/>
          <p:cNvPicPr/>
          <p:nvPr/>
        </p:nvPicPr>
        <p:blipFill>
          <a:blip r:embed="rId2"/>
          <a:stretch/>
        </p:blipFill>
        <p:spPr>
          <a:xfrm>
            <a:off x="231840" y="646200"/>
            <a:ext cx="8478720" cy="5248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56-11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250920" y="692280"/>
            <a:ext cx="84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Arial"/>
              </a:rPr>
              <a:t>Два числа, найбільший спільний дільник яких дорівнює 1, називаються взаємно прости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179280" y="2421000"/>
            <a:ext cx="8425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Arial"/>
              </a:rPr>
              <a:t>Взаємно простими можуть бути не тільки два числа, а й три, і більше. Наприклад, числа 8, 9 і 25 – взаємно прості. Ці три числа не лише взаємно прості, а й попарно взаємно прості. Бо кожні два з них – числа взаємно прост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56-11"/>
          <p:cNvPicPr/>
          <p:nvPr/>
        </p:nvPicPr>
        <p:blipFill>
          <a:blip r:embed="rId1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250920" y="69228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Знайдемо НСД (65, 32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324000" y="1341360"/>
            <a:ext cx="85690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ff"/>
              </a:buClr>
              <a:buFont typeface="Arial"/>
              <a:buAutoNum type="arabicPlain" startAt="6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5                          32     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ff"/>
              </a:buClr>
              <a:buFont typeface="Arial"/>
              <a:buAutoNum type="arabicPlain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13                         16     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ff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                                   </a:t>
            </a: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8     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                                      </a:t>
            </a: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4     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                                      </a:t>
            </a: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2     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                                      </a:t>
            </a: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7"/>
          <p:cNvSpPr/>
          <p:nvPr/>
        </p:nvSpPr>
        <p:spPr>
          <a:xfrm>
            <a:off x="5292720" y="1341360"/>
            <a:ext cx="0" cy="43196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8"/>
          <p:cNvSpPr/>
          <p:nvPr/>
        </p:nvSpPr>
        <p:spPr>
          <a:xfrm>
            <a:off x="1042920" y="1413000"/>
            <a:ext cx="0" cy="20872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0" y="3429000"/>
            <a:ext cx="4249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Числа 65 і 32 мають один спільний дільник – число 1. Тому ці числа взаємно прост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56-11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смайлик Здорово"/>
          <p:cNvPicPr/>
          <p:nvPr/>
        </p:nvPicPr>
        <p:blipFill>
          <a:blip r:embed="rId2"/>
          <a:stretch/>
        </p:blipFill>
        <p:spPr>
          <a:xfrm>
            <a:off x="3419640" y="1700280"/>
            <a:ext cx="2023920" cy="2174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4:29:04Z</dcterms:created>
  <dc:creator>UserXP</dc:creator>
  <dc:description/>
  <dc:language>en-US</dc:language>
  <cp:lastModifiedBy>Пользователь Windows</cp:lastModifiedBy>
  <dcterms:modified xsi:type="dcterms:W3CDTF">2016-11-13T21:50:06Z</dcterms:modified>
  <cp:revision>6</cp:revision>
  <dc:subject/>
  <dc:title>Слайд 1</dc:title>
</cp:coreProperties>
</file>