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0826-3CF4-459B-8321-5C827D57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5D44-C46C-4058-8B97-71ABA28C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9654-4952-4DAD-A0E3-3B9550F8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46F-FDFC-4364-8C38-61FE75360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5E0-2507-4D3E-AD3C-6BB03731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CBE7-ABE7-4345-AAEF-850C8764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B069-5860-4D99-93DF-E3C79E96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E7E-02E0-4965-A210-0900CB21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F6B-37CA-46B5-BE54-B151BA6D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F02-B230-40D2-AF40-6401A16C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917-B9E9-4BBB-95A1-4E0A93A6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EFB-B39C-444F-A72D-6EC4A59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CAA4-AD91-4783-8D7B-97D4BEDFD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2438280" y="1143000"/>
            <a:ext cx="58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Times New Roman"/>
              </a:rPr>
              <a:t>Найменше спільне кратн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69261136_09"/>
          <p:cNvPicPr/>
          <p:nvPr/>
        </p:nvPicPr>
        <p:blipFill>
          <a:blip r:embed="rId1"/>
          <a:stretch/>
        </p:blipFill>
        <p:spPr>
          <a:xfrm>
            <a:off x="533520" y="685800"/>
            <a:ext cx="26226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04920" y="30492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ла кратні 8 (тобто, ці числа розділяться на 8 без залишку): це числа 16, 24, 32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і 9: 18, 27, 36, 45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кратные и делители числа"/>
          <p:cNvPicPr/>
          <p:nvPr/>
        </p:nvPicPr>
        <p:blipFill>
          <a:blip r:embed="rId1"/>
          <a:stretch/>
        </p:blipFill>
        <p:spPr>
          <a:xfrm>
            <a:off x="914400" y="4343400"/>
            <a:ext cx="6705720" cy="2243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752480" y="472428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АТ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410080" y="480060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І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КлипАрт Отрисовки деток на прозрачном фоне http://li-web.ru/"/>
          <p:cNvPicPr/>
          <p:nvPr/>
        </p:nvPicPr>
        <p:blipFill>
          <a:blip r:embed="rId2"/>
          <a:stretch/>
        </p:blipFill>
        <p:spPr>
          <a:xfrm>
            <a:off x="7203960" y="1752480"/>
            <a:ext cx="173520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304920" y="2438280"/>
            <a:ext cx="69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ел, кратних даному числу нескінченно бага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відміну від дільників цього ж чис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ільників - кінцеве кільк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1523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ратн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2590920"/>
            <a:ext cx="2158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ратні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047320" y="1371600"/>
            <a:ext cx="72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 2, 4, 6, 8, 10, 12, 14, 16, 18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73880" y="2514600"/>
            <a:ext cx="58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 3, 6, 9, 12, 15, 18, 21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50532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89548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56272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19112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815328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79132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62120" y="41911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ільне крат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884400" y="4038480"/>
            <a:ext cx="21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6, 12,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609480" y="15228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ільним кратним двох натуральних чисел називається число, яке ділиться на обидва ці числа без остач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8088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менше спільне крат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5182560" y="5638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КлипАрт Отрисовки деток на прозрачном фоне http://li-web.ru/"/>
          <p:cNvPicPr/>
          <p:nvPr/>
        </p:nvPicPr>
        <p:blipFill>
          <a:blip r:embed="rId1"/>
          <a:stretch/>
        </p:blipFill>
        <p:spPr>
          <a:xfrm>
            <a:off x="7230960" y="2057400"/>
            <a:ext cx="1631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2"/>
          <p:cNvSpPr/>
          <p:nvPr/>
        </p:nvSpPr>
        <p:spPr>
          <a:xfrm>
            <a:off x="2971800" y="1066680"/>
            <a:ext cx="5791320" cy="5353200"/>
          </a:xfrm>
          <a:prstGeom prst="rect">
            <a:avLst/>
          </a:prstGeom>
          <a:solidFill>
            <a:srgbClr val="cde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048120" y="1295280"/>
            <a:ext cx="579096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ПАМ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`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ЯТАТ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меншим спільним кратним (НСК) двох і більше натуральних чисел називаєтьс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менш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туральне число, як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мо ділиться без остач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кожне з ц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69261152_10"/>
          <p:cNvPicPr/>
          <p:nvPr/>
        </p:nvPicPr>
        <p:blipFill>
          <a:blip r:embed="rId1"/>
          <a:stretch/>
        </p:blipFill>
        <p:spPr>
          <a:xfrm>
            <a:off x="533520" y="1219320"/>
            <a:ext cx="2257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3"/>
          <p:cNvSpPr txBox="1"/>
          <p:nvPr/>
        </p:nvSpPr>
        <p:spPr>
          <a:xfrm>
            <a:off x="5410080" y="1828800"/>
            <a:ext cx="5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5410080" y="2895480"/>
            <a:ext cx="5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6240" y="1828800"/>
            <a:ext cx="16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019920" y="2895480"/>
            <a:ext cx="16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 3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514600" y="434340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, 9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7315200" y="2514600"/>
            <a:ext cx="431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553080" y="251460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477120" y="4267080"/>
            <a:ext cx="120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553080" y="3581280"/>
            <a:ext cx="432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6552720" y="2743200"/>
            <a:ext cx="360360" cy="93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238880" y="2819520"/>
            <a:ext cx="576360" cy="10080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7391520" y="3733920"/>
            <a:ext cx="83808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544880" y="4267080"/>
            <a:ext cx="7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6"/>
          <p:cNvSpPr txBox="1"/>
          <p:nvPr/>
        </p:nvSpPr>
        <p:spPr>
          <a:xfrm>
            <a:off x="3505320" y="53352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, 9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17"/>
          <p:cNvSpPr txBox="1"/>
          <p:nvPr/>
        </p:nvSpPr>
        <p:spPr>
          <a:xfrm>
            <a:off x="7696080" y="533520"/>
            <a:ext cx="546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6173640" y="53341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0" descr="69261136_09"/>
          <p:cNvPicPr/>
          <p:nvPr/>
        </p:nvPicPr>
        <p:blipFill>
          <a:blip r:embed="rId1"/>
          <a:stretch/>
        </p:blipFill>
        <p:spPr>
          <a:xfrm>
            <a:off x="533520" y="685800"/>
            <a:ext cx="26226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332000" y="549360"/>
            <a:ext cx="410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0,75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5580000" y="404640"/>
            <a:ext cx="546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77800" y="1363680"/>
            <a:ext cx="7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2626920" y="1341360"/>
            <a:ext cx="1800" cy="3743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17800" y="1341360"/>
            <a:ext cx="48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862520" y="1363680"/>
            <a:ext cx="79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>
            <a:off x="6012000" y="1341360"/>
            <a:ext cx="1440" cy="35276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302160" y="1341360"/>
            <a:ext cx="48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6372360" y="2133720"/>
            <a:ext cx="288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2987640" y="3573360"/>
            <a:ext cx="289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6372360" y="2781360"/>
            <a:ext cx="288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1676520" y="5410080"/>
            <a:ext cx="39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0,75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640120" y="5181480"/>
            <a:ext cx="22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653080" y="594360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6300720" y="1413000"/>
            <a:ext cx="50328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 flipH="1">
            <a:off x="6300720" y="2133720"/>
            <a:ext cx="50328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7713360" y="5157720"/>
            <a:ext cx="9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1"/>
          <p:cNvSpPr/>
          <p:nvPr/>
        </p:nvSpPr>
        <p:spPr>
          <a:xfrm>
            <a:off x="6156360" y="2924280"/>
            <a:ext cx="792000" cy="720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2"/>
          <p:cNvSpPr/>
          <p:nvPr/>
        </p:nvSpPr>
        <p:spPr>
          <a:xfrm>
            <a:off x="6726240" y="3444840"/>
            <a:ext cx="1190520" cy="1690560"/>
          </a:xfrm>
          <a:custGeom>
            <a:avLst/>
            <a:gdLst/>
            <a:ahLst/>
            <a:rect l="l" t="t" r="r" b="b"/>
            <a:pathLst>
              <a:path w="750" h="1065">
                <a:moveTo>
                  <a:pt x="0" y="0"/>
                </a:moveTo>
                <a:lnTo>
                  <a:pt x="750" y="1065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668600" y="2532240"/>
            <a:ext cx="163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668600" y="2532240"/>
            <a:ext cx="163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68600" y="3443400"/>
          <a:ext cx="3270240" cy="51732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22" descr=""/>
          <p:cNvPicPr/>
          <p:nvPr/>
        </p:nvPicPr>
        <p:blipFill>
          <a:blip r:embed="rId1"/>
          <a:srcRect l="15001" t="32814" r="8751" b="26564"/>
          <a:stretch/>
        </p:blipFill>
        <p:spPr>
          <a:xfrm>
            <a:off x="-152280" y="0"/>
            <a:ext cx="8991360" cy="6477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648320" y="2819520"/>
            <a:ext cx="3429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4" descr="КлипАрт Отрисовки деток на прозрачном фоне http://li-web.ru/"/>
          <p:cNvPicPr/>
          <p:nvPr/>
        </p:nvPicPr>
        <p:blipFill>
          <a:blip r:embed="rId2"/>
          <a:stretch/>
        </p:blipFill>
        <p:spPr>
          <a:xfrm>
            <a:off x="7705800" y="3962520"/>
            <a:ext cx="1255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Пользователь Windows</cp:lastModifiedBy>
  <dcterms:modified xsi:type="dcterms:W3CDTF">2016-11-13T22:08:5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