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568-8649-447C-9970-CDBE1F33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CC55-DB11-4475-8C1C-E7454B1A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5402-67A1-4FEC-950E-E83291A1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FB11-19C2-4F96-8ACE-DC194018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C05A-0D02-4518-B25F-2311B026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FFC5-C0BC-4E02-9CA6-F7BB7305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D850-EC5B-4A19-8AA5-E4756436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E5E-8607-4FF8-8DF6-263CC0D6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2A6-3EA3-4BFF-9D61-CE781F86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580-EE0F-4721-BF72-12C6BA16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746A-435C-45B9-953E-C4AF33D7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588-7D57-40F2-B49A-5172F473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0CBF-FD7D-49DE-8F97-404C26AAA7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2438280" y="1143000"/>
            <a:ext cx="586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ff0000"/>
                </a:solidFill>
                <a:latin typeface="Times New Roman"/>
              </a:rPr>
              <a:t>Найменше спільне кратн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69261136_09"/>
          <p:cNvPicPr/>
          <p:nvPr/>
        </p:nvPicPr>
        <p:blipFill>
          <a:blip r:embed="rId1"/>
          <a:stretch/>
        </p:blipFill>
        <p:spPr>
          <a:xfrm>
            <a:off x="533520" y="685800"/>
            <a:ext cx="262260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04920" y="304920"/>
            <a:ext cx="81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исла кратні 8 (тобто, ці числа розділяться на 8 без залишку): це числа 16, 24, 32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атні 9: 18, 27, 36, 45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кратные и делители числа"/>
          <p:cNvPicPr/>
          <p:nvPr/>
        </p:nvPicPr>
        <p:blipFill>
          <a:blip r:embed="rId1"/>
          <a:stretch/>
        </p:blipFill>
        <p:spPr>
          <a:xfrm>
            <a:off x="914400" y="4343400"/>
            <a:ext cx="6705720" cy="22431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1752480" y="4724280"/>
            <a:ext cx="228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РАТ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5410080" y="4800600"/>
            <a:ext cx="228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ДІЛЬ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КлипАрт Отрисовки деток на прозрачном фоне http://li-web.ru/"/>
          <p:cNvPicPr/>
          <p:nvPr/>
        </p:nvPicPr>
        <p:blipFill>
          <a:blip r:embed="rId2"/>
          <a:stretch/>
        </p:blipFill>
        <p:spPr>
          <a:xfrm>
            <a:off x="7203960" y="1752480"/>
            <a:ext cx="1735200" cy="51055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"/>
          <p:cNvSpPr/>
          <p:nvPr/>
        </p:nvSpPr>
        <p:spPr>
          <a:xfrm>
            <a:off x="304920" y="2438280"/>
            <a:ext cx="6933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исел, кратних даному числу нескінченно багат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відміну від дільників цього ж чис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ільників - кінцеве кількі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04920" y="15238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ратні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28600" y="2590920"/>
            <a:ext cx="2158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Кратні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047320" y="1371600"/>
            <a:ext cx="72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 2, 4, 6, 8, 10, 12, 14, 16, 18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973880" y="2514600"/>
            <a:ext cx="583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 3, 6, 9, 12, 15, 18, 21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3505320" y="2057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2895480" y="3200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5562720" y="2057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4191120" y="3200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8153280" y="2057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5791320" y="32004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762120" y="41911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ільне крат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3884400" y="4038480"/>
            <a:ext cx="21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6, 12,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609480" y="152280"/>
            <a:ext cx="8305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ОНСП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ільним кратним двох натуральних чисел називається число, яке ділиться на обидва ці числа без остач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38088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йменше спільне крат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5182560" y="5638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6" descr="КлипАрт Отрисовки деток на прозрачном фоне http://li-web.ru/"/>
          <p:cNvPicPr/>
          <p:nvPr/>
        </p:nvPicPr>
        <p:blipFill>
          <a:blip r:embed="rId1"/>
          <a:stretch/>
        </p:blipFill>
        <p:spPr>
          <a:xfrm>
            <a:off x="7230960" y="2057400"/>
            <a:ext cx="1631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2"/>
          <p:cNvSpPr/>
          <p:nvPr/>
        </p:nvSpPr>
        <p:spPr>
          <a:xfrm>
            <a:off x="2971800" y="1066680"/>
            <a:ext cx="5791320" cy="5353200"/>
          </a:xfrm>
          <a:prstGeom prst="rect">
            <a:avLst/>
          </a:prstGeom>
          <a:solidFill>
            <a:srgbClr val="cde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3048120" y="1295280"/>
            <a:ext cx="579096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АПАМ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`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ЯТАТИ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йменшим спільним кратним (НСК) двох і більше натуральних чисел називається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йменш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туральне число, як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амо ділиться без остачі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на кожне з цих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69261152_10"/>
          <p:cNvPicPr/>
          <p:nvPr/>
        </p:nvPicPr>
        <p:blipFill>
          <a:blip r:embed="rId1"/>
          <a:stretch/>
        </p:blipFill>
        <p:spPr>
          <a:xfrm>
            <a:off x="533520" y="1219320"/>
            <a:ext cx="225720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3"/>
          <p:cNvSpPr txBox="1"/>
          <p:nvPr/>
        </p:nvSpPr>
        <p:spPr>
          <a:xfrm>
            <a:off x="5410080" y="1828800"/>
            <a:ext cx="505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5410080" y="2895480"/>
            <a:ext cx="5050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9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096240" y="1828800"/>
            <a:ext cx="16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 2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019920" y="2895480"/>
            <a:ext cx="166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 3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2514600" y="4343400"/>
            <a:ext cx="381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СК (6, 9) =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Line 8"/>
          <p:cNvSpPr/>
          <p:nvPr/>
        </p:nvSpPr>
        <p:spPr>
          <a:xfrm>
            <a:off x="7315200" y="2514600"/>
            <a:ext cx="431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"/>
          <p:cNvSpPr/>
          <p:nvPr/>
        </p:nvSpPr>
        <p:spPr>
          <a:xfrm>
            <a:off x="6553080" y="2514600"/>
            <a:ext cx="1152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6477120" y="4267080"/>
            <a:ext cx="120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6553080" y="3581280"/>
            <a:ext cx="432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 flipH="1">
            <a:off x="6552720" y="2743200"/>
            <a:ext cx="360360" cy="934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3"/>
          <p:cNvSpPr/>
          <p:nvPr/>
        </p:nvSpPr>
        <p:spPr>
          <a:xfrm>
            <a:off x="7238880" y="2819520"/>
            <a:ext cx="576360" cy="10080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7391520" y="3733920"/>
            <a:ext cx="83808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7544880" y="4267080"/>
            <a:ext cx="78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16"/>
          <p:cNvSpPr txBox="1"/>
          <p:nvPr/>
        </p:nvSpPr>
        <p:spPr>
          <a:xfrm>
            <a:off x="3505320" y="533520"/>
            <a:ext cx="410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СК (6, 9) =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WordArt 17"/>
          <p:cNvSpPr txBox="1"/>
          <p:nvPr/>
        </p:nvSpPr>
        <p:spPr>
          <a:xfrm>
            <a:off x="7696080" y="533520"/>
            <a:ext cx="54612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6173640" y="533412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0" descr="69261136_09"/>
          <p:cNvPicPr/>
          <p:nvPr/>
        </p:nvPicPr>
        <p:blipFill>
          <a:blip r:embed="rId1"/>
          <a:stretch/>
        </p:blipFill>
        <p:spPr>
          <a:xfrm>
            <a:off x="533520" y="685800"/>
            <a:ext cx="262260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1332000" y="549360"/>
            <a:ext cx="4103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СК (60,75) =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5580000" y="404640"/>
            <a:ext cx="54612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477800" y="1363680"/>
            <a:ext cx="7905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 flipH="1">
            <a:off x="2626920" y="1341360"/>
            <a:ext cx="1800" cy="37432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917800" y="1341360"/>
            <a:ext cx="485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862520" y="1363680"/>
            <a:ext cx="790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 flipH="1">
            <a:off x="6012000" y="1341360"/>
            <a:ext cx="1440" cy="352764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302160" y="1341360"/>
            <a:ext cx="485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1"/>
          <p:cNvSpPr/>
          <p:nvPr/>
        </p:nvSpPr>
        <p:spPr>
          <a:xfrm>
            <a:off x="6372360" y="2133720"/>
            <a:ext cx="2887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3"/>
          <p:cNvSpPr/>
          <p:nvPr/>
        </p:nvSpPr>
        <p:spPr>
          <a:xfrm>
            <a:off x="2987640" y="3573360"/>
            <a:ext cx="28908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4"/>
          <p:cNvSpPr/>
          <p:nvPr/>
        </p:nvSpPr>
        <p:spPr>
          <a:xfrm>
            <a:off x="6372360" y="2781360"/>
            <a:ext cx="2887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5"/>
          <p:cNvSpPr txBox="1"/>
          <p:nvPr/>
        </p:nvSpPr>
        <p:spPr>
          <a:xfrm>
            <a:off x="1676520" y="5410080"/>
            <a:ext cx="396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НСК (60,75) =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5640120" y="5181480"/>
            <a:ext cx="22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3</a:t>
            </a:r>
            <a:r>
              <a:rPr b="1" lang="en-US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5653080" y="594360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3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8"/>
          <p:cNvSpPr/>
          <p:nvPr/>
        </p:nvSpPr>
        <p:spPr>
          <a:xfrm flipH="1">
            <a:off x="6300720" y="1413000"/>
            <a:ext cx="503280" cy="93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9"/>
          <p:cNvSpPr/>
          <p:nvPr/>
        </p:nvSpPr>
        <p:spPr>
          <a:xfrm flipH="1">
            <a:off x="6300720" y="2133720"/>
            <a:ext cx="503280" cy="93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7713360" y="5157720"/>
            <a:ext cx="9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1"/>
          <p:cNvSpPr/>
          <p:nvPr/>
        </p:nvSpPr>
        <p:spPr>
          <a:xfrm>
            <a:off x="6156360" y="2924280"/>
            <a:ext cx="792000" cy="7207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22"/>
          <p:cNvSpPr/>
          <p:nvPr/>
        </p:nvSpPr>
        <p:spPr>
          <a:xfrm>
            <a:off x="6726240" y="3444840"/>
            <a:ext cx="1190520" cy="1690560"/>
          </a:xfrm>
          <a:custGeom>
            <a:avLst/>
            <a:gdLst/>
            <a:ahLst/>
            <a:rect l="l" t="t" r="r" b="b"/>
            <a:pathLst>
              <a:path w="750" h="1065">
                <a:moveTo>
                  <a:pt x="0" y="0"/>
                </a:moveTo>
                <a:lnTo>
                  <a:pt x="750" y="1065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1668600" y="2532240"/>
            <a:ext cx="1635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1668600" y="2532240"/>
            <a:ext cx="1635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668600" y="3443400"/>
          <a:ext cx="3270240" cy="517320"/>
        </p:xfrm>
        <a:graphic>
          <a:graphicData uri="http://schemas.openxmlformats.org/drawingml/2006/table">
            <a:tbl>
              <a:tblPr/>
              <a:tblGrid>
                <a:gridCol w="1635120"/>
                <a:gridCol w="1635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Picture 22" descr=""/>
          <p:cNvPicPr/>
          <p:nvPr/>
        </p:nvPicPr>
        <p:blipFill>
          <a:blip r:embed="rId1"/>
          <a:srcRect l="15001" t="32814" r="8751" b="26564"/>
          <a:stretch/>
        </p:blipFill>
        <p:spPr>
          <a:xfrm>
            <a:off x="-152280" y="0"/>
            <a:ext cx="8991360" cy="64771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3"/>
          <p:cNvSpPr/>
          <p:nvPr/>
        </p:nvSpPr>
        <p:spPr>
          <a:xfrm>
            <a:off x="4648320" y="2819520"/>
            <a:ext cx="34290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4" descr="КлипАрт Отрисовки деток на прозрачном фоне http://li-web.ru/"/>
          <p:cNvPicPr/>
          <p:nvPr/>
        </p:nvPicPr>
        <p:blipFill>
          <a:blip r:embed="rId2"/>
          <a:stretch/>
        </p:blipFill>
        <p:spPr>
          <a:xfrm>
            <a:off x="7705800" y="3962520"/>
            <a:ext cx="12556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</dc:creator>
  <dc:description/>
  <dc:language>en-US</dc:language>
  <cp:lastModifiedBy>Пользователь Windows</cp:lastModifiedBy>
  <dcterms:modified xsi:type="dcterms:W3CDTF">2016-11-13T22:08:55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