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C5DF-99EC-43C8-A009-656AA551E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C3EC-4F24-45CA-9D4E-461078FA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C333-DFAF-4B15-98C9-A4A0DA114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DC8C-1698-43F1-ACFF-5CD591FA2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3870-336A-4A4F-A76D-CE56344A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C6AB-FFDD-4793-B9F4-BCB1C033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AA02-04AC-48FF-8294-C2090C26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2A3A-7530-4233-A622-62AAE746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A85B-9D47-4D86-B6A7-5C617979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90E3-6EC7-481D-ABCB-D317346C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226D-83E5-4862-A019-A7FFC03A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7BDE-1F51-4A48-9D05-8A494AAE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5FC7-D7D2-42CE-8177-5B988729C3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2"/>
          <p:cNvSpPr/>
          <p:nvPr/>
        </p:nvSpPr>
        <p:spPr>
          <a:xfrm>
            <a:off x="2438280" y="1143000"/>
            <a:ext cx="5867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0000"/>
                </a:solidFill>
                <a:latin typeface="Times New Roman"/>
              </a:rPr>
              <a:t>Найменше спільне кратн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3" descr="69261136_09"/>
          <p:cNvPicPr/>
          <p:nvPr/>
        </p:nvPicPr>
        <p:blipFill>
          <a:blip r:embed="rId1"/>
          <a:stretch/>
        </p:blipFill>
        <p:spPr>
          <a:xfrm>
            <a:off x="533520" y="685800"/>
            <a:ext cx="262260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304920" y="304920"/>
            <a:ext cx="815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исла кратні 8 (тобто, ці числа розділяться на 8 без залишку): це числа 16, 24, 32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атні 9: 18, 27, 36, 45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кратные и делители числа"/>
          <p:cNvPicPr/>
          <p:nvPr/>
        </p:nvPicPr>
        <p:blipFill>
          <a:blip r:embed="rId1"/>
          <a:stretch/>
        </p:blipFill>
        <p:spPr>
          <a:xfrm>
            <a:off x="914400" y="4343400"/>
            <a:ext cx="6705720" cy="22431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1752480" y="4724280"/>
            <a:ext cx="228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РАТ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5410080" y="4800600"/>
            <a:ext cx="228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ДІЛЬ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КлипАрт Отрисовки деток на прозрачном фоне http://li-web.ru/"/>
          <p:cNvPicPr/>
          <p:nvPr/>
        </p:nvPicPr>
        <p:blipFill>
          <a:blip r:embed="rId2"/>
          <a:stretch/>
        </p:blipFill>
        <p:spPr>
          <a:xfrm>
            <a:off x="7203960" y="1752480"/>
            <a:ext cx="1735200" cy="51055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0"/>
          <p:cNvSpPr/>
          <p:nvPr/>
        </p:nvSpPr>
        <p:spPr>
          <a:xfrm>
            <a:off x="304920" y="2438280"/>
            <a:ext cx="693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исел, кратних даному числу нескінченно багат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відміну від дільників цього ж чис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ільників - кінцеве кількі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04920" y="15238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Кратні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28600" y="2590920"/>
            <a:ext cx="2158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Кратні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047320" y="1371600"/>
            <a:ext cx="72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 2, 4, 6, 8, 10, 12, 14, 16, 18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973880" y="2514600"/>
            <a:ext cx="583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 3, 6, 9, 12, 15, 18, 21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>
            <a:off x="3505320" y="2057400"/>
            <a:ext cx="5032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7"/>
          <p:cNvSpPr/>
          <p:nvPr/>
        </p:nvSpPr>
        <p:spPr>
          <a:xfrm>
            <a:off x="2895480" y="3200400"/>
            <a:ext cx="5032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>
            <a:off x="5562720" y="2057400"/>
            <a:ext cx="5032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9"/>
          <p:cNvSpPr/>
          <p:nvPr/>
        </p:nvSpPr>
        <p:spPr>
          <a:xfrm>
            <a:off x="4191120" y="3200400"/>
            <a:ext cx="5032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8153280" y="2057400"/>
            <a:ext cx="5032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>
            <a:off x="5791320" y="3200400"/>
            <a:ext cx="5032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762120" y="41911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ільне кратн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3884400" y="4038480"/>
            <a:ext cx="21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6, 12,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609480" y="152280"/>
            <a:ext cx="8305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ОНСП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ільним кратним двох натуральних чисел називається число, яке ділиться на обидва ці числа без остач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380880" y="56386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йменше спільне кратн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5182560" y="5638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6" descr="КлипАрт Отрисовки деток на прозрачном фоне http://li-web.ru/"/>
          <p:cNvPicPr/>
          <p:nvPr/>
        </p:nvPicPr>
        <p:blipFill>
          <a:blip r:embed="rId1"/>
          <a:stretch/>
        </p:blipFill>
        <p:spPr>
          <a:xfrm>
            <a:off x="7230960" y="2057400"/>
            <a:ext cx="1631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2"/>
          <p:cNvSpPr/>
          <p:nvPr/>
        </p:nvSpPr>
        <p:spPr>
          <a:xfrm>
            <a:off x="2971800" y="1066680"/>
            <a:ext cx="5791320" cy="5353200"/>
          </a:xfrm>
          <a:prstGeom prst="rect">
            <a:avLst/>
          </a:prstGeom>
          <a:solidFill>
            <a:srgbClr val="cde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3048120" y="1295280"/>
            <a:ext cx="5790960" cy="44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ЗАПАМ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`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ЯТАТИ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йменшим спільним кратним (НСК) двох і більше натуральних чисел називається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йменш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туральне число, яке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амо ділиться без остачі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на кожне з цих чис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6" descr="69261152_10"/>
          <p:cNvPicPr/>
          <p:nvPr/>
        </p:nvPicPr>
        <p:blipFill>
          <a:blip r:embed="rId1"/>
          <a:stretch/>
        </p:blipFill>
        <p:spPr>
          <a:xfrm>
            <a:off x="533520" y="1219320"/>
            <a:ext cx="22572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3"/>
          <p:cNvSpPr txBox="1"/>
          <p:nvPr/>
        </p:nvSpPr>
        <p:spPr>
          <a:xfrm>
            <a:off x="5410080" y="1828800"/>
            <a:ext cx="5050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5410080" y="2895480"/>
            <a:ext cx="5050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9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6096240" y="1828800"/>
            <a:ext cx="166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= 2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6019920" y="2895480"/>
            <a:ext cx="166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= 3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7"/>
          <p:cNvSpPr txBox="1"/>
          <p:nvPr/>
        </p:nvSpPr>
        <p:spPr>
          <a:xfrm>
            <a:off x="2514600" y="4343400"/>
            <a:ext cx="381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НСК (6, 9) =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Line 8"/>
          <p:cNvSpPr/>
          <p:nvPr/>
        </p:nvSpPr>
        <p:spPr>
          <a:xfrm>
            <a:off x="7315200" y="2514600"/>
            <a:ext cx="431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"/>
          <p:cNvSpPr/>
          <p:nvPr/>
        </p:nvSpPr>
        <p:spPr>
          <a:xfrm>
            <a:off x="6553080" y="2514600"/>
            <a:ext cx="115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6477120" y="4267080"/>
            <a:ext cx="120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1"/>
          <p:cNvSpPr/>
          <p:nvPr/>
        </p:nvSpPr>
        <p:spPr>
          <a:xfrm>
            <a:off x="6553080" y="3581280"/>
            <a:ext cx="432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 flipH="1">
            <a:off x="6552720" y="2743200"/>
            <a:ext cx="360360" cy="93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3"/>
          <p:cNvSpPr/>
          <p:nvPr/>
        </p:nvSpPr>
        <p:spPr>
          <a:xfrm>
            <a:off x="7238880" y="2819520"/>
            <a:ext cx="576360" cy="100800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4"/>
          <p:cNvSpPr/>
          <p:nvPr/>
        </p:nvSpPr>
        <p:spPr>
          <a:xfrm>
            <a:off x="7391520" y="3733920"/>
            <a:ext cx="83808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7544880" y="4267080"/>
            <a:ext cx="78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16"/>
          <p:cNvSpPr txBox="1"/>
          <p:nvPr/>
        </p:nvSpPr>
        <p:spPr>
          <a:xfrm>
            <a:off x="3505320" y="533520"/>
            <a:ext cx="4103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НСК (6, 9) =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3" name="WordArt 17"/>
          <p:cNvSpPr txBox="1"/>
          <p:nvPr/>
        </p:nvSpPr>
        <p:spPr>
          <a:xfrm>
            <a:off x="7696080" y="533520"/>
            <a:ext cx="546120" cy="7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Text Box 18"/>
          <p:cNvSpPr/>
          <p:nvPr/>
        </p:nvSpPr>
        <p:spPr>
          <a:xfrm>
            <a:off x="6173640" y="5334120"/>
            <a:ext cx="14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0" descr="69261136_09"/>
          <p:cNvPicPr/>
          <p:nvPr/>
        </p:nvPicPr>
        <p:blipFill>
          <a:blip r:embed="rId1"/>
          <a:stretch/>
        </p:blipFill>
        <p:spPr>
          <a:xfrm>
            <a:off x="533520" y="685800"/>
            <a:ext cx="262260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2"/>
          <p:cNvSpPr txBox="1"/>
          <p:nvPr/>
        </p:nvSpPr>
        <p:spPr>
          <a:xfrm>
            <a:off x="1332000" y="549360"/>
            <a:ext cx="4103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НСК (60,75) =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" name="WordArt 3"/>
          <p:cNvSpPr txBox="1"/>
          <p:nvPr/>
        </p:nvSpPr>
        <p:spPr>
          <a:xfrm>
            <a:off x="5580000" y="404640"/>
            <a:ext cx="546120" cy="7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477800" y="1363680"/>
            <a:ext cx="7905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"/>
          <p:cNvSpPr/>
          <p:nvPr/>
        </p:nvSpPr>
        <p:spPr>
          <a:xfrm flipH="1">
            <a:off x="2626920" y="1341360"/>
            <a:ext cx="1800" cy="374328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917800" y="1341360"/>
            <a:ext cx="4856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4862520" y="1363680"/>
            <a:ext cx="790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 flipH="1">
            <a:off x="6012000" y="1341360"/>
            <a:ext cx="1440" cy="35276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6302160" y="1341360"/>
            <a:ext cx="485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1"/>
          <p:cNvSpPr/>
          <p:nvPr/>
        </p:nvSpPr>
        <p:spPr>
          <a:xfrm>
            <a:off x="6372360" y="2133720"/>
            <a:ext cx="2887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2"/>
          <p:cNvSpPr/>
          <p:nvPr/>
        </p:nvSpPr>
        <p:spPr>
          <a:xfrm>
            <a:off x="2987640" y="4292640"/>
            <a:ext cx="289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3"/>
          <p:cNvSpPr/>
          <p:nvPr/>
        </p:nvSpPr>
        <p:spPr>
          <a:xfrm>
            <a:off x="2987640" y="3573360"/>
            <a:ext cx="289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4"/>
          <p:cNvSpPr/>
          <p:nvPr/>
        </p:nvSpPr>
        <p:spPr>
          <a:xfrm>
            <a:off x="6372360" y="2781360"/>
            <a:ext cx="2887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15"/>
          <p:cNvSpPr txBox="1"/>
          <p:nvPr/>
        </p:nvSpPr>
        <p:spPr>
          <a:xfrm>
            <a:off x="1676520" y="5410080"/>
            <a:ext cx="396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НСК (60,75) =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5640120" y="5181480"/>
            <a:ext cx="22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r>
              <a:rPr b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r>
              <a:rPr b="1" lang="ru-RU" sz="54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r>
              <a:rPr b="1" lang="ru-RU" sz="5400" spc="-1" strike="noStrike">
                <a:solidFill>
                  <a:srgbClr val="333399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5653080" y="5943600"/>
            <a:ext cx="17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3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8"/>
          <p:cNvSpPr/>
          <p:nvPr/>
        </p:nvSpPr>
        <p:spPr>
          <a:xfrm flipH="1">
            <a:off x="6300720" y="1413000"/>
            <a:ext cx="503280" cy="93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9"/>
          <p:cNvSpPr/>
          <p:nvPr/>
        </p:nvSpPr>
        <p:spPr>
          <a:xfrm flipH="1">
            <a:off x="6300720" y="2133720"/>
            <a:ext cx="503280" cy="93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0"/>
          <p:cNvSpPr/>
          <p:nvPr/>
        </p:nvSpPr>
        <p:spPr>
          <a:xfrm>
            <a:off x="7713360" y="5157720"/>
            <a:ext cx="9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r>
              <a:rPr b="1" lang="ru-RU" sz="5400" spc="-1" strike="noStrike">
                <a:solidFill>
                  <a:srgbClr val="333399"/>
                </a:solidFill>
                <a:latin typeface="Times New Roman"/>
              </a:rPr>
              <a:t>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21"/>
          <p:cNvSpPr/>
          <p:nvPr/>
        </p:nvSpPr>
        <p:spPr>
          <a:xfrm>
            <a:off x="6156360" y="2924280"/>
            <a:ext cx="792000" cy="72072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22"/>
          <p:cNvSpPr/>
          <p:nvPr/>
        </p:nvSpPr>
        <p:spPr>
          <a:xfrm>
            <a:off x="6726240" y="3444840"/>
            <a:ext cx="1190520" cy="1690560"/>
          </a:xfrm>
          <a:custGeom>
            <a:avLst/>
            <a:gdLst/>
            <a:ahLst/>
            <a:rect l="l" t="t" r="r" b="b"/>
            <a:pathLst>
              <a:path w="750" h="1065">
                <a:moveTo>
                  <a:pt x="0" y="0"/>
                </a:moveTo>
                <a:lnTo>
                  <a:pt x="750" y="1065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1668600" y="2532240"/>
            <a:ext cx="1635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1668600" y="2532240"/>
            <a:ext cx="1635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668600" y="3443400"/>
          <a:ext cx="3270240" cy="517320"/>
        </p:xfrm>
        <a:graphic>
          <a:graphicData uri="http://schemas.openxmlformats.org/drawingml/2006/table">
            <a:tbl>
              <a:tblPr/>
              <a:tblGrid>
                <a:gridCol w="1635120"/>
                <a:gridCol w="1635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9" name="Picture 22" descr=""/>
          <p:cNvPicPr/>
          <p:nvPr/>
        </p:nvPicPr>
        <p:blipFill>
          <a:blip r:embed="rId1"/>
          <a:srcRect l="15001" t="32814" r="8751" b="26564"/>
          <a:stretch/>
        </p:blipFill>
        <p:spPr>
          <a:xfrm>
            <a:off x="-152280" y="0"/>
            <a:ext cx="8991360" cy="64771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23"/>
          <p:cNvSpPr/>
          <p:nvPr/>
        </p:nvSpPr>
        <p:spPr>
          <a:xfrm>
            <a:off x="4648320" y="2819520"/>
            <a:ext cx="342900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4" descr="КлипАрт Отрисовки деток на прозрачном фоне http://li-web.ru/"/>
          <p:cNvPicPr/>
          <p:nvPr/>
        </p:nvPicPr>
        <p:blipFill>
          <a:blip r:embed="rId2"/>
          <a:stretch/>
        </p:blipFill>
        <p:spPr>
          <a:xfrm>
            <a:off x="7705800" y="3962520"/>
            <a:ext cx="1255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</dc:creator>
  <dc:description/>
  <dc:language>en-US</dc:language>
  <cp:lastModifiedBy>Пользователь Windows</cp:lastModifiedBy>
  <dcterms:modified xsi:type="dcterms:W3CDTF">2016-11-13T22:08:5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