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950-5120-4349-847B-E2161F65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B52-B9ED-482F-8EF0-77F2B5E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9EF-EEA9-4252-960B-EAB4431E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029-61C3-4616-AB9E-4B667121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CE5-93C7-4F43-B378-ED3D4EC0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84C-2385-4FDD-BF78-AB171DD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E26-06A3-4EDE-8B3E-482E484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085-BC0C-4B18-B4E9-1F418E90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EF7-A30D-4D1E-913D-D4B1A87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594-31C0-40D2-B398-582165D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690-5B07-42FC-840D-BD1C72B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E82-0DB6-455C-AD4B-1794913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15FD-8BB3-4549-8891-DD22A171F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2960" y="357192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Тема 1: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Стрілецька зброя та поводження з н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24000" y="836640"/>
            <a:ext cx="680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258920" y="71424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озділ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огнева підгот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142920"/>
            <a:ext cx="78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ризначення, будова та бойові можливості 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5840" y="765000"/>
            <a:ext cx="8643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столет Макарова, знаходиться на озброєнні з 1951 р. в деяких країнах колишнього Варшавського договору, Китаї та і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значений для ведення вогню у ближньому бою и є особистою зброєю офіцерського складу збройних сил і співробітників силових структур держав. В конструкції пістолета використана популярна схема німецького 7,65-мм Вальтера РР зразка 192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ПМ"/>
          <p:cNvPicPr/>
          <p:nvPr/>
        </p:nvPicPr>
        <p:blipFill>
          <a:blip r:embed="rId1"/>
          <a:stretch/>
        </p:blipFill>
        <p:spPr>
          <a:xfrm>
            <a:off x="1285920" y="1928880"/>
            <a:ext cx="76518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8360" y="142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Малокаліберної гвинтівка ТОЗ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68360" y="6667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локаліберна гвинтівка ТОЗ-8, калібру 5,6 мм з відкритим сектором прицілу призначення, для   початкового навчання стрільби і тренування стрільц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882036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258920" y="4292640"/>
          <a:ext cx="609588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ібр ствола, мм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гвинтівки,мм-1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ствола,мм-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прицільної лінії,мм-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цільна дальність,м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 дальність польоту кулі, м –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ивча сила,м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аткова швидкість польоту кулі ,м-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рільність, пострілів/хв.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арізів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га,кг-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9 – маленький и компактный пистолет скрытого ношения, предназначен для сотруд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ловых структур в качестве оружия самообороны. Обладая боезапасом, равным боезапасу больш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ременных служебных револьверов, «Форт-9» заметно выигрывает по компактности и габаритным размерам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3440" y="166680"/>
            <a:ext cx="6477120" cy="33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53960" y="4508640"/>
          <a:ext cx="6096240" cy="1798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Ku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самовзв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±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6120000" cy="26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50920" y="4508640"/>
          <a:ext cx="8694720" cy="2149200"/>
        </p:xfrm>
        <a:graphic>
          <a:graphicData uri="http://schemas.openxmlformats.org/drawingml/2006/table">
            <a:tbl>
              <a:tblPr/>
              <a:tblGrid>
                <a:gridCol w="3887640"/>
                <a:gridCol w="4807080"/>
              </a:tblGrid>
              <a:tr h="21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Makarov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9 mm Kur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арного и двойного дейст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±15 (9 mm Makaro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±15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(9 mm Makarov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4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23920" y="2892600"/>
          <a:ext cx="8696160" cy="1584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-12 – полуавтоматический пистолет калибра 9х18 мм с эффективной дальностью действия до 50 м. Достаточно сбалансирован и сочетает в себе все основные качества боевого пистолета: металлическая рамка, обеспечивающая надежность и прочность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местительный магазин, надежная система предохранителей с возможностью блокирования курка, как на боевом, так и на предохранительном взводе, относитель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размеры делающие его удобным для постоянного ношения. Благодаря этом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Форт-12» был принят на вооружение подразделений силовых структур Украины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толет может быть дополнительно укомплектован устройством для снижения уровн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а, лазерным целеуказателем или тактическим фона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224 - укороченная модификация штурмовой винтовки «Форт-221» калибра 5,56х45мм, предназнач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бойцов спецподразделений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ь может быть укомплектована тактическим фонарем, лазер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указателем, оптическим прицелом с 3-х или 4-х кратным приближением, прибором ночного вид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12920" y="166680"/>
            <a:ext cx="6477120" cy="36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24000" y="4724280"/>
          <a:ext cx="8496000" cy="17989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6х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выстрелов/мин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-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6680" y="166680"/>
            <a:ext cx="6477120" cy="297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24000" y="3213000"/>
          <a:ext cx="8621640" cy="1584360"/>
        </p:xfrm>
        <a:graphic>
          <a:graphicData uri="http://schemas.openxmlformats.org/drawingml/2006/table">
            <a:tbl>
              <a:tblPr/>
              <a:tblGrid>
                <a:gridCol w="862164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4000" y="4941720"/>
          <a:ext cx="8621640" cy="1656000"/>
        </p:xfrm>
        <a:graphic>
          <a:graphicData uri="http://schemas.openxmlformats.org/drawingml/2006/table">
            <a:tbl>
              <a:tblPr/>
              <a:tblGrid>
                <a:gridCol w="4311360"/>
                <a:gridCol w="4310280"/>
              </a:tblGrid>
              <a:tr h="165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0920" y="166680"/>
            <a:ext cx="4537080" cy="29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50920" y="3174840"/>
            <a:ext cx="457812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932360" y="166680"/>
          <a:ext cx="4013280" cy="2835360"/>
        </p:xfrm>
        <a:graphic>
          <a:graphicData uri="http://schemas.openxmlformats.org/drawingml/2006/table">
            <a:tbl>
              <a:tblPr/>
              <a:tblGrid>
                <a:gridCol w="401328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C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 На данную модель устанавливается складной вниз приклад оригинальной констру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03640" y="3182760"/>
          <a:ext cx="3942000" cy="3448080"/>
        </p:xfrm>
        <a:graphic>
          <a:graphicData uri="http://schemas.openxmlformats.org/drawingml/2006/table">
            <a:tbl>
              <a:tblPr/>
              <a:tblGrid>
                <a:gridCol w="3942000"/>
              </a:tblGrid>
              <a:tr h="344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00240" y="131760"/>
            <a:ext cx="647676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3243240"/>
          <a:ext cx="8497800" cy="9446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йперская винтовка калибра 7,62х51мм Форт-301 - полуавтоматическое оружие поддержки, предназначенное для ведения прицельного огня на больших расстояниях. Характеризуется простотой и надежностью конструкции, удобством эксплуатации. Штатно укомплектована складным вбок прикладом, 6-ти кратным оптическим прицелом и складными со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4437000"/>
          <a:ext cx="8497800" cy="20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- 7,62x51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1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прикладом, мм -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 - 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 кг - 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- 25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1,6 –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±2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Примечание: средняя скорость пули может изменяться в зависимости от технических характеристик патро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71600" y="166680"/>
            <a:ext cx="6477120" cy="28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3920" y="3035160"/>
          <a:ext cx="8696160" cy="1737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 401 - легкий пулемет калибра 5,56х45мм (7,62x51мм) предназначен для повышения огневой мощи боевых подразделений и соответствует всем требованиям современных боевых действий. Вести огонь из Форт-401 можно как с рук или сошек, так и со специального крепления установленного на транспортных средствах. Конструктивно Форт-401 - пулемет с воздушным охлаждением ствола, ствол быстросъемный, выпускается в двух модификациях: стандартный и укороченный.  Подача боеприпасов селективная – двух типов: основная - при помощи рассыпной ленты и от магазинов Форт-221. Лента на 150-200 патронов может использоваться как сама по себе, так и из мягкого штурмового бараб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штатную комплектацию Форт-401 входит складной приклад, съемные сошки и рукоятка для переноски расположенная на стволе. Дополнительно возможна установка различных прицелов на планку Пикатинни сверху на ствольной коробке и передней рукоятки под цевь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60280" y="4869000"/>
          <a:ext cx="8623440" cy="1768320"/>
        </p:xfrm>
        <a:graphic>
          <a:graphicData uri="http://schemas.openxmlformats.org/drawingml/2006/table">
            <a:tbl>
              <a:tblPr/>
              <a:tblGrid>
                <a:gridCol w="4311720"/>
                <a:gridCol w="431172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 - 5,56х45 / 7,62х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 - 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20 (5,56х45)  245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330/460 (5,56х45)  33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- 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штурмовым барабаном, кг - 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кость барабана - 150 и 200 патронов (5,56х45)  200 и 300 патронов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4,0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 (5,56х45)  84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патронов/мин) - 800-1200 (5,56х45)  650-100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6 кан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476280"/>
            <a:ext cx="66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imes New Roman"/>
              </a:rPr>
              <a:t>Сформувати у студентів поняття про стрілецьку зброю та необхідність дотримання заходів безпеки при проведенні стрільб із стрілецької зброї.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561672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79280" y="3860640"/>
          <a:ext cx="8766360" cy="1006560"/>
        </p:xfrm>
        <a:graphic>
          <a:graphicData uri="http://schemas.openxmlformats.org/drawingml/2006/table">
            <a:tbl>
              <a:tblPr/>
              <a:tblGrid>
                <a:gridCol w="8766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атический пистолет Форт-17Р кал. 9 мм Р.А. является современным эргономичным образцом травматического оружия. Благодаря использованию новейших технологий и материалов, массу пистолета удалось значительно снизить по сравнению с предыдущими моделями, что является особенно важным при длительном ношении оружия во время выполнения служебных обязанностей. Пластиковая рамка, изготовленная из композитного полиамида с высокой ударной и термической прочностью, более износостойкая и не потеряет "товарный вид" даже после многократных извлечений из коб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9280" y="4970520"/>
          <a:ext cx="8766360" cy="1554120"/>
        </p:xfrm>
        <a:graphic>
          <a:graphicData uri="http://schemas.openxmlformats.org/drawingml/2006/table">
            <a:tbl>
              <a:tblPr/>
              <a:tblGrid>
                <a:gridCol w="4383360"/>
                <a:gridCol w="4383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 - 9 мм P.A. / .45 Rub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 - Свободный зат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 - Одинарного или двойного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ариты (мм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 - 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-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-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 - 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 (кг) - 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 (м/с) - 300±20 (9 мм P.A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±20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(шт) - 12 (9 мм P.A.)  8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0920" y="123840"/>
            <a:ext cx="869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</a:rPr>
              <a:t>1. МЕТА ТА ЗАВДАННЯ ВОГНЕВОЇ ПІДГОТОВ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52400"/>
          <a:ext cx="8694720" cy="60660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606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є одним з основних видів загальної підготовки військовослужбовця. Зміст вогневої підготовки передбачає оволодіння вами знаннями про сучасні види озброєння, будову тих його видів, якими оснащуються сучасні ЗСУ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передбачає сформувати у вас уміння та навички із підготовки зброї, а саме гвинтівки та автомата, до стрільби, порядку догляду за зброєю та поводженню з нею під час виконання стрільби, після завершення стрільби. Одним із найважливіших моментів у цьому процесі належить заходам безпеки, які вживаються для запобігання нещасних випадк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а підготовки навчить користуватись деталями зброї для визначення відстаней до об'єкт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14288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бороняє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ти стрільбу з несправної зброї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ходити і брати зброю на вогневому рубежі без дозволу керівника стрільб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ряджати і передавати зброю без команди керів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цілюватись навіть з незарядженої зброї, якщо біля мішені перебувають лю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ямовувати зброю вбік, назад, а також на людей, в якому б стані зброя не бу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носити заряджену зброю з лінії вогн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ебування на лінії вогню осіб, які не входять до зміни, що стріляє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ишати на лінії вогню заряджену або з відкритим затвором збр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68360" y="142920"/>
            <a:ext cx="817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АХОДИ БЕЗПЕКИ ПІД ЧАС ПОВОДЖ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І ЗБРО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2920" y="163440"/>
            <a:ext cx="7286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КЛАСИФІКАЦІЯ СТРІЛЕЦЬКОЇ ЗБР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5160"/>
          <a:ext cx="8694720" cy="58518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Види стрілецької зброї можна виділити за такими ознаками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изначення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тупінь автоматизації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лібр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йові можливості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Іноді виділяють види стрілецької зброї ще за такими ознаками</a:t>
                      </a:r>
                      <a:r>
                        <a:rPr b="1" lang="ru-RU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обслуговуючих зброю військовослужбовц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посіб тримання під час стрільби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онструкція ствола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арактер джерела енергії для метання куль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стволів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4049" r="0" b="28726"/>
          <a:stretch/>
        </p:blipFill>
        <p:spPr>
          <a:xfrm>
            <a:off x="395280" y="260280"/>
            <a:ext cx="8137440" cy="648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75425" r="0" b="0"/>
          <a:stretch/>
        </p:blipFill>
        <p:spPr>
          <a:xfrm>
            <a:off x="755640" y="1069920"/>
            <a:ext cx="7574040" cy="480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40600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71760" y="1429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орівняльна характеристика індивідуальної стрілецької зброї армій різних держав сві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885672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20-02-27T20:59:04Z</dcterms:modified>
  <cp:revision>519</cp:revision>
  <dc:subject/>
  <dc:title>PowerPoint Presentation</dc:title>
</cp:coreProperties>
</file>