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318-14DA-4CBB-85B8-A59AF438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450-F7DC-4716-B94D-90A67E84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B3F-3C9B-4BEB-84CF-29F0604C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D7E-E3F0-471B-876E-8F901C59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5C2-ED3A-4B31-A67E-645B964D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70E-23E0-4D24-B7D1-9465BA0F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540-A963-48FA-9998-6F17D69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E67-DDD5-4D7A-8F9B-2844BF9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3FE-A9A5-4043-96D7-FD41277B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F66-83B8-436A-8E7B-CA5F62BD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A77-9CBD-4E37-A4E9-F623F35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524-1E5B-4B86-BDC2-9A740E68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CBD5-2550-4ACD-B951-60F3C5FD0E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42960" y="3571920"/>
            <a:ext cx="806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Тема 1:</a:t>
            </a: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4800" spc="-1" strike="noStrike">
                <a:solidFill>
                  <a:srgbClr val="ff0000"/>
                </a:solidFill>
                <a:latin typeface="Times New Roman"/>
              </a:rPr>
              <a:t>Стрілецька зброя та поводження з н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124000" y="836640"/>
            <a:ext cx="680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258920" y="714240"/>
            <a:ext cx="62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озділ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Вогнева підгот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142920"/>
            <a:ext cx="78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Призначення, будова та бойові можливості 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85840" y="765000"/>
            <a:ext cx="8643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столет Макарова, знаходиться на озброєнні з 1951 р. в деяких країнах колишнього Варшавського договору, Китаї та і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значений для ведення вогню у ближньому бою и є особистою зброєю офіцерського складу збройних сил і співробітників силових структур держав. В конструкції пістолета використана популярна схема німецького 7,65-мм Вальтера РР зразка 192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ПМ"/>
          <p:cNvPicPr/>
          <p:nvPr/>
        </p:nvPicPr>
        <p:blipFill>
          <a:blip r:embed="rId1"/>
          <a:stretch/>
        </p:blipFill>
        <p:spPr>
          <a:xfrm>
            <a:off x="1285920" y="1928880"/>
            <a:ext cx="765180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68360" y="14292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Малокаліберної гвинтівка ТОЗ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68360" y="66672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алокаліберна гвинтівка ТОЗ-8, калібру 5,6 мм з відкритим сектором прицілу призначення, для   початкового навчання стрільби і тренування стрільц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03040" y="1866960"/>
            <a:ext cx="8820360" cy="228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258920" y="4292640"/>
          <a:ext cx="609588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ібр ствола, мм 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гвинтівки,мм-1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ствола,мм-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прицільної лінії,мм-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цільна дальність,м-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більш дальність польоту кулі, м –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бивча сила,м-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аткова швидкість польоту кулі ,м-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стрільність, пострілів/хв.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нарізів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га,кг-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т-9 – маленький и компактный пистолет скрытого ношения, предназначен для сотруд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ловых структур в качестве оружия самообороны. Обладая боезапасом, равным боезапасу большин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ременных служебных револьверов, «Форт-9» заметно выигрывает по компактности и габаритным размерам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33440" y="166680"/>
            <a:ext cx="6477120" cy="33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353960" y="4508640"/>
          <a:ext cx="6096240" cy="1798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mm Kur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зат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самовзво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±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, ш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0" y="1428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76360" y="166680"/>
            <a:ext cx="6120000" cy="26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250920" y="4508640"/>
          <a:ext cx="8694720" cy="2149200"/>
        </p:xfrm>
        <a:graphic>
          <a:graphicData uri="http://schemas.openxmlformats.org/drawingml/2006/table">
            <a:tbl>
              <a:tblPr/>
              <a:tblGrid>
                <a:gridCol w="3887640"/>
                <a:gridCol w="4807080"/>
              </a:tblGrid>
              <a:tr h="214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mm Makarov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9 mm Kur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затво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арного и двойного действ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, кг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±15 (9 mm Makaro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±15 (9 mm Kur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, шт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(9 mm Makarov)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4 (9 mm Kur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23920" y="2892600"/>
          <a:ext cx="8696160" cy="1584000"/>
        </p:xfrm>
        <a:graphic>
          <a:graphicData uri="http://schemas.openxmlformats.org/drawingml/2006/table">
            <a:tbl>
              <a:tblPr/>
              <a:tblGrid>
                <a:gridCol w="8696160"/>
              </a:tblGrid>
              <a:tr h="158400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т-12 – полуавтоматический пистолет калибра 9х18 мм с эффективной дальностью действия до 50 м. Достаточно сбалансирован и сочетает в себе все основные качества боевого пистолета: металлическая рамка, обеспечивающая надежность и прочность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местительный магазин, надежная система предохранителей с возможностью блокирования курка, как на боевом, так и на предохранительном взводе, относительн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большие размеры делающие его удобным для постоянного ношения. Благодаря этом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Форт-12» был принят на вооружение подразделений силовых структур Украины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толет может быть дополнительно укомплектован устройством для снижения уровн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а, лазерным целеуказателем или тактическим фонар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т-224 - укороченная модификация штурмовой винтовки «Форт-221» калибра 5,56х45мм, предназначе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бойцов спецподразделений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ель может быть укомплектована тактическим фонарем, лазер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еуказателем, оптическим прицелом с 3-х или 4-х кратным приближением, прибором ночного вид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12920" y="166680"/>
            <a:ext cx="6477120" cy="362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324000" y="4724280"/>
          <a:ext cx="8496000" cy="179892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6х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магазином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стрельбы (выстрелов/мин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-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36680" y="166680"/>
            <a:ext cx="6477120" cy="297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24000" y="3213000"/>
          <a:ext cx="8621640" cy="1584360"/>
        </p:xfrm>
        <a:graphic>
          <a:graphicData uri="http://schemas.openxmlformats.org/drawingml/2006/table">
            <a:tbl>
              <a:tblPr/>
              <a:tblGrid>
                <a:gridCol w="862164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М-Ф - представляет собой модернизированный автомат Калашникова АК-47. Для повышения тактико-технических характеристик базовой модели были заменены все пружины и отрегулирован спусковой механизм с заменой рычага автоматического спуска что обеспечило более плавный спуск. Также для повышения характеристик точности установлен ряд деталей, а именно: газовая трубка с планкой Пикатинни для установки оптического или коллиматорного прицела, анатомическая пистолетная рукоятка, а также цевье с передней рукояткой или сошками. Кроме того вместо дульной гайки устанавливается дульный компенсатор для уменьшения увода ствола при стрельбе очеред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24000" y="4941720"/>
          <a:ext cx="8621640" cy="1656000"/>
        </p:xfrm>
        <a:graphic>
          <a:graphicData uri="http://schemas.openxmlformats.org/drawingml/2006/table">
            <a:tbl>
              <a:tblPr/>
              <a:tblGrid>
                <a:gridCol w="4311360"/>
                <a:gridCol w="4310280"/>
              </a:tblGrid>
              <a:tr h="165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2х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-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±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0920" y="166680"/>
            <a:ext cx="4537080" cy="297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50920" y="3174840"/>
            <a:ext cx="457812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932360" y="166680"/>
          <a:ext cx="4013280" cy="2835360"/>
        </p:xfrm>
        <a:graphic>
          <a:graphicData uri="http://schemas.openxmlformats.org/drawingml/2006/table">
            <a:tbl>
              <a:tblPr/>
              <a:tblGrid>
                <a:gridCol w="401328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МC-Ф - представляет собой модернизированный автомат Калашникова АК-47. Для повышения тактико-технических характеристик базовой модели были заменены все пружины и отрегулирован спусковой механизм с заменой рычага автоматического спуска что обеспечило более плавный спуск. Также для повышения характеристик точности установлен ряд деталей, а именно: газовая трубка с планкой Пикатинни для установки оптического или коллиматорного прицела, анатомическая пистолетная рукоятка, а также цевье с передней рукояткой или сошками. Кроме того вместо дульной гайки устанавливается дульный компенсатор для уменьшения увода ствола при стрельбе очередями. На данную модель устанавливается складной вниз приклад оригинальной констру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003640" y="3182760"/>
          <a:ext cx="3942000" cy="3448080"/>
        </p:xfrm>
        <a:graphic>
          <a:graphicData uri="http://schemas.openxmlformats.org/drawingml/2006/table">
            <a:tbl>
              <a:tblPr/>
              <a:tblGrid>
                <a:gridCol w="3942000"/>
              </a:tblGrid>
              <a:tr h="344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2х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-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±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00240" y="131760"/>
            <a:ext cx="6476760" cy="30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3243240"/>
          <a:ext cx="8497800" cy="9446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айперская винтовка калибра 7,62х51мм Форт-301 - полуавтоматическое оружие поддержки, предназначенное для ведения прицельного огня на больших расстояниях. Характеризуется простотой и надежностью конструкции, удобством эксплуатации. Штатно укомплектована складным вбок прикладом, 6-ти кратным оптическим прицелом и складными сош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4437000"/>
          <a:ext cx="8497800" cy="208764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 - 7,62x51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 - 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 - 1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прикладом, мм - 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 - 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 - 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 - 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 - 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магазином, кг - 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 - 25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 - 1,6 – 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 - 800±2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 - 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Примечание: средняя скорость пули может изменяться в зависимости от технических характеристик патро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371600" y="166680"/>
            <a:ext cx="6477120" cy="283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3920" y="3035160"/>
          <a:ext cx="8696160" cy="1737000"/>
        </p:xfrm>
        <a:graphic>
          <a:graphicData uri="http://schemas.openxmlformats.org/drawingml/2006/table">
            <a:tbl>
              <a:tblPr/>
              <a:tblGrid>
                <a:gridCol w="869616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т 401 - легкий пулемет калибра 5,56х45мм (7,62x51мм) предназначен для повышения огневой мощи боевых подразделений и соответствует всем требованиям современных боевых действий. Вести огонь из Форт-401 можно как с рук или сошек, так и со специального крепления установленного на транспортных средствах. Конструктивно Форт-401 - пулемет с воздушным охлаждением ствола, ствол быстросъемный, выпускается в двух модификациях: стандартный и укороченный.  Подача боеприпасов селективная – двух типов: основная - при помощи рассыпной ленты и от магазинов Форт-221. Лента на 150-200 патронов может использоваться как сама по себе, так и из мягкого штурмового бараба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штатную комплектацию Форт-401 входит складной приклад, съемные сошки и рукоятка для переноски расположенная на стволе. Дополнительно возможна установка различных прицелов на планку Пикатинни сверху на ствольной коробке и передней рукоятки под цевь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60280" y="4869000"/>
          <a:ext cx="8623440" cy="1768320"/>
        </p:xfrm>
        <a:graphic>
          <a:graphicData uri="http://schemas.openxmlformats.org/drawingml/2006/table">
            <a:tbl>
              <a:tblPr/>
              <a:tblGrid>
                <a:gridCol w="4311720"/>
                <a:gridCol w="4311720"/>
              </a:tblGrid>
              <a:tr h="176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 - 5,56х45 / 7,62х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 - Действие газов на головку порш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 - 8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 - 6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 - 220 (5,56х45)  245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 - 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 - 330/460 (5,56х45)  33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, кг- 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штурмовым барабаном, кг - 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мкость барабана - 150 и 200 патронов (5,56х45)  200 и 300 патронов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 - 4,0-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 - 800 (5,56х45)  84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стрельбы (патронов/мин) - 800-1200 (5,56х45)  650-100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 - 6 кан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547640" y="476280"/>
            <a:ext cx="66247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0000"/>
                </a:solidFill>
                <a:uFillTx/>
                <a:latin typeface="Times New Roman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imes New Roman"/>
              </a:rPr>
              <a:t>Сформувати у студентів поняття про стрілецьку зброю та необхідність дотримання заходів безпеки при проведенні стрільб із стрілецької зброї.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25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76360" y="166680"/>
            <a:ext cx="5616720" cy="354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179280" y="3860640"/>
          <a:ext cx="8766360" cy="1006560"/>
        </p:xfrm>
        <a:graphic>
          <a:graphicData uri="http://schemas.openxmlformats.org/drawingml/2006/table">
            <a:tbl>
              <a:tblPr/>
              <a:tblGrid>
                <a:gridCol w="8766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вматический пистолет Форт-17Р кал. 9 мм Р.А. является современным эргономичным образцом травматического оружия. Благодаря использованию новейших технологий и материалов, массу пистолета удалось значительно снизить по сравнению с предыдущими моделями, что является особенно важным при длительном ношении оружия во время выполнения служебных обязанностей. Пластиковая рамка, изготовленная из композитного полиамида с высокой ударной и термической прочностью, более износостойкая и не потеряет "товарный вид" даже после многократных извлечений из коб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79280" y="4970520"/>
          <a:ext cx="8766360" cy="1554120"/>
        </p:xfrm>
        <a:graphic>
          <a:graphicData uri="http://schemas.openxmlformats.org/drawingml/2006/table">
            <a:tbl>
              <a:tblPr/>
              <a:tblGrid>
                <a:gridCol w="4383360"/>
                <a:gridCol w="4383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  - 9 мм P.A. / .45 Rub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 - Свободный затв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 - Одинарного или двойного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бариты (мм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 - 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-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-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 - 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 (кг) - 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 (м/с) - 300±20 (9 мм P.A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±20 (.45 Rub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 (шт) - 12 (9 мм P.A.)  8 (.45 Rub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50920" y="123840"/>
            <a:ext cx="869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</a:rPr>
              <a:t>1. МЕТА ТА ЗАВДАННЯ ВОГНЕВОЇ ПІДГОТОВК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752400"/>
          <a:ext cx="8694720" cy="6066000"/>
        </p:xfrm>
        <a:graphic>
          <a:graphicData uri="http://schemas.openxmlformats.org/drawingml/2006/table">
            <a:tbl>
              <a:tblPr/>
              <a:tblGrid>
                <a:gridCol w="8694720"/>
              </a:tblGrid>
              <a:tr h="606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огнева підготовка є одним з основних видів загальної підготовки військовослужбовця. Зміст вогневої підготовки передбачає оволодіння вами знаннями про сучасні види озброєння, будову тих його видів, якими оснащуються сучасні ЗСУ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огнева підготовка передбачає сформувати у вас уміння та навички із підготовки зброї, а саме гвинтівки та автомата, до стрільби, порядку догляду за зброєю та поводженню з нею під час виконання стрільби, після завершення стрільби. Одним із найважливіших моментів у цьому процесі належить заходам безпеки, які вживаються для запобігання нещасних випадків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а підготовки навчить користуватись деталями зброї для визначення відстаней до об'єкті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14288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бороняєть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ести стрільбу з несправної зброї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дходити і брати зброю на вогневому рубежі без дозволу керівника стрільб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ряджати і передавати зброю без команди керів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цілюватись навіть з незарядженої зброї, якщо біля мішені перебувають люд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рямовувати зброю вбік, назад, а також на людей, в якому б стані зброя не бу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носити заряджену зброю з лінії вогн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ебування на лінії вогню осіб, які не входять до зміни, що стріляє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лишати на лінії вогню заряджену або з відкритим затвором збро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68360" y="142920"/>
            <a:ext cx="817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ЗАХОДИ БЕЗПЕКИ ПІД ЧАС ПОВОДЖ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ЗІ ЗБРОЄ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42920" y="163440"/>
            <a:ext cx="7286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КЛАСИФІКАЦІЯ СТРІЛЕЦЬКОЇ ЗБР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95160"/>
          <a:ext cx="8694720" cy="5851800"/>
        </p:xfrm>
        <a:graphic>
          <a:graphicData uri="http://schemas.openxmlformats.org/drawingml/2006/table">
            <a:tbl>
              <a:tblPr/>
              <a:tblGrid>
                <a:gridCol w="8694720"/>
              </a:tblGrid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Види стрілецької зброї можна виділити за такими ознаками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изначення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тупінь автоматизації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алібр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бойові можливості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Іноді виділяють види стрілецької зброї ще за такими ознаками</a:t>
                      </a:r>
                      <a:r>
                        <a:rPr b="1" lang="ru-RU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ількість обслуговуючих зброю військовослужбовців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посіб тримання під час стрільби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онструкція ствола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характер джерела енергії для метання куль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ількість стволів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0" t="4049" r="0" b="28726"/>
          <a:stretch/>
        </p:blipFill>
        <p:spPr>
          <a:xfrm>
            <a:off x="395280" y="260280"/>
            <a:ext cx="8137440" cy="648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042920" y="1634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Види стрілецької зброї за бойовими мож­лив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75425" r="0" b="0"/>
          <a:stretch/>
        </p:blipFill>
        <p:spPr>
          <a:xfrm>
            <a:off x="755640" y="1069920"/>
            <a:ext cx="7574040" cy="4807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042920" y="1634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Види стрілецької зброї за бойовими мож­лив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406000" cy="518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0" y="1428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571760" y="14292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Порівняльна характеристика індивідуальної стрілецької зброї армій різних держав сві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544760"/>
            <a:ext cx="8856720" cy="496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Admin</cp:lastModifiedBy>
  <dcterms:modified xsi:type="dcterms:W3CDTF">2020-02-27T20:59:04Z</dcterms:modified>
  <cp:revision>519</cp:revision>
  <dc:subject/>
  <dc:title>PowerPoint Presentation</dc:title>
</cp:coreProperties>
</file>