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659B-4760-4CB5-A965-4649F7429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F665-839C-4220-9C7B-9A6E5614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6E9E-E363-45CE-80F8-F2E969F69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D6F6-5B1C-4BD5-8E40-107BA6A2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0E03-7347-4E3B-A741-3B52CA49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6779-5217-4883-AB51-A6EEF093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CFF4-374C-485A-927F-170A54FE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005D-7B05-418C-A3A2-819A4AB8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A006-9B5A-4964-A840-85BA385E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BC46-7000-4315-BF64-D23BEC11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2AC5-27E9-47E7-88FD-6D60CBC1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BDE5-5A6E-4506-ADB2-82519E6B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BE5A-C1C3-4818-9324-DE09F16DD3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642960" y="3571920"/>
            <a:ext cx="8064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Arial"/>
                <a:ea typeface="Arial"/>
              </a:rPr>
              <a:t>Тема 1:</a:t>
            </a:r>
            <a:r>
              <a:rPr b="0" lang="uk-UA" sz="4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uk-UA" sz="4800" spc="-1" strike="noStrike">
                <a:solidFill>
                  <a:srgbClr val="ff0000"/>
                </a:solidFill>
                <a:latin typeface="Times New Roman"/>
              </a:rPr>
              <a:t>Стрілецька зброя та поводження з не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124000" y="836640"/>
            <a:ext cx="680400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1258920" y="714240"/>
            <a:ext cx="628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Розділ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Вогнева підготов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826920" y="142920"/>
            <a:ext cx="781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Призначення, будова та бойові можливості П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285840" y="765000"/>
            <a:ext cx="864396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істолет Макарова, знаходиться на озброєнні з 1951 р. в деяких країнах колишнього Варшавського договору, Китаї та і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изначений для ведення вогню у ближньому бою и є особистою зброєю офіцерського складу збройних сил і співробітників силових структур держав. В конструкції пістолета використана популярна схема німецького 7,65-мм Вальтера РР зразка 1927 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ПМ"/>
          <p:cNvPicPr/>
          <p:nvPr/>
        </p:nvPicPr>
        <p:blipFill>
          <a:blip r:embed="rId1"/>
          <a:stretch/>
        </p:blipFill>
        <p:spPr>
          <a:xfrm>
            <a:off x="1285920" y="1928880"/>
            <a:ext cx="7651800" cy="4572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468360" y="142920"/>
            <a:ext cx="81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Малокаліберної гвинтівка ТОЗ-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468360" y="666720"/>
            <a:ext cx="84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Малокаліберна гвинтівка ТОЗ-8, калібру 5,6 мм з відкритим сектором прицілу призначення, для   початкового навчання стрільби і тренування стрільці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203040" y="1866960"/>
            <a:ext cx="8820360" cy="2282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1258920" y="4292640"/>
          <a:ext cx="6095880" cy="2286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ібр ствола, мм 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вжина гвинтівки,мм-1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вжина ствола,мм-6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вжина прицільної лінії,мм-5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цільна дальність,м-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більш дальність польоту кулі, м –1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бивча сила,м-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чаткова швидкість польоту кулі ,м-2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орострільність, пострілів/хв.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нарізів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га,кг-3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орт-9 – маленький и компактный пистолет скрытого ношения, предназначен для сотрудни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иловых структур в качестве оружия самообороны. Обладая боезапасом, равным боезапасу большинст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временных служебных револьверов, «Форт-9» заметно выигрывает по компактности и габаритным размерам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333440" y="166680"/>
            <a:ext cx="6477120" cy="33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1353960" y="4508640"/>
          <a:ext cx="6096240" cy="17985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ибр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mm Kur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цип действия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ободный затв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дарно-спусковой механиз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лько самовзвод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ая длин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твол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,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c пустым магазином, к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ьная скорость полета пули, м/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±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местимость магазина, ш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ез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канав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0" y="14288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476360" y="166680"/>
            <a:ext cx="6120000" cy="266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250920" y="4508640"/>
          <a:ext cx="8694720" cy="2149200"/>
        </p:xfrm>
        <a:graphic>
          <a:graphicData uri="http://schemas.openxmlformats.org/drawingml/2006/table">
            <a:tbl>
              <a:tblPr/>
              <a:tblGrid>
                <a:gridCol w="3887640"/>
                <a:gridCol w="4807080"/>
              </a:tblGrid>
              <a:tr h="214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ибр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mm Makarov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9 mm Kur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цип действия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ободный затво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дарно-спусковой механизм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арного и двойного действ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ая длина, мм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, мм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, мм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твола, мм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c пустым магазином, кг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ьная скорость полета пули, м/с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0±15 (9 mm Makarov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0±15 (9 mm Kurz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местимость магазина, шт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(9 mm Makarov)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4 (9 mm Kurz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езы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канаво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223920" y="2892600"/>
          <a:ext cx="8696160" cy="1584000"/>
        </p:xfrm>
        <a:graphic>
          <a:graphicData uri="http://schemas.openxmlformats.org/drawingml/2006/table">
            <a:tbl>
              <a:tblPr/>
              <a:tblGrid>
                <a:gridCol w="8696160"/>
              </a:tblGrid>
              <a:tr h="1584000"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т-12 – полуавтоматический пистолет калибра 9х18 мм с эффективной дальностью действия до 50 м. Достаточно сбалансирован и сочетает в себе все основные качества боевого пистолета: металлическая рамка, обеспечивающая надежность и прочность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местительный магазин, надежная система предохранителей с возможностью блокирования курка, как на боевом, так и на предохранительном взводе, относительн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большие размеры делающие его удобным для постоянного ношения. Благодаря этому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«Форт-12» был принят на вооружение подразделений силовых структур Украины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столет может быть дополнительно укомплектован устройством для снижения уровн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ука, лазерным целеуказателем или тактическим фонаре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орт-224 - укороченная модификация штурмовой винтовки «Форт-221» калибра 5,56х45мм, предназначе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бойцов спецподразделений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дель может быть укомплектована тактическим фонарем, лазерны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еуказателем, оптическим прицелом с 3-х или 4-х кратным приближением, прибором ночного виде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312920" y="166680"/>
            <a:ext cx="6477120" cy="362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324000" y="4724280"/>
          <a:ext cx="8496000" cy="1798920"/>
        </p:xfrm>
        <a:graphic>
          <a:graphicData uri="http://schemas.openxmlformats.org/drawingml/2006/table">
            <a:tbl>
              <a:tblPr/>
              <a:tblGrid>
                <a:gridCol w="4248000"/>
                <a:gridCol w="4248000"/>
              </a:tblGrid>
              <a:tr h="1798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ибр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6х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цип работ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йствие газов на головку порш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ая длинн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твол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с пустым магазином, к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со снаряженным магазином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местимость магазин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илие спуска, к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5-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ьная скорость полета пули, м/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п стрельбы (выстрелов/мин)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-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ез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канав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336680" y="166680"/>
            <a:ext cx="6477120" cy="2975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324000" y="3213000"/>
          <a:ext cx="8621640" cy="1584360"/>
        </p:xfrm>
        <a:graphic>
          <a:graphicData uri="http://schemas.openxmlformats.org/drawingml/2006/table">
            <a:tbl>
              <a:tblPr/>
              <a:tblGrid>
                <a:gridCol w="8621640"/>
              </a:tblGrid>
              <a:tr h="1584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М-Ф - представляет собой модернизированный автомат Калашникова АК-47. Для повышения тактико-технических характеристик базовой модели были заменены все пружины и отрегулирован спусковой механизм с заменой рычага автоматического спуска что обеспечило более плавный спуск. Также для повышения характеристик точности установлен ряд деталей, а именно: газовая трубка с планкой Пикатинни для установки оптического или коллиматорного прицела, анатомическая пистолетная рукоятка, а также цевье с передней рукояткой или сошками. Кроме того вместо дульной гайки устанавливается дульный компенсатор для уменьшения увода ствола при стрельбе очередя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24000" y="4941720"/>
          <a:ext cx="8621640" cy="1656000"/>
        </p:xfrm>
        <a:graphic>
          <a:graphicData uri="http://schemas.openxmlformats.org/drawingml/2006/table">
            <a:tbl>
              <a:tblPr/>
              <a:tblGrid>
                <a:gridCol w="4311360"/>
                <a:gridCol w="4310280"/>
              </a:tblGrid>
              <a:tr h="1656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ибр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62х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цип работ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йствие газов на головку порш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ая длин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о сложенным  прикладом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твол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с пустым магазином, к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местимость магазин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патр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илие спуска, к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-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ьная скорость полета пули, м/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5±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ез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канав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50920" y="166680"/>
            <a:ext cx="4537080" cy="2975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250920" y="3174840"/>
            <a:ext cx="4578120" cy="345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4932360" y="166680"/>
          <a:ext cx="4013280" cy="2835360"/>
        </p:xfrm>
        <a:graphic>
          <a:graphicData uri="http://schemas.openxmlformats.org/drawingml/2006/table">
            <a:tbl>
              <a:tblPr/>
              <a:tblGrid>
                <a:gridCol w="4013280"/>
              </a:tblGrid>
              <a:tr h="2835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МC-Ф - представляет собой модернизированный автомат Калашникова АК-47. Для повышения тактико-технических характеристик базовой модели были заменены все пружины и отрегулирован спусковой механизм с заменой рычага автоматического спуска что обеспечило более плавный спуск. Также для повышения характеристик точности установлен ряд деталей, а именно: газовая трубка с планкой Пикатинни для установки оптического или коллиматорного прицела, анатомическая пистолетная рукоятка, а также цевье с передней рукояткой или сошками. Кроме того вместо дульной гайки устанавливается дульный компенсатор для уменьшения увода ствола при стрельбе очередями. На данную модель устанавливается складной вниз приклад оригинальной конструк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5003640" y="3182760"/>
          <a:ext cx="3942000" cy="3448080"/>
        </p:xfrm>
        <a:graphic>
          <a:graphicData uri="http://schemas.openxmlformats.org/drawingml/2006/table">
            <a:tbl>
              <a:tblPr/>
              <a:tblGrid>
                <a:gridCol w="3942000"/>
              </a:tblGrid>
              <a:tr h="3448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ибр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62х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цип работ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йствие газов на головку порш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ая длин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о сложенным  прикладом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твол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с пустым магазином, к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местимость магазин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патр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илие спуска, к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-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ьная скорость полета пули, м/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5±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ез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канав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200240" y="131760"/>
            <a:ext cx="6476760" cy="306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250920" y="3243240"/>
          <a:ext cx="8497800" cy="94464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944640"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найперская винтовка калибра 7,62х51мм Форт-301 - полуавтоматическое оружие поддержки, предназначенное для ведения прицельного огня на больших расстояниях. Характеризуется простотой и надежностью конструкции, удобством эксплуатации. Штатно укомплектована складным вбок прикладом, 6-ти кратным оптическим прицелом и складными сошк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250920" y="4437000"/>
          <a:ext cx="8497800" cy="2087640"/>
        </p:xfrm>
        <a:graphic>
          <a:graphicData uri="http://schemas.openxmlformats.org/drawingml/2006/table">
            <a:tbl>
              <a:tblPr/>
              <a:tblGrid>
                <a:gridCol w="4249800"/>
                <a:gridCol w="4248000"/>
              </a:tblGrid>
              <a:tr h="2087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ибр - 7,62x51 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цип работы - Действие газов на головку порш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ая длина, мм - 11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о сложенным прикладом, мм - 8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, мм - 2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, мм - 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твола, мм - 5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с пустым магазином, кг - 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со снаряженным магазином, кг - 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местимость магазина - 25 патр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илие спуска, кг - 1,6 – 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ьная скорость полета пули, м/с - 800±20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езы - 4 канав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*Примечание: средняя скорость пули может изменяться в зависимости от технических характеристик патрон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371600" y="166680"/>
            <a:ext cx="6477120" cy="2830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223920" y="3035160"/>
          <a:ext cx="8696160" cy="1737000"/>
        </p:xfrm>
        <a:graphic>
          <a:graphicData uri="http://schemas.openxmlformats.org/drawingml/2006/table">
            <a:tbl>
              <a:tblPr/>
              <a:tblGrid>
                <a:gridCol w="8696160"/>
              </a:tblGrid>
              <a:tr h="1737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т 401 - легкий пулемет калибра 5,56х45мм (7,62x51мм) предназначен для повышения огневой мощи боевых подразделений и соответствует всем требованиям современных боевых действий. Вести огонь из Форт-401 можно как с рук или сошек, так и со специального крепления установленного на транспортных средствах. Конструктивно Форт-401 - пулемет с воздушным охлаждением ствола, ствол быстросъемный, выпускается в двух модификациях: стандартный и укороченный.  Подача боеприпасов селективная – двух типов: основная - при помощи рассыпной ленты и от магазинов Форт-221. Лента на 150-200 патронов может использоваться как сама по себе, так и из мягкого штурмового барабан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штатную комплектацию Форт-401 входит складной приклад, съемные сошки и рукоятка для переноски расположенная на стволе. Дополнительно возможна установка различных прицелов на планку Пикатинни сверху на ствольной коробке и передней рукоятки под цевье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260280" y="4869000"/>
          <a:ext cx="8623440" cy="1768320"/>
        </p:xfrm>
        <a:graphic>
          <a:graphicData uri="http://schemas.openxmlformats.org/drawingml/2006/table">
            <a:tbl>
              <a:tblPr/>
              <a:tblGrid>
                <a:gridCol w="4311720"/>
                <a:gridCol w="4311720"/>
              </a:tblGrid>
              <a:tr h="1768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ибр, мм - 5,56х45 / 7,62х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цип работы - Действие газов на головку порш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ая длина, мм - 8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о сложенным  прикладом, мм - 6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, мм - 220 (5,56х45)  245 (7,62х5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, мм - 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твола, мм - 330/460 (5,56х45)  330 (7,62х5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, кг- 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со снаряженным штурмовым барабаном, кг - 1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мкость барабана - 150 и 200 патронов (5,56х45)  200 и 300 патронов (7,62х5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илие спуска, кг - 4,0-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ьная скорость полета пули, м/с - 800 (5,56х45)  840 (7,62х5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п стрельбы (патронов/мин) - 800-1200 (5,56х45)  650-1000 (7,62х5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езы - 6 канав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1547640" y="476280"/>
            <a:ext cx="662472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 u="sng">
                <a:solidFill>
                  <a:srgbClr val="ff0000"/>
                </a:solidFill>
                <a:uFillTx/>
                <a:latin typeface="Times New Roman"/>
              </a:rPr>
              <a:t>Мета уроку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0000"/>
                </a:solidFill>
                <a:latin typeface="Times New Roman"/>
              </a:rPr>
              <a:t>Сформувати у студентів поняття про стрілецьку зброю та необхідність дотримання заходів безпеки при проведенні стрільб із стрілецької зброї.</a:t>
            </a:r>
            <a:r>
              <a:rPr b="1" i="1" lang="uk-UA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5256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476360" y="166680"/>
            <a:ext cx="5616720" cy="354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179280" y="3860640"/>
          <a:ext cx="8766360" cy="1006560"/>
        </p:xfrm>
        <a:graphic>
          <a:graphicData uri="http://schemas.openxmlformats.org/drawingml/2006/table">
            <a:tbl>
              <a:tblPr/>
              <a:tblGrid>
                <a:gridCol w="876636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вматический пистолет Форт-17Р кал. 9 мм Р.А. является современным эргономичным образцом травматического оружия. Благодаря использованию новейших технологий и материалов, массу пистолета удалось значительно снизить по сравнению с предыдущими моделями, что является особенно важным при длительном ношении оружия во время выполнения служебных обязанностей. Пластиковая рамка, изготовленная из композитного полиамида с высокой ударной и термической прочностью, более износостойкая и не потеряет "товарный вид" даже после многократных извлечений из кобур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79280" y="4970520"/>
          <a:ext cx="8766360" cy="1554120"/>
        </p:xfrm>
        <a:graphic>
          <a:graphicData uri="http://schemas.openxmlformats.org/drawingml/2006/table">
            <a:tbl>
              <a:tblPr/>
              <a:tblGrid>
                <a:gridCol w="4383360"/>
                <a:gridCol w="438300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ибр  - 9 мм P.A. / .45 Rub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цип действия - Свободный затв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дарно-спусковой механизм - Одинарного или двойного дей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бариты (мм):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ая длина - 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 - 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 - 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твола - 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c пустым магазином (кг) - 0,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ьная скорость полета пули (м/с) - 300±20 (9 мм P.A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7±20 (.45 Rubb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местимость магазина (шт) - 12 (9 мм P.A.)  8 (.45 Rubb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250920" y="123840"/>
            <a:ext cx="869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ff0000"/>
                </a:solidFill>
                <a:latin typeface="Times New Roman"/>
              </a:rPr>
              <a:t>1. МЕТА ТА ЗАВДАННЯ ВОГНЕВОЇ ПІДГОТОВКИ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50920" y="752400"/>
          <a:ext cx="8694720" cy="6066000"/>
        </p:xfrm>
        <a:graphic>
          <a:graphicData uri="http://schemas.openxmlformats.org/drawingml/2006/table">
            <a:tbl>
              <a:tblPr/>
              <a:tblGrid>
                <a:gridCol w="8694720"/>
              </a:tblGrid>
              <a:tr h="6066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огнева підготовка є одним з основних видів загальної підготовки військовослужбовця. Зміст вогневої підготовки передбачає оволодіння вами знаннями про сучасні види озброєння, будову тих його видів, якими оснащуються сучасні ЗСУ;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огнева підготовка передбачає сформувати у вас уміння та навички із підготовки зброї, а саме гвинтівки та автомата, до стрільби, порядку догляду за зброєю та поводженню з нею під час виконання стрільби, після завершення стрільби. Одним із найважливіших моментів у цьому процесі належить заходам безпеки, які вживаються для запобігання нещасних випадків;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</a:t>
                      </a: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гнева підготовки навчить користуватись деталями зброї для визначення відстаней до об'єктів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0" y="142884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абороняєтьс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ести стрільбу з несправної зброї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ідходити і брати зброю на вогневому рубежі без дозволу керівника стрільб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аряджати і передавати зброю без команди керівн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рицілюватись навіть з незарядженої зброї, якщо біля мішені перебувають люд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прямовувати зброю вбік, назад, а також на людей, в якому б стані зброя не бу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иносити заряджену зброю з лінії вогню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еребування на лінії вогню осіб, які не входять до зміни, що стріляє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алишати на лінії вогню заряджену або з відкритим затвором збро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468360" y="142920"/>
            <a:ext cx="817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ЗАХОДИ БЕЗПЕКИ ПІД ЧАС ПОВОДЖЕНН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ЗІ ЗБРОЄ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1042920" y="163440"/>
            <a:ext cx="72867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uk-UA" sz="28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КЛАСИФІКАЦІЯ СТРІЛЕЦЬКОЇ ЗБРО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50920" y="695160"/>
          <a:ext cx="8694720" cy="5851800"/>
        </p:xfrm>
        <a:graphic>
          <a:graphicData uri="http://schemas.openxmlformats.org/drawingml/2006/table">
            <a:tbl>
              <a:tblPr/>
              <a:tblGrid>
                <a:gridCol w="8694720"/>
              </a:tblGrid>
              <a:tr h="5852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Види стрілецької зброї можна виділити за такими ознаками: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призначення;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ступінь автоматизації;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калібр;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бойові можливості.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Іноді виділяють види стрілецької зброї ще за такими ознаками</a:t>
                      </a:r>
                      <a:r>
                        <a:rPr b="1" lang="ru-RU" sz="27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: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кількість обслуговуючих зброю військовослужбовців;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спосіб тримання під час стрільби;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конструкція ствола;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характер джерела енергії для метання куль;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кількість стволів.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rcRect l="0" t="4049" r="0" b="28726"/>
          <a:stretch/>
        </p:blipFill>
        <p:spPr>
          <a:xfrm>
            <a:off x="395280" y="260280"/>
            <a:ext cx="8137440" cy="6481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1042920" y="163440"/>
            <a:ext cx="728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Види стрілецької зброї за бойовими мож­ливост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rcRect l="0" t="75425" r="0" b="0"/>
          <a:stretch/>
        </p:blipFill>
        <p:spPr>
          <a:xfrm>
            <a:off x="755640" y="1069920"/>
            <a:ext cx="7574040" cy="4807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1042920" y="163440"/>
            <a:ext cx="728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Види стрілецької зброї за бойовими мож­ливост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8406000" cy="5183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0" y="14288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1571760" y="142920"/>
            <a:ext cx="707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Порівняльна характеристика індивідуальної стрілецької зброї армій різних держав світ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79280" y="1544760"/>
            <a:ext cx="8856720" cy="4968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Admin</cp:lastModifiedBy>
  <dcterms:modified xsi:type="dcterms:W3CDTF">2020-02-27T20:59:04Z</dcterms:modified>
  <cp:revision>519</cp:revision>
  <dc:subject/>
  <dc:title>PowerPoint Presentation</dc:title>
</cp:coreProperties>
</file>