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D60-9314-469F-8F7B-018F6250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6A1-FC56-4CAB-B4CA-518E2157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7BD-032E-43EC-9114-63ECFF8C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DC8-AE1F-49F3-8B17-16273CBB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401-1FB2-4EC4-8EDF-7A22024A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0A8-1F1A-476B-95AC-1631C11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363-2CEF-41DC-9E77-287DAD9D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95C-57DF-42DE-A02B-63527E71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EB9-D2BD-4D8B-8313-9B2C2CEE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A67-13B7-4B44-9A7F-08F1998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D6F-0F4A-445F-BC40-2BA6414B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30F-2F38-4749-B4A1-1C4F1078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b3ff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9F81-073C-4332-A35B-FE4547365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кутник 10" descr=""/>
          <p:cNvPicPr/>
          <p:nvPr/>
        </p:nvPicPr>
        <p:blipFill>
          <a:blip r:embed="rId1"/>
          <a:stretch/>
        </p:blipFill>
        <p:spPr>
          <a:xfrm>
            <a:off x="1231920" y="1511280"/>
            <a:ext cx="7016760" cy="340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хлопчик11 копия"/>
          <p:cNvPicPr/>
          <p:nvPr/>
        </p:nvPicPr>
        <p:blipFill>
          <a:blip r:embed="rId2"/>
          <a:stretch/>
        </p:blipFill>
        <p:spPr>
          <a:xfrm>
            <a:off x="684360" y="2565360"/>
            <a:ext cx="1716120" cy="37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сова копия копия"/>
          <p:cNvPicPr/>
          <p:nvPr/>
        </p:nvPicPr>
        <p:blipFill>
          <a:blip r:embed="rId3"/>
          <a:stretch/>
        </p:blipFill>
        <p:spPr>
          <a:xfrm>
            <a:off x="7308720" y="26028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19"/>
          <p:cNvSpPr txBox="1"/>
          <p:nvPr/>
        </p:nvSpPr>
        <p:spPr>
          <a:xfrm>
            <a:off x="2124000" y="620640"/>
            <a:ext cx="41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 клас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6880" y="1816200"/>
            <a:ext cx="6977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блука у результаті сушіння втрачають 84% своєї маси. Яку частину складає маса сухих ябл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5321160"/>
            <a:ext cx="6278400" cy="94644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6880" y="1816200"/>
            <a:ext cx="6977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ід час охолодження хліб втрачає до 4% своєї маси в результаті випа-ровування води. Яка частина маси свіжого хліба залишаєть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5321160"/>
            <a:ext cx="6278400" cy="946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41160" y="1616040"/>
            <a:ext cx="6978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% учнів 5-го класу навчаються у музичній школі, 50% відвідують спортивні секції, а решта — відвідує гуртки іноземних мов. Скільки відсотків учнів класу відвідують гуртки іноземних м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-176040" y="5937120"/>
            <a:ext cx="7650000" cy="944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41160" y="1616040"/>
            <a:ext cx="6978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чаткова ціна товару знизилась на 30%. Скільки відсотків від початкової ціни вона станов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5937120"/>
            <a:ext cx="73216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 Black"/>
              </a:rPr>
              <a:t>Дайте відповідь</a:t>
            </a: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7200" y="1988640"/>
            <a:ext cx="7769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ільки сантиметрів становлять 19% ме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ільки кілограмів становить 23% тон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ільки хвилин становлять 10% годи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гійко перечитав 30% книжки. Яку частину книжки йому залишилось прочита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u_mikrofona копия"/>
          <p:cNvPicPr/>
          <p:nvPr/>
        </p:nvPicPr>
        <p:blipFill>
          <a:blip r:embed="rId1"/>
          <a:stretch/>
        </p:blipFill>
        <p:spPr>
          <a:xfrm>
            <a:off x="6443640" y="260280"/>
            <a:ext cx="2298600" cy="1576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хлопчик11 копия"/>
          <p:cNvPicPr/>
          <p:nvPr/>
        </p:nvPicPr>
        <p:blipFill>
          <a:blip r:embed="rId2"/>
          <a:stretch/>
        </p:blipFill>
        <p:spPr>
          <a:xfrm>
            <a:off x="7451640" y="3860640"/>
            <a:ext cx="145728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61440" y="968400"/>
            <a:ext cx="741708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Що сприяло успіх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Що заважало?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Оціни результативність своєї роботи на уроці за 100 -бальною шкало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Чи справдилися очікуван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 Black"/>
              </a:rPr>
              <a:t>Результативність роботи: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92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pSp>
        <p:nvGrpSpPr>
          <p:cNvPr id="111" name="Группа 18"/>
          <p:cNvGrpSpPr/>
          <p:nvPr/>
        </p:nvGrpSpPr>
        <p:grpSpPr>
          <a:xfrm>
            <a:off x="0" y="4314960"/>
            <a:ext cx="8893080" cy="1850760"/>
            <a:chOff x="0" y="4314960"/>
            <a:chExt cx="8893080" cy="1850760"/>
          </a:xfrm>
        </p:grpSpPr>
        <p:pic>
          <p:nvPicPr>
            <p:cNvPr id="112" name="Picture 2" descr="http://animo2.ucoz.ru/_ph/56/1/13820928.jpg"/>
            <p:cNvPicPr/>
            <p:nvPr/>
          </p:nvPicPr>
          <p:blipFill>
            <a:blip r:embed="rId1"/>
            <a:stretch/>
          </p:blipFill>
          <p:spPr>
            <a:xfrm>
              <a:off x="0" y="5072400"/>
              <a:ext cx="79920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" descr="http://animo2.ucoz.ru/_ph/56/1/13820928.jpg"/>
            <p:cNvPicPr/>
            <p:nvPr/>
          </p:nvPicPr>
          <p:blipFill>
            <a:blip r:embed="rId2"/>
            <a:stretch/>
          </p:blipFill>
          <p:spPr>
            <a:xfrm>
              <a:off x="941040" y="5003640"/>
              <a:ext cx="79920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2" descr="http://animo2.ucoz.ru/_ph/56/1/13820928.jpg"/>
            <p:cNvPicPr/>
            <p:nvPr/>
          </p:nvPicPr>
          <p:blipFill>
            <a:blip r:embed="rId3"/>
            <a:stretch/>
          </p:blipFill>
          <p:spPr>
            <a:xfrm>
              <a:off x="1882080" y="4934880"/>
              <a:ext cx="799200" cy="12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" descr="http://animo2.ucoz.ru/_ph/56/1/13820928.jpg"/>
            <p:cNvPicPr/>
            <p:nvPr/>
          </p:nvPicPr>
          <p:blipFill>
            <a:blip r:embed="rId4"/>
            <a:stretch/>
          </p:blipFill>
          <p:spPr>
            <a:xfrm>
              <a:off x="2729160" y="4797000"/>
              <a:ext cx="799200" cy="13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" descr="http://animo2.ucoz.ru/_ph/56/1/13820928.jpg"/>
            <p:cNvPicPr/>
            <p:nvPr/>
          </p:nvPicPr>
          <p:blipFill>
            <a:blip r:embed="rId5"/>
            <a:stretch/>
          </p:blipFill>
          <p:spPr>
            <a:xfrm>
              <a:off x="3670560" y="4797000"/>
              <a:ext cx="799200" cy="13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" descr="http://animo2.ucoz.ru/_ph/56/1/13820928.jpg"/>
            <p:cNvPicPr/>
            <p:nvPr/>
          </p:nvPicPr>
          <p:blipFill>
            <a:blip r:embed="rId6"/>
            <a:stretch/>
          </p:blipFill>
          <p:spPr>
            <a:xfrm>
              <a:off x="4517280" y="4659120"/>
              <a:ext cx="799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" descr="http://animo2.ucoz.ru/_ph/56/1/13820928.jpg"/>
            <p:cNvPicPr/>
            <p:nvPr/>
          </p:nvPicPr>
          <p:blipFill>
            <a:blip r:embed="rId7"/>
            <a:stretch/>
          </p:blipFill>
          <p:spPr>
            <a:xfrm>
              <a:off x="5364360" y="4659120"/>
              <a:ext cx="799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" descr="http://animo2.ucoz.ru/_ph/56/1/13820928.jpg"/>
            <p:cNvPicPr/>
            <p:nvPr/>
          </p:nvPicPr>
          <p:blipFill>
            <a:blip r:embed="rId8"/>
            <a:stretch/>
          </p:blipFill>
          <p:spPr>
            <a:xfrm>
              <a:off x="6305760" y="4590360"/>
              <a:ext cx="799200" cy="15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" descr="http://animo2.ucoz.ru/_ph/56/1/13820928.jpg"/>
            <p:cNvPicPr/>
            <p:nvPr/>
          </p:nvPicPr>
          <p:blipFill>
            <a:blip r:embed="rId9"/>
            <a:stretch/>
          </p:blipFill>
          <p:spPr>
            <a:xfrm>
              <a:off x="7246800" y="4521600"/>
              <a:ext cx="799200" cy="16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" descr="http://animo2.ucoz.ru/_ph/56/1/13820928.jpg"/>
            <p:cNvPicPr/>
            <p:nvPr/>
          </p:nvPicPr>
          <p:blipFill>
            <a:blip r:embed="rId10"/>
            <a:stretch/>
          </p:blipFill>
          <p:spPr>
            <a:xfrm>
              <a:off x="8093880" y="4314960"/>
              <a:ext cx="799200" cy="1850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6696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10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ке з чисел більше й у скільки разі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10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4,56 і 45,6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10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1,04 і 104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10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6,07 і 0,0060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" y="475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7127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найдіть числа, яких не вистачає у ланцюжку обчислен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60280"/>
            <a:ext cx="2489040" cy="461016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2"/>
          <p:cNvGrpSpPr/>
          <p:nvPr/>
        </p:nvGrpSpPr>
        <p:grpSpPr>
          <a:xfrm>
            <a:off x="272880" y="4870440"/>
            <a:ext cx="8713800" cy="1582920"/>
            <a:chOff x="272880" y="4870440"/>
            <a:chExt cx="8713800" cy="1582920"/>
          </a:xfrm>
        </p:grpSpPr>
        <p:pic>
          <p:nvPicPr>
            <p:cNvPr id="57" name="Picture 6" descr=""/>
            <p:cNvPicPr/>
            <p:nvPr/>
          </p:nvPicPr>
          <p:blipFill>
            <a:blip r:embed="rId2"/>
            <a:stretch/>
          </p:blipFill>
          <p:spPr>
            <a:xfrm>
              <a:off x="272880" y="4870440"/>
              <a:ext cx="8713800" cy="1582920"/>
            </a:xfrm>
            <a:prstGeom prst="rect">
              <a:avLst/>
            </a:prstGeom>
            <a:ln w="76320">
              <a:solidFill>
                <a:srgbClr val="00b050"/>
              </a:solidFill>
              <a:miter/>
            </a:ln>
          </p:spPr>
        </p:pic>
        <p:sp>
          <p:nvSpPr>
            <p:cNvPr id="58" name="Овал 1"/>
            <p:cNvSpPr/>
            <p:nvPr/>
          </p:nvSpPr>
          <p:spPr>
            <a:xfrm>
              <a:off x="4125600" y="5121720"/>
              <a:ext cx="1008000" cy="1080360"/>
            </a:xfrm>
            <a:prstGeom prst="ellipse">
              <a:avLst/>
            </a:prstGeom>
            <a:solidFill>
              <a:srgbClr val="f4b400"/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Овал 7"/>
            <p:cNvSpPr/>
            <p:nvPr/>
          </p:nvSpPr>
          <p:spPr>
            <a:xfrm>
              <a:off x="5962680" y="5084640"/>
              <a:ext cx="1008000" cy="1079640"/>
            </a:xfrm>
            <a:prstGeom prst="ellipse">
              <a:avLst/>
            </a:prstGeom>
            <a:solidFill>
              <a:srgbClr val="6affff"/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4560" y="1700280"/>
            <a:ext cx="8209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конайте дії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1,48 : 100;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1,48 • 100;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 36,7 • 100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 36,7 : 100;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) 0,4 : 100;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) 0,4 • 10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78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Що ми називаємо 1%? Наведіть прикла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к записати відсотки десятковим дробом? Записати дробом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%,     60%,     600%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к записати десятковий дріб (число) у відсотках? Записати у відсотках: 35;   3,5;   0,35;   0,03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76485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к знайти    від числ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д числ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0,03 від чис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Объект 2"/>
              <p:cNvSpPr txBox="1"/>
              <p:nvPr/>
            </p:nvSpPr>
            <p:spPr>
              <a:xfrm>
                <a:off x="4027320" y="1720800"/>
                <a:ext cx="540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Объект 5"/>
              <p:cNvSpPr txBox="1"/>
              <p:nvPr/>
            </p:nvSpPr>
            <p:spPr>
              <a:xfrm>
                <a:off x="755640" y="2637000"/>
                <a:ext cx="684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00"/>
                </a:solidFill>
                <a:latin typeface="Arial Black"/>
              </a:rPr>
              <a:t>Запам'ятай: 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200" y="1628280"/>
            <a:ext cx="79963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щоб знайти відсотки від числа, мож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1)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иразити відсотки звичайними дробам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2)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дане число поділити на знаменник дробу і отримане число помножити на чисельник цього дроб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хлопчик11 копия"/>
          <p:cNvPicPr/>
          <p:nvPr/>
        </p:nvPicPr>
        <p:blipFill>
          <a:blip r:embed="rId1"/>
          <a:stretch/>
        </p:blipFill>
        <p:spPr>
          <a:xfrm>
            <a:off x="7446960" y="0"/>
            <a:ext cx="145728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6880" y="1816200"/>
            <a:ext cx="6977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ходіл займає 29% площі поверхні Землі, а Світовий океан — решту. Скільки відсотків площі поверхні Землі займає Світовий океан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5321160"/>
            <a:ext cx="6278400" cy="94644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4:26:25Z</dcterms:created>
  <dc:creator>User</dc:creator>
  <dc:description/>
  <dc:language>en-US</dc:language>
  <cp:lastModifiedBy>samsung</cp:lastModifiedBy>
  <dcterms:modified xsi:type="dcterms:W3CDTF">2017-03-19T14:54:05Z</dcterms:modified>
  <cp:revision>109</cp:revision>
  <dc:subject/>
  <dc:title>Слайд 1</dc:title>
</cp:coreProperties>
</file>