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39A-CC7B-4F26-89E6-9DBE37B6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FB8-6FD9-4098-A122-51C595F4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019-A49F-46C5-A2BC-A3F9F0F5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DF1-9574-46D1-9EF8-E18F2D6A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AD5-D651-4BEC-A655-48F0722F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069-B3E3-4349-B662-BA682029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C91-4DE3-4A82-B781-7CCABE37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111-6909-4B5A-94A5-CECA2298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F53-297C-4AA0-924A-A42557BA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AB2-6327-4433-AD87-2BF49506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6F2-9D10-4890-8CF1-AC6E1BA0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70B-E4E6-439E-ADB6-43E538A4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b3ff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5AE9-92B4-4466-AFD0-2DC2CBBFC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кутник 10" descr=""/>
          <p:cNvPicPr/>
          <p:nvPr/>
        </p:nvPicPr>
        <p:blipFill>
          <a:blip r:embed="rId1"/>
          <a:stretch/>
        </p:blipFill>
        <p:spPr>
          <a:xfrm>
            <a:off x="1231920" y="1511280"/>
            <a:ext cx="7016760" cy="340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хлопчик11 копия"/>
          <p:cNvPicPr/>
          <p:nvPr/>
        </p:nvPicPr>
        <p:blipFill>
          <a:blip r:embed="rId2"/>
          <a:stretch/>
        </p:blipFill>
        <p:spPr>
          <a:xfrm>
            <a:off x="684360" y="2565360"/>
            <a:ext cx="1716120" cy="377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сова копия копия"/>
          <p:cNvPicPr/>
          <p:nvPr/>
        </p:nvPicPr>
        <p:blipFill>
          <a:blip r:embed="rId3"/>
          <a:stretch/>
        </p:blipFill>
        <p:spPr>
          <a:xfrm>
            <a:off x="7308720" y="26028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19"/>
          <p:cNvSpPr txBox="1"/>
          <p:nvPr/>
        </p:nvSpPr>
        <p:spPr>
          <a:xfrm>
            <a:off x="2124000" y="620640"/>
            <a:ext cx="410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5 клас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6880" y="1816200"/>
            <a:ext cx="6977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блука у результаті сушіння втрачають 84% своєї маси. Яку частину складає маса сухих яблу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5321160"/>
            <a:ext cx="6278400" cy="94644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900000" y="692280"/>
            <a:ext cx="568800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зв’яжи задачу:</a:t>
            </a:r>
            <a:endParaRPr b="1" lang="en-US" sz="4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7" descr="хлопчик2 копия"/>
          <p:cNvPicPr/>
          <p:nvPr/>
        </p:nvPicPr>
        <p:blipFill>
          <a:blip r:embed="rId2"/>
          <a:stretch/>
        </p:blipFill>
        <p:spPr>
          <a:xfrm>
            <a:off x="7093080" y="2247840"/>
            <a:ext cx="205092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6880" y="1816200"/>
            <a:ext cx="6977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ід час охолодження хліб втрачає до 4% своєї маси в результаті випа-ровування води. Яка частина маси свіжого хліба залишаєть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5321160"/>
            <a:ext cx="6278400" cy="946440"/>
          </a:xfrm>
          <a:prstGeom prst="rect">
            <a:avLst/>
          </a:prstGeom>
          <a:ln w="0">
            <a:noFill/>
          </a:ln>
        </p:spPr>
      </p:pic>
      <p:sp>
        <p:nvSpPr>
          <p:cNvPr id="93" name="WordArt 5"/>
          <p:cNvSpPr txBox="1"/>
          <p:nvPr/>
        </p:nvSpPr>
        <p:spPr>
          <a:xfrm>
            <a:off x="900000" y="692280"/>
            <a:ext cx="568800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зв’яжи задачу:</a:t>
            </a:r>
            <a:endParaRPr b="1" lang="en-US" sz="4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7" descr="хлопчик2 копия"/>
          <p:cNvPicPr/>
          <p:nvPr/>
        </p:nvPicPr>
        <p:blipFill>
          <a:blip r:embed="rId2"/>
          <a:stretch/>
        </p:blipFill>
        <p:spPr>
          <a:xfrm>
            <a:off x="7093080" y="2247840"/>
            <a:ext cx="205092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41160" y="1616040"/>
            <a:ext cx="6978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0% учнів 5-го класу навчаються у музичній школі, 50% відвідують спортивні секції, а решта — відвідує гуртки іноземних мов. Скільки відсотків учнів класу відвідують гуртки іноземних м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-176040" y="5937120"/>
            <a:ext cx="7650000" cy="94464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 txBox="1"/>
          <p:nvPr/>
        </p:nvSpPr>
        <p:spPr>
          <a:xfrm>
            <a:off x="900000" y="692280"/>
            <a:ext cx="568800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зв’яжи задачу:</a:t>
            </a:r>
            <a:endParaRPr b="1" lang="en-US" sz="4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Picture 7" descr="хлопчик2 копия"/>
          <p:cNvPicPr/>
          <p:nvPr/>
        </p:nvPicPr>
        <p:blipFill>
          <a:blip r:embed="rId2"/>
          <a:stretch/>
        </p:blipFill>
        <p:spPr>
          <a:xfrm>
            <a:off x="7093080" y="2247840"/>
            <a:ext cx="205092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41160" y="1616040"/>
            <a:ext cx="6978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чаткова ціна товару знизилась на 30%. Скільки відсотків від початкової ціни вона станови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5937120"/>
            <a:ext cx="7321680" cy="944640"/>
          </a:xfrm>
          <a:prstGeom prst="rect">
            <a:avLst/>
          </a:prstGeom>
          <a:ln w="0">
            <a:noFill/>
          </a:ln>
        </p:spPr>
      </p:pic>
      <p:sp>
        <p:nvSpPr>
          <p:cNvPr id="101" name="WordArt 5"/>
          <p:cNvSpPr txBox="1"/>
          <p:nvPr/>
        </p:nvSpPr>
        <p:spPr>
          <a:xfrm>
            <a:off x="900000" y="692280"/>
            <a:ext cx="568800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зв’яжи задачу:</a:t>
            </a:r>
            <a:endParaRPr b="1" lang="en-US" sz="4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7" descr="хлопчик2 копия"/>
          <p:cNvPicPr/>
          <p:nvPr/>
        </p:nvPicPr>
        <p:blipFill>
          <a:blip r:embed="rId2"/>
          <a:stretch/>
        </p:blipFill>
        <p:spPr>
          <a:xfrm>
            <a:off x="7093080" y="2247840"/>
            <a:ext cx="205092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6981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 Black"/>
              </a:rPr>
              <a:t>Дайте відповідь</a:t>
            </a:r>
            <a:endParaRPr b="0" lang="en-US" sz="5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7200" y="1988640"/>
            <a:ext cx="7769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ільки сантиметрів становлять 19% ме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ільки кілограмів становить 23% тон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ільки хвилин становлять 10% годи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ргійко перечитав 30% книжки. Яку частину книжки йому залишилось прочита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u_mikrofona копия"/>
          <p:cNvPicPr/>
          <p:nvPr/>
        </p:nvPicPr>
        <p:blipFill>
          <a:blip r:embed="rId1"/>
          <a:stretch/>
        </p:blipFill>
        <p:spPr>
          <a:xfrm>
            <a:off x="6443640" y="260280"/>
            <a:ext cx="2298600" cy="1576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хлопчик11 копия"/>
          <p:cNvPicPr/>
          <p:nvPr/>
        </p:nvPicPr>
        <p:blipFill>
          <a:blip r:embed="rId2"/>
          <a:stretch/>
        </p:blipFill>
        <p:spPr>
          <a:xfrm>
            <a:off x="7451640" y="3860640"/>
            <a:ext cx="145728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61440" y="968400"/>
            <a:ext cx="741708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Arial"/>
              </a:rPr>
              <a:t>Що сприяло успіх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Arial"/>
              </a:rPr>
              <a:t>Що заважало?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Arial"/>
              </a:rPr>
              <a:t>Оціни результативність своєї роботи на уроці за 100 -бальною шкало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Arial"/>
              </a:rPr>
              <a:t>Чи справдилися очікуванн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 Black"/>
              </a:rPr>
              <a:t>Результативність роботи: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6165720"/>
          <a:ext cx="9144000" cy="6922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692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pSp>
        <p:nvGrpSpPr>
          <p:cNvPr id="111" name="Группа 18"/>
          <p:cNvGrpSpPr/>
          <p:nvPr/>
        </p:nvGrpSpPr>
        <p:grpSpPr>
          <a:xfrm>
            <a:off x="0" y="4314960"/>
            <a:ext cx="8893080" cy="1850760"/>
            <a:chOff x="0" y="4314960"/>
            <a:chExt cx="8893080" cy="1850760"/>
          </a:xfrm>
        </p:grpSpPr>
        <p:pic>
          <p:nvPicPr>
            <p:cNvPr id="112" name="Picture 2" descr="http://animo2.ucoz.ru/_ph/56/1/13820928.jpg"/>
            <p:cNvPicPr/>
            <p:nvPr/>
          </p:nvPicPr>
          <p:blipFill>
            <a:blip r:embed="rId1"/>
            <a:stretch/>
          </p:blipFill>
          <p:spPr>
            <a:xfrm>
              <a:off x="0" y="5072400"/>
              <a:ext cx="79920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2" descr="http://animo2.ucoz.ru/_ph/56/1/13820928.jpg"/>
            <p:cNvPicPr/>
            <p:nvPr/>
          </p:nvPicPr>
          <p:blipFill>
            <a:blip r:embed="rId2"/>
            <a:stretch/>
          </p:blipFill>
          <p:spPr>
            <a:xfrm>
              <a:off x="941040" y="5003640"/>
              <a:ext cx="79920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2" descr="http://animo2.ucoz.ru/_ph/56/1/13820928.jpg"/>
            <p:cNvPicPr/>
            <p:nvPr/>
          </p:nvPicPr>
          <p:blipFill>
            <a:blip r:embed="rId3"/>
            <a:stretch/>
          </p:blipFill>
          <p:spPr>
            <a:xfrm>
              <a:off x="1882080" y="4934880"/>
              <a:ext cx="799200" cy="123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2" descr="http://animo2.ucoz.ru/_ph/56/1/13820928.jpg"/>
            <p:cNvPicPr/>
            <p:nvPr/>
          </p:nvPicPr>
          <p:blipFill>
            <a:blip r:embed="rId4"/>
            <a:stretch/>
          </p:blipFill>
          <p:spPr>
            <a:xfrm>
              <a:off x="2729160" y="4797000"/>
              <a:ext cx="799200" cy="13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2" descr="http://animo2.ucoz.ru/_ph/56/1/13820928.jpg"/>
            <p:cNvPicPr/>
            <p:nvPr/>
          </p:nvPicPr>
          <p:blipFill>
            <a:blip r:embed="rId5"/>
            <a:stretch/>
          </p:blipFill>
          <p:spPr>
            <a:xfrm>
              <a:off x="3670560" y="4797000"/>
              <a:ext cx="799200" cy="13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" descr="http://animo2.ucoz.ru/_ph/56/1/13820928.jpg"/>
            <p:cNvPicPr/>
            <p:nvPr/>
          </p:nvPicPr>
          <p:blipFill>
            <a:blip r:embed="rId6"/>
            <a:stretch/>
          </p:blipFill>
          <p:spPr>
            <a:xfrm>
              <a:off x="4517280" y="4659120"/>
              <a:ext cx="799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2" descr="http://animo2.ucoz.ru/_ph/56/1/13820928.jpg"/>
            <p:cNvPicPr/>
            <p:nvPr/>
          </p:nvPicPr>
          <p:blipFill>
            <a:blip r:embed="rId7"/>
            <a:stretch/>
          </p:blipFill>
          <p:spPr>
            <a:xfrm>
              <a:off x="5364360" y="4659120"/>
              <a:ext cx="799200" cy="15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" descr="http://animo2.ucoz.ru/_ph/56/1/13820928.jpg"/>
            <p:cNvPicPr/>
            <p:nvPr/>
          </p:nvPicPr>
          <p:blipFill>
            <a:blip r:embed="rId8"/>
            <a:stretch/>
          </p:blipFill>
          <p:spPr>
            <a:xfrm>
              <a:off x="6305760" y="4590360"/>
              <a:ext cx="799200" cy="15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2" descr="http://animo2.ucoz.ru/_ph/56/1/13820928.jpg"/>
            <p:cNvPicPr/>
            <p:nvPr/>
          </p:nvPicPr>
          <p:blipFill>
            <a:blip r:embed="rId9"/>
            <a:stretch/>
          </p:blipFill>
          <p:spPr>
            <a:xfrm>
              <a:off x="7246800" y="4521600"/>
              <a:ext cx="799200" cy="16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2" descr="http://animo2.ucoz.ru/_ph/56/1/13820928.jpg"/>
            <p:cNvPicPr/>
            <p:nvPr/>
          </p:nvPicPr>
          <p:blipFill>
            <a:blip r:embed="rId10"/>
            <a:stretch/>
          </p:blipFill>
          <p:spPr>
            <a:xfrm>
              <a:off x="8093880" y="4314960"/>
              <a:ext cx="799200" cy="1850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6600"/>
                </a:solidFill>
                <a:latin typeface="Arial Black"/>
              </a:rPr>
              <a:t>Усні вправи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6696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10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ке з чисел більше й у скільки разі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10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4,56 і 45,6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10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1,04 і 104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spcBef>
                <a:spcPts val="10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6,07 і 0,00607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хлопчик2 копия"/>
          <p:cNvPicPr/>
          <p:nvPr/>
        </p:nvPicPr>
        <p:blipFill>
          <a:blip r:embed="rId1"/>
          <a:stretch/>
        </p:blipFill>
        <p:spPr>
          <a:xfrm>
            <a:off x="6654960" y="2247840"/>
            <a:ext cx="248904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" y="4759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6600"/>
                </a:solidFill>
                <a:latin typeface="Arial Black"/>
              </a:rPr>
              <a:t>Усні вправи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7127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найдіть числа, яких не вистачає у ланцюжку обчислен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хлопчик2 копия"/>
          <p:cNvPicPr/>
          <p:nvPr/>
        </p:nvPicPr>
        <p:blipFill>
          <a:blip r:embed="rId1"/>
          <a:stretch/>
        </p:blipFill>
        <p:spPr>
          <a:xfrm>
            <a:off x="6654960" y="260280"/>
            <a:ext cx="2489040" cy="4610160"/>
          </a:xfrm>
          <a:prstGeom prst="rect">
            <a:avLst/>
          </a:prstGeom>
          <a:ln w="0">
            <a:noFill/>
          </a:ln>
        </p:spPr>
      </p:pic>
      <p:grpSp>
        <p:nvGrpSpPr>
          <p:cNvPr id="56" name="Группа 2"/>
          <p:cNvGrpSpPr/>
          <p:nvPr/>
        </p:nvGrpSpPr>
        <p:grpSpPr>
          <a:xfrm>
            <a:off x="272880" y="4870440"/>
            <a:ext cx="8713800" cy="1582920"/>
            <a:chOff x="272880" y="4870440"/>
            <a:chExt cx="8713800" cy="1582920"/>
          </a:xfrm>
        </p:grpSpPr>
        <p:pic>
          <p:nvPicPr>
            <p:cNvPr id="57" name="Picture 6" descr=""/>
            <p:cNvPicPr/>
            <p:nvPr/>
          </p:nvPicPr>
          <p:blipFill>
            <a:blip r:embed="rId2"/>
            <a:stretch/>
          </p:blipFill>
          <p:spPr>
            <a:xfrm>
              <a:off x="272880" y="4870440"/>
              <a:ext cx="8713800" cy="1582920"/>
            </a:xfrm>
            <a:prstGeom prst="rect">
              <a:avLst/>
            </a:prstGeom>
            <a:ln w="76320">
              <a:solidFill>
                <a:srgbClr val="00b050"/>
              </a:solidFill>
              <a:miter/>
            </a:ln>
          </p:spPr>
        </p:pic>
        <p:sp>
          <p:nvSpPr>
            <p:cNvPr id="58" name="Овал 1"/>
            <p:cNvSpPr/>
            <p:nvPr/>
          </p:nvSpPr>
          <p:spPr>
            <a:xfrm>
              <a:off x="4125600" y="5121720"/>
              <a:ext cx="1008000" cy="1080360"/>
            </a:xfrm>
            <a:prstGeom prst="ellipse">
              <a:avLst/>
            </a:prstGeom>
            <a:solidFill>
              <a:srgbClr val="f4b400"/>
            </a:solidFill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Овал 7"/>
            <p:cNvSpPr/>
            <p:nvPr/>
          </p:nvSpPr>
          <p:spPr>
            <a:xfrm>
              <a:off x="5962680" y="5084640"/>
              <a:ext cx="1008000" cy="1079640"/>
            </a:xfrm>
            <a:prstGeom prst="ellipse">
              <a:avLst/>
            </a:prstGeom>
            <a:solidFill>
              <a:srgbClr val="6affff"/>
            </a:solidFill>
            <a:ln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6600"/>
                </a:solidFill>
                <a:latin typeface="Arial Black"/>
              </a:rPr>
              <a:t>Усні вправи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34560" y="1700280"/>
            <a:ext cx="8209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конайте дії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) 1,48 : 100;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1,48 • 100;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) 36,7 • 100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) 36,7 : 100;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) 0,4 : 100;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) 0,4 • 10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хлопчик2 копия"/>
          <p:cNvPicPr/>
          <p:nvPr/>
        </p:nvPicPr>
        <p:blipFill>
          <a:blip r:embed="rId1"/>
          <a:stretch/>
        </p:blipFill>
        <p:spPr>
          <a:xfrm>
            <a:off x="6654960" y="2247840"/>
            <a:ext cx="248904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6600"/>
                </a:solidFill>
                <a:latin typeface="Arial Black"/>
              </a:rPr>
              <a:t>Усні вправи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7848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11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Що ми називаємо 1%? Наведіть приклад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11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к записати відсотки десятковим дробом? Записати дробом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%,     60%,     600%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хлопчик2 копия"/>
          <p:cNvPicPr/>
          <p:nvPr/>
        </p:nvPicPr>
        <p:blipFill>
          <a:blip r:embed="rId1"/>
          <a:stretch/>
        </p:blipFill>
        <p:spPr>
          <a:xfrm>
            <a:off x="6654960" y="2247840"/>
            <a:ext cx="248904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6600"/>
                </a:solidFill>
                <a:latin typeface="Arial Black"/>
              </a:rPr>
              <a:t>Усні вправи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1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к записати десятковий дріб (число) у відсотках? Записати у відсотках: 35;   3,5;   0,35;   0,03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хлопчик2 копия"/>
          <p:cNvPicPr/>
          <p:nvPr/>
        </p:nvPicPr>
        <p:blipFill>
          <a:blip r:embed="rId1"/>
          <a:stretch/>
        </p:blipFill>
        <p:spPr>
          <a:xfrm>
            <a:off x="6654960" y="2247840"/>
            <a:ext cx="248904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6600"/>
                </a:solidFill>
                <a:latin typeface="Arial Black"/>
              </a:rPr>
              <a:t>Усні вправи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76485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1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к знайти    від числ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1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ід числа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1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0,03 від чис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хлопчик2 копия"/>
          <p:cNvPicPr/>
          <p:nvPr/>
        </p:nvPicPr>
        <p:blipFill>
          <a:blip r:embed="rId1"/>
          <a:stretch/>
        </p:blipFill>
        <p:spPr>
          <a:xfrm>
            <a:off x="6654960" y="2247840"/>
            <a:ext cx="2489040" cy="46101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Объект 2"/>
              <p:cNvSpPr txBox="1"/>
              <p:nvPr/>
            </p:nvSpPr>
            <p:spPr>
              <a:xfrm>
                <a:off x="4027320" y="1720800"/>
                <a:ext cx="5400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Объект 5"/>
              <p:cNvSpPr txBox="1"/>
              <p:nvPr/>
            </p:nvSpPr>
            <p:spPr>
              <a:xfrm>
                <a:off x="755640" y="2637000"/>
                <a:ext cx="684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86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00"/>
                </a:solidFill>
                <a:latin typeface="Arial Black"/>
              </a:rPr>
              <a:t>Запам'ятай: 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4200" y="1628280"/>
            <a:ext cx="79963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щоб знайти відсотки від числа, мож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1)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иразити відсотки звичайними дробам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2)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дане число поділити на знаменник дробу і отримане число помножити на чисельник цього дроб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5" descr="хлопчик11 копия"/>
          <p:cNvPicPr/>
          <p:nvPr/>
        </p:nvPicPr>
        <p:blipFill>
          <a:blip r:embed="rId1"/>
          <a:stretch/>
        </p:blipFill>
        <p:spPr>
          <a:xfrm>
            <a:off x="7446960" y="0"/>
            <a:ext cx="145728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6880" y="1816200"/>
            <a:ext cx="6977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ходіл займає 29% площі поверхні Землі, а Світовий океан — решту. Скільки відсотків площі поверхні Землі займає Світовий океан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5321160"/>
            <a:ext cx="6278400" cy="946440"/>
          </a:xfrm>
          <a:prstGeom prst="rect">
            <a:avLst/>
          </a:prstGeom>
          <a:ln w="0">
            <a:noFill/>
          </a:ln>
        </p:spPr>
      </p:pic>
      <p:sp>
        <p:nvSpPr>
          <p:cNvPr id="85" name="WordArt 5"/>
          <p:cNvSpPr txBox="1"/>
          <p:nvPr/>
        </p:nvSpPr>
        <p:spPr>
          <a:xfrm>
            <a:off x="900000" y="692280"/>
            <a:ext cx="568800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зв’яжи задачу:</a:t>
            </a:r>
            <a:endParaRPr b="1" lang="en-US" sz="4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7" descr="хлопчик2 копия"/>
          <p:cNvPicPr/>
          <p:nvPr/>
        </p:nvPicPr>
        <p:blipFill>
          <a:blip r:embed="rId2"/>
          <a:stretch/>
        </p:blipFill>
        <p:spPr>
          <a:xfrm>
            <a:off x="7093080" y="2247840"/>
            <a:ext cx="205092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4:26:25Z</dcterms:created>
  <dc:creator>User</dc:creator>
  <dc:description/>
  <dc:language>en-US</dc:language>
  <cp:lastModifiedBy>samsung</cp:lastModifiedBy>
  <dcterms:modified xsi:type="dcterms:W3CDTF">2017-03-19T14:54:05Z</dcterms:modified>
  <cp:revision>109</cp:revision>
  <dc:subject/>
  <dc:title>Слайд 1</dc:title>
</cp:coreProperties>
</file>