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C01-55C2-423A-BED0-6C87FF39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7B2-FDF9-4AB4-91BF-0C0FF28A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07E-FB5C-4B20-860A-4C6EB02D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5C3-5D16-47D8-9A4E-46C88354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5D7A-66EC-4664-8049-E098E542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4EEE-017E-4103-AC93-F15D47C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657D-6CE4-4D8A-AD62-8EBD0889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80CE-6BB3-40DD-A9BF-C918C1C2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41EB-81A6-4AC3-A3E3-77B40AB1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8418-AA51-4D2C-BB71-2314B2B7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AFFA-D5A4-43A6-980C-B5BA553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705-5EF3-43C1-BE1F-6CACD3D7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4940-C00D-4AC7-A68D-4F5A6E13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1FCB-78C3-4170-A110-185DEE5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E53A-1D6B-471B-ACFB-36F3199A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9184-ED90-45AF-AF0D-CF4F4979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13B9-4630-40A7-B2C7-FC4E2E98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51B-0DF0-4DD3-87CC-EF82441A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193-1683-479E-8D47-960D3CEE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5E4-860D-4E6A-A201-CEE990F0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ECD-1EAC-4569-85FF-E02A37C1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BFF-4CC1-4CAF-ABE4-E67E5A5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53B-19C0-4F6A-8D60-733FF299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63E-2A0B-4B93-BDC8-1B3BDDA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70A5-8E10-4B97-B117-6019A2A14D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745F-0ADD-40FF-B732-76ECB4BE20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12640"/>
            <a:ext cx="9239400" cy="16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Имя числительное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ак часть реч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4840"/>
            <a:ext cx="84852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клонение имён числительных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х  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 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и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     об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х     об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5828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РЕДЕЛИТЕ ЧАСТИ  РЕ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413000"/>
            <a:ext cx="8229600" cy="46130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йник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  м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ард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йняшки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дважды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колько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?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шестеро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я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   пя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е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хсотсоро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ардный       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этажный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  четверка   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жды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 двойственный      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воить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      полуторное      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852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РЕДЕЛИТЕ ЧАСТИ  РЕ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йник 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    ми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л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ард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ис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ойняшки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     дважды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р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ст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    шестеро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ис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вят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т   пят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ем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и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хсотсоро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л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ардный 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ис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этажный 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четверка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ущ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жды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р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двойственный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воить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лаг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полуторное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556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авописание порядковых числительных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856880"/>
            <a:ext cx="8229600" cy="4668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Задание. Запишите словами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25. 000. 000  – ый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120. 000  – ый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407. 000. 000. 000 – ый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3,5  – ый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5, 5 – ый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474480"/>
            <a:ext cx="540072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адца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л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ны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одвадцатитысяч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тырехсотсемим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ар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рехсполови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ятисполови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694800"/>
            <a:ext cx="8342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рядковые числительны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0 - тыся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5 - миллио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40 - миллиар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00 - летие,  90 - лет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0 - километровый, ТУ-15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626760"/>
            <a:ext cx="8229600" cy="13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клонение порядковых числитель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7200" y="2066760"/>
            <a:ext cx="7635600" cy="39261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клоняйте числи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2017 год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79640" y="-114840"/>
            <a:ext cx="380520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br>
              <a:rPr sz="4200"/>
            </a:br>
            <a:br>
              <a:rPr sz="50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571400"/>
            <a:ext cx="8429760" cy="4786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. 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м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 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г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(о)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30456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огласование частей ре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483920"/>
            <a:ext cx="8229600" cy="50166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больш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жирн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на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  огромн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чи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нов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 чист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на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неразлучн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интересн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30456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огласование частей ре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412640"/>
            <a:ext cx="8229600" cy="5087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боль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х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жир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х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на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ве   огромн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ые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учи       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ж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ри  но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ые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ниги             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ж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 чи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х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на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неразлуч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х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а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интерес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х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ьма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мя числитель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75000" y="1600200"/>
            <a:ext cx="4259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означа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сло, количество (сколько?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ядок предметов при счёте (который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http://mlis.ru/literature/uploads/posts/2012-06/1340097339_67725299_1292064213_cifri_v_pomosh.jpg"/>
          <p:cNvPicPr/>
          <p:nvPr/>
        </p:nvPicPr>
        <p:blipFill>
          <a:blip r:embed="rId1"/>
          <a:stretch/>
        </p:blipFill>
        <p:spPr>
          <a:xfrm>
            <a:off x="603360" y="2205000"/>
            <a:ext cx="36716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6760" y="412560"/>
            <a:ext cx="821556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ЙДИ  ОШИБ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357200"/>
            <a:ext cx="8229600" cy="51436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реди депутатов было четверо женщ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  обоих  ворот  выставили  час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За день  депутат  успевал  выслуш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дцать  четырех 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о   накладной   следовало   выдать   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ниц  для  ател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Груздь  содержит  в  своей  шляпе  3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ов  бел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 этом году город отметил шестьсотле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5000" y="453960"/>
            <a:ext cx="394812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356840"/>
            <a:ext cx="8229600" cy="50720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… четы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женщ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У  тех  и  других  воро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…тридцать  четы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человек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…22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ары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жни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…32,2  процент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…шест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тле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ЧЕТВЕРТОЕ  ЛИШНЕ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0040" y="1500120"/>
            <a:ext cx="8229600" cy="45720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етверо  котят, семеро девчат,  д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, пятеро  тиг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ара носков, пара  чулков,  четв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к,   пара  вал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рое  мужчин,  двое друзей,  тр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ушек,  две  подру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95040"/>
            <a:ext cx="4643280" cy="15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1680" y="1642680"/>
            <a:ext cx="8229600" cy="4786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етверо  котят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емеро девч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д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, пятеро  тиг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ара носков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ара  чулко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к,   пара  вал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рое  мужчин,  двое друзей,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таруше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 подру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15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ЛТОРА  ? ПОЛТО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1360" y="1557000"/>
            <a:ext cx="7086600" cy="48006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нут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а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яблока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дели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ктара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кунд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428760"/>
            <a:ext cx="527076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br>
              <a:rPr sz="50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71680" y="164304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ы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уты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а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.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яблока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ы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дели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ктара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ы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кунды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.р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79080"/>
            <a:ext cx="8558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ЕЛЬНЫЙ ДИКТАН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АВЬТЕ ПРОПУЩЕННЫЕ БУК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…АДЦ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Л…ИАР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…НАДЦ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ЕМ…С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НАДЦАТ…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 (СЕДЬМЫХ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64) ТЫСЯЧ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ЕМИ)СО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ТО)СОРОК..(ПЯТИ)МИЛ…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РОК…)ЛЕТ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 ТЫСЯЧ… ТРИСТ…СЕМ…ДЕСЯТ ВО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РЕХ)Т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НАДЦ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СТНАДЦ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ЕМЬС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НАДЦ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Ь СЕДЬ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СТИДЕСЯТИЧЕТЫРЕХТЫСЯ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ИСО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ОКАЛЕ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Ь ТЫСЯЧ ТРИСТА СЕМЬДЕСЯТ ВОСЕ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ХЭТА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582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br>
              <a:rPr sz="3800"/>
            </a:b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РАСПОЛОЖИТЕ ПРЕДЛОЖЕНИЯ ТАК,ЧТОБЫ ПОЛУЧИЛСЯ ТЕКСТ.ЧИСЛИТЕЛЬНЫЕ ЗАПИШИТЕ СЛОВАМ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наблюдали на звездном небе движение 5 планет, которые вместе с Солнцем и Луной составляли 7 небесных све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возникла (семи)дневная неделя, которая перешла ко многим другим народам и дошла до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4 тысячи лет тому назад у древних народов, находившихся на территории современного Ирака, были уже первые астрономические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ученые заметили, что лунный месяц равен 28 суткам, и разделили его на 4 равные части с тем, чтобы каждый из 7 дней посвящать одному из 7 б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ьный вариан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но четыре тысячи лет тому назад у древних народов, находившихся на территории современного Ирака, были уже первые астрономические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наблюдали на звездном небе движение пяти планет, которые вместе с Солнцем и Луной составляют семь небесных све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ие ученые заметили, что лунный месяц равен двадцати восьми суткам, и разделили его на четыре равные части с тем, чтобы каждый из семи дней посвятить одному из семи б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оявилась семидневная неделя, которая перешла ко многим народам и дошла до н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ислительные по строению бывают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412640"/>
            <a:ext cx="8066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ва, тринадцать, двадцать, сорок, 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ьдесят-восемьдесят; двести-девять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о сорок два, триста четыре, две тысячи девяносто, пять милли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474840"/>
            <a:ext cx="855828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зряды имён числитель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чественны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дцать, пятьсот три, восемьдесят 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роб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восьмых, одна вторая, ноль целых двадцать пять со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биратель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е, трое, четверо, пятеро, шестеро, сем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оба (м.\ср.)- обоими, обе (ж.)- обеим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70264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отребление собирательных числительн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существите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жского и общего рода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ое сыновей, шестеро матросов, трое сирот (искл: учёные степени, воинские з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ающими детёнышей животных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ое лис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щими форму только множеств. числа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ое саней, двое ворот, пятеро ножн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ти, ребята, люди, лиц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ое ребят, четверо незнакомых лиц, дво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прилагательными и причастиями в значении 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ое неизвестных, четверо задерж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местоимениям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ы, вы, о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с двое, их тр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474840"/>
            <a:ext cx="870264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зряды имён числитель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ков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сорок второй, сто тринадцатый, о двадцать пятом декабр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склоняется только последне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миллионный, -тысяч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шутся слит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тридцатипятимиллио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474840"/>
            <a:ext cx="870264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ые правила правопис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80010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-19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80 : пя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шес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900: восем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евя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цать; четы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м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форме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0 и 400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форме Им. 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, 90, 100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 косвенных падеж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жка, сор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ё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янос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ие, девянос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3235320" y="3933720"/>
            <a:ext cx="433440" cy="358920"/>
          </a:xfrm>
          <a:prstGeom prst="rect">
            <a:avLst/>
          </a:prstGeom>
          <a:noFill/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3452760" y="4576680"/>
            <a:ext cx="432000" cy="360360"/>
          </a:xfrm>
          <a:prstGeom prst="rect">
            <a:avLst/>
          </a:prstGeom>
          <a:noFill/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4840"/>
            <a:ext cx="855828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клонение имён числительных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е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 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сь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 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сь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е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 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сьмь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сь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4840"/>
            <a:ext cx="84139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клонение имён числительных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  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шестьдесят д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   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ё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т ше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   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ё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ше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   триста шестьдесят д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  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м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д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 о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ё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ше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3:42:33Z</dcterms:created>
  <dc:creator>Администратор</dc:creator>
  <dc:description/>
  <dc:language>en-US</dc:language>
  <cp:lastModifiedBy>Irina</cp:lastModifiedBy>
  <dcterms:modified xsi:type="dcterms:W3CDTF">2017-03-31T14:15:53Z</dcterms:modified>
  <cp:revision>6</cp:revision>
  <dc:subject/>
  <dc:title>Слайд 1</dc:title>
</cp:coreProperties>
</file>