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B7838-8484-4978-9A0E-E72D7C423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D5168-F41A-47A6-85C4-E3CCE6BE7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8DB43-4E4E-4262-908F-30CE35D64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FF6A5-6D5F-402B-BBB6-3073DD2CF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CF737-F8AE-4AA7-AFC2-9F336A61F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92743-1D7C-44E3-B6F0-E6382CE5C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9AD2E-3D72-4AC1-B029-CB24788C5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515C6-6864-4B3F-B14A-A81AA95B1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09F16-00B8-4273-88C3-424FF7205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8B529-E2D2-4159-9AE6-1045C2829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6431C-EC15-47ED-85D4-11342DB55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8E143-DEEB-474F-AC2D-4197C065F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C7F61-622D-4460-87F0-8CF915679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0A229-0E67-49DE-A1C7-4826B2D15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DBA39-6DE0-41BE-8E3E-CBC30A612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42E5E-AA39-428D-AFBE-55D04E1E8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3A611-7C19-46EE-8B15-1FE30A680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4C213-61A6-465D-AA17-CBC7D69B0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7B70D-0BAF-49B3-9973-ECD84CA70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FB024-556F-4685-8DDD-8BE87B85E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6D2B1-5751-433C-AC66-D1898FA8D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D4FE8-5AD9-4F84-939A-50BCDB378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506F6-0806-417B-B556-FF39EFC8A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36ACA-732E-4171-92A8-CD5BBF28B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15F38-2EBA-499F-A0E3-671B49394307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63D77-4AFB-4639-BD66-76200D1EAE5E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240" y="1412640"/>
            <a:ext cx="9239400" cy="162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Arial"/>
              </a:rPr>
              <a:t>Имя числительное</a:t>
            </a:r>
            <a:br>
              <a:rPr sz="4600"/>
            </a:br>
            <a:r>
              <a:rPr b="0" lang="ru-RU" sz="4600" spc="-1" strike="noStrike">
                <a:solidFill>
                  <a:srgbClr val="ffffff"/>
                </a:solidFill>
                <a:latin typeface="Arial"/>
              </a:rPr>
              <a:t>как часть речи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474840"/>
            <a:ext cx="8485200" cy="97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Склонение имён числительных.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И      об</a:t>
            </a:r>
            <a:r>
              <a:rPr b="0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а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          об</a:t>
            </a:r>
            <a:r>
              <a:rPr b="0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Р      об</a:t>
            </a:r>
            <a:r>
              <a:rPr b="0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о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их          об</a:t>
            </a:r>
            <a:r>
              <a:rPr b="0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е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и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Д      об</a:t>
            </a:r>
            <a:r>
              <a:rPr b="0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о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им         об</a:t>
            </a:r>
            <a:r>
              <a:rPr b="0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е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и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      об</a:t>
            </a:r>
            <a:r>
              <a:rPr b="0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а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           об</a:t>
            </a:r>
            <a:r>
              <a:rPr b="0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Т      об</a:t>
            </a:r>
            <a:r>
              <a:rPr b="0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о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ими        об</a:t>
            </a:r>
            <a:r>
              <a:rPr b="0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е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им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      об об</a:t>
            </a:r>
            <a:r>
              <a:rPr b="0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о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их     об об</a:t>
            </a:r>
            <a:r>
              <a:rPr b="0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е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и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94920" y="188640"/>
            <a:ext cx="8558280" cy="14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ff"/>
                </a:solidFill>
                <a:latin typeface="Arial"/>
              </a:rPr>
              <a:t>ОПРЕДЕЛИТЕ ЧАСТИ  РЕЧИ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00040" y="1413000"/>
            <a:ext cx="8229600" cy="4613040"/>
          </a:xfrm>
          <a:prstGeom prst="rect">
            <a:avLst/>
          </a:prstGeom>
          <a:noFill/>
          <a:ln w="9360">
            <a:solidFill>
              <a:srgbClr val="00206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р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…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йник (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 ?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,      ми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…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ард (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 ?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войняшки(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 ?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,    дважды (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 ?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сколько(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  ?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,    шестеро (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 ?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евят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…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т   пят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…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есят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сем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…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 ?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рехсотсорок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…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и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…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ардный        (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 ?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…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иэтажный (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 ?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,      четверка    (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 ?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рижды(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 ?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,     двойственный       (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 ?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двоить(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  ?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,          полуторное       (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 ?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485200" cy="14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ff"/>
                </a:solidFill>
                <a:latin typeface="Arial"/>
              </a:rPr>
              <a:t>ОПРЕДЕЛИТЕ ЧАСТИ  РЕЧИ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28760" y="1500120"/>
            <a:ext cx="8229600" cy="4525920"/>
          </a:xfrm>
          <a:prstGeom prst="rect">
            <a:avLst/>
          </a:prstGeom>
          <a:noFill/>
          <a:ln w="9360">
            <a:solidFill>
              <a:srgbClr val="00206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Тр</a:t>
            </a:r>
            <a:r>
              <a:rPr b="0" lang="ru-RU" sz="3600" spc="-1" strike="noStrike" u="sng">
                <a:solidFill>
                  <a:srgbClr val="ff0000"/>
                </a:solidFill>
                <a:uFillTx/>
                <a:latin typeface="Arial"/>
              </a:rPr>
              <a:t>о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йник (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сущ.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),     ми</a:t>
            </a:r>
            <a:r>
              <a:rPr b="0" lang="ru-RU" sz="3600" spc="-1" strike="noStrike" u="sng">
                <a:solidFill>
                  <a:srgbClr val="ff0000"/>
                </a:solidFill>
                <a:uFillTx/>
                <a:latin typeface="Arial"/>
              </a:rPr>
              <a:t>лл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иард(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числ.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двойняшки(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сущ.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),      дважды(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нар.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есколько(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мест.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),     шестеро(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числ.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девят</a:t>
            </a:r>
            <a:r>
              <a:rPr b="0" lang="ru-RU" sz="3600" spc="-1" strike="noStrike" u="sng">
                <a:solidFill>
                  <a:srgbClr val="ff0000"/>
                </a:solidFill>
                <a:uFillTx/>
                <a:latin typeface="Arial"/>
              </a:rPr>
              <a:t>ь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от   пят</a:t>
            </a:r>
            <a:r>
              <a:rPr b="0" lang="ru-RU" sz="3600" spc="-1" strike="noStrike" u="sng">
                <a:solidFill>
                  <a:srgbClr val="ff0000"/>
                </a:solidFill>
                <a:uFillTx/>
                <a:latin typeface="Arial"/>
              </a:rPr>
              <a:t>ь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десят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осем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ь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чис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трехсотсорок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ми</a:t>
            </a:r>
            <a:r>
              <a:rPr b="0" lang="ru-RU" sz="3600" spc="-1" strike="noStrike" u="sng">
                <a:solidFill>
                  <a:srgbClr val="ff0000"/>
                </a:solidFill>
                <a:uFillTx/>
                <a:latin typeface="Arial"/>
              </a:rPr>
              <a:t>лл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иардный (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числ.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ru-RU" sz="3600" spc="-1" strike="noStrike" u="sng">
                <a:solidFill>
                  <a:srgbClr val="ff0000"/>
                </a:solidFill>
                <a:uFillTx/>
                <a:latin typeface="Arial"/>
              </a:rPr>
              <a:t>я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тиэтажный (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прил.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), четверка(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сущ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трижды(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нар.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), двойственный(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прил.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удвоить(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глаг.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), полуторное(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прил.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0040" y="55692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Правописание порядковых числительных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28760" y="1856880"/>
            <a:ext cx="8229600" cy="4668840"/>
          </a:xfrm>
          <a:prstGeom prst="rect">
            <a:avLst/>
          </a:prstGeom>
          <a:noFill/>
          <a:ln w="9360">
            <a:solidFill>
              <a:srgbClr val="00206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000000"/>
                </a:solidFill>
                <a:latin typeface="Arial"/>
              </a:rPr>
              <a:t>Задание. Запишите словами: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4900" spc="-1" strike="noStrike">
                <a:solidFill>
                  <a:srgbClr val="000000"/>
                </a:solidFill>
                <a:latin typeface="Arial"/>
              </a:rPr>
              <a:t>25. 000. 000  – ый;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4900" spc="-1" strike="noStrike">
                <a:solidFill>
                  <a:srgbClr val="000000"/>
                </a:solidFill>
                <a:latin typeface="Arial"/>
              </a:rPr>
              <a:t>120. 000  – ый;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4900" spc="-1" strike="noStrike">
                <a:solidFill>
                  <a:srgbClr val="000000"/>
                </a:solidFill>
                <a:latin typeface="Arial"/>
              </a:rPr>
              <a:t>407. 000. 000. 000 – ый;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4900" spc="-1" strike="noStrike">
                <a:solidFill>
                  <a:srgbClr val="000000"/>
                </a:solidFill>
                <a:latin typeface="Arial"/>
              </a:rPr>
              <a:t>3,5  – ый;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4900" spc="-1" strike="noStrike">
                <a:solidFill>
                  <a:srgbClr val="000000"/>
                </a:solidFill>
                <a:latin typeface="Arial"/>
              </a:rPr>
              <a:t>5, 5 – ый.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71640" y="474480"/>
            <a:ext cx="5400720" cy="86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200"/>
            </a:br>
            <a:r>
              <a:rPr b="1" lang="ru-RU" sz="4200" spc="-1" strike="noStrike">
                <a:solidFill>
                  <a:srgbClr val="ffffff"/>
                </a:solidFill>
                <a:latin typeface="Arial"/>
              </a:rPr>
              <a:t>Проверка </a:t>
            </a:r>
            <a:br>
              <a:rPr sz="4200"/>
            </a:b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00040" y="1857240"/>
            <a:ext cx="8229600" cy="4525920"/>
          </a:xfrm>
          <a:prstGeom prst="rect">
            <a:avLst/>
          </a:prstGeom>
          <a:noFill/>
          <a:ln w="9360">
            <a:solidFill>
              <a:srgbClr val="00206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двадцат</a:t>
            </a:r>
            <a:r>
              <a:rPr b="0" lang="ru-RU" sz="4800" spc="-1" strike="noStrike">
                <a:solidFill>
                  <a:srgbClr val="ff0000"/>
                </a:solidFill>
                <a:latin typeface="Arial"/>
              </a:rPr>
              <a:t>и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ru-RU" sz="4800" spc="-1" strike="noStrike">
                <a:solidFill>
                  <a:srgbClr val="ff0000"/>
                </a:solidFill>
                <a:latin typeface="Arial"/>
              </a:rPr>
              <a:t>я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ru-RU" sz="4800" spc="-1" strike="noStrike">
                <a:solidFill>
                  <a:srgbClr val="ff0000"/>
                </a:solidFill>
                <a:latin typeface="Arial"/>
              </a:rPr>
              <a:t>и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ми</a:t>
            </a:r>
            <a:r>
              <a:rPr b="0" lang="ru-RU" sz="4800" spc="-1" strike="noStrike">
                <a:solidFill>
                  <a:srgbClr val="ff0000"/>
                </a:solidFill>
                <a:latin typeface="Arial"/>
              </a:rPr>
              <a:t>лл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ио</a:t>
            </a:r>
            <a:r>
              <a:rPr b="0" lang="ru-RU" sz="4800" spc="-1" strike="noStrike">
                <a:solidFill>
                  <a:srgbClr val="ff0000"/>
                </a:solidFill>
                <a:latin typeface="Arial"/>
              </a:rPr>
              <a:t>нны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стодвадцатитысячны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четырехсотсемими</a:t>
            </a: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лл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ардны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трехсполови</a:t>
            </a:r>
            <a:r>
              <a:rPr b="0" lang="ru-RU" sz="5400" spc="-1" strike="noStrike">
                <a:solidFill>
                  <a:srgbClr val="ff0000"/>
                </a:solidFill>
                <a:latin typeface="Arial"/>
              </a:rPr>
              <a:t>нн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ы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пятисполови</a:t>
            </a:r>
            <a:r>
              <a:rPr b="0" lang="ru-RU" sz="5400" spc="-1" strike="noStrike">
                <a:solidFill>
                  <a:srgbClr val="ff0000"/>
                </a:solidFill>
                <a:latin typeface="Arial"/>
              </a:rPr>
              <a:t>нн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ы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10920" y="694800"/>
            <a:ext cx="8342280" cy="43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ff"/>
                </a:solidFill>
                <a:latin typeface="Arial"/>
              </a:rPr>
              <a:t>Порядковые числительные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9360">
            <a:solidFill>
              <a:srgbClr val="00206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120 - тысячны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25 - миллионны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340 - миллиардны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1000 - летие,  90 - летн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40 - километровый, ТУ-154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0040" y="626760"/>
            <a:ext cx="8229600" cy="137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ff"/>
                </a:solidFill>
                <a:latin typeface="Arial"/>
              </a:rPr>
              <a:t>Склонение порядковых числительных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727200" y="2066760"/>
            <a:ext cx="7635600" cy="3926160"/>
          </a:xfrm>
          <a:prstGeom prst="rect">
            <a:avLst/>
          </a:prstGeom>
          <a:noFill/>
          <a:ln w="9360">
            <a:solidFill>
              <a:srgbClr val="00206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осклоняйте числительно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«2017 год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979640" y="-114840"/>
            <a:ext cx="3805200" cy="152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000"/>
            </a:br>
            <a:br>
              <a:rPr sz="5000"/>
            </a:br>
            <a:r>
              <a:rPr b="1" lang="ru-RU" sz="4200" spc="-1" strike="noStrike">
                <a:solidFill>
                  <a:srgbClr val="ffffff"/>
                </a:solidFill>
                <a:latin typeface="Arial"/>
              </a:rPr>
              <a:t>Проверка</a:t>
            </a:r>
            <a:br>
              <a:rPr sz="4200"/>
            </a:br>
            <a:br>
              <a:rPr sz="5000"/>
            </a:b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00040" y="1571400"/>
            <a:ext cx="8429760" cy="4786200"/>
          </a:xfrm>
          <a:prstGeom prst="rect">
            <a:avLst/>
          </a:prstGeom>
          <a:noFill/>
          <a:ln w="9360">
            <a:solidFill>
              <a:srgbClr val="00206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. дв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тысяч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семнадцат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ый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г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.  дв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е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ысяч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и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семнадцат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ого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го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. дв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е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ысяч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и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емнадцат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ому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год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.  дв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е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ысяч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и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емнадцат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ый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г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.  дв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е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ысяч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и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емнадцат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ым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год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. (о) дв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е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ысяч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и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емнадцат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ом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год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28760" y="304560"/>
            <a:ext cx="8229600" cy="5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ff"/>
                </a:solidFill>
                <a:latin typeface="Arial"/>
              </a:rPr>
              <a:t>Согласование частей речи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00040" y="1483920"/>
            <a:ext cx="8229600" cy="5016600"/>
          </a:xfrm>
          <a:prstGeom prst="rect">
            <a:avLst/>
          </a:prstGeom>
          <a:noFill/>
          <a:ln w="9360">
            <a:solidFill>
              <a:srgbClr val="00206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ва  больш…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ома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ри  жирн…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ятна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ве   огромн…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учи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ри  нов…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ниги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етыре  чист…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кна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ри  неразлучн…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руга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ва  интересн…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ильм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28760" y="304560"/>
            <a:ext cx="8229600" cy="5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ff"/>
                </a:solidFill>
                <a:latin typeface="Arial"/>
              </a:rPr>
              <a:t>Согласование частей речи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00040" y="1412640"/>
            <a:ext cx="8229600" cy="5087880"/>
          </a:xfrm>
          <a:prstGeom prst="rect">
            <a:avLst/>
          </a:prstGeom>
          <a:noFill/>
          <a:ln w="9360">
            <a:solidFill>
              <a:srgbClr val="00206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ва  больш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их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ома            </a:t>
            </a: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м.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ри  жирн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ых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ятна              </a:t>
            </a: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с.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две   огромн</a:t>
            </a:r>
            <a:r>
              <a:rPr b="0" lang="ru-RU" sz="3200" spc="-1" strike="noStrike" u="sng">
                <a:solidFill>
                  <a:srgbClr val="ff0000"/>
                </a:solidFill>
                <a:uFillTx/>
                <a:latin typeface="Arial"/>
              </a:rPr>
              <a:t>ые 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тучи           </a:t>
            </a:r>
            <a:r>
              <a:rPr b="0" lang="ru-RU" sz="3200" spc="-1" strike="noStrike" u="sng">
                <a:solidFill>
                  <a:srgbClr val="ff0000"/>
                </a:solidFill>
                <a:uFillTx/>
                <a:latin typeface="Arial"/>
              </a:rPr>
              <a:t>ж.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три  нов</a:t>
            </a:r>
            <a:r>
              <a:rPr b="0" lang="ru-RU" sz="3200" spc="-1" strike="noStrike" u="sng">
                <a:solidFill>
                  <a:srgbClr val="ff0000"/>
                </a:solidFill>
                <a:uFillTx/>
                <a:latin typeface="Arial"/>
              </a:rPr>
              <a:t>ые 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книги                 </a:t>
            </a:r>
            <a:r>
              <a:rPr b="0" lang="ru-RU" sz="3200" spc="-1" strike="noStrike" u="sng">
                <a:solidFill>
                  <a:srgbClr val="ff0000"/>
                </a:solidFill>
                <a:uFillTx/>
                <a:latin typeface="Arial"/>
              </a:rPr>
              <a:t>ж.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етыре  чист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ых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кна           </a:t>
            </a: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с.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ри  неразлучн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ых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руга     </a:t>
            </a: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м.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ва  интересн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ых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ильма  </a:t>
            </a: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м.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Имя числительное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275000" y="1600200"/>
            <a:ext cx="425952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Обозначае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число, количество (сколько?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орядок предметов при счёте (который?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5" descr="http://mlis.ru/literature/uploads/posts/2012-06/1340097339_67725299_1292064213_cifri_v_pomosh.jpg"/>
          <p:cNvPicPr/>
          <p:nvPr/>
        </p:nvPicPr>
        <p:blipFill>
          <a:blip r:embed="rId1"/>
          <a:stretch/>
        </p:blipFill>
        <p:spPr>
          <a:xfrm>
            <a:off x="603360" y="2205000"/>
            <a:ext cx="3671640" cy="357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56760" y="412560"/>
            <a:ext cx="8215560" cy="5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ff"/>
                </a:solidFill>
                <a:latin typeface="Arial"/>
              </a:rPr>
              <a:t>НАЙДИ  ОШИБКУ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28760" y="1357200"/>
            <a:ext cx="8229600" cy="5143680"/>
          </a:xfrm>
          <a:prstGeom prst="rect">
            <a:avLst/>
          </a:prstGeom>
          <a:noFill/>
          <a:ln w="9360">
            <a:solidFill>
              <a:srgbClr val="002060"/>
            </a:solidFill>
            <a:miter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 Среди депутатов было четверо женщи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 У  обоих  ворот  выставили  часовы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  За день  депутат  успевал  выслушива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ридцать  четырех  челове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. По   накладной   следовало   выдать   22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ожниц  для  атель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5. Груздь  содержит  в  своей  шляпе  32,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центов  белк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6. В этом году город отметил шестьсотлетие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25000" y="453960"/>
            <a:ext cx="3948120" cy="4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ff"/>
                </a:solidFill>
                <a:latin typeface="Arial"/>
              </a:rPr>
              <a:t>ПРОВЕРКА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28760" y="1356840"/>
            <a:ext cx="8229600" cy="5072040"/>
          </a:xfrm>
          <a:prstGeom prst="rect">
            <a:avLst/>
          </a:prstGeom>
          <a:noFill/>
          <a:ln w="9360">
            <a:solidFill>
              <a:srgbClr val="002060"/>
            </a:solidFill>
            <a:miter/>
          </a:ln>
        </p:spPr>
        <p:txBody>
          <a:bodyPr anchor="t">
            <a:normAutofit/>
          </a:bodyPr>
          <a:p>
            <a:pPr marL="743040" indent="-7430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1. … четыр</a:t>
            </a: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е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женщин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2. У  тех  и  других  ворот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3. …тридцать  четыр</a:t>
            </a: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е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человек</a:t>
            </a: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4. …22  </a:t>
            </a: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пары 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ножниц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5. …32,2  процент</a:t>
            </a: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а 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белков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6. …шест</a:t>
            </a: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и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отлети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000"/>
            </a:br>
            <a:r>
              <a:rPr b="1" lang="ru-RU" sz="4200" spc="-1" strike="noStrike">
                <a:solidFill>
                  <a:srgbClr val="ffffff"/>
                </a:solidFill>
                <a:latin typeface="Arial"/>
              </a:rPr>
              <a:t>ЧЕТВЕРТОЕ  ЛИШНЕЕ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500040" y="1500120"/>
            <a:ext cx="8229600" cy="4572000"/>
          </a:xfrm>
          <a:prstGeom prst="rect">
            <a:avLst/>
          </a:prstGeom>
          <a:noFill/>
          <a:ln w="9360">
            <a:solidFill>
              <a:srgbClr val="002060"/>
            </a:solidFill>
            <a:miter/>
          </a:ln>
        </p:spPr>
        <p:txBody>
          <a:bodyPr anchor="t">
            <a:normAutofit/>
          </a:bodyPr>
          <a:p>
            <a:pPr marL="743040" indent="-743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Четверо  котят, семеро девчат,  дв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ебят, пятеро  тигря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Пара носков, пара  чулков,  четвер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уток,   пара  валено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 Трое  мужчин,  двое друзей,  тр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арушек,  две  подруж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55640" y="95040"/>
            <a:ext cx="4643280" cy="15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000"/>
            </a:br>
            <a:r>
              <a:rPr b="1" lang="ru-RU" sz="4200" spc="-1" strike="noStrike">
                <a:solidFill>
                  <a:srgbClr val="ffffff"/>
                </a:solidFill>
                <a:latin typeface="Arial"/>
              </a:rPr>
              <a:t>ПРОВЕРКА</a:t>
            </a:r>
            <a:r>
              <a:rPr b="1" lang="ru-RU" sz="5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5000"/>
            </a:b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71680" y="1642680"/>
            <a:ext cx="8229600" cy="4786200"/>
          </a:xfrm>
          <a:prstGeom prst="rect">
            <a:avLst/>
          </a:prstGeom>
          <a:noFill/>
          <a:ln w="9360">
            <a:solidFill>
              <a:srgbClr val="002060"/>
            </a:solidFill>
            <a:miter/>
          </a:ln>
        </p:spPr>
        <p:txBody>
          <a:bodyPr anchor="t">
            <a:normAutofit/>
          </a:bodyPr>
          <a:p>
            <a:pPr marL="743040" indent="-743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Четверо  котят, </a:t>
            </a:r>
            <a:r>
              <a:rPr b="0" lang="ru-RU" sz="3200" spc="-1" strike="noStrike" u="sng">
                <a:solidFill>
                  <a:srgbClr val="ff0000"/>
                </a:solidFill>
                <a:uFillTx/>
                <a:latin typeface="Arial"/>
              </a:rPr>
              <a:t>семеро девчат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 дв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ебят, пятеро  тигря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Пара носков, </a:t>
            </a:r>
            <a:r>
              <a:rPr b="0" lang="ru-RU" sz="3200" spc="-1" strike="noStrike" u="sng">
                <a:solidFill>
                  <a:srgbClr val="ff0000"/>
                </a:solidFill>
                <a:uFillTx/>
                <a:latin typeface="Arial"/>
              </a:rPr>
              <a:t>пара  чулков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,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етвер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уток,   пара  валено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 Трое  мужчин,  двое друзей,  </a:t>
            </a:r>
            <a:r>
              <a:rPr b="0" lang="ru-RU" sz="3200" spc="-1" strike="noStrike" u="sng">
                <a:solidFill>
                  <a:srgbClr val="ff0000"/>
                </a:solidFill>
                <a:uFillTx/>
                <a:latin typeface="Arial"/>
              </a:rPr>
              <a:t>тр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0000"/>
                </a:solidFill>
                <a:uFillTx/>
                <a:latin typeface="Arial"/>
              </a:rPr>
              <a:t>старушек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,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ве  подруж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71280" y="189000"/>
            <a:ext cx="75150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ff"/>
                </a:solidFill>
                <a:latin typeface="Arial"/>
              </a:rPr>
              <a:t>ПОЛТОРА  ? ПОЛТОРЫ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071360" y="1557000"/>
            <a:ext cx="7086600" cy="4800600"/>
          </a:xfrm>
          <a:prstGeom prst="rect">
            <a:avLst/>
          </a:prstGeom>
          <a:noFill/>
          <a:ln w="9360">
            <a:solidFill>
              <a:srgbClr val="00206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олтор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…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минуты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олтор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… 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часа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олтор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…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яблока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олтор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…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едели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олтор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…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гектара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олтор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…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екунды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9280" y="428760"/>
            <a:ext cx="5270760" cy="83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000"/>
            </a:br>
            <a:r>
              <a:rPr b="1" lang="ru-RU" sz="5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5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4200" spc="-1" strike="noStrike">
                <a:solidFill>
                  <a:srgbClr val="ffffff"/>
                </a:solidFill>
                <a:latin typeface="Arial"/>
              </a:rPr>
              <a:t>ПРОВЕРКА</a:t>
            </a:r>
            <a:br>
              <a:rPr sz="5000"/>
            </a:b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71680" y="1643040"/>
            <a:ext cx="8229600" cy="4525920"/>
          </a:xfrm>
          <a:prstGeom prst="rect">
            <a:avLst/>
          </a:prstGeom>
          <a:noFill/>
          <a:ln w="9360">
            <a:solidFill>
              <a:srgbClr val="002060"/>
            </a:solidFill>
            <a:miter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олтор</a:t>
            </a: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ы  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инуты   </a:t>
            </a: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ж.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0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олтор</a:t>
            </a: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а   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часа          </a:t>
            </a: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м.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0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олтор</a:t>
            </a: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а  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яблока      </a:t>
            </a: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с.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0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олтор</a:t>
            </a: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ы  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недели     </a:t>
            </a: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ж.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0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олтор</a:t>
            </a: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а   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гектара     </a:t>
            </a: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м.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1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олтор</a:t>
            </a: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ы  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екунды   </a:t>
            </a: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ж.р</a:t>
            </a:r>
            <a:r>
              <a:rPr b="0" lang="ru-RU" sz="48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94920" y="379080"/>
            <a:ext cx="8558280" cy="81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БЪЯСНИТЕЛЬНЫЙ ДИКТАНТ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СТАВЬТЕ ПРОПУЩЕННЫЕ БУКВ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8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ДИН…АДЦАТ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ИЛ…ИАРД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ШЕС…НАДЦАТ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СЕМ…СОТ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ЕТЫРНАДЦАТ… 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ЯТЬ (СЕДЬМЫХ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64) ТЫСЯЧНЫ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СЕМИ)СОТЫЙ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СТО)СОРОК..(ПЯТИ)МИЛ…ИОН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СОРОК…)ЛЕТ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ЯТЬ ТЫСЯЧ… ТРИСТ…СЕМ…ДЕСЯТ ВОСЕМ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ТРЕХ)ТОН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ПРОВЕРЬ СЕБЯ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ДИННАДЦАТЬ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ШЕСТНАДЦАТЬ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СЕМЬСО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ЕТЫРНАДЦА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ЯТЬ СЕДЬМ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ШЕСТИДЕСЯТИЧЕТЫРЕХТЫСЯЧ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ЕМИСОТ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РОКАЛЕТ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ЯТЬ ТЫСЯЧ ТРИСТА СЕМЬДЕСЯТ ВОСЕМ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РЕХЭТАЖ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898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898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898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898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898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898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898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898" fill="hold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898" fill="hold"/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898" fill="hold"/>
                                        <p:tgtEl>
                                          <p:spTgt spid="1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1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898" fill="hold"/>
                                        <p:tgtEl>
                                          <p:spTgt spid="1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94920" y="188640"/>
            <a:ext cx="855828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БОТА С ТЕКСТОМ</a:t>
            </a:r>
            <a:br>
              <a:rPr sz="3800"/>
            </a:br>
            <a:r>
              <a:rPr b="1" lang="ru-RU" sz="2100" spc="-1" strike="noStrike">
                <a:solidFill>
                  <a:srgbClr val="ffffff"/>
                </a:solidFill>
                <a:latin typeface="Arial"/>
              </a:rPr>
              <a:t>РАСПОЛОЖИТЕ ПРЕДЛОЖЕНИЯ ТАК,ЧТОБЫ ПОЛУЧИЛСЯ ТЕКСТ.ЧИСЛИТЕЛЬНЫЕ ЗАПИШИТЕ СЛОВАМИ</a:t>
            </a: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503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ни наблюдали на звездном небе движение 5 планет, которые вместе с Солнцем и Луной составляли 7 небесных свети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ак возникла (семи)дневная неделя, которая перешла ко многим другим народам и дошла до на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мерно 4 тысячи лет тому назад у древних народов, находившихся на территории современного Ирака, были уже первые астрономические позн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ревние ученые заметили, что лунный месяц равен 28 суткам, и разделили его на 4 равные части с тем, чтобы каждый из 7 дней посвящать одному из 7 божест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Правильный вариант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мерно четыре тысячи лет тому назад у древних народов, находившихся на территории современного Ирака, были уже первые астрономические позн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ни наблюдали на звездном небе движение пяти планет, которые вместе с Солнцем и Луной составляют семь небесных свети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ревние ученые заметили, что лунный месяц равен двадцати восьми суткам, и разделили его на четыре равные части с тем, чтобы каждый из семи дней посвятить одному из семи божест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ак появилась семидневная неделя, которая перешла ко многим народам и дошла до нас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Числительные по строению бывают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8360" y="1412640"/>
            <a:ext cx="806616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просты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два, тринадцать, двадцать, сорок, ст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сложны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пятьдесят-восемьдесят; двести-девятьсо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составны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сто сорок два, триста четыре, две тысячи девяносто, пять миллион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94920" y="474840"/>
            <a:ext cx="8558280" cy="97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Разряды имён числительных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4360" y="1412640"/>
            <a:ext cx="79200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оличественные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целые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вадцать, пятьсот три, восемьдесят сем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дробные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ри восьмых, одна вторая, ноль целых двадцать пять сот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собирательные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вое, трое, четверо, пятеро, шестеро, семер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+ оба (м.\ср.)- обоими, обе (ж.)- обеим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702640" cy="133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потребление собирательных числительных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99308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с существительным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ужского и общего рода: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двое сыновей, шестеро матросов, трое сирот (искл: учёные степени, воинские звани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означающими детёнышей животных: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трое лися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меющими форму только множеств. числа: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трое саней, двое ворот, пятеро ножниц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дети, ребята, люди, лицо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елове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»: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трое ребят, четверо незнакомых лиц, двое дет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с прилагательными и причастиями в значении сущ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: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двое неизвестных, четверо задержан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с местоимениями 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мы, вы, он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ас двое, их тр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50920" y="474840"/>
            <a:ext cx="8702640" cy="97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Разряды имён числительных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рядковы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(сорок второй, сто тринадцатый, о двадцать пятом декабря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сегда склоняется только последнее сло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лова с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–миллионный, -тысячный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ишутся слитн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(тридцатипятимиллионный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50920" y="474840"/>
            <a:ext cx="8702640" cy="97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Основные правила правописания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66280" y="1484280"/>
            <a:ext cx="8001000" cy="52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5-19 –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Ь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шес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т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дцат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0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Ь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80 : пят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ь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еся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т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шест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ь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еся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00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Ь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900: восем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ь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т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девят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ь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ди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нн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дцать; четыр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ьм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в форме Т.п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00 и 400 -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в форме Им. п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0, 90, 100 -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в косвенных падеж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рок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ожка, сорок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едёр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евяност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етие, девяност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итров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1"/>
          <p:cNvSpPr/>
          <p:nvPr/>
        </p:nvSpPr>
        <p:spPr>
          <a:xfrm>
            <a:off x="3235320" y="3933720"/>
            <a:ext cx="433440" cy="358920"/>
          </a:xfrm>
          <a:prstGeom prst="rect">
            <a:avLst/>
          </a:prstGeom>
          <a:noFill/>
          <a:ln w="25560">
            <a:solidFill>
              <a:srgbClr val="6f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оугольник 6"/>
          <p:cNvSpPr/>
          <p:nvPr/>
        </p:nvSpPr>
        <p:spPr>
          <a:xfrm>
            <a:off x="3452760" y="4576680"/>
            <a:ext cx="432000" cy="360360"/>
          </a:xfrm>
          <a:prstGeom prst="rect">
            <a:avLst/>
          </a:prstGeom>
          <a:noFill/>
          <a:ln w="25560">
            <a:solidFill>
              <a:srgbClr val="6f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94920" y="474840"/>
            <a:ext cx="8558280" cy="97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Склонение имён числительных.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И     ст</a:t>
            </a:r>
            <a:r>
              <a:rPr b="0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о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сорок</a:t>
            </a:r>
            <a:r>
              <a:rPr b="0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осем</a:t>
            </a:r>
            <a:r>
              <a:rPr b="0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Р      ст</a:t>
            </a:r>
            <a:r>
              <a:rPr b="0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а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сорок</a:t>
            </a:r>
            <a:r>
              <a:rPr b="0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а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восьм</a:t>
            </a:r>
            <a:r>
              <a:rPr b="0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Д      ст</a:t>
            </a:r>
            <a:r>
              <a:rPr b="0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а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сорок</a:t>
            </a:r>
            <a:r>
              <a:rPr b="0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а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восьм</a:t>
            </a:r>
            <a:r>
              <a:rPr b="0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     ст</a:t>
            </a:r>
            <a:r>
              <a:rPr b="0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о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сорок</a:t>
            </a:r>
            <a:r>
              <a:rPr b="0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осем</a:t>
            </a:r>
            <a:r>
              <a:rPr b="0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Т      ст</a:t>
            </a:r>
            <a:r>
              <a:rPr b="0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а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сорок</a:t>
            </a:r>
            <a:r>
              <a:rPr b="0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а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восьмь</a:t>
            </a:r>
            <a:r>
              <a:rPr b="0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      ст</a:t>
            </a:r>
            <a:r>
              <a:rPr b="0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а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сорок</a:t>
            </a:r>
            <a:r>
              <a:rPr b="0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а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восьм</a:t>
            </a:r>
            <a:r>
              <a:rPr b="0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9640" y="474840"/>
            <a:ext cx="8413920" cy="97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Склонение имён числительных.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И    тр</a:t>
            </a:r>
            <a:r>
              <a:rPr b="0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и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т</a:t>
            </a:r>
            <a:r>
              <a:rPr b="0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а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шестьдесят д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Р    тр</a:t>
            </a:r>
            <a:r>
              <a:rPr b="0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ёх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от шест</a:t>
            </a:r>
            <a:r>
              <a:rPr b="0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и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десят</a:t>
            </a:r>
            <a:r>
              <a:rPr b="0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и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дв</a:t>
            </a:r>
            <a:r>
              <a:rPr b="0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у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Д    тр</a:t>
            </a:r>
            <a:r>
              <a:rPr b="0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ём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т</a:t>
            </a:r>
            <a:r>
              <a:rPr b="0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ам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шест</a:t>
            </a:r>
            <a:r>
              <a:rPr b="0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и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десят</a:t>
            </a:r>
            <a:r>
              <a:rPr b="0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и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дв</a:t>
            </a:r>
            <a:r>
              <a:rPr b="0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у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    триста шестьдесят д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Т   тр</a:t>
            </a:r>
            <a:r>
              <a:rPr b="0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емя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т</a:t>
            </a:r>
            <a:r>
              <a:rPr b="0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ами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шесть</a:t>
            </a:r>
            <a:r>
              <a:rPr b="0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ю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десять</a:t>
            </a:r>
            <a:r>
              <a:rPr b="0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ю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 дв</a:t>
            </a:r>
            <a:r>
              <a:rPr b="0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ум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 о тр</a:t>
            </a:r>
            <a:r>
              <a:rPr b="0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ёх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т</a:t>
            </a:r>
            <a:r>
              <a:rPr b="0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ах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шест</a:t>
            </a:r>
            <a:r>
              <a:rPr b="0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и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десят</a:t>
            </a:r>
            <a:r>
              <a:rPr b="0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и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дв</a:t>
            </a:r>
            <a:r>
              <a:rPr b="0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у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7T13:42:33Z</dcterms:created>
  <dc:creator>Администратор</dc:creator>
  <dc:description/>
  <dc:language>en-US</dc:language>
  <cp:lastModifiedBy>Irina</cp:lastModifiedBy>
  <dcterms:modified xsi:type="dcterms:W3CDTF">2017-03-31T14:15:53Z</dcterms:modified>
  <cp:revision>6</cp:revision>
  <dc:subject/>
  <dc:title>Слайд 1</dc:title>
</cp:coreProperties>
</file>