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3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85A-3FA2-49CD-99BB-A9BB40060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AC0-C3F9-4998-9692-5FE64A135C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876-3521-458A-8B44-E2C6AB50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10B-9060-4B4E-8B05-3036478D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211-AD06-4D7C-81E4-27C995C9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994-4780-4CA6-8C9A-63BED2EE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6E8-9125-49C9-A397-A294D9E6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C28-E67B-461A-AE6B-05A8DC4F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1BF-DDEB-40AC-96A3-BD9D6CD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F1B-1363-447D-896B-3A1BD24F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1B2-A42C-44E8-91C3-94830CE9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616-F2F7-4378-829D-06DCA5D5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5F8-B7A1-428B-A374-F22E8E6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BF3-8BD5-4191-9710-8F9CED4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C448-FCBD-4513-BFFD-A4B530462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znaimo.com.ua/images/rubase_2_1918254808_32244.jp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547640" y="260280"/>
            <a:ext cx="64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ністерство освіти і науки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'янсь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іл освіти Черкаської селищної 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еснянська ЗОШ І-ІІІ 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44400" y="5445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ла: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зарубіжної  літератури вищої кваліфікаційної категорії,  учитель-методист Прелеснянської ЗОШ І-ІІІ 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ченко Ірина Вікто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2093040" y="2543040"/>
            <a:ext cx="5238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. Хо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рубіжна літера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4724280"/>
            <a:ext cx="7920000" cy="194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понський художник може малювати на піску, на воді, на асфальті. Такий малюнок живе недовго, але він цілком задовольняє і художника, і глядачів, які встигли побачити й насолодитися зображеною митт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156360" y="260280"/>
            <a:ext cx="2736720" cy="2232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99"/>
                </a:solidFill>
                <a:latin typeface="Arial"/>
              </a:rPr>
              <a:t>Японія – країна, в якій помічають і цінують красу кожної ми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404640"/>
            <a:ext cx="55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са миттєвості</a:t>
            </a:r>
            <a:endParaRPr b="0" lang="en-US" sz="1800" spc="1" strike="noStrike">
              <a:ln w="12600">
                <a:solidFill>
                  <a:srgbClr val="006699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9" descr="tsubaki2-650"/>
          <p:cNvPicPr/>
          <p:nvPr/>
        </p:nvPicPr>
        <p:blipFill>
          <a:blip r:embed="rId1"/>
          <a:stretch/>
        </p:blipFill>
        <p:spPr>
          <a:xfrm>
            <a:off x="395280" y="1557360"/>
            <a:ext cx="5292720" cy="302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5724360" y="2637000"/>
            <a:ext cx="3024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33"/>
                </a:solidFill>
                <a:latin typeface="Arial"/>
              </a:rPr>
              <a:t>Картини із кольорового піску японської художниці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Ако Цубак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iessay.ru/public/page_images/2552/basyo.jpg"/>
          <p:cNvPicPr/>
          <p:nvPr/>
        </p:nvPicPr>
        <p:blipFill>
          <a:blip r:embed="rId1"/>
          <a:stretch/>
        </p:blipFill>
        <p:spPr>
          <a:xfrm>
            <a:off x="262080" y="1833480"/>
            <a:ext cx="3571560" cy="424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455400" y="121320"/>
            <a:ext cx="771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Японія – це Батьківщ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Кацусіка Хокуса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4049640" y="2070000"/>
            <a:ext cx="31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ивс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44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течко Уено, провінція І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яче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́ Кінса́ку</a:t>
            </a:r>
            <a:r>
              <a:rPr b="0" lang="ru-RU" sz="18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092840" y="176364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сле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́ Мунефу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3983040" y="299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нім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сей («Квітучий персик»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Басьо́ («Бана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133880" y="3638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 взяв собі ім'я Басьо (Банан), після того як його учень подарував йому це дерево. Дерево він посадив коло свого будинку. Йому сказали, що клімат у місці його проживання занадто холодний, тому дерево не плодоносит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м псевдонімом він мав на меті виклика́ти думку про марність життя по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5" descr="Basho by Hokusai-small.jpg"/>
          <p:cNvPicPr/>
          <p:nvPr/>
        </p:nvPicPr>
        <p:blipFill>
          <a:blip r:embed="rId1"/>
          <a:stretch/>
        </p:blipFill>
        <p:spPr>
          <a:xfrm>
            <a:off x="395280" y="260280"/>
            <a:ext cx="352908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4211640" y="692280"/>
            <a:ext cx="35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ьо почав писати поезію у ранньому ві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поезія відома у багатьох країнах світу і перекладена на багато 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понії твори Басьо відтворені на пам'ятниках і у визначних місця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заробляв собі на життя вчителюван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4285800" y="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im2-tub-ua.yandex.net/i?id=83424247-03-72&amp;n=21"/>
          <p:cNvPicPr/>
          <p:nvPr/>
        </p:nvPicPr>
        <p:blipFill>
          <a:blip r:embed="rId2"/>
          <a:stretch/>
        </p:blipFill>
        <p:spPr>
          <a:xfrm>
            <a:off x="5796000" y="3933720"/>
            <a:ext cx="3168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://pics.livejournal.com/alienpcr/pic/00001yg4"/>
          <p:cNvPicPr/>
          <p:nvPr/>
        </p:nvPicPr>
        <p:blipFill>
          <a:blip r:embed="rId1"/>
          <a:stretch/>
        </p:blipFill>
        <p:spPr>
          <a:xfrm>
            <a:off x="576360" y="154080"/>
            <a:ext cx="2843280" cy="3143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4141800" y="573408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н мандрував  Японією 10 ро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629160" y="189000"/>
            <a:ext cx="45720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інці XVII ст. на дорогах Японії можна було зустріти немолодого вже чоловіка, дуже схожого на жебрака, якого будь-хто міг образити. Тоді нікому не могло спасти на думку ,що на долю цього не помітного мандрівника випаде посмертна сл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дрівник! Це Слово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тане іменем твої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овгий осінній до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http://im5-tub-ua.yandex.net/i?id=99872132-56-72&amp;n=21"/>
          <p:cNvPicPr/>
          <p:nvPr/>
        </p:nvPicPr>
        <p:blipFill>
          <a:blip r:embed="rId2"/>
          <a:stretch/>
        </p:blipFill>
        <p:spPr>
          <a:xfrm>
            <a:off x="576360" y="3500280"/>
            <a:ext cx="27716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http://www.ukrlit.vn.ua/zaruba/biography/baso.jpg"/>
          <p:cNvPicPr/>
          <p:nvPr/>
        </p:nvPicPr>
        <p:blipFill>
          <a:blip r:embed="rId1"/>
          <a:stretch/>
        </p:blipFill>
        <p:spPr>
          <a:xfrm>
            <a:off x="395280" y="960480"/>
            <a:ext cx="3600360" cy="4484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527040" y="5516640"/>
            <a:ext cx="31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помер від шлункового захворювання в оточенні своїх учн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листопада 1694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6" descr="Описание: http://upload.wikimedia.org/wikipedia/commons/thumb/4/49/MatsuoBasho-Haka-M1932.jpg/220px-MatsuoBasho-Haka-M1932.jpg"/>
          <p:cNvPicPr/>
          <p:nvPr/>
        </p:nvPicPr>
        <p:blipFill>
          <a:blip r:embed="rId2"/>
          <a:stretch/>
        </p:blipFill>
        <p:spPr>
          <a:xfrm>
            <a:off x="5219640" y="1017720"/>
            <a:ext cx="3003480" cy="44798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334440" y="22068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4500720" y="55180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ила Басьо в Оцу, префектура Сі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сть Мацуо Басьо назв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ер на Меркурії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-6480"/>
            <a:ext cx="8680320" cy="9813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617400" y="917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лку Мацуо Басьо віддано любив природу, милувався засніженими гірськими вершинами, слухав шум водоспадів, вдивлявся у морську далечінь, дихав ароматом квітів, дивувався нескінченній фантазії солов’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4605480" y="3141720"/>
            <a:ext cx="43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ивиться поет на маленьку співучу цяточку в небесній блакиті — і з’являється чарівний тривіршик:</a:t>
            </a:r>
            <a:br>
              <a:rPr sz="1800"/>
            </a:b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ціл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їм пісням не вистачає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йворон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http://www.telefoner.ru/preview/images/11058.jpg"/>
          <p:cNvPicPr/>
          <p:nvPr/>
        </p:nvPicPr>
        <p:blipFill>
          <a:blip r:embed="rId2"/>
          <a:stretch/>
        </p:blipFill>
        <p:spPr>
          <a:xfrm>
            <a:off x="652320" y="2422440"/>
            <a:ext cx="3559320" cy="3754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69920" y="31496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оку, або хайку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японській поезії традиційний жанр пейзажної лірики, що виник у XVII століт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трирядковий вірш без рими, який одним образом викликає в уяві закінчену карт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ряд чи ви знайдете в Японії людину, яка протягом свого життя не склала жодного х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ільше того, є люди, які за день можуть скласти понад тисячу таких тривіршів. На поетичному конкурсі на швидкість складання віршів його переможець установив неперевершений і донині рекорд — 23 000 хоку за день (16 за хвилину).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к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винно допомогти людині в маленькому побачити велике, спробувати зупинити біг часу й опинитися у віч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50920" y="14932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ок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- це віршована форма, що складається із трьох рядків, в перекладі означає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чаткова форм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»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 Класичні хоку містять 17 складів. Складаються із трьох ритмічних рядків (5, 7, 5 складі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169920" y="12528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иття Мацуо Басьо прославився  завдяки коротким і чітким хайку - х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2703600" y="4935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іти зів’я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риває землю печаль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насіння т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9"/>
          <p:cNvSpPr txBox="1"/>
          <p:nvPr/>
        </p:nvSpPr>
        <p:spPr>
          <a:xfrm>
            <a:off x="501480" y="189000"/>
            <a:ext cx="8642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99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492360" y="1699920"/>
            <a:ext cx="4896000" cy="1755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всохлу гі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в ночувати к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либока осі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цуо Бас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voron"/>
          <p:cNvPicPr/>
          <p:nvPr/>
        </p:nvPicPr>
        <p:blipFill>
          <a:blip r:embed="rId1"/>
          <a:stretch/>
        </p:blipFill>
        <p:spPr>
          <a:xfrm>
            <a:off x="241200" y="1239840"/>
            <a:ext cx="2903760" cy="41227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29" name="Rectangle 8"/>
          <p:cNvSpPr/>
          <p:nvPr/>
        </p:nvSpPr>
        <p:spPr>
          <a:xfrm>
            <a:off x="395280" y="59421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 по формі  і загадкова за змістом японська поезія має шанувальни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сьому сві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250920" y="874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тний японський письменник вважав, що природа — натхнення, природа — незрівнянна ні з чим краса, це — сама досконал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492360" y="3933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й відомий вірш про крука на осінній гілці Басьо відточував декілька ро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324000" y="115920"/>
            <a:ext cx="871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під час подорожі замилується квіткою, що так і проситься прикрасити нею одяг, але не порушить краси природи: хай вона чарує ароматом інших людей. Поет краще уславить її в ось такому хоку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324000" y="51577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говорив своїм учням, що треба вчитися у природи, треба прислухатися до її звуків, вдивлятися в її картини, розуміти її порухи, і, головне, намагатися жити в гармонії з нею, берегти оточуючий нас сві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4121280" y="2421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рська троян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ї гілочки так і просяться прикрас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пелю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im0-tub-ua.yandex.net/i?id=144193029-65-72&amp;n=21"/>
          <p:cNvPicPr/>
          <p:nvPr/>
        </p:nvPicPr>
        <p:blipFill>
          <a:blip r:embed="rId1"/>
          <a:stretch/>
        </p:blipFill>
        <p:spPr>
          <a:xfrm>
            <a:off x="295200" y="1413000"/>
            <a:ext cx="37004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"/>
          <p:cNvSpPr/>
          <p:nvPr/>
        </p:nvSpPr>
        <p:spPr>
          <a:xfrm>
            <a:off x="61128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ший рядок до хоку: разом з учнями шукав декілька дн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3635280" y="452124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й ставок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бка стрибне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леск пролун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actual.ucoz.com/5images/15-frogs/zabki_13.jpg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10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http://i2.imgbb.ru/img7/3/f/e/3fe1cff7c5ca0f81e019c1229c49eb06_h.jpg"/>
          <p:cNvPicPr/>
          <p:nvPr/>
        </p:nvPicPr>
        <p:blipFill>
          <a:blip r:embed="rId2"/>
          <a:stretch/>
        </p:blipFill>
        <p:spPr>
          <a:xfrm>
            <a:off x="4608360" y="981000"/>
            <a:ext cx="3913200" cy="3105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6"/>
          <p:cNvSpPr/>
          <p:nvPr/>
        </p:nvSpPr>
        <p:spPr>
          <a:xfrm>
            <a:off x="3118320" y="11592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Fcy;&amp;ocy;&amp;tcy;&amp;ocy;&amp;gcy;&amp;rcy;&amp;acy;&amp;fcy;&amp;icy;&amp;yacy; &amp;YAcy;&amp;pcy;&amp;ocy;&amp;ncy;&amp;icy;&amp;icy;. &amp;zcy;&amp;acy;&amp;bcy;&amp;vcy;&amp;iecy;&amp;ncy;&amp;icy;&amp;iecy; &amp;vcy;&amp;rcy;&amp;iecy;&amp;mcy;&amp;iecy;&amp;ncy;&amp;icy;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1267560" y="0"/>
            <a:ext cx="59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. </a:t>
            </a:r>
            <a:r>
              <a:rPr b="1" i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. Хо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95280" y="70812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: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знатися про розташування Японії на карті світу, про своєрідність японської культу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чити відомості про життя і творчість Мацу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сьо,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йомитис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істю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ьо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ти визначення поняття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ку»;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ися виразно читати; відноситися з повагою до традицій інших наро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4103640" y="4292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що люди люблять квіти,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ожна людина квітка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ька мудр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5076720" y="5445000"/>
            <a:ext cx="341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родою кві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мно стало місяцю?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вався за хмарко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91600" y="16668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im0-tub-ua.yandex.net/i?id=120509405-46-72&amp;n=21"/>
          <p:cNvPicPr/>
          <p:nvPr/>
        </p:nvPicPr>
        <p:blipFill>
          <a:blip r:embed="rId1"/>
          <a:stretch/>
        </p:blipFill>
        <p:spPr>
          <a:xfrm>
            <a:off x="343080" y="876240"/>
            <a:ext cx="3743280" cy="25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img-fotki.yandex.ru/get/4605/dlorien.4/0_47fab_396e6566_XL.jpg"/>
          <p:cNvPicPr/>
          <p:nvPr/>
        </p:nvPicPr>
        <p:blipFill>
          <a:blip r:embed="rId2"/>
          <a:stretch/>
        </p:blipFill>
        <p:spPr>
          <a:xfrm>
            <a:off x="4356000" y="166680"/>
            <a:ext cx="4308480" cy="501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im6-tub-ua.yandex.net/i?id=103237057-63-72&amp;n=21"/>
          <p:cNvPicPr/>
          <p:nvPr/>
        </p:nvPicPr>
        <p:blipFill>
          <a:blip r:embed="rId3"/>
          <a:stretch/>
        </p:blipFill>
        <p:spPr>
          <a:xfrm>
            <a:off x="343080" y="3573360"/>
            <a:ext cx="36655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708360" y="98100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йшов на гірську стеж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так приємно защеміло в грудях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навкруги ж — фіал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http://im0-tub-ua.yandex.net/i?id=134631918-40-72&amp;n=21"/>
          <p:cNvPicPr/>
          <p:nvPr/>
        </p:nvPicPr>
        <p:blipFill>
          <a:blip r:embed="rId1"/>
          <a:stretch/>
        </p:blipFill>
        <p:spPr>
          <a:xfrm>
            <a:off x="3900600" y="2133720"/>
            <a:ext cx="2376360" cy="172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ttp://im3-tub-ua.yandex.net/i?id=177185841-25-72&amp;n=21"/>
          <p:cNvPicPr/>
          <p:nvPr/>
        </p:nvPicPr>
        <p:blipFill>
          <a:blip r:embed="rId2"/>
          <a:stretch/>
        </p:blipFill>
        <p:spPr>
          <a:xfrm>
            <a:off x="276120" y="1125360"/>
            <a:ext cx="3000600" cy="27352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190080" y="115920"/>
            <a:ext cx="33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цуо Бась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925800" y="4076640"/>
            <a:ext cx="32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квітування сак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м краси не дод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іть ранкова зо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3543480" y="17784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у в письменника бувають і захоплени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http://s007.radikal.ru/i300/1107/eb/df3ecf6f2ebf.jpg"/>
          <p:cNvPicPr/>
          <p:nvPr/>
        </p:nvPicPr>
        <p:blipFill>
          <a:blip r:embed="rId3"/>
          <a:stretch/>
        </p:blipFill>
        <p:spPr>
          <a:xfrm>
            <a:off x="271440" y="4221000"/>
            <a:ext cx="3251160" cy="24400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5"/>
          <p:cNvSpPr/>
          <p:nvPr/>
        </p:nvSpPr>
        <p:spPr>
          <a:xfrm>
            <a:off x="3990960" y="530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ці говорять: «Любіть природу, любіть квіти, любіть дерева, небо, красу у великому й малому - і ви навчитеся любити житт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059280" y="189000"/>
            <a:ext cx="58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ршам Мацуо Басьо вже понад триста років, але вони не старіють, дивують світ щирістю й таємничістю, проникливістю й добротою, відвертістю і спостережливіст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заснував поетичну школу, що існувала майже 2000 ро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507960" y="4514760"/>
            <a:ext cx="43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жив удалекому минулому, але його твори, такі незвичні для нас за формою ми розуміємо і за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це справжнє мистецтво, справжня краса, яку навіть не потрібно розуміти, її потрібно лише відч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http://im7-tub-ua.yandex.net/i?id=8153507-06-72&amp;n=21"/>
          <p:cNvPicPr/>
          <p:nvPr/>
        </p:nvPicPr>
        <p:blipFill>
          <a:blip r:embed="rId1"/>
          <a:stretch/>
        </p:blipFill>
        <p:spPr>
          <a:xfrm>
            <a:off x="179280" y="185760"/>
            <a:ext cx="2592360" cy="388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ttp://900igr.net/datai/literatura/KHokku-stikhi/0006-009-Sudba-Matsuo-Basjo-skladyvalas-svoeobrazno.png"/>
          <p:cNvPicPr/>
          <p:nvPr/>
        </p:nvPicPr>
        <p:blipFill>
          <a:blip r:embed="rId2"/>
          <a:stretch/>
        </p:blipFill>
        <p:spPr>
          <a:xfrm>
            <a:off x="5292720" y="2127240"/>
            <a:ext cx="360036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98280" y="4843440"/>
            <a:ext cx="43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ічна п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Зорі на небі сяю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умки тікаю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95280" y="2637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пекотне лі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 далині - зоз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ахує роки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4760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Цікава кни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іршами списаний зош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удра люд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98280" y="4248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 верба гне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ітер її лама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Вона не помира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627280" y="4248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озквітла кві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Тягнеться серед камі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Живе наді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:\Світова літ\5 кл Мацуо Басьо\До хоку\До хоку.jpg"/>
          <p:cNvPicPr/>
          <p:nvPr/>
        </p:nvPicPr>
        <p:blipFill>
          <a:blip r:embed="rId1"/>
          <a:stretch/>
        </p:blipFill>
        <p:spPr>
          <a:xfrm>
            <a:off x="3924360" y="260280"/>
            <a:ext cx="468000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898920" y="2951640"/>
            <a:ext cx="26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Листя оп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ихенько промовля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ода хол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329200" y="4607280"/>
            <a:ext cx="376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има підкр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обличчя снігом розсміяла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олод на сер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4000" y="665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ташка мален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е має розуму сірен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сить мил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J:\Світова літ\5 кл Мацуо Басьо\До хоку\До хоку 002.jpg"/>
          <p:cNvPicPr/>
          <p:nvPr/>
        </p:nvPicPr>
        <p:blipFill>
          <a:blip r:embed="rId1"/>
          <a:stretch/>
        </p:blipFill>
        <p:spPr>
          <a:xfrm>
            <a:off x="4356000" y="144360"/>
            <a:ext cx="460872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692360" y="1413000"/>
            <a:ext cx="4572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нашого уроку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– краї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Басьо – ц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у – це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т жив в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іо – ц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дзіяма – це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оно – ц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ці вміють милуватися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– Батьківщина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ьо означає  - …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почав писати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цуо мандрував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і сподобалося хоку пр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розумів (зрозуміла)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ідсумок уроку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терактивна вправа «мікрофо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жт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раз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rubase_2_1918254808_32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635200"/>
            <a:ext cx="4248360" cy="4175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56" name="Рисунок 4" descr="http://ukrmap.su/program2010/g6/rozdil1_files/image014.gif"/>
          <p:cNvPicPr/>
          <p:nvPr/>
        </p:nvPicPr>
        <p:blipFill>
          <a:blip r:embed="rId3"/>
          <a:stretch/>
        </p:blipFill>
        <p:spPr>
          <a:xfrm>
            <a:off x="144360" y="244440"/>
            <a:ext cx="5580000" cy="33228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6300720" y="260280"/>
            <a:ext cx="201636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пон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я Японії місто Токі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144360" y="4191120"/>
            <a:ext cx="39960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розташо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тровах Тихого оке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ивають береги Японії води Тихого океану, Японського, Охотського та Сх.-Китайського м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4dda4b5f3063d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7450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60" name="Прямоугольник 3"/>
          <p:cNvSpPr/>
          <p:nvPr/>
        </p:nvSpPr>
        <p:spPr>
          <a:xfrm>
            <a:off x="290520" y="4462560"/>
            <a:ext cx="8569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ія розташована на островах (їх біля 4-х тисяч) у Тихому океані. Найбільшими є острови: Хонсю, Хоккайдо, Косю, Сікоку. Три четверті території займають гори. Найвищою точкою Японії є гора Фудзіяма, її шанують як національну святин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ора Фудзіяма - поетичний символ Япон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5651640" y="3456000"/>
            <a:ext cx="3078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http://im5-tub-ua.yandex.net/i?id=132279290-24-72&amp;n=21"/>
          <p:cNvPicPr/>
          <p:nvPr/>
        </p:nvPicPr>
        <p:blipFill>
          <a:blip r:embed="rId2"/>
          <a:stretch/>
        </p:blipFill>
        <p:spPr>
          <a:xfrm>
            <a:off x="4732200" y="406440"/>
            <a:ext cx="410400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47"/>
          <p:cNvPicPr/>
          <p:nvPr/>
        </p:nvPicPr>
        <p:blipFill>
          <a:blip r:embed="rId1"/>
          <a:stretch/>
        </p:blipFill>
        <p:spPr>
          <a:xfrm>
            <a:off x="2127240" y="1496880"/>
            <a:ext cx="5396040" cy="36007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64" name="WordArt 6"/>
          <p:cNvSpPr txBox="1"/>
          <p:nvPr/>
        </p:nvSpPr>
        <p:spPr>
          <a:xfrm>
            <a:off x="611280" y="260280"/>
            <a:ext cx="784836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99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6699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2682720" y="4921200"/>
            <a:ext cx="4681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2411280" y="333360"/>
            <a:ext cx="4057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666720" y="581328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ьогодні ми вирушаємо до загадкової країни Ніхон, що в перекладі означає «Країна Вранішнього Сонця». А називають її так тому, що вона першою вітає світло вранішнього сонц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200240" y="249120"/>
            <a:ext cx="66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їна Вранішнього Сонц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3851280" y="6516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понців практичний одяг:  кімоно з об'ємними рукавами у поєднанні з прямою спідницею і широким поясом-корс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оно – має прямий  крій одягу,  підходить будь-якій фігурі і його із задоволенням носять чоловіки і жін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жні жінки пов'язують поверх кімоно бант з широкого пояса, символізуючий їх сімейний стат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&amp;yacy;&amp;pcy;&amp;ocy;&amp;ncy;&amp;scy;&amp;kcy;&amp;ocy;&amp;iecy; &amp;kcy;&amp;ocy;&amp;scy;&amp;ocy;&amp;dcy;&amp;iecy;"/>
          <p:cNvPicPr/>
          <p:nvPr/>
        </p:nvPicPr>
        <p:blipFill>
          <a:blip r:embed="rId1"/>
          <a:stretch/>
        </p:blipFill>
        <p:spPr>
          <a:xfrm>
            <a:off x="250920" y="120600"/>
            <a:ext cx="327636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im3-tub-ua.yandex.net/i?id=68086206-53-72&amp;n=21"/>
          <p:cNvPicPr/>
          <p:nvPr/>
        </p:nvPicPr>
        <p:blipFill>
          <a:blip r:embed="rId2"/>
          <a:stretch/>
        </p:blipFill>
        <p:spPr>
          <a:xfrm>
            <a:off x="250920" y="3706920"/>
            <a:ext cx="1873080" cy="2735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2411280" y="370692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іночі зачіски - з довгого прямого, жорсткого, чорного волосс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ередині об'єми заповнювали чорними оксамитовими валиками, наповненими сухою траво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іальні шпильки, стрічки, гребені, зроблені з дерева, дорогоцінних металів, коралів, панцира черепахи, слугують для кріплення зачісок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стри підкладають у волосяні петлі легкий картон. Закінчену зачіску покривають розтопленим маслом або воском, щоб волосся блищало. Для збереження зачіски голову на ніч кладуть на спеціальні дерев'яні підста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5239dbd2ed2b0a23f091d3b10e9c0925"/>
          <p:cNvPicPr/>
          <p:nvPr/>
        </p:nvPicPr>
        <p:blipFill>
          <a:blip r:embed="rId1"/>
          <a:stretch/>
        </p:blipFill>
        <p:spPr>
          <a:xfrm>
            <a:off x="324000" y="1052640"/>
            <a:ext cx="2735280" cy="201600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74" name="Picture 10" descr="http://im3-tub-ua.yandex.net/i?id=201573818-24-72&amp;n=21"/>
          <p:cNvPicPr/>
          <p:nvPr/>
        </p:nvPicPr>
        <p:blipFill>
          <a:blip r:embed="rId2"/>
          <a:stretch/>
        </p:blipFill>
        <p:spPr>
          <a:xfrm>
            <a:off x="324000" y="3427560"/>
            <a:ext cx="2636640" cy="23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im3-tub-ua.yandex.net/i?id=283329065-50-72&amp;n=21"/>
          <p:cNvPicPr/>
          <p:nvPr/>
        </p:nvPicPr>
        <p:blipFill>
          <a:blip r:embed="rId3"/>
          <a:stretch/>
        </p:blipFill>
        <p:spPr>
          <a:xfrm>
            <a:off x="3228840" y="3427560"/>
            <a:ext cx="2436840" cy="23302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776520" y="260280"/>
            <a:ext cx="78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Уроки милування природою в японській школ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908000" y="5954760"/>
            <a:ext cx="57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ці вміють милуватися першим снігом, цвітом сливи і сакури, вечірнім морем, багряним ли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0"/>
          <p:cNvPicPr/>
          <p:nvPr/>
        </p:nvPicPr>
        <p:blipFill>
          <a:blip r:embed="rId4"/>
          <a:stretch/>
        </p:blipFill>
        <p:spPr>
          <a:xfrm>
            <a:off x="5940360" y="3427560"/>
            <a:ext cx="3114720" cy="2330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79" name="Picture 11" descr="http://im3-tub-ua.yandex.net/i?id=362884485-07-72&amp;n=21"/>
          <p:cNvPicPr/>
          <p:nvPr/>
        </p:nvPicPr>
        <p:blipFill>
          <a:blip r:embed="rId5"/>
          <a:stretch/>
        </p:blipFill>
        <p:spPr>
          <a:xfrm>
            <a:off x="3305160" y="1052640"/>
            <a:ext cx="228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2-tub-ua.yandex.net/i?id=196932051-17-72&amp;n=21"/>
          <p:cNvPicPr/>
          <p:nvPr/>
        </p:nvPicPr>
        <p:blipFill>
          <a:blip r:embed="rId6"/>
          <a:stretch/>
        </p:blipFill>
        <p:spPr>
          <a:xfrm>
            <a:off x="5940360" y="1052640"/>
            <a:ext cx="24051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im8-tub-ua.yandex.net/i?id=74275651-15-72&amp;n=21"/>
          <p:cNvPicPr/>
          <p:nvPr/>
        </p:nvPicPr>
        <p:blipFill>
          <a:blip r:embed="rId1"/>
          <a:stretch/>
        </p:blipFill>
        <p:spPr>
          <a:xfrm>
            <a:off x="3635280" y="981000"/>
            <a:ext cx="2305080" cy="25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im7-tub-ua.yandex.net/i?id=123918054-04-72&amp;n=21"/>
          <p:cNvPicPr/>
          <p:nvPr/>
        </p:nvPicPr>
        <p:blipFill>
          <a:blip r:embed="rId2"/>
          <a:stretch/>
        </p:blipFill>
        <p:spPr>
          <a:xfrm>
            <a:off x="250920" y="4149720"/>
            <a:ext cx="3457440" cy="249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http://im3-tub-ua.yandex.net/i?id=245913199-65-72&amp;n=21"/>
          <p:cNvPicPr/>
          <p:nvPr/>
        </p:nvPicPr>
        <p:blipFill>
          <a:blip r:embed="rId3"/>
          <a:stretch/>
        </p:blipFill>
        <p:spPr>
          <a:xfrm>
            <a:off x="539640" y="98100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http://im2-tub-ua.yandex.net/i?id=260248009-46-72&amp;n=21"/>
          <p:cNvPicPr/>
          <p:nvPr/>
        </p:nvPicPr>
        <p:blipFill>
          <a:blip r:embed="rId4"/>
          <a:stretch/>
        </p:blipFill>
        <p:spPr>
          <a:xfrm>
            <a:off x="6467400" y="981000"/>
            <a:ext cx="235260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250920" y="189000"/>
            <a:ext cx="842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99"/>
                </a:solidFill>
                <a:latin typeface="Times New Roman"/>
              </a:rPr>
              <a:t>Японці – нація, яка вміє цінувати людину, здоров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uk-UA" sz="2000" spc="-1" strike="noStrike">
                <a:solidFill>
                  <a:srgbClr val="006699"/>
                </a:solidFill>
                <a:latin typeface="Times New Roman"/>
              </a:rPr>
              <a:t>я  і кожну мить життя</a:t>
            </a:r>
            <a:r>
              <a:rPr b="1" lang="uk-UA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http://im5-tub-ua.yandex.net/i?id=567254524-04-72&amp;n=21"/>
          <p:cNvPicPr/>
          <p:nvPr/>
        </p:nvPicPr>
        <p:blipFill>
          <a:blip r:embed="rId5"/>
          <a:stretch/>
        </p:blipFill>
        <p:spPr>
          <a:xfrm>
            <a:off x="6735600" y="4121280"/>
            <a:ext cx="191484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Красота по японски"/>
          <p:cNvPicPr/>
          <p:nvPr/>
        </p:nvPicPr>
        <p:blipFill>
          <a:blip r:embed="rId6"/>
          <a:stretch/>
        </p:blipFill>
        <p:spPr>
          <a:xfrm>
            <a:off x="4067280" y="4121280"/>
            <a:ext cx="22320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File:Harima-ankokuji-sekitei01.jpg"/>
          <p:cNvPicPr/>
          <p:nvPr/>
        </p:nvPicPr>
        <p:blipFill>
          <a:blip r:embed="rId1"/>
          <a:stretch/>
        </p:blipFill>
        <p:spPr>
          <a:xfrm>
            <a:off x="395280" y="836640"/>
            <a:ext cx="3816360" cy="27367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89" name="Прямоугольник 2"/>
          <p:cNvSpPr/>
          <p:nvPr/>
        </p:nvSpPr>
        <p:spPr>
          <a:xfrm>
            <a:off x="4859280" y="765000"/>
            <a:ext cx="352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Японії камінь є символом величі і краси прир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5796000" y="4869000"/>
            <a:ext cx="27874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ад каміння сприяє розвитку уяви, підштовхує до філософських роздумів про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bm.img.com.ua/img/prikol/images/large/2/7/88672.jpg"/>
          <p:cNvPicPr/>
          <p:nvPr/>
        </p:nvPicPr>
        <p:blipFill>
          <a:blip r:embed="rId2"/>
          <a:stretch/>
        </p:blipFill>
        <p:spPr>
          <a:xfrm>
            <a:off x="5364000" y="1660680"/>
            <a:ext cx="3456000" cy="30654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324000" y="189000"/>
            <a:ext cx="828036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33"/>
                </a:solidFill>
                <a:latin typeface="Times New Roman"/>
              </a:rPr>
              <a:t>Сад кам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http://im6-tub-ua.yandex.net/i?id=114024290-42-72&amp;n=21"/>
          <p:cNvPicPr/>
          <p:nvPr/>
        </p:nvPicPr>
        <p:blipFill>
          <a:blip r:embed="rId3"/>
          <a:stretch/>
        </p:blipFill>
        <p:spPr>
          <a:xfrm>
            <a:off x="539640" y="386064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1:02:18Z</dcterms:created>
  <dc:creator>1</dc:creator>
  <dc:description/>
  <dc:language>en-US</dc:language>
  <cp:lastModifiedBy>Admin</cp:lastModifiedBy>
  <dcterms:modified xsi:type="dcterms:W3CDTF">2017-05-02T09:22:24Z</dcterms:modified>
  <cp:revision>79</cp:revision>
  <dc:subject/>
  <dc:title>Слайд 1</dc:title>
</cp:coreProperties>
</file>