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3.jpeg" ContentType="image/jpeg"/>
  <Override PartName="/ppt/media/image2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66.png" ContentType="image/png"/>
  <Override PartName="/ppt/media/image40.jpeg" ContentType="image/jpeg"/>
  <Override PartName="/ppt/media/image38.jpeg" ContentType="image/jpeg"/>
  <Override PartName="/ppt/media/image37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4.jpeg" ContentType="image/jpeg"/>
  <Override PartName="/ppt/media/image13.png" ContentType="image/png"/>
  <Override PartName="/ppt/media/image52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5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51.jpeg" ContentType="image/jpeg"/>
  <Override PartName="/ppt/media/image62.png" ContentType="image/pn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0.jpeg" ContentType="image/jpeg"/>
  <Override PartName="/ppt/media/image77.jpeg" ContentType="image/jpeg"/>
  <Override PartName="/ppt/media/image68.png" ContentType="image/png"/>
  <Override PartName="/ppt/media/image71.jpeg" ContentType="image/jpeg"/>
  <Override PartName="/ppt/media/image32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25.png" ContentType="image/png"/>
  <Override PartName="/ppt/media/image83.jpeg" ContentType="image/jpeg"/>
  <Override PartName="/ppt/media/image24.jpeg" ContentType="image/jpeg"/>
  <Override PartName="/ppt/media/image72.jpeg" ContentType="image/jpeg"/>
  <Override PartName="/ppt/media/image14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10.png" ContentType="image/png"/>
  <Override PartName="/ppt/media/image36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8.png" ContentType="image/png"/>
  <Override PartName="/ppt/media/image82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81.jpeg" ContentType="image/jpeg"/>
  <Override PartName="/ppt/media/image22.jpeg" ContentType="image/jpeg"/>
  <Override PartName="/ppt/media/image19.png" ContentType="image/png"/>
  <Override PartName="/ppt/media/image79.jpeg" ContentType="image/jpeg"/>
  <Override PartName="/ppt/media/image7.png" ContentType="image/png"/>
  <Override PartName="/ppt/media/image3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75C-CBC2-4C28-A4EE-B2C69D85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A39-FD9B-4CA8-81E1-174AD020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716-E216-4DCD-9CFE-ADA2ACC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7E2-08B0-4D98-98A9-01739A22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E2A5-DC3A-4507-B83A-93575A77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7C65-C84B-4FA1-8C8B-134C083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EAF-1256-4FCA-8563-40C61397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2971-F5F4-46C0-A787-F727A4AA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FEA9-B03D-4015-9BEF-DE3F2083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96A5-A44F-43DC-AD6C-8E4D3A9C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600F-5864-4CF5-9D0C-91FF81C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041-74AA-49C6-8EB3-26B45367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6DDB-1890-446D-BDBD-6390A6C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4C4-3E04-4E6A-B8CD-584F0FE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7998-9036-4C12-BBF8-4B02733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2B93-950C-4924-94C5-99AD80EB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9A9-A8C8-4405-B71F-DE49F77A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EBB1-6919-46A8-B639-64BD79B5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ED98-2E1F-4D26-8A49-0C0B990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E856-0306-4411-9AE8-930B8A61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3BCD-0AD5-44BC-8936-F436E8FC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D3BD-8E57-4D47-A1A2-FD393C1E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477-5585-4912-873B-E95C1F6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53E0-782B-4DCC-9A53-0E1D488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A9BF-C697-4FD9-B3E4-3C71593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D302-0C5A-4F16-92F3-A262732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E578-EC5F-4DED-93E0-87B9544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9153-6880-49FB-9D36-D2832C17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7CB6-CF20-4AE6-BDE9-4F47A9AD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20D6-536E-45B9-81F2-A1605426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AAF1-E3D4-4DF7-AB0E-EA01A15F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99157-CF2F-4555-86A7-C80C2D6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586D-6FF8-479C-A27E-C53767E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A3E-D983-4959-B113-B3E30775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D5CF-13DB-4B61-AEF1-13BCF88C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E780-3B06-4B3B-BF8A-D2BD8743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3B9E-10F4-4508-A47E-75E6DE02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C498-5F2D-4800-AC1B-DD47E1E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EAA5-97B2-480F-BE63-9FD49D0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5411-2838-44C3-85BF-C11BC13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C1B7-0081-445B-B879-67667C5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4757-3129-4853-83F0-F281D591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2FE3-A404-4B55-9DDA-923A286D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7D44-A318-4A87-BEE8-BA2CE837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581-A816-4DFC-8FEF-9985550B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C82F3-F9A8-46A3-8B30-AE7B0E7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2F23-1F0D-4C08-9772-CFEF21A1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4F4F9-8F96-41FC-B015-A52EDCFF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BEA9-24B1-4CCE-B042-05D7D316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6432-86DD-43CC-9A73-2D79F47E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7F4C6-BB0B-4A8D-B7B4-1C2322F7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29DB8-D510-4DD2-9038-D1508B5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CDC8-8A59-43C6-8CDE-2D599C3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BD3C7-C67D-4227-8A28-E7353E66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28CE-F08F-46B7-BD27-948C80B0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7FD-BEE1-414D-B86B-474C894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9CBDE-0CFC-4893-B710-582D81EF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4FC7-9BEA-4F89-A444-E8851EFF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4B59E-6275-4204-AC4D-D13BBAA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C199-ACBD-45DA-8478-3AF2DA1C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51C87-8F6E-4915-BA7B-B00E7BF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DF7CC-D0F4-4D02-812A-3C9C170D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FE043-6E2A-4525-AB02-83060C4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38B48-F72F-4276-A173-E6B3719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A0BB-3AA1-423C-BD13-605EC8BF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E7C3-F468-4159-A824-FBD51B3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10F-6543-469D-8EF3-5E4BE08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1A990-4B69-43DB-9DA0-01278818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AD844-9642-4139-B414-5A753810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3A18D-0937-4FAF-91FC-45D21447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7DA69-2A75-4D96-8C5B-ECED19C7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F50EE-F9A0-4476-9105-D9158FF3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9B335-334F-4BB0-B842-A0C9903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1DC06-39A7-4694-934A-D774DF13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F81FD-4C3B-4077-983C-D17A77E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F7D77-F837-4FB7-89F8-FBF27AFB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20166-4C6D-4138-8C79-B33EC6D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827-272C-43EE-B964-24C61D8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32673-529E-46D1-A826-8017D4F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9ECCC-2E31-4AE2-B6AE-BA6F5C0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A116C-E611-43D4-90C8-34F4962A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47E3B-8881-4FB6-99F1-352AFA65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E336A-5594-46D9-A578-4C29ECE4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029B-4DC2-42B4-B62E-D0DE08D5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C863-347D-4258-A582-49D0B39E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068ED-E9D9-4F0B-BA74-2DFE970C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1A9E-4150-446F-855A-D2826C96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604E-4333-4525-B5DF-A074E8E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D2C-EFA1-491B-916E-0009C01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1305-8D4B-4FF1-8BEF-A32B84D6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ACA0B-8699-4614-87E2-69E3978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EB5D-3FCB-4A03-ABA5-E76E2B5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5C5D-8EE2-4039-9397-ED18FC7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78C0-467C-4C5D-8C45-F902C330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BB140-0BF5-4B4E-8650-0AF89A6F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CEF91-D3DF-4FBE-BC67-79C55912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E09E-0BB3-422D-8AE0-5FAC01777F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9A9C-DD40-4262-ACB4-D6090DB9C10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090-DBD9-4674-AD79-460B21AD1619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7FF5-ADCD-4F22-8BA3-3F1FE3D6B22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172D-AEC6-498A-9092-320E39B5E3A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D73-6072-4A08-A780-A013CDA86F8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2696-16F6-4ACF-A1B7-DF96A35CBB0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9F67-AC0B-4F44-B352-414E722E50D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pn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4ee773832ba7fac1ed297fa9a0d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16765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7534c"/>
                </a:solidFill>
                <a:latin typeface="Book Antiqua"/>
              </a:rPr>
              <a:t>ХІМІЧНИЙ СКЛАД КЛІТИНИ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23"/>
          <p:cNvSpPr/>
          <p:nvPr/>
        </p:nvSpPr>
        <p:spPr>
          <a:xfrm>
            <a:off x="250920" y="299736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e8d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2411280" y="1181160"/>
            <a:ext cx="4105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ece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2516040" y="2211480"/>
            <a:ext cx="1845000" cy="598320"/>
          </a:xfrm>
          <a:prstGeom prst="bevel">
            <a:avLst>
              <a:gd name="adj" fmla="val 933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4788000" y="2205000"/>
            <a:ext cx="1611360" cy="604800"/>
          </a:xfrm>
          <a:prstGeom prst="bevel">
            <a:avLst>
              <a:gd name="adj" fmla="val 7931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216000" y="1917720"/>
            <a:ext cx="1800000" cy="936720"/>
          </a:xfrm>
          <a:prstGeom prst="bevel">
            <a:avLst>
              <a:gd name="adj" fmla="val 596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804000" y="1978200"/>
            <a:ext cx="2147760" cy="790560"/>
          </a:xfrm>
          <a:prstGeom prst="bevel">
            <a:avLst>
              <a:gd name="adj" fmla="val 6199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468360" y="404640"/>
            <a:ext cx="8229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Impact"/>
              </a:rPr>
              <a:t>Органічні речови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241128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ічні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536400" y="196848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937040" y="2276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556000" y="2276640"/>
            <a:ext cx="180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углево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250920" y="2349360"/>
            <a:ext cx="17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ліпід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807240" y="1967040"/>
            <a:ext cx="212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уклеїнові кисл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8"/>
          <p:cNvSpPr/>
          <p:nvPr/>
        </p:nvSpPr>
        <p:spPr>
          <a:xfrm flipH="1">
            <a:off x="1979280" y="1844640"/>
            <a:ext cx="647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6084720" y="1844640"/>
            <a:ext cx="64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0"/>
          <p:cNvSpPr/>
          <p:nvPr/>
        </p:nvSpPr>
        <p:spPr>
          <a:xfrm flipH="1">
            <a:off x="3276360" y="1773360"/>
            <a:ext cx="4316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859280" y="1773360"/>
            <a:ext cx="6494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395280" y="3068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*єднані один з одним атоми карбону утв. Різні структури –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ізнови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Arial Black"/>
              </a:rPr>
              <a:t>молекул органічних речов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4" descr="04_05"/>
          <p:cNvPicPr/>
          <p:nvPr/>
        </p:nvPicPr>
        <p:blipFill>
          <a:blip r:embed="rId1"/>
          <a:stretch/>
        </p:blipFill>
        <p:spPr>
          <a:xfrm>
            <a:off x="463680" y="4265640"/>
            <a:ext cx="8181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74"/>
          <p:cNvSpPr/>
          <p:nvPr/>
        </p:nvSpPr>
        <p:spPr>
          <a:xfrm>
            <a:off x="131760" y="5950080"/>
            <a:ext cx="8902800" cy="769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орюються з води (Н2О) і вуглекислого газу (СО2) в процесі фотосинтез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о відбувається в хлоропластах зелених рос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3"/>
          <p:cNvSpPr/>
          <p:nvPr/>
        </p:nvSpPr>
        <p:spPr>
          <a:xfrm>
            <a:off x="7093080" y="115920"/>
            <a:ext cx="1439640" cy="139536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2"/>
          <p:cNvSpPr/>
          <p:nvPr/>
        </p:nvSpPr>
        <p:spPr>
          <a:xfrm rot="20622000">
            <a:off x="3490920" y="839520"/>
            <a:ext cx="1335240" cy="5156280"/>
          </a:xfrm>
          <a:prstGeom prst="downArrow">
            <a:avLst>
              <a:gd name="adj1" fmla="val 36528"/>
              <a:gd name="adj2" fmla="val 3377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3"/>
          <p:cNvSpPr/>
          <p:nvPr/>
        </p:nvSpPr>
        <p:spPr>
          <a:xfrm>
            <a:off x="324000" y="115920"/>
            <a:ext cx="6408720" cy="936720"/>
          </a:xfrm>
          <a:custGeom>
            <a:avLst/>
            <a:gdLst>
              <a:gd name="textAreaLeft" fmla="*/ 169200 w 6408720"/>
              <a:gd name="textAreaRight" fmla="*/ 6239520 w 6408720"/>
              <a:gd name="textAreaTop" fmla="*/ 169200 h 936720"/>
              <a:gd name="textAreaBottom" fmla="*/ 767520 h 936720"/>
            </a:gdLst>
            <a:ahLst/>
            <a:rect l="textAreaLeft" t="textAreaTop" r="textAreaRight" b="textAreaBottom"/>
            <a:pathLst>
              <a:path w="147731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42204" y="21600"/>
                </a:lnTo>
                <a:arcTo wR="5527" hR="5527" stAng="10800000" swAng="5400000"/>
                <a:lnTo>
                  <a:pt x="147731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11280" y="11592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2987640" y="2781360"/>
            <a:ext cx="302436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2771640" y="4221000"/>
            <a:ext cx="3600720" cy="961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50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7032960" y="453960"/>
            <a:ext cx="1485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1-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6"/>
          <p:cNvSpPr/>
          <p:nvPr/>
        </p:nvSpPr>
        <p:spPr>
          <a:xfrm rot="1450800">
            <a:off x="6792840" y="508212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7"/>
          <p:cNvSpPr/>
          <p:nvPr/>
        </p:nvSpPr>
        <p:spPr>
          <a:xfrm rot="20887200">
            <a:off x="2786760" y="537156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8"/>
          <p:cNvSpPr/>
          <p:nvPr/>
        </p:nvSpPr>
        <p:spPr>
          <a:xfrm>
            <a:off x="7702560" y="458136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9" descr="778_8"/>
          <p:cNvPicPr/>
          <p:nvPr/>
        </p:nvPicPr>
        <p:blipFill>
          <a:blip r:embed="rId1"/>
          <a:stretch/>
        </p:blipFill>
        <p:spPr>
          <a:xfrm>
            <a:off x="6467400" y="1711440"/>
            <a:ext cx="256536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536" name="Text Box 70"/>
          <p:cNvSpPr/>
          <p:nvPr/>
        </p:nvSpPr>
        <p:spPr>
          <a:xfrm>
            <a:off x="5580000" y="5300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5" descr="carbohydrates_4"/>
          <p:cNvPicPr/>
          <p:nvPr/>
        </p:nvPicPr>
        <p:blipFill>
          <a:blip r:embed="rId2"/>
          <a:stretch/>
        </p:blipFill>
        <p:spPr>
          <a:xfrm>
            <a:off x="108000" y="2565360"/>
            <a:ext cx="2384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62"/>
          <p:cNvSpPr/>
          <p:nvPr/>
        </p:nvSpPr>
        <p:spPr>
          <a:xfrm flipH="1" rot="2989800">
            <a:off x="2237400" y="649440"/>
            <a:ext cx="509400" cy="882360"/>
          </a:xfrm>
          <a:prstGeom prst="downArrow">
            <a:avLst>
              <a:gd name="adj1" fmla="val 40194"/>
              <a:gd name="adj2" fmla="val 659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0"/>
          <p:cNvSpPr/>
          <p:nvPr/>
        </p:nvSpPr>
        <p:spPr>
          <a:xfrm rot="18610200">
            <a:off x="6053760" y="649440"/>
            <a:ext cx="509400" cy="882720"/>
          </a:xfrm>
          <a:prstGeom prst="downArrow">
            <a:avLst>
              <a:gd name="adj1" fmla="val 40194"/>
              <a:gd name="adj2" fmla="val 6593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59"/>
          <p:cNvSpPr/>
          <p:nvPr/>
        </p:nvSpPr>
        <p:spPr>
          <a:xfrm>
            <a:off x="3564000" y="5805360"/>
            <a:ext cx="5400720" cy="936720"/>
          </a:xfrm>
          <a:custGeom>
            <a:avLst/>
            <a:gdLst>
              <a:gd name="textAreaLeft" fmla="*/ 110160 w 5400720"/>
              <a:gd name="textAreaRight" fmla="*/ 5290560 w 5400720"/>
              <a:gd name="textAreaTop" fmla="*/ 110160 h 936720"/>
              <a:gd name="textAreaBottom" fmla="*/ 826560 h 936720"/>
            </a:gdLst>
            <a:ahLst/>
            <a:rect l="textAreaLeft" t="textAreaTop" r="textAreaRight" b="textAreaBottom"/>
            <a:pathLst>
              <a:path w="1244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0897" y="21600"/>
                </a:lnTo>
                <a:arcTo wR="3600" hR="3600" stAng="10800000" swAng="5400000"/>
                <a:lnTo>
                  <a:pt x="124497" y="3600"/>
                </a:lnTo>
                <a:arcTo wR="3600" hR="3600" stAng="5400000" swAng="5400000"/>
                <a:close/>
              </a:path>
            </a:pathLst>
          </a:custGeom>
          <a:solidFill>
            <a:srgbClr val="cc99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5"/>
          <p:cNvSpPr/>
          <p:nvPr/>
        </p:nvSpPr>
        <p:spPr>
          <a:xfrm>
            <a:off x="6473880" y="1862280"/>
            <a:ext cx="2598840" cy="3805200"/>
          </a:xfrm>
          <a:custGeom>
            <a:avLst/>
            <a:gdLst>
              <a:gd name="textAreaLeft" fmla="*/ 63000 w 2598840"/>
              <a:gd name="textAreaRight" fmla="*/ 2535840 w 2598840"/>
              <a:gd name="textAreaTop" fmla="*/ 63000 h 3805200"/>
              <a:gd name="textAreaBottom" fmla="*/ 3742200 h 3805200"/>
            </a:gdLst>
            <a:ahLst/>
            <a:rect l="textAreaLeft" t="textAreaTop" r="textAreaRight" b="textAreaBottom"/>
            <a:pathLst>
              <a:path w="21600" h="31625">
                <a:moveTo>
                  <a:pt x="1788" y="0"/>
                </a:moveTo>
                <a:arcTo wR="1788" hR="1788" stAng="16200000" swAng="-5400000"/>
                <a:lnTo>
                  <a:pt x="0" y="29837"/>
                </a:lnTo>
                <a:arcTo wR="1788" hR="1788" stAng="10800000" swAng="-5400000"/>
                <a:lnTo>
                  <a:pt x="19812" y="3162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6"/>
          <p:cNvSpPr/>
          <p:nvPr/>
        </p:nvSpPr>
        <p:spPr>
          <a:xfrm>
            <a:off x="3524400" y="1862280"/>
            <a:ext cx="2885760" cy="3816360"/>
          </a:xfrm>
          <a:custGeom>
            <a:avLst/>
            <a:gdLst>
              <a:gd name="textAreaLeft" fmla="*/ 69840 w 2885760"/>
              <a:gd name="textAreaRight" fmla="*/ 2815920 w 2885760"/>
              <a:gd name="textAreaTop" fmla="*/ 69840 h 3816360"/>
              <a:gd name="textAreaBottom" fmla="*/ 3746520 h 3816360"/>
            </a:gdLst>
            <a:ahLst/>
            <a:rect l="textAreaLeft" t="textAreaTop" r="textAreaRight" b="textAreaBottom"/>
            <a:pathLst>
              <a:path w="21600" h="28565">
                <a:moveTo>
                  <a:pt x="1788" y="0"/>
                </a:moveTo>
                <a:arcTo wR="1788" hR="1788" stAng="16200000" swAng="-5400000"/>
                <a:lnTo>
                  <a:pt x="0" y="26777"/>
                </a:lnTo>
                <a:arcTo wR="1788" hR="1788" stAng="10800000" swAng="-5400000"/>
                <a:lnTo>
                  <a:pt x="19812" y="2856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5"/>
          <p:cNvSpPr/>
          <p:nvPr/>
        </p:nvSpPr>
        <p:spPr>
          <a:xfrm>
            <a:off x="119160" y="1839960"/>
            <a:ext cx="3311280" cy="4684680"/>
          </a:xfrm>
          <a:custGeom>
            <a:avLst/>
            <a:gdLst>
              <a:gd name="textAreaLeft" fmla="*/ 90360 w 3311280"/>
              <a:gd name="textAreaRight" fmla="*/ 3220920 w 3311280"/>
              <a:gd name="textAreaTop" fmla="*/ 90360 h 4684680"/>
              <a:gd name="textAreaBottom" fmla="*/ 4594320 h 4684680"/>
            </a:gdLst>
            <a:ahLst/>
            <a:rect l="textAreaLeft" t="textAreaTop" r="textAreaRight" b="textAreaBottom"/>
            <a:pathLst>
              <a:path w="21600" h="30558">
                <a:moveTo>
                  <a:pt x="2019" y="0"/>
                </a:moveTo>
                <a:arcTo wR="2019" hR="2019" stAng="16200000" swAng="-5400000"/>
                <a:lnTo>
                  <a:pt x="0" y="28539"/>
                </a:lnTo>
                <a:arcTo wR="2019" hR="2019" stAng="10800000" swAng="-5400000"/>
                <a:lnTo>
                  <a:pt x="19581" y="30558"/>
                </a:lnTo>
                <a:arcTo wR="2019" hR="2019" stAng="5400000" swAng="-5400000"/>
                <a:lnTo>
                  <a:pt x="21600" y="2019"/>
                </a:lnTo>
                <a:arcTo wR="2019" hR="2019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982800" y="1890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3795840" y="1862280"/>
            <a:ext cx="24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ліго(ди)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6877080" y="1844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лі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179280" y="22003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      А      Х      А      Р      И      Д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190440" y="3335400"/>
            <a:ext cx="32400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3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ріози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ВК, молочна к-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4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етроз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5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Пентози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6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ексози</a:t>
            </a:r>
            <a:r>
              <a:rPr b="0" lang="ru-RU" sz="16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, 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3686040" y="3373560"/>
            <a:ext cx="258300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Сахар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Маль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Лак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0"/>
          <p:cNvSpPr/>
          <p:nvPr/>
        </p:nvSpPr>
        <p:spPr>
          <a:xfrm>
            <a:off x="6821640" y="3444840"/>
            <a:ext cx="2016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Крахм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Целюлоз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лікоге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Хіт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8"/>
          <p:cNvSpPr/>
          <p:nvPr/>
        </p:nvSpPr>
        <p:spPr>
          <a:xfrm>
            <a:off x="1343160" y="2825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9"/>
          <p:cNvSpPr/>
          <p:nvPr/>
        </p:nvSpPr>
        <p:spPr>
          <a:xfrm>
            <a:off x="4300560" y="2868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0"/>
          <p:cNvSpPr/>
          <p:nvPr/>
        </p:nvSpPr>
        <p:spPr>
          <a:xfrm>
            <a:off x="6372360" y="29415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+…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2"/>
          <p:cNvSpPr/>
          <p:nvPr/>
        </p:nvSpPr>
        <p:spPr>
          <a:xfrm>
            <a:off x="1547640" y="115920"/>
            <a:ext cx="6139080" cy="792000"/>
          </a:xfrm>
          <a:custGeom>
            <a:avLst/>
            <a:gdLst>
              <a:gd name="textAreaLeft" fmla="*/ 143280 w 6139080"/>
              <a:gd name="textAreaRight" fmla="*/ 5995800 w 613908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6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36" y="21600"/>
                </a:lnTo>
                <a:arcTo wR="5527" hR="5527" stAng="10800000" swAng="5400000"/>
                <a:lnTo>
                  <a:pt x="16736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3"/>
          <p:cNvSpPr/>
          <p:nvPr/>
        </p:nvSpPr>
        <p:spPr>
          <a:xfrm>
            <a:off x="1692360" y="1159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52"/>
          <p:cNvSpPr txBox="1"/>
          <p:nvPr/>
        </p:nvSpPr>
        <p:spPr>
          <a:xfrm>
            <a:off x="534960" y="1473120"/>
            <a:ext cx="252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Прості</a:t>
            </a:r>
            <a:endParaRPr b="0" lang="en-US" sz="16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557" name="WordArt 53"/>
          <p:cNvSpPr txBox="1"/>
          <p:nvPr/>
        </p:nvSpPr>
        <p:spPr>
          <a:xfrm>
            <a:off x="5003640" y="1484280"/>
            <a:ext cx="2594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Складні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558" name="Text Box 57"/>
          <p:cNvSpPr/>
          <p:nvPr/>
        </p:nvSpPr>
        <p:spPr>
          <a:xfrm>
            <a:off x="3797280" y="58611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сіх углеводів є карбонільна гру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8" descr="04_00"/>
          <p:cNvPicPr/>
          <p:nvPr/>
        </p:nvPicPr>
        <p:blipFill>
          <a:blip r:embed="rId1"/>
          <a:stretch/>
        </p:blipFill>
        <p:spPr>
          <a:xfrm>
            <a:off x="7562880" y="5827680"/>
            <a:ext cx="982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38"/>
          <p:cNvSpPr/>
          <p:nvPr/>
        </p:nvSpPr>
        <p:spPr>
          <a:xfrm>
            <a:off x="5911920" y="5162400"/>
            <a:ext cx="3097080" cy="16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1"/>
          <p:cNvSpPr/>
          <p:nvPr/>
        </p:nvSpPr>
        <p:spPr>
          <a:xfrm>
            <a:off x="108000" y="892080"/>
            <a:ext cx="8856720" cy="808200"/>
          </a:xfrm>
          <a:custGeom>
            <a:avLst/>
            <a:gdLst>
              <a:gd name="textAreaLeft" fmla="*/ 95040 w 8856720"/>
              <a:gd name="textAreaRight" fmla="*/ 8761680 w 8856720"/>
              <a:gd name="textAreaTop" fmla="*/ 95040 h 808200"/>
              <a:gd name="textAreaBottom" fmla="*/ 713160 h 808200"/>
            </a:gdLst>
            <a:ahLst/>
            <a:rect l="textAreaLeft" t="textAreaTop" r="textAreaRight" b="textAreaBottom"/>
            <a:pathLst>
              <a:path w="2366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3009" y="21600"/>
                </a:lnTo>
                <a:arcTo wR="3600" hR="3600" stAng="10800000" swAng="5400000"/>
                <a:lnTo>
                  <a:pt x="2366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орюються з води (Н2О) и вуглекислий газу (СО2) в проце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синтезу, что відбувається в хлоропластах зелених рос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04_07а"/>
          <p:cNvPicPr/>
          <p:nvPr/>
        </p:nvPicPr>
        <p:blipFill>
          <a:blip r:embed="rId1"/>
          <a:stretch/>
        </p:blipFill>
        <p:spPr>
          <a:xfrm>
            <a:off x="5761080" y="2403360"/>
            <a:ext cx="1125360" cy="22496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3" name="Text Box 5"/>
          <p:cNvSpPr/>
          <p:nvPr/>
        </p:nvSpPr>
        <p:spPr>
          <a:xfrm>
            <a:off x="2268360" y="465300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іній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2484360" y="184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Ф р у к т о з 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5867280" y="1844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 л ю к о з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04_07Б"/>
          <p:cNvPicPr/>
          <p:nvPr/>
        </p:nvPicPr>
        <p:blipFill>
          <a:blip r:embed="rId2"/>
          <a:stretch/>
        </p:blipFill>
        <p:spPr>
          <a:xfrm>
            <a:off x="2411280" y="2421000"/>
            <a:ext cx="1146240" cy="223200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7" name="Text Box 10"/>
          <p:cNvSpPr/>
          <p:nvPr/>
        </p:nvSpPr>
        <p:spPr>
          <a:xfrm>
            <a:off x="363600" y="9828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ОНО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2"/>
          <p:cNvSpPr/>
          <p:nvPr/>
        </p:nvSpPr>
        <p:spPr>
          <a:xfrm>
            <a:off x="179280" y="1844640"/>
            <a:ext cx="8785440" cy="3168720"/>
          </a:xfrm>
          <a:prstGeom prst="roundRect">
            <a:avLst>
              <a:gd name="adj" fmla="val 6944"/>
            </a:avLst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4"/>
          <p:cNvSpPr/>
          <p:nvPr/>
        </p:nvSpPr>
        <p:spPr>
          <a:xfrm>
            <a:off x="2268360" y="4437000"/>
            <a:ext cx="28764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108000" y="501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Властив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179280" y="5516640"/>
            <a:ext cx="521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Без кольору, легко розчинні, солодкі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7"/>
          <p:cNvSpPr/>
          <p:nvPr/>
        </p:nvSpPr>
        <p:spPr>
          <a:xfrm>
            <a:off x="1544760" y="5985000"/>
            <a:ext cx="3819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кристалізуються, проходять через мембра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8"/>
          <p:cNvSpPr txBox="1"/>
          <p:nvPr/>
        </p:nvSpPr>
        <p:spPr>
          <a:xfrm>
            <a:off x="214200" y="6102360"/>
            <a:ext cx="13701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ЕГ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574" name="Picture 22" descr="углеводы"/>
          <p:cNvPicPr/>
          <p:nvPr/>
        </p:nvPicPr>
        <p:blipFill>
          <a:blip r:embed="rId3"/>
          <a:srcRect l="43656" t="2756" r="26208" b="86137"/>
          <a:stretch/>
        </p:blipFill>
        <p:spPr>
          <a:xfrm>
            <a:off x="3780000" y="2565360"/>
            <a:ext cx="1726920" cy="135108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5" name="Picture 25" descr="углеводы"/>
          <p:cNvPicPr/>
          <p:nvPr/>
        </p:nvPicPr>
        <p:blipFill>
          <a:blip r:embed="rId4"/>
          <a:srcRect l="21833" t="2756" r="54340" b="86137"/>
          <a:stretch/>
        </p:blipFill>
        <p:spPr>
          <a:xfrm>
            <a:off x="324000" y="2565360"/>
            <a:ext cx="1728720" cy="172548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6" name="Text Box 28"/>
          <p:cNvSpPr/>
          <p:nvPr/>
        </p:nvSpPr>
        <p:spPr>
          <a:xfrm>
            <a:off x="3708360" y="407664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ічна 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9"/>
          <p:cNvSpPr/>
          <p:nvPr/>
        </p:nvSpPr>
        <p:spPr>
          <a:xfrm>
            <a:off x="5435640" y="4653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іній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0"/>
          <p:cNvSpPr/>
          <p:nvPr/>
        </p:nvSpPr>
        <p:spPr>
          <a:xfrm>
            <a:off x="702000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ічна 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1"/>
          <p:cNvSpPr/>
          <p:nvPr/>
        </p:nvSpPr>
        <p:spPr>
          <a:xfrm>
            <a:off x="250920" y="184464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алактоз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2"/>
          <p:cNvSpPr/>
          <p:nvPr/>
        </p:nvSpPr>
        <p:spPr>
          <a:xfrm>
            <a:off x="3708360" y="378936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3"/>
          <p:cNvSpPr/>
          <p:nvPr/>
        </p:nvSpPr>
        <p:spPr>
          <a:xfrm>
            <a:off x="5651640" y="4508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5"/>
          <p:cNvSpPr/>
          <p:nvPr/>
        </p:nvSpPr>
        <p:spPr>
          <a:xfrm>
            <a:off x="5850000" y="5294160"/>
            <a:ext cx="320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Є важливим компонентом енергії для будь-якої                 кліт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7" descr="119694335"/>
          <p:cNvPicPr/>
          <p:nvPr/>
        </p:nvPicPr>
        <p:blipFill>
          <a:blip r:embed="rId5"/>
          <a:stretch/>
        </p:blipFill>
        <p:spPr>
          <a:xfrm>
            <a:off x="7292880" y="2359080"/>
            <a:ext cx="1309680" cy="229392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4" name="AutoShape 34"/>
          <p:cNvSpPr/>
          <p:nvPr/>
        </p:nvSpPr>
        <p:spPr>
          <a:xfrm>
            <a:off x="7164360" y="4508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9"/>
          <p:cNvSpPr/>
          <p:nvPr/>
        </p:nvSpPr>
        <p:spPr>
          <a:xfrm>
            <a:off x="5219640" y="5373720"/>
            <a:ext cx="647640" cy="1297080"/>
          </a:xfrm>
          <a:prstGeom prst="rightArrow">
            <a:avLst>
              <a:gd name="adj1" fmla="val 57157"/>
              <a:gd name="adj2" fmla="val 5939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4"/>
          <p:cNvSpPr/>
          <p:nvPr/>
        </p:nvSpPr>
        <p:spPr>
          <a:xfrm>
            <a:off x="108000" y="892080"/>
            <a:ext cx="8856720" cy="808200"/>
          </a:xfrm>
          <a:custGeom>
            <a:avLst/>
            <a:gdLst>
              <a:gd name="textAreaLeft" fmla="*/ 95040 w 8856720"/>
              <a:gd name="textAreaRight" fmla="*/ 8761680 w 8856720"/>
              <a:gd name="textAreaTop" fmla="*/ 95040 h 808200"/>
              <a:gd name="textAreaBottom" fmla="*/ 713160 h 808200"/>
            </a:gdLst>
            <a:ahLst/>
            <a:rect l="textAreaLeft" t="textAreaTop" r="textAreaRight" b="textAreaBottom"/>
            <a:pathLst>
              <a:path w="2366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3009" y="21600"/>
                </a:lnTo>
                <a:arcTo wR="3600" hR="3600" stAng="10800000" swAng="5400000"/>
                <a:lnTo>
                  <a:pt x="2366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екули моносахаридів - лінійні ланцюжка атомів вуглец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розчинах приймають циклічну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611280" y="1916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Рибоз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2894040" y="189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63600" y="98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оно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>
            <a:off x="179280" y="1844640"/>
            <a:ext cx="8785440" cy="3529080"/>
          </a:xfrm>
          <a:prstGeom prst="roundRect">
            <a:avLst>
              <a:gd name="adj" fmla="val 6944"/>
            </a:avLst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108000" y="558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ласти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3132000" y="551664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4503600" y="59356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исталізуються,                                 проходять через мемб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19"/>
          <p:cNvSpPr txBox="1"/>
          <p:nvPr/>
        </p:nvSpPr>
        <p:spPr>
          <a:xfrm>
            <a:off x="3154320" y="6048360"/>
            <a:ext cx="137016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ЕГ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595" name="Picture 21" descr="углеводы"/>
          <p:cNvPicPr/>
          <p:nvPr/>
        </p:nvPicPr>
        <p:blipFill>
          <a:blip r:embed="rId1"/>
          <a:srcRect l="31733" t="15113" r="43835" b="74511"/>
          <a:stretch/>
        </p:blipFill>
        <p:spPr>
          <a:xfrm>
            <a:off x="3054240" y="2711520"/>
            <a:ext cx="2662200" cy="2422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96" name="Picture 22" descr="углеводы"/>
          <p:cNvPicPr/>
          <p:nvPr/>
        </p:nvPicPr>
        <p:blipFill>
          <a:blip r:embed="rId2"/>
          <a:srcRect l="7946" t="15113" r="68277" b="74511"/>
          <a:stretch/>
        </p:blipFill>
        <p:spPr>
          <a:xfrm>
            <a:off x="324000" y="2746440"/>
            <a:ext cx="2592360" cy="2422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597" name="Text Box 23"/>
          <p:cNvSpPr/>
          <p:nvPr/>
        </p:nvSpPr>
        <p:spPr>
          <a:xfrm>
            <a:off x="5940360" y="2637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ходять до  складу нуклеїнових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4"/>
          <p:cNvSpPr/>
          <p:nvPr/>
        </p:nvSpPr>
        <p:spPr>
          <a:xfrm flipV="1">
            <a:off x="1476360" y="2492280"/>
            <a:ext cx="431640" cy="216000"/>
          </a:xfrm>
          <a:prstGeom prst="triangle">
            <a:avLst>
              <a:gd name="adj" fmla="val 50000"/>
            </a:avLst>
          </a:prstGeom>
          <a:solidFill>
            <a:srgbClr val="e8d1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5"/>
          <p:cNvSpPr/>
          <p:nvPr/>
        </p:nvSpPr>
        <p:spPr>
          <a:xfrm flipV="1">
            <a:off x="4211640" y="2492280"/>
            <a:ext cx="431640" cy="216000"/>
          </a:xfrm>
          <a:prstGeom prst="triangle">
            <a:avLst>
              <a:gd name="adj" fmla="val 50000"/>
            </a:avLst>
          </a:prstGeom>
          <a:solidFill>
            <a:srgbClr val="e8d1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3195360" y="5516640"/>
            <a:ext cx="44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з кольору, легко розчинні, солод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10"/>
          <p:cNvSpPr/>
          <p:nvPr/>
        </p:nvSpPr>
        <p:spPr>
          <a:xfrm>
            <a:off x="1187280" y="4797360"/>
            <a:ext cx="3529080" cy="186912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Без коль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олодк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озчи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3"/>
          <p:cNvSpPr/>
          <p:nvPr/>
        </p:nvSpPr>
        <p:spPr>
          <a:xfrm>
            <a:off x="682560" y="443700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Ди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4859280" y="115920"/>
            <a:ext cx="403236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С а х а р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фру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 а л ь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лю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Л а к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ала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sugar_trading_broker"/>
          <p:cNvPicPr/>
          <p:nvPr/>
        </p:nvPicPr>
        <p:blipFill>
          <a:blip r:embed="rId1"/>
          <a:stretch/>
        </p:blipFill>
        <p:spPr>
          <a:xfrm>
            <a:off x="608040" y="1090440"/>
            <a:ext cx="4174920" cy="31291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606" name="Text Box 9"/>
          <p:cNvSpPr/>
          <p:nvPr/>
        </p:nvSpPr>
        <p:spPr>
          <a:xfrm>
            <a:off x="682560" y="4365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Властивост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углеводы"/>
          <p:cNvPicPr/>
          <p:nvPr/>
        </p:nvPicPr>
        <p:blipFill>
          <a:blip r:embed="rId2"/>
          <a:srcRect l="0" t="37091" r="56701" b="50412"/>
          <a:stretch/>
        </p:blipFill>
        <p:spPr>
          <a:xfrm>
            <a:off x="6084720" y="3213000"/>
            <a:ext cx="2160720" cy="12225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8" name="Picture 15" descr="углеводы"/>
          <p:cNvPicPr/>
          <p:nvPr/>
        </p:nvPicPr>
        <p:blipFill>
          <a:blip r:embed="rId3"/>
          <a:srcRect l="21575" t="54229" r="25494" b="33191"/>
          <a:stretch/>
        </p:blipFill>
        <p:spPr>
          <a:xfrm>
            <a:off x="6060960" y="1052640"/>
            <a:ext cx="2160720" cy="11588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9" name="Picture 16" descr="углеводы"/>
          <p:cNvPicPr/>
          <p:nvPr/>
        </p:nvPicPr>
        <p:blipFill>
          <a:blip r:embed="rId4"/>
          <a:srcRect l="53546" t="37091" r="0" b="50412"/>
          <a:stretch/>
        </p:blipFill>
        <p:spPr>
          <a:xfrm>
            <a:off x="6084720" y="5445000"/>
            <a:ext cx="2265480" cy="12146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3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0" descr="04_07е"/>
          <p:cNvPicPr/>
          <p:nvPr/>
        </p:nvPicPr>
        <p:blipFill>
          <a:blip r:embed="rId1"/>
          <a:stretch/>
        </p:blipFill>
        <p:spPr>
          <a:xfrm rot="201600">
            <a:off x="1042920" y="2421000"/>
            <a:ext cx="3024360" cy="4381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3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324000" y="112536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Целюлоз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9" descr="клетка Гук"/>
          <p:cNvPicPr/>
          <p:nvPr/>
        </p:nvPicPr>
        <p:blipFill>
          <a:blip r:embed="rId2"/>
          <a:stretch/>
        </p:blipFill>
        <p:spPr>
          <a:xfrm>
            <a:off x="5724360" y="2781360"/>
            <a:ext cx="3281400" cy="24652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14" name="Picture 21" descr="difference-plant-animal-cell-division-800X800"/>
          <p:cNvPicPr/>
          <p:nvPr/>
        </p:nvPicPr>
        <p:blipFill>
          <a:blip r:embed="rId3"/>
          <a:stretch/>
        </p:blipFill>
        <p:spPr>
          <a:xfrm>
            <a:off x="5724360" y="115920"/>
            <a:ext cx="3260880" cy="24462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615" name="Text Box 24"/>
          <p:cNvSpPr/>
          <p:nvPr/>
        </p:nvSpPr>
        <p:spPr>
          <a:xfrm>
            <a:off x="169920" y="2878200"/>
            <a:ext cx="5297400" cy="91692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25"/>
              </a:spcBef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и мають лінійну (нерозгалужену) будову, внаслідок чого целюлоза легко утворює вол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021"/>
          <p:cNvPicPr/>
          <p:nvPr/>
        </p:nvPicPr>
        <p:blipFill>
          <a:blip r:embed="rId4"/>
          <a:srcRect l="0" t="0" r="55168" b="0"/>
          <a:stretch/>
        </p:blipFill>
        <p:spPr>
          <a:xfrm>
            <a:off x="1042920" y="3981600"/>
            <a:ext cx="2808360" cy="12477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6" descr="021"/>
          <p:cNvPicPr/>
          <p:nvPr/>
        </p:nvPicPr>
        <p:blipFill>
          <a:blip r:embed="rId5"/>
          <a:srcRect l="57310" t="0" r="0" b="0"/>
          <a:stretch/>
        </p:blipFill>
        <p:spPr>
          <a:xfrm>
            <a:off x="2894040" y="5384880"/>
            <a:ext cx="2822400" cy="131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18" name="Rectangle 27"/>
          <p:cNvSpPr/>
          <p:nvPr/>
        </p:nvSpPr>
        <p:spPr>
          <a:xfrm>
            <a:off x="150840" y="1755720"/>
            <a:ext cx="5334120" cy="36828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кольору, легко розчинні, солод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3"/>
          <p:cNvSpPr/>
          <p:nvPr/>
        </p:nvSpPr>
        <p:spPr>
          <a:xfrm>
            <a:off x="5867280" y="5226120"/>
            <a:ext cx="3127320" cy="161856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 неї складаються стінки рослинних клітин. Виконує опорну і захисну функці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4" descr="021"/>
          <p:cNvPicPr/>
          <p:nvPr/>
        </p:nvPicPr>
        <p:blipFill>
          <a:blip r:embed="rId6"/>
          <a:srcRect l="52310" t="0" r="5355" b="0"/>
          <a:stretch/>
        </p:blipFill>
        <p:spPr>
          <a:xfrm>
            <a:off x="109440" y="5381640"/>
            <a:ext cx="2799000" cy="13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21" name="Line 35"/>
          <p:cNvSpPr/>
          <p:nvPr/>
        </p:nvSpPr>
        <p:spPr>
          <a:xfrm>
            <a:off x="2627280" y="5013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" descr="04_07д"/>
          <p:cNvPicPr/>
          <p:nvPr/>
        </p:nvPicPr>
        <p:blipFill>
          <a:blip r:embed="rId1"/>
          <a:stretch/>
        </p:blipFill>
        <p:spPr>
          <a:xfrm>
            <a:off x="6659640" y="291960"/>
            <a:ext cx="2305080" cy="19400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907920"/>
            <a:ext cx="3456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313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Arial Black"/>
              </a:rPr>
              <a:t>Крохмал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6" descr="Копия encyclopediyaRU-32_596-0"/>
          <p:cNvPicPr/>
          <p:nvPr/>
        </p:nvPicPr>
        <p:blipFill>
          <a:blip r:embed="rId2"/>
          <a:stretch/>
        </p:blipFill>
        <p:spPr>
          <a:xfrm>
            <a:off x="69840" y="2340000"/>
            <a:ext cx="5197320" cy="4471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8" descr="starchsynthesis1"/>
          <p:cNvPicPr/>
          <p:nvPr/>
        </p:nvPicPr>
        <p:blipFill>
          <a:blip r:embed="rId3"/>
          <a:stretch/>
        </p:blipFill>
        <p:spPr>
          <a:xfrm>
            <a:off x="69840" y="1552680"/>
            <a:ext cx="6589800" cy="7840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крахмальные зерна"/>
          <p:cNvPicPr/>
          <p:nvPr/>
        </p:nvPicPr>
        <p:blipFill>
          <a:blip r:embed="rId4"/>
          <a:stretch/>
        </p:blipFill>
        <p:spPr>
          <a:xfrm>
            <a:off x="5292720" y="2367000"/>
            <a:ext cx="3824280" cy="277344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1"/>
          <p:cNvSpPr/>
          <p:nvPr/>
        </p:nvSpPr>
        <p:spPr>
          <a:xfrm>
            <a:off x="5364000" y="5191200"/>
            <a:ext cx="3672000" cy="1618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ідкладається у вигляді включень і служить запасним енергетичним речовиною рослинної клі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Копия glycogen"/>
          <p:cNvPicPr/>
          <p:nvPr/>
        </p:nvPicPr>
        <p:blipFill>
          <a:blip r:embed="rId1"/>
          <a:srcRect l="8032" t="32079" r="8528" b="20850"/>
          <a:stretch/>
        </p:blipFill>
        <p:spPr>
          <a:xfrm>
            <a:off x="3814920" y="1125360"/>
            <a:ext cx="5329080" cy="2254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0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179280" y="9079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Гліког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1" descr="Копия glycogen"/>
          <p:cNvPicPr/>
          <p:nvPr/>
        </p:nvPicPr>
        <p:blipFill>
          <a:blip r:embed="rId2"/>
          <a:srcRect l="64171" t="6417" r="6933" b="55055"/>
          <a:stretch/>
        </p:blipFill>
        <p:spPr>
          <a:xfrm>
            <a:off x="7004160" y="200160"/>
            <a:ext cx="2016000" cy="201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3" name="Picture 13" descr="15"/>
          <p:cNvPicPr/>
          <p:nvPr/>
        </p:nvPicPr>
        <p:blipFill>
          <a:blip r:embed="rId3"/>
          <a:stretch/>
        </p:blipFill>
        <p:spPr>
          <a:xfrm>
            <a:off x="4284720" y="3510000"/>
            <a:ext cx="4767120" cy="322092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5"/>
          <p:cNvSpPr/>
          <p:nvPr/>
        </p:nvSpPr>
        <p:spPr>
          <a:xfrm>
            <a:off x="324000" y="357336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179280" y="1628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екула складається приблизно з 30 000 залишків глюко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179280" y="2708280"/>
            <a:ext cx="345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структурою нагадує крохмаль, але сильніше розгалужена і краще розчиняється в во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ідкладається у вигляді включень і служить запасною енергетичною речовиною тваринної кліт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1" descr="хитин"/>
          <p:cNvPicPr/>
          <p:nvPr/>
        </p:nvPicPr>
        <p:blipFill>
          <a:blip r:embed="rId1"/>
          <a:stretch/>
        </p:blipFill>
        <p:spPr>
          <a:xfrm>
            <a:off x="2771640" y="1268280"/>
            <a:ext cx="6193080" cy="25210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250920" y="105264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Хіти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8" descr="94325"/>
          <p:cNvPicPr/>
          <p:nvPr/>
        </p:nvPicPr>
        <p:blipFill>
          <a:blip r:embed="rId2"/>
          <a:stretch/>
        </p:blipFill>
        <p:spPr>
          <a:xfrm>
            <a:off x="7524720" y="189000"/>
            <a:ext cx="1476360" cy="14414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0" descr="temp3_for_sitem"/>
          <p:cNvPicPr/>
          <p:nvPr/>
        </p:nvPicPr>
        <p:blipFill>
          <a:blip r:embed="rId3"/>
          <a:stretch/>
        </p:blipFill>
        <p:spPr>
          <a:xfrm>
            <a:off x="2771640" y="3789360"/>
            <a:ext cx="6191280" cy="15001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7"/>
          <p:cNvSpPr/>
          <p:nvPr/>
        </p:nvSpPr>
        <p:spPr>
          <a:xfrm>
            <a:off x="440280" y="1504800"/>
            <a:ext cx="19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8" descr="167477_1s"/>
          <p:cNvPicPr/>
          <p:nvPr/>
        </p:nvPicPr>
        <p:blipFill>
          <a:blip r:embed="rId4"/>
          <a:stretch/>
        </p:blipFill>
        <p:spPr>
          <a:xfrm>
            <a:off x="4960800" y="5300640"/>
            <a:ext cx="1967040" cy="1513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9" descr="хитин"/>
          <p:cNvPicPr/>
          <p:nvPr/>
        </p:nvPicPr>
        <p:blipFill>
          <a:blip r:embed="rId5"/>
          <a:stretch/>
        </p:blipFill>
        <p:spPr>
          <a:xfrm>
            <a:off x="2808360" y="5311800"/>
            <a:ext cx="2070000" cy="1471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0" descr="z3u8wUT9"/>
          <p:cNvPicPr/>
          <p:nvPr/>
        </p:nvPicPr>
        <p:blipFill>
          <a:blip r:embed="rId6"/>
          <a:stretch/>
        </p:blipFill>
        <p:spPr>
          <a:xfrm>
            <a:off x="6988320" y="5310360"/>
            <a:ext cx="1990440" cy="14936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1"/>
          <p:cNvSpPr/>
          <p:nvPr/>
        </p:nvSpPr>
        <p:spPr>
          <a:xfrm>
            <a:off x="250920" y="2133720"/>
            <a:ext cx="223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рганічна речовина з групи полісахаридів, яка утворює зовнішній твердий покрив і скелет членистоногих, грибів і бактерій і входить в клітинні оболо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7f7f7f"/>
                </a:solidFill>
                <a:latin typeface="Book Antiqua"/>
              </a:rPr>
              <a:t>МЕТА УРОКУ: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4920" y="141264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90000"/>
              </a:lnSpc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4b3c"/>
                </a:solidFill>
                <a:latin typeface="Century Gothic"/>
              </a:rPr>
              <a:t>Виявити, які процеси стали якісним кроком від неживої до живої природи, які вивчають вчені на молекулярному рівні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442800" indent="-442800">
              <a:lnSpc>
                <a:spcPct val="90000"/>
              </a:lnSpc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4b3c"/>
                </a:solidFill>
                <a:latin typeface="Century Gothic"/>
              </a:rPr>
              <a:t>Вивчити склад будову і функції вуглеводів, ліпідів, білків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4"/>
          <p:cNvSpPr/>
          <p:nvPr/>
        </p:nvSpPr>
        <p:spPr>
          <a:xfrm>
            <a:off x="87480" y="4076640"/>
            <a:ext cx="8964360" cy="2581200"/>
          </a:xfrm>
          <a:prstGeom prst="octagon">
            <a:avLst>
              <a:gd name="adj" fmla="val 11190"/>
            </a:avLst>
          </a:prstGeom>
          <a:solidFill>
            <a:srgbClr val="ccffcc"/>
          </a:solidFill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179280" y="1052640"/>
            <a:ext cx="8863200" cy="1584360"/>
          </a:xfrm>
          <a:prstGeom prst="roundRect">
            <a:avLst>
              <a:gd name="adj" fmla="val 12523"/>
            </a:avLst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3564000" y="587700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3708360" y="544500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2484360" y="4797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>
            <a:off x="2050920" y="4292640"/>
            <a:ext cx="39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356000" y="4221000"/>
            <a:ext cx="870120" cy="2303640"/>
          </a:xfrm>
          <a:custGeom>
            <a:avLst/>
            <a:gdLst>
              <a:gd name="textAreaLeft" fmla="*/ 127440 w 870120"/>
              <a:gd name="textAreaRight" fmla="*/ 742680 w 870120"/>
              <a:gd name="textAreaTop" fmla="*/ 127440 h 2303640"/>
              <a:gd name="textAreaBottom" fmla="*/ 2176200 h 2303640"/>
            </a:gdLst>
            <a:ahLst/>
            <a:rect l="textAreaLeft" t="textAreaTop" r="textAreaRight" b="textAreaBottom"/>
            <a:pathLst>
              <a:path w="21600" h="57171">
                <a:moveTo>
                  <a:pt x="10800" y="0"/>
                </a:moveTo>
                <a:arcTo wR="10800" hR="10800" stAng="16200000" swAng="-5400000"/>
                <a:lnTo>
                  <a:pt x="0" y="46371"/>
                </a:lnTo>
                <a:arcTo wR="10800" hR="10800" stAng="10800000" swAng="-5400000"/>
                <a:lnTo>
                  <a:pt x="10800" y="571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WordArt 26"/>
          <p:cNvSpPr txBox="1"/>
          <p:nvPr/>
        </p:nvSpPr>
        <p:spPr>
          <a:xfrm>
            <a:off x="6084720" y="4724280"/>
            <a:ext cx="720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4356000" y="4941720"/>
            <a:ext cx="9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1"/>
          <p:cNvSpPr/>
          <p:nvPr/>
        </p:nvSpPr>
        <p:spPr>
          <a:xfrm>
            <a:off x="1233360" y="2637000"/>
            <a:ext cx="6794640" cy="1439640"/>
          </a:xfrm>
          <a:prstGeom prst="downArrowCallout">
            <a:avLst>
              <a:gd name="adj1" fmla="val 79193"/>
              <a:gd name="adj2" fmla="val 96666"/>
              <a:gd name="adj3" fmla="val 29991"/>
              <a:gd name="adj4" fmla="val 57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1258920" y="2708280"/>
            <a:ext cx="66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</a:rPr>
              <a:t>Властив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42"/>
          <p:cNvSpPr txBox="1"/>
          <p:nvPr/>
        </p:nvSpPr>
        <p:spPr>
          <a:xfrm>
            <a:off x="250920" y="5157720"/>
            <a:ext cx="100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ЕГКО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9" name="AutoShape 43"/>
          <p:cNvSpPr/>
          <p:nvPr/>
        </p:nvSpPr>
        <p:spPr>
          <a:xfrm>
            <a:off x="1547640" y="115920"/>
            <a:ext cx="6139080" cy="792000"/>
          </a:xfrm>
          <a:custGeom>
            <a:avLst/>
            <a:gdLst>
              <a:gd name="textAreaLeft" fmla="*/ 143280 w 6139080"/>
              <a:gd name="textAreaRight" fmla="*/ 5995800 w 613908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6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36" y="21600"/>
                </a:lnTo>
                <a:arcTo wR="5527" hR="5527" stAng="10800000" swAng="5400000"/>
                <a:lnTo>
                  <a:pt x="16736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4"/>
          <p:cNvSpPr/>
          <p:nvPr/>
        </p:nvSpPr>
        <p:spPr>
          <a:xfrm>
            <a:off x="1692360" y="1159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7"/>
          <p:cNvSpPr/>
          <p:nvPr/>
        </p:nvSpPr>
        <p:spPr>
          <a:xfrm>
            <a:off x="179280" y="1197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МОНО–САХА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5791320" y="121932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ЛІ–САХА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54"/>
          <p:cNvSpPr/>
          <p:nvPr/>
        </p:nvSpPr>
        <p:spPr>
          <a:xfrm>
            <a:off x="324000" y="2637000"/>
            <a:ext cx="1152360" cy="1439640"/>
          </a:xfrm>
          <a:prstGeom prst="downArrow">
            <a:avLst>
              <a:gd name="adj1" fmla="val 55648"/>
              <a:gd name="adj2" fmla="val 403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56"/>
          <p:cNvSpPr/>
          <p:nvPr/>
        </p:nvSpPr>
        <p:spPr>
          <a:xfrm>
            <a:off x="7740720" y="2637000"/>
            <a:ext cx="1152360" cy="1439640"/>
          </a:xfrm>
          <a:prstGeom prst="downArrow">
            <a:avLst>
              <a:gd name="adj1" fmla="val 55648"/>
              <a:gd name="adj2" fmla="val 403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WordArt 57"/>
          <p:cNvSpPr txBox="1"/>
          <p:nvPr/>
        </p:nvSpPr>
        <p:spPr>
          <a:xfrm>
            <a:off x="6877080" y="4149720"/>
            <a:ext cx="1582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сма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6" name="WordArt 60"/>
          <p:cNvSpPr txBox="1"/>
          <p:nvPr/>
        </p:nvSpPr>
        <p:spPr>
          <a:xfrm>
            <a:off x="1370160" y="5291280"/>
            <a:ext cx="20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сталізують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7" name="WordArt 63"/>
          <p:cNvSpPr txBox="1"/>
          <p:nvPr/>
        </p:nvSpPr>
        <p:spPr>
          <a:xfrm>
            <a:off x="1357200" y="5700600"/>
            <a:ext cx="187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ходять чере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8" name="WordArt 64"/>
          <p:cNvSpPr txBox="1"/>
          <p:nvPr/>
        </p:nvSpPr>
        <p:spPr>
          <a:xfrm>
            <a:off x="1365120" y="6010200"/>
            <a:ext cx="12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мбра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9" name="WordArt 65"/>
          <p:cNvSpPr txBox="1"/>
          <p:nvPr/>
        </p:nvSpPr>
        <p:spPr>
          <a:xfrm>
            <a:off x="6877080" y="5300640"/>
            <a:ext cx="20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сталізують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0" name="WordArt 66"/>
          <p:cNvSpPr txBox="1"/>
          <p:nvPr/>
        </p:nvSpPr>
        <p:spPr>
          <a:xfrm>
            <a:off x="6877080" y="5734080"/>
            <a:ext cx="187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ходять чере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1" name="WordArt 67"/>
          <p:cNvSpPr txBox="1"/>
          <p:nvPr/>
        </p:nvSpPr>
        <p:spPr>
          <a:xfrm>
            <a:off x="7021440" y="6021360"/>
            <a:ext cx="12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мбра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2" name="WordArt 70"/>
          <p:cNvSpPr txBox="1"/>
          <p:nvPr/>
        </p:nvSpPr>
        <p:spPr>
          <a:xfrm>
            <a:off x="6877080" y="4724280"/>
            <a:ext cx="1798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зчинн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3" name="WordArt 71"/>
          <p:cNvSpPr txBox="1"/>
          <p:nvPr/>
        </p:nvSpPr>
        <p:spPr>
          <a:xfrm>
            <a:off x="395280" y="4221000"/>
            <a:ext cx="115236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лодк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4" name="WordArt 73"/>
          <p:cNvSpPr txBox="1"/>
          <p:nvPr/>
        </p:nvSpPr>
        <p:spPr>
          <a:xfrm>
            <a:off x="324000" y="4724280"/>
            <a:ext cx="1798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зчин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4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98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8"/>
          <p:cNvSpPr/>
          <p:nvPr/>
        </p:nvSpPr>
        <p:spPr>
          <a:xfrm>
            <a:off x="179280" y="907920"/>
            <a:ext cx="5392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spcBef>
                <a:spcPts val="1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Будівель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нка з целюлози в рослинних клітинах, хітин в скелеті комах і в стінці клітин грибів забезпечують клітинам і організмам міцність, пружність і захист від великої втрати воло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4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6" descr="3Polymery5"/>
          <p:cNvPicPr/>
          <p:nvPr/>
        </p:nvPicPr>
        <p:blipFill>
          <a:blip r:embed="rId1"/>
          <a:stretch/>
        </p:blipFill>
        <p:spPr>
          <a:xfrm>
            <a:off x="5337000" y="2708280"/>
            <a:ext cx="3713400" cy="4076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79" name="Picture 49" descr="img00022_1287582562_full"/>
          <p:cNvPicPr/>
          <p:nvPr/>
        </p:nvPicPr>
        <p:blipFill>
          <a:blip r:embed="rId2"/>
          <a:stretch/>
        </p:blipFill>
        <p:spPr>
          <a:xfrm>
            <a:off x="5551560" y="85680"/>
            <a:ext cx="3463920" cy="258120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680" name="Picture 50" descr="47632052_0_2792_9f8c0208_XL"/>
          <p:cNvPicPr/>
          <p:nvPr/>
        </p:nvPicPr>
        <p:blipFill>
          <a:blip r:embed="rId3"/>
          <a:stretch/>
        </p:blipFill>
        <p:spPr>
          <a:xfrm>
            <a:off x="2916360" y="4735440"/>
            <a:ext cx="2303280" cy="201132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681" name="Picture 51" descr="z3u8wUT9"/>
          <p:cNvPicPr/>
          <p:nvPr/>
        </p:nvPicPr>
        <p:blipFill>
          <a:blip r:embed="rId4"/>
          <a:stretch/>
        </p:blipFill>
        <p:spPr>
          <a:xfrm>
            <a:off x="131760" y="4770360"/>
            <a:ext cx="2664000" cy="20001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6"/>
          <p:cNvSpPr/>
          <p:nvPr/>
        </p:nvSpPr>
        <p:spPr>
          <a:xfrm>
            <a:off x="179280" y="907920"/>
            <a:ext cx="87854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990099"/>
                </a:solidFill>
                <a:latin typeface="Arial Black"/>
              </a:rPr>
              <a:t>Структурна</a:t>
            </a: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сахари можуть           з*єднуватися з жирами, білками і ін. реч.ов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пр.,                                                                        рибоза входить                                                                     до складу всіх                                                                 молекул РНК, а                                                      дезоксирибоза -                                                                         в ДНК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1" descr="nukleinovyekisloty"/>
          <p:cNvPicPr/>
          <p:nvPr/>
        </p:nvPicPr>
        <p:blipFill>
          <a:blip r:embed="rId1"/>
          <a:stretch/>
        </p:blipFill>
        <p:spPr>
          <a:xfrm>
            <a:off x="3995640" y="3068640"/>
            <a:ext cx="5005440" cy="3311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684" name="AutoShape 1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4" descr="нуклеотид"/>
          <p:cNvPicPr/>
          <p:nvPr/>
        </p:nvPicPr>
        <p:blipFill>
          <a:blip r:embed="rId2"/>
          <a:stretch/>
        </p:blipFill>
        <p:spPr>
          <a:xfrm>
            <a:off x="7524720" y="333360"/>
            <a:ext cx="14191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2" descr="6-39_Krahmal_zerna"/>
          <p:cNvPicPr/>
          <p:nvPr/>
        </p:nvPicPr>
        <p:blipFill>
          <a:blip r:embed="rId1"/>
          <a:stretch/>
        </p:blipFill>
        <p:spPr>
          <a:xfrm>
            <a:off x="127080" y="4702320"/>
            <a:ext cx="2716200" cy="2125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688" name="Text Box 4"/>
          <p:cNvSpPr/>
          <p:nvPr/>
        </p:nvSpPr>
        <p:spPr>
          <a:xfrm>
            <a:off x="108000" y="692280"/>
            <a:ext cx="54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пасаю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о-і олігоцукри завдяки своїй розчинності швидко засвоюються клітиною, легко мігрують по організму, тому непридатні для тривалого зберігання. Роль запасу енергії грають величезні нерозчинні в воді молекули полісахаридів. У рослин - крохмаль, а у тварин і грибів - глікоге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" descr="L1D_GLYCOGEN"/>
          <p:cNvPicPr/>
          <p:nvPr/>
        </p:nvPicPr>
        <p:blipFill>
          <a:blip r:embed="rId2"/>
          <a:stretch/>
        </p:blipFill>
        <p:spPr>
          <a:xfrm>
            <a:off x="5478480" y="585720"/>
            <a:ext cx="3564000" cy="28051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90" name="Picture 9" descr="гликоген2"/>
          <p:cNvPicPr/>
          <p:nvPr/>
        </p:nvPicPr>
        <p:blipFill>
          <a:blip r:embed="rId3"/>
          <a:stretch/>
        </p:blipFill>
        <p:spPr>
          <a:xfrm>
            <a:off x="5273640" y="3884760"/>
            <a:ext cx="3745080" cy="2808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91" name="Picture 10" descr="крахм зерна"/>
          <p:cNvPicPr/>
          <p:nvPr/>
        </p:nvPicPr>
        <p:blipFill>
          <a:blip r:embed="rId4"/>
          <a:stretch/>
        </p:blipFill>
        <p:spPr>
          <a:xfrm>
            <a:off x="2068560" y="4351320"/>
            <a:ext cx="3079800" cy="23115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692" name="Text Box 15"/>
          <p:cNvSpPr/>
          <p:nvPr/>
        </p:nvSpPr>
        <p:spPr>
          <a:xfrm>
            <a:off x="5940360" y="342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ікоген в клітинах печі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7"/>
          <p:cNvSpPr/>
          <p:nvPr/>
        </p:nvSpPr>
        <p:spPr>
          <a:xfrm>
            <a:off x="5580000" y="335772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flipV="1">
            <a:off x="8675640" y="357336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108000" y="26028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4"/>
          <p:cNvSpPr/>
          <p:nvPr/>
        </p:nvSpPr>
        <p:spPr>
          <a:xfrm>
            <a:off x="108000" y="765000"/>
            <a:ext cx="878508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Транспорт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рослинах сахароза служить розчинним резервним сахаридами, і транспортною формою, яка легко переноситься по росли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Сигнальная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Є полімери, які входять до                                                                    складу клітинних мем-                                                        бран; вони забезпечують                                                             взаємодію між клітин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Якщо розділені клітини печінки змішати з клітинами нирок, то вони самостійно розійдуться в дві групи завдяки взаимодії  однотипних клітин: клітини нирок з'єднаються в одну групу, а клітини печінки - в іншу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3" descr="Копия ekolen"/>
          <p:cNvPicPr/>
          <p:nvPr/>
        </p:nvPicPr>
        <p:blipFill>
          <a:blip r:embed="rId1"/>
          <a:stretch/>
        </p:blipFill>
        <p:spPr>
          <a:xfrm>
            <a:off x="4643280" y="3068640"/>
            <a:ext cx="4321440" cy="229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0" name="Line 14"/>
          <p:cNvSpPr/>
          <p:nvPr/>
        </p:nvSpPr>
        <p:spPr>
          <a:xfrm>
            <a:off x="6227640" y="3286080"/>
            <a:ext cx="576360" cy="57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 flipH="1">
            <a:off x="4787640" y="3286080"/>
            <a:ext cx="36036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6"/>
          <p:cNvSpPr/>
          <p:nvPr/>
        </p:nvSpPr>
        <p:spPr>
          <a:xfrm flipH="1" flipV="1">
            <a:off x="8317080" y="4509720"/>
            <a:ext cx="28728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7"/>
          <p:cNvSpPr/>
          <p:nvPr/>
        </p:nvSpPr>
        <p:spPr>
          <a:xfrm flipH="1" flipV="1">
            <a:off x="7596360" y="4653000"/>
            <a:ext cx="1008000" cy="504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250920" y="981000"/>
            <a:ext cx="87850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Энергетична (17,6 кДж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179280" y="3716280"/>
            <a:ext cx="8569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хисна («слиз»)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900000" y="184464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но - і олигосахари є важливим джерелом енергії для будь-якої клітини. Розщеплюючись, вони виділяють енергію, яка запасається у вигляді молекул АТФ, які використовується в багатьох процесах життєдіяльності клітини і всього органі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84360" y="4508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'язкі секрети (слиз), які виділяються різними залозами, багаті вуглеводами та їх похідними (наприклад, глікопротеїнами). Вони оберігають стравохід, кишки, шлунок, бронхи від механічних пошкоджень, проникнення шкідливих бактерій і вірус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13311"/>
          <p:cNvPicPr/>
          <p:nvPr/>
        </p:nvPicPr>
        <p:blipFill>
          <a:blip r:embed="rId1"/>
          <a:stretch/>
        </p:blipFill>
        <p:spPr>
          <a:xfrm>
            <a:off x="179280" y="115920"/>
            <a:ext cx="8669520" cy="6502320"/>
          </a:xfrm>
          <a:prstGeom prst="rect">
            <a:avLst/>
          </a:prstGeom>
          <a:ln w="76320">
            <a:solidFill>
              <a:srgbClr val="800080"/>
            </a:solidFill>
            <a:miter/>
          </a:ln>
          <a:effectLst>
            <a:outerShdw dist="216367" dir="2412502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4"/>
          <p:cNvSpPr/>
          <p:nvPr/>
        </p:nvSpPr>
        <p:spPr>
          <a:xfrm>
            <a:off x="1901880" y="5265720"/>
            <a:ext cx="7138800" cy="1474920"/>
          </a:xfrm>
          <a:prstGeom prst="octagon">
            <a:avLst>
              <a:gd name="adj" fmla="val 1742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2627280" y="765000"/>
            <a:ext cx="6415200" cy="4319640"/>
          </a:xfrm>
          <a:prstGeom prst="roundRect">
            <a:avLst>
              <a:gd name="adj" fmla="val 12523"/>
            </a:avLst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7"/>
          <p:cNvSpPr/>
          <p:nvPr/>
        </p:nvSpPr>
        <p:spPr>
          <a:xfrm>
            <a:off x="73080" y="88920"/>
            <a:ext cx="8982000" cy="614520"/>
          </a:xfrm>
          <a:custGeom>
            <a:avLst/>
            <a:gdLst>
              <a:gd name="textAreaLeft" fmla="*/ 111240 w 8982000"/>
              <a:gd name="textAreaRight" fmla="*/ 8870760 w 8982000"/>
              <a:gd name="textAreaTop" fmla="*/ 111240 h 614520"/>
              <a:gd name="textAreaBottom" fmla="*/ 503280 h 614520"/>
            </a:gdLst>
            <a:ahLst/>
            <a:rect l="textAreaLeft" t="textAreaTop" r="textAreaRight" b="textAreaBottom"/>
            <a:pathLst>
              <a:path w="315540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310013" y="21600"/>
                </a:lnTo>
                <a:arcTo wR="5527" hR="5527" stAng="10800000" swAng="5400000"/>
                <a:lnTo>
                  <a:pt x="315540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8"/>
          <p:cNvSpPr/>
          <p:nvPr/>
        </p:nvSpPr>
        <p:spPr>
          <a:xfrm>
            <a:off x="0" y="2060640"/>
            <a:ext cx="2625840" cy="478296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4782960"/>
              <a:gd name="textAreaBottom" fmla="*/ 4783320 h 4782960"/>
            </a:gdLst>
            <a:ahLst/>
            <a:rect l="textAreaLeft" t="textAreaTop" r="textAreaRight" b="textAreaBottom"/>
            <a:pathLst>
              <a:path w="1654" h="3013">
                <a:moveTo>
                  <a:pt x="0" y="0"/>
                </a:moveTo>
                <a:lnTo>
                  <a:pt x="1636" y="210"/>
                </a:lnTo>
                <a:lnTo>
                  <a:pt x="1654" y="207"/>
                </a:lnTo>
                <a:lnTo>
                  <a:pt x="1013" y="3013"/>
                </a:lnTo>
                <a:lnTo>
                  <a:pt x="9" y="3013"/>
                </a:lnTo>
                <a:lnTo>
                  <a:pt x="9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9"/>
          <p:cNvSpPr/>
          <p:nvPr/>
        </p:nvSpPr>
        <p:spPr>
          <a:xfrm>
            <a:off x="5194440" y="6323040"/>
            <a:ext cx="139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4716360" y="609300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3635280" y="5778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2"/>
          <p:cNvSpPr/>
          <p:nvPr/>
        </p:nvSpPr>
        <p:spPr>
          <a:xfrm flipV="1">
            <a:off x="3635280" y="5505120"/>
            <a:ext cx="29116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3"/>
          <p:cNvSpPr/>
          <p:nvPr/>
        </p:nvSpPr>
        <p:spPr>
          <a:xfrm>
            <a:off x="5435640" y="5300640"/>
            <a:ext cx="792000" cy="1368360"/>
          </a:xfrm>
          <a:custGeom>
            <a:avLst/>
            <a:gdLst>
              <a:gd name="textAreaLeft" fmla="*/ 115920 w 792000"/>
              <a:gd name="textAreaRight" fmla="*/ 676080 w 792000"/>
              <a:gd name="textAreaTop" fmla="*/ 115920 h 1368360"/>
              <a:gd name="textAreaBottom" fmla="*/ 1252440 h 1368360"/>
            </a:gdLst>
            <a:ahLst/>
            <a:rect l="textAreaLeft" t="textAreaTop" r="textAreaRight" b="textAreaBottom"/>
            <a:pathLst>
              <a:path w="21600" h="37312">
                <a:moveTo>
                  <a:pt x="10800" y="0"/>
                </a:moveTo>
                <a:arcTo wR="10800" hR="10800" stAng="16200000" swAng="-5400000"/>
                <a:lnTo>
                  <a:pt x="0" y="26512"/>
                </a:lnTo>
                <a:arcTo wR="10800" hR="10800" stAng="10800000" swAng="-5400000"/>
                <a:lnTo>
                  <a:pt x="10800" y="373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235080" y="7452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607212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КЛАД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3192480" y="1413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7"/>
          <p:cNvSpPr/>
          <p:nvPr/>
        </p:nvSpPr>
        <p:spPr>
          <a:xfrm>
            <a:off x="5208480" y="1413000"/>
            <a:ext cx="20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ліго(ди)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8"/>
          <p:cNvSpPr/>
          <p:nvPr/>
        </p:nvSpPr>
        <p:spPr>
          <a:xfrm>
            <a:off x="702000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лі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9"/>
          <p:cNvSpPr/>
          <p:nvPr/>
        </p:nvSpPr>
        <p:spPr>
          <a:xfrm>
            <a:off x="2627280" y="1670040"/>
            <a:ext cx="62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  А      Х      А      Р      И      Д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0"/>
          <p:cNvSpPr/>
          <p:nvPr/>
        </p:nvSpPr>
        <p:spPr>
          <a:xfrm>
            <a:off x="3030480" y="2436840"/>
            <a:ext cx="223200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иоз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ВК, молочна к-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тро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нтоз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ксоз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(глюкоза,         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1"/>
          <p:cNvSpPr/>
          <p:nvPr/>
        </p:nvSpPr>
        <p:spPr>
          <a:xfrm>
            <a:off x="5300640" y="2506680"/>
            <a:ext cx="19861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хар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ль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к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2"/>
          <p:cNvSpPr/>
          <p:nvPr/>
        </p:nvSpPr>
        <p:spPr>
          <a:xfrm>
            <a:off x="7451640" y="2565360"/>
            <a:ext cx="1590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охм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і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і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90800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дкі, легко розчи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2673360" y="58770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ізуються     проход. ч/з мембрани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25"/>
          <p:cNvSpPr txBox="1"/>
          <p:nvPr/>
        </p:nvSpPr>
        <p:spPr>
          <a:xfrm>
            <a:off x="2001960" y="5958000"/>
            <a:ext cx="72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ЕГК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651672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см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7077240" y="55738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чиняються кристалізуются проходять ч/з мемб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WordArt 28"/>
          <p:cNvSpPr txBox="1"/>
          <p:nvPr/>
        </p:nvSpPr>
        <p:spPr>
          <a:xfrm>
            <a:off x="6645240" y="5673600"/>
            <a:ext cx="4334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5435640" y="5589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0" y="3357720"/>
            <a:ext cx="2195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гет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,6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но-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аса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спор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аль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хисна («слиз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1"/>
          <p:cNvSpPr/>
          <p:nvPr/>
        </p:nvSpPr>
        <p:spPr>
          <a:xfrm>
            <a:off x="179280" y="2565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3"/>
          <p:cNvSpPr/>
          <p:nvPr/>
        </p:nvSpPr>
        <p:spPr>
          <a:xfrm>
            <a:off x="4299120" y="4538520"/>
            <a:ext cx="4738680" cy="755640"/>
          </a:xfrm>
          <a:prstGeom prst="downArrowCallout">
            <a:avLst>
              <a:gd name="adj1" fmla="val 95585"/>
              <a:gd name="adj2" fmla="val 156777"/>
              <a:gd name="adj3" fmla="val 16176"/>
              <a:gd name="adj4" fmla="val 7573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4284720" y="4653000"/>
            <a:ext cx="465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ластив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2611440" y="2394000"/>
            <a:ext cx="5745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2976480" y="83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7"/>
          <p:cNvSpPr/>
          <p:nvPr/>
        </p:nvSpPr>
        <p:spPr>
          <a:xfrm flipV="1">
            <a:off x="3552840" y="1268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8"/>
          <p:cNvSpPr/>
          <p:nvPr/>
        </p:nvSpPr>
        <p:spPr>
          <a:xfrm flipV="1">
            <a:off x="630072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9"/>
          <p:cNvSpPr/>
          <p:nvPr/>
        </p:nvSpPr>
        <p:spPr>
          <a:xfrm flipV="1">
            <a:off x="780084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3278160" y="2054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56404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224840" y="206064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+…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43"/>
          <p:cNvSpPr/>
          <p:nvPr/>
        </p:nvSpPr>
        <p:spPr>
          <a:xfrm flipV="1">
            <a:off x="2700360" y="836280"/>
            <a:ext cx="6180120" cy="1566720"/>
          </a:xfrm>
          <a:custGeom>
            <a:avLst/>
            <a:gdLst>
              <a:gd name="textAreaLeft" fmla="*/ 674280 w 6180120"/>
              <a:gd name="textAreaRight" fmla="*/ 5505840 w 6180120"/>
              <a:gd name="textAreaTop" fmla="*/ 171000 h 1566720"/>
              <a:gd name="textAreaBottom" fmla="*/ 139572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3" y="21600"/>
                </a:lnTo>
                <a:lnTo>
                  <a:pt x="204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5884920" y="87480"/>
            <a:ext cx="302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Oval 31"/>
          <p:cNvSpPr/>
          <p:nvPr/>
        </p:nvSpPr>
        <p:spPr>
          <a:xfrm>
            <a:off x="755640" y="1628640"/>
            <a:ext cx="2808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23" descr="Копия sat_fat"/>
          <p:cNvPicPr/>
          <p:nvPr/>
        </p:nvPicPr>
        <p:blipFill>
          <a:blip r:embed="rId1"/>
          <a:srcRect l="9808" t="12377" r="411" b="4668"/>
          <a:stretch/>
        </p:blipFill>
        <p:spPr>
          <a:xfrm>
            <a:off x="4483080" y="3068640"/>
            <a:ext cx="4533840" cy="3713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752" name="AutoShape 6"/>
          <p:cNvSpPr/>
          <p:nvPr/>
        </p:nvSpPr>
        <p:spPr>
          <a:xfrm>
            <a:off x="179280" y="3068640"/>
            <a:ext cx="3888000" cy="3600360"/>
          </a:xfrm>
          <a:prstGeom prst="roundRect">
            <a:avLst>
              <a:gd name="adj" fmla="val 8569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9"/>
          <p:cNvSpPr/>
          <p:nvPr/>
        </p:nvSpPr>
        <p:spPr>
          <a:xfrm>
            <a:off x="250920" y="189000"/>
            <a:ext cx="8642160" cy="1379520"/>
          </a:xfrm>
          <a:custGeom>
            <a:avLst/>
            <a:gdLst>
              <a:gd name="textAreaLeft" fmla="*/ 249480 w 8642160"/>
              <a:gd name="textAreaRight" fmla="*/ 8392680 w 8642160"/>
              <a:gd name="textAreaTop" fmla="*/ 249480 h 1379520"/>
              <a:gd name="textAreaBottom" fmla="*/ 1130040 h 1379520"/>
            </a:gdLst>
            <a:ahLst/>
            <a:rect l="textAreaLeft" t="textAreaTop" r="textAreaRight" b="textAreaBottom"/>
            <a:pathLst>
              <a:path w="135286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29759" y="21600"/>
                </a:lnTo>
                <a:arcTo wR="5527" hR="5527" stAng="10800000" swAng="5400000"/>
                <a:lnTo>
                  <a:pt x="135286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4932360" y="404640"/>
            <a:ext cx="3887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4427640" y="213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пирт (глі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7093080" y="213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13"/>
          <p:cNvSpPr txBox="1"/>
          <p:nvPr/>
        </p:nvSpPr>
        <p:spPr>
          <a:xfrm>
            <a:off x="6516720" y="2349360"/>
            <a:ext cx="4302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324000" y="4869000"/>
            <a:ext cx="352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ідрофоб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зчиняються в єфірі, бензині і хлороформ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900000" y="1700280"/>
            <a:ext cx="252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жирових клітинах д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7"/>
          <p:cNvSpPr/>
          <p:nvPr/>
        </p:nvSpPr>
        <p:spPr>
          <a:xfrm rot="5400000">
            <a:off x="6323400" y="149868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8"/>
          <p:cNvSpPr/>
          <p:nvPr/>
        </p:nvSpPr>
        <p:spPr>
          <a:xfrm>
            <a:off x="468360" y="314172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ВЛАСТИВ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5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6"/>
          <p:cNvSpPr/>
          <p:nvPr/>
        </p:nvSpPr>
        <p:spPr>
          <a:xfrm>
            <a:off x="7785000" y="28908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9" descr="липиды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83664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0"/>
          <p:cNvSpPr/>
          <p:nvPr/>
        </p:nvSpPr>
        <p:spPr>
          <a:xfrm rot="10800000">
            <a:off x="3891240" y="393120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2"/>
          <p:cNvSpPr/>
          <p:nvPr/>
        </p:nvSpPr>
        <p:spPr>
          <a:xfrm>
            <a:off x="539640" y="404640"/>
            <a:ext cx="43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ЛІПІ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2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44"/>
          <p:cNvSpPr/>
          <p:nvPr/>
        </p:nvSpPr>
        <p:spPr>
          <a:xfrm>
            <a:off x="1649520" y="5043600"/>
            <a:ext cx="320508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5"/>
          <p:cNvSpPr/>
          <p:nvPr/>
        </p:nvSpPr>
        <p:spPr>
          <a:xfrm>
            <a:off x="5033880" y="5043600"/>
            <a:ext cx="331164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6"/>
          <p:cNvSpPr/>
          <p:nvPr/>
        </p:nvSpPr>
        <p:spPr>
          <a:xfrm>
            <a:off x="6588000" y="2637000"/>
            <a:ext cx="237672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7"/>
          <p:cNvSpPr/>
          <p:nvPr/>
        </p:nvSpPr>
        <p:spPr>
          <a:xfrm>
            <a:off x="5508720" y="3716280"/>
            <a:ext cx="3330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8"/>
          <p:cNvSpPr/>
          <p:nvPr/>
        </p:nvSpPr>
        <p:spPr>
          <a:xfrm>
            <a:off x="1332000" y="3789360"/>
            <a:ext cx="280836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9"/>
          <p:cNvSpPr/>
          <p:nvPr/>
        </p:nvSpPr>
        <p:spPr>
          <a:xfrm>
            <a:off x="117360" y="2781360"/>
            <a:ext cx="3230640" cy="62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5526000" y="3833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ОЛІПІ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6588000" y="270828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5003640" y="508464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ІПОПРОТЕ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1649520" y="50817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ІКОЛІПІ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6"/>
          <p:cNvSpPr/>
          <p:nvPr/>
        </p:nvSpPr>
        <p:spPr>
          <a:xfrm>
            <a:off x="112680" y="282888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ГЛІЦЕР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1403280" y="3860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2"/>
          <p:cNvSpPr/>
          <p:nvPr/>
        </p:nvSpPr>
        <p:spPr>
          <a:xfrm>
            <a:off x="3564000" y="1557360"/>
            <a:ext cx="273672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Ліпі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73"/>
          <p:cNvSpPr/>
          <p:nvPr/>
        </p:nvSpPr>
        <p:spPr>
          <a:xfrm>
            <a:off x="2556000" y="189000"/>
            <a:ext cx="6138720" cy="792000"/>
          </a:xfrm>
          <a:custGeom>
            <a:avLst/>
            <a:gdLst>
              <a:gd name="textAreaLeft" fmla="*/ 143280 w 6138720"/>
              <a:gd name="textAreaRight" fmla="*/ 5995440 w 613872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5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26" y="21600"/>
                </a:lnTo>
                <a:arcTo wR="5527" hR="5527" stAng="10800000" swAng="5400000"/>
                <a:lnTo>
                  <a:pt x="16735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4"/>
          <p:cNvSpPr/>
          <p:nvPr/>
        </p:nvSpPr>
        <p:spPr>
          <a:xfrm>
            <a:off x="2700360" y="18900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5"/>
          <p:cNvSpPr/>
          <p:nvPr/>
        </p:nvSpPr>
        <p:spPr>
          <a:xfrm flipH="1">
            <a:off x="3348000" y="2276640"/>
            <a:ext cx="1511280" cy="504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6"/>
          <p:cNvSpPr/>
          <p:nvPr/>
        </p:nvSpPr>
        <p:spPr>
          <a:xfrm>
            <a:off x="4859280" y="2276640"/>
            <a:ext cx="1728720" cy="360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77"/>
          <p:cNvSpPr/>
          <p:nvPr/>
        </p:nvSpPr>
        <p:spPr>
          <a:xfrm flipH="1">
            <a:off x="3851280" y="2276640"/>
            <a:ext cx="1008000" cy="1512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8"/>
          <p:cNvSpPr/>
          <p:nvPr/>
        </p:nvSpPr>
        <p:spPr>
          <a:xfrm>
            <a:off x="4932360" y="2276640"/>
            <a:ext cx="934920" cy="1439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79"/>
          <p:cNvSpPr/>
          <p:nvPr/>
        </p:nvSpPr>
        <p:spPr>
          <a:xfrm flipH="1">
            <a:off x="4284360" y="2276640"/>
            <a:ext cx="64764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0"/>
          <p:cNvSpPr/>
          <p:nvPr/>
        </p:nvSpPr>
        <p:spPr>
          <a:xfrm>
            <a:off x="4932360" y="2276640"/>
            <a:ext cx="57636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82" descr="триглицериды"/>
          <p:cNvPicPr/>
          <p:nvPr/>
        </p:nvPicPr>
        <p:blipFill>
          <a:blip r:embed="rId1"/>
          <a:stretch/>
        </p:blipFill>
        <p:spPr>
          <a:xfrm>
            <a:off x="179280" y="115920"/>
            <a:ext cx="2067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0"/>
          <p:cNvSpPr/>
          <p:nvPr/>
        </p:nvSpPr>
        <p:spPr>
          <a:xfrm>
            <a:off x="2340000" y="44388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9"/>
          <p:cNvSpPr/>
          <p:nvPr/>
        </p:nvSpPr>
        <p:spPr>
          <a:xfrm>
            <a:off x="2340000" y="256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1"/>
          <p:cNvSpPr/>
          <p:nvPr/>
        </p:nvSpPr>
        <p:spPr>
          <a:xfrm>
            <a:off x="2340000" y="3575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8"/>
          <p:cNvSpPr/>
          <p:nvPr/>
        </p:nvSpPr>
        <p:spPr>
          <a:xfrm>
            <a:off x="6718320" y="4076640"/>
            <a:ext cx="20718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2"/>
          <p:cNvSpPr/>
          <p:nvPr/>
        </p:nvSpPr>
        <p:spPr>
          <a:xfrm>
            <a:off x="4427640" y="477828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4"/>
          <p:cNvSpPr/>
          <p:nvPr/>
        </p:nvSpPr>
        <p:spPr>
          <a:xfrm>
            <a:off x="2568600" y="414972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3"/>
          <p:cNvSpPr/>
          <p:nvPr/>
        </p:nvSpPr>
        <p:spPr>
          <a:xfrm>
            <a:off x="2568600" y="328608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2"/>
          <p:cNvSpPr/>
          <p:nvPr/>
        </p:nvSpPr>
        <p:spPr>
          <a:xfrm>
            <a:off x="2556000" y="2276640"/>
            <a:ext cx="1368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овини в складі органі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іч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іч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л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2700360" y="242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і молек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и (біополіме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і, кислоти і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2670120" y="340200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і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2643120" y="42354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і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сахар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інокисл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4643280" y="486900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клеот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4573440" y="6281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нші р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ісахари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6659640" y="41925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6688080" y="4824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клеїнові кисл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1212840" y="20574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65"/>
          <p:cNvSpPr/>
          <p:nvPr/>
        </p:nvSpPr>
        <p:spPr>
          <a:xfrm>
            <a:off x="2355840" y="2579760"/>
            <a:ext cx="3240" cy="18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3"/>
          <p:cNvSpPr/>
          <p:nvPr/>
        </p:nvSpPr>
        <p:spPr>
          <a:xfrm>
            <a:off x="3205080" y="20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9"/>
          <p:cNvSpPr/>
          <p:nvPr/>
        </p:nvSpPr>
        <p:spPr>
          <a:xfrm>
            <a:off x="2050920" y="692280"/>
            <a:ext cx="5256360" cy="7398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79280" y="1773360"/>
            <a:ext cx="273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ЖИРИ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тверд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6443640" y="184464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МАСЛА</a:t>
            </a:r>
            <a:r>
              <a:rPr b="1" lang="ru-RU" sz="16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рідк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2050920" y="76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гліцер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250920" y="29242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рт гліцерин + жирні кисл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5076720" y="299736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 + ненасичені (прероблені) жирні кисл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2" descr="triglyceride"/>
          <p:cNvPicPr/>
          <p:nvPr/>
        </p:nvPicPr>
        <p:blipFill>
          <a:blip r:embed="rId1"/>
          <a:stretch/>
        </p:blipFill>
        <p:spPr>
          <a:xfrm>
            <a:off x="2916360" y="1484280"/>
            <a:ext cx="3425760" cy="15019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3" descr="sovet02big02"/>
          <p:cNvPicPr/>
          <p:nvPr/>
        </p:nvPicPr>
        <p:blipFill>
          <a:blip r:embed="rId2"/>
          <a:stretch/>
        </p:blipFill>
        <p:spPr>
          <a:xfrm>
            <a:off x="4859280" y="4005360"/>
            <a:ext cx="4157640" cy="2732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797" name="Picture 34" descr="533861"/>
          <p:cNvPicPr/>
          <p:nvPr/>
        </p:nvPicPr>
        <p:blipFill>
          <a:blip r:embed="rId3"/>
          <a:stretch/>
        </p:blipFill>
        <p:spPr>
          <a:xfrm>
            <a:off x="108000" y="4076640"/>
            <a:ext cx="2587680" cy="26463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798" name="Picture 35" descr="maslo"/>
          <p:cNvPicPr/>
          <p:nvPr/>
        </p:nvPicPr>
        <p:blipFill>
          <a:blip r:embed="rId4"/>
          <a:stretch/>
        </p:blipFill>
        <p:spPr>
          <a:xfrm>
            <a:off x="2195640" y="3813120"/>
            <a:ext cx="1944720" cy="128916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36"/>
          <p:cNvSpPr/>
          <p:nvPr/>
        </p:nvSpPr>
        <p:spPr>
          <a:xfrm flipV="1">
            <a:off x="7307280" y="98100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7"/>
          <p:cNvSpPr/>
          <p:nvPr/>
        </p:nvSpPr>
        <p:spPr>
          <a:xfrm flipH="1" flipV="1">
            <a:off x="883440" y="96516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38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9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1763640" y="692280"/>
            <a:ext cx="655344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908000" y="692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ФОСФОЛІПІ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179280" y="1844640"/>
            <a:ext cx="3384720" cy="338580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іцерин       +               жирні кислоти          + залишок фосфорної кисл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9" descr="Копия 09_Diapositiva"/>
          <p:cNvPicPr/>
          <p:nvPr/>
        </p:nvPicPr>
        <p:blipFill>
          <a:blip r:embed="rId1"/>
          <a:stretch/>
        </p:blipFill>
        <p:spPr>
          <a:xfrm>
            <a:off x="3851280" y="2205000"/>
            <a:ext cx="5157720" cy="38689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807" name="Text Box 20"/>
          <p:cNvSpPr/>
          <p:nvPr/>
        </p:nvSpPr>
        <p:spPr>
          <a:xfrm>
            <a:off x="5076720" y="1700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ЕМБРАНИ КЛІ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21"/>
          <p:cNvSpPr/>
          <p:nvPr/>
        </p:nvSpPr>
        <p:spPr>
          <a:xfrm flipH="1" flipV="1">
            <a:off x="468000" y="836640"/>
            <a:ext cx="1295280" cy="1008000"/>
          </a:xfrm>
          <a:custGeom>
            <a:avLst/>
            <a:gdLst>
              <a:gd name="textAreaLeft" fmla="*/ 0 w 1295280"/>
              <a:gd name="textAreaRight" fmla="*/ 1059840 w 1295280"/>
              <a:gd name="textAreaTop" fmla="*/ 752760 h 1008000"/>
              <a:gd name="textAreaBottom" fmla="*/ 1008720 h 1008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584"/>
                </a:lnTo>
                <a:lnTo>
                  <a:pt x="13187" y="6584"/>
                </a:lnTo>
                <a:lnTo>
                  <a:pt x="13187" y="16120"/>
                </a:lnTo>
                <a:lnTo>
                  <a:pt x="0" y="16120"/>
                </a:lnTo>
                <a:lnTo>
                  <a:pt x="0" y="21600"/>
                </a:lnTo>
                <a:lnTo>
                  <a:pt x="17670" y="21600"/>
                </a:lnTo>
                <a:lnTo>
                  <a:pt x="17670" y="6584"/>
                </a:lnTo>
                <a:lnTo>
                  <a:pt x="21600" y="6584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3"/>
          <p:cNvSpPr/>
          <p:nvPr/>
        </p:nvSpPr>
        <p:spPr>
          <a:xfrm flipV="1" rot="21532200">
            <a:off x="3143160" y="5781600"/>
            <a:ext cx="1440000" cy="1030320"/>
          </a:xfrm>
          <a:custGeom>
            <a:avLst/>
            <a:gdLst>
              <a:gd name="textAreaLeft" fmla="*/ 0 w 1440000"/>
              <a:gd name="textAreaRight" fmla="*/ 407160 w 1440000"/>
              <a:gd name="textAreaTop" fmla="*/ 39636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24"/>
          <p:cNvSpPr/>
          <p:nvPr/>
        </p:nvSpPr>
        <p:spPr>
          <a:xfrm>
            <a:off x="7667640" y="2133720"/>
            <a:ext cx="719280" cy="647640"/>
          </a:xfrm>
          <a:prstGeom prst="upArrow">
            <a:avLst>
              <a:gd name="adj1" fmla="val 34657"/>
              <a:gd name="adj2" fmla="val 40194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25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6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5"/>
          <p:cNvSpPr/>
          <p:nvPr/>
        </p:nvSpPr>
        <p:spPr>
          <a:xfrm>
            <a:off x="6227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2771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8"/>
          <p:cNvSpPr/>
          <p:nvPr/>
        </p:nvSpPr>
        <p:spPr>
          <a:xfrm>
            <a:off x="2411280" y="692280"/>
            <a:ext cx="4157640" cy="72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611280" y="1628640"/>
            <a:ext cx="7993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ладні ефіри вищих жирних кислот і одноатомних високомолекулярних спир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2486160" y="7095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68360" y="2852640"/>
            <a:ext cx="331164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ли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5724360" y="2852640"/>
            <a:ext cx="273528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ари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6" descr="Пчелиный воск"/>
          <p:cNvPicPr/>
          <p:nvPr/>
        </p:nvPicPr>
        <p:blipFill>
          <a:blip r:embed="rId1"/>
          <a:stretch/>
        </p:blipFill>
        <p:spPr>
          <a:xfrm>
            <a:off x="4788000" y="43657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7" descr="bees"/>
          <p:cNvPicPr/>
          <p:nvPr/>
        </p:nvPicPr>
        <p:blipFill>
          <a:blip r:embed="rId2"/>
          <a:stretch/>
        </p:blipFill>
        <p:spPr>
          <a:xfrm>
            <a:off x="7308720" y="3645000"/>
            <a:ext cx="1684440" cy="16840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0" descr="cacanska_rana"/>
          <p:cNvPicPr/>
          <p:nvPr/>
        </p:nvPicPr>
        <p:blipFill>
          <a:blip r:embed="rId3"/>
          <a:stretch/>
        </p:blipFill>
        <p:spPr>
          <a:xfrm>
            <a:off x="190440" y="3544920"/>
            <a:ext cx="2792520" cy="2093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8" descr="тугоплавкого воска суккулентных (пустынных) растений"/>
          <p:cNvPicPr/>
          <p:nvPr/>
        </p:nvPicPr>
        <p:blipFill>
          <a:blip r:embed="rId4"/>
          <a:stretch/>
        </p:blipFill>
        <p:spPr>
          <a:xfrm>
            <a:off x="190440" y="524520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2" descr="0_493a7_25a95e00_orig"/>
          <p:cNvPicPr/>
          <p:nvPr/>
        </p:nvPicPr>
        <p:blipFill>
          <a:blip r:embed="rId5"/>
          <a:stretch/>
        </p:blipFill>
        <p:spPr>
          <a:xfrm>
            <a:off x="2590920" y="3589200"/>
            <a:ext cx="1415880" cy="13258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1" descr="7ae8eabcb8e0"/>
          <p:cNvPicPr/>
          <p:nvPr/>
        </p:nvPicPr>
        <p:blipFill>
          <a:blip r:embed="rId6"/>
          <a:stretch/>
        </p:blipFill>
        <p:spPr>
          <a:xfrm>
            <a:off x="2255760" y="4869000"/>
            <a:ext cx="1811520" cy="187632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33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4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AutoShape 26"/>
          <p:cNvSpPr/>
          <p:nvPr/>
        </p:nvSpPr>
        <p:spPr>
          <a:xfrm>
            <a:off x="179280" y="3286080"/>
            <a:ext cx="388800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27"/>
          <p:cNvSpPr/>
          <p:nvPr/>
        </p:nvSpPr>
        <p:spPr>
          <a:xfrm>
            <a:off x="4788000" y="3286080"/>
            <a:ext cx="410508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2141640" y="878040"/>
            <a:ext cx="5614920" cy="7506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5"/>
          <p:cNvSpPr/>
          <p:nvPr/>
        </p:nvSpPr>
        <p:spPr>
          <a:xfrm>
            <a:off x="2195640" y="90972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ЕРО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324000" y="3429000"/>
            <a:ext cx="3671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ВІТАМІН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К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4716360" y="3357720"/>
            <a:ext cx="4176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ГОРМОН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наднирників, статев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8"/>
          <p:cNvSpPr/>
          <p:nvPr/>
        </p:nvSpPr>
        <p:spPr>
          <a:xfrm>
            <a:off x="234000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9"/>
          <p:cNvSpPr/>
          <p:nvPr/>
        </p:nvSpPr>
        <p:spPr>
          <a:xfrm>
            <a:off x="651672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324000" y="198900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рт холестерол + жирні кисл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0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8" descr="vit 16"/>
          <p:cNvPicPr/>
          <p:nvPr/>
        </p:nvPicPr>
        <p:blipFill>
          <a:blip r:embed="rId1"/>
          <a:stretch/>
        </p:blipFill>
        <p:spPr>
          <a:xfrm>
            <a:off x="1042920" y="5219640"/>
            <a:ext cx="936720" cy="151308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840" name="Picture 16" descr="2936306B"/>
          <p:cNvPicPr/>
          <p:nvPr/>
        </p:nvPicPr>
        <p:blipFill>
          <a:blip r:embed="rId2"/>
          <a:stretch/>
        </p:blipFill>
        <p:spPr>
          <a:xfrm>
            <a:off x="1989000" y="5191200"/>
            <a:ext cx="1366920" cy="792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841" name="Picture 19" descr="K4359i"/>
          <p:cNvPicPr/>
          <p:nvPr/>
        </p:nvPicPr>
        <p:blipFill>
          <a:blip r:embed="rId3"/>
          <a:stretch/>
        </p:blipFill>
        <p:spPr>
          <a:xfrm>
            <a:off x="98280" y="5762520"/>
            <a:ext cx="1008360" cy="97164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842" name="Picture 12" descr="vitaminD3"/>
          <p:cNvPicPr/>
          <p:nvPr/>
        </p:nvPicPr>
        <p:blipFill>
          <a:blip r:embed="rId4"/>
          <a:stretch/>
        </p:blipFill>
        <p:spPr>
          <a:xfrm>
            <a:off x="3357720" y="5262480"/>
            <a:ext cx="1054080" cy="144144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843" name="Picture 37" descr="Рыбий жир"/>
          <p:cNvPicPr/>
          <p:nvPr/>
        </p:nvPicPr>
        <p:blipFill>
          <a:blip r:embed="rId5"/>
          <a:stretch/>
        </p:blipFill>
        <p:spPr>
          <a:xfrm>
            <a:off x="1979640" y="6021360"/>
            <a:ext cx="1378080" cy="6955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6" descr="vit E"/>
          <p:cNvPicPr/>
          <p:nvPr/>
        </p:nvPicPr>
        <p:blipFill>
          <a:blip r:embed="rId6"/>
          <a:stretch/>
        </p:blipFill>
        <p:spPr>
          <a:xfrm>
            <a:off x="179280" y="4076640"/>
            <a:ext cx="644760" cy="15829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9" descr="12"/>
          <p:cNvPicPr/>
          <p:nvPr/>
        </p:nvPicPr>
        <p:blipFill>
          <a:blip r:embed="rId7"/>
          <a:stretch/>
        </p:blipFill>
        <p:spPr>
          <a:xfrm>
            <a:off x="5724360" y="5229360"/>
            <a:ext cx="23767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22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0" descr="350px-Glycolipids"/>
          <p:cNvPicPr/>
          <p:nvPr/>
        </p:nvPicPr>
        <p:blipFill>
          <a:blip r:embed="rId1"/>
          <a:stretch/>
        </p:blipFill>
        <p:spPr>
          <a:xfrm>
            <a:off x="5819760" y="22320"/>
            <a:ext cx="3333600" cy="193356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"/>
          <p:cNvSpPr/>
          <p:nvPr/>
        </p:nvSpPr>
        <p:spPr>
          <a:xfrm>
            <a:off x="324000" y="763560"/>
            <a:ext cx="5111640" cy="6494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324000" y="4005360"/>
            <a:ext cx="5903640" cy="647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324000" y="4005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ІПОПРОТЕЇ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395280" y="763560"/>
            <a:ext cx="50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ГЛІКОЛІПІ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1763640" y="1628640"/>
            <a:ext cx="4824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іпіди + вугле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1"/>
          <p:cNvSpPr/>
          <p:nvPr/>
        </p:nvSpPr>
        <p:spPr>
          <a:xfrm>
            <a:off x="2124000" y="4869000"/>
            <a:ext cx="51134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іпіди + бі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4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8"/>
          <p:cNvSpPr/>
          <p:nvPr/>
        </p:nvSpPr>
        <p:spPr>
          <a:xfrm>
            <a:off x="684360" y="1484280"/>
            <a:ext cx="1008000" cy="792360"/>
          </a:xfrm>
          <a:prstGeom prst="downArrow">
            <a:avLst>
              <a:gd name="adj1" fmla="val 49917"/>
              <a:gd name="adj2" fmla="val 51505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9"/>
          <p:cNvSpPr/>
          <p:nvPr/>
        </p:nvSpPr>
        <p:spPr>
          <a:xfrm>
            <a:off x="684360" y="4653000"/>
            <a:ext cx="1008000" cy="792000"/>
          </a:xfrm>
          <a:prstGeom prst="downArrow">
            <a:avLst>
              <a:gd name="adj1" fmla="val 47713"/>
              <a:gd name="adj2" fmla="val 48699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4"/>
          <p:cNvSpPr/>
          <p:nvPr/>
        </p:nvSpPr>
        <p:spPr>
          <a:xfrm>
            <a:off x="684360" y="24130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окалізовані переважно на зовнішній поверхні плазматичної мембрани, де їх вуглеводневі компоненти входять в число інших вуглеводів клітинної поверхні. можуть брати участь в міжклітинних взаємодіях і контактах. Деякі з них є антиге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5"/>
          <p:cNvSpPr/>
          <p:nvPr/>
        </p:nvSpPr>
        <p:spPr>
          <a:xfrm>
            <a:off x="539640" y="558972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же всі ліпопротеїни утворюються в печінці. Основною функцією ліпопротеїнів є транспорт ліпідних компонентів до ткан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AutoShape 2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27"/>
          <p:cNvSpPr/>
          <p:nvPr/>
        </p:nvSpPr>
        <p:spPr>
          <a:xfrm>
            <a:off x="125280" y="830160"/>
            <a:ext cx="331164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WordArt 12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62" name="Text Box 17"/>
          <p:cNvSpPr/>
          <p:nvPr/>
        </p:nvSpPr>
        <p:spPr>
          <a:xfrm>
            <a:off x="125280" y="97308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пасаюч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0" descr="жир в кл"/>
          <p:cNvPicPr/>
          <p:nvPr/>
        </p:nvPicPr>
        <p:blipFill>
          <a:blip r:embed="rId1"/>
          <a:stretch/>
        </p:blipFill>
        <p:spPr>
          <a:xfrm>
            <a:off x="3070080" y="4614840"/>
            <a:ext cx="2872080" cy="21304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4" name="Picture 21" descr="Клетки коричневого жира под микроскопом"/>
          <p:cNvPicPr/>
          <p:nvPr/>
        </p:nvPicPr>
        <p:blipFill>
          <a:blip r:embed="rId2"/>
          <a:stretch/>
        </p:blipFill>
        <p:spPr>
          <a:xfrm>
            <a:off x="85680" y="4599000"/>
            <a:ext cx="2901960" cy="2160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5" name="Picture 23" descr="жировые включ"/>
          <p:cNvPicPr/>
          <p:nvPr/>
        </p:nvPicPr>
        <p:blipFill>
          <a:blip r:embed="rId3"/>
          <a:stretch/>
        </p:blipFill>
        <p:spPr>
          <a:xfrm>
            <a:off x="6080040" y="3467160"/>
            <a:ext cx="3005280" cy="3311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6" name="Picture 24" descr="fat-man-eats-cadbury1"/>
          <p:cNvPicPr/>
          <p:nvPr/>
        </p:nvPicPr>
        <p:blipFill>
          <a:blip r:embed="rId4"/>
          <a:stretch/>
        </p:blipFill>
        <p:spPr>
          <a:xfrm>
            <a:off x="6156360" y="189000"/>
            <a:ext cx="2917800" cy="3106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7" name="Picture 25" descr="Бурый медведь"/>
          <p:cNvPicPr/>
          <p:nvPr/>
        </p:nvPicPr>
        <p:blipFill>
          <a:blip r:embed="rId5"/>
          <a:stretch/>
        </p:blipFill>
        <p:spPr>
          <a:xfrm>
            <a:off x="101520" y="2033640"/>
            <a:ext cx="3313080" cy="2485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8" name="Picture 29" descr="8"/>
          <p:cNvPicPr/>
          <p:nvPr/>
        </p:nvPicPr>
        <p:blipFill>
          <a:blip r:embed="rId6"/>
          <a:stretch/>
        </p:blipFill>
        <p:spPr>
          <a:xfrm>
            <a:off x="3573360" y="806400"/>
            <a:ext cx="2368800" cy="1782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30" descr="1179805642_0"/>
          <p:cNvPicPr/>
          <p:nvPr/>
        </p:nvPicPr>
        <p:blipFill>
          <a:blip r:embed="rId7"/>
          <a:stretch/>
        </p:blipFill>
        <p:spPr>
          <a:xfrm>
            <a:off x="3564000" y="2637000"/>
            <a:ext cx="2376360" cy="19429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4" descr="Копия 09_Diapositiva"/>
          <p:cNvPicPr/>
          <p:nvPr/>
        </p:nvPicPr>
        <p:blipFill>
          <a:blip r:embed="rId1"/>
          <a:stretch/>
        </p:blipFill>
        <p:spPr>
          <a:xfrm>
            <a:off x="3635280" y="907920"/>
            <a:ext cx="5400720" cy="40500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871" name="AutoShape 5"/>
          <p:cNvSpPr/>
          <p:nvPr/>
        </p:nvSpPr>
        <p:spPr>
          <a:xfrm>
            <a:off x="179280" y="981000"/>
            <a:ext cx="4105440" cy="165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250920" y="981000"/>
            <a:ext cx="388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Impact"/>
              </a:rPr>
              <a:t>Опорно-структурн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WordArt 9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75" name="Text Box 10"/>
          <p:cNvSpPr/>
          <p:nvPr/>
        </p:nvSpPr>
        <p:spPr>
          <a:xfrm>
            <a:off x="250920" y="2708280"/>
            <a:ext cx="8893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Ліпіди приймають                                                                                                           участь в                                                        побудові                                                      мембран клітин                                                       всіх органів і                                                       тканин, обумовлюючи їх напівпроникність, беруть участь в утваренні багатьох біологічно важливих сполук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AutoShape 13"/>
          <p:cNvSpPr/>
          <p:nvPr/>
        </p:nvSpPr>
        <p:spPr>
          <a:xfrm>
            <a:off x="179280" y="1268280"/>
            <a:ext cx="8713800" cy="136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астку ліпідів приходиться 25-30% всієї енергії, необхідної організ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кисленні 1 г жиру виділяється 39,1 кДж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2"/>
          <p:cNvSpPr/>
          <p:nvPr/>
        </p:nvSpPr>
        <p:spPr>
          <a:xfrm>
            <a:off x="146160" y="3111480"/>
            <a:ext cx="8713800" cy="1325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орозчинні вітаміни К, Е, D, А є коферментами (небілкової частин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4"/>
          <p:cNvSpPr/>
          <p:nvPr/>
        </p:nvSpPr>
        <p:spPr>
          <a:xfrm>
            <a:off x="395280" y="1052640"/>
            <a:ext cx="3960720" cy="698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384120" y="1038240"/>
            <a:ext cx="396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Энергетич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395280" y="191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324000" y="364500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324000" y="2870280"/>
            <a:ext cx="4081320" cy="703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324000" y="2852640"/>
            <a:ext cx="41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Каталітич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4"/>
          <p:cNvSpPr/>
          <p:nvPr/>
        </p:nvSpPr>
        <p:spPr>
          <a:xfrm>
            <a:off x="155520" y="5051520"/>
            <a:ext cx="8713800" cy="161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ормони - стероїд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статеві, наднирників) здатні змінюв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тивність багатьох ферментів, підсилюючи або пригнічуючи ді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рментів і тим самим регулюючи протікання фізіологічних проце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організм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6"/>
          <p:cNvSpPr/>
          <p:nvPr/>
        </p:nvSpPr>
        <p:spPr>
          <a:xfrm>
            <a:off x="371520" y="4548240"/>
            <a:ext cx="6697440" cy="671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7"/>
          <p:cNvSpPr/>
          <p:nvPr/>
        </p:nvSpPr>
        <p:spPr>
          <a:xfrm>
            <a:off x="324000" y="4570560"/>
            <a:ext cx="6841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Регуляторна  (гормональна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8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8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AutoShape 4"/>
          <p:cNvSpPr/>
          <p:nvPr/>
        </p:nvSpPr>
        <p:spPr>
          <a:xfrm>
            <a:off x="179280" y="907920"/>
            <a:ext cx="3240360" cy="9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179280" y="98100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хисн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893" name="Picture 8" descr="66057579_40483200_killerwhale"/>
          <p:cNvPicPr/>
          <p:nvPr/>
        </p:nvPicPr>
        <p:blipFill>
          <a:blip r:embed="rId1"/>
          <a:stretch/>
        </p:blipFill>
        <p:spPr>
          <a:xfrm>
            <a:off x="6035760" y="4248000"/>
            <a:ext cx="2985840" cy="2530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94" name="Picture 9" descr="Детеныш тюленя"/>
          <p:cNvPicPr/>
          <p:nvPr/>
        </p:nvPicPr>
        <p:blipFill>
          <a:blip r:embed="rId2"/>
          <a:stretch/>
        </p:blipFill>
        <p:spPr>
          <a:xfrm>
            <a:off x="6056280" y="106200"/>
            <a:ext cx="2946600" cy="1847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95" name="Picture 10" descr="anm0214"/>
          <p:cNvPicPr/>
          <p:nvPr/>
        </p:nvPicPr>
        <p:blipFill>
          <a:blip r:embed="rId3"/>
          <a:stretch/>
        </p:blipFill>
        <p:spPr>
          <a:xfrm>
            <a:off x="6045120" y="2043000"/>
            <a:ext cx="2979720" cy="2090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96" name="Picture 11" descr="00044303"/>
          <p:cNvPicPr/>
          <p:nvPr/>
        </p:nvPicPr>
        <p:blipFill>
          <a:blip r:embed="rId4"/>
          <a:stretch/>
        </p:blipFill>
        <p:spPr>
          <a:xfrm>
            <a:off x="2627280" y="4583160"/>
            <a:ext cx="332424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7" name="Text Box 12"/>
          <p:cNvSpPr/>
          <p:nvPr/>
        </p:nvSpPr>
        <p:spPr>
          <a:xfrm>
            <a:off x="130320" y="1994040"/>
            <a:ext cx="568944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Механіч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мортизація ударів, жировий прошарок черевної порожнини захищає внутрішні органи від ушкодж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ерморегуляційна (теплоізоляційна)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р погано проводить тепло і холо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Электроізо-                              ляцій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(мієлінова                                              оболонка                                             нервових                                             волокон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10" descr="camel-watering-hole-steinmetz-525373-sw"/>
          <p:cNvPicPr/>
          <p:nvPr/>
        </p:nvPicPr>
        <p:blipFill>
          <a:blip r:embed="rId1"/>
          <a:stretch/>
        </p:blipFill>
        <p:spPr>
          <a:xfrm>
            <a:off x="6172200" y="4586400"/>
            <a:ext cx="2879640" cy="2206440"/>
          </a:xfrm>
          <a:prstGeom prst="rect">
            <a:avLst/>
          </a:prstGeom>
          <a:ln w="0">
            <a:noFill/>
          </a:ln>
        </p:spPr>
      </p:pic>
      <p:sp>
        <p:nvSpPr>
          <p:cNvPr id="899" name="AutoShape 4"/>
          <p:cNvSpPr/>
          <p:nvPr/>
        </p:nvSpPr>
        <p:spPr>
          <a:xfrm>
            <a:off x="179280" y="836640"/>
            <a:ext cx="4824360" cy="22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179280" y="90792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Джерело метаболічної вод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903" name="Picture 8" descr="7057-050-33CEB562"/>
          <p:cNvPicPr/>
          <p:nvPr/>
        </p:nvPicPr>
        <p:blipFill>
          <a:blip r:embed="rId2"/>
          <a:stretch/>
        </p:blipFill>
        <p:spPr>
          <a:xfrm>
            <a:off x="92160" y="3305160"/>
            <a:ext cx="3203640" cy="34466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9" descr="camel2"/>
          <p:cNvPicPr/>
          <p:nvPr/>
        </p:nvPicPr>
        <p:blipFill>
          <a:blip r:embed="rId3"/>
          <a:stretch/>
        </p:blipFill>
        <p:spPr>
          <a:xfrm>
            <a:off x="3479760" y="3306600"/>
            <a:ext cx="3024360" cy="22672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1" descr="kurdyuchnyiy-zhir1"/>
          <p:cNvPicPr/>
          <p:nvPr/>
        </p:nvPicPr>
        <p:blipFill>
          <a:blip r:embed="rId4"/>
          <a:stretch/>
        </p:blipFill>
        <p:spPr>
          <a:xfrm>
            <a:off x="6846840" y="36360"/>
            <a:ext cx="2144880" cy="21448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2" descr="6a100b97aedf"/>
          <p:cNvPicPr/>
          <p:nvPr/>
        </p:nvPicPr>
        <p:blipFill>
          <a:blip r:embed="rId5"/>
          <a:stretch/>
        </p:blipFill>
        <p:spPr>
          <a:xfrm>
            <a:off x="6808680" y="2255760"/>
            <a:ext cx="2227320" cy="22734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13" descr="901"/>
          <p:cNvPicPr/>
          <p:nvPr/>
        </p:nvPicPr>
        <p:blipFill>
          <a:blip r:embed="rId6"/>
          <a:stretch/>
        </p:blipFill>
        <p:spPr>
          <a:xfrm>
            <a:off x="5487840" y="792000"/>
            <a:ext cx="1220760" cy="244188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14"/>
          <p:cNvSpPr/>
          <p:nvPr/>
        </p:nvSpPr>
        <p:spPr>
          <a:xfrm>
            <a:off x="3276720" y="558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разпаді 1 кг жиру виділяється 1,1 кг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0"/>
          <p:cNvSpPr/>
          <p:nvPr/>
        </p:nvSpPr>
        <p:spPr>
          <a:xfrm>
            <a:off x="2195640" y="3357720"/>
            <a:ext cx="5113080" cy="9349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ece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2330280" y="5867280"/>
            <a:ext cx="2144880" cy="88128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2"/>
          <p:cNvSpPr/>
          <p:nvPr/>
        </p:nvSpPr>
        <p:spPr>
          <a:xfrm>
            <a:off x="4602240" y="5861160"/>
            <a:ext cx="1611360" cy="86364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179280" y="4579920"/>
            <a:ext cx="2160720" cy="1152720"/>
          </a:xfrm>
          <a:prstGeom prst="bevel">
            <a:avLst>
              <a:gd name="adj" fmla="val 909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5"/>
          <p:cNvSpPr/>
          <p:nvPr/>
        </p:nvSpPr>
        <p:spPr>
          <a:xfrm>
            <a:off x="6227640" y="4653000"/>
            <a:ext cx="2737080" cy="1152360"/>
          </a:xfrm>
          <a:prstGeom prst="bevel">
            <a:avLst>
              <a:gd name="adj" fmla="val 10056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ОРГАНІЧНІ РЕЧОВИН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4920" y="1197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Це хімічні сполуки,до складу яких входять атоми кабону(С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Характері тільки для хивих організмі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556000" y="3500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ічні спол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324000" y="4653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630680" y="60022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411280" y="602136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324000" y="50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Ліпі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6300720" y="472428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клеїнові кисл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H="1">
            <a:off x="2268000" y="4292640"/>
            <a:ext cx="863640" cy="577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6084720" y="4292640"/>
            <a:ext cx="792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8"/>
          <p:cNvSpPr/>
          <p:nvPr/>
        </p:nvSpPr>
        <p:spPr>
          <a:xfrm flipH="1">
            <a:off x="3059280" y="4292640"/>
            <a:ext cx="792000" cy="151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"/>
          <p:cNvSpPr/>
          <p:nvPr/>
        </p:nvSpPr>
        <p:spPr>
          <a:xfrm>
            <a:off x="4788000" y="4292640"/>
            <a:ext cx="647640" cy="158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AutoShape 74"/>
          <p:cNvSpPr/>
          <p:nvPr/>
        </p:nvSpPr>
        <p:spPr>
          <a:xfrm>
            <a:off x="2484360" y="58680"/>
            <a:ext cx="1656000" cy="576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72"/>
          <p:cNvSpPr/>
          <p:nvPr/>
        </p:nvSpPr>
        <p:spPr>
          <a:xfrm>
            <a:off x="2556000" y="3645000"/>
            <a:ext cx="219708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1"/>
          <p:cNvSpPr/>
          <p:nvPr/>
        </p:nvSpPr>
        <p:spPr>
          <a:xfrm>
            <a:off x="4932360" y="3645000"/>
            <a:ext cx="223200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0"/>
          <p:cNvSpPr/>
          <p:nvPr/>
        </p:nvSpPr>
        <p:spPr>
          <a:xfrm>
            <a:off x="6948360" y="1916280"/>
            <a:ext cx="205272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4627440" y="1900080"/>
            <a:ext cx="2016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68"/>
          <p:cNvSpPr/>
          <p:nvPr/>
        </p:nvSpPr>
        <p:spPr>
          <a:xfrm>
            <a:off x="2556000" y="1916280"/>
            <a:ext cx="180000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7"/>
          <p:cNvSpPr/>
          <p:nvPr/>
        </p:nvSpPr>
        <p:spPr>
          <a:xfrm>
            <a:off x="117360" y="1900080"/>
            <a:ext cx="229392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61"/>
          <p:cNvSpPr/>
          <p:nvPr/>
        </p:nvSpPr>
        <p:spPr>
          <a:xfrm>
            <a:off x="369720" y="5884920"/>
            <a:ext cx="2305080" cy="9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2916360" y="5950080"/>
            <a:ext cx="3189240" cy="850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65"/>
          <p:cNvSpPr/>
          <p:nvPr/>
        </p:nvSpPr>
        <p:spPr>
          <a:xfrm>
            <a:off x="6300720" y="6089760"/>
            <a:ext cx="2374920" cy="679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64"/>
          <p:cNvSpPr/>
          <p:nvPr/>
        </p:nvSpPr>
        <p:spPr>
          <a:xfrm>
            <a:off x="6804000" y="4941720"/>
            <a:ext cx="222264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63"/>
          <p:cNvSpPr/>
          <p:nvPr/>
        </p:nvSpPr>
        <p:spPr>
          <a:xfrm>
            <a:off x="4576680" y="5127480"/>
            <a:ext cx="2087640" cy="749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62"/>
          <p:cNvSpPr/>
          <p:nvPr/>
        </p:nvSpPr>
        <p:spPr>
          <a:xfrm>
            <a:off x="2184480" y="5083200"/>
            <a:ext cx="22334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60"/>
          <p:cNvSpPr/>
          <p:nvPr/>
        </p:nvSpPr>
        <p:spPr>
          <a:xfrm>
            <a:off x="103320" y="4941720"/>
            <a:ext cx="19796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8"/>
          <p:cNvSpPr/>
          <p:nvPr/>
        </p:nvSpPr>
        <p:spPr>
          <a:xfrm>
            <a:off x="4643280" y="5300640"/>
            <a:ext cx="18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6364440" y="6094440"/>
            <a:ext cx="2193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149400" y="87480"/>
            <a:ext cx="2263680" cy="57600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3"/>
          <p:cNvSpPr/>
          <p:nvPr/>
        </p:nvSpPr>
        <p:spPr>
          <a:xfrm>
            <a:off x="4140360" y="100080"/>
            <a:ext cx="4824360" cy="520560"/>
          </a:xfrm>
          <a:custGeom>
            <a:avLst/>
            <a:gdLst>
              <a:gd name="textAreaLeft" fmla="*/ 551160 w 4824360"/>
              <a:gd name="textAreaRight" fmla="*/ 4273200 w 4824360"/>
              <a:gd name="textAreaTop" fmla="*/ 59400 h 520560"/>
              <a:gd name="textAreaBottom" fmla="*/ 4611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" y="21600"/>
                </a:lnTo>
                <a:lnTo>
                  <a:pt x="202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>
              <a:alpha val="47000"/>
            </a:srgbClr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/>
          <p:cNvSpPr/>
          <p:nvPr/>
        </p:nvSpPr>
        <p:spPr>
          <a:xfrm>
            <a:off x="88920" y="749160"/>
            <a:ext cx="8982000" cy="819360"/>
          </a:xfrm>
          <a:custGeom>
            <a:avLst/>
            <a:gdLst>
              <a:gd name="textAreaLeft" fmla="*/ 147960 w 8982000"/>
              <a:gd name="textAreaRight" fmla="*/ 8834040 w 8982000"/>
              <a:gd name="textAreaTop" fmla="*/ 147960 h 819360"/>
              <a:gd name="textAreaBottom" fmla="*/ 671400 h 819360"/>
            </a:gdLst>
            <a:ahLst/>
            <a:rect l="textAreaLeft" t="textAreaTop" r="textAreaRight" b="textAreaBottom"/>
            <a:pathLst>
              <a:path w="23668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31162" y="21600"/>
                </a:lnTo>
                <a:arcTo wR="5527" hR="5527" stAng="10800000" swAng="5400000"/>
                <a:lnTo>
                  <a:pt x="23668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5"/>
          <p:cNvSpPr/>
          <p:nvPr/>
        </p:nvSpPr>
        <p:spPr>
          <a:xfrm>
            <a:off x="266760" y="8492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ЛіПіД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4948200" y="7034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пирт (глі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7"/>
          <p:cNvSpPr/>
          <p:nvPr/>
        </p:nvSpPr>
        <p:spPr>
          <a:xfrm>
            <a:off x="7180200" y="719280"/>
            <a:ext cx="16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WordArt 9"/>
          <p:cNvSpPr txBox="1"/>
          <p:nvPr/>
        </p:nvSpPr>
        <p:spPr>
          <a:xfrm>
            <a:off x="6819840" y="99360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133200" y="1620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ІДРОФОБ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4211640" y="11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жирових клітинах д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39528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ИРИ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тверд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952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СЛА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рідк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4716360" y="1944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-ЛіПі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7002360" y="194796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РОї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4902120" y="368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ІПОПРОТЕ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589120" y="3683160"/>
            <a:ext cx="21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ІКОЛІПІ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WordArt 20"/>
          <p:cNvSpPr txBox="1"/>
          <p:nvPr/>
        </p:nvSpPr>
        <p:spPr>
          <a:xfrm>
            <a:off x="179280" y="4581360"/>
            <a:ext cx="884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3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바탕"/>
              </a:rPr>
              <a:t>-ФУНкції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바탕"/>
              <a:ea typeface="바탕"/>
            </a:endParaRPr>
          </a:p>
        </p:txBody>
      </p:sp>
      <p:sp>
        <p:nvSpPr>
          <p:cNvPr id="941" name="Text Box 21"/>
          <p:cNvSpPr/>
          <p:nvPr/>
        </p:nvSpPr>
        <p:spPr>
          <a:xfrm>
            <a:off x="119160" y="1941480"/>
            <a:ext cx="22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ЛІЦЕР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2"/>
          <p:cNvSpPr/>
          <p:nvPr/>
        </p:nvSpPr>
        <p:spPr>
          <a:xfrm>
            <a:off x="179280" y="2349360"/>
            <a:ext cx="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3"/>
          <p:cNvSpPr/>
          <p:nvPr/>
        </p:nvSpPr>
        <p:spPr>
          <a:xfrm>
            <a:off x="179280" y="299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25"/>
          <p:cNvSpPr/>
          <p:nvPr/>
        </p:nvSpPr>
        <p:spPr>
          <a:xfrm>
            <a:off x="179280" y="4005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6"/>
          <p:cNvSpPr/>
          <p:nvPr/>
        </p:nvSpPr>
        <p:spPr>
          <a:xfrm>
            <a:off x="250920" y="234936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глицерин +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7"/>
          <p:cNvSpPr/>
          <p:nvPr/>
        </p:nvSpPr>
        <p:spPr>
          <a:xfrm>
            <a:off x="270000" y="309708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насичені (перероблені)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28"/>
          <p:cNvSpPr/>
          <p:nvPr/>
        </p:nvSpPr>
        <p:spPr>
          <a:xfrm>
            <a:off x="309600" y="4033800"/>
            <a:ext cx="21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перероблені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9"/>
          <p:cNvSpPr/>
          <p:nvPr/>
        </p:nvSpPr>
        <p:spPr>
          <a:xfrm>
            <a:off x="4716360" y="270828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церин + жирні кислоти + залишок фосфорної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2"/>
          <p:cNvSpPr/>
          <p:nvPr/>
        </p:nvSpPr>
        <p:spPr>
          <a:xfrm>
            <a:off x="2597040" y="1944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33"/>
          <p:cNvSpPr/>
          <p:nvPr/>
        </p:nvSpPr>
        <p:spPr>
          <a:xfrm>
            <a:off x="255600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іпіди + вуглево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4"/>
          <p:cNvSpPr/>
          <p:nvPr/>
        </p:nvSpPr>
        <p:spPr>
          <a:xfrm>
            <a:off x="493236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іпіди + бі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35"/>
          <p:cNvSpPr/>
          <p:nvPr/>
        </p:nvSpPr>
        <p:spPr>
          <a:xfrm>
            <a:off x="7093080" y="2335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холестерол +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9"/>
          <p:cNvSpPr/>
          <p:nvPr/>
        </p:nvSpPr>
        <p:spPr>
          <a:xfrm flipH="1">
            <a:off x="8964720" y="2335320"/>
            <a:ext cx="1440" cy="123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0"/>
          <p:cNvSpPr/>
          <p:nvPr/>
        </p:nvSpPr>
        <p:spPr>
          <a:xfrm flipH="1">
            <a:off x="8748720" y="29829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1"/>
          <p:cNvSpPr/>
          <p:nvPr/>
        </p:nvSpPr>
        <p:spPr>
          <a:xfrm flipH="1">
            <a:off x="874872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2"/>
          <p:cNvSpPr/>
          <p:nvPr/>
        </p:nvSpPr>
        <p:spPr>
          <a:xfrm>
            <a:off x="7164360" y="28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іТАМИН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3"/>
          <p:cNvSpPr/>
          <p:nvPr/>
        </p:nvSpPr>
        <p:spPr>
          <a:xfrm>
            <a:off x="7236000" y="3429000"/>
            <a:ext cx="158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РМОН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днирників, статеві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4"/>
          <p:cNvSpPr/>
          <p:nvPr/>
        </p:nvSpPr>
        <p:spPr>
          <a:xfrm>
            <a:off x="12589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5"/>
          <p:cNvSpPr/>
          <p:nvPr/>
        </p:nvSpPr>
        <p:spPr>
          <a:xfrm>
            <a:off x="349236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6"/>
          <p:cNvSpPr/>
          <p:nvPr/>
        </p:nvSpPr>
        <p:spPr>
          <a:xfrm>
            <a:off x="450072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7"/>
          <p:cNvSpPr/>
          <p:nvPr/>
        </p:nvSpPr>
        <p:spPr>
          <a:xfrm>
            <a:off x="565164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48"/>
          <p:cNvSpPr/>
          <p:nvPr/>
        </p:nvSpPr>
        <p:spPr>
          <a:xfrm>
            <a:off x="680400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49"/>
          <p:cNvSpPr/>
          <p:nvPr/>
        </p:nvSpPr>
        <p:spPr>
          <a:xfrm>
            <a:off x="79567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0"/>
          <p:cNvSpPr/>
          <p:nvPr/>
        </p:nvSpPr>
        <p:spPr>
          <a:xfrm>
            <a:off x="223920" y="50166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но-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514440" y="60228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торна (гормональ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2"/>
          <p:cNvSpPr/>
          <p:nvPr/>
        </p:nvSpPr>
        <p:spPr>
          <a:xfrm>
            <a:off x="2230560" y="52149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ергетична 39,1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3"/>
          <p:cNvSpPr/>
          <p:nvPr/>
        </p:nvSpPr>
        <p:spPr>
          <a:xfrm>
            <a:off x="64692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іт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4"/>
          <p:cNvSpPr/>
          <p:nvPr/>
        </p:nvSpPr>
        <p:spPr>
          <a:xfrm>
            <a:off x="4775040" y="5311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а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5"/>
          <p:cNvSpPr/>
          <p:nvPr/>
        </p:nvSpPr>
        <p:spPr>
          <a:xfrm>
            <a:off x="6827760" y="499896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ерело метаболічної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6"/>
          <p:cNvSpPr/>
          <p:nvPr/>
        </p:nvSpPr>
        <p:spPr>
          <a:xfrm>
            <a:off x="3191040" y="59911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хисна (терморегулято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73"/>
          <p:cNvSpPr/>
          <p:nvPr/>
        </p:nvSpPr>
        <p:spPr>
          <a:xfrm>
            <a:off x="2484360" y="5868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нзин, эфір, хлороф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5"/>
          <p:cNvSpPr/>
          <p:nvPr/>
        </p:nvSpPr>
        <p:spPr>
          <a:xfrm>
            <a:off x="2411280" y="242100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ладні ефіри вищих жирних кислот і одноатомних високомолекулярних спир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Book Antiqua"/>
              </a:rPr>
              <a:t>Д / З</a:t>
            </a:r>
            <a:endParaRPr b="0" lang="en-US" sz="5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Century Gothic"/>
              </a:rPr>
              <a:t>Підготувати характеристику вуглеводів та ліпідів по план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. Хімічний (елементний склад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2. Вміст в клітині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3. Будов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4. Властивості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5. Функції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БІОПОЛІМЕР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78920" y="1125000"/>
            <a:ext cx="8875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Verdana"/>
              </a:rPr>
              <a:t>Органічні сполуки, що мають, великі розміри наз. </a:t>
            </a:r>
            <a:r>
              <a:rPr b="1" lang="ru-RU" sz="3600" spc="-1" strike="noStrike">
                <a:solidFill>
                  <a:srgbClr val="ff33cc"/>
                </a:solidFill>
                <a:latin typeface="Verdana"/>
              </a:rPr>
              <a:t>макромолекулами</a:t>
            </a:r>
            <a:r>
              <a:rPr b="0" lang="ru-RU" sz="2400" spc="-1" strike="noStrike">
                <a:solidFill>
                  <a:srgbClr val="564b3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Макромолекули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скл. з повторюваних схожих за структурою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изькомолекулярних речовин,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язаних між собою ковалентним з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язком –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НОМЕР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тв. із мономерів макромолекула наз.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ЛІМЕРО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БІОПОЛІМЕР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8680" y="1052280"/>
            <a:ext cx="901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64b3c"/>
                </a:solidFill>
                <a:latin typeface="Century Gothic"/>
              </a:rPr>
              <a:t>Органічні сполуки, що входять до складу живих клітин наз. </a:t>
            </a:r>
            <a:r>
              <a:rPr b="1" lang="ru-RU" sz="3600" spc="-1" strike="noStrike">
                <a:solidFill>
                  <a:srgbClr val="ff33cc"/>
                </a:solidFill>
                <a:latin typeface="Arial Black"/>
              </a:rPr>
              <a:t>БІОПОЛІМЕРАМИ</a:t>
            </a:r>
            <a:r>
              <a:rPr b="1" lang="ru-RU" sz="4000" spc="-1" strike="noStrike">
                <a:solidFill>
                  <a:srgbClr val="ecedd1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53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530280">
              <a:lnSpc>
                <a:spcPct val="100000"/>
              </a:lnSpc>
              <a:spcBef>
                <a:spcPts val="10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cc"/>
                </a:solidFill>
                <a:latin typeface="Arial Black"/>
              </a:rPr>
              <a:t>БІОПОЛІМЕРИ</a:t>
            </a:r>
            <a:r>
              <a:rPr b="1" lang="ru-RU" sz="4200" spc="-1" strike="noStrike">
                <a:solidFill>
                  <a:srgbClr val="ecedd1"/>
                </a:solidFill>
                <a:latin typeface="Century Gothic"/>
              </a:rPr>
              <a:t> – </a:t>
            </a:r>
            <a:r>
              <a:rPr b="1" lang="ru-RU" sz="4200" spc="-1" strike="noStrike">
                <a:solidFill>
                  <a:srgbClr val="000000"/>
                </a:solidFill>
                <a:latin typeface="Century Gothic"/>
              </a:rPr>
              <a:t>Це лінійні чи розгалуджені ланцюги, які мають багато</a:t>
            </a:r>
            <a:r>
              <a:rPr b="1" i="1" lang="ru-RU" sz="4200" spc="-1" strike="noStrike">
                <a:solidFill>
                  <a:srgbClr val="000000"/>
                </a:solidFill>
                <a:latin typeface="Century Gothic"/>
              </a:rPr>
              <a:t> мономерних включень.</a:t>
            </a:r>
            <a:endParaRPr b="0" lang="en-US" sz="4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"/>
          <p:cNvSpPr/>
          <p:nvPr/>
        </p:nvSpPr>
        <p:spPr>
          <a:xfrm>
            <a:off x="2987640" y="1052640"/>
            <a:ext cx="3097080" cy="86364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8"/>
          <p:cNvSpPr/>
          <p:nvPr/>
        </p:nvSpPr>
        <p:spPr>
          <a:xfrm>
            <a:off x="5268960" y="4211640"/>
            <a:ext cx="3709800" cy="716040"/>
          </a:xfrm>
          <a:prstGeom prst="bevel">
            <a:avLst>
              <a:gd name="adj" fmla="val 155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7"/>
          <p:cNvSpPr/>
          <p:nvPr/>
        </p:nvSpPr>
        <p:spPr>
          <a:xfrm>
            <a:off x="1187280" y="4221000"/>
            <a:ext cx="3889440" cy="719280"/>
          </a:xfrm>
          <a:prstGeom prst="bevel">
            <a:avLst>
              <a:gd name="adj" fmla="val 1567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9"/>
          <p:cNvSpPr/>
          <p:nvPr/>
        </p:nvSpPr>
        <p:spPr>
          <a:xfrm>
            <a:off x="4788000" y="2152800"/>
            <a:ext cx="4032000" cy="699840"/>
          </a:xfrm>
          <a:prstGeom prst="bevel">
            <a:avLst>
              <a:gd name="adj" fmla="val 171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>
            <a:off x="179280" y="2205000"/>
            <a:ext cx="3313080" cy="719280"/>
          </a:xfrm>
          <a:prstGeom prst="bevel">
            <a:avLst>
              <a:gd name="adj" fmla="val 1589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457200" y="4572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іополім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3132000" y="1268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ІМ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79280" y="2349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мополі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4932360" y="22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терополі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395280" y="2924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. одним видом мономер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 – А – А – А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4932360" y="2852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. Декількома різними мономерами (А – В – С – 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133200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уля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5435640" y="429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гуля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1303200" y="4924440"/>
            <a:ext cx="36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а мономерів повторює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еріодично… А-В-А-В-А-В  .. … А-А-В-В-В-А-А-В-В-В … … А-В-С-А-В-С-А-В-С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435640" y="49435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є видимої повторюваності мономерів…А-В-А-А-В-А-В-В-В-А ... А-В-С-В-В-С-А-С-А-А-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0"/>
          <p:cNvSpPr/>
          <p:nvPr/>
        </p:nvSpPr>
        <p:spPr>
          <a:xfrm flipH="1">
            <a:off x="2842920" y="1916280"/>
            <a:ext cx="64908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1"/>
          <p:cNvSpPr/>
          <p:nvPr/>
        </p:nvSpPr>
        <p:spPr>
          <a:xfrm>
            <a:off x="5435640" y="1916280"/>
            <a:ext cx="720720" cy="217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2"/>
          <p:cNvSpPr/>
          <p:nvPr/>
        </p:nvSpPr>
        <p:spPr>
          <a:xfrm flipH="1">
            <a:off x="3708360" y="3933720"/>
            <a:ext cx="2016000" cy="2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3"/>
          <p:cNvSpPr/>
          <p:nvPr/>
        </p:nvSpPr>
        <p:spPr>
          <a:xfrm>
            <a:off x="6978600" y="38638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5"/>
          <p:cNvSpPr/>
          <p:nvPr/>
        </p:nvSpPr>
        <p:spPr>
          <a:xfrm>
            <a:off x="179280" y="2924280"/>
            <a:ext cx="3313080" cy="1081080"/>
          </a:xfrm>
          <a:prstGeom prst="roundRect">
            <a:avLst>
              <a:gd name="adj" fmla="val 8370"/>
            </a:avLst>
          </a:prstGeom>
          <a:noFill/>
          <a:ln w="381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26"/>
          <p:cNvSpPr/>
          <p:nvPr/>
        </p:nvSpPr>
        <p:spPr>
          <a:xfrm>
            <a:off x="4788000" y="2852640"/>
            <a:ext cx="4032000" cy="1081080"/>
          </a:xfrm>
          <a:prstGeom prst="roundRect">
            <a:avLst>
              <a:gd name="adj" fmla="val 11014"/>
            </a:avLst>
          </a:prstGeom>
          <a:noFill/>
          <a:ln w="381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7"/>
          <p:cNvSpPr/>
          <p:nvPr/>
        </p:nvSpPr>
        <p:spPr>
          <a:xfrm>
            <a:off x="1187280" y="4941720"/>
            <a:ext cx="3889440" cy="1727280"/>
          </a:xfrm>
          <a:prstGeom prst="roundRect">
            <a:avLst>
              <a:gd name="adj" fmla="val 114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8"/>
          <p:cNvSpPr/>
          <p:nvPr/>
        </p:nvSpPr>
        <p:spPr>
          <a:xfrm>
            <a:off x="5294160" y="4941720"/>
            <a:ext cx="3718080" cy="1727280"/>
          </a:xfrm>
          <a:prstGeom prst="roundRect">
            <a:avLst>
              <a:gd name="adj" fmla="val 9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Impact"/>
              </a:rPr>
              <a:t>БІОПОЛІМЕРИ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7600" y="5660640"/>
            <a:ext cx="6369120" cy="7923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564b3c"/>
                </a:solidFill>
                <a:latin typeface="Century Gothic"/>
              </a:rPr>
              <a:t>Властивості біополімерів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79280" y="1341360"/>
            <a:ext cx="63374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ло, склад, порядок мономе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684360" y="3500280"/>
            <a:ext cx="583236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удова вел. к-сті варіан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3348000" y="2781360"/>
            <a:ext cx="0" cy="71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3348000" y="4941720"/>
            <a:ext cx="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"/>
          <p:cNvSpPr/>
          <p:nvPr/>
        </p:nvSpPr>
        <p:spPr>
          <a:xfrm>
            <a:off x="6372360" y="1125360"/>
            <a:ext cx="718920" cy="5543640"/>
          </a:xfrm>
          <a:custGeom>
            <a:avLst/>
            <a:gdLst>
              <a:gd name="textAreaLeft" fmla="*/ 0 w 718920"/>
              <a:gd name="textAreaRight" fmla="*/ 259560 w 71892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 rot="16200000">
            <a:off x="4820400" y="3026160"/>
            <a:ext cx="56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Основа різноманіття життя на плане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324000" y="2708280"/>
            <a:ext cx="0" cy="29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Impact"/>
              </a:rPr>
              <a:t>БІОПОЛІМЕРИ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39280" y="2060280"/>
            <a:ext cx="8147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Хімічний склад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Структура (будова)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Властивості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Функції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826920" y="1268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ЛАН ХАРАКТЕРИСТ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ячеслав</dc:creator>
  <dc:description/>
  <dc:language>en-US</dc:language>
  <cp:lastModifiedBy>Вячеслав</cp:lastModifiedBy>
  <dcterms:modified xsi:type="dcterms:W3CDTF">2019-09-07T12:35:53Z</dcterms:modified>
  <cp:revision>35</cp:revision>
  <dc:subject/>
  <dc:title>PowerPoint Presentation</dc:title>
</cp:coreProperties>
</file>