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A2B-1AA6-4F75-A7CE-F86290BE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45C-9DBD-4191-8CC7-D1F6E1BE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941-0005-404F-8824-AEE34642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D99-7112-4629-8617-DE1826F3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3512-C3C2-47C2-8E53-B04D8EA8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69C1-AEC2-4750-A29C-F85700B6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C8556-17BD-4DEB-9CA0-D3B960BB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72306-8380-4841-A0BE-0A3ED53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737C-4C9B-47EE-A250-17BB8A0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8B76-DFC3-486A-8B1B-8E9B14C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D78D1-4B5F-439F-8F44-FA77A64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5A8-AF4B-4F04-BAEC-11E6FD64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1E4E3-1ABF-408C-B0A3-82E5B5D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A5814-EC27-4587-94DB-B688A37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25DE-2858-4DD7-B757-D11C6F3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FBDA-1EA2-4633-AC3E-8966AD7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4D030-FF70-4061-AF6D-C9D9BC10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A89-073C-401B-B202-5D60DEA9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239-A2BD-4A23-9975-D38CB77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367-C853-41D8-A55E-2392BF5B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492-7143-4798-A98D-EB95E56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E5D-5C42-4488-BF49-5437684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219-E83B-4A60-A1C1-E3B39BE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48-323F-4D65-9EC9-957139F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39FC9-C60E-4E65-9779-83E773D5CE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2192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F5BB31-C4ED-4899-BAFD-EF149E668A09}" type="slidenum"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60360" y="270036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1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 о в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1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800000" y="1800360"/>
            <a:ext cx="6119640" cy="66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истематическое наименование –Оксид водорода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адиционное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название-ВОДА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Химическая формула-H2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масса 18,01528г/м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Tahoma"/>
              </a:rPr>
              <a:t>Физ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остояние (стл.усл.)-жидк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Плотность 0,9982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Динамическая вязкость (стл.усл.)0,00101Па.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инематическая вязкость –0,01012см2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рм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плавления  0 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кипения 99,974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ойная точка 0,01 C 611 73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ритическая точка 374  С  22,064 М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теплоёмкость (ст.усл.) 75,37Дж/(моль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плопроводность 0,56Вт/(м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2520" y="303120"/>
            <a:ext cx="6118560" cy="113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ие с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да - прозрачная жидкость ,не имеющая цвета (в малом объёме) и запах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твёрдом состоянии называется льдом или снегом ,а в газообразном ---водяным паро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Около 71% поверхности земли покрыто водой (океаны, моря ,озёра, реки, лёд на полюсах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Является хорошим сильнополярным растворител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природных условиях всегда содержит растворённые вещества(соли, газ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ойства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о состоянию различаю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вёрдое ---ЛЁ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идкое ---В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Газообразное ---ВОДЯНОЙ П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 0 С  вод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росте давления температура кипения воды растёт ,плотность водяного пара в точке кипения тоже растёт. При температуре 374 С и давлении 22,064 МПа вода проходит критическую точку.  В этой точке плотность и другие свойства жидкой и газообразной воды совпадают .  При более высоком давлении нет разницы между жидкой водой и водяным паром ,следовательно ,нет и кипения или испар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 rot="360000">
            <a:off x="2897280" y="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ояния в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50532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ак же возможны  метастабильные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Пересыщенный пар ,перегретая жидкость ,переохлаждённая жидк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Эти состояния могут существовать длительное время ,однако они не устойчивы  и при соприкосновении с более устойчивой фазой происходит перех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Например  ,нетрудно получить переохлаждённую жидкость ,охладив чистую воду в чистом сосуде ниже 0 С,однако при появлении центра  кристаллизации  жидкая вода быстро превращается в лёд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Вода имеет ключевое значение в создании и поддержании жизни на земле ,в химическом строении живых организмов ,в формировании клим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52480" y="801720"/>
            <a:ext cx="6096240" cy="80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2-01-01T00:11:17Z</dcterms:modified>
  <cp:revision>2</cp:revision>
  <dc:subject/>
  <dc:title>PowerPoint Presentation</dc:title>
</cp:coreProperties>
</file>