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3E9E-C519-42B1-970E-4CBCBE47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6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15880"/>
            <a:ext cx="8226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62BE-1CB5-4B15-825E-A903F5F1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1588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11588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17DF-83B2-4EC7-917D-30F3E2D7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90512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90512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1588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11588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11588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BA36-84D3-4FE4-AC03-9C18442B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006F5-C50D-4F3A-8BAC-1E182001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22636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4EC6D-AE5A-4A9F-8142-53593624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6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0F5CC-7482-4889-9875-F9A13506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0F47B-09E0-40BE-9EE8-42C5FA4E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216BB-D47D-40C3-A4AD-AB9A7440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-70200"/>
            <a:ext cx="8226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D13D4-3EC1-4919-868D-C42312D3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1588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A681C-D01E-45DD-86E3-D48B36EF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22636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4EF2-59FD-4949-8BE3-2F09F94C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411588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14A34-D330-4B8A-8E61-4CE3E7DC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15880"/>
            <a:ext cx="8226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2A7FA-011F-48CE-A800-68DE4EAD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6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15880"/>
            <a:ext cx="8226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41A38-C532-4FE6-B10C-CA5E75DF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1588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411588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40425-D000-4FF3-8087-6C034B3B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90512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90512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1588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411588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411588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12270-287C-473D-981E-D2E43725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6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E6D6-8DDF-4223-9433-9EB74748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4953-FDA9-4FAF-8082-828D4412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E9B2-F162-4730-A1DA-7E613D38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70200"/>
            <a:ext cx="8226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06E3-9049-4243-B882-7BC77296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1588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AA60-046B-4389-BFEF-9224A8F8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11588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FC97-8134-4196-A5C7-E40266E0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15880"/>
            <a:ext cx="8226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983C-20A5-44D2-9EC2-137D0165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05120"/>
            <a:ext cx="8226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C44F6-72AF-4A90-8CF5-AC2265ADA4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21920"/>
            <a:ext cx="77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ff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C2AB8B3-FBBD-4049-8D44-E63D338B3547}" type="slidenum">
              <a:rPr b="0" lang="en-US" sz="1400" spc="-1" strike="noStrike">
                <a:solidFill>
                  <a:srgbClr val="ffffff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ff"/>
                </a:solidFill>
                <a:latin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260360" y="2700360"/>
            <a:ext cx="6629400" cy="1176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1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ведения о вод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1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800000" y="1800360"/>
            <a:ext cx="6119640" cy="66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Систематическое наименование –Оксид водорода 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Традиционное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название-ВОДА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Химическая формула-H2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Молярная масса 18,01528г/мол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Tahoma"/>
              </a:rPr>
              <a:t>Физические свойств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Состояние (стл.усл.)-жидкос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Плотность 0,9982 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Динамическая вязкость (стл.усл.)0,00101Па.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Кинематическая вязкость –0,01012см2/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Термические свойств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Температура плавления  0  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Температура кипения 99,974 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Тройная точка 0,01 C 611 73П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Критическая точка 374  С  22,064 МП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Молярная теплоёмкость (ст.усл.) 75,37Дж/(моль.К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Теплопроводность 0,56Вт/(м.К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2520" y="303120"/>
            <a:ext cx="6118560" cy="1136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бщие сведе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50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Вода - прозрачная жидкость ,не имеющая цвета (в малом объёме) и запаха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В твёрдом состоянии называется льдом или снегом ,а в газообразном ---водяным паром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Около 71% поверхности земли покрыто водой (океаны, моря ,озёра, реки, лёд на полюсах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Является хорошим сильнополярным растворителем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В природных условиях всегда содержит растворённые вещества(соли, газы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14400" y="7621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войства 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4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60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о состоянию различают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Твёрдое ---ЛЁ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88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Жидкое ---В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Газообразное ---ВОДЯНОЙ ПА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При  0 С  вода замерза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При росте давления температура кипения воды растёт ,плотность водяного пара в точке кипения тоже растёт. При температуре 374 С и давлении 22,064 МПа вода проходит критическую точку.  В этой точке плотность и другие свойства жидкой и газообразной воды совпадают .  При более высоком давлении нет разницы между жидкой водой и водяным паром ,следовательно ,нет и кипения или испарения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 rot="360000">
            <a:off x="2897280" y="0"/>
            <a:ext cx="495288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стояния вод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638680" y="1600200"/>
            <a:ext cx="3505320" cy="2738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8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78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Так же возможны  метастабильные состоя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78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-Пересыщенный пар ,перегретая жидкость ,переохлаждённая жидкос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78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Эти состояния могут существовать длительное время ,однако они не устойчивы  и при соприкосновении с более устойчивой фазой происходит переход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78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Например  ,нетрудно получить переохлаждённую жидкость ,охладив чистую воду в чистом сосуде ниже 0 С,однако при появлении центра  кристаллизации  жидкая вода быстро превращается в лёд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78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78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2742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Вода имеет ключевое значение в создании и поддержании жизни на земле ,в химическом строении живых организмов ,в формировании климата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752480" y="801720"/>
            <a:ext cx="6096240" cy="80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начение 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2-01-01T00:11:17Z</dcterms:modified>
  <cp:revision>2</cp:revision>
  <dc:subject/>
  <dc:title>PowerPoint Presentation</dc:title>
</cp:coreProperties>
</file>