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8E5FE-DF39-4A4D-B226-99290FAB729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9E790-C902-4BBC-9BAA-9F46D09B639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4D5C2-FEA1-4E20-A11B-5062102A3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DAE08-9C56-4C19-8421-6200EA87E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20E9A-DD12-48EB-91DD-26924997B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7BDDF-D7E9-4A91-9B95-835FF36C5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DA13E-C864-483F-843A-05F96DBB4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4EC70-F928-45F4-B5A8-CBE775E38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A56DC-AD28-4DB8-8B65-9DD61E81D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73016-EBA5-41C4-AAB6-38F880855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0E220-DEA5-49A7-AF95-7E45F4172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E1544-E0D9-45F6-BD1C-B1C0CE37B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9789E-3B0A-494A-8CFC-E928DB7B7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E685A-7CEB-4783-BCFF-96C812D75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C8F08-65EC-4607-BFCF-9F2F2AFCA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BE03C-F29F-4A51-8846-67638E001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F23D9-1BE2-4BE7-AF1D-C428395E3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381DA-D4AE-4B48-80AD-6E6915FE2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D560A-7562-40C1-95DA-FBC6E76FE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443164-28E8-4037-BBD9-2D2DD6E65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FFC3D7-DE81-4761-871C-2322AAE9A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0CE0B3-1AA5-4097-8C13-C88B537A8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127DBA-830E-4145-8446-5C494BB7F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82212F-1CEE-4A88-815D-D845C9030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D0AC7-D23C-4E7B-900B-C0659BD80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CB98EF-13DE-412C-8174-874E50A49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C53367-C15C-411C-A213-D35DBA6B3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53B117-4860-4D6C-A034-41002A92B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3AE7EB-A301-42A6-A197-FD0A6F0C5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EF1EB7-6637-4240-842D-EE92104BF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11F130-4E2E-4AE9-8227-E9F873B26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717CA4-3581-4EE3-8E25-DE3B04AEF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79EA71-C1FF-47CA-8AC1-E3C30F79A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0F8396-9F9E-4E9A-8C01-478E7CE87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1D5DFF-9650-431B-9413-1A9032A60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AADDB-1310-40DF-B540-C87C3BF7D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F46392-CCD9-4350-9343-376D10447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151296-B9AF-45F7-BA2E-793E44DC5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782142-30C3-492D-897E-C53CD7DB4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3E3D60-103F-4AAD-87D7-DB423FEE4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72962C-4103-4744-BE70-AC5BBB13A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036D65-C83A-419B-9CAF-1E6CC405C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EE976D-06A2-4029-B455-F23E3951D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0E8C61-155E-479C-8297-42BAA879A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CD9647-CD62-475B-BD06-BDB04DD50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272076-2E9F-4629-A065-8D00C89FD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5FB66-A7C4-4925-BB0F-B5D7F8227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8C1D50-351A-4865-90A3-68DF1C0F8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09CBB4-496E-48B4-B8C0-97785D5A1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E38D97-ECA9-43AE-9F6F-1C548DF7A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C7A294-63B2-405B-A68B-648D50072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FCE25C-32D4-48F0-89C4-0EC2C2107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7BA233-359B-4ACD-93EF-73181D5C5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CCE539-B853-4EE1-9E85-71B49FA02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7CBC4A-D993-4B2A-BF14-C3577E4C2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134F99-E04C-44A5-B6F3-51FBC387F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86C395-5FCD-49ED-A5FA-3B6B96BF6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B7103-ACDB-4A1E-A66B-56BE63F4D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369AF5-1707-472D-9F67-474A13592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09FEE0-6BBB-4D7C-8650-8106546ED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0059D4-04CC-4A46-B14D-531117C57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C67FD1-910F-4D85-9156-8E5EA8141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0497B4-0106-43B0-BD67-711848434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053D5F-60B0-4FE7-9082-4E89C2DF6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34857F-C0A5-463E-9832-D61D188F7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C78A58-A956-4F19-8EED-36DF19CFD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2B583F-30FD-45C5-83D7-CB63FB582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DAD9DB-7907-4126-8713-FE515442A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A4B2F-ADED-4B06-BC69-ACE992C11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6D0FEA-0FEA-4A02-940D-1EE26DDCA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082566-EF47-4F1B-918E-EA243EDE8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EE4EC3-5024-496C-83BB-F86B29EAE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E2D537-98A2-443C-9549-4B753155B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E1B785-F6F8-4717-A4F0-4EEE31CB3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B36A8D-3B83-4F2B-A029-C6F95218B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4CBE98-3311-414A-96C0-4711C9741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DC8B07-9049-4D69-B5D5-3933E3EBB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49CD68-30A8-4746-A540-4BECDF964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66CB77-88C5-41B8-B8F1-A8BB1F542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99D09-EB3B-4745-8997-A36DDC8D0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201AC2-6B02-4C73-BB94-5C317938E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8001D2-49B6-4C76-AC40-16FCE8C87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B8803D-50E2-4B90-BE8C-2C88ACA75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293578-9F84-4DD3-A028-B4991DE05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2D4443-6BED-4ACE-AEFE-728001404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13F3E4-B08F-42C5-883B-E4E33DF1C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9B2B79-454C-4624-9EF7-50CA55BE9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0D8869-FCFF-4787-88AE-28B965207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BBA81F-7EA4-47B5-B47F-2B46E059D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BFECE4-1827-4C92-9BB6-CCDFF9452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7FF0B-C61D-4521-BD56-80F3A5259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E79645-9123-4D2A-902E-05748CA2F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B1F770-BFCB-4FAE-A0AD-5CF6B2068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78F130-D4B4-43F8-BC27-D5E6F0D61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985AD4-279D-4B66-A64C-B3EB05617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0EE342-A40E-452C-8A88-8E0510F2F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0AC03F-0AD4-4C39-9AE7-80BB1D2D3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061C44-9FAA-4F0D-B4AE-AB574E8F7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666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6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66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CCFDE-4B08-4383-B6F9-BD142A055725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48" name="Freeform 3"/>
            <p:cNvSpPr/>
            <p:nvPr/>
          </p:nvSpPr>
          <p:spPr>
            <a:xfrm>
              <a:off x="0" y="3981600"/>
              <a:ext cx="3400560" cy="286380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9" name="Freeform 4"/>
            <p:cNvSpPr/>
            <p:nvPr/>
          </p:nvSpPr>
          <p:spPr>
            <a:xfrm>
              <a:off x="0" y="3902040"/>
              <a:ext cx="2943360" cy="2949480"/>
            </a:xfrm>
            <a:prstGeom prst="pie">
              <a:avLst/>
            </a:pr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0" name="Freeform 5"/>
            <p:cNvSpPr/>
            <p:nvPr/>
          </p:nvSpPr>
          <p:spPr>
            <a:xfrm>
              <a:off x="0" y="4341960"/>
              <a:ext cx="2770200" cy="250344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1" name="Freeform 6"/>
            <p:cNvSpPr/>
            <p:nvPr/>
          </p:nvSpPr>
          <p:spPr>
            <a:xfrm>
              <a:off x="0" y="4038480"/>
              <a:ext cx="2770200" cy="28069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2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3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4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B4971-81FF-439C-ABB3-FFA22A81822A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97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8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9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0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1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2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3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4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5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6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7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8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9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0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1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2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3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4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5DDE9-A530-4F34-AE69-0E2D26983B0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57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ff99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58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ff99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59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60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ff9900">
                    <a:alpha val="0"/>
                  </a:srgbClr>
                </a:gs>
                <a:gs pos="100000">
                  <a:srgbClr val="d17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61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ffa51f"/>
                </a:gs>
                <a:gs pos="100000">
                  <a:srgbClr val="ff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62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ffa51f"/>
                </a:gs>
                <a:gs pos="100000">
                  <a:srgbClr val="ff99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63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ff9900">
                    <a:alpha val="0"/>
                  </a:srgbClr>
                </a:gs>
                <a:gs pos="100000">
                  <a:srgbClr val="d17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64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ffa51f"/>
                </a:gs>
                <a:gs pos="100000">
                  <a:srgbClr val="ff99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165" name="PlaceHolder 1"/>
          <p:cNvSpPr>
            <a:spLocks noGrp="1"/>
          </p:cNvSpPr>
          <p:nvPr>
            <p:ph type="dt" idx="10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ftr" idx="11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Num" idx="12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63A6F-0FCF-48C8-B302-5A3699B3F8D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8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b28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207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08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09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10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11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12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213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666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6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66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6A154-AEAD-470F-A488-98C1D61E93F1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4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255" name="Freeform 3"/>
            <p:cNvSpPr/>
            <p:nvPr/>
          </p:nvSpPr>
          <p:spPr>
            <a:xfrm>
              <a:off x="0" y="3981600"/>
              <a:ext cx="3400560" cy="286380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56" name="Freeform 4"/>
            <p:cNvSpPr/>
            <p:nvPr/>
          </p:nvSpPr>
          <p:spPr>
            <a:xfrm>
              <a:off x="0" y="3902040"/>
              <a:ext cx="2943360" cy="2949480"/>
            </a:xfrm>
            <a:prstGeom prst="pie">
              <a:avLst/>
            </a:pr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57" name="Freeform 5"/>
            <p:cNvSpPr/>
            <p:nvPr/>
          </p:nvSpPr>
          <p:spPr>
            <a:xfrm>
              <a:off x="0" y="4341960"/>
              <a:ext cx="2770200" cy="250344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58" name="Freeform 6"/>
            <p:cNvSpPr/>
            <p:nvPr/>
          </p:nvSpPr>
          <p:spPr>
            <a:xfrm>
              <a:off x="0" y="4038480"/>
              <a:ext cx="2770200" cy="28069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59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60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61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C9B4B-5DD6-4C46-92A3-1664B25C4664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3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04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05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06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07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08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09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10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11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12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13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14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15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16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17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18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19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20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21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20F78-67C6-48AE-856D-0CF0FC325F9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364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ff99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65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ff99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66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ff9900">
                    <a:alpha val="0"/>
                  </a:srgbClr>
                </a:gs>
                <a:gs pos="100000">
                  <a:srgbClr val="d17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67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ff9900">
                    <a:alpha val="0"/>
                  </a:srgbClr>
                </a:gs>
                <a:gs pos="100000">
                  <a:srgbClr val="d17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68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ffa51f"/>
                </a:gs>
                <a:gs pos="100000">
                  <a:srgbClr val="ff99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69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ffa51f"/>
                </a:gs>
                <a:gs pos="100000">
                  <a:srgbClr val="ff99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8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b28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dt" idx="22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ftr" idx="23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sldNum" idx="24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A35FC-2660-4997-AD20-51750C958F4A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130960" cy="2087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b2b2b2"/>
                </a:solidFill>
                <a:latin typeface="Monotype Corsiva"/>
              </a:rPr>
              <a:t>Типы химических реакций</a:t>
            </a:r>
            <a:r>
              <a:rPr b="0" lang="ru-RU" sz="6000" spc="-1" strike="noStrike">
                <a:solidFill>
                  <a:srgbClr val="b2b2b2"/>
                </a:solidFill>
                <a:latin typeface="Arial"/>
              </a:rPr>
              <a:t>:</a:t>
            </a: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1258920" y="3573000"/>
            <a:ext cx="6400800" cy="30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Соединени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Разложени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Замещение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Обмен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5000" spc="-1" strike="noStrike">
                <a:solidFill>
                  <a:srgbClr val="ffcccc"/>
                </a:solidFill>
                <a:latin typeface="Arial"/>
              </a:rPr>
              <a:t>Реакция соединения.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Cu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Text Box 10"/>
          <p:cNvSpPr/>
          <p:nvPr/>
        </p:nvSpPr>
        <p:spPr>
          <a:xfrm>
            <a:off x="2124000" y="1628640"/>
            <a:ext cx="100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6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3" name="Text Box 14"/>
          <p:cNvSpPr/>
          <p:nvPr/>
        </p:nvSpPr>
        <p:spPr>
          <a:xfrm>
            <a:off x="2627280" y="2276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4" name="Text Box 16"/>
          <p:cNvSpPr/>
          <p:nvPr/>
        </p:nvSpPr>
        <p:spPr>
          <a:xfrm>
            <a:off x="1619280" y="1844640"/>
            <a:ext cx="43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5" name="Text Box 17"/>
          <p:cNvSpPr/>
          <p:nvPr/>
        </p:nvSpPr>
        <p:spPr>
          <a:xfrm>
            <a:off x="3348000" y="2133720"/>
            <a:ext cx="5796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ff00"/>
                </a:solidFill>
                <a:uFillTx/>
                <a:latin typeface="Comic Sans MS"/>
              </a:rPr>
              <a:t>Реакция соединения</a:t>
            </a:r>
            <a:r>
              <a:rPr b="0" lang="ru-RU" sz="3600" spc="-1" strike="noStrike">
                <a:solidFill>
                  <a:srgbClr val="ffffff"/>
                </a:solidFill>
                <a:latin typeface="Comic Sans MS"/>
              </a:rPr>
              <a:t> -это реакция, при которой </a:t>
            </a:r>
            <a:r>
              <a:rPr b="1" lang="ru-RU" sz="3600" spc="-1" strike="noStrike" u="sng">
                <a:solidFill>
                  <a:srgbClr val="00ff00"/>
                </a:solidFill>
                <a:uFillTx/>
                <a:latin typeface="Comic Sans MS"/>
              </a:rPr>
              <a:t>из двух</a:t>
            </a:r>
            <a:r>
              <a:rPr b="1" lang="ru-RU" sz="3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ru-RU" sz="3600" spc="-1" strike="noStrike" u="sng">
                <a:solidFill>
                  <a:srgbClr val="00ff00"/>
                </a:solidFill>
                <a:uFillTx/>
                <a:latin typeface="Comic Sans MS"/>
              </a:rPr>
              <a:t>или</a:t>
            </a:r>
            <a:r>
              <a:rPr b="0" lang="ru-RU" sz="3600" spc="-1" strike="noStrike" u="sng">
                <a:solidFill>
                  <a:srgbClr val="00ff00"/>
                </a:solidFill>
                <a:uFillTx/>
                <a:latin typeface="Comic Sans MS"/>
              </a:rPr>
              <a:t> </a:t>
            </a:r>
            <a:r>
              <a:rPr b="1" lang="ru-RU" sz="3600" spc="-1" strike="noStrike" u="sng">
                <a:solidFill>
                  <a:srgbClr val="00ff00"/>
                </a:solidFill>
                <a:uFillTx/>
                <a:latin typeface="Comic Sans MS"/>
              </a:rPr>
              <a:t>нескольких</a:t>
            </a:r>
            <a:r>
              <a:rPr b="0" lang="ru-RU" sz="3600" spc="-1" strike="noStrike">
                <a:solidFill>
                  <a:srgbClr val="ffffff"/>
                </a:solidFill>
                <a:latin typeface="Comic Sans MS"/>
              </a:rPr>
              <a:t> простых веществ образуется </a:t>
            </a:r>
            <a:r>
              <a:rPr b="1" lang="ru-RU" sz="3600" spc="-1" strike="noStrike" u="sng">
                <a:solidFill>
                  <a:srgbClr val="00ff00"/>
                </a:solidFill>
                <a:uFillTx/>
                <a:latin typeface="Comic Sans MS"/>
              </a:rPr>
              <a:t>одно</a:t>
            </a:r>
            <a:r>
              <a:rPr b="0" lang="ru-RU" sz="3600" spc="-1" strike="noStrike" u="sng">
                <a:solidFill>
                  <a:srgbClr val="ffffff"/>
                </a:solidFill>
                <a:uFillTx/>
                <a:latin typeface="Comic Sans MS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Comic Sans MS"/>
              </a:rPr>
              <a:t>сложное вещество.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556 0.046 L 0.09219 0.30814 E">
                                      <p:cBhvr>
                                        <p:cTn id="33" dur="2000" fill="hold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066 0.07351 L 0.02848 0.2938 E">
                                      <p:cBhvr>
                                        <p:cTn id="35" dur="2000" fill="hold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0" dur="2000"/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ru-RU" sz="5400" spc="-1" strike="noStrike">
                <a:solidFill>
                  <a:srgbClr val="ffffcc"/>
                </a:solidFill>
                <a:latin typeface="Times New Roman"/>
              </a:rPr>
              <a:t>Реакция разложения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395280" y="1773000"/>
            <a:ext cx="129528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Text Box 4"/>
          <p:cNvSpPr/>
          <p:nvPr/>
        </p:nvSpPr>
        <p:spPr>
          <a:xfrm>
            <a:off x="2411280" y="1628640"/>
            <a:ext cx="6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9" name="Text Box 8"/>
          <p:cNvSpPr/>
          <p:nvPr/>
        </p:nvSpPr>
        <p:spPr>
          <a:xfrm>
            <a:off x="1619280" y="1773360"/>
            <a:ext cx="1152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8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30" name="Text Box 10"/>
          <p:cNvSpPr/>
          <p:nvPr/>
        </p:nvSpPr>
        <p:spPr>
          <a:xfrm>
            <a:off x="5076720" y="5516640"/>
            <a:ext cx="5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31" name="Text Box 11"/>
          <p:cNvSpPr/>
          <p:nvPr/>
        </p:nvSpPr>
        <p:spPr>
          <a:xfrm>
            <a:off x="2700360" y="4941720"/>
            <a:ext cx="93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5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32" name="Text Box 13"/>
          <p:cNvSpPr/>
          <p:nvPr/>
        </p:nvSpPr>
        <p:spPr>
          <a:xfrm>
            <a:off x="3132000" y="1773360"/>
            <a:ext cx="6012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ff00"/>
                </a:solidFill>
                <a:latin typeface="Comic Sans MS"/>
              </a:rPr>
              <a:t>Реакция разложения</a:t>
            </a:r>
            <a:r>
              <a:rPr b="0" lang="ru-RU" sz="3600" spc="-1" strike="noStrike">
                <a:solidFill>
                  <a:srgbClr val="ffffff"/>
                </a:solidFill>
                <a:latin typeface="Comic Sans MS"/>
              </a:rPr>
              <a:t> - это реакция, при которой </a:t>
            </a:r>
            <a:r>
              <a:rPr b="0" lang="ru-RU" sz="3600" spc="-1" strike="noStrike">
                <a:solidFill>
                  <a:srgbClr val="00ff00"/>
                </a:solidFill>
                <a:latin typeface="Comic Sans MS"/>
              </a:rPr>
              <a:t>одно </a:t>
            </a:r>
            <a:r>
              <a:rPr b="0" lang="ru-RU" sz="3600" spc="-1" strike="noStrike">
                <a:solidFill>
                  <a:srgbClr val="ffffff"/>
                </a:solidFill>
                <a:latin typeface="Comic Sans MS"/>
              </a:rPr>
              <a:t>сложное вещество распадается на </a:t>
            </a:r>
            <a:r>
              <a:rPr b="0" lang="ru-RU" sz="3600" spc="-1" strike="noStrike">
                <a:solidFill>
                  <a:srgbClr val="00ff00"/>
                </a:solidFill>
                <a:latin typeface="Comic Sans MS"/>
              </a:rPr>
              <a:t>два или</a:t>
            </a:r>
            <a:r>
              <a:rPr b="0" lang="ru-RU" sz="3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ru-RU" sz="3600" spc="-1" strike="noStrike">
                <a:solidFill>
                  <a:srgbClr val="00ff00"/>
                </a:solidFill>
                <a:latin typeface="Comic Sans MS"/>
              </a:rPr>
              <a:t>несколько</a:t>
            </a:r>
            <a:r>
              <a:rPr b="0" lang="ru-RU" sz="3600" spc="-1" strike="noStrike">
                <a:solidFill>
                  <a:srgbClr val="ffffff"/>
                </a:solidFill>
                <a:latin typeface="Comic Sans MS"/>
              </a:rPr>
              <a:t> простых вещества.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145 0.08946 L 0.06719 0.45654 E">
                                      <p:cBhvr>
                                        <p:cTn id="46" dur="2000" fill="hold"/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7275 0.11419 L 0.28542 0.47064 E">
                                      <p:cBhvr>
                                        <p:cTn id="48" dur="2000" fill="hold"/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2000"/>
                            </p:stCondLst>
                            <p:childTnLst>
                              <p:par>
                                <p:cTn id="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6600"/>
                </a:solidFill>
                <a:latin typeface="Arial Black"/>
              </a:rPr>
              <a:t>   </a:t>
            </a:r>
            <a:r>
              <a:rPr b="1" lang="ru-RU" sz="4400" spc="-1" strike="noStrike">
                <a:solidFill>
                  <a:srgbClr val="ffffff"/>
                </a:solidFill>
                <a:latin typeface="Arial Black"/>
              </a:rPr>
              <a:t>Реакция замещения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539280" y="5157720"/>
            <a:ext cx="1584360" cy="11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Fe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Text Box 4"/>
          <p:cNvSpPr/>
          <p:nvPr/>
        </p:nvSpPr>
        <p:spPr>
          <a:xfrm>
            <a:off x="1835280" y="5229360"/>
            <a:ext cx="100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36" name="Text Box 6"/>
          <p:cNvSpPr/>
          <p:nvPr/>
        </p:nvSpPr>
        <p:spPr>
          <a:xfrm>
            <a:off x="2627280" y="5013360"/>
            <a:ext cx="93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7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37" name="Text Box 7"/>
          <p:cNvSpPr/>
          <p:nvPr/>
        </p:nvSpPr>
        <p:spPr>
          <a:xfrm>
            <a:off x="3276720" y="5013360"/>
            <a:ext cx="129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Cl</a:t>
            </a:r>
            <a:endParaRPr b="0" lang="en-US" sz="7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38" name="Text Box 13"/>
          <p:cNvSpPr/>
          <p:nvPr/>
        </p:nvSpPr>
        <p:spPr>
          <a:xfrm>
            <a:off x="395280" y="1844640"/>
            <a:ext cx="8424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Comic Sans MS"/>
              </a:rPr>
              <a:t> </a:t>
            </a:r>
            <a:r>
              <a:rPr b="0" lang="ru-RU" sz="4000" spc="-1" strike="noStrike">
                <a:solidFill>
                  <a:srgbClr val="000066"/>
                </a:solidFill>
                <a:latin typeface="Comic Sans MS"/>
              </a:rPr>
              <a:t>Реакция замещения -это реакция, при которой </a:t>
            </a:r>
            <a:r>
              <a:rPr b="0" lang="ru-RU" sz="4000" spc="-1" strike="noStrike">
                <a:solidFill>
                  <a:srgbClr val="ff6600"/>
                </a:solidFill>
                <a:latin typeface="Comic Sans MS"/>
              </a:rPr>
              <a:t>атомы простого</a:t>
            </a:r>
            <a:r>
              <a:rPr b="0" lang="ru-RU" sz="4000" spc="-1" strike="noStrike">
                <a:solidFill>
                  <a:srgbClr val="000066"/>
                </a:solidFill>
                <a:latin typeface="Comic Sans MS"/>
              </a:rPr>
              <a:t> вещества замещают </a:t>
            </a:r>
            <a:r>
              <a:rPr b="0" lang="ru-RU" sz="4000" spc="-1" strike="noStrike">
                <a:solidFill>
                  <a:srgbClr val="ff6600"/>
                </a:solidFill>
                <a:latin typeface="Comic Sans MS"/>
              </a:rPr>
              <a:t>атомы в сложном</a:t>
            </a:r>
            <a:r>
              <a:rPr b="0" lang="ru-RU" sz="4000" spc="-1" strike="noStrike">
                <a:solidFill>
                  <a:srgbClr val="000066"/>
                </a:solidFill>
                <a:latin typeface="Comic Sans MS"/>
              </a:rPr>
              <a:t> веществе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39" name="Rectangle 14"/>
          <p:cNvSpPr/>
          <p:nvPr/>
        </p:nvSpPr>
        <p:spPr>
          <a:xfrm>
            <a:off x="900000" y="5516640"/>
            <a:ext cx="792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698 -0.02288 C -0.0349 -0.0349 -0.03229 -0.04623 -0.03038 -0.05848 C -0.03108 -0.06842 -0.03108 -0.07836 -0.03264 -0.08807 C -0.03333 -0.09246 -0.03698 -0.09547 -0.03698 -0.09986 C -0.03698 -0.11766 -0.03507 -0.13546 -0.03264 -0.15302 C -0.02934 -0.17776 -0.00365 -0.18169 0.00955 -0.19163 C 0.01962 -0.19926 0.01979 -0.2055 0.03177 -0.2092 C 0.04445 -0.22052 0.05938 -0.23277 0.07413 -0.23878 C 0.08316 -0.24688 0.09254 -0.25034 0.10295 -0.25358 C 0.11597 -0.26236 0.12899 -0.27415 0.14288 -0.28039 C 0.19774 -0.27947 0.2526 -0.28016 0.30747 -0.27739 C 0.32135 -0.27669 0.33594 -0.26514 0.34965 -0.26259 C 0.35903 -0.22491 0.37344 -0.16897 0.34514 -0.14123 C 0.32535 -0.12182 0.28247 -0.11511 0.25851 -0.11165 C 0.25035 -0.11049 0.24219 -0.11003 0.23403 -0.10864 C 0.225 -0.10702 0.20747 -0.10286 0.20747 -0.10263 C 0.20347 -0.09616 0.19913 -0.09084 0.19826 -0.08206 C 0.19427 -0.03305 0.2026 -0.05316 0.19184 -0.03166 C 0.19097 -0.02774 0.19045 -0.02381 0.18958 -0.01988 C 0.18889 -0.01687 0.18733 -0.01109 0.18733 -0.01086 E">
                                      <p:cBhvr>
                                        <p:cTn id="62" dur="2000" fill="hold"/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2000"/>
                            </p:stCondLst>
                            <p:childTnLst>
                              <p:par>
                                <p:cTn id="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796 0.02358 C -0.00018 0.04254 -0.03421 0.01688 -0.01476 0.03837 C -0.01216 0.04115 -0.00868 0.04207 -0.00573 0.04438 C 0.01319 0.05918 0.03211 0.07444 0.05416 0.07975 C 0.05937 0.08091 0.06458 0.08183 0.06979 0.08276 C 0.08159 0.08484 0.10538 0.08877 0.10538 0.089 C 0.11857 0.09524 0.1335 0.09917 0.14531 0.10934 C 0.17343 0.10749 0.20156 0.1061 0.22968 0.10356 C 0.24479 0.10217 0.25729 0.08761 0.27204 0.08276 C 0.28993 0.07074 0.30816 0.06843 0.3276 0.06496 C 0.34045 0.06265 0.35086 0.05502 0.36302 0.05016 C 0.36961 0.04739 0.37639 0.04646 0.38316 0.04438 C 0.39027 0.03791 0.39583 0.03005 0.40312 0.02358 C 0.40989 0.00994 0.41093 -0.00624 0.41649 -0.0208 C 0.42152 -0.06403 0.42291 -0.06888 0.41649 -0.13615 C 0.41579 -0.14332 0.41076 -0.1484 0.40746 -0.15395 C 0.39357 -0.1773 0.3809 -0.21267 0.35868 -0.22191 C 0.34566 -0.23509 0.3342 -0.25982 0.31857 -0.2663 C 0.30329 -0.28178 0.2868 -0.29658 0.26979 -0.3079 C 0.26354 -0.31207 0.25833 -0.319 0.25191 -0.3227 C 0.22795 -0.33611 0.20104 -0.3442 0.17639 -0.35506 C 0.15642 -0.36384 0.13611 -0.37448 0.11649 -0.38465 C 0.02812 -0.38326 -0.01632 -0.39343 -0.08577 -0.36986 C -0.0948 -0.362 -0.10591 -0.3546 -0.11476 -0.34628 C -0.11736 -0.34397 -0.11875 -0.3398 -0.12136 -0.33749 C -0.12396 -0.33495 -0.12743 -0.33403 -0.13021 -0.33148 C -0.14306 -0.32016 -0.15521 -0.30721 -0.16806 -0.29588 C -0.17952 -0.28571 -0.18455 -0.27554 -0.19254 -0.26052 C -0.19462 -0.25659 -0.19914 -0.24873 -0.19914 -0.2485 C -0.20226 -0.23231 -0.20573 -0.23231 -0.2125 -0.21914 C -0.21684 -0.2018 -0.21372 -0.2129 -0.22361 -0.18654 C -0.22535 -0.18169 -0.22639 -0.16759 -0.22796 -0.16274 C -0.23056 -0.15464 -0.23438 -0.14725 -0.23698 -0.13916 C -0.23976 -0.1306 -0.24792 -0.11928 -0.24809 -0.10957 C -0.24879 -0.07906 -0.24809 -0.04831 -0.24809 -0.0178 E">
                                      <p:cBhvr>
                                        <p:cTn id="65" dur="2000" fill="hold"/>
                                        <p:tgtEl>
                                          <p:spTgt spid="4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4000"/>
                            </p:stCondLst>
                            <p:childTnLst>
                              <p:par>
                                <p:cTn id="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3" dur="500"/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Реакция обмена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1738440" cy="162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Arial"/>
              </a:rPr>
              <a:t>Ag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Text Box 4"/>
          <p:cNvSpPr/>
          <p:nvPr/>
        </p:nvSpPr>
        <p:spPr>
          <a:xfrm>
            <a:off x="1908000" y="1700280"/>
            <a:ext cx="28814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Arial"/>
              </a:rPr>
              <a:t>NO</a:t>
            </a:r>
            <a:r>
              <a:rPr b="0" lang="en-US" sz="8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endParaRPr b="0" lang="en-US" sz="8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43" name="Text Box 5"/>
          <p:cNvSpPr/>
          <p:nvPr/>
        </p:nvSpPr>
        <p:spPr>
          <a:xfrm>
            <a:off x="4572000" y="1773360"/>
            <a:ext cx="1150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8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44" name="Text Box 6"/>
          <p:cNvSpPr/>
          <p:nvPr/>
        </p:nvSpPr>
        <p:spPr>
          <a:xfrm>
            <a:off x="6300720" y="1628640"/>
            <a:ext cx="2089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8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45" name="Text Box 7"/>
          <p:cNvSpPr/>
          <p:nvPr/>
        </p:nvSpPr>
        <p:spPr>
          <a:xfrm>
            <a:off x="7164360" y="1628640"/>
            <a:ext cx="1727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Arial"/>
              </a:rPr>
              <a:t>Cl</a:t>
            </a:r>
            <a:endParaRPr b="0" lang="en-US" sz="8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46" name="Text Box 8"/>
          <p:cNvSpPr/>
          <p:nvPr/>
        </p:nvSpPr>
        <p:spPr>
          <a:xfrm>
            <a:off x="971640" y="3500280"/>
            <a:ext cx="77770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omic Sans MS"/>
              </a:rPr>
              <a:t>Реакция обмена - это реакция, при которой два сложных вещества обмениваются своими составными частями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445 -0.17221 C -0.04254 -0.18446 -0.04028 -0.19787 -0.03768 -0.21035 C -0.03646 -0.21636 -0.03664 -0.22353 -0.03334 -0.22815 C -0.02882 -0.23393 -0.02448 -0.23971 -0.01997 -0.24572 C -0.00938 -0.25982 -0.01511 -0.25566 -0.00434 -0.26075 C -0.00209 -0.26283 0.00017 -0.26421 0.00225 -0.26652 C 0.00468 -0.2693 0.00642 -0.27277 0.00902 -0.27577 C 0.01632 -0.28224 0.01857 -0.28109 0.02673 -0.28432 C 0.04097 -0.28987 0.05503 -0.29796 0.06892 -0.3049 C 0.07812 -0.30952 0.08368 -0.31669 0.0934 -0.31992 C 0.10868 -0.3331 0.10173 -0.32917 0.11336 -0.33449 C 0.12118 -0.34258 0.13003 -0.34766 0.13784 -0.35529 C 0.15208 -0.36893 0.1368 -0.36061 0.15121 -0.36708 C 0.16527 -0.36592 0.18229 -0.37263 0.1934 -0.36107 C 0.2118 -0.34211 0.22066 -0.31045 0.2401 -0.29311 C 0.25069 -0.27415 0.25382 -0.2545 0.26232 -0.23393 C 0.26666 -0.2233 0.27291 -0.21451 0.27777 -0.20434 C 0.28559 -0.1877 0.28993 -0.17013 0.29791 -0.15395 C 0.30017 -0.13777 0.30104 -0.1202 0.30451 -0.10379 C 0.30625 -0.09524 0.31111 -0.0883 0.31336 -0.07998 C 0.31597 -0.06981 0.31857 -0.04762 0.32013 -0.0356 C 0.321 0.00185 0.31753 0.04022 0.32448 0.07652 C 0.32986 0.10495 0.33941 0.13223 0.3467 0.1595 C 0.35121 0.17615 0.35156 0.19302 0.35555 0.2099 C 0.35711 0.23949 0.35729 0.2693 0.36007 0.29866 C 0.36041 0.30213 0.36354 0.30421 0.36458 0.30745 C 0.3684 0.31947 0.37031 0.33357 0.37343 0.34582 C 0.37569 0.3553 0.38507 0.3583 0.39114 0.36385 C 0.42673 0.39598 0.41545 0.38997 0.43559 0.39922 C 0.47986 0.39298 0.4427 0.40338 0.46666 0.38743 C 0.47083 0.38465 0.48003 0.38142 0.48003 0.38165 C 0.48958 0.3687 0.49809 0.35206 0.51111 0.34582 C 0.51371 0.33542 0.51684 0.31716 0.52222 0.30745 C 0.52882 0.29566 0.53159 0.29889 0.53559 0.28687 C 0.53993 0.2737 0.5427 0.2589 0.5467 0.2455 C 0.55347 0.22307 0.5493 0.2344 0.55347 0.21591 C 0.55555 0.20689 0.55781 0.19811 0.56007 0.18909 C 0.56076 0.18609 0.56232 0.18008 0.56232 0.18008 C 0.56302 0.17245 0.56302 0.16436 0.56458 0.15673 C 0.56527 0.15326 0.56823 0.15118 0.56892 0.14771 C 0.57135 0.13708 0.57135 0.12575 0.57343 0.11512 C 0.57413 0.10033 0.57569 0.0853 0.57569 0.07074 C 0.57569 0.0393 0.57517 0.00763 0.57343 -0.02381 C 0.57309 -0.02889 0.57118 -0.0141 0.57118 -0.00901 E">
                                      <p:cBhvr>
                                        <p:cTn id="79" dur="2000" fill="hold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434 0.02728 C -0.00504 0.05202 -0.00382 0.07675 -0.0066 0.10125 C -0.00695 0.10472 -0.01146 0.10449 -0.0132 0.10726 C -0.01458 0.10957 -0.01424 0.1135 -0.01545 0.11605 C -0.02014 0.12622 -0.0316 0.14124 -0.03767 0.14864 C -0.04722 0.15997 -0.0592 0.1669 -0.06875 0.17823 C -0.07344 0.18378 -0.07708 0.19094 -0.08212 0.19603 C -0.08507 0.19903 -0.08854 0.20111 -0.09097 0.20481 C -0.10052 0.21891 -0.10382 0.23324 -0.11545 0.24342 C -0.12413 0.26283 -0.12448 0.26168 -0.13993 0.27 C -0.14913 0.28248 -0.15729 0.29358 -0.16875 0.30259 C -0.17448 0.30698 -0.1809 0.30953 -0.18646 0.31438 C -0.2059 0.33149 -0.2257 0.34189 -0.24879 0.34698 C -0.31806 0.38304 -0.30573 0.35391 -0.44879 0.34698 C -0.47049 0.33727 -0.49167 0.3271 -0.5132 0.31739 C -0.52413 0.30514 -0.5349 0.29797 -0.54653 0.2878 C -0.55729 0.26838 -0.55972 0.24342 -0.56875 0.22261 C -0.59392 0.16505 -0.57448 0.21683 -0.58646 0.18424 C -0.58976 0.16205 -0.59688 0.12622 -0.6066 0.10726 C -0.60399 0.00625000000000001 -0.61823 0.03999 -0.58872 0.0007 E">
                                      <p:cBhvr>
                                        <p:cTn id="81" dur="2000" fill="hold"/>
                                        <p:tgtEl>
                                          <p:spTgt spid="4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24000" y="228600"/>
            <a:ext cx="836280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66"/>
                </a:solidFill>
                <a:latin typeface="Arial"/>
              </a:rPr>
              <a:t>С какими типами химических реакций мы сегодня познакомились?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68000" y="2276640"/>
            <a:ext cx="821844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6666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6600"/>
                </a:solidFill>
                <a:latin typeface="Arial"/>
              </a:rPr>
              <a:t>Соединени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6666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6600"/>
                </a:solidFill>
                <a:latin typeface="Arial"/>
              </a:rPr>
              <a:t>                           </a:t>
            </a:r>
            <a:r>
              <a:rPr b="1" lang="ru-RU" sz="4400" spc="-1" strike="noStrike">
                <a:solidFill>
                  <a:srgbClr val="424458"/>
                </a:solidFill>
                <a:latin typeface="Arial"/>
              </a:rPr>
              <a:t>Разложени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6666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6666ff"/>
                </a:solidFill>
                <a:latin typeface="Arial"/>
              </a:rPr>
              <a:t>Замещение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6666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cc00"/>
                </a:solidFill>
                <a:latin typeface="Arial"/>
              </a:rPr>
              <a:t>                                 </a:t>
            </a:r>
            <a:r>
              <a:rPr b="1" lang="ru-RU" sz="5400" spc="-1" strike="noStrike">
                <a:solidFill>
                  <a:srgbClr val="0000ff"/>
                </a:solidFill>
                <a:latin typeface="Arial"/>
              </a:rPr>
              <a:t>Обмен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9" dur="500"/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4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9" dur="500"/>
                                        <p:tgtEl>
                                          <p:spTgt spid="4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4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4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0" dur="500"/>
                                        <p:tgtEl>
                                          <p:spTgt spid="4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4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4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4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xit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amond(in)" transition="out">
                                      <p:cBhvr additive="repl">
                                        <p:cTn id="132" dur="2000"/>
                                        <p:tgtEl>
                                          <p:spTgt spid="4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8" dur="500"/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1" dur="500"/>
                                        <p:tgtEl>
                                          <p:spTgt spid="4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4" dur="500"/>
                                        <p:tgtEl>
                                          <p:spTgt spid="4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7" dur="500"/>
                                        <p:tgtEl>
                                          <p:spTgt spid="4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Ответы на задание в карточке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А)   2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Cu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i="1" lang="ru-RU" sz="3200" spc="-1" strike="noStrike" baseline="-25000">
                <a:solidFill>
                  <a:srgbClr val="ffffff"/>
                </a:solidFill>
                <a:latin typeface="Arial"/>
              </a:rPr>
              <a:t>2 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= 2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CuO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 - соедине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Б) 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NaOH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HNO</a:t>
            </a:r>
            <a:r>
              <a:rPr b="0" i="1" lang="ru-RU" sz="3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NaNO</a:t>
            </a:r>
            <a:r>
              <a:rPr b="0" i="1" lang="ru-RU" sz="3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i="1" lang="ru-RU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 - обме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)   C + FeO = Fe + CO  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- замеще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Г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)   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Ag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O=  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Ag +  O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i="1" lang="ru-RU" sz="32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- разложе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4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4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4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0" fill="hold"/>
                                        <p:tgtEl>
                                          <p:spTgt spid="4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0" fill="hold"/>
                                        <p:tgtEl>
                                          <p:spTgt spid="4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4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4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4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4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0" y="765000"/>
            <a:ext cx="914400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Д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)   H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+ CuO =  Cu +H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O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 - замеще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Е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)   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HgO=  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Hg + O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- разложе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   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Ж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)   MgO + 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HF = MgF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+ H2O 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 - замеще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З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)   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P + 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Cl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 = 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PCl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i="1" lang="ru-RU" sz="3200" spc="-1" strike="noStrike" baseline="-25000">
                <a:solidFill>
                  <a:srgbClr val="ffffff"/>
                </a:solidFill>
                <a:latin typeface="Arial"/>
              </a:rPr>
              <a:t> - 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соедине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1" dur="2000"/>
                                        <p:tgtEl>
                                          <p:spTgt spid="4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4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4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8" dur="1000"/>
                                        <p:tgtEl>
                                          <p:spTgt spid="4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4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4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5" dur="1000"/>
                                        <p:tgtEl>
                                          <p:spTgt spid="4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4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4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12:45:23Z</dcterms:created>
  <dc:creator>Дрон</dc:creator>
  <dc:description/>
  <dc:language>en-US</dc:language>
  <cp:lastModifiedBy>Admin</cp:lastModifiedBy>
  <dcterms:modified xsi:type="dcterms:W3CDTF">2016-11-26T19:07:36Z</dcterms:modified>
  <cp:revision>26</cp:revision>
  <dc:subject/>
  <dc:title>Типы химических реакций: </dc:title>
</cp:coreProperties>
</file>