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8F36-37BE-4A6F-AEB2-5D4E7EF2B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612-2B4A-4DE2-BBD8-49C02664A3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D4F-856B-4253-83E1-4BB7E7C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AF2-ACD5-4E78-BCFB-7F441764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BBF-E845-4217-9C28-7AF5A78A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8F5-3070-4BF8-844A-E275D46C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BD1E-373D-494D-B8E2-20512477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4E01-D462-4E56-8AD0-CEFDB45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42CB-6BE6-426C-A14F-EA78E1E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0D69-2313-44CE-B5AE-D1F4033E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EC0-93D4-4593-89CF-3551C124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2FD-3EE6-4C81-87E8-92C2E37B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80D-58AA-4C7D-A19C-17149F5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E8C-1A6E-4931-88AE-59A7AE8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54CF-28AA-4298-9495-D69C67E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7655-4275-4926-9D6A-2978696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D500-DE95-4DA5-92CF-22EAC80C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E9B-E799-4965-A1AF-D93D7EA6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1B5A-4919-4544-9DFA-495A8929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7723-A409-4658-8603-CB06EAB0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F51A-1BCE-4445-83BF-AB1DAAA6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213E-ABB5-400E-A429-89A8429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E1D7-ED18-416F-9CC5-A56F2DB0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6743-2718-41A1-81D7-B3409FA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115-5F9F-43E3-AE19-97C84DE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4906-DBD8-4406-9EAD-2571F14C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A588-1938-44E6-90CF-C6EEB40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85C5-5BD4-4EF3-B81E-F759A8E3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AA36-E666-49C5-8A35-D74AC54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18FE-D556-4FAC-AB48-41EF4E47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451F-1CC7-4A01-98A0-944BFDC3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1E5D-0537-4F31-90B9-209E2150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11D6-2AAC-4EDB-B988-0AAE7236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2E76-4212-4605-81CF-627E1FEC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72C6-0D4A-429A-A85A-8987225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54A-4BE8-44E7-ADFB-939ABEC9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81909-50F4-4414-B724-6B1D5ACB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F0E2-9E28-4D5E-9B0C-91253EA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3DAA-AD26-44E0-A191-63687F4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02E4-587F-4FF1-B6FE-BC38ED9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1A75-E253-4DB4-BD43-070B490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7BD5-98EF-4C4C-A353-E942A55D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D9B6-5BDB-476B-91D0-077DF6BB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7C0A-6FFC-4B75-83F2-34357521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A40F-53D5-4C27-8BD4-00A91BEF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5910C-C37E-4355-B563-7A792693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751-A49B-454F-A4FD-220B6CBA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9429E-D9F6-4616-B6D6-4113314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80E7-C2B8-467B-807E-7E28B48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2A8C-A71C-4159-B9B9-28C0ADE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EB89-A9D4-42FD-922E-2D154013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20C1F-2451-4316-A610-EDA5E10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BF6EA-EABD-4372-BD30-4E07B0CF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B3BC-DEF4-462C-9336-C611B01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3BF31-A508-4832-9954-8F39014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027D1-1B7B-4989-B8E6-1B3C544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EB775-72A3-4341-965A-B462864B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248-7BBA-4CDE-8FA9-6823192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B28C-A8EE-47AE-8370-B5E45C0F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8A67C-96E4-42F1-AD62-31E1BC3E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7E52D-CE35-4806-89EE-265FF30D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8F7EB-FFA0-4784-80F3-2B7F0B3B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1ACD-626C-4748-B75C-ACD4117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230C-05AA-43F9-BA78-87C61753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4E300-505A-49B4-B76C-1458561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F15A-7B2D-476D-9D00-9503972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77D4-79D3-482F-9D90-1873D1D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5E40-6F88-407E-BA44-9FA503AF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957-E809-409E-B37B-038ED3A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1144-0F09-458A-B167-7163A9DC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E20E-0CBA-4CC3-AA24-A444D43B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13EE7-1B9B-4A09-9C55-E5F18760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609D-10F8-4576-A3AC-345668E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A2E6-483E-40C3-B871-5020E79B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A31D-1CA4-4090-90CB-F9ED089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4DA3-8EA5-478C-B04D-4EB3B3E9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B1ED1-1932-448C-A758-B61C7A1A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6DC89-8059-4CA8-A15B-A1490C7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9D4F-CE3F-4F3E-9BD0-D5B16BF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A6F-7ECC-413E-8805-1BD65BC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DD2A-13E7-4D26-A7FB-9DD97C2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3740A-7405-43AF-98A1-0E587CD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CC07-22E1-474B-B9FF-DC864FF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2280-2C20-43D5-8134-3221004B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8C8E-A888-4D80-9F89-60AF3C68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DCD9-2B2A-4DDB-977D-95C755DE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43F6-FD39-4F6F-89C9-CC04F2AC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26EA7-8D7F-476F-BD5B-C49103C5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148E-0105-42D4-851B-32976E7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4603D-9C9E-4F9D-ABA0-741027BF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E16-9608-48EB-BCE5-F287653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6FA7-B4B3-497E-A323-CFC20E9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03797-5FC5-44BD-A6EC-2219E8A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3F541-305C-4ED7-9736-92EBCFF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3995-164A-4982-84DD-4DFED14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06E74-2233-4788-89A6-DA81AB0B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B350C-1C3C-4887-A501-43DBCC2B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2482-3EE4-466E-AD19-CB4A7640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46F-A35E-4A9D-9FF7-8C061CD0DE7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A863-2DA2-467D-A34D-F1694C5F74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1BBD-42DB-44E0-923A-5E06FC35E1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2E2-7893-49F6-B8C7-E6815C93C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BC6A-1662-4DD7-8879-CC54270038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B071-99FE-4F23-B67A-53DCF3B7A13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61C7-76D0-481D-91F8-761FE3A6DE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6AFD-6FB6-4007-A9C5-2112894425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3096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Monotype Corsiva"/>
              </a:rPr>
              <a:t>Типы химических реакций</a:t>
            </a: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58920" y="357300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ед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ещение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м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5000" spc="-1" strike="noStrike">
                <a:solidFill>
                  <a:srgbClr val="ffcccc"/>
                </a:solidFill>
                <a:latin typeface="Arial"/>
              </a:rPr>
              <a:t>Реакция соединения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2124000" y="1628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262728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1619280" y="1844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348000" y="2133720"/>
            <a:ext cx="57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Реакция соединения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-это реакция, при которой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из двух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или</a:t>
            </a:r>
            <a:r>
              <a:rPr b="0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нескольких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простых веществ образуется </a:t>
            </a:r>
            <a:r>
              <a:rPr b="1" lang="ru-RU" sz="3600" spc="-1" strike="noStrike" u="sng">
                <a:solidFill>
                  <a:srgbClr val="00ff00"/>
                </a:solidFill>
                <a:uFillTx/>
                <a:latin typeface="Comic Sans MS"/>
              </a:rPr>
              <a:t>одно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ложное вещество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46 L 0.09219 0.30814 E">
                                      <p:cBhvr>
                                        <p:cTn id="33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0.07351 L 0.02848 0.2938 E">
                                      <p:cBhvr>
                                        <p:cTn id="35" dur="2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Реакция разлож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12952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11280" y="162864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1619280" y="177336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5076720" y="5516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2700360" y="49417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132000" y="1773360"/>
            <a:ext cx="60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Реакция разложения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- это реакция, при которой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одно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ложное вещество распадается на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два или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ff00"/>
                </a:solidFill>
                <a:latin typeface="Comic Sans MS"/>
              </a:rPr>
              <a:t>несколько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простых вещества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5 0.08946 L 0.06719 0.45654 E">
                                      <p:cBhvr>
                                        <p:cTn id="46" dur="2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275 0.11419 L 0.28542 0.47064 E">
                                      <p:cBhvr>
                                        <p:cTn id="4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Реакция замещ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9280" y="5157720"/>
            <a:ext cx="1584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35280" y="5229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627280" y="501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3276720" y="501336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95280" y="18446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Реакция замещения -это реакция, при которой </a:t>
            </a: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атомы простого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вещества замещают </a:t>
            </a:r>
            <a:r>
              <a:rPr b="0" lang="ru-RU" sz="4000" spc="-1" strike="noStrike">
                <a:solidFill>
                  <a:srgbClr val="ff6600"/>
                </a:solidFill>
                <a:latin typeface="Comic Sans MS"/>
              </a:rPr>
              <a:t>атомы в сложном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веществе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900000" y="551664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288 C -0.0349 -0.0349 -0.03229 -0.04623 -0.03038 -0.05848 C -0.03108 -0.06842 -0.03108 -0.07836 -0.03264 -0.08807 C -0.03333 -0.09246 -0.03698 -0.09547 -0.03698 -0.09986 C -0.03698 -0.11766 -0.03507 -0.13546 -0.03264 -0.15302 C -0.02934 -0.17776 -0.00365 -0.18169 0.00955 -0.19163 C 0.01962 -0.19926 0.01979 -0.2055 0.03177 -0.2092 C 0.04445 -0.22052 0.05938 -0.23277 0.07413 -0.23878 C 0.08316 -0.24688 0.09254 -0.25034 0.10295 -0.25358 C 0.11597 -0.26236 0.12899 -0.27415 0.14288 -0.28039 C 0.19774 -0.27947 0.2526 -0.28016 0.30747 -0.27739 C 0.32135 -0.27669 0.33594 -0.26514 0.34965 -0.26259 C 0.35903 -0.22491 0.37344 -0.16897 0.34514 -0.14123 C 0.32535 -0.12182 0.28247 -0.11511 0.25851 -0.11165 C 0.25035 -0.11049 0.24219 -0.11003 0.23403 -0.10864 C 0.225 -0.10702 0.20747 -0.10286 0.20747 -0.10263 C 0.20347 -0.09616 0.19913 -0.09084 0.19826 -0.08206 C 0.19427 -0.03305 0.2026 -0.05316 0.19184 -0.03166 C 0.19097 -0.02774 0.19045 -0.02381 0.18958 -0.01988 C 0.18889 -0.01687 0.18733 -0.01109 0.18733 -0.01086 E">
                                      <p:cBhvr>
                                        <p:cTn id="62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96 0.02358 C -0.00018 0.04254 -0.03421 0.01688 -0.01476 0.03837 C -0.01216 0.04115 -0.00868 0.04207 -0.00573 0.04438 C 0.01319 0.05918 0.03211 0.07444 0.05416 0.07975 C 0.05937 0.08091 0.06458 0.08183 0.06979 0.08276 C 0.08159 0.08484 0.10538 0.08877 0.10538 0.089 C 0.11857 0.09524 0.1335 0.09917 0.14531 0.10934 C 0.17343 0.10749 0.20156 0.1061 0.22968 0.10356 C 0.24479 0.10217 0.25729 0.08761 0.27204 0.08276 C 0.28993 0.07074 0.30816 0.06843 0.3276 0.06496 C 0.34045 0.06265 0.35086 0.05502 0.36302 0.05016 C 0.36961 0.04739 0.37639 0.04646 0.38316 0.04438 C 0.39027 0.03791 0.39583 0.03005 0.40312 0.02358 C 0.40989 0.00994 0.41093 -0.00624 0.41649 -0.0208 C 0.42152 -0.06403 0.42291 -0.06888 0.41649 -0.13615 C 0.41579 -0.14332 0.41076 -0.1484 0.40746 -0.15395 C 0.39357 -0.1773 0.3809 -0.21267 0.35868 -0.22191 C 0.34566 -0.23509 0.3342 -0.25982 0.31857 -0.2663 C 0.30329 -0.28178 0.2868 -0.29658 0.26979 -0.3079 C 0.26354 -0.31207 0.25833 -0.319 0.25191 -0.3227 C 0.22795 -0.33611 0.20104 -0.3442 0.17639 -0.35506 C 0.15642 -0.36384 0.13611 -0.37448 0.11649 -0.38465 C 0.02812 -0.38326 -0.01632 -0.39343 -0.08577 -0.36986 C -0.0948 -0.362 -0.10591 -0.3546 -0.11476 -0.34628 C -0.11736 -0.34397 -0.11875 -0.3398 -0.12136 -0.33749 C -0.12396 -0.33495 -0.12743 -0.33403 -0.13021 -0.33148 C -0.14306 -0.32016 -0.15521 -0.30721 -0.16806 -0.29588 C -0.17952 -0.28571 -0.18455 -0.27554 -0.19254 -0.26052 C -0.19462 -0.25659 -0.19914 -0.24873 -0.19914 -0.2485 C -0.20226 -0.23231 -0.20573 -0.23231 -0.2125 -0.21914 C -0.21684 -0.2018 -0.21372 -0.2129 -0.22361 -0.18654 C -0.22535 -0.18169 -0.22639 -0.16759 -0.22796 -0.16274 C -0.23056 -0.15464 -0.23438 -0.14725 -0.23698 -0.13916 C -0.23976 -0.1306 -0.24792 -0.11928 -0.24809 -0.10957 C -0.24879 -0.07906 -0.24809 -0.04831 -0.24809 -0.0178 E">
                                      <p:cBhvr>
                                        <p:cTn id="65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акция обмен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A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908000" y="1700280"/>
            <a:ext cx="2881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8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4572000" y="177336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6300720" y="1628640"/>
            <a:ext cx="20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7164360" y="1628640"/>
            <a:ext cx="17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971640" y="350028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еакция обмена - это реакция, при которой два сложных вещества обмениваются своими составными частям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45 -0.17221 C -0.04254 -0.18446 -0.04028 -0.19787 -0.03768 -0.21035 C -0.03646 -0.21636 -0.03664 -0.22353 -0.03334 -0.22815 C -0.02882 -0.23393 -0.02448 -0.23971 -0.01997 -0.24572 C -0.00938 -0.25982 -0.01511 -0.25566 -0.00434 -0.26075 C -0.00209 -0.26283 0.00017 -0.26421 0.00225 -0.26652 C 0.00468 -0.2693 0.00642 -0.27277 0.00902 -0.27577 C 0.01632 -0.28224 0.01857 -0.28109 0.02673 -0.28432 C 0.04097 -0.28987 0.05503 -0.29796 0.06892 -0.3049 C 0.07812 -0.30952 0.08368 -0.31669 0.0934 -0.31992 C 0.10868 -0.3331 0.10173 -0.32917 0.11336 -0.33449 C 0.12118 -0.34258 0.13003 -0.34766 0.13784 -0.35529 C 0.15208 -0.36893 0.1368 -0.36061 0.15121 -0.36708 C 0.16527 -0.36592 0.18229 -0.37263 0.1934 -0.36107 C 0.2118 -0.34211 0.22066 -0.31045 0.2401 -0.29311 C 0.25069 -0.27415 0.25382 -0.2545 0.26232 -0.23393 C 0.26666 -0.2233 0.27291 -0.21451 0.27777 -0.20434 C 0.28559 -0.1877 0.28993 -0.17013 0.29791 -0.15395 C 0.30017 -0.13777 0.30104 -0.1202 0.30451 -0.10379 C 0.30625 -0.09524 0.31111 -0.0883 0.31336 -0.07998 C 0.31597 -0.06981 0.31857 -0.04762 0.32013 -0.0356 C 0.321 0.00185 0.31753 0.04022 0.32448 0.07652 C 0.32986 0.10495 0.33941 0.13223 0.3467 0.1595 C 0.35121 0.17615 0.35156 0.19302 0.35555 0.2099 C 0.35711 0.23949 0.35729 0.2693 0.36007 0.29866 C 0.36041 0.30213 0.36354 0.30421 0.36458 0.30745 C 0.3684 0.31947 0.37031 0.33357 0.37343 0.34582 C 0.37569 0.3553 0.38507 0.3583 0.39114 0.36385 C 0.42673 0.39598 0.41545 0.38997 0.43559 0.39922 C 0.47986 0.39298 0.4427 0.40338 0.46666 0.38743 C 0.47083 0.38465 0.48003 0.38142 0.48003 0.38165 C 0.48958 0.3687 0.49809 0.35206 0.51111 0.34582 C 0.51371 0.33542 0.51684 0.31716 0.52222 0.30745 C 0.52882 0.29566 0.53159 0.29889 0.53559 0.28687 C 0.53993 0.2737 0.5427 0.2589 0.5467 0.2455 C 0.55347 0.22307 0.5493 0.2344 0.55347 0.21591 C 0.55555 0.20689 0.55781 0.19811 0.56007 0.18909 C 0.56076 0.18609 0.56232 0.18008 0.56232 0.18008 C 0.56302 0.17245 0.56302 0.16436 0.56458 0.15673 C 0.56527 0.15326 0.56823 0.15118 0.56892 0.14771 C 0.57135 0.13708 0.57135 0.12575 0.57343 0.11512 C 0.57413 0.10033 0.57569 0.0853 0.57569 0.07074 C 0.57569 0.0393 0.57517 0.00763 0.57343 -0.02381 C 0.57309 -0.02889 0.57118 -0.0141 0.57118 -0.00901 E">
                                      <p:cBhvr>
                                        <p:cTn id="79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2728 C -0.00504 0.05202 -0.00382 0.07675 -0.0066 0.10125 C -0.00695 0.10472 -0.01146 0.10449 -0.0132 0.10726 C -0.01458 0.10957 -0.01424 0.1135 -0.01545 0.11605 C -0.02014 0.12622 -0.0316 0.14124 -0.03767 0.14864 C -0.04722 0.15997 -0.0592 0.1669 -0.06875 0.17823 C -0.07344 0.18378 -0.07708 0.19094 -0.08212 0.19603 C -0.08507 0.19903 -0.08854 0.20111 -0.09097 0.20481 C -0.10052 0.21891 -0.10382 0.23324 -0.11545 0.24342 C -0.12413 0.26283 -0.12448 0.26168 -0.13993 0.27 C -0.14913 0.28248 -0.15729 0.29358 -0.16875 0.30259 C -0.17448 0.30698 -0.1809 0.30953 -0.18646 0.31438 C -0.2059 0.33149 -0.2257 0.34189 -0.24879 0.34698 C -0.31806 0.38304 -0.30573 0.35391 -0.44879 0.34698 C -0.47049 0.33727 -0.49167 0.3271 -0.5132 0.31739 C -0.52413 0.30514 -0.5349 0.29797 -0.54653 0.2878 C -0.55729 0.26838 -0.55972 0.24342 -0.56875 0.22261 C -0.59392 0.16505 -0.57448 0.21683 -0.58646 0.18424 C -0.58976 0.16205 -0.59688 0.12622 -0.6066 0.10726 C -0.60399 0.00625000000000001 -0.61823 0.03999 -0.58872 0.0007 E">
                                      <p:cBhvr>
                                        <p:cTn id="81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362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Arial"/>
              </a:rPr>
              <a:t>С какими типами химических реакций мы сегодня познакомились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                       </a:t>
            </a:r>
            <a:r>
              <a:rPr b="1" lang="ru-RU" sz="4400" spc="-1" strike="noStrike">
                <a:solidFill>
                  <a:srgbClr val="424458"/>
                </a:solidFill>
                <a:latin typeface="Arial"/>
              </a:rPr>
              <a:t>Разл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Arial"/>
              </a:rPr>
              <a:t>Замещ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cc00"/>
                </a:solidFill>
                <a:latin typeface="Arial"/>
              </a:rPr>
              <a:t>                                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тветы на задание в карточ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)  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u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соеди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)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OH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NO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обм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C + FeO = Fe + CO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=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g +  O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раз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+ CuO =  Cu +H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gO=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g + O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раз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MgO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F = Mg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+ H2O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- зам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 +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C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оеди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45:23Z</dcterms:created>
  <dc:creator>Дрон</dc:creator>
  <dc:description/>
  <dc:language>en-US</dc:language>
  <cp:lastModifiedBy>Admin</cp:lastModifiedBy>
  <dcterms:modified xsi:type="dcterms:W3CDTF">2016-11-26T19:07:36Z</dcterms:modified>
  <cp:revision>26</cp:revision>
  <dc:subject/>
  <dc:title>Типы химических реакций: </dc:title>
</cp:coreProperties>
</file>