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5338-225A-42FB-9E11-28C5D4115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BA68-A8E0-4DC4-A6B1-6EEEFBD5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0673-C366-4E5B-8976-F52AAD9DD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0AF8-3219-4C6C-80E9-6F693B834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BAB6E-4AA1-40BA-95CA-0996C1FD5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BFA2-73A0-40B7-951D-FC698F2A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EDA0-93EB-460C-9AC6-17D44F5F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67CE-0EB4-41AD-9C1D-4C300C69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0BE4-BF26-47D0-8C93-EF4F1A5F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EE4A-BFE1-4573-B7B4-8509D3BF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FA59-D407-4E4C-8F8E-0EA2D4F7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DAE5-30A0-42A0-A873-39F90412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0112-2626-4599-B1AE-AC774017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9C402-5FF5-49EC-818B-D87DBCEC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00B3-C276-4AFF-B11A-1FD18018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CC73C-2A18-4275-9C4F-117E076E0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E285-80E2-42D7-967F-9A8D88C24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55D3-5E0C-46F5-85B6-DFDCB2C3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D2A3-000F-477B-92D5-E6C1CA2C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C09C-4916-4E71-8E29-DA6750C5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CE6B-99A9-4CC6-9CE2-C4D4E4A6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F55A-F82A-4E6C-8547-E59E668B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CA40-591F-4061-8B7D-16FD6144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E862-4142-4EEC-88E7-170A2070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F515-29F5-444C-907B-D530EEE9E6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3BCC-7BE0-4C8E-A96A-0AF9B23283F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755640" y="1773360"/>
            <a:ext cx="784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рок по химии по теме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«Уравнения окислительно- восстановительных реакций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5"/>
          <p:cNvSpPr/>
          <p:nvPr/>
        </p:nvSpPr>
        <p:spPr>
          <a:xfrm>
            <a:off x="-1695240" y="49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971640" y="404640"/>
            <a:ext cx="789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кислительно-восстановительные реакции в приро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жизни человек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826920" y="162864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Фотосинт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826920" y="206064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Реакции круговорота веществ в приро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826920" y="25653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Дых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0" y="2924280"/>
            <a:ext cx="39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Металлург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684360" y="335772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Электро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395280" y="378936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 Электротех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324000" y="42210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. Энергет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755640" y="4724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8. Косметолог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ОТОСИНТЕЗ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7" name="Picture 5" descr="фот"/>
          <p:cNvPicPr/>
          <p:nvPr/>
        </p:nvPicPr>
        <p:blipFill>
          <a:blip r:embed="rId1"/>
          <a:stretch/>
        </p:blipFill>
        <p:spPr>
          <a:xfrm>
            <a:off x="1332000" y="1916280"/>
            <a:ext cx="6912000" cy="41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еакции круговорота веществ в природ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9" name="Picture 4" descr="роолол"/>
          <p:cNvPicPr/>
          <p:nvPr/>
        </p:nvPicPr>
        <p:blipFill>
          <a:blip r:embed="rId1"/>
          <a:stretch/>
        </p:blipFill>
        <p:spPr>
          <a:xfrm>
            <a:off x="2181240" y="1989000"/>
            <a:ext cx="4781520" cy="457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СМЕТОЛОГ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1" name="Picture 4" descr="работа2"/>
          <p:cNvPicPr/>
          <p:nvPr/>
        </p:nvPicPr>
        <p:blipFill>
          <a:blip r:embed="rId1"/>
          <a:stretch/>
        </p:blipFill>
        <p:spPr>
          <a:xfrm>
            <a:off x="3708360" y="1700280"/>
            <a:ext cx="256536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Укажите окислительно- восстановительные</a:t>
            </a:r>
            <a:br>
              <a:rPr sz="2800"/>
            </a:b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реакции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CaO +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g = 2Hg +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+ 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N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755640" y="836640"/>
            <a:ext cx="777708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 известно с давних пор и имею спр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усти меня в раствор, в медный купор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менить хочу я соль. Ну-ка, выйди , соизволь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дивительный момент, стал другим раств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тесняю элемент, не вступая в спо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меня взгляни, ответь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чинаю я ржаве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сновные понят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акции, протекающие с изменением степени окисления атомов, входящих в состав реагирующих веществ, называются </a:t>
            </a:r>
            <a:r>
              <a:rPr b="1" lang="ru-RU" sz="2800" spc="-1" strike="noStrike">
                <a:solidFill>
                  <a:srgbClr val="53b9ff"/>
                </a:solidFill>
                <a:latin typeface="Arial"/>
              </a:rPr>
              <a:t>окислительно-восстановительным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3b9ff"/>
                </a:solidFill>
                <a:latin typeface="Arial"/>
              </a:rPr>
              <a:t>Окислителям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называются вещества,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рисоединяющ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электроны. Во время реакции они восстанавливают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3b9ff"/>
                </a:solidFill>
                <a:latin typeface="Arial"/>
              </a:rPr>
              <a:t>Восстановителям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называются вещества,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отдающ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электроны. Во время реакции они окисляю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6"/>
          <p:cNvSpPr/>
          <p:nvPr/>
        </p:nvSpPr>
        <p:spPr>
          <a:xfrm>
            <a:off x="4192560" y="208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7" descr="Рисунок1"/>
          <p:cNvPicPr/>
          <p:nvPr/>
        </p:nvPicPr>
        <p:blipFill>
          <a:blip r:embed="rId1"/>
          <a:srcRect l="9728" t="17008" r="25493" b="29853"/>
          <a:stretch/>
        </p:blipFill>
        <p:spPr>
          <a:xfrm>
            <a:off x="539640" y="1197000"/>
            <a:ext cx="8028000" cy="5016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электрон"/>
          <p:cNvPicPr/>
          <p:nvPr/>
        </p:nvPicPr>
        <p:blipFill>
          <a:blip r:embed="rId2"/>
          <a:srcRect l="8150" t="23360" r="65223" b="48352"/>
          <a:stretch/>
        </p:blipFill>
        <p:spPr>
          <a:xfrm>
            <a:off x="4716360" y="3068640"/>
            <a:ext cx="432000" cy="349200"/>
          </a:xfrm>
          <a:prstGeom prst="rect">
            <a:avLst/>
          </a:prstGeom>
          <a:ln w="0">
            <a:noFill/>
          </a:ln>
        </p:spPr>
      </p:pic>
      <p:sp>
        <p:nvSpPr>
          <p:cNvPr id="105" name="WordArt 9"/>
          <p:cNvSpPr txBox="1"/>
          <p:nvPr/>
        </p:nvSpPr>
        <p:spPr>
          <a:xfrm>
            <a:off x="971640" y="1268280"/>
            <a:ext cx="27352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30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кислите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6" name="WordArt 10"/>
          <p:cNvSpPr txBox="1"/>
          <p:nvPr/>
        </p:nvSpPr>
        <p:spPr>
          <a:xfrm>
            <a:off x="5003640" y="1341360"/>
            <a:ext cx="34768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269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осстановите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1.56069E-006 L -0.04722 0.06289 E">
                                      <p:cBhvr>
                                        <p:cTn id="48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5"/>
          <p:cNvSpPr/>
          <p:nvPr/>
        </p:nvSpPr>
        <p:spPr>
          <a:xfrm>
            <a:off x="551880" y="-7920"/>
            <a:ext cx="26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-612720" y="260280"/>
            <a:ext cx="1116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равнен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кислительно- восстановительной реакции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Group 12"/>
          <p:cNvGrpSpPr/>
          <p:nvPr/>
        </p:nvGrpSpPr>
        <p:grpSpPr>
          <a:xfrm>
            <a:off x="1187280" y="1268280"/>
            <a:ext cx="10799640" cy="4642200"/>
            <a:chOff x="1187280" y="1268280"/>
            <a:chExt cx="10799640" cy="4642200"/>
          </a:xfrm>
        </p:grpSpPr>
        <p:sp>
          <p:nvSpPr>
            <p:cNvPr id="110" name="Text Box 2"/>
            <p:cNvSpPr/>
            <p:nvPr/>
          </p:nvSpPr>
          <p:spPr>
            <a:xfrm>
              <a:off x="1187280" y="1268280"/>
              <a:ext cx="10799640" cy="464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Fe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800" spc="-1" strike="noStrike" baseline="50000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3200" spc="-1" strike="noStrike" baseline="50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+Cu</a:t>
              </a:r>
              <a:r>
                <a:rPr b="1" lang="ru-RU" sz="3200" spc="-1" strike="noStrike" baseline="50000">
                  <a:solidFill>
                    <a:srgbClr val="ffffff"/>
                  </a:solidFill>
                  <a:latin typeface="Arial"/>
                </a:rPr>
                <a:t>+2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SO</a:t>
              </a:r>
              <a:r>
                <a:rPr b="1" lang="ru-RU" sz="3600" spc="-1" strike="noStrike" baseline="-12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1" lang="en-US" sz="1800" spc="-1" strike="noStrike" baseline="-32000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Fe</a:t>
              </a: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3200" spc="-1" strike="noStrike" baseline="50000">
                  <a:solidFill>
                    <a:srgbClr val="ffffff"/>
                  </a:solidFill>
                  <a:latin typeface="Arial"/>
                </a:rPr>
                <a:t>+2</a:t>
              </a: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SO</a:t>
              </a:r>
              <a:r>
                <a:rPr b="1" lang="ru-RU" sz="3200" spc="-1" strike="noStrike" baseline="-32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1" lang="en-US" sz="3200" spc="-1" strike="noStrike" baseline="-32000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+ С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1" lang="ru-RU" sz="3200" spc="-1" strike="noStrike" baseline="50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50000">
                  <a:solidFill>
                    <a:srgbClr val="ffffff"/>
                  </a:solidFill>
                  <a:latin typeface="Arial"/>
                </a:rPr>
                <a:t>                                                                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 baseline="50000">
                  <a:solidFill>
                    <a:srgbClr val="ffffff"/>
                  </a:solidFill>
                  <a:latin typeface="Arial"/>
                </a:rPr>
                <a:t>Восстановитель</a:t>
              </a:r>
              <a:r>
                <a:rPr b="1" lang="ru-RU" sz="4000" spc="-1" strike="noStrike" baseline="50000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4000" spc="-1" strike="noStrike" baseline="50000">
                  <a:solidFill>
                    <a:srgbClr val="ffffff"/>
                  </a:solidFill>
                  <a:latin typeface="Arial"/>
                </a:rPr>
                <a:t>Fe- 2e= Fe</a:t>
              </a:r>
              <a:r>
                <a:rPr b="1" lang="ru-RU" sz="4000" spc="-1" strike="noStrike" baseline="50000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 baseline="50000">
                  <a:solidFill>
                    <a:srgbClr val="ffffff"/>
                  </a:solidFill>
                  <a:latin typeface="Arial"/>
                </a:rPr>
                <a:t>Окислитель</a:t>
              </a:r>
              <a:r>
                <a:rPr b="1" lang="ru-RU" sz="2400" spc="-1" strike="noStrike" baseline="50000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1" lang="en-US" sz="4000" spc="-1" strike="noStrike" baseline="50000">
                  <a:solidFill>
                    <a:srgbClr val="ffffff"/>
                  </a:solidFill>
                  <a:latin typeface="Arial"/>
                </a:rPr>
                <a:t>Cu  + 2e= Cu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Text Box 3"/>
            <p:cNvSpPr/>
            <p:nvPr/>
          </p:nvSpPr>
          <p:spPr>
            <a:xfrm>
              <a:off x="4138560" y="256536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Text Box 4"/>
            <p:cNvSpPr/>
            <p:nvPr/>
          </p:nvSpPr>
          <p:spPr>
            <a:xfrm>
              <a:off x="5290920" y="2565360"/>
              <a:ext cx="84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+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Text Box 7"/>
            <p:cNvSpPr/>
            <p:nvPr/>
          </p:nvSpPr>
          <p:spPr>
            <a:xfrm>
              <a:off x="5651280" y="314172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Text Box 9"/>
            <p:cNvSpPr/>
            <p:nvPr/>
          </p:nvSpPr>
          <p:spPr>
            <a:xfrm>
              <a:off x="3706560" y="3068640"/>
              <a:ext cx="65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+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+Cu</a:t>
            </a:r>
            <a:r>
              <a:rPr b="1" lang="ru-RU" sz="4400" spc="-1" strike="noStrike" baseline="30000">
                <a:solidFill>
                  <a:srgbClr val="ffffff"/>
                </a:solidFill>
                <a:latin typeface="Arial"/>
              </a:rPr>
              <a:t>+2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ru-RU" sz="4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ru-RU" sz="4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+ С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4" descr="электрон"/>
          <p:cNvPicPr/>
          <p:nvPr/>
        </p:nvPicPr>
        <p:blipFill>
          <a:blip r:embed="rId1"/>
          <a:srcRect l="8153" t="23352" r="65223" b="48352"/>
          <a:stretch/>
        </p:blipFill>
        <p:spPr>
          <a:xfrm>
            <a:off x="826920" y="2205000"/>
            <a:ext cx="358920" cy="290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электрон"/>
          <p:cNvPicPr/>
          <p:nvPr/>
        </p:nvPicPr>
        <p:blipFill>
          <a:blip r:embed="rId2"/>
          <a:srcRect l="8153" t="23352" r="65223" b="48352"/>
          <a:stretch/>
        </p:blipFill>
        <p:spPr>
          <a:xfrm>
            <a:off x="468360" y="2205000"/>
            <a:ext cx="358560" cy="2905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5291280" y="14860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8028000" y="1557360"/>
            <a:ext cx="431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3.46821E-006 L 0.04549 0.06867 C 0.05591 0.08416 0.07153 0.09294 0.08768 0.09294 C 0.10625 0.09294 0.12101 0.08416 0.13143 0.06867 L 0.18108 3.46821E-006 E">
                                      <p:cBhvr>
                                        <p:cTn id="74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46821E-006 L 0.04323 0.05318 C 0.05226 0.0652 0.06597 0.0719 0.08003 0.0719 C 0.09618 0.0719 0.1092 0.0652 0.11823 0.05318 L 0.16163 3.46821E-006 E">
                                      <p:cBhvr>
                                        <p:cTn id="76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7"/>
          <p:cNvSpPr/>
          <p:nvPr/>
        </p:nvSpPr>
        <p:spPr>
          <a:xfrm>
            <a:off x="1042920" y="76500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бота в группах над проблемным вопросо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971640" y="1989000"/>
            <a:ext cx="949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 по уравнению можно определить  окислительно- восстановительную реакцию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арианты ответов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 изменению степени окисления у отдельных элемент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 наличию хотя бы одного простого веществ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 типу химической реакци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b7"/>
                </a:solidFill>
                <a:latin typeface="Arial Black"/>
              </a:rPr>
              <a:t>Оптимальный вариант</a:t>
            </a:r>
            <a:r>
              <a:rPr b="0" lang="ru-RU" sz="3200" spc="-1" strike="noStrike">
                <a:solidFill>
                  <a:srgbClr val="ffffb7"/>
                </a:solidFill>
                <a:latin typeface="Arial Black"/>
              </a:rPr>
              <a:t>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кислительно - восстановительную реакцию можно определить по изменению степени окисления у отдельных элементов, по наличию простого вещества и по типу химической реакци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1:15:29Z</dcterms:created>
  <dc:creator>User</dc:creator>
  <dc:description/>
  <dc:language>en-US</dc:language>
  <cp:lastModifiedBy>Admin</cp:lastModifiedBy>
  <dcterms:modified xsi:type="dcterms:W3CDTF">2016-11-26T19:11:03Z</dcterms:modified>
  <cp:revision>49</cp:revision>
  <dc:subject/>
  <dc:title>Слайд 1</dc:title>
</cp:coreProperties>
</file>