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537-2A2A-423D-88F4-8DC75763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4CC-C89F-41ED-A199-6F2FDE4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1BD-4478-4086-9522-3FBF08AF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845-DA57-44CE-AE11-835514B7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4728-25DD-4AD5-9EAB-0881E0B2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7989-0D20-4FCC-8FF6-B95C493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953B-353B-43AC-82BC-6231FE1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E7B4-7A16-4DD1-BB06-BFB432B2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3E3B-F3BC-4FFC-AE8F-2087B9C5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86CB-62AC-4E63-BB30-0EDAEF9B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BA6-8955-4453-A041-A1C44CE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79D-15F0-405A-A932-92A872D5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9C22-A6EA-404F-99C9-12FD6D6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B73-AA44-48AF-BA3A-665D2BC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077C-CC0E-4774-82F0-29F24F4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D885-6F85-48AA-95E1-6AFD1764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4BF8-A571-4953-AB10-01190420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07B-C636-4016-841D-37C17454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C40-6EF8-4021-B8BF-EC382086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95F-D1BD-4428-8F91-3833348A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948-C8AC-4D83-8CD4-6DE08BE3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6B7-7B05-4FBD-9652-16948D2A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BDF-CCED-4609-9D79-C5C447E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EE7-BCF2-46C2-A1B4-5977BD5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B3BD-7594-476E-B53B-DA6595463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937-C6E0-44EC-BA81-FF8049CCDB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55640" y="177336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к по химии по тем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Уравнения окислительно- восстановительных реакци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-1695240" y="49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971640" y="40464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ислительно-восстановительные реакции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жизни челове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826920" y="1628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Фотосинт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26920" y="2060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Реакции круговорота веществ в прир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26920" y="256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0" y="292428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еталлур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84360" y="3357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Электро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395280" y="3789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Электротех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24000" y="4221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Энерг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755640" y="4724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Косметоло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ТОСИНТЕ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фот"/>
          <p:cNvPicPr/>
          <p:nvPr/>
        </p:nvPicPr>
        <p:blipFill>
          <a:blip r:embed="rId1"/>
          <a:stretch/>
        </p:blipFill>
        <p:spPr>
          <a:xfrm>
            <a:off x="1332000" y="1916280"/>
            <a:ext cx="6912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акции круговорота веществ в природ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4" descr="роолол"/>
          <p:cNvPicPr/>
          <p:nvPr/>
        </p:nvPicPr>
        <p:blipFill>
          <a:blip r:embed="rId1"/>
          <a:stretch/>
        </p:blipFill>
        <p:spPr>
          <a:xfrm>
            <a:off x="2181240" y="1989000"/>
            <a:ext cx="47815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ОЛОГ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работа2"/>
          <p:cNvPicPr/>
          <p:nvPr/>
        </p:nvPicPr>
        <p:blipFill>
          <a:blip r:embed="rId1"/>
          <a:stretch/>
        </p:blipFill>
        <p:spPr>
          <a:xfrm>
            <a:off x="3708360" y="1700280"/>
            <a:ext cx="25653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Укажите окислительно- восстановительные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еакции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aO +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g = 2Hg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+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55640" y="836640"/>
            <a:ext cx="7777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известно с давних пор и имею с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усти меня в раствор, в медный купо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ить хочу я соль. Ну-ка, выйди , соизвол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ивительный момент, стал другим раст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тесняю элемент, не вступая в сп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ня взгляни, ответ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ю я ржаве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пон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кции, протекающие с изменением степени окисления атомов, входящих в состав реагирующих веществ, называются </a:t>
            </a:r>
            <a:r>
              <a:rPr b="1" lang="ru-RU" sz="2800" spc="-1" strike="noStrike">
                <a:solidFill>
                  <a:srgbClr val="53b9ff"/>
                </a:solidFill>
                <a:latin typeface="Arial"/>
              </a:rPr>
              <a:t>окислительно-восстановительны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b9ff"/>
                </a:solidFill>
                <a:latin typeface="Arial"/>
              </a:rPr>
              <a:t>Окислител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ываются вещества,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соединяющ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лектроны. Во время реакции они восстанавливаю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b9ff"/>
                </a:solidFill>
                <a:latin typeface="Arial"/>
              </a:rPr>
              <a:t>Восстановителя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зываются вещества,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дающ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лектроны. Во время реакции они окисля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4192560" y="2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Рисунок1"/>
          <p:cNvPicPr/>
          <p:nvPr/>
        </p:nvPicPr>
        <p:blipFill>
          <a:blip r:embed="rId1"/>
          <a:srcRect l="9728" t="17008" r="25493" b="29853"/>
          <a:stretch/>
        </p:blipFill>
        <p:spPr>
          <a:xfrm>
            <a:off x="539640" y="1197000"/>
            <a:ext cx="8028000" cy="501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электрон"/>
          <p:cNvPicPr/>
          <p:nvPr/>
        </p:nvPicPr>
        <p:blipFill>
          <a:blip r:embed="rId2"/>
          <a:srcRect l="8150" t="23360" r="65223" b="48352"/>
          <a:stretch/>
        </p:blipFill>
        <p:spPr>
          <a:xfrm>
            <a:off x="4716360" y="3068640"/>
            <a:ext cx="432000" cy="3492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9"/>
          <p:cNvSpPr txBox="1"/>
          <p:nvPr/>
        </p:nvSpPr>
        <p:spPr>
          <a:xfrm>
            <a:off x="971640" y="1268280"/>
            <a:ext cx="2735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кисл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5003640" y="1341360"/>
            <a:ext cx="3476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26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сстанов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56069E-006 L -0.04722 0.06289 E">
                                      <p:cBhvr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551880" y="-7920"/>
            <a:ext cx="2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612720" y="260280"/>
            <a:ext cx="1116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авн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ислительно- восстановительной реакци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12"/>
          <p:cNvGrpSpPr/>
          <p:nvPr/>
        </p:nvGrpSpPr>
        <p:grpSpPr>
          <a:xfrm>
            <a:off x="1187280" y="1268280"/>
            <a:ext cx="10799640" cy="4642200"/>
            <a:chOff x="1187280" y="1268280"/>
            <a:chExt cx="10799640" cy="4642200"/>
          </a:xfrm>
        </p:grpSpPr>
        <p:sp>
          <p:nvSpPr>
            <p:cNvPr id="110" name="Text Box 2"/>
            <p:cNvSpPr/>
            <p:nvPr/>
          </p:nvSpPr>
          <p:spPr>
            <a:xfrm>
              <a:off x="1187280" y="1268280"/>
              <a:ext cx="10799640" cy="46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 baseline="50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+Cu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+2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ru-RU" sz="3600" spc="-1" strike="noStrike" baseline="-12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1800" spc="-1" strike="noStrike" baseline="-32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+2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O</a:t>
              </a:r>
              <a:r>
                <a:rPr b="1" lang="ru-RU" sz="3200" spc="-1" strike="noStrike" baseline="-32000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en-US" sz="3200" spc="-1" strike="noStrike" baseline="-32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+ С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1" lang="ru-RU" sz="3200" spc="-1" strike="noStrike" baseline="50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50000">
                  <a:solidFill>
                    <a:srgbClr val="ffffff"/>
                  </a:solidFill>
                  <a:latin typeface="Arial"/>
                </a:rPr>
                <a:t>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50000">
                  <a:solidFill>
                    <a:srgbClr val="ffffff"/>
                  </a:solidFill>
                  <a:latin typeface="Arial"/>
                </a:rPr>
                <a:t>Восстановитель</a:t>
              </a:r>
              <a:r>
                <a:rPr b="1" lang="ru-RU" sz="4000" spc="-1" strike="noStrike" baseline="50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 baseline="50000">
                  <a:solidFill>
                    <a:srgbClr val="ffffff"/>
                  </a:solidFill>
                  <a:latin typeface="Arial"/>
                </a:rPr>
                <a:t>Fe- 2e= Fe</a:t>
              </a:r>
              <a:r>
                <a:rPr b="1" lang="ru-RU" sz="4000" spc="-1" strike="noStrike" baseline="50000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50000">
                  <a:solidFill>
                    <a:srgbClr val="ffffff"/>
                  </a:solidFill>
                  <a:latin typeface="Arial"/>
                </a:rPr>
                <a:t>Окислитель</a:t>
              </a:r>
              <a:r>
                <a:rPr b="1" lang="ru-RU" sz="2400" spc="-1" strike="noStrike" baseline="50000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4000" spc="-1" strike="noStrike" baseline="50000">
                  <a:solidFill>
                    <a:srgbClr val="ffffff"/>
                  </a:solidFill>
                  <a:latin typeface="Arial"/>
                </a:rPr>
                <a:t>Cu  + 2e= Cu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3"/>
            <p:cNvSpPr/>
            <p:nvPr/>
          </p:nvSpPr>
          <p:spPr>
            <a:xfrm>
              <a:off x="4138560" y="256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5290920" y="2565360"/>
              <a:ext cx="8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5651280" y="3141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3706560" y="306864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+Cu</a:t>
            </a:r>
            <a:r>
              <a:rPr b="1" lang="ru-RU" sz="4400" spc="-1" strike="noStrike" baseline="30000">
                <a:solidFill>
                  <a:srgbClr val="ffffff"/>
                </a:solidFill>
                <a:latin typeface="Arial"/>
              </a:rPr>
              <a:t>+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+ С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электрон"/>
          <p:cNvPicPr/>
          <p:nvPr/>
        </p:nvPicPr>
        <p:blipFill>
          <a:blip r:embed="rId1"/>
          <a:srcRect l="8153" t="23352" r="65223" b="48352"/>
          <a:stretch/>
        </p:blipFill>
        <p:spPr>
          <a:xfrm>
            <a:off x="826920" y="2205000"/>
            <a:ext cx="358920" cy="290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электрон"/>
          <p:cNvPicPr/>
          <p:nvPr/>
        </p:nvPicPr>
        <p:blipFill>
          <a:blip r:embed="rId2"/>
          <a:srcRect l="8153" t="23352" r="65223" b="48352"/>
          <a:stretch/>
        </p:blipFill>
        <p:spPr>
          <a:xfrm>
            <a:off x="468360" y="2205000"/>
            <a:ext cx="358560" cy="290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5291280" y="1486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8028000" y="1557360"/>
            <a:ext cx="43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46821E-006 L 0.04549 0.06867 C 0.05591 0.08416 0.07153 0.09294 0.08768 0.09294 C 0.10625 0.09294 0.12101 0.08416 0.13143 0.06867 L 0.18108 3.46821E-006 E">
                                      <p:cBhvr>
                                        <p:cTn id="7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46821E-006 L 0.04323 0.05318 C 0.05226 0.0652 0.06597 0.0719 0.08003 0.0719 C 0.09618 0.0719 0.1092 0.0652 0.11823 0.05318 L 0.16163 3.46821E-006 E">
                                      <p:cBhvr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7"/>
          <p:cNvSpPr/>
          <p:nvPr/>
        </p:nvSpPr>
        <p:spPr>
          <a:xfrm>
            <a:off x="1042920" y="765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 группах над проблемным вопрос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971640" y="1989000"/>
            <a:ext cx="94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по уравнению можно определить  окислительно- восстановительную реакц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ианты ответов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изменению степени окисления у отдельных эле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наличию хотя бы одного простого ве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 типу химической реак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Оптимальный вариант</a:t>
            </a: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кислительно - восстановительную реакцию можно определить по изменению степени окисления у отдельных элементов, по наличию простого вещества и по типу химической реак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5:29Z</dcterms:created>
  <dc:creator>User</dc:creator>
  <dc:description/>
  <dc:language>en-US</dc:language>
  <cp:lastModifiedBy>Admin</cp:lastModifiedBy>
  <dcterms:modified xsi:type="dcterms:W3CDTF">2016-11-26T19:11:03Z</dcterms:modified>
  <cp:revision>49</cp:revision>
  <dc:subject/>
  <dc:title>Слайд 1</dc:title>
</cp:coreProperties>
</file>