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A479-A50C-4824-957A-B7A61F4A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8636-AA0D-4716-89F5-84784003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856-F053-42AF-A0B8-ABE5C010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54F-1070-44C3-832F-95493AE2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29A-E6AE-46BC-9861-F79D6E10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E167-3854-41C1-836B-AAC3F9E7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466-CC22-4FA3-AC68-A2504DE5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620-0581-405E-B95A-1F54E0ED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5DA-3845-4F11-AA21-B479AE22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8029-A504-4B3A-BCC8-3EBF86EE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31D-1365-49EE-9305-16E9AE3B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E1F-1011-47CD-B2A3-759A7D89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CE57-3593-4B57-B2B9-5FE776B2BF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51000" y="-237960"/>
            <a:ext cx="7327800" cy="28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еометрі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716360" y="2852640"/>
            <a:ext cx="37242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9 кл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Text Box 6"/>
          <p:cNvSpPr/>
          <p:nvPr/>
        </p:nvSpPr>
        <p:spPr>
          <a:xfrm rot="20467800">
            <a:off x="5435640" y="620640"/>
            <a:ext cx="194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МАТЕМА~1"/>
          <p:cNvPicPr/>
          <p:nvPr/>
        </p:nvPicPr>
        <p:blipFill>
          <a:blip r:embed="rId1"/>
          <a:stretch/>
        </p:blipFill>
        <p:spPr>
          <a:xfrm>
            <a:off x="0" y="2060640"/>
            <a:ext cx="46864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250920" y="1330200"/>
            <a:ext cx="8713800" cy="4043520"/>
          </a:xfrm>
          <a:custGeom>
            <a:avLst/>
            <a:gdLst>
              <a:gd name="textAreaLeft" fmla="*/ 1429560 w 8713800"/>
              <a:gd name="textAreaRight" fmla="*/ 7284240 w 8713800"/>
              <a:gd name="textAreaTop" fmla="*/ 1429560 h 4043520"/>
              <a:gd name="textAreaBottom" fmla="*/ 2613960 h 4043520"/>
            </a:gdLst>
            <a:ahLst/>
            <a:rect l="textAreaLeft" t="textAreaTop" r="textAreaRight" b="textAreaBottom"/>
            <a:pathLst>
              <a:path w="46546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35746" y="21600"/>
                </a:lnTo>
                <a:arcTo wR="10800" hR="10800" stAng="10800000" swAng="5400000"/>
                <a:lnTo>
                  <a:pt x="46546" y="10800"/>
                </a:lnTo>
                <a:arcTo wR="10800" hR="10800" stAng="5400000" swAng="5400000"/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ff0000"/>
                </a:solidFill>
                <a:latin typeface="Arial"/>
              </a:rPr>
              <a:t>ПРАВИЛЬНІ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uk-UA" sz="5000" spc="-1" strike="noStrike">
                <a:solidFill>
                  <a:srgbClr val="ff0000"/>
                </a:solidFill>
                <a:latin typeface="Arial"/>
              </a:rPr>
              <a:t>МНОГОКУТНИКИ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Правильні  многокут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Правильним називається опуклий многокутник, в якого всі кути і всі сторони рів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йпростіші приклади правильних многокутників є рівносторонній трикутник, квад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476360" y="3860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516720" y="3933720"/>
            <a:ext cx="1008000" cy="986040"/>
          </a:xfrm>
          <a:prstGeom prst="octagon">
            <a:avLst>
              <a:gd name="adj" fmla="val 2928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4932360" y="3933720"/>
            <a:ext cx="934920" cy="863640"/>
          </a:xfrm>
          <a:prstGeom prst="hexagon">
            <a:avLst>
              <a:gd name="adj" fmla="val 27063"/>
              <a:gd name="vf" fmla="val 11547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132000" y="3933720"/>
            <a:ext cx="914400" cy="914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Вписані та описані многокут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971640" y="1700280"/>
            <a:ext cx="1584360" cy="165564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 flipV="1">
            <a:off x="1116000" y="1699920"/>
            <a:ext cx="7192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1116000" y="2997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1835280" y="1700280"/>
            <a:ext cx="5760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2627280" y="1413000"/>
            <a:ext cx="5969160" cy="420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ff"/>
                </a:solidFill>
                <a:latin typeface="Arial"/>
              </a:rPr>
              <a:t>Многокутник називається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вписаним</a:t>
            </a:r>
            <a:r>
              <a:rPr b="0" lang="uk-UA" sz="1800" spc="-1" strike="noStrike">
                <a:solidFill>
                  <a:srgbClr val="0000ff"/>
                </a:solidFill>
                <a:latin typeface="Arial"/>
              </a:rPr>
              <a:t> у коло,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ff"/>
                </a:solidFill>
                <a:latin typeface="Arial"/>
              </a:rPr>
              <a:t>якщо всі його вершини лежать на колі (коло описан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ногокутник називається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писаним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якщо всі сторони многокутника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отикаються до цього кола (коло вписа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ff"/>
                </a:solidFill>
                <a:latin typeface="Arial"/>
              </a:rPr>
              <a:t>Вписане й описане кола правильного многокутника мають один і той самий цент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2"/>
          <p:cNvSpPr/>
          <p:nvPr/>
        </p:nvSpPr>
        <p:spPr>
          <a:xfrm>
            <a:off x="1258920" y="4292640"/>
            <a:ext cx="936720" cy="93672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900000" y="522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V="1">
            <a:off x="900000" y="3789360"/>
            <a:ext cx="863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1763640" y="3789360"/>
            <a:ext cx="79236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>
            <a:off x="0" y="0"/>
            <a:ext cx="9144000" cy="720720"/>
          </a:xfrm>
          <a:custGeom>
            <a:avLst/>
            <a:gdLst>
              <a:gd name="textAreaLeft" fmla="*/ 1143000 w 9144000"/>
              <a:gd name="textAreaRight" fmla="*/ 8001000 w 9144000"/>
              <a:gd name="textAreaTop" fmla="*/ 21672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624" stAng="16200000" swAng="5400000"/>
                <a:lnTo>
                  <a:pt x="5400" y="6496"/>
                </a:lnTo>
                <a:lnTo>
                  <a:pt x="16200" y="6496"/>
                </a:lnTo>
                <a:lnTo>
                  <a:pt x="16200" y="1624"/>
                </a:lnTo>
                <a:arcTo wR="675" hR="1624" stAng="10800000" swAng="5400000"/>
                <a:lnTo>
                  <a:pt x="21600" y="0"/>
                </a:lnTo>
                <a:lnTo>
                  <a:pt x="18900" y="7552"/>
                </a:lnTo>
                <a:lnTo>
                  <a:pt x="21600" y="15104"/>
                </a:lnTo>
                <a:lnTo>
                  <a:pt x="18900" y="15104"/>
                </a:lnTo>
                <a:lnTo>
                  <a:pt x="18900" y="19976"/>
                </a:lnTo>
                <a:arcTo wR="675" hR="1624" stAng="0" swAng="5400000"/>
                <a:lnTo>
                  <a:pt x="3375" y="21600"/>
                </a:lnTo>
                <a:arcTo wR="675" hR="1624" stAng="5400000" swAng="5400000"/>
                <a:lnTo>
                  <a:pt x="2700" y="15104"/>
                </a:lnTo>
                <a:lnTo>
                  <a:pt x="0" y="15104"/>
                </a:lnTo>
                <a:lnTo>
                  <a:pt x="2700" y="7552"/>
                </a:lnTo>
                <a:close/>
              </a:path>
              <a:path fill="none" w="21600" h="21600">
                <a:moveTo>
                  <a:pt x="5400" y="1624"/>
                </a:moveTo>
                <a:arcTo wR="675" hR="1624" stAng="0" swAng="5400000"/>
                <a:lnTo>
                  <a:pt x="3375" y="3248"/>
                </a:lnTo>
                <a:arcTo wR="675" hR="1624" stAng="16200000" swAng="-5400000"/>
                <a:arcTo wR="675" hR="1624" stAng="10800000" swAng="-5400000"/>
                <a:lnTo>
                  <a:pt x="5400" y="6496"/>
                </a:lnTo>
              </a:path>
              <a:path fill="none" w="21600" h="21600">
                <a:moveTo>
                  <a:pt x="16200" y="1624"/>
                </a:moveTo>
                <a:arcTo wR="675" hR="1624" stAng="10800000" swAng="-5400000"/>
                <a:lnTo>
                  <a:pt x="18225" y="3248"/>
                </a:lnTo>
                <a:arcTo wR="675" hR="1624" stAng="16200000" swAng="5400000"/>
                <a:arcTo wR="675" hR="1624" stAng="0" swAng="5400000"/>
                <a:lnTo>
                  <a:pt x="16200" y="6496"/>
                </a:lnTo>
              </a:path>
              <a:path fill="none" w="21600" h="21600">
                <a:moveTo>
                  <a:pt x="2700" y="4872"/>
                </a:moveTo>
                <a:lnTo>
                  <a:pt x="2700" y="15104"/>
                </a:lnTo>
              </a:path>
              <a:path fill="none" w="21600" h="21600">
                <a:moveTo>
                  <a:pt x="18900" y="4872"/>
                </a:moveTo>
                <a:lnTo>
                  <a:pt x="18900" y="15104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Елементи правильних многокутни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179280" y="907920"/>
            <a:ext cx="8964360" cy="3239640"/>
            <a:chOff x="179280" y="907920"/>
            <a:chExt cx="8964360" cy="3239640"/>
          </a:xfrm>
        </p:grpSpPr>
        <p:sp>
          <p:nvSpPr>
            <p:cNvPr id="140" name="AutoShape 4"/>
            <p:cNvSpPr/>
            <p:nvPr/>
          </p:nvSpPr>
          <p:spPr>
            <a:xfrm>
              <a:off x="352440" y="907920"/>
              <a:ext cx="8618040" cy="301536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>
              <a:off x="452880" y="1028520"/>
              <a:ext cx="8409600" cy="275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179280" y="3923280"/>
              <a:ext cx="8964360" cy="22428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610560" y="3588480"/>
              <a:ext cx="775440" cy="33444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9" descr="C41-12"/>
          <p:cNvPicPr/>
          <p:nvPr/>
        </p:nvPicPr>
        <p:blipFill>
          <a:blip r:embed="rId3"/>
          <a:stretch/>
        </p:blipFill>
        <p:spPr>
          <a:xfrm flipH="1">
            <a:off x="6588000" y="3068640"/>
            <a:ext cx="2190960" cy="270828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0"/>
          <p:cNvSpPr/>
          <p:nvPr/>
        </p:nvSpPr>
        <p:spPr>
          <a:xfrm>
            <a:off x="971640" y="4437000"/>
            <a:ext cx="5832360" cy="216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50000">
                <a:srgbClr val="ffff99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равильні однойменні многокутники подібні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їх сторони відносяться я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апофеми або радіуси, а площі віднося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як квадрати    апофем або радіусів.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826920" y="1557360"/>
            <a:ext cx="1513080" cy="1366920"/>
          </a:xfrm>
          <a:prstGeom prst="hexagon">
            <a:avLst>
              <a:gd name="adj" fmla="val 27673"/>
              <a:gd name="vf" fmla="val 11547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1547640" y="22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1547640" y="227664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1457280" y="1865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1386360" y="28004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2752200" y="1144440"/>
            <a:ext cx="5645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адіусам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равильного многокут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зиваються відрізки , що сполучають його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верши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пофемам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равильного многокут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зиваються відрізки перпендикулярі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пущених з його центра до перетину зі сторон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К –апофема, ОД -радіус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1889280" y="272880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/>
          <p:cNvSpPr/>
          <p:nvPr/>
        </p:nvSpPr>
        <p:spPr>
          <a:xfrm>
            <a:off x="179280" y="115920"/>
            <a:ext cx="8785440" cy="720720"/>
          </a:xfrm>
          <a:custGeom>
            <a:avLst/>
            <a:gdLst>
              <a:gd name="textAreaLeft" fmla="*/ 1098000 w 8785440"/>
              <a:gd name="textAreaRight" fmla="*/ 7687440 w 8785440"/>
              <a:gd name="textAreaTop" fmla="*/ 21672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624" stAng="16200000" swAng="5400000"/>
                <a:lnTo>
                  <a:pt x="5400" y="6496"/>
                </a:lnTo>
                <a:lnTo>
                  <a:pt x="16200" y="6496"/>
                </a:lnTo>
                <a:lnTo>
                  <a:pt x="16200" y="1624"/>
                </a:lnTo>
                <a:arcTo wR="675" hR="1624" stAng="10800000" swAng="5400000"/>
                <a:lnTo>
                  <a:pt x="21600" y="0"/>
                </a:lnTo>
                <a:lnTo>
                  <a:pt x="18900" y="7552"/>
                </a:lnTo>
                <a:lnTo>
                  <a:pt x="21600" y="15104"/>
                </a:lnTo>
                <a:lnTo>
                  <a:pt x="18900" y="15104"/>
                </a:lnTo>
                <a:lnTo>
                  <a:pt x="18900" y="19976"/>
                </a:lnTo>
                <a:arcTo wR="675" hR="1624" stAng="0" swAng="5400000"/>
                <a:lnTo>
                  <a:pt x="3375" y="21600"/>
                </a:lnTo>
                <a:arcTo wR="675" hR="1624" stAng="5400000" swAng="5400000"/>
                <a:lnTo>
                  <a:pt x="2700" y="15104"/>
                </a:lnTo>
                <a:lnTo>
                  <a:pt x="0" y="15104"/>
                </a:lnTo>
                <a:lnTo>
                  <a:pt x="2700" y="7552"/>
                </a:lnTo>
                <a:close/>
              </a:path>
              <a:path fill="none" w="21600" h="21600">
                <a:moveTo>
                  <a:pt x="5400" y="1624"/>
                </a:moveTo>
                <a:arcTo wR="675" hR="1624" stAng="0" swAng="5400000"/>
                <a:lnTo>
                  <a:pt x="3375" y="3248"/>
                </a:lnTo>
                <a:arcTo wR="675" hR="1624" stAng="16200000" swAng="-5400000"/>
                <a:arcTo wR="675" hR="1624" stAng="10800000" swAng="-5400000"/>
                <a:lnTo>
                  <a:pt x="5400" y="6496"/>
                </a:lnTo>
              </a:path>
              <a:path fill="none" w="21600" h="21600">
                <a:moveTo>
                  <a:pt x="16200" y="1624"/>
                </a:moveTo>
                <a:arcTo wR="675" hR="1624" stAng="10800000" swAng="-5400000"/>
                <a:lnTo>
                  <a:pt x="18225" y="3248"/>
                </a:lnTo>
                <a:arcTo wR="675" hR="1624" stAng="16200000" swAng="5400000"/>
                <a:arcTo wR="675" hR="1624" stAng="0" swAng="5400000"/>
                <a:lnTo>
                  <a:pt x="16200" y="6496"/>
                </a:lnTo>
              </a:path>
              <a:path fill="none" w="21600" h="21600">
                <a:moveTo>
                  <a:pt x="2700" y="4872"/>
                </a:moveTo>
                <a:lnTo>
                  <a:pt x="2700" y="15104"/>
                </a:lnTo>
              </a:path>
              <a:path fill="none" w="21600" h="21600">
                <a:moveTo>
                  <a:pt x="18900" y="4872"/>
                </a:moveTo>
                <a:lnTo>
                  <a:pt x="18900" y="15104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ПРАВИЛЬНІ МНОГОКУ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0" y="1052640"/>
            <a:ext cx="8604000" cy="4896360"/>
            <a:chOff x="0" y="1052640"/>
            <a:chExt cx="8604000" cy="4896360"/>
          </a:xfrm>
        </p:grpSpPr>
        <p:sp>
          <p:nvSpPr>
            <p:cNvPr id="155" name="AutoShape 4"/>
            <p:cNvSpPr/>
            <p:nvPr/>
          </p:nvSpPr>
          <p:spPr>
            <a:xfrm>
              <a:off x="165960" y="1052640"/>
              <a:ext cx="8271720" cy="455724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262440" y="1234800"/>
              <a:ext cx="8071560" cy="416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0" y="5609880"/>
              <a:ext cx="8604000" cy="33912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7"/>
            <p:cNvSpPr/>
            <p:nvPr/>
          </p:nvSpPr>
          <p:spPr>
            <a:xfrm>
              <a:off x="413640" y="5104080"/>
              <a:ext cx="744120" cy="50580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6"/>
          <p:cNvSpPr/>
          <p:nvPr/>
        </p:nvSpPr>
        <p:spPr>
          <a:xfrm>
            <a:off x="1311120" y="1360440"/>
            <a:ext cx="354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ЗНАЧЕННЯ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хай S – площа прави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-кут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його стор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r і R радіуси відповідно вписаного і описаного кі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7" descr="TR00006_"/>
          <p:cNvPicPr/>
          <p:nvPr/>
        </p:nvPicPr>
        <p:blipFill>
          <a:blip r:embed="rId3"/>
          <a:stretch/>
        </p:blipFill>
        <p:spPr>
          <a:xfrm>
            <a:off x="5364000" y="765000"/>
            <a:ext cx="2971800" cy="26290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9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8"/>
              <p:cNvSpPr txBox="1"/>
              <p:nvPr/>
            </p:nvSpPr>
            <p:spPr>
              <a:xfrm>
                <a:off x="2771640" y="3500280"/>
                <a:ext cx="18385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21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20"/>
              <p:cNvSpPr txBox="1"/>
              <p:nvPr/>
            </p:nvSpPr>
            <p:spPr>
              <a:xfrm>
                <a:off x="684360" y="3573360"/>
                <a:ext cx="1628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Text Box 23"/>
          <p:cNvSpPr/>
          <p:nvPr/>
        </p:nvSpPr>
        <p:spPr>
          <a:xfrm>
            <a:off x="4716360" y="39528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гальні формули радіус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писаного та описаного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179280" y="-171360"/>
            <a:ext cx="8785440" cy="1079280"/>
          </a:xfrm>
          <a:custGeom>
            <a:avLst/>
            <a:gdLst>
              <a:gd name="textAreaLeft" fmla="*/ 1098000 w 8785440"/>
              <a:gd name="textAreaRight" fmla="*/ 7687440 w 8785440"/>
              <a:gd name="textAreaTop" fmla="*/ 19656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985" stAng="16200000" swAng="5400000"/>
                <a:lnTo>
                  <a:pt x="5400" y="3939"/>
                </a:lnTo>
                <a:lnTo>
                  <a:pt x="16200" y="3939"/>
                </a:lnTo>
                <a:lnTo>
                  <a:pt x="16200" y="985"/>
                </a:lnTo>
                <a:arcTo wR="675" hR="985" stAng="10800000" swAng="5400000"/>
                <a:lnTo>
                  <a:pt x="21600" y="0"/>
                </a:lnTo>
                <a:lnTo>
                  <a:pt x="18900" y="8831"/>
                </a:lnTo>
                <a:lnTo>
                  <a:pt x="21600" y="17661"/>
                </a:lnTo>
                <a:lnTo>
                  <a:pt x="18900" y="17661"/>
                </a:lnTo>
                <a:lnTo>
                  <a:pt x="18900" y="20615"/>
                </a:lnTo>
                <a:arcTo wR="675" hR="985" stAng="0" swAng="5400000"/>
                <a:lnTo>
                  <a:pt x="3375" y="21600"/>
                </a:lnTo>
                <a:arcTo wR="675" hR="985" stAng="5400000" swAng="5400000"/>
                <a:lnTo>
                  <a:pt x="2700" y="17661"/>
                </a:lnTo>
                <a:lnTo>
                  <a:pt x="0" y="17661"/>
                </a:lnTo>
                <a:lnTo>
                  <a:pt x="2700" y="8831"/>
                </a:lnTo>
                <a:close/>
              </a:path>
              <a:path fill="none" w="21600" h="21600">
                <a:moveTo>
                  <a:pt x="5400" y="985"/>
                </a:moveTo>
                <a:arcTo wR="675" hR="985" stAng="0" swAng="5400000"/>
                <a:lnTo>
                  <a:pt x="3375" y="1970"/>
                </a:lnTo>
                <a:arcTo wR="675" hR="985" stAng="16200000" swAng="-5400000"/>
                <a:arcTo wR="675" hR="985" stAng="10800000" swAng="-5400000"/>
                <a:lnTo>
                  <a:pt x="5400" y="3939"/>
                </a:lnTo>
              </a:path>
              <a:path fill="none" w="21600" h="21600">
                <a:moveTo>
                  <a:pt x="16200" y="985"/>
                </a:moveTo>
                <a:arcTo wR="675" hR="985" stAng="10800000" swAng="-5400000"/>
                <a:lnTo>
                  <a:pt x="18225" y="1970"/>
                </a:lnTo>
                <a:arcTo wR="675" hR="985" stAng="16200000" swAng="5400000"/>
                <a:arcTo wR="675" hR="985" stAng="0" swAng="5400000"/>
                <a:lnTo>
                  <a:pt x="16200" y="3939"/>
                </a:lnTo>
              </a:path>
              <a:path fill="none" w="21600" h="21600">
                <a:moveTo>
                  <a:pt x="2700" y="2954"/>
                </a:moveTo>
                <a:lnTo>
                  <a:pt x="2700" y="17661"/>
                </a:lnTo>
              </a:path>
              <a:path fill="none" w="21600" h="21600">
                <a:moveTo>
                  <a:pt x="18900" y="2954"/>
                </a:moveTo>
                <a:lnTo>
                  <a:pt x="18900" y="17661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ли для обчислення площ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ьног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икут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його сторони і радіус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і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писанного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та описаног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к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468360" y="1052640"/>
            <a:ext cx="7560720" cy="5184000"/>
            <a:chOff x="468360" y="1052640"/>
            <a:chExt cx="7560720" cy="5184000"/>
          </a:xfrm>
        </p:grpSpPr>
        <p:sp>
          <p:nvSpPr>
            <p:cNvPr id="168" name="AutoShape 4"/>
            <p:cNvSpPr/>
            <p:nvPr/>
          </p:nvSpPr>
          <p:spPr>
            <a:xfrm>
              <a:off x="614160" y="1052640"/>
              <a:ext cx="7268760" cy="482472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699120" y="1245600"/>
              <a:ext cx="7092720" cy="4407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68360" y="5877360"/>
              <a:ext cx="7560720" cy="35928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7"/>
            <p:cNvSpPr/>
            <p:nvPr/>
          </p:nvSpPr>
          <p:spPr>
            <a:xfrm>
              <a:off x="831960" y="5341680"/>
              <a:ext cx="654120" cy="53532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9" descr="C41-12"/>
          <p:cNvPicPr/>
          <p:nvPr/>
        </p:nvPicPr>
        <p:blipFill>
          <a:blip r:embed="rId3"/>
          <a:stretch/>
        </p:blipFill>
        <p:spPr>
          <a:xfrm flipH="1">
            <a:off x="6300720" y="1700280"/>
            <a:ext cx="2190960" cy="270828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14"/>
          <p:cNvSpPr/>
          <p:nvPr/>
        </p:nvSpPr>
        <p:spPr>
          <a:xfrm>
            <a:off x="1116000" y="1484280"/>
            <a:ext cx="2303640" cy="2016000"/>
          </a:xfrm>
          <a:prstGeom prst="triangle">
            <a:avLst>
              <a:gd name="adj" fmla="val 5000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4269600" y="3565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6"/>
              <p:cNvSpPr txBox="1"/>
              <p:nvPr/>
            </p:nvSpPr>
            <p:spPr>
              <a:xfrm>
                <a:off x="4067280" y="1844640"/>
                <a:ext cx="126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8"/>
              <p:cNvSpPr txBox="1"/>
              <p:nvPr/>
            </p:nvSpPr>
            <p:spPr>
              <a:xfrm>
                <a:off x="4067280" y="2852640"/>
                <a:ext cx="1714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30"/>
              <p:cNvSpPr txBox="1"/>
              <p:nvPr/>
            </p:nvSpPr>
            <p:spPr>
              <a:xfrm>
                <a:off x="4211640" y="4365720"/>
                <a:ext cx="83808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2"/>
              <p:cNvSpPr txBox="1"/>
              <p:nvPr/>
            </p:nvSpPr>
            <p:spPr>
              <a:xfrm>
                <a:off x="1835280" y="4365720"/>
                <a:ext cx="13046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Line 34"/>
          <p:cNvSpPr/>
          <p:nvPr/>
        </p:nvSpPr>
        <p:spPr>
          <a:xfrm>
            <a:off x="2268360" y="2781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5"/>
          <p:cNvSpPr/>
          <p:nvPr/>
        </p:nvSpPr>
        <p:spPr>
          <a:xfrm>
            <a:off x="2268360" y="2781360"/>
            <a:ext cx="115128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0"/>
          <p:cNvSpPr/>
          <p:nvPr/>
        </p:nvSpPr>
        <p:spPr>
          <a:xfrm>
            <a:off x="2033640" y="2944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1"/>
          <p:cNvSpPr/>
          <p:nvPr/>
        </p:nvSpPr>
        <p:spPr>
          <a:xfrm>
            <a:off x="2571840" y="28414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0" y="-171360"/>
            <a:ext cx="8785080" cy="1439640"/>
          </a:xfrm>
          <a:custGeom>
            <a:avLst/>
            <a:gdLst>
              <a:gd name="textAreaLeft" fmla="*/ 1098000 w 8785080"/>
              <a:gd name="textAreaRight" fmla="*/ 7687080 w 8785080"/>
              <a:gd name="textAreaTop" fmla="*/ 11556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435" stAng="16200000" swAng="5400000"/>
                <a:lnTo>
                  <a:pt x="5400" y="1738"/>
                </a:lnTo>
                <a:lnTo>
                  <a:pt x="16200" y="1738"/>
                </a:lnTo>
                <a:lnTo>
                  <a:pt x="16200" y="435"/>
                </a:lnTo>
                <a:arcTo wR="675" hR="435" stAng="10800000" swAng="5400000"/>
                <a:lnTo>
                  <a:pt x="21600" y="0"/>
                </a:lnTo>
                <a:lnTo>
                  <a:pt x="18900" y="9931"/>
                </a:lnTo>
                <a:lnTo>
                  <a:pt x="21600" y="19862"/>
                </a:lnTo>
                <a:lnTo>
                  <a:pt x="18900" y="19862"/>
                </a:lnTo>
                <a:lnTo>
                  <a:pt x="18900" y="21166"/>
                </a:lnTo>
                <a:arcTo wR="675" hR="435" stAng="0" swAng="5400000"/>
                <a:lnTo>
                  <a:pt x="3375" y="21600"/>
                </a:lnTo>
                <a:arcTo wR="675" hR="435" stAng="5400000" swAng="5400000"/>
                <a:lnTo>
                  <a:pt x="2700" y="19862"/>
                </a:lnTo>
                <a:lnTo>
                  <a:pt x="0" y="19862"/>
                </a:lnTo>
                <a:lnTo>
                  <a:pt x="2700" y="9931"/>
                </a:lnTo>
                <a:close/>
              </a:path>
              <a:path fill="none" w="21600" h="21600">
                <a:moveTo>
                  <a:pt x="5400" y="435"/>
                </a:moveTo>
                <a:arcTo wR="675" hR="435" stAng="0" swAng="5400000"/>
                <a:lnTo>
                  <a:pt x="3375" y="869"/>
                </a:lnTo>
                <a:arcTo wR="675" hR="435" stAng="16200000" swAng="-5400000"/>
                <a:arcTo wR="675" hR="435" stAng="10800000" swAng="-5400000"/>
                <a:lnTo>
                  <a:pt x="5400" y="1738"/>
                </a:lnTo>
              </a:path>
              <a:path fill="none" w="21600" h="21600">
                <a:moveTo>
                  <a:pt x="16200" y="435"/>
                </a:moveTo>
                <a:arcTo wR="675" hR="435" stAng="10800000" swAng="-5400000"/>
                <a:lnTo>
                  <a:pt x="18225" y="869"/>
                </a:lnTo>
                <a:arcTo wR="675" hR="435" stAng="16200000" swAng="5400000"/>
                <a:arcTo wR="675" hR="435" stAng="0" swAng="5400000"/>
                <a:lnTo>
                  <a:pt x="16200" y="1738"/>
                </a:lnTo>
              </a:path>
              <a:path fill="none" w="21600" h="21600">
                <a:moveTo>
                  <a:pt x="2700" y="1304"/>
                </a:moveTo>
                <a:lnTo>
                  <a:pt x="2700" y="19862"/>
                </a:lnTo>
              </a:path>
              <a:path fill="none" w="21600" h="21600">
                <a:moveTo>
                  <a:pt x="18900" y="1304"/>
                </a:moveTo>
                <a:lnTo>
                  <a:pt x="18900" y="19862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ли для обчислення площ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ьног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отирикут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його сторони і радіус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і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писанного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та описаног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к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250920" y="1562040"/>
            <a:ext cx="8281440" cy="4890240"/>
            <a:chOff x="250920" y="1562040"/>
            <a:chExt cx="8281440" cy="4890240"/>
          </a:xfrm>
        </p:grpSpPr>
        <p:sp>
          <p:nvSpPr>
            <p:cNvPr id="185" name="AutoShape 4"/>
            <p:cNvSpPr/>
            <p:nvPr/>
          </p:nvSpPr>
          <p:spPr>
            <a:xfrm>
              <a:off x="410760" y="1562040"/>
              <a:ext cx="7961400" cy="455148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"/>
            <p:cNvSpPr/>
            <p:nvPr/>
          </p:nvSpPr>
          <p:spPr>
            <a:xfrm>
              <a:off x="503640" y="1744200"/>
              <a:ext cx="7768800" cy="415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>
              <a:off x="250920" y="6113520"/>
              <a:ext cx="8281440" cy="3387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7"/>
            <p:cNvSpPr/>
            <p:nvPr/>
          </p:nvSpPr>
          <p:spPr>
            <a:xfrm>
              <a:off x="649080" y="5608440"/>
              <a:ext cx="716400" cy="50508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9" descr="C41-12"/>
          <p:cNvPicPr/>
          <p:nvPr/>
        </p:nvPicPr>
        <p:blipFill>
          <a:blip r:embed="rId3"/>
          <a:stretch/>
        </p:blipFill>
        <p:spPr>
          <a:xfrm flipH="1">
            <a:off x="6227640" y="1700280"/>
            <a:ext cx="2190960" cy="27082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1"/>
          <p:cNvSpPr/>
          <p:nvPr/>
        </p:nvSpPr>
        <p:spPr>
          <a:xfrm>
            <a:off x="1258920" y="2060640"/>
            <a:ext cx="2376360" cy="2592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2"/>
              <p:cNvSpPr txBox="1"/>
              <p:nvPr/>
            </p:nvSpPr>
            <p:spPr>
              <a:xfrm>
                <a:off x="4500720" y="1989000"/>
                <a:ext cx="1304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6"/>
              <p:cNvSpPr txBox="1"/>
              <p:nvPr/>
            </p:nvSpPr>
            <p:spPr>
              <a:xfrm>
                <a:off x="4643280" y="2781360"/>
                <a:ext cx="1152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Rectangle 19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8"/>
              <p:cNvSpPr txBox="1"/>
              <p:nvPr/>
            </p:nvSpPr>
            <p:spPr>
              <a:xfrm>
                <a:off x="4716360" y="3933720"/>
                <a:ext cx="7336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Rectangle 2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0"/>
              <p:cNvSpPr txBox="1"/>
              <p:nvPr/>
            </p:nvSpPr>
            <p:spPr>
              <a:xfrm>
                <a:off x="4643280" y="5084640"/>
                <a:ext cx="866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" name="Line 22"/>
          <p:cNvSpPr/>
          <p:nvPr/>
        </p:nvSpPr>
        <p:spPr>
          <a:xfrm>
            <a:off x="2411280" y="3357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3"/>
          <p:cNvSpPr/>
          <p:nvPr/>
        </p:nvSpPr>
        <p:spPr>
          <a:xfrm>
            <a:off x="2411280" y="3357720"/>
            <a:ext cx="12240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2104920" y="3736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2968920" y="373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2"/>
          <p:cNvSpPr/>
          <p:nvPr/>
        </p:nvSpPr>
        <p:spPr>
          <a:xfrm>
            <a:off x="179280" y="0"/>
            <a:ext cx="8785440" cy="1341360"/>
          </a:xfrm>
          <a:custGeom>
            <a:avLst/>
            <a:gdLst>
              <a:gd name="textAreaLeft" fmla="*/ 1098000 w 8785440"/>
              <a:gd name="textAreaRight" fmla="*/ 7687440 w 8785440"/>
              <a:gd name="textAreaTop" fmla="*/ 88560 h 1341360"/>
              <a:gd name="textAreaBottom" fmla="*/ 134172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357" stAng="16200000" swAng="5400000"/>
                <a:lnTo>
                  <a:pt x="5400" y="1427"/>
                </a:lnTo>
                <a:lnTo>
                  <a:pt x="16200" y="1427"/>
                </a:lnTo>
                <a:lnTo>
                  <a:pt x="16200" y="357"/>
                </a:lnTo>
                <a:arcTo wR="675" hR="357" stAng="10800000" swAng="5400000"/>
                <a:lnTo>
                  <a:pt x="21600" y="0"/>
                </a:lnTo>
                <a:lnTo>
                  <a:pt x="18900" y="10087"/>
                </a:lnTo>
                <a:lnTo>
                  <a:pt x="21600" y="20173"/>
                </a:lnTo>
                <a:lnTo>
                  <a:pt x="18900" y="20173"/>
                </a:lnTo>
                <a:lnTo>
                  <a:pt x="18900" y="21243"/>
                </a:lnTo>
                <a:arcTo wR="675" hR="357" stAng="0" swAng="5400000"/>
                <a:lnTo>
                  <a:pt x="3375" y="21600"/>
                </a:lnTo>
                <a:arcTo wR="675" hR="357" stAng="5400000" swAng="5400000"/>
                <a:lnTo>
                  <a:pt x="2700" y="20173"/>
                </a:lnTo>
                <a:lnTo>
                  <a:pt x="0" y="20173"/>
                </a:lnTo>
                <a:lnTo>
                  <a:pt x="2700" y="10087"/>
                </a:lnTo>
                <a:close/>
              </a:path>
              <a:path fill="none" w="21600" h="21600">
                <a:moveTo>
                  <a:pt x="5400" y="357"/>
                </a:moveTo>
                <a:arcTo wR="675" hR="357" stAng="0" swAng="5400000"/>
                <a:lnTo>
                  <a:pt x="3375" y="714"/>
                </a:lnTo>
                <a:arcTo wR="675" hR="357" stAng="16200000" swAng="-5400000"/>
                <a:arcTo wR="675" hR="357" stAng="10800000" swAng="-5400000"/>
                <a:lnTo>
                  <a:pt x="5400" y="1427"/>
                </a:lnTo>
              </a:path>
              <a:path fill="none" w="21600" h="21600">
                <a:moveTo>
                  <a:pt x="16200" y="357"/>
                </a:moveTo>
                <a:arcTo wR="675" hR="357" stAng="10800000" swAng="-5400000"/>
                <a:lnTo>
                  <a:pt x="18225" y="714"/>
                </a:lnTo>
                <a:arcTo wR="675" hR="357" stAng="16200000" swAng="5400000"/>
                <a:arcTo wR="675" hR="357" stAng="0" swAng="5400000"/>
                <a:lnTo>
                  <a:pt x="16200" y="1427"/>
                </a:lnTo>
              </a:path>
              <a:path fill="none" w="21600" h="21600">
                <a:moveTo>
                  <a:pt x="2700" y="1070"/>
                </a:moveTo>
                <a:lnTo>
                  <a:pt x="2700" y="20173"/>
                </a:lnTo>
              </a:path>
              <a:path fill="none" w="21600" h="21600">
                <a:moveTo>
                  <a:pt x="18900" y="1070"/>
                </a:moveTo>
                <a:lnTo>
                  <a:pt x="18900" y="20173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ли для обчислення площ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ьног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о п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ят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ут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його сторони і радіус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і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писанного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та описаног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к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79280" y="1562040"/>
            <a:ext cx="8569080" cy="5294880"/>
            <a:chOff x="179280" y="1562040"/>
            <a:chExt cx="8569080" cy="5294880"/>
          </a:xfrm>
        </p:grpSpPr>
        <p:sp>
          <p:nvSpPr>
            <p:cNvPr id="205" name="AutoShape 4"/>
            <p:cNvSpPr/>
            <p:nvPr/>
          </p:nvSpPr>
          <p:spPr>
            <a:xfrm>
              <a:off x="344520" y="1562040"/>
              <a:ext cx="8238240" cy="492804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5"/>
            <p:cNvSpPr/>
            <p:nvPr/>
          </p:nvSpPr>
          <p:spPr>
            <a:xfrm>
              <a:off x="440640" y="1758960"/>
              <a:ext cx="8038800" cy="4501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>
              <a:off x="179280" y="6490080"/>
              <a:ext cx="8569080" cy="36684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591480" y="5943240"/>
              <a:ext cx="741240" cy="54684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AutoShape 13"/>
          <p:cNvSpPr/>
          <p:nvPr/>
        </p:nvSpPr>
        <p:spPr>
          <a:xfrm>
            <a:off x="1042920" y="2133720"/>
            <a:ext cx="2376720" cy="2158920"/>
          </a:xfrm>
          <a:prstGeom prst="pentagon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4"/>
              <p:cNvSpPr txBox="1"/>
              <p:nvPr/>
            </p:nvSpPr>
            <p:spPr>
              <a:xfrm>
                <a:off x="4427640" y="2133720"/>
                <a:ext cx="2286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2" name="Rectangle 17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16"/>
              <p:cNvSpPr txBox="1"/>
              <p:nvPr/>
            </p:nvSpPr>
            <p:spPr>
              <a:xfrm>
                <a:off x="4356000" y="3068640"/>
                <a:ext cx="24289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8"/>
              <p:cNvSpPr txBox="1"/>
              <p:nvPr/>
            </p:nvSpPr>
            <p:spPr>
              <a:xfrm>
                <a:off x="4500720" y="4149720"/>
                <a:ext cx="23619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0"/>
              <p:cNvSpPr txBox="1"/>
              <p:nvPr/>
            </p:nvSpPr>
            <p:spPr>
              <a:xfrm>
                <a:off x="1476360" y="4941720"/>
                <a:ext cx="24764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Line 23"/>
          <p:cNvSpPr/>
          <p:nvPr/>
        </p:nvSpPr>
        <p:spPr>
          <a:xfrm>
            <a:off x="2195640" y="3284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4"/>
          <p:cNvSpPr/>
          <p:nvPr/>
        </p:nvSpPr>
        <p:spPr>
          <a:xfrm>
            <a:off x="2195640" y="3284640"/>
            <a:ext cx="720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7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8" descr="C41-12"/>
          <p:cNvPicPr/>
          <p:nvPr/>
        </p:nvPicPr>
        <p:blipFill>
          <a:blip r:embed="rId3"/>
          <a:stretch/>
        </p:blipFill>
        <p:spPr>
          <a:xfrm flipH="1">
            <a:off x="6953040" y="1700280"/>
            <a:ext cx="2190600" cy="27082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0"/>
          <p:cNvSpPr/>
          <p:nvPr/>
        </p:nvSpPr>
        <p:spPr>
          <a:xfrm>
            <a:off x="2033640" y="3592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1"/>
          <p:cNvSpPr/>
          <p:nvPr/>
        </p:nvSpPr>
        <p:spPr>
          <a:xfrm>
            <a:off x="2536920" y="352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179280" y="115920"/>
            <a:ext cx="8785440" cy="1297080"/>
          </a:xfrm>
          <a:custGeom>
            <a:avLst/>
            <a:gdLst>
              <a:gd name="textAreaLeft" fmla="*/ 1098000 w 8785440"/>
              <a:gd name="textAreaRight" fmla="*/ 7687440 w 8785440"/>
              <a:gd name="textAreaTop" fmla="*/ 98280 h 1297080"/>
              <a:gd name="textAreaBottom" fmla="*/ 12974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410" stAng="16200000" swAng="5400000"/>
                <a:lnTo>
                  <a:pt x="5400" y="1639"/>
                </a:lnTo>
                <a:lnTo>
                  <a:pt x="16200" y="1639"/>
                </a:lnTo>
                <a:lnTo>
                  <a:pt x="16200" y="410"/>
                </a:lnTo>
                <a:arcTo wR="675" hR="410" stAng="10800000" swAng="5400000"/>
                <a:lnTo>
                  <a:pt x="21600" y="0"/>
                </a:lnTo>
                <a:lnTo>
                  <a:pt x="18900" y="9981"/>
                </a:lnTo>
                <a:lnTo>
                  <a:pt x="21600" y="19961"/>
                </a:lnTo>
                <a:lnTo>
                  <a:pt x="18900" y="19961"/>
                </a:lnTo>
                <a:lnTo>
                  <a:pt x="18900" y="21190"/>
                </a:lnTo>
                <a:arcTo wR="675" hR="410" stAng="0" swAng="5400000"/>
                <a:lnTo>
                  <a:pt x="3375" y="21600"/>
                </a:lnTo>
                <a:arcTo wR="675" hR="410" stAng="5400000" swAng="5400000"/>
                <a:lnTo>
                  <a:pt x="2700" y="19961"/>
                </a:lnTo>
                <a:lnTo>
                  <a:pt x="0" y="19961"/>
                </a:lnTo>
                <a:lnTo>
                  <a:pt x="2700" y="9981"/>
                </a:lnTo>
                <a:close/>
              </a:path>
              <a:path fill="none" w="21600" h="21600">
                <a:moveTo>
                  <a:pt x="5400" y="410"/>
                </a:moveTo>
                <a:arcTo wR="675" hR="410" stAng="0" swAng="5400000"/>
                <a:lnTo>
                  <a:pt x="3375" y="820"/>
                </a:lnTo>
                <a:arcTo wR="675" hR="410" stAng="16200000" swAng="-5400000"/>
                <a:arcTo wR="675" hR="410" stAng="10800000" swAng="-5400000"/>
                <a:lnTo>
                  <a:pt x="5400" y="1639"/>
                </a:lnTo>
              </a:path>
              <a:path fill="none" w="21600" h="21600">
                <a:moveTo>
                  <a:pt x="16200" y="410"/>
                </a:moveTo>
                <a:arcTo wR="675" hR="410" stAng="10800000" swAng="-5400000"/>
                <a:lnTo>
                  <a:pt x="18225" y="820"/>
                </a:lnTo>
                <a:arcTo wR="675" hR="410" stAng="16200000" swAng="5400000"/>
                <a:arcTo wR="675" hR="410" stAng="0" swAng="5400000"/>
                <a:lnTo>
                  <a:pt x="16200" y="1639"/>
                </a:lnTo>
              </a:path>
              <a:path fill="none" w="21600" h="21600">
                <a:moveTo>
                  <a:pt x="2700" y="1229"/>
                </a:moveTo>
                <a:lnTo>
                  <a:pt x="2700" y="19961"/>
                </a:lnTo>
              </a:path>
              <a:path fill="none" w="21600" h="21600">
                <a:moveTo>
                  <a:pt x="18900" y="1229"/>
                </a:moveTo>
                <a:lnTo>
                  <a:pt x="18900" y="19961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ли для обчислення площ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ьног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о шест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ут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його сторони і радіус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і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писанного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та описаног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к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-181080" y="1822320"/>
            <a:ext cx="8964360" cy="5034960"/>
            <a:chOff x="-181080" y="1822320"/>
            <a:chExt cx="8964360" cy="5034960"/>
          </a:xfrm>
        </p:grpSpPr>
        <p:sp>
          <p:nvSpPr>
            <p:cNvPr id="224" name="AutoShape 4"/>
            <p:cNvSpPr/>
            <p:nvPr/>
          </p:nvSpPr>
          <p:spPr>
            <a:xfrm>
              <a:off x="-7560" y="1822320"/>
              <a:ext cx="8618040" cy="468612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"/>
            <p:cNvSpPr/>
            <p:nvPr/>
          </p:nvSpPr>
          <p:spPr>
            <a:xfrm>
              <a:off x="92520" y="2009520"/>
              <a:ext cx="8409600" cy="4280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-181080" y="6508440"/>
              <a:ext cx="8964360" cy="34884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250200" y="5988240"/>
              <a:ext cx="775440" cy="51984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AutoShape 26"/>
          <p:cNvSpPr/>
          <p:nvPr/>
        </p:nvSpPr>
        <p:spPr>
          <a:xfrm>
            <a:off x="539640" y="2205000"/>
            <a:ext cx="2737080" cy="2448000"/>
          </a:xfrm>
          <a:prstGeom prst="hexagon">
            <a:avLst>
              <a:gd name="adj" fmla="val 27952"/>
              <a:gd name="vf" fmla="val 11547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8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7"/>
              <p:cNvSpPr txBox="1"/>
              <p:nvPr/>
            </p:nvSpPr>
            <p:spPr>
              <a:xfrm>
                <a:off x="4500720" y="2349360"/>
                <a:ext cx="87624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Rectangle 30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9"/>
              <p:cNvSpPr txBox="1"/>
              <p:nvPr/>
            </p:nvSpPr>
            <p:spPr>
              <a:xfrm>
                <a:off x="4500720" y="4076640"/>
                <a:ext cx="10666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Rectangle 32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31"/>
              <p:cNvSpPr txBox="1"/>
              <p:nvPr/>
            </p:nvSpPr>
            <p:spPr>
              <a:xfrm>
                <a:off x="4427640" y="5157720"/>
                <a:ext cx="14954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5" name="Rectangle 34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33"/>
              <p:cNvSpPr txBox="1"/>
              <p:nvPr/>
            </p:nvSpPr>
            <p:spPr>
              <a:xfrm>
                <a:off x="4572000" y="3357720"/>
                <a:ext cx="7142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Line 35"/>
          <p:cNvSpPr/>
          <p:nvPr/>
        </p:nvSpPr>
        <p:spPr>
          <a:xfrm>
            <a:off x="1908000" y="342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6"/>
          <p:cNvSpPr/>
          <p:nvPr/>
        </p:nvSpPr>
        <p:spPr>
          <a:xfrm>
            <a:off x="1908000" y="3429000"/>
            <a:ext cx="7192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9" descr="C41-12"/>
          <p:cNvPicPr/>
          <p:nvPr/>
        </p:nvPicPr>
        <p:blipFill>
          <a:blip r:embed="rId3"/>
          <a:stretch/>
        </p:blipFill>
        <p:spPr>
          <a:xfrm flipH="1">
            <a:off x="6156000" y="2565360"/>
            <a:ext cx="2190600" cy="27082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1601640" y="3808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249640" y="352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2"/>
          <p:cNvSpPr/>
          <p:nvPr/>
        </p:nvSpPr>
        <p:spPr>
          <a:xfrm>
            <a:off x="179280" y="0"/>
            <a:ext cx="8785440" cy="1225440"/>
          </a:xfrm>
          <a:custGeom>
            <a:avLst/>
            <a:gdLst>
              <a:gd name="textAreaLeft" fmla="*/ 1098000 w 8785440"/>
              <a:gd name="textAreaRight" fmla="*/ 7687440 w 8785440"/>
              <a:gd name="textAreaTop" fmla="*/ 25200 h 1225440"/>
              <a:gd name="textAreaBottom" fmla="*/ 122580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12" stAng="16200000" swAng="5400000"/>
                <a:lnTo>
                  <a:pt x="5400" y="448"/>
                </a:lnTo>
                <a:lnTo>
                  <a:pt x="16200" y="448"/>
                </a:lnTo>
                <a:lnTo>
                  <a:pt x="16200" y="112"/>
                </a:lnTo>
                <a:arcTo wR="675" hR="112" stAng="10800000" swAng="5400000"/>
                <a:lnTo>
                  <a:pt x="21600" y="0"/>
                </a:lnTo>
                <a:lnTo>
                  <a:pt x="18900" y="10576"/>
                </a:lnTo>
                <a:lnTo>
                  <a:pt x="21600" y="21152"/>
                </a:lnTo>
                <a:lnTo>
                  <a:pt x="18900" y="21152"/>
                </a:lnTo>
                <a:lnTo>
                  <a:pt x="18900" y="21488"/>
                </a:lnTo>
                <a:arcTo wR="675" hR="112" stAng="0" swAng="5400000"/>
                <a:lnTo>
                  <a:pt x="3375" y="21600"/>
                </a:lnTo>
                <a:arcTo wR="675" hR="112" stAng="5400000" swAng="5400000"/>
                <a:lnTo>
                  <a:pt x="2700" y="21152"/>
                </a:lnTo>
                <a:lnTo>
                  <a:pt x="0" y="21152"/>
                </a:lnTo>
                <a:lnTo>
                  <a:pt x="2700" y="10576"/>
                </a:lnTo>
                <a:close/>
              </a:path>
              <a:path fill="none" w="21600" h="21600">
                <a:moveTo>
                  <a:pt x="5400" y="112"/>
                </a:moveTo>
                <a:arcTo wR="675" hR="112" stAng="0" swAng="5400000"/>
                <a:lnTo>
                  <a:pt x="3375" y="224"/>
                </a:lnTo>
                <a:arcTo wR="675" hR="112" stAng="16200000" swAng="-5400000"/>
                <a:arcTo wR="675" hR="112" stAng="10800000" swAng="-5400000"/>
                <a:lnTo>
                  <a:pt x="5400" y="448"/>
                </a:lnTo>
              </a:path>
              <a:path fill="none" w="21600" h="21600">
                <a:moveTo>
                  <a:pt x="16200" y="112"/>
                </a:moveTo>
                <a:arcTo wR="675" hR="112" stAng="10800000" swAng="-5400000"/>
                <a:lnTo>
                  <a:pt x="18225" y="224"/>
                </a:lnTo>
                <a:arcTo wR="675" hR="112" stAng="16200000" swAng="5400000"/>
                <a:arcTo wR="675" hR="112" stAng="0" swAng="5400000"/>
                <a:lnTo>
                  <a:pt x="16200" y="448"/>
                </a:lnTo>
              </a:path>
              <a:path fill="none" w="21600" h="21600">
                <a:moveTo>
                  <a:pt x="2700" y="336"/>
                </a:moveTo>
                <a:lnTo>
                  <a:pt x="2700" y="21152"/>
                </a:lnTo>
              </a:path>
              <a:path fill="none" w="21600" h="21600">
                <a:moveTo>
                  <a:pt x="18900" y="336"/>
                </a:moveTo>
                <a:lnTo>
                  <a:pt x="18900" y="21152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ли для обчислення площ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ьног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о восьм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ут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його сторони і радіус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і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писанного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та описаног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к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395280" y="1495440"/>
            <a:ext cx="8497440" cy="5028480"/>
            <a:chOff x="395280" y="1495440"/>
            <a:chExt cx="8497440" cy="5028480"/>
          </a:xfrm>
        </p:grpSpPr>
        <p:sp>
          <p:nvSpPr>
            <p:cNvPr id="244" name="AutoShape 4"/>
            <p:cNvSpPr/>
            <p:nvPr/>
          </p:nvSpPr>
          <p:spPr>
            <a:xfrm>
              <a:off x="559440" y="1495440"/>
              <a:ext cx="8169120" cy="468000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"/>
            <p:cNvSpPr/>
            <p:nvPr/>
          </p:nvSpPr>
          <p:spPr>
            <a:xfrm>
              <a:off x="654480" y="1682640"/>
              <a:ext cx="7971480" cy="4275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6"/>
            <p:cNvSpPr/>
            <p:nvPr/>
          </p:nvSpPr>
          <p:spPr>
            <a:xfrm>
              <a:off x="395280" y="6175440"/>
              <a:ext cx="8497440" cy="34848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"/>
            <p:cNvSpPr/>
            <p:nvPr/>
          </p:nvSpPr>
          <p:spPr>
            <a:xfrm>
              <a:off x="803880" y="5655960"/>
              <a:ext cx="735120" cy="51912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AutoShape 26"/>
          <p:cNvSpPr/>
          <p:nvPr/>
        </p:nvSpPr>
        <p:spPr>
          <a:xfrm>
            <a:off x="1332000" y="1989000"/>
            <a:ext cx="1800000" cy="1849680"/>
          </a:xfrm>
          <a:prstGeom prst="octagon">
            <a:avLst>
              <a:gd name="adj" fmla="val 2928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8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7"/>
              <p:cNvSpPr txBox="1"/>
              <p:nvPr/>
            </p:nvSpPr>
            <p:spPr>
              <a:xfrm>
                <a:off x="4211640" y="1989000"/>
                <a:ext cx="195264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1" name="Rectangle 30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29"/>
              <p:cNvSpPr txBox="1"/>
              <p:nvPr/>
            </p:nvSpPr>
            <p:spPr>
              <a:xfrm>
                <a:off x="4284720" y="2781360"/>
                <a:ext cx="20192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3" name="Rectangle 32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31"/>
              <p:cNvSpPr txBox="1"/>
              <p:nvPr/>
            </p:nvSpPr>
            <p:spPr>
              <a:xfrm>
                <a:off x="4427640" y="3789360"/>
                <a:ext cx="16668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3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33"/>
              <p:cNvSpPr txBox="1"/>
              <p:nvPr/>
            </p:nvSpPr>
            <p:spPr>
              <a:xfrm>
                <a:off x="1979640" y="4869000"/>
                <a:ext cx="2028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Line 35"/>
          <p:cNvSpPr/>
          <p:nvPr/>
        </p:nvSpPr>
        <p:spPr>
          <a:xfrm>
            <a:off x="2268360" y="2852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6"/>
          <p:cNvSpPr/>
          <p:nvPr/>
        </p:nvSpPr>
        <p:spPr>
          <a:xfrm>
            <a:off x="2268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8" descr="C41-12"/>
          <p:cNvPicPr/>
          <p:nvPr/>
        </p:nvPicPr>
        <p:blipFill>
          <a:blip r:embed="rId3"/>
          <a:stretch/>
        </p:blipFill>
        <p:spPr>
          <a:xfrm flipH="1">
            <a:off x="6516360" y="2349360"/>
            <a:ext cx="2190600" cy="27082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0"/>
          <p:cNvSpPr/>
          <p:nvPr/>
        </p:nvSpPr>
        <p:spPr>
          <a:xfrm>
            <a:off x="1888920" y="3089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>
            <a:off x="2465640" y="301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Многокутники. Означення многокут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Елементи многокут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Властивість кутів многокут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Означення правильних многокутник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Вписані та описані многокут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Елементи правильних многокутни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Формули для обчислення площі правильного многокутника, його сторони, радіусів вписаного та описаного к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222120" y="322200"/>
            <a:ext cx="8713800" cy="863640"/>
          </a:xfrm>
          <a:custGeom>
            <a:avLst/>
            <a:gdLst>
              <a:gd name="textAreaLeft" fmla="*/ 305280 w 8713800"/>
              <a:gd name="textAreaRight" fmla="*/ 8408520 w 8713800"/>
              <a:gd name="textAreaTop" fmla="*/ 305280 h 863640"/>
              <a:gd name="textAreaBottom" fmla="*/ 558360 h 863640"/>
            </a:gdLst>
            <a:ahLst/>
            <a:rect l="textAreaLeft" t="textAreaTop" r="textAreaRight" b="textAreaBottom"/>
            <a:pathLst>
              <a:path w="217854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207054" y="21600"/>
                </a:lnTo>
                <a:arcTo wR="10800" hR="10800" stAng="10800000" swAng="5400000"/>
                <a:lnTo>
                  <a:pt x="217854" y="10800"/>
                </a:lnTo>
                <a:arcTo wR="10800" hR="10800" stAng="5400000" swAng="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5ff787"/>
                </a:solidFill>
                <a:latin typeface="Arial"/>
              </a:rPr>
              <a:t>Зміст навчального матері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250920" y="2276640"/>
            <a:ext cx="8713800" cy="2016000"/>
          </a:xfrm>
          <a:custGeom>
            <a:avLst/>
            <a:gdLst>
              <a:gd name="textAreaLeft" fmla="*/ 712800 w 8713800"/>
              <a:gd name="textAreaRight" fmla="*/ 8001000 w 8713800"/>
              <a:gd name="textAreaTop" fmla="*/ 712800 h 2016000"/>
              <a:gd name="textAreaBottom" fmla="*/ 1303200 h 2016000"/>
            </a:gdLst>
            <a:ahLst/>
            <a:rect l="textAreaLeft" t="textAreaTop" r="textAreaRight" b="textAreaBottom"/>
            <a:pathLst>
              <a:path w="93349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82549" y="21600"/>
                </a:lnTo>
                <a:arcTo wR="10800" hR="10800" stAng="10800000" swAng="5400000"/>
                <a:lnTo>
                  <a:pt x="93349" y="10800"/>
                </a:lnTo>
                <a:arcTo wR="10800" hR="10800" stAng="5400000" swAng="5400000"/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Arial"/>
              </a:rPr>
              <a:t>многокутн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24000" y="1555920"/>
            <a:ext cx="8424360" cy="2807280"/>
            <a:chOff x="324000" y="1555920"/>
            <a:chExt cx="8424360" cy="2807280"/>
          </a:xfrm>
        </p:grpSpPr>
        <p:sp>
          <p:nvSpPr>
            <p:cNvPr id="49" name="AutoShape 3"/>
            <p:cNvSpPr/>
            <p:nvPr/>
          </p:nvSpPr>
          <p:spPr>
            <a:xfrm>
              <a:off x="486720" y="1555920"/>
              <a:ext cx="8098920" cy="261288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581040" y="1660320"/>
              <a:ext cx="7903080" cy="2386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324000" y="4168800"/>
              <a:ext cx="8424360" cy="19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6"/>
            <p:cNvSpPr/>
            <p:nvPr/>
          </p:nvSpPr>
          <p:spPr>
            <a:xfrm>
              <a:off x="729000" y="3879000"/>
              <a:ext cx="728640" cy="28980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AutoShape 8"/>
          <p:cNvSpPr/>
          <p:nvPr/>
        </p:nvSpPr>
        <p:spPr>
          <a:xfrm>
            <a:off x="0" y="0"/>
            <a:ext cx="8785080" cy="1125360"/>
          </a:xfrm>
          <a:custGeom>
            <a:avLst/>
            <a:gdLst>
              <a:gd name="textAreaLeft" fmla="*/ 1098000 w 8785080"/>
              <a:gd name="textAreaRight" fmla="*/ 7687080 w 8785080"/>
              <a:gd name="textAreaTop" fmla="*/ 61560 h 1125360"/>
              <a:gd name="textAreaBottom" fmla="*/ 112572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297" stAng="16200000" swAng="5400000"/>
                <a:lnTo>
                  <a:pt x="5400" y="1188"/>
                </a:lnTo>
                <a:lnTo>
                  <a:pt x="16200" y="1188"/>
                </a:lnTo>
                <a:lnTo>
                  <a:pt x="16200" y="297"/>
                </a:lnTo>
                <a:arcTo wR="675" hR="297" stAng="10800000" swAng="5400000"/>
                <a:lnTo>
                  <a:pt x="21600" y="0"/>
                </a:lnTo>
                <a:lnTo>
                  <a:pt x="18900" y="10206"/>
                </a:lnTo>
                <a:lnTo>
                  <a:pt x="21600" y="20412"/>
                </a:lnTo>
                <a:lnTo>
                  <a:pt x="18900" y="20412"/>
                </a:lnTo>
                <a:lnTo>
                  <a:pt x="18900" y="21303"/>
                </a:lnTo>
                <a:arcTo wR="675" hR="297" stAng="0" swAng="5400000"/>
                <a:lnTo>
                  <a:pt x="3375" y="21600"/>
                </a:lnTo>
                <a:arcTo wR="675" hR="297" stAng="5400000" swAng="5400000"/>
                <a:lnTo>
                  <a:pt x="2700" y="20412"/>
                </a:lnTo>
                <a:lnTo>
                  <a:pt x="0" y="20412"/>
                </a:lnTo>
                <a:lnTo>
                  <a:pt x="2700" y="10206"/>
                </a:lnTo>
                <a:close/>
              </a:path>
              <a:path fill="none" w="21600" h="21600">
                <a:moveTo>
                  <a:pt x="5400" y="297"/>
                </a:moveTo>
                <a:arcTo wR="675" hR="297" stAng="0" swAng="5400000"/>
                <a:lnTo>
                  <a:pt x="3375" y="594"/>
                </a:lnTo>
                <a:arcTo wR="675" hR="297" stAng="16200000" swAng="-5400000"/>
                <a:arcTo wR="675" hR="297" stAng="10800000" swAng="-5400000"/>
                <a:lnTo>
                  <a:pt x="5400" y="1188"/>
                </a:lnTo>
              </a:path>
              <a:path fill="none" w="21600" h="21600">
                <a:moveTo>
                  <a:pt x="16200" y="297"/>
                </a:moveTo>
                <a:arcTo wR="675" hR="297" stAng="10800000" swAng="-5400000"/>
                <a:lnTo>
                  <a:pt x="18225" y="594"/>
                </a:lnTo>
                <a:arcTo wR="675" hR="297" stAng="16200000" swAng="5400000"/>
                <a:arcTo wR="675" hR="297" stAng="0" swAng="5400000"/>
                <a:lnTo>
                  <a:pt x="16200" y="1188"/>
                </a:lnTo>
              </a:path>
              <a:path fill="none" w="21600" h="21600">
                <a:moveTo>
                  <a:pt x="2700" y="891"/>
                </a:moveTo>
                <a:lnTo>
                  <a:pt x="2700" y="20412"/>
                </a:lnTo>
              </a:path>
              <a:path fill="none" w="21600" h="21600">
                <a:moveTo>
                  <a:pt x="18900" y="891"/>
                </a:moveTo>
                <a:lnTo>
                  <a:pt x="18900" y="20412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Многоку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C41-12"/>
          <p:cNvPicPr/>
          <p:nvPr/>
        </p:nvPicPr>
        <p:blipFill>
          <a:blip r:embed="rId3"/>
          <a:stretch/>
        </p:blipFill>
        <p:spPr>
          <a:xfrm flipH="1">
            <a:off x="6953040" y="3141720"/>
            <a:ext cx="2190600" cy="270828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0"/>
          <p:cNvSpPr/>
          <p:nvPr/>
        </p:nvSpPr>
        <p:spPr>
          <a:xfrm>
            <a:off x="611280" y="4508640"/>
            <a:ext cx="5761080" cy="2349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50000">
                <a:srgbClr val="ffff99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971640" y="2183400"/>
            <a:ext cx="72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Об’єднання простої замкненої ламаної та її внутрішньої області називаєтьс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ногокутником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3059280" y="5013360"/>
            <a:ext cx="1368360" cy="1368360"/>
          </a:xfrm>
          <a:prstGeom prst="flowChartPunchedCard">
            <a:avLst/>
          </a:prstGeom>
          <a:solidFill>
            <a:srgbClr val="33cc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2411280" y="1773360"/>
            <a:ext cx="6985080" cy="4680720"/>
            <a:chOff x="2411280" y="1773360"/>
            <a:chExt cx="6985080" cy="4680720"/>
          </a:xfrm>
        </p:grpSpPr>
        <p:sp>
          <p:nvSpPr>
            <p:cNvPr id="59" name="AutoShape 3"/>
            <p:cNvSpPr/>
            <p:nvPr/>
          </p:nvSpPr>
          <p:spPr>
            <a:xfrm>
              <a:off x="2545920" y="1773360"/>
              <a:ext cx="6715080" cy="435636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2624400" y="1947600"/>
              <a:ext cx="6552360" cy="3979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5"/>
            <p:cNvSpPr/>
            <p:nvPr/>
          </p:nvSpPr>
          <p:spPr>
            <a:xfrm>
              <a:off x="2411280" y="6129720"/>
              <a:ext cx="6985080" cy="3243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6"/>
            <p:cNvSpPr/>
            <p:nvPr/>
          </p:nvSpPr>
          <p:spPr>
            <a:xfrm>
              <a:off x="2747160" y="5646240"/>
              <a:ext cx="604080" cy="48348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AutoShape 8"/>
          <p:cNvSpPr/>
          <p:nvPr/>
        </p:nvSpPr>
        <p:spPr>
          <a:xfrm>
            <a:off x="179280" y="115920"/>
            <a:ext cx="8785440" cy="1225440"/>
          </a:xfrm>
          <a:custGeom>
            <a:avLst/>
            <a:gdLst>
              <a:gd name="textAreaLeft" fmla="*/ 1098000 w 8785440"/>
              <a:gd name="textAreaRight" fmla="*/ 7687440 w 8785440"/>
              <a:gd name="textAreaTop" fmla="*/ 164880 h 1225440"/>
              <a:gd name="textAreaBottom" fmla="*/ 122580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728" stAng="16200000" swAng="5400000"/>
                <a:lnTo>
                  <a:pt x="5400" y="2910"/>
                </a:lnTo>
                <a:lnTo>
                  <a:pt x="16200" y="2910"/>
                </a:lnTo>
                <a:lnTo>
                  <a:pt x="16200" y="728"/>
                </a:lnTo>
                <a:arcTo wR="675" hR="728" stAng="10800000" swAng="5400000"/>
                <a:lnTo>
                  <a:pt x="21600" y="0"/>
                </a:lnTo>
                <a:lnTo>
                  <a:pt x="18900" y="9345"/>
                </a:lnTo>
                <a:lnTo>
                  <a:pt x="21600" y="18690"/>
                </a:lnTo>
                <a:lnTo>
                  <a:pt x="18900" y="18690"/>
                </a:lnTo>
                <a:lnTo>
                  <a:pt x="18900" y="20873"/>
                </a:lnTo>
                <a:arcTo wR="675" hR="728" stAng="0" swAng="5400000"/>
                <a:lnTo>
                  <a:pt x="3375" y="21600"/>
                </a:lnTo>
                <a:arcTo wR="675" hR="728" stAng="5400000" swAng="5400000"/>
                <a:lnTo>
                  <a:pt x="2700" y="18690"/>
                </a:lnTo>
                <a:lnTo>
                  <a:pt x="0" y="18690"/>
                </a:lnTo>
                <a:lnTo>
                  <a:pt x="2700" y="9345"/>
                </a:lnTo>
                <a:close/>
              </a:path>
              <a:path fill="none" w="21600" h="21600">
                <a:moveTo>
                  <a:pt x="5400" y="728"/>
                </a:moveTo>
                <a:arcTo wR="675" hR="728" stAng="0" swAng="5400000"/>
                <a:lnTo>
                  <a:pt x="3375" y="1455"/>
                </a:lnTo>
                <a:arcTo wR="675" hR="728" stAng="16200000" swAng="-5400000"/>
                <a:arcTo wR="675" hR="728" stAng="10800000" swAng="-5400000"/>
                <a:lnTo>
                  <a:pt x="5400" y="2910"/>
                </a:lnTo>
              </a:path>
              <a:path fill="none" w="21600" h="21600">
                <a:moveTo>
                  <a:pt x="16200" y="728"/>
                </a:moveTo>
                <a:arcTo wR="675" hR="728" stAng="10800000" swAng="-5400000"/>
                <a:lnTo>
                  <a:pt x="18225" y="1455"/>
                </a:lnTo>
                <a:arcTo wR="675" hR="728" stAng="16200000" swAng="5400000"/>
                <a:arcTo wR="675" hR="728" stAng="0" swAng="5400000"/>
                <a:lnTo>
                  <a:pt x="16200" y="2910"/>
                </a:lnTo>
              </a:path>
              <a:path fill="none" w="21600" h="21600">
                <a:moveTo>
                  <a:pt x="2700" y="2183"/>
                </a:moveTo>
                <a:lnTo>
                  <a:pt x="2700" y="18690"/>
                </a:lnTo>
              </a:path>
              <a:path fill="none" w="21600" h="21600">
                <a:moveTo>
                  <a:pt x="18900" y="2183"/>
                </a:moveTo>
                <a:lnTo>
                  <a:pt x="18900" y="18690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Многоку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 rot="10800000">
            <a:off x="315720" y="3078720"/>
            <a:ext cx="3143160" cy="1556280"/>
          </a:xfrm>
          <a:prstGeom prst="rect">
            <a:avLst/>
          </a:prstGeom>
          <a:solidFill>
            <a:srgbClr val="33cccc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Times New Roman"/>
              </a:rPr>
              <a:t>Найпростіші представники многокутник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5076720" y="2349360"/>
            <a:ext cx="2519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ff0000"/>
                </a:solidFill>
                <a:latin typeface="Times New Roman"/>
              </a:rPr>
              <a:t>трикутни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5003640" y="3500280"/>
            <a:ext cx="2376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ff0000"/>
                </a:solidFill>
                <a:latin typeface="Times New Roman"/>
              </a:rPr>
              <a:t>трапеці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5076720" y="4581360"/>
            <a:ext cx="17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ff0000"/>
                </a:solidFill>
                <a:latin typeface="Times New Roman"/>
              </a:rPr>
              <a:t>ромб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 flipH="1" rot="10746600">
            <a:off x="3634920" y="2636280"/>
            <a:ext cx="1366920" cy="360360"/>
          </a:xfrm>
          <a:custGeom>
            <a:avLst/>
            <a:gdLst>
              <a:gd name="textAreaLeft" fmla="*/ 141120 w 1366920"/>
              <a:gd name="textAreaRight" fmla="*/ 1225800 w 1366920"/>
              <a:gd name="textAreaTop" fmla="*/ 111600 h 360360"/>
              <a:gd name="textAreaBottom" fmla="*/ 2487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6702"/>
                </a:moveTo>
                <a:lnTo>
                  <a:pt x="15719" y="6702"/>
                </a:lnTo>
                <a:lnTo>
                  <a:pt x="15719" y="0"/>
                </a:lnTo>
                <a:lnTo>
                  <a:pt x="21600" y="10800"/>
                </a:lnTo>
                <a:lnTo>
                  <a:pt x="15719" y="21600"/>
                </a:lnTo>
                <a:lnTo>
                  <a:pt x="15719" y="14898"/>
                </a:lnTo>
                <a:lnTo>
                  <a:pt x="0" y="14898"/>
                </a:lnTo>
                <a:lnTo>
                  <a:pt x="2232" y="10800"/>
                </a:lnTo>
                <a:lnTo>
                  <a:pt x="0" y="6702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"/>
          <p:cNvSpPr/>
          <p:nvPr/>
        </p:nvSpPr>
        <p:spPr>
          <a:xfrm flipH="1" flipV="1" rot="10800000">
            <a:off x="3634200" y="3789360"/>
            <a:ext cx="1297080" cy="287280"/>
          </a:xfrm>
          <a:custGeom>
            <a:avLst/>
            <a:gdLst>
              <a:gd name="textAreaLeft" fmla="*/ 133920 w 1297080"/>
              <a:gd name="textAreaRight" fmla="*/ 1163160 w 1297080"/>
              <a:gd name="textAreaTop" fmla="*/ 88920 h 287280"/>
              <a:gd name="textAreaBottom" fmla="*/ 1983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6702"/>
                </a:moveTo>
                <a:lnTo>
                  <a:pt x="15719" y="6702"/>
                </a:lnTo>
                <a:lnTo>
                  <a:pt x="15719" y="0"/>
                </a:lnTo>
                <a:lnTo>
                  <a:pt x="21600" y="10800"/>
                </a:lnTo>
                <a:lnTo>
                  <a:pt x="15719" y="21600"/>
                </a:lnTo>
                <a:lnTo>
                  <a:pt x="15719" y="14898"/>
                </a:lnTo>
                <a:lnTo>
                  <a:pt x="0" y="14898"/>
                </a:lnTo>
                <a:lnTo>
                  <a:pt x="2232" y="10800"/>
                </a:lnTo>
                <a:lnTo>
                  <a:pt x="0" y="6702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0"/>
          <p:cNvSpPr/>
          <p:nvPr/>
        </p:nvSpPr>
        <p:spPr>
          <a:xfrm flipH="1" flipV="1" rot="10800000">
            <a:off x="3707280" y="4796280"/>
            <a:ext cx="1150920" cy="360360"/>
          </a:xfrm>
          <a:custGeom>
            <a:avLst/>
            <a:gdLst>
              <a:gd name="textAreaLeft" fmla="*/ 118800 w 1150920"/>
              <a:gd name="textAreaRight" fmla="*/ 1032120 w 1150920"/>
              <a:gd name="textAreaTop" fmla="*/ 111600 h 360360"/>
              <a:gd name="textAreaBottom" fmla="*/ 2487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6702"/>
                </a:moveTo>
                <a:lnTo>
                  <a:pt x="15719" y="6702"/>
                </a:lnTo>
                <a:lnTo>
                  <a:pt x="15719" y="0"/>
                </a:lnTo>
                <a:lnTo>
                  <a:pt x="21600" y="10800"/>
                </a:lnTo>
                <a:lnTo>
                  <a:pt x="15719" y="21600"/>
                </a:lnTo>
                <a:lnTo>
                  <a:pt x="15719" y="14898"/>
                </a:lnTo>
                <a:lnTo>
                  <a:pt x="0" y="14898"/>
                </a:lnTo>
                <a:lnTo>
                  <a:pt x="2232" y="10800"/>
                </a:lnTo>
                <a:lnTo>
                  <a:pt x="0" y="6702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3"/>
          <p:cNvSpPr/>
          <p:nvPr/>
        </p:nvSpPr>
        <p:spPr>
          <a:xfrm>
            <a:off x="7740720" y="2421000"/>
            <a:ext cx="1079280" cy="431640"/>
          </a:xfrm>
          <a:prstGeom prst="rtTriangle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5"/>
          <p:cNvSpPr/>
          <p:nvPr/>
        </p:nvSpPr>
        <p:spPr>
          <a:xfrm>
            <a:off x="7524720" y="3716280"/>
            <a:ext cx="1368360" cy="433440"/>
          </a:xfrm>
          <a:custGeom>
            <a:avLst/>
            <a:gdLst>
              <a:gd name="textAreaLeft" fmla="*/ 285120 w 1368360"/>
              <a:gd name="textAreaRight" fmla="*/ 1083240 w 1368360"/>
              <a:gd name="textAreaTop" fmla="*/ 90360 h 433440"/>
              <a:gd name="textAreaBottom" fmla="*/ 3430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6"/>
          <p:cNvSpPr/>
          <p:nvPr/>
        </p:nvSpPr>
        <p:spPr>
          <a:xfrm>
            <a:off x="7020000" y="4869000"/>
            <a:ext cx="1800000" cy="8650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324000" y="1484280"/>
            <a:ext cx="8065440" cy="3024000"/>
            <a:chOff x="324000" y="1484280"/>
            <a:chExt cx="8065440" cy="3024000"/>
          </a:xfrm>
        </p:grpSpPr>
        <p:sp>
          <p:nvSpPr>
            <p:cNvPr id="75" name="AutoShape 3"/>
            <p:cNvSpPr/>
            <p:nvPr/>
          </p:nvSpPr>
          <p:spPr>
            <a:xfrm>
              <a:off x="479520" y="1484280"/>
              <a:ext cx="7754040" cy="281448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4"/>
            <p:cNvSpPr/>
            <p:nvPr/>
          </p:nvSpPr>
          <p:spPr>
            <a:xfrm>
              <a:off x="569880" y="1596600"/>
              <a:ext cx="7566120" cy="2570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5"/>
            <p:cNvSpPr/>
            <p:nvPr/>
          </p:nvSpPr>
          <p:spPr>
            <a:xfrm>
              <a:off x="324000" y="4298760"/>
              <a:ext cx="8065440" cy="20952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6"/>
            <p:cNvSpPr/>
            <p:nvPr/>
          </p:nvSpPr>
          <p:spPr>
            <a:xfrm>
              <a:off x="711720" y="3986280"/>
              <a:ext cx="697680" cy="31212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AutoShape 8"/>
          <p:cNvSpPr/>
          <p:nvPr/>
        </p:nvSpPr>
        <p:spPr>
          <a:xfrm>
            <a:off x="395280" y="0"/>
            <a:ext cx="8424720" cy="1152360"/>
          </a:xfrm>
          <a:custGeom>
            <a:avLst/>
            <a:gdLst>
              <a:gd name="textAreaLeft" fmla="*/ 1053000 w 8424720"/>
              <a:gd name="textAreaRight" fmla="*/ 7371720 w 8424720"/>
              <a:gd name="textAreaTop" fmla="*/ 6336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297" stAng="16200000" swAng="5400000"/>
                <a:lnTo>
                  <a:pt x="5400" y="1189"/>
                </a:lnTo>
                <a:lnTo>
                  <a:pt x="16200" y="1189"/>
                </a:lnTo>
                <a:lnTo>
                  <a:pt x="16200" y="297"/>
                </a:lnTo>
                <a:arcTo wR="675" hR="297" stAng="10800000" swAng="5400000"/>
                <a:lnTo>
                  <a:pt x="21600" y="0"/>
                </a:lnTo>
                <a:lnTo>
                  <a:pt x="18900" y="10206"/>
                </a:lnTo>
                <a:lnTo>
                  <a:pt x="21600" y="20411"/>
                </a:lnTo>
                <a:lnTo>
                  <a:pt x="18900" y="20411"/>
                </a:lnTo>
                <a:lnTo>
                  <a:pt x="18900" y="21303"/>
                </a:lnTo>
                <a:arcTo wR="675" hR="297" stAng="0" swAng="5400000"/>
                <a:lnTo>
                  <a:pt x="3375" y="21600"/>
                </a:lnTo>
                <a:arcTo wR="675" hR="297" stAng="5400000" swAng="5400000"/>
                <a:lnTo>
                  <a:pt x="2700" y="20411"/>
                </a:lnTo>
                <a:lnTo>
                  <a:pt x="0" y="20411"/>
                </a:lnTo>
                <a:lnTo>
                  <a:pt x="2700" y="10206"/>
                </a:lnTo>
                <a:close/>
              </a:path>
              <a:path fill="none" w="21600" h="21600">
                <a:moveTo>
                  <a:pt x="5400" y="297"/>
                </a:moveTo>
                <a:arcTo wR="675" hR="297" stAng="0" swAng="5400000"/>
                <a:lnTo>
                  <a:pt x="3375" y="595"/>
                </a:lnTo>
                <a:arcTo wR="675" hR="297" stAng="16200000" swAng="-5400000"/>
                <a:arcTo wR="675" hR="297" stAng="10800000" swAng="-5400000"/>
                <a:lnTo>
                  <a:pt x="5400" y="1189"/>
                </a:lnTo>
              </a:path>
              <a:path fill="none" w="21600" h="21600">
                <a:moveTo>
                  <a:pt x="16200" y="297"/>
                </a:moveTo>
                <a:arcTo wR="675" hR="297" stAng="10800000" swAng="-5400000"/>
                <a:lnTo>
                  <a:pt x="18225" y="595"/>
                </a:lnTo>
                <a:arcTo wR="675" hR="297" stAng="16200000" swAng="5400000"/>
                <a:arcTo wR="675" hR="297" stAng="0" swAng="5400000"/>
                <a:lnTo>
                  <a:pt x="16200" y="1189"/>
                </a:lnTo>
              </a:path>
              <a:path fill="none" w="21600" h="21600">
                <a:moveTo>
                  <a:pt x="2700" y="892"/>
                </a:moveTo>
                <a:lnTo>
                  <a:pt x="2700" y="20411"/>
                </a:lnTo>
              </a:path>
              <a:path fill="none" w="21600" h="21600">
                <a:moveTo>
                  <a:pt x="18900" y="892"/>
                </a:moveTo>
                <a:lnTo>
                  <a:pt x="18900" y="20411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многокут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C41-12"/>
          <p:cNvPicPr/>
          <p:nvPr/>
        </p:nvPicPr>
        <p:blipFill>
          <a:blip r:embed="rId3"/>
          <a:stretch/>
        </p:blipFill>
        <p:spPr>
          <a:xfrm flipH="1">
            <a:off x="6953040" y="1125360"/>
            <a:ext cx="2190600" cy="27082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0"/>
          <p:cNvSpPr/>
          <p:nvPr/>
        </p:nvSpPr>
        <p:spPr>
          <a:xfrm>
            <a:off x="468360" y="4508640"/>
            <a:ext cx="6191280" cy="2349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50000">
                <a:srgbClr val="ffff99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1116000" y="4876920"/>
            <a:ext cx="554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ногокутник називається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уклим,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якщо він лежи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одній півплощині відносно будь-якої прямої, що містить його сторону. Пр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ьому сама пряма вважається такою, що належить півплощин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 flipV="1">
            <a:off x="1547640" y="1916280"/>
            <a:ext cx="1800360" cy="1225440"/>
          </a:xfrm>
          <a:prstGeom prst="hexagon">
            <a:avLst>
              <a:gd name="adj" fmla="val 36729"/>
              <a:gd name="vf" fmla="val 115470"/>
            </a:avLst>
          </a:prstGeom>
          <a:solidFill>
            <a:srgbClr val="fffff7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>
            <a:off x="5219640" y="1916280"/>
            <a:ext cx="1490760" cy="1081080"/>
          </a:xfrm>
          <a:prstGeom prst="plus">
            <a:avLst>
              <a:gd name="adj" fmla="val 25000"/>
            </a:avLst>
          </a:prstGeom>
          <a:solidFill>
            <a:srgbClr val="fffff7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 flipH="1">
            <a:off x="2700000" y="2133720"/>
            <a:ext cx="9349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5508720" y="170028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1042920" y="35002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пуклий многоку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4840920" y="352116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опуклий многоку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7288200" y="638172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удник Н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4146480" y="20520"/>
            <a:ext cx="17436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нки ламаної назив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ь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ро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ут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яких збігаються дві суміжні лан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ивають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шин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ногокут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ти, утворені двома суміжними сторонами многокут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ивають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ішніми к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ногокут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ти, суміжні з внутрішніми кутами многокут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иваються йо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овнішні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у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різок, що 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єднує дві вершини, які не належ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дній з його сторін називається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іагонал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ма довжин усіх сторін многокут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зивається його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ери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826920" y="1628640"/>
            <a:ext cx="7561080" cy="3168360"/>
            <a:chOff x="826920" y="1628640"/>
            <a:chExt cx="7561080" cy="3168360"/>
          </a:xfrm>
        </p:grpSpPr>
        <p:sp>
          <p:nvSpPr>
            <p:cNvPr id="92" name="AutoShape 3"/>
            <p:cNvSpPr/>
            <p:nvPr/>
          </p:nvSpPr>
          <p:spPr>
            <a:xfrm>
              <a:off x="972720" y="1628640"/>
              <a:ext cx="7269120" cy="294876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4"/>
            <p:cNvSpPr/>
            <p:nvPr/>
          </p:nvSpPr>
          <p:spPr>
            <a:xfrm>
              <a:off x="1057680" y="1746360"/>
              <a:ext cx="7093080" cy="269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5"/>
            <p:cNvSpPr/>
            <p:nvPr/>
          </p:nvSpPr>
          <p:spPr>
            <a:xfrm>
              <a:off x="826920" y="4577400"/>
              <a:ext cx="7561080" cy="2196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6"/>
            <p:cNvSpPr/>
            <p:nvPr/>
          </p:nvSpPr>
          <p:spPr>
            <a:xfrm>
              <a:off x="1190520" y="4250160"/>
              <a:ext cx="654120" cy="32724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AutoShape 8"/>
          <p:cNvSpPr/>
          <p:nvPr/>
        </p:nvSpPr>
        <p:spPr>
          <a:xfrm>
            <a:off x="395280" y="331920"/>
            <a:ext cx="8785080" cy="1152360"/>
          </a:xfrm>
          <a:custGeom>
            <a:avLst/>
            <a:gdLst>
              <a:gd name="textAreaLeft" fmla="*/ 1098000 w 8785080"/>
              <a:gd name="textAreaRight" fmla="*/ 7687080 w 8785080"/>
              <a:gd name="textAreaTop" fmla="*/ 6336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297" stAng="16200000" swAng="5400000"/>
                <a:lnTo>
                  <a:pt x="5400" y="1189"/>
                </a:lnTo>
                <a:lnTo>
                  <a:pt x="16200" y="1189"/>
                </a:lnTo>
                <a:lnTo>
                  <a:pt x="16200" y="297"/>
                </a:lnTo>
                <a:arcTo wR="675" hR="297" stAng="10800000" swAng="5400000"/>
                <a:lnTo>
                  <a:pt x="21600" y="0"/>
                </a:lnTo>
                <a:lnTo>
                  <a:pt x="18900" y="10206"/>
                </a:lnTo>
                <a:lnTo>
                  <a:pt x="21600" y="20411"/>
                </a:lnTo>
                <a:lnTo>
                  <a:pt x="18900" y="20411"/>
                </a:lnTo>
                <a:lnTo>
                  <a:pt x="18900" y="21303"/>
                </a:lnTo>
                <a:arcTo wR="675" hR="297" stAng="0" swAng="5400000"/>
                <a:lnTo>
                  <a:pt x="3375" y="21600"/>
                </a:lnTo>
                <a:arcTo wR="675" hR="297" stAng="5400000" swAng="5400000"/>
                <a:lnTo>
                  <a:pt x="2700" y="20411"/>
                </a:lnTo>
                <a:lnTo>
                  <a:pt x="0" y="20411"/>
                </a:lnTo>
                <a:lnTo>
                  <a:pt x="2700" y="10206"/>
                </a:lnTo>
                <a:close/>
              </a:path>
              <a:path fill="none" w="21600" h="21600">
                <a:moveTo>
                  <a:pt x="5400" y="297"/>
                </a:moveTo>
                <a:arcTo wR="675" hR="297" stAng="0" swAng="5400000"/>
                <a:lnTo>
                  <a:pt x="3375" y="595"/>
                </a:lnTo>
                <a:arcTo wR="675" hR="297" stAng="16200000" swAng="-5400000"/>
                <a:arcTo wR="675" hR="297" stAng="10800000" swAng="-5400000"/>
                <a:lnTo>
                  <a:pt x="5400" y="1189"/>
                </a:lnTo>
              </a:path>
              <a:path fill="none" w="21600" h="21600">
                <a:moveTo>
                  <a:pt x="16200" y="297"/>
                </a:moveTo>
                <a:arcTo wR="675" hR="297" stAng="10800000" swAng="-5400000"/>
                <a:lnTo>
                  <a:pt x="18225" y="595"/>
                </a:lnTo>
                <a:arcTo wR="675" hR="297" stAng="16200000" swAng="5400000"/>
                <a:arcTo wR="675" hR="297" stAng="0" swAng="5400000"/>
                <a:lnTo>
                  <a:pt x="16200" y="1189"/>
                </a:lnTo>
              </a:path>
              <a:path fill="none" w="21600" h="21600">
                <a:moveTo>
                  <a:pt x="2700" y="892"/>
                </a:moveTo>
                <a:lnTo>
                  <a:pt x="2700" y="20411"/>
                </a:lnTo>
              </a:path>
              <a:path fill="none" w="21600" h="21600">
                <a:moveTo>
                  <a:pt x="18900" y="892"/>
                </a:moveTo>
                <a:lnTo>
                  <a:pt x="18900" y="20411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C41-12"/>
          <p:cNvPicPr/>
          <p:nvPr/>
        </p:nvPicPr>
        <p:blipFill>
          <a:blip r:embed="rId3"/>
          <a:stretch/>
        </p:blipFill>
        <p:spPr>
          <a:xfrm flipH="1">
            <a:off x="6732360" y="692280"/>
            <a:ext cx="2190600" cy="27082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10"/>
          <p:cNvSpPr/>
          <p:nvPr/>
        </p:nvSpPr>
        <p:spPr>
          <a:xfrm>
            <a:off x="900000" y="5157720"/>
            <a:ext cx="576108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50000">
                <a:srgbClr val="ffff99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В-сторона, АД - діагон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,В,С,Д,Е- верш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СВ- внутрішній к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СК – зовнішній к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2843280" y="2565360"/>
            <a:ext cx="2808360" cy="1440000"/>
          </a:xfrm>
          <a:prstGeom prst="pentagon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4299120" y="22669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5738760" y="2914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5129640" y="3952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2930400" y="3922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2681280" y="251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3995640" y="400536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6714000" y="35924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1959120" y="260280"/>
            <a:ext cx="549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Елементи многокут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1"/>
          <p:cNvSpPr/>
          <p:nvPr/>
        </p:nvSpPr>
        <p:spPr>
          <a:xfrm flipV="1">
            <a:off x="3419640" y="2565360"/>
            <a:ext cx="79200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971640" y="2276640"/>
            <a:ext cx="7560720" cy="2807280"/>
            <a:chOff x="971640" y="2276640"/>
            <a:chExt cx="7560720" cy="2807280"/>
          </a:xfrm>
        </p:grpSpPr>
        <p:sp>
          <p:nvSpPr>
            <p:cNvPr id="110" name="AutoShape 3"/>
            <p:cNvSpPr/>
            <p:nvPr/>
          </p:nvSpPr>
          <p:spPr>
            <a:xfrm>
              <a:off x="1117440" y="2276640"/>
              <a:ext cx="7268760" cy="261288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"/>
            <p:cNvSpPr/>
            <p:nvPr/>
          </p:nvSpPr>
          <p:spPr>
            <a:xfrm>
              <a:off x="1202400" y="2381040"/>
              <a:ext cx="7092720" cy="2386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Arial"/>
                </a:rPr>
                <a:t>Сума внутрішніх кутів будь яког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uk-UA" sz="2800" spc="-1" strike="noStrike">
                  <a:solidFill>
                    <a:srgbClr val="000000"/>
                  </a:solidFill>
                  <a:latin typeface="Arial"/>
                </a:rPr>
                <a:t>- кутника дорівнює</a:t>
              </a: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Arial"/>
                </a:rPr>
                <a:t>аб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5"/>
            <p:cNvSpPr/>
            <p:nvPr/>
          </p:nvSpPr>
          <p:spPr>
            <a:xfrm>
              <a:off x="971640" y="4889520"/>
              <a:ext cx="7560720" cy="19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6"/>
            <p:cNvSpPr/>
            <p:nvPr/>
          </p:nvSpPr>
          <p:spPr>
            <a:xfrm>
              <a:off x="1335240" y="4599720"/>
              <a:ext cx="654120" cy="28980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AutoShape 8"/>
          <p:cNvSpPr/>
          <p:nvPr/>
        </p:nvSpPr>
        <p:spPr>
          <a:xfrm>
            <a:off x="395280" y="331920"/>
            <a:ext cx="8785080" cy="1152360"/>
          </a:xfrm>
          <a:custGeom>
            <a:avLst/>
            <a:gdLst>
              <a:gd name="textAreaLeft" fmla="*/ 1098000 w 8785080"/>
              <a:gd name="textAreaRight" fmla="*/ 7687080 w 8785080"/>
              <a:gd name="textAreaTop" fmla="*/ 6336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297" stAng="16200000" swAng="5400000"/>
                <a:lnTo>
                  <a:pt x="5400" y="1189"/>
                </a:lnTo>
                <a:lnTo>
                  <a:pt x="16200" y="1189"/>
                </a:lnTo>
                <a:lnTo>
                  <a:pt x="16200" y="297"/>
                </a:lnTo>
                <a:arcTo wR="675" hR="297" stAng="10800000" swAng="5400000"/>
                <a:lnTo>
                  <a:pt x="21600" y="0"/>
                </a:lnTo>
                <a:lnTo>
                  <a:pt x="18900" y="10206"/>
                </a:lnTo>
                <a:lnTo>
                  <a:pt x="21600" y="20411"/>
                </a:lnTo>
                <a:lnTo>
                  <a:pt x="18900" y="20411"/>
                </a:lnTo>
                <a:lnTo>
                  <a:pt x="18900" y="21303"/>
                </a:lnTo>
                <a:arcTo wR="675" hR="297" stAng="0" swAng="5400000"/>
                <a:lnTo>
                  <a:pt x="3375" y="21600"/>
                </a:lnTo>
                <a:arcTo wR="675" hR="297" stAng="5400000" swAng="5400000"/>
                <a:lnTo>
                  <a:pt x="2700" y="20411"/>
                </a:lnTo>
                <a:lnTo>
                  <a:pt x="0" y="20411"/>
                </a:lnTo>
                <a:lnTo>
                  <a:pt x="2700" y="10206"/>
                </a:lnTo>
                <a:close/>
              </a:path>
              <a:path fill="none" w="21600" h="21600">
                <a:moveTo>
                  <a:pt x="5400" y="297"/>
                </a:moveTo>
                <a:arcTo wR="675" hR="297" stAng="0" swAng="5400000"/>
                <a:lnTo>
                  <a:pt x="3375" y="595"/>
                </a:lnTo>
                <a:arcTo wR="675" hR="297" stAng="16200000" swAng="-5400000"/>
                <a:arcTo wR="675" hR="297" stAng="10800000" swAng="-5400000"/>
                <a:lnTo>
                  <a:pt x="5400" y="1189"/>
                </a:lnTo>
              </a:path>
              <a:path fill="none" w="21600" h="21600">
                <a:moveTo>
                  <a:pt x="16200" y="297"/>
                </a:moveTo>
                <a:arcTo wR="675" hR="297" stAng="10800000" swAng="-5400000"/>
                <a:lnTo>
                  <a:pt x="18225" y="595"/>
                </a:lnTo>
                <a:arcTo wR="675" hR="297" stAng="16200000" swAng="5400000"/>
                <a:arcTo wR="675" hR="297" stAng="0" swAng="5400000"/>
                <a:lnTo>
                  <a:pt x="16200" y="1189"/>
                </a:lnTo>
              </a:path>
              <a:path fill="none" w="21600" h="21600">
                <a:moveTo>
                  <a:pt x="2700" y="892"/>
                </a:moveTo>
                <a:lnTo>
                  <a:pt x="2700" y="20411"/>
                </a:lnTo>
              </a:path>
              <a:path fill="none" w="21600" h="21600">
                <a:moveTo>
                  <a:pt x="18900" y="892"/>
                </a:moveTo>
                <a:lnTo>
                  <a:pt x="18900" y="20411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Властивість кутів многокут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5"/>
              <p:cNvSpPr txBox="1"/>
              <p:nvPr/>
            </p:nvSpPr>
            <p:spPr>
              <a:xfrm>
                <a:off x="6300720" y="3357720"/>
                <a:ext cx="160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8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20"/>
              <p:cNvSpPr txBox="1"/>
              <p:nvPr/>
            </p:nvSpPr>
            <p:spPr>
              <a:xfrm>
                <a:off x="5148360" y="3860640"/>
                <a:ext cx="1218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0:05:34Z</dcterms:created>
  <dc:creator>Customer</dc:creator>
  <dc:description/>
  <dc:language>en-US</dc:language>
  <cp:lastModifiedBy>hkr</cp:lastModifiedBy>
  <dcterms:modified xsi:type="dcterms:W3CDTF">2016-06-12T13:17:16Z</dcterms:modified>
  <cp:revision>17</cp:revision>
  <dc:subject/>
  <dc:title>Слайд 1</dc:title>
</cp:coreProperties>
</file>