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984-F4C8-4797-A1F7-6B2FCF93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EAC-494A-4486-9373-85489388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C48-80AD-4A03-BA24-A95D30D4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734-2F53-4761-BF67-A90674CC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1117-F21D-4B12-AF48-D43E67B1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C270-4FBA-4903-B012-384D233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45EE-93C6-445D-9981-877A9E3C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995E-0398-4DB5-8E7F-4F669ED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D264-8A35-40DF-AAD8-4931904A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01B-5E4B-4A7E-A2A7-249B011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1618-4207-4960-BA79-CDA785D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FBD-71A9-4C66-B768-B2D5EE7E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E7D9-8365-4BA2-AD92-159FFAAA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3742-3CE6-4D3D-956A-7B681368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46FE-DB16-4961-9FE2-AEAF5E5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4303-C66C-464B-A249-BA3D1631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F435-AABE-432D-A75F-C8BB510C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656-EE3F-492D-8C2B-DE6BF8C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CD0-9CD2-4E6B-9F8E-F8B47AF0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625-44FC-45E5-B3E0-084063B5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9EF-01CA-4B16-B18F-8F21AA6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E55-B984-4203-B5FA-D215B1D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3BC-74ED-46EA-92B0-C5C5F01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E23-F8D4-4AF5-B6E5-6F4B4920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BA4-8C30-4062-8C06-DAD2263E55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62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67B-6234-456F-8F14-8F103780B0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7704000" cy="20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рок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арометр профе</a:t>
            </a: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сій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4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05720" y="6477120"/>
            <a:ext cx="2286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179280" y="765000"/>
            <a:ext cx="58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«... професії здаються нам найбільш піднесеними, якщо вони пустили в нашому серці глибоке коріння…</a:t>
            </a:r>
            <a:br>
              <a:rPr sz="2800"/>
            </a:b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 Вони можуть ощасливити того, хто має до них покликання, але вони прирікають на загибель того, хто взявся за них поспішно, непродумано, піддавшись моменту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7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5" name="Rectangle 9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350560" cy="8780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Глобалізаційні та інтеграційні процеси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міна систем економічних відносин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AutoShape 24"/>
          <p:cNvSpPr/>
          <p:nvPr/>
        </p:nvSpPr>
        <p:spPr>
          <a:xfrm>
            <a:off x="3349800" y="3321000"/>
            <a:ext cx="525456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ростання клієнтоорієнтованості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та ексклюзивності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адання послу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3352680" y="4052880"/>
            <a:ext cx="539604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грамування та автоматизація процесів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AutoShape 32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Штучний інтелек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3348000" y="1125360"/>
            <a:ext cx="51847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Розвиток інформаційних технологі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3276720" y="126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8" name="Picture 11" descr="Результат пошуку зображень за запитом &quot;глобалізація&quot;"/>
          <p:cNvPicPr/>
          <p:nvPr/>
        </p:nvPicPr>
        <p:blipFill>
          <a:blip r:embed="rId2"/>
          <a:stretch/>
        </p:blipFill>
        <p:spPr>
          <a:xfrm>
            <a:off x="179280" y="2060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40053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1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755640" y="0"/>
            <a:ext cx="776304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2" descr="Картинки по запросу барометр професий"/>
          <p:cNvPicPr/>
          <p:nvPr/>
        </p:nvPicPr>
        <p:blipFill>
          <a:blip r:embed="rId1"/>
          <a:stretch/>
        </p:blipFill>
        <p:spPr>
          <a:xfrm>
            <a:off x="826920" y="4365720"/>
            <a:ext cx="235908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Картинки по запросу специалист по профориентации рисунок"/>
          <p:cNvPicPr/>
          <p:nvPr/>
        </p:nvPicPr>
        <p:blipFill>
          <a:blip r:embed="rId2"/>
          <a:stretch/>
        </p:blipFill>
        <p:spPr>
          <a:xfrm>
            <a:off x="900000" y="1700280"/>
            <a:ext cx="2232000" cy="1508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Картинки по запросу образование рисунок"/>
          <p:cNvPicPr/>
          <p:nvPr/>
        </p:nvPicPr>
        <p:blipFill>
          <a:blip r:embed="rId3"/>
          <a:stretch/>
        </p:blipFill>
        <p:spPr>
          <a:xfrm>
            <a:off x="5940360" y="1916280"/>
            <a:ext cx="1800360" cy="165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Похожее изображение"/>
          <p:cNvPicPr/>
          <p:nvPr/>
        </p:nvPicPr>
        <p:blipFill>
          <a:blip r:embed="rId4"/>
          <a:stretch/>
        </p:blipFill>
        <p:spPr>
          <a:xfrm>
            <a:off x="5940360" y="4724280"/>
            <a:ext cx="2016360" cy="136872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7"/>
          <p:cNvSpPr/>
          <p:nvPr/>
        </p:nvSpPr>
        <p:spPr>
          <a:xfrm>
            <a:off x="3635280" y="2997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0808"/>
                </a:solidFill>
                <a:latin typeface="Arial"/>
              </a:rPr>
              <a:t>ОБРАНА ПРОФЕСІ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9"/>
          <p:cNvSpPr/>
          <p:nvPr/>
        </p:nvSpPr>
        <p:spPr>
          <a:xfrm>
            <a:off x="684360" y="1052640"/>
            <a:ext cx="316692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кі професії мені  підходя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Скругленная прямоугольная выноска 10"/>
          <p:cNvSpPr/>
          <p:nvPr/>
        </p:nvSpPr>
        <p:spPr>
          <a:xfrm>
            <a:off x="5796000" y="1052640"/>
            <a:ext cx="2305080" cy="36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е отримати освіту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11"/>
          <p:cNvSpPr/>
          <p:nvPr/>
        </p:nvSpPr>
        <p:spPr>
          <a:xfrm>
            <a:off x="755640" y="3860640"/>
            <a:ext cx="280836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кі професіі затребувані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12"/>
          <p:cNvSpPr/>
          <p:nvPr/>
        </p:nvSpPr>
        <p:spPr>
          <a:xfrm>
            <a:off x="5796000" y="3860640"/>
            <a:ext cx="2592360" cy="28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уди піти працювати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Плюс 13"/>
          <p:cNvSpPr/>
          <p:nvPr/>
        </p:nvSpPr>
        <p:spPr>
          <a:xfrm>
            <a:off x="1692360" y="3357720"/>
            <a:ext cx="358560" cy="358560"/>
          </a:xfrm>
          <a:custGeom>
            <a:avLst/>
            <a:gdLst>
              <a:gd name="textAreaLeft" fmla="*/ 47520 w 358560"/>
              <a:gd name="textAreaRight" fmla="*/ 311040 w 358560"/>
              <a:gd name="textAreaTop" fmla="*/ 137160 h 358560"/>
              <a:gd name="textAreaBottom" fmla="*/ 221400 h 358560"/>
            </a:gdLst>
            <a:ahLst/>
            <a:rect l="textAreaLeft" t="textAreaTop" r="textAreaRight" b="textAreaBottom"/>
            <a:pathLst>
              <a:path w="358775" h="358775">
                <a:moveTo>
                  <a:pt x="47556" y="137196"/>
                </a:moveTo>
                <a:lnTo>
                  <a:pt x="137196" y="137196"/>
                </a:lnTo>
                <a:lnTo>
                  <a:pt x="137196" y="47556"/>
                </a:lnTo>
                <a:lnTo>
                  <a:pt x="221579" y="47556"/>
                </a:lnTo>
                <a:lnTo>
                  <a:pt x="221579" y="137196"/>
                </a:lnTo>
                <a:lnTo>
                  <a:pt x="311219" y="137196"/>
                </a:lnTo>
                <a:lnTo>
                  <a:pt x="311219" y="221579"/>
                </a:lnTo>
                <a:lnTo>
                  <a:pt x="221579" y="221579"/>
                </a:lnTo>
                <a:lnTo>
                  <a:pt x="221579" y="311219"/>
                </a:lnTo>
                <a:lnTo>
                  <a:pt x="137196" y="311219"/>
                </a:lnTo>
                <a:lnTo>
                  <a:pt x="137196" y="221579"/>
                </a:lnTo>
                <a:lnTo>
                  <a:pt x="47556" y="221579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Равно 14"/>
          <p:cNvSpPr/>
          <p:nvPr/>
        </p:nvSpPr>
        <p:spPr>
          <a:xfrm>
            <a:off x="2771640" y="3357720"/>
            <a:ext cx="482760" cy="358560"/>
          </a:xfrm>
          <a:custGeom>
            <a:avLst/>
            <a:gdLst>
              <a:gd name="textAreaLeft" fmla="*/ 63720 w 482760"/>
              <a:gd name="textAreaRight" fmla="*/ 419040 w 482760"/>
              <a:gd name="textAreaTop" fmla="*/ 73800 h 358560"/>
              <a:gd name="textAreaBottom" fmla="*/ 284760 h 358560"/>
            </a:gdLst>
            <a:ahLst/>
            <a:rect l="textAreaLeft" t="textAreaTop" r="textAreaRight" b="textAreaBottom"/>
            <a:pathLst>
              <a:path w="482600" h="358775">
                <a:moveTo>
                  <a:pt x="63969" y="73908"/>
                </a:moveTo>
                <a:lnTo>
                  <a:pt x="418631" y="73908"/>
                </a:lnTo>
                <a:lnTo>
                  <a:pt x="418631" y="158292"/>
                </a:lnTo>
                <a:lnTo>
                  <a:pt x="63969" y="158292"/>
                </a:lnTo>
                <a:close/>
                <a:moveTo>
                  <a:pt x="63969" y="200483"/>
                </a:moveTo>
                <a:lnTo>
                  <a:pt x="418631" y="200483"/>
                </a:lnTo>
                <a:lnTo>
                  <a:pt x="418631" y="284867"/>
                </a:lnTo>
                <a:lnTo>
                  <a:pt x="63969" y="284867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Блок-схема: процесс 15"/>
          <p:cNvSpPr/>
          <p:nvPr/>
        </p:nvSpPr>
        <p:spPr>
          <a:xfrm>
            <a:off x="971640" y="1484280"/>
            <a:ext cx="215892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ПРОФОРІЄНТАЦІЯ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Блок-схема: процесс 16"/>
          <p:cNvSpPr/>
          <p:nvPr/>
        </p:nvSpPr>
        <p:spPr>
          <a:xfrm>
            <a:off x="6156360" y="1557360"/>
            <a:ext cx="156204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ОСВІТА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Блок-схема: процесс 18"/>
          <p:cNvSpPr/>
          <p:nvPr/>
        </p:nvSpPr>
        <p:spPr>
          <a:xfrm>
            <a:off x="5796000" y="4508640"/>
            <a:ext cx="2303280" cy="215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РОБОТОДАВЦІ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Стрелка вправо с вырезом 19"/>
          <p:cNvSpPr/>
          <p:nvPr/>
        </p:nvSpPr>
        <p:spPr>
          <a:xfrm rot="19789800">
            <a:off x="5218200" y="2603160"/>
            <a:ext cx="855720" cy="223920"/>
          </a:xfrm>
          <a:custGeom>
            <a:avLst/>
            <a:gdLst>
              <a:gd name="textAreaLeft" fmla="*/ 55800 w 855720"/>
              <a:gd name="textAreaRight" fmla="*/ 799920 w 855720"/>
              <a:gd name="textAreaTop" fmla="*/ 55800 h 223920"/>
              <a:gd name="textAreaBottom" fmla="*/ 168120 h 22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75" y="5400"/>
                </a:lnTo>
                <a:lnTo>
                  <a:pt x="18775" y="0"/>
                </a:lnTo>
                <a:lnTo>
                  <a:pt x="21600" y="10800"/>
                </a:lnTo>
                <a:lnTo>
                  <a:pt x="18775" y="21600"/>
                </a:lnTo>
                <a:lnTo>
                  <a:pt x="18775" y="16200"/>
                </a:lnTo>
                <a:lnTo>
                  <a:pt x="0" y="16200"/>
                </a:lnTo>
                <a:lnTo>
                  <a:pt x="14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Стрелка вправо с вырезом 17"/>
          <p:cNvSpPr/>
          <p:nvPr/>
        </p:nvSpPr>
        <p:spPr>
          <a:xfrm rot="2133600">
            <a:off x="5203800" y="4308120"/>
            <a:ext cx="866880" cy="222120"/>
          </a:xfrm>
          <a:custGeom>
            <a:avLst/>
            <a:gdLst>
              <a:gd name="textAreaLeft" fmla="*/ 55440 w 866880"/>
              <a:gd name="textAreaRight" fmla="*/ 811440 w 86688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31" y="5400"/>
                </a:ln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18831" y="16200"/>
                </a:lnTo>
                <a:lnTo>
                  <a:pt x="0" y="16200"/>
                </a:lnTo>
                <a:lnTo>
                  <a:pt x="13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294920"/>
            <a:ext cx="27464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6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"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0" name="Picture 2" descr="C:\Users\User\Desktop\Профориентация\Барометр январь.jpg"/>
          <p:cNvPicPr/>
          <p:nvPr/>
        </p:nvPicPr>
        <p:blipFill>
          <a:blip r:embed="rId1"/>
          <a:stretch/>
        </p:blipFill>
        <p:spPr>
          <a:xfrm>
            <a:off x="395280" y="1268280"/>
            <a:ext cx="8475840" cy="531360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9" descr=""/>
          <p:cNvPicPr/>
          <p:nvPr/>
        </p:nvPicPr>
        <p:blipFill>
          <a:blip r:embed="rId2"/>
          <a:stretch/>
        </p:blipFill>
        <p:spPr>
          <a:xfrm>
            <a:off x="463680" y="231840"/>
            <a:ext cx="824220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1116000" y="573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ртист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ОП 10  спеціальностей, які користуються попитом в Україн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5" name="Диаграмма 8" descr=""/>
          <p:cNvPicPr/>
          <p:nvPr/>
        </p:nvPicPr>
        <p:blipFill>
          <a:blip r:embed="rId1"/>
          <a:stretch/>
        </p:blipFill>
        <p:spPr>
          <a:xfrm>
            <a:off x="633240" y="1217520"/>
            <a:ext cx="7805880" cy="5357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10"/>
          <p:cNvSpPr/>
          <p:nvPr/>
        </p:nvSpPr>
        <p:spPr>
          <a:xfrm>
            <a:off x="3708360" y="3860640"/>
            <a:ext cx="57636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Прямая соединительная линия 12"/>
          <p:cNvSpPr/>
          <p:nvPr/>
        </p:nvSpPr>
        <p:spPr>
          <a:xfrm>
            <a:off x="4284720" y="3860640"/>
            <a:ext cx="792000" cy="86364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Прямая соединительная линия 16"/>
          <p:cNvSpPr/>
          <p:nvPr/>
        </p:nvSpPr>
        <p:spPr>
          <a:xfrm>
            <a:off x="5076720" y="4724280"/>
            <a:ext cx="158292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4627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Найзатребуваніші професії в світі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0" name="Picture 2" descr="Изображение к материалу IT-специалист"/>
          <p:cNvPicPr/>
          <p:nvPr/>
        </p:nvPicPr>
        <p:blipFill>
          <a:blip r:embed="rId1"/>
          <a:stretch/>
        </p:blipFill>
        <p:spPr>
          <a:xfrm>
            <a:off x="572436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Изображение к материалу Специалисты по инжинирингу"/>
          <p:cNvPicPr/>
          <p:nvPr/>
        </p:nvPicPr>
        <p:blipFill>
          <a:blip r:embed="rId2"/>
          <a:stretch/>
        </p:blipFill>
        <p:spPr>
          <a:xfrm>
            <a:off x="745164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Изображение к материалу Врачи"/>
          <p:cNvPicPr/>
          <p:nvPr/>
        </p:nvPicPr>
        <p:blipFill>
          <a:blip r:embed="rId3"/>
          <a:stretch/>
        </p:blipFill>
        <p:spPr>
          <a:xfrm>
            <a:off x="3995640" y="907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Изображение к материалу Специалисты в сфере туризма"/>
          <p:cNvPicPr/>
          <p:nvPr/>
        </p:nvPicPr>
        <p:blipFill>
          <a:blip r:embed="rId4"/>
          <a:stretch/>
        </p:blipFill>
        <p:spPr>
          <a:xfrm>
            <a:off x="226836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Изображение к материалу Логист"/>
          <p:cNvPicPr/>
          <p:nvPr/>
        </p:nvPicPr>
        <p:blipFill>
          <a:blip r:embed="rId5"/>
          <a:stretch/>
        </p:blipFill>
        <p:spPr>
          <a:xfrm>
            <a:off x="250920" y="170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Изображение к материалу Экологи"/>
          <p:cNvPicPr/>
          <p:nvPr/>
        </p:nvPicPr>
        <p:blipFill>
          <a:blip r:embed="rId6"/>
          <a:stretch/>
        </p:blipFill>
        <p:spPr>
          <a:xfrm>
            <a:off x="17928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Изображение к материалу Химики и энергетики"/>
          <p:cNvPicPr/>
          <p:nvPr/>
        </p:nvPicPr>
        <p:blipFill>
          <a:blip r:embed="rId7"/>
          <a:stretch/>
        </p:blipFill>
        <p:spPr>
          <a:xfrm>
            <a:off x="1763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Изображение к материалу Нанотехнологи"/>
          <p:cNvPicPr/>
          <p:nvPr/>
        </p:nvPicPr>
        <p:blipFill>
          <a:blip r:embed="rId8"/>
          <a:stretch/>
        </p:blipFill>
        <p:spPr>
          <a:xfrm>
            <a:off x="334800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2" descr="Изображение к материалу Сервис - специалисты"/>
          <p:cNvPicPr/>
          <p:nvPr/>
        </p:nvPicPr>
        <p:blipFill>
          <a:blip r:embed="rId9"/>
          <a:stretch/>
        </p:blipFill>
        <p:spPr>
          <a:xfrm>
            <a:off x="5076720" y="4869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Изображение к материалу Журналист, имиджмейкер"/>
          <p:cNvPicPr/>
          <p:nvPr/>
        </p:nvPicPr>
        <p:blipFill>
          <a:blip r:embed="rId10"/>
          <a:stretch/>
        </p:blipFill>
        <p:spPr>
          <a:xfrm>
            <a:off x="6948360" y="494172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7"/>
          <p:cNvSpPr/>
          <p:nvPr/>
        </p:nvSpPr>
        <p:spPr>
          <a:xfrm>
            <a:off x="2268360" y="270828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Менеджер з туризм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TextBox 28"/>
          <p:cNvSpPr/>
          <p:nvPr/>
        </p:nvSpPr>
        <p:spPr>
          <a:xfrm>
            <a:off x="7451640" y="1628640"/>
            <a:ext cx="144144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Фахівець з інжинірінг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Box 30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Т-фахівец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TextBox 31"/>
          <p:cNvSpPr/>
          <p:nvPr/>
        </p:nvSpPr>
        <p:spPr>
          <a:xfrm>
            <a:off x="3995640" y="234936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іка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TextBox 32"/>
          <p:cNvSpPr/>
          <p:nvPr/>
        </p:nvSpPr>
        <p:spPr>
          <a:xfrm flipV="1" rot="10800000">
            <a:off x="250920" y="3140640"/>
            <a:ext cx="144144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54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оги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Еколо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1763640" y="58770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Хімік і енергети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3276720" y="6165720"/>
            <a:ext cx="1582560" cy="61236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80808"/>
                </a:solidFill>
                <a:latin typeface="Arial"/>
              </a:rPr>
              <a:t>Нанотехнолог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5076720" y="62118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Сервіс -спеціалі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6948360" y="6488280"/>
            <a:ext cx="1584360" cy="368280"/>
          </a:xfrm>
          <a:prstGeom prst="rect">
            <a:avLst/>
          </a:prstGeom>
          <a:gradFill rotWithShape="0">
            <a:gsLst>
              <a:gs pos="0">
                <a:srgbClr val="deaade"/>
              </a:gs>
              <a:gs pos="100000">
                <a:srgbClr val="f6e8f6"/>
              </a:gs>
            </a:gsLst>
            <a:lin ang="16200000"/>
          </a:gradFill>
          <a:ln w="9360">
            <a:solidFill>
              <a:srgbClr val="81008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міджмейке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362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165320"/>
                <a:tab algn="l" pos="179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«Розберіться в собі і зрозумійте, що ж ви любите. Робота займе велику частину вашого життя, і єдиний шлях до самоповаги - робити те, що ви вважаєте вартим великих зусиль. А єдиний спосіб виконати таку роботу-це любити те, чим ви зайняті»</a:t>
            </a:r>
            <a:br>
              <a:rPr sz="3600"/>
            </a:br>
            <a:r>
              <a:rPr b="1" i="1" lang="uk-UA" sz="4200" spc="-1" strike="noStrike">
                <a:solidFill>
                  <a:srgbClr val="0070c0"/>
                </a:solidFill>
                <a:latin typeface="Segoe Print"/>
              </a:rPr>
              <a:t>                                       </a:t>
            </a:r>
            <a:br>
              <a:rPr sz="4200"/>
            </a:b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4859280" y="5373720"/>
            <a:ext cx="31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Стів Джоб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09:57:37Z</dcterms:created>
  <dc:creator>User</dc:creator>
  <dc:description/>
  <dc:language>en-US</dc:language>
  <cp:lastModifiedBy>User</cp:lastModifiedBy>
  <dcterms:modified xsi:type="dcterms:W3CDTF">2018-03-06T08:07:02Z</dcterms:modified>
  <cp:revision>49</cp:revision>
  <dc:subject/>
  <dc:title>Барометр професій</dc:title>
</cp:coreProperties>
</file>