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11.jpeg" ContentType="image/jpeg"/>
  <Override PartName="/ppt/media/image8.png" ContentType="image/png"/>
  <Override PartName="/ppt/media/image38.png" ContentType="image/png"/>
  <Override PartName="/ppt/media/image40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EB0-9F94-4CCC-88A4-D7044F29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A11-748E-4960-8EDA-101A7430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622D-3FEA-4AE8-B4AE-D96CFAD2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614B-D1A7-40BB-8C8A-3BDF82E7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671E-1C66-44CF-A3F3-0585B5C6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12B9-BBBF-49A1-B67F-25FF9A35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0005-A553-4E72-ADD5-6CDD686E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1073-52D8-4CD5-8D76-981FBA64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12BC-A081-4B03-97BC-70D672A5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E86B-3BD2-4C7B-8612-4598357B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2763-5313-4A30-BBEA-0698C6EA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256F-EA32-4642-8429-A5E7E33C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5E5B-1AE8-4A45-ABB6-4836072B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7264-EF91-44B1-9377-F4193BD9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13AA-7E7E-45A8-AD3A-DD301698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0872-5F2C-43FD-87FE-89DDDF1E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98CC-5BF0-48BB-86E5-D3F1364B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B213-A106-4833-9FE7-CA5CAA49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69D-5680-49BE-8505-9F4318B6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3A32-59C5-4701-AAA7-2E2E66A6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AFE1-5251-4912-8345-972312DA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1D7-4272-4C89-B2C0-DD3F839D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637C-39E3-4887-85C8-D95B5643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5C46-29CF-4EAA-AE76-3B5B7413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8E32-4DEF-4BD7-B09E-054CCABAC8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7891560" y="5935680"/>
            <a:ext cx="1234800" cy="833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7981920" y="5916600"/>
            <a:ext cx="828720" cy="158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161200" y="5608800"/>
            <a:ext cx="430200" cy="4633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102520" y="5850000"/>
            <a:ext cx="173160" cy="1620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469360" y="5969160"/>
            <a:ext cx="461880" cy="2444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562960" y="5943600"/>
            <a:ext cx="309600" cy="2412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7926480" y="6334200"/>
            <a:ext cx="1369800" cy="52380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53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54" name="Freeform 16"/>
            <p:cNvSpPr/>
            <p:nvPr/>
          </p:nvSpPr>
          <p:spPr>
            <a:xfrm>
              <a:off x="277560" y="530280"/>
              <a:ext cx="2011680" cy="3076560"/>
            </a:xfrm>
            <a:custGeom>
              <a:avLst/>
              <a:gdLst>
                <a:gd name="textAreaLeft" fmla="*/ 0 w 2011680"/>
                <a:gd name="textAreaRight" fmla="*/ 2012040 w 2011680"/>
                <a:gd name="textAreaTop" fmla="*/ 0 h 3076560"/>
                <a:gd name="textAreaBottom" fmla="*/ 3076920 h 307656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214200" y="824040"/>
              <a:ext cx="54000" cy="44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701640" y="1019160"/>
              <a:ext cx="61920" cy="507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1942920" y="1108080"/>
              <a:ext cx="155520" cy="117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" name="Freeform 20"/>
            <p:cNvSpPr/>
            <p:nvPr/>
          </p:nvSpPr>
          <p:spPr>
            <a:xfrm>
              <a:off x="1190520" y="1717560"/>
              <a:ext cx="250920" cy="1335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1396800" y="1819440"/>
              <a:ext cx="157320" cy="648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1563480" y="1860480"/>
              <a:ext cx="60480" cy="28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1652400" y="1865160"/>
              <a:ext cx="19080" cy="39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1361880" y="522360"/>
              <a:ext cx="285840" cy="13968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3" name="Freeform 25"/>
            <p:cNvSpPr/>
            <p:nvPr/>
          </p:nvSpPr>
          <p:spPr>
            <a:xfrm>
              <a:off x="1488960" y="457200"/>
              <a:ext cx="231840" cy="954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" name="Freeform 26"/>
            <p:cNvSpPr/>
            <p:nvPr/>
          </p:nvSpPr>
          <p:spPr>
            <a:xfrm>
              <a:off x="1814400" y="568440"/>
              <a:ext cx="370080" cy="3016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" name="Freeform 27"/>
            <p:cNvSpPr/>
            <p:nvPr/>
          </p:nvSpPr>
          <p:spPr>
            <a:xfrm>
              <a:off x="1811160" y="438120"/>
              <a:ext cx="69840" cy="58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" name="Freeform 28"/>
            <p:cNvSpPr/>
            <p:nvPr/>
          </p:nvSpPr>
          <p:spPr>
            <a:xfrm>
              <a:off x="1677960" y="549360"/>
              <a:ext cx="102960" cy="666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7" name="Freeform 29"/>
            <p:cNvSpPr/>
            <p:nvPr/>
          </p:nvSpPr>
          <p:spPr>
            <a:xfrm>
              <a:off x="1785960" y="561960"/>
              <a:ext cx="85680" cy="396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8" name="Freeform 30"/>
            <p:cNvSpPr/>
            <p:nvPr/>
          </p:nvSpPr>
          <p:spPr>
            <a:xfrm>
              <a:off x="1739880" y="504720"/>
              <a:ext cx="101520" cy="54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>
              <a:off x="1697040" y="453960"/>
              <a:ext cx="69840" cy="38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0" name="Freeform 32"/>
            <p:cNvSpPr/>
            <p:nvPr/>
          </p:nvSpPr>
          <p:spPr>
            <a:xfrm>
              <a:off x="1877760" y="458640"/>
              <a:ext cx="181080" cy="1224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1" name="Freeform 33"/>
            <p:cNvSpPr/>
            <p:nvPr/>
          </p:nvSpPr>
          <p:spPr>
            <a:xfrm>
              <a:off x="152280" y="847800"/>
              <a:ext cx="39600" cy="237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2" name="Freeform 34"/>
            <p:cNvSpPr/>
            <p:nvPr/>
          </p:nvSpPr>
          <p:spPr>
            <a:xfrm>
              <a:off x="1353960" y="1658880"/>
              <a:ext cx="25560" cy="19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3" name="Freeform 35"/>
            <p:cNvSpPr/>
            <p:nvPr/>
          </p:nvSpPr>
          <p:spPr>
            <a:xfrm>
              <a:off x="1358640" y="1698480"/>
              <a:ext cx="25560" cy="19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4" name="Freeform 36"/>
            <p:cNvSpPr/>
            <p:nvPr/>
          </p:nvSpPr>
          <p:spPr>
            <a:xfrm>
              <a:off x="1682640" y="190836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5" name="Freeform 37"/>
            <p:cNvSpPr/>
            <p:nvPr/>
          </p:nvSpPr>
          <p:spPr>
            <a:xfrm>
              <a:off x="1879560" y="1139760"/>
              <a:ext cx="60120" cy="28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6" name="Freeform 38"/>
            <p:cNvSpPr/>
            <p:nvPr/>
          </p:nvSpPr>
          <p:spPr>
            <a:xfrm>
              <a:off x="1720800" y="814320"/>
              <a:ext cx="60120" cy="28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7" name="Freeform 39"/>
            <p:cNvSpPr/>
            <p:nvPr/>
          </p:nvSpPr>
          <p:spPr>
            <a:xfrm>
              <a:off x="1823760" y="530280"/>
              <a:ext cx="61920" cy="284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8" name="Freeform 40"/>
            <p:cNvSpPr/>
            <p:nvPr/>
          </p:nvSpPr>
          <p:spPr>
            <a:xfrm>
              <a:off x="1923840" y="701640"/>
              <a:ext cx="60480" cy="28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9" name="Freeform 41"/>
            <p:cNvSpPr/>
            <p:nvPr/>
          </p:nvSpPr>
          <p:spPr>
            <a:xfrm>
              <a:off x="1949400" y="380880"/>
              <a:ext cx="1104840" cy="549360"/>
            </a:xfrm>
            <a:custGeom>
              <a:avLst/>
              <a:gdLst>
                <a:gd name="textAreaLeft" fmla="*/ 0 w 1104840"/>
                <a:gd name="textAreaRight" fmla="*/ 1105200 w 110484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0" name="Freeform 42"/>
            <p:cNvSpPr/>
            <p:nvPr/>
          </p:nvSpPr>
          <p:spPr>
            <a:xfrm>
              <a:off x="2287440" y="673200"/>
              <a:ext cx="61920" cy="38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1" name="Freeform 43"/>
            <p:cNvSpPr/>
            <p:nvPr/>
          </p:nvSpPr>
          <p:spPr>
            <a:xfrm>
              <a:off x="2736720" y="777960"/>
              <a:ext cx="203400" cy="856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2" name="Freeform 44"/>
            <p:cNvSpPr/>
            <p:nvPr/>
          </p:nvSpPr>
          <p:spPr>
            <a:xfrm>
              <a:off x="2896920" y="519120"/>
              <a:ext cx="61920" cy="38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" name="Freeform 45"/>
            <p:cNvSpPr/>
            <p:nvPr/>
          </p:nvSpPr>
          <p:spPr>
            <a:xfrm>
              <a:off x="3324240" y="468360"/>
              <a:ext cx="245880" cy="1000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4" name="Freeform 46"/>
            <p:cNvSpPr/>
            <p:nvPr/>
          </p:nvSpPr>
          <p:spPr>
            <a:xfrm>
              <a:off x="3477960" y="520560"/>
              <a:ext cx="76320" cy="334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5" name="Freeform 47"/>
            <p:cNvSpPr/>
            <p:nvPr/>
          </p:nvSpPr>
          <p:spPr>
            <a:xfrm>
              <a:off x="3014640" y="952560"/>
              <a:ext cx="172800" cy="2095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6" name="Freeform 48"/>
            <p:cNvSpPr/>
            <p:nvPr/>
          </p:nvSpPr>
          <p:spPr>
            <a:xfrm>
              <a:off x="2928960" y="1028880"/>
              <a:ext cx="109440" cy="107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7" name="Freeform 49"/>
            <p:cNvSpPr/>
            <p:nvPr/>
          </p:nvSpPr>
          <p:spPr>
            <a:xfrm>
              <a:off x="5605200" y="2843280"/>
              <a:ext cx="752760" cy="785880"/>
            </a:xfrm>
            <a:custGeom>
              <a:avLst/>
              <a:gdLst>
                <a:gd name="textAreaLeft" fmla="*/ 0 w 752760"/>
                <a:gd name="textAreaRight" fmla="*/ 753120 w 75276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8" name="Freeform 50"/>
            <p:cNvSpPr/>
            <p:nvPr/>
          </p:nvSpPr>
          <p:spPr>
            <a:xfrm>
              <a:off x="5838840" y="2428920"/>
              <a:ext cx="506160" cy="33336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333360"/>
                <a:gd name="textAreaBottom" fmla="*/ 333360 h 33336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9" name="Freeform 51"/>
            <p:cNvSpPr/>
            <p:nvPr/>
          </p:nvSpPr>
          <p:spPr>
            <a:xfrm>
              <a:off x="5852880" y="2432160"/>
              <a:ext cx="493920" cy="33480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0" name="Freeform 52"/>
            <p:cNvSpPr/>
            <p:nvPr/>
          </p:nvSpPr>
          <p:spPr>
            <a:xfrm>
              <a:off x="6218280" y="3654360"/>
              <a:ext cx="71280" cy="921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1" name="Freeform 53"/>
            <p:cNvSpPr/>
            <p:nvPr/>
          </p:nvSpPr>
          <p:spPr>
            <a:xfrm>
              <a:off x="6433920" y="3511440"/>
              <a:ext cx="260640" cy="1350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" name="Freeform 54"/>
            <p:cNvSpPr/>
            <p:nvPr/>
          </p:nvSpPr>
          <p:spPr>
            <a:xfrm>
              <a:off x="6703920" y="3432240"/>
              <a:ext cx="165240" cy="1461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3" name="Freeform 55"/>
            <p:cNvSpPr/>
            <p:nvPr/>
          </p:nvSpPr>
          <p:spPr>
            <a:xfrm>
              <a:off x="6791400" y="3367080"/>
              <a:ext cx="58680" cy="41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4" name="Freeform 56"/>
            <p:cNvSpPr/>
            <p:nvPr/>
          </p:nvSpPr>
          <p:spPr>
            <a:xfrm>
              <a:off x="4056120" y="2595600"/>
              <a:ext cx="195120" cy="3189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5" name="Freeform 57"/>
            <p:cNvSpPr/>
            <p:nvPr/>
          </p:nvSpPr>
          <p:spPr>
            <a:xfrm>
              <a:off x="4900680" y="2100240"/>
              <a:ext cx="77760" cy="96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6" name="Freeform 58"/>
            <p:cNvSpPr/>
            <p:nvPr/>
          </p:nvSpPr>
          <p:spPr>
            <a:xfrm>
              <a:off x="5429160" y="2205000"/>
              <a:ext cx="176040" cy="290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7" name="Freeform 59"/>
            <p:cNvSpPr/>
            <p:nvPr/>
          </p:nvSpPr>
          <p:spPr>
            <a:xfrm>
              <a:off x="5279760" y="2114640"/>
              <a:ext cx="114480" cy="2174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8" name="Freeform 60"/>
            <p:cNvSpPr/>
            <p:nvPr/>
          </p:nvSpPr>
          <p:spPr>
            <a:xfrm>
              <a:off x="5357880" y="2289240"/>
              <a:ext cx="63360" cy="2080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9" name="Freeform 61"/>
            <p:cNvSpPr/>
            <p:nvPr/>
          </p:nvSpPr>
          <p:spPr>
            <a:xfrm>
              <a:off x="5429160" y="2506680"/>
              <a:ext cx="103320" cy="8568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0" name="Freeform 62"/>
            <p:cNvSpPr/>
            <p:nvPr/>
          </p:nvSpPr>
          <p:spPr>
            <a:xfrm>
              <a:off x="5594400" y="2355840"/>
              <a:ext cx="131760" cy="1857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5549760" y="1692360"/>
              <a:ext cx="34920" cy="112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5572080" y="1881360"/>
              <a:ext cx="96840" cy="1872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" name="Freeform 65"/>
            <p:cNvSpPr/>
            <p:nvPr/>
          </p:nvSpPr>
          <p:spPr>
            <a:xfrm>
              <a:off x="5640120" y="2128680"/>
              <a:ext cx="101880" cy="125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4" name="Freeform 66"/>
            <p:cNvSpPr/>
            <p:nvPr/>
          </p:nvSpPr>
          <p:spPr>
            <a:xfrm>
              <a:off x="5761080" y="2352600"/>
              <a:ext cx="45720" cy="777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5" name="Freeform 67"/>
            <p:cNvSpPr/>
            <p:nvPr/>
          </p:nvSpPr>
          <p:spPr>
            <a:xfrm>
              <a:off x="5735520" y="2482920"/>
              <a:ext cx="28440" cy="27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6" name="Freeform 68"/>
            <p:cNvSpPr/>
            <p:nvPr/>
          </p:nvSpPr>
          <p:spPr>
            <a:xfrm>
              <a:off x="5778360" y="2467080"/>
              <a:ext cx="71640" cy="58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7" name="Freeform 69"/>
            <p:cNvSpPr/>
            <p:nvPr/>
          </p:nvSpPr>
          <p:spPr>
            <a:xfrm>
              <a:off x="5887800" y="2577960"/>
              <a:ext cx="38160" cy="5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8" name="Freeform 70"/>
            <p:cNvSpPr/>
            <p:nvPr/>
          </p:nvSpPr>
          <p:spPr>
            <a:xfrm>
              <a:off x="6311880" y="2511360"/>
              <a:ext cx="73080" cy="745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9" name="Freeform 71"/>
            <p:cNvSpPr/>
            <p:nvPr/>
          </p:nvSpPr>
          <p:spPr>
            <a:xfrm>
              <a:off x="5681520" y="2604960"/>
              <a:ext cx="73080" cy="795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0" name="Freeform 72"/>
            <p:cNvSpPr/>
            <p:nvPr/>
          </p:nvSpPr>
          <p:spPr>
            <a:xfrm>
              <a:off x="5603760" y="2635200"/>
              <a:ext cx="50760" cy="428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1" name="Freeform 73"/>
            <p:cNvSpPr/>
            <p:nvPr/>
          </p:nvSpPr>
          <p:spPr>
            <a:xfrm>
              <a:off x="5570280" y="2589120"/>
              <a:ext cx="38160" cy="49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" name="Freeform 74"/>
            <p:cNvSpPr/>
            <p:nvPr/>
          </p:nvSpPr>
          <p:spPr>
            <a:xfrm>
              <a:off x="5624280" y="2606760"/>
              <a:ext cx="54000" cy="381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3" name="Freeform 75"/>
            <p:cNvSpPr/>
            <p:nvPr/>
          </p:nvSpPr>
          <p:spPr>
            <a:xfrm>
              <a:off x="5546520" y="2079720"/>
              <a:ext cx="42840" cy="87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4" name="Freeform 76"/>
            <p:cNvSpPr/>
            <p:nvPr/>
          </p:nvSpPr>
          <p:spPr>
            <a:xfrm>
              <a:off x="5627520" y="2065320"/>
              <a:ext cx="30240" cy="87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5" name="Freeform 77"/>
            <p:cNvSpPr/>
            <p:nvPr/>
          </p:nvSpPr>
          <p:spPr>
            <a:xfrm>
              <a:off x="5662440" y="2038320"/>
              <a:ext cx="15840" cy="39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" name="Freeform 78"/>
            <p:cNvSpPr/>
            <p:nvPr/>
          </p:nvSpPr>
          <p:spPr>
            <a:xfrm>
              <a:off x="5678280" y="2057400"/>
              <a:ext cx="33480" cy="763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7" name="Freeform 79"/>
            <p:cNvSpPr/>
            <p:nvPr/>
          </p:nvSpPr>
          <p:spPr>
            <a:xfrm>
              <a:off x="5251320" y="2166840"/>
              <a:ext cx="19080" cy="42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8" name="Freeform 80"/>
            <p:cNvSpPr/>
            <p:nvPr/>
          </p:nvSpPr>
          <p:spPr>
            <a:xfrm>
              <a:off x="5235480" y="213048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9" name="Freeform 81"/>
            <p:cNvSpPr/>
            <p:nvPr/>
          </p:nvSpPr>
          <p:spPr>
            <a:xfrm>
              <a:off x="5229000" y="210204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0" name="Freeform 82"/>
            <p:cNvSpPr/>
            <p:nvPr/>
          </p:nvSpPr>
          <p:spPr>
            <a:xfrm>
              <a:off x="5209920" y="2038320"/>
              <a:ext cx="17640" cy="30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1" name="Freeform 83"/>
            <p:cNvSpPr/>
            <p:nvPr/>
          </p:nvSpPr>
          <p:spPr>
            <a:xfrm>
              <a:off x="5213160" y="2077920"/>
              <a:ext cx="25560" cy="20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2" name="Freeform 84"/>
            <p:cNvSpPr/>
            <p:nvPr/>
          </p:nvSpPr>
          <p:spPr>
            <a:xfrm>
              <a:off x="6540480" y="3067200"/>
              <a:ext cx="71280" cy="950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3" name="Freeform 85"/>
            <p:cNvSpPr/>
            <p:nvPr/>
          </p:nvSpPr>
          <p:spPr>
            <a:xfrm>
              <a:off x="6906960" y="2989440"/>
              <a:ext cx="84240" cy="72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4" name="Freeform 86"/>
            <p:cNvSpPr/>
            <p:nvPr/>
          </p:nvSpPr>
          <p:spPr>
            <a:xfrm>
              <a:off x="6653160" y="2949480"/>
              <a:ext cx="27000" cy="36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5" name="Freeform 87"/>
            <p:cNvSpPr/>
            <p:nvPr/>
          </p:nvSpPr>
          <p:spPr>
            <a:xfrm>
              <a:off x="6640560" y="291456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6" name="Freeform 88"/>
            <p:cNvSpPr/>
            <p:nvPr/>
          </p:nvSpPr>
          <p:spPr>
            <a:xfrm>
              <a:off x="6397560" y="2606760"/>
              <a:ext cx="38160" cy="522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7" name="Freeform 89"/>
            <p:cNvSpPr/>
            <p:nvPr/>
          </p:nvSpPr>
          <p:spPr>
            <a:xfrm>
              <a:off x="6451560" y="2674800"/>
              <a:ext cx="41040" cy="525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8" name="Freeform 90"/>
            <p:cNvSpPr/>
            <p:nvPr/>
          </p:nvSpPr>
          <p:spPr>
            <a:xfrm>
              <a:off x="6494400" y="2774880"/>
              <a:ext cx="44280" cy="44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9" name="Freeform 91"/>
            <p:cNvSpPr/>
            <p:nvPr/>
          </p:nvSpPr>
          <p:spPr>
            <a:xfrm>
              <a:off x="6548400" y="2759040"/>
              <a:ext cx="44280" cy="414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0" name="Freeform 92"/>
            <p:cNvSpPr/>
            <p:nvPr/>
          </p:nvSpPr>
          <p:spPr>
            <a:xfrm>
              <a:off x="6532560" y="2701800"/>
              <a:ext cx="41040" cy="32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1" name="Freeform 93"/>
            <p:cNvSpPr/>
            <p:nvPr/>
          </p:nvSpPr>
          <p:spPr>
            <a:xfrm>
              <a:off x="6491160" y="2662200"/>
              <a:ext cx="41400" cy="55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" name="Freeform 94"/>
            <p:cNvSpPr/>
            <p:nvPr/>
          </p:nvSpPr>
          <p:spPr>
            <a:xfrm>
              <a:off x="6440400" y="2637000"/>
              <a:ext cx="38160" cy="41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" name="Freeform 95"/>
            <p:cNvSpPr/>
            <p:nvPr/>
          </p:nvSpPr>
          <p:spPr>
            <a:xfrm>
              <a:off x="6503760" y="2720880"/>
              <a:ext cx="38160" cy="41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" name="Freeform 96"/>
            <p:cNvSpPr/>
            <p:nvPr/>
          </p:nvSpPr>
          <p:spPr>
            <a:xfrm>
              <a:off x="3948120" y="539640"/>
              <a:ext cx="223560" cy="171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" name="Freeform 97"/>
            <p:cNvSpPr/>
            <p:nvPr/>
          </p:nvSpPr>
          <p:spPr>
            <a:xfrm>
              <a:off x="4081320" y="704880"/>
              <a:ext cx="63720" cy="190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" name="Freeform 98"/>
            <p:cNvSpPr/>
            <p:nvPr/>
          </p:nvSpPr>
          <p:spPr>
            <a:xfrm>
              <a:off x="4406760" y="457200"/>
              <a:ext cx="66600" cy="44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" name="Freeform 99"/>
            <p:cNvSpPr/>
            <p:nvPr/>
          </p:nvSpPr>
          <p:spPr>
            <a:xfrm>
              <a:off x="4454280" y="477720"/>
              <a:ext cx="79560" cy="320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" name="Freeform 100"/>
            <p:cNvSpPr/>
            <p:nvPr/>
          </p:nvSpPr>
          <p:spPr>
            <a:xfrm>
              <a:off x="4540320" y="482760"/>
              <a:ext cx="79200" cy="50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" name="Freeform 101"/>
            <p:cNvSpPr/>
            <p:nvPr/>
          </p:nvSpPr>
          <p:spPr>
            <a:xfrm>
              <a:off x="5094360" y="525600"/>
              <a:ext cx="139680" cy="48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" name="Freeform 102"/>
            <p:cNvSpPr/>
            <p:nvPr/>
          </p:nvSpPr>
          <p:spPr>
            <a:xfrm>
              <a:off x="5236920" y="523800"/>
              <a:ext cx="73080" cy="381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" name="Freeform 103"/>
            <p:cNvSpPr/>
            <p:nvPr/>
          </p:nvSpPr>
          <p:spPr>
            <a:xfrm>
              <a:off x="5203800" y="569880"/>
              <a:ext cx="58680" cy="270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" name="Freeform 104"/>
            <p:cNvSpPr/>
            <p:nvPr/>
          </p:nvSpPr>
          <p:spPr>
            <a:xfrm>
              <a:off x="5603760" y="925560"/>
              <a:ext cx="120600" cy="1810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" name="Freeform 105"/>
            <p:cNvSpPr/>
            <p:nvPr/>
          </p:nvSpPr>
          <p:spPr>
            <a:xfrm>
              <a:off x="5700600" y="1112760"/>
              <a:ext cx="87480" cy="1238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4" name="Freeform 106"/>
            <p:cNvSpPr/>
            <p:nvPr/>
          </p:nvSpPr>
          <p:spPr>
            <a:xfrm>
              <a:off x="5643360" y="1239840"/>
              <a:ext cx="173160" cy="2998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5" name="Freeform 107"/>
            <p:cNvSpPr/>
            <p:nvPr/>
          </p:nvSpPr>
          <p:spPr>
            <a:xfrm>
              <a:off x="3959280" y="439920"/>
              <a:ext cx="82440" cy="47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6" name="Freeform 108"/>
            <p:cNvSpPr/>
            <p:nvPr/>
          </p:nvSpPr>
          <p:spPr>
            <a:xfrm>
              <a:off x="3789360" y="45396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7" name="Freeform 109"/>
            <p:cNvSpPr/>
            <p:nvPr/>
          </p:nvSpPr>
          <p:spPr>
            <a:xfrm>
              <a:off x="3827520" y="452520"/>
              <a:ext cx="58680" cy="428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8" name="Freeform 110"/>
            <p:cNvSpPr/>
            <p:nvPr/>
          </p:nvSpPr>
          <p:spPr>
            <a:xfrm>
              <a:off x="3924360" y="438120"/>
              <a:ext cx="31680" cy="255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9" name="Freeform 111"/>
            <p:cNvSpPr/>
            <p:nvPr/>
          </p:nvSpPr>
          <p:spPr>
            <a:xfrm>
              <a:off x="3895560" y="466560"/>
              <a:ext cx="23760" cy="208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0" name="Freeform 112"/>
            <p:cNvSpPr/>
            <p:nvPr/>
          </p:nvSpPr>
          <p:spPr>
            <a:xfrm>
              <a:off x="5705280" y="492120"/>
              <a:ext cx="28800" cy="525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" name="Freeform 113"/>
            <p:cNvSpPr/>
            <p:nvPr/>
          </p:nvSpPr>
          <p:spPr>
            <a:xfrm>
              <a:off x="4302000" y="2797200"/>
              <a:ext cx="49320" cy="284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2" name="Freeform 114"/>
            <p:cNvSpPr/>
            <p:nvPr/>
          </p:nvSpPr>
          <p:spPr>
            <a:xfrm>
              <a:off x="4365360" y="2786040"/>
              <a:ext cx="16200" cy="23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3" name="Freeform 115"/>
            <p:cNvSpPr/>
            <p:nvPr/>
          </p:nvSpPr>
          <p:spPr>
            <a:xfrm>
              <a:off x="4259160" y="2541600"/>
              <a:ext cx="14400" cy="23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4" name="Freeform 116"/>
            <p:cNvSpPr/>
            <p:nvPr/>
          </p:nvSpPr>
          <p:spPr>
            <a:xfrm>
              <a:off x="4354560" y="2425680"/>
              <a:ext cx="17280" cy="30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" name="Freeform 117"/>
            <p:cNvSpPr/>
            <p:nvPr/>
          </p:nvSpPr>
          <p:spPr>
            <a:xfrm>
              <a:off x="4316400" y="2424240"/>
              <a:ext cx="17280" cy="29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6" name="Freeform 118"/>
            <p:cNvSpPr/>
            <p:nvPr/>
          </p:nvSpPr>
          <p:spPr>
            <a:xfrm>
              <a:off x="4298760" y="245916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7" name="Freeform 119"/>
            <p:cNvSpPr/>
            <p:nvPr/>
          </p:nvSpPr>
          <p:spPr>
            <a:xfrm>
              <a:off x="4259160" y="2513160"/>
              <a:ext cx="14400" cy="23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8" name="Freeform 120"/>
            <p:cNvSpPr/>
            <p:nvPr/>
          </p:nvSpPr>
          <p:spPr>
            <a:xfrm>
              <a:off x="4289400" y="249228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9" name="Freeform 121"/>
            <p:cNvSpPr/>
            <p:nvPr/>
          </p:nvSpPr>
          <p:spPr>
            <a:xfrm>
              <a:off x="3125520" y="923760"/>
              <a:ext cx="16200" cy="241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0" name="Freeform 122"/>
            <p:cNvSpPr/>
            <p:nvPr/>
          </p:nvSpPr>
          <p:spPr>
            <a:xfrm>
              <a:off x="3028680" y="870120"/>
              <a:ext cx="16200" cy="23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1" name="Freeform 123"/>
            <p:cNvSpPr/>
            <p:nvPr/>
          </p:nvSpPr>
          <p:spPr>
            <a:xfrm>
              <a:off x="2651040" y="525600"/>
              <a:ext cx="3270240" cy="2609640"/>
            </a:xfrm>
            <a:custGeom>
              <a:avLst/>
              <a:gdLst>
                <a:gd name="textAreaLeft" fmla="*/ 0 w 3270240"/>
                <a:gd name="textAreaRight" fmla="*/ 3270600 w 3270240"/>
                <a:gd name="textAreaTop" fmla="*/ 0 h 2609640"/>
                <a:gd name="textAreaBottom" fmla="*/ 2610000 h 260964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pic>
        <p:nvPicPr>
          <p:cNvPr id="162" name="Picture 7" descr="artplus_nature_naturalcity42_a"/>
          <p:cNvPicPr/>
          <p:nvPr/>
        </p:nvPicPr>
        <p:blipFill>
          <a:blip r:embed="rId3"/>
          <a:stretch/>
        </p:blipFill>
        <p:spPr>
          <a:xfrm>
            <a:off x="4870440" y="3166920"/>
            <a:ext cx="4425840" cy="298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artplus_nature_naturalcity42_i"/>
          <p:cNvPicPr/>
          <p:nvPr/>
        </p:nvPicPr>
        <p:blipFill>
          <a:blip r:embed="rId4"/>
          <a:stretch/>
        </p:blipFill>
        <p:spPr>
          <a:xfrm>
            <a:off x="6956280" y="3352680"/>
            <a:ext cx="1654200" cy="878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artplus_nature_naturalcity42_c"/>
          <p:cNvPicPr/>
          <p:nvPr/>
        </p:nvPicPr>
        <p:blipFill>
          <a:blip r:embed="rId5"/>
          <a:stretch/>
        </p:blipFill>
        <p:spPr>
          <a:xfrm>
            <a:off x="9296280" y="2895480"/>
            <a:ext cx="1113120" cy="86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artplus_nature_naturalcity42_f"/>
          <p:cNvPicPr/>
          <p:nvPr/>
        </p:nvPicPr>
        <p:blipFill>
          <a:blip r:embed="rId6"/>
          <a:stretch/>
        </p:blipFill>
        <p:spPr>
          <a:xfrm>
            <a:off x="4994280" y="4594320"/>
            <a:ext cx="4911840" cy="1882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26"/>
          <p:cNvSpPr/>
          <p:nvPr/>
        </p:nvSpPr>
        <p:spPr>
          <a:xfrm>
            <a:off x="8042760" y="152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67" name="Picture 9" descr="artplus_nature_naturalcity42_b"/>
          <p:cNvPicPr/>
          <p:nvPr/>
        </p:nvPicPr>
        <p:blipFill>
          <a:blip r:embed="rId7"/>
          <a:stretch/>
        </p:blipFill>
        <p:spPr>
          <a:xfrm>
            <a:off x="5195880" y="3097080"/>
            <a:ext cx="2971800" cy="571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artplus_nature_naturalcity42_e"/>
          <p:cNvPicPr/>
          <p:nvPr/>
        </p:nvPicPr>
        <p:blipFill>
          <a:blip r:embed="rId8"/>
          <a:stretch/>
        </p:blipFill>
        <p:spPr>
          <a:xfrm>
            <a:off x="5943600" y="1994040"/>
            <a:ext cx="1546200" cy="1663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artplus_nature_naturalcity42_d"/>
          <p:cNvPicPr/>
          <p:nvPr/>
        </p:nvPicPr>
        <p:blipFill>
          <a:blip r:embed="rId9"/>
          <a:stretch/>
        </p:blipFill>
        <p:spPr>
          <a:xfrm>
            <a:off x="5626080" y="2862360"/>
            <a:ext cx="623880" cy="579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8" descr="a1"/>
          <p:cNvPicPr/>
          <p:nvPr/>
        </p:nvPicPr>
        <p:blipFill>
          <a:blip r:embed="rId10"/>
          <a:stretch/>
        </p:blipFill>
        <p:spPr>
          <a:xfrm>
            <a:off x="9360000" y="9540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9" descr="b_1"/>
          <p:cNvPicPr/>
          <p:nvPr/>
        </p:nvPicPr>
        <p:blipFill>
          <a:blip r:embed="rId11"/>
          <a:stretch/>
        </p:blipFill>
        <p:spPr>
          <a:xfrm>
            <a:off x="10204560" y="1968480"/>
            <a:ext cx="1079280" cy="469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5"/>
          </p:nvPr>
        </p:nvSpPr>
        <p:spPr>
          <a:xfrm>
            <a:off x="6705720" y="6476760"/>
            <a:ext cx="228600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DE52-E6C2-48E7-B6FB-1F94955133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4436640"/>
            <a:ext cx="7704000" cy="207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Урок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Барометр профе</a:t>
            </a:r>
            <a:r>
              <a:rPr b="1" i="1" lang="uk-UA" sz="6000" spc="-1" strike="noStrike">
                <a:solidFill>
                  <a:srgbClr val="ffffff"/>
                </a:solidFill>
                <a:latin typeface="Arial"/>
              </a:rPr>
              <a:t>сій</a:t>
            </a: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i="1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14" name="Picture 5" descr="C:\Users\User\Downloads\1.png"/>
          <p:cNvPicPr/>
          <p:nvPr/>
        </p:nvPicPr>
        <p:blipFill>
          <a:blip r:embed="rId1"/>
          <a:stretch/>
        </p:blipFill>
        <p:spPr>
          <a:xfrm>
            <a:off x="7947000" y="0"/>
            <a:ext cx="1197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6705720" y="6477120"/>
            <a:ext cx="2286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Прямоугольник 5"/>
          <p:cNvSpPr/>
          <p:nvPr/>
        </p:nvSpPr>
        <p:spPr>
          <a:xfrm>
            <a:off x="179280" y="765000"/>
            <a:ext cx="5832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80808"/>
                </a:solidFill>
                <a:latin typeface="Segoe Print"/>
              </a:rPr>
              <a:t>«... професії здаються нам найбільш піднесеними, якщо вони пустили в нашому серці глибоке коріння…</a:t>
            </a:r>
            <a:br>
              <a:rPr sz="2800"/>
            </a:br>
            <a:r>
              <a:rPr b="1" i="1" lang="uk-UA" sz="2800" spc="-1" strike="noStrike">
                <a:solidFill>
                  <a:srgbClr val="080808"/>
                </a:solidFill>
                <a:latin typeface="Segoe Print"/>
              </a:rPr>
              <a:t> Вони можуть ощасливити того, хто має до них покликання, але вони прирікають на загибель того, хто взявся за них поспішно, непродумано, піддавшись моменту»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17" name="Picture 5" descr="C:\Users\User\Downloads\1.png"/>
          <p:cNvPicPr/>
          <p:nvPr/>
        </p:nvPicPr>
        <p:blipFill>
          <a:blip r:embed="rId1"/>
          <a:stretch/>
        </p:blipFill>
        <p:spPr>
          <a:xfrm>
            <a:off x="7947000" y="0"/>
            <a:ext cx="1197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2"/>
          <p:cNvSpPr/>
          <p:nvPr/>
        </p:nvSpPr>
        <p:spPr>
          <a:xfrm flipV="1">
            <a:off x="2368440" y="2057400"/>
            <a:ext cx="381240" cy="3808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2292480" y="4724280"/>
            <a:ext cx="457200" cy="30492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2749680" y="205740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2749680" y="502920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2673360" y="281952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>
            <a:off x="2749680" y="358128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2673360" y="426708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25" name="Rectangle 9" descr=""/>
          <p:cNvPicPr/>
          <p:nvPr/>
        </p:nvPicPr>
        <p:blipFill>
          <a:blip r:embed="rId1"/>
          <a:stretch/>
        </p:blipFill>
        <p:spPr>
          <a:xfrm>
            <a:off x="396720" y="225360"/>
            <a:ext cx="8350560" cy="87804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20"/>
          <p:cNvSpPr/>
          <p:nvPr/>
        </p:nvSpPr>
        <p:spPr>
          <a:xfrm>
            <a:off x="3352680" y="18288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Глобалізаційні та інтеграційні процеси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AutoShape 22"/>
          <p:cNvSpPr/>
          <p:nvPr/>
        </p:nvSpPr>
        <p:spPr>
          <a:xfrm>
            <a:off x="3352680" y="2577960"/>
            <a:ext cx="51055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Зміна систем економічних відносин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8" name="AutoShape 24"/>
          <p:cNvSpPr/>
          <p:nvPr/>
        </p:nvSpPr>
        <p:spPr>
          <a:xfrm>
            <a:off x="3349800" y="3321000"/>
            <a:ext cx="5254560" cy="612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Зростання клієнтоорієнтованості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та ексклюзивності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надання послуг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Oval 26"/>
          <p:cNvSpPr/>
          <p:nvPr/>
        </p:nvSpPr>
        <p:spPr>
          <a:xfrm>
            <a:off x="3263760" y="194616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Oval 27"/>
          <p:cNvSpPr/>
          <p:nvPr/>
        </p:nvSpPr>
        <p:spPr>
          <a:xfrm>
            <a:off x="3276720" y="2711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Oval 28"/>
          <p:cNvSpPr/>
          <p:nvPr/>
        </p:nvSpPr>
        <p:spPr>
          <a:xfrm>
            <a:off x="3276720" y="3467160"/>
            <a:ext cx="228600" cy="228600"/>
          </a:xfrm>
          <a:prstGeom prst="ellipse">
            <a:avLst/>
          </a:prstGeom>
          <a:gradFill rotWithShape="0">
            <a:gsLst>
              <a:gs pos="0">
                <a:srgbClr val="8f038f"/>
              </a:gs>
              <a:gs pos="100000">
                <a:srgbClr val="5f025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AutoShape 29"/>
          <p:cNvSpPr/>
          <p:nvPr/>
        </p:nvSpPr>
        <p:spPr>
          <a:xfrm>
            <a:off x="3352680" y="4052880"/>
            <a:ext cx="539604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Програмування та автоматизація процесів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Oval 31"/>
          <p:cNvSpPr/>
          <p:nvPr/>
        </p:nvSpPr>
        <p:spPr>
          <a:xfrm>
            <a:off x="3263760" y="4191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AutoShape 32"/>
          <p:cNvSpPr/>
          <p:nvPr/>
        </p:nvSpPr>
        <p:spPr>
          <a:xfrm>
            <a:off x="3352680" y="48420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Штучний інтелек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Oval 34"/>
          <p:cNvSpPr/>
          <p:nvPr/>
        </p:nvSpPr>
        <p:spPr>
          <a:xfrm>
            <a:off x="3276720" y="4975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AutoShape 20"/>
          <p:cNvSpPr/>
          <p:nvPr/>
        </p:nvSpPr>
        <p:spPr>
          <a:xfrm>
            <a:off x="3348000" y="1125360"/>
            <a:ext cx="51847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Розвиток інформаційних технологій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Oval 26"/>
          <p:cNvSpPr/>
          <p:nvPr/>
        </p:nvSpPr>
        <p:spPr>
          <a:xfrm>
            <a:off x="3276720" y="126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38" name="Picture 11" descr="Результат пошуку зображень за запитом &quot;глобалізація&quot;"/>
          <p:cNvPicPr/>
          <p:nvPr/>
        </p:nvPicPr>
        <p:blipFill>
          <a:blip r:embed="rId2"/>
          <a:stretch/>
        </p:blipFill>
        <p:spPr>
          <a:xfrm>
            <a:off x="179280" y="2060640"/>
            <a:ext cx="284328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400536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"</a:t>
            </a: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Барометр професій" - це дуже зручний інструмент оцінки поточної ситуації на ринку праці і інформування усіх зацікавлених учасників ринку праці про недолік/надлишку робочих місць в розрізі професій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41" name="Picture 8" descr="Похожее изображение"/>
          <p:cNvPicPr/>
          <p:nvPr/>
        </p:nvPicPr>
        <p:blipFill>
          <a:blip r:embed="rId1"/>
          <a:stretch/>
        </p:blipFill>
        <p:spPr>
          <a:xfrm>
            <a:off x="755640" y="0"/>
            <a:ext cx="7763040" cy="2852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Похожее изображение"/>
          <p:cNvPicPr/>
          <p:nvPr/>
        </p:nvPicPr>
        <p:blipFill>
          <a:blip r:embed="rId2"/>
          <a:stretch/>
        </p:blipFill>
        <p:spPr>
          <a:xfrm>
            <a:off x="0" y="0"/>
            <a:ext cx="91440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2" descr="Картинки по запросу барометр професий"/>
          <p:cNvPicPr/>
          <p:nvPr/>
        </p:nvPicPr>
        <p:blipFill>
          <a:blip r:embed="rId1"/>
          <a:stretch/>
        </p:blipFill>
        <p:spPr>
          <a:xfrm>
            <a:off x="826920" y="4365720"/>
            <a:ext cx="2359080" cy="1655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Картинки по запросу специалист по профориентации рисунок"/>
          <p:cNvPicPr/>
          <p:nvPr/>
        </p:nvPicPr>
        <p:blipFill>
          <a:blip r:embed="rId2"/>
          <a:stretch/>
        </p:blipFill>
        <p:spPr>
          <a:xfrm>
            <a:off x="900000" y="1700280"/>
            <a:ext cx="2232000" cy="1508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Картинки по запросу образование рисунок"/>
          <p:cNvPicPr/>
          <p:nvPr/>
        </p:nvPicPr>
        <p:blipFill>
          <a:blip r:embed="rId3"/>
          <a:stretch/>
        </p:blipFill>
        <p:spPr>
          <a:xfrm>
            <a:off x="5940360" y="1916280"/>
            <a:ext cx="1800360" cy="1657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Похожее изображение"/>
          <p:cNvPicPr/>
          <p:nvPr/>
        </p:nvPicPr>
        <p:blipFill>
          <a:blip r:embed="rId4"/>
          <a:stretch/>
        </p:blipFill>
        <p:spPr>
          <a:xfrm>
            <a:off x="5940360" y="4724280"/>
            <a:ext cx="2016360" cy="1368720"/>
          </a:xfrm>
          <a:prstGeom prst="rect">
            <a:avLst/>
          </a:prstGeom>
          <a:ln w="0">
            <a:noFill/>
          </a:ln>
        </p:spPr>
      </p:pic>
      <p:sp>
        <p:nvSpPr>
          <p:cNvPr id="247" name="Скругленный прямоугольник 7"/>
          <p:cNvSpPr/>
          <p:nvPr/>
        </p:nvSpPr>
        <p:spPr>
          <a:xfrm>
            <a:off x="3635280" y="2997360"/>
            <a:ext cx="1944720" cy="1079280"/>
          </a:xfrm>
          <a:prstGeom prst="roundRect">
            <a:avLst>
              <a:gd name="adj" fmla="val 16667"/>
            </a:avLst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80808"/>
                </a:solidFill>
                <a:latin typeface="Arial"/>
              </a:rPr>
              <a:t>ОБРАНА ПРОФЕСІЯ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Скругленная прямоугольная выноска 9"/>
          <p:cNvSpPr/>
          <p:nvPr/>
        </p:nvSpPr>
        <p:spPr>
          <a:xfrm>
            <a:off x="684360" y="1052640"/>
            <a:ext cx="3166920" cy="3254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кі професії мені  підходять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Скругленная прямоугольная выноска 10"/>
          <p:cNvSpPr/>
          <p:nvPr/>
        </p:nvSpPr>
        <p:spPr>
          <a:xfrm>
            <a:off x="5796000" y="1052640"/>
            <a:ext cx="2305080" cy="360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Де отримати освіту?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0" name="Скругленная прямоугольная выноска 11"/>
          <p:cNvSpPr/>
          <p:nvPr/>
        </p:nvSpPr>
        <p:spPr>
          <a:xfrm>
            <a:off x="755640" y="3860640"/>
            <a:ext cx="2808360" cy="3254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Які професіі затребувані?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Скругленная прямоугольная выноска 12"/>
          <p:cNvSpPr/>
          <p:nvPr/>
        </p:nvSpPr>
        <p:spPr>
          <a:xfrm>
            <a:off x="5796000" y="3860640"/>
            <a:ext cx="2592360" cy="2890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Куди піти працювати?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2" name="Плюс 13"/>
          <p:cNvSpPr/>
          <p:nvPr/>
        </p:nvSpPr>
        <p:spPr>
          <a:xfrm>
            <a:off x="1692360" y="3357720"/>
            <a:ext cx="358560" cy="358560"/>
          </a:xfrm>
          <a:custGeom>
            <a:avLst/>
            <a:gdLst>
              <a:gd name="textAreaLeft" fmla="*/ 47520 w 358560"/>
              <a:gd name="textAreaRight" fmla="*/ 311040 w 358560"/>
              <a:gd name="textAreaTop" fmla="*/ 137160 h 358560"/>
              <a:gd name="textAreaBottom" fmla="*/ 221400 h 358560"/>
            </a:gdLst>
            <a:ahLst/>
            <a:rect l="textAreaLeft" t="textAreaTop" r="textAreaRight" b="textAreaBottom"/>
            <a:pathLst>
              <a:path w="358775" h="358775">
                <a:moveTo>
                  <a:pt x="47556" y="137196"/>
                </a:moveTo>
                <a:lnTo>
                  <a:pt x="137196" y="137196"/>
                </a:lnTo>
                <a:lnTo>
                  <a:pt x="137196" y="47556"/>
                </a:lnTo>
                <a:lnTo>
                  <a:pt x="221579" y="47556"/>
                </a:lnTo>
                <a:lnTo>
                  <a:pt x="221579" y="137196"/>
                </a:lnTo>
                <a:lnTo>
                  <a:pt x="311219" y="137196"/>
                </a:lnTo>
                <a:lnTo>
                  <a:pt x="311219" y="221579"/>
                </a:lnTo>
                <a:lnTo>
                  <a:pt x="221579" y="221579"/>
                </a:lnTo>
                <a:lnTo>
                  <a:pt x="221579" y="311219"/>
                </a:lnTo>
                <a:lnTo>
                  <a:pt x="137196" y="311219"/>
                </a:lnTo>
                <a:lnTo>
                  <a:pt x="137196" y="221579"/>
                </a:lnTo>
                <a:lnTo>
                  <a:pt x="47556" y="221579"/>
                </a:lnTo>
                <a:close/>
              </a:path>
            </a:pathLst>
          </a:custGeom>
          <a:solidFill>
            <a:srgbClr val="4ab1e4"/>
          </a:solidFill>
          <a:ln w="25560">
            <a:solidFill>
              <a:srgbClr val="348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Равно 14"/>
          <p:cNvSpPr/>
          <p:nvPr/>
        </p:nvSpPr>
        <p:spPr>
          <a:xfrm>
            <a:off x="2771640" y="3357720"/>
            <a:ext cx="482760" cy="358560"/>
          </a:xfrm>
          <a:custGeom>
            <a:avLst/>
            <a:gdLst>
              <a:gd name="textAreaLeft" fmla="*/ 63720 w 482760"/>
              <a:gd name="textAreaRight" fmla="*/ 419040 w 482760"/>
              <a:gd name="textAreaTop" fmla="*/ 73800 h 358560"/>
              <a:gd name="textAreaBottom" fmla="*/ 284760 h 358560"/>
            </a:gdLst>
            <a:ahLst/>
            <a:rect l="textAreaLeft" t="textAreaTop" r="textAreaRight" b="textAreaBottom"/>
            <a:pathLst>
              <a:path w="482600" h="358775">
                <a:moveTo>
                  <a:pt x="63969" y="73908"/>
                </a:moveTo>
                <a:lnTo>
                  <a:pt x="418631" y="73908"/>
                </a:lnTo>
                <a:lnTo>
                  <a:pt x="418631" y="158292"/>
                </a:lnTo>
                <a:lnTo>
                  <a:pt x="63969" y="158292"/>
                </a:lnTo>
                <a:close/>
                <a:moveTo>
                  <a:pt x="63969" y="200483"/>
                </a:moveTo>
                <a:lnTo>
                  <a:pt x="418631" y="200483"/>
                </a:lnTo>
                <a:lnTo>
                  <a:pt x="418631" y="284867"/>
                </a:lnTo>
                <a:lnTo>
                  <a:pt x="63969" y="284867"/>
                </a:lnTo>
                <a:close/>
              </a:path>
            </a:pathLst>
          </a:custGeom>
          <a:solidFill>
            <a:srgbClr val="4ab1e4"/>
          </a:solidFill>
          <a:ln w="25560">
            <a:solidFill>
              <a:srgbClr val="348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Блок-схема: процесс 15"/>
          <p:cNvSpPr/>
          <p:nvPr/>
        </p:nvSpPr>
        <p:spPr>
          <a:xfrm>
            <a:off x="971640" y="1484280"/>
            <a:ext cx="2158920" cy="2160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80808"/>
                </a:solidFill>
                <a:latin typeface="Arial"/>
              </a:rPr>
              <a:t>ПРОФОРІЄНТАЦІЯ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5" name="Блок-схема: процесс 16"/>
          <p:cNvSpPr/>
          <p:nvPr/>
        </p:nvSpPr>
        <p:spPr>
          <a:xfrm>
            <a:off x="6156360" y="1557360"/>
            <a:ext cx="1562040" cy="2160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80808"/>
                </a:solidFill>
                <a:latin typeface="Arial"/>
              </a:rPr>
              <a:t>ОСВІТА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6" name="Блок-схема: процесс 18"/>
          <p:cNvSpPr/>
          <p:nvPr/>
        </p:nvSpPr>
        <p:spPr>
          <a:xfrm>
            <a:off x="5796000" y="4508640"/>
            <a:ext cx="2303280" cy="2156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80808"/>
                </a:solidFill>
                <a:latin typeface="Arial"/>
              </a:rPr>
              <a:t>РОБОТОДАВЦІ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Стрелка вправо с вырезом 19"/>
          <p:cNvSpPr/>
          <p:nvPr/>
        </p:nvSpPr>
        <p:spPr>
          <a:xfrm rot="19789800">
            <a:off x="5218200" y="2603160"/>
            <a:ext cx="855720" cy="223920"/>
          </a:xfrm>
          <a:custGeom>
            <a:avLst/>
            <a:gdLst>
              <a:gd name="textAreaLeft" fmla="*/ 55800 w 855720"/>
              <a:gd name="textAreaRight" fmla="*/ 799920 w 855720"/>
              <a:gd name="textAreaTop" fmla="*/ 55800 h 223920"/>
              <a:gd name="textAreaBottom" fmla="*/ 168120 h 223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775" y="5400"/>
                </a:lnTo>
                <a:lnTo>
                  <a:pt x="18775" y="0"/>
                </a:lnTo>
                <a:lnTo>
                  <a:pt x="21600" y="10800"/>
                </a:lnTo>
                <a:lnTo>
                  <a:pt x="18775" y="21600"/>
                </a:lnTo>
                <a:lnTo>
                  <a:pt x="18775" y="16200"/>
                </a:lnTo>
                <a:lnTo>
                  <a:pt x="0" y="16200"/>
                </a:lnTo>
                <a:lnTo>
                  <a:pt x="141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Стрелка вправо с вырезом 17"/>
          <p:cNvSpPr/>
          <p:nvPr/>
        </p:nvSpPr>
        <p:spPr>
          <a:xfrm rot="2133600">
            <a:off x="5203800" y="4308120"/>
            <a:ext cx="866880" cy="222120"/>
          </a:xfrm>
          <a:custGeom>
            <a:avLst/>
            <a:gdLst>
              <a:gd name="textAreaLeft" fmla="*/ 55440 w 866880"/>
              <a:gd name="textAreaRight" fmla="*/ 811440 w 866880"/>
              <a:gd name="textAreaTop" fmla="*/ 55440 h 222120"/>
              <a:gd name="textAreaBottom" fmla="*/ 166680 h 22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831" y="5400"/>
                </a:lnTo>
                <a:lnTo>
                  <a:pt x="18831" y="0"/>
                </a:lnTo>
                <a:lnTo>
                  <a:pt x="21600" y="10800"/>
                </a:lnTo>
                <a:lnTo>
                  <a:pt x="18831" y="21600"/>
                </a:lnTo>
                <a:lnTo>
                  <a:pt x="18831" y="16200"/>
                </a:lnTo>
                <a:lnTo>
                  <a:pt x="0" y="16200"/>
                </a:lnTo>
                <a:lnTo>
                  <a:pt x="138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6840" y="1294920"/>
            <a:ext cx="2746440" cy="45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6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"Барометр професій" - це дуже зручний інструмент оцінки поточної ситуації на ринку праці і інформування усіх зацікавлених учасників ринку праці про недолік/надлишку робочих місць в розрізі професій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0" name="Picture 2" descr="C:\Users\User\Desktop\Профориентация\Барометр январь.jpg"/>
          <p:cNvPicPr/>
          <p:nvPr/>
        </p:nvPicPr>
        <p:blipFill>
          <a:blip r:embed="rId1"/>
          <a:stretch/>
        </p:blipFill>
        <p:spPr>
          <a:xfrm>
            <a:off x="395280" y="1268280"/>
            <a:ext cx="8475840" cy="5313600"/>
          </a:xfrm>
          <a:prstGeom prst="rect">
            <a:avLst/>
          </a:prstGeom>
          <a:ln w="0">
            <a:noFill/>
          </a:ln>
        </p:spPr>
      </p:pic>
      <p:pic>
        <p:nvPicPr>
          <p:cNvPr id="261" name="Rectangle 9" descr=""/>
          <p:cNvPicPr/>
          <p:nvPr/>
        </p:nvPicPr>
        <p:blipFill>
          <a:blip r:embed="rId2"/>
          <a:stretch/>
        </p:blipFill>
        <p:spPr>
          <a:xfrm>
            <a:off x="463680" y="231840"/>
            <a:ext cx="8242200" cy="13716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4"/>
          <p:cNvSpPr/>
          <p:nvPr/>
        </p:nvSpPr>
        <p:spPr>
          <a:xfrm>
            <a:off x="1116000" y="5732640"/>
            <a:ext cx="576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Артист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9640" y="26028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ТОП 10  спеціальностей, які користуються попитом в Україні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5" name="Диаграмма 8" descr=""/>
          <p:cNvPicPr/>
          <p:nvPr/>
        </p:nvPicPr>
        <p:blipFill>
          <a:blip r:embed="rId1"/>
          <a:stretch/>
        </p:blipFill>
        <p:spPr>
          <a:xfrm>
            <a:off x="633240" y="1217520"/>
            <a:ext cx="7805880" cy="53578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ая соединительная линия 10"/>
          <p:cNvSpPr/>
          <p:nvPr/>
        </p:nvSpPr>
        <p:spPr>
          <a:xfrm>
            <a:off x="3708360" y="3860640"/>
            <a:ext cx="576360" cy="0"/>
          </a:xfrm>
          <a:prstGeom prst="line">
            <a:avLst/>
          </a:prstGeom>
          <a:ln w="9360">
            <a:solidFill>
              <a:srgbClr val="44a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Прямая соединительная линия 12"/>
          <p:cNvSpPr/>
          <p:nvPr/>
        </p:nvSpPr>
        <p:spPr>
          <a:xfrm>
            <a:off x="4284720" y="3860640"/>
            <a:ext cx="792000" cy="863640"/>
          </a:xfrm>
          <a:prstGeom prst="line">
            <a:avLst/>
          </a:prstGeom>
          <a:ln w="9360">
            <a:solidFill>
              <a:srgbClr val="44a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Прямая соединительная линия 16"/>
          <p:cNvSpPr/>
          <p:nvPr/>
        </p:nvSpPr>
        <p:spPr>
          <a:xfrm>
            <a:off x="5076720" y="4724280"/>
            <a:ext cx="1582920" cy="0"/>
          </a:xfrm>
          <a:prstGeom prst="line">
            <a:avLst/>
          </a:prstGeom>
          <a:ln w="9360">
            <a:solidFill>
              <a:srgbClr val="44a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4627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Arial"/>
              </a:rPr>
              <a:t>Найзатребуваніші професії в світі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70" name="Picture 2" descr="Изображение к материалу IT-специалист"/>
          <p:cNvPicPr/>
          <p:nvPr/>
        </p:nvPicPr>
        <p:blipFill>
          <a:blip r:embed="rId1"/>
          <a:stretch/>
        </p:blipFill>
        <p:spPr>
          <a:xfrm>
            <a:off x="5724360" y="260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Изображение к материалу Специалисты по инжинирингу"/>
          <p:cNvPicPr/>
          <p:nvPr/>
        </p:nvPicPr>
        <p:blipFill>
          <a:blip r:embed="rId2"/>
          <a:stretch/>
        </p:blipFill>
        <p:spPr>
          <a:xfrm>
            <a:off x="7451640" y="260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Изображение к материалу Врачи"/>
          <p:cNvPicPr/>
          <p:nvPr/>
        </p:nvPicPr>
        <p:blipFill>
          <a:blip r:embed="rId3"/>
          <a:stretch/>
        </p:blipFill>
        <p:spPr>
          <a:xfrm>
            <a:off x="3995640" y="9079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Изображение к материалу Специалисты в сфере туризма"/>
          <p:cNvPicPr/>
          <p:nvPr/>
        </p:nvPicPr>
        <p:blipFill>
          <a:blip r:embed="rId4"/>
          <a:stretch/>
        </p:blipFill>
        <p:spPr>
          <a:xfrm>
            <a:off x="2268360" y="1268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Изображение к материалу Логист"/>
          <p:cNvPicPr/>
          <p:nvPr/>
        </p:nvPicPr>
        <p:blipFill>
          <a:blip r:embed="rId5"/>
          <a:stretch/>
        </p:blipFill>
        <p:spPr>
          <a:xfrm>
            <a:off x="250920" y="1700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6" descr="Изображение к материалу Экологи"/>
          <p:cNvPicPr/>
          <p:nvPr/>
        </p:nvPicPr>
        <p:blipFill>
          <a:blip r:embed="rId6"/>
          <a:stretch/>
        </p:blipFill>
        <p:spPr>
          <a:xfrm>
            <a:off x="179280" y="400536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8" descr="Изображение к материалу Химики и энергетики"/>
          <p:cNvPicPr/>
          <p:nvPr/>
        </p:nvPicPr>
        <p:blipFill>
          <a:blip r:embed="rId7"/>
          <a:stretch/>
        </p:blipFill>
        <p:spPr>
          <a:xfrm>
            <a:off x="1763640" y="450864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0" descr="Изображение к материалу Нанотехнологи"/>
          <p:cNvPicPr/>
          <p:nvPr/>
        </p:nvPicPr>
        <p:blipFill>
          <a:blip r:embed="rId8"/>
          <a:stretch/>
        </p:blipFill>
        <p:spPr>
          <a:xfrm>
            <a:off x="3348000" y="4724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2" descr="Изображение к материалу Сервис - специалисты"/>
          <p:cNvPicPr/>
          <p:nvPr/>
        </p:nvPicPr>
        <p:blipFill>
          <a:blip r:embed="rId9"/>
          <a:stretch/>
        </p:blipFill>
        <p:spPr>
          <a:xfrm>
            <a:off x="5076720" y="486900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4" descr="Изображение к материалу Журналист, имиджмейкер"/>
          <p:cNvPicPr/>
          <p:nvPr/>
        </p:nvPicPr>
        <p:blipFill>
          <a:blip r:embed="rId10"/>
          <a:stretch/>
        </p:blipFill>
        <p:spPr>
          <a:xfrm>
            <a:off x="6948360" y="4941720"/>
            <a:ext cx="1584360" cy="15829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27"/>
          <p:cNvSpPr/>
          <p:nvPr/>
        </p:nvSpPr>
        <p:spPr>
          <a:xfrm>
            <a:off x="2268360" y="2708280"/>
            <a:ext cx="1440000" cy="64260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Менеджер з туризму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TextBox 28"/>
          <p:cNvSpPr/>
          <p:nvPr/>
        </p:nvSpPr>
        <p:spPr>
          <a:xfrm>
            <a:off x="7451640" y="1628640"/>
            <a:ext cx="1441440" cy="64260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Фахівець з інжинірінгу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TextBox 30"/>
          <p:cNvSpPr/>
          <p:nvPr/>
        </p:nvSpPr>
        <p:spPr>
          <a:xfrm>
            <a:off x="5724360" y="1700280"/>
            <a:ext cx="1440000" cy="36828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ІТ-фахівець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TextBox 31"/>
          <p:cNvSpPr/>
          <p:nvPr/>
        </p:nvSpPr>
        <p:spPr>
          <a:xfrm>
            <a:off x="3995640" y="2349360"/>
            <a:ext cx="1440000" cy="36828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Лікар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4" name="TextBox 32"/>
          <p:cNvSpPr/>
          <p:nvPr/>
        </p:nvSpPr>
        <p:spPr>
          <a:xfrm flipV="1" rot="10800000">
            <a:off x="250920" y="3140640"/>
            <a:ext cx="1441440" cy="36828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54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Логис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TextBox 35"/>
          <p:cNvSpPr/>
          <p:nvPr/>
        </p:nvSpPr>
        <p:spPr>
          <a:xfrm>
            <a:off x="179280" y="5445000"/>
            <a:ext cx="1440000" cy="36828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Еколог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6" name="TextBox 36"/>
          <p:cNvSpPr/>
          <p:nvPr/>
        </p:nvSpPr>
        <p:spPr>
          <a:xfrm>
            <a:off x="1763640" y="5877000"/>
            <a:ext cx="1440000" cy="64260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Хімік і енергетик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7" name="TextBox 37"/>
          <p:cNvSpPr/>
          <p:nvPr/>
        </p:nvSpPr>
        <p:spPr>
          <a:xfrm>
            <a:off x="3276720" y="6165720"/>
            <a:ext cx="1582560" cy="61236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80808"/>
                </a:solidFill>
                <a:latin typeface="Arial"/>
              </a:rPr>
              <a:t>Нанотехнолог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TextBox 38"/>
          <p:cNvSpPr/>
          <p:nvPr/>
        </p:nvSpPr>
        <p:spPr>
          <a:xfrm>
            <a:off x="5076720" y="6211800"/>
            <a:ext cx="1440000" cy="64260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Сервіс -спеціаліс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TextBox 39"/>
          <p:cNvSpPr/>
          <p:nvPr/>
        </p:nvSpPr>
        <p:spPr>
          <a:xfrm>
            <a:off x="6948360" y="6488280"/>
            <a:ext cx="1584360" cy="368280"/>
          </a:xfrm>
          <a:prstGeom prst="rect">
            <a:avLst/>
          </a:prstGeom>
          <a:gradFill rotWithShape="0">
            <a:gsLst>
              <a:gs pos="0">
                <a:srgbClr val="deaade"/>
              </a:gs>
              <a:gs pos="100000">
                <a:srgbClr val="f6e8f6"/>
              </a:gs>
            </a:gsLst>
            <a:lin ang="16200000"/>
          </a:gradFill>
          <a:ln w="9360">
            <a:solidFill>
              <a:srgbClr val="81008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Іміджмейкер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43624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165320"/>
                <a:tab algn="l" pos="179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r>
              <a:rPr b="1" i="1" lang="uk-UA" sz="3600" spc="-1" strike="noStrike">
                <a:solidFill>
                  <a:srgbClr val="0070c0"/>
                </a:solidFill>
                <a:latin typeface="Segoe Print"/>
              </a:rPr>
              <a:t>«Розберіться в собі і зрозумійте, що ж ви любите. Робота займе велику частину вашого життя, і єдиний шлях до самоповаги - робити те, що ви вважаєте вартим великих зусиль. А єдиний спосіб виконати таку роботу-це любити те, чим ви зайняті»</a:t>
            </a:r>
            <a:br>
              <a:rPr sz="3600"/>
            </a:br>
            <a:r>
              <a:rPr b="1" i="1" lang="uk-UA" sz="4200" spc="-1" strike="noStrike">
                <a:solidFill>
                  <a:srgbClr val="0070c0"/>
                </a:solidFill>
                <a:latin typeface="Segoe Print"/>
              </a:rPr>
              <a:t>                                       </a:t>
            </a:r>
            <a:br>
              <a:rPr sz="4200"/>
            </a:b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1" name="Прямоугольник 2"/>
          <p:cNvSpPr/>
          <p:nvPr/>
        </p:nvSpPr>
        <p:spPr>
          <a:xfrm>
            <a:off x="4859280" y="5373720"/>
            <a:ext cx="31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70c0"/>
                </a:solidFill>
                <a:latin typeface="Segoe Print"/>
              </a:rPr>
              <a:t>Стів Джобс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6T09:57:37Z</dcterms:created>
  <dc:creator>User</dc:creator>
  <dc:description/>
  <dc:language>en-US</dc:language>
  <cp:lastModifiedBy>User</cp:lastModifiedBy>
  <dcterms:modified xsi:type="dcterms:W3CDTF">2018-03-06T08:07:02Z</dcterms:modified>
  <cp:revision>49</cp:revision>
  <dc:subject/>
  <dc:title>Барометр професій</dc:title>
</cp:coreProperties>
</file>