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59F-7A61-45F1-92D5-9C6FFF03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F4A-CFA2-4B04-BCD4-CA4DF093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AEB-3240-4215-B8D2-CA3BDAAF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85F-FFD5-4692-A341-9CAB9DD8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14EB-54E9-4962-B01D-A76890AD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2905-75A7-4F45-A021-A820C690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1AD4-2F78-4687-B1DB-53E3FC14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9896-DC63-4ED5-A17D-5411A0F8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6596-E854-4ED1-9B38-46B40857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50FE-2C10-492E-8B55-F8439A3E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29C8-4D2D-45A4-80D0-3B579D80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4EA-8CDD-434F-899A-BB6B9C6E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68B8-55B6-4097-80CD-6F8D0883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F603-F0E8-4B97-84F1-C2202968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0CCC-64D0-4D46-9440-C125832B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BB06-EE77-4FB7-88FA-C8174C1A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113E-1AF4-41B3-97C8-79277218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DAF-F640-4980-9A7B-194CF336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395-1E53-4BEA-8C66-C1E365E6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6F0-97CC-453D-8601-48FCB01C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65E8-B2A4-4891-9148-E939FCE4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B44-0466-40E8-ACCE-C9410BC8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4A6-D0F0-433B-87F2-F863DC0F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22E-BABB-4F4B-9B88-A388C205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1D0D-E772-49CD-A7CB-92E4942D88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3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54" name="Freeform 16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>
                <a:gd name="textAreaLeft" fmla="*/ 0 w 2011680"/>
                <a:gd name="textAreaRight" fmla="*/ 2012040 w 2011680"/>
                <a:gd name="textAreaTop" fmla="*/ 0 h 3076560"/>
                <a:gd name="textAreaBottom" fmla="*/ 3076920 h 3076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>
                <a:gd name="textAreaLeft" fmla="*/ 0 w 752760"/>
                <a:gd name="textAreaRight" fmla="*/ 753120 w 75276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Freeform 61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Freeform 62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Freeform 65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Freeform 66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Freeform 67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Freeform 68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Freeform 69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Freeform 70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Freeform 71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Freeform 75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Freeform 76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Freeform 77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Freeform 78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Freeform 79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Freeform 80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Freeform 81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Freeform 82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" name="Freeform 83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2" name="Freeform 84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Freeform 85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Freeform 86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Freeform 87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Freeform 88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7" name="Freeform 89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Freeform 90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" name="Freeform 91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" name="Freeform 92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" name="Freeform 93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" name="Freeform 94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" name="Freeform 95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" name="Freeform 96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" name="Freeform 97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" name="Freeform 98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" name="Freeform 99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" name="Freeform 100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" name="Freeform 101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" name="Freeform 102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" name="Freeform 103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" name="Freeform 104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" name="Freeform 105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4" name="Freeform 106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5" name="Freeform 107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" name="Freeform 108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7" name="Freeform 109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8" name="Freeform 110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9" name="Freeform 111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" name="Freeform 112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" name="Freeform 113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" name="Freeform 114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Freeform 115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Freeform 116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Freeform 117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" name="Freeform 118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" name="Freeform 119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" name="Freeform 120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" name="Freeform 121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" name="Freeform 122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1" name="Freeform 123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>
                <a:gd name="textAreaLeft" fmla="*/ 0 w 3270240"/>
                <a:gd name="textAreaRight" fmla="*/ 3270600 w 3270240"/>
                <a:gd name="textAreaTop" fmla="*/ 0 h 2609640"/>
                <a:gd name="textAreaBottom" fmla="*/ 2610000 h 260964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pic>
        <p:nvPicPr>
          <p:cNvPr id="162" name="Picture 7" descr="artplus_nature_naturalcity42_a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artplus_nature_naturalcity42_i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artplus_nature_naturalcity42_c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artplus_nature_naturalcity42_f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6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67" name="Picture 9" descr="artplus_nature_naturalcity42_b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rtplus_nature_naturalcity42_e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artplus_nature_naturalcity42_d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8" descr="a1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9" descr="b_1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5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15F7-F1F6-4BFB-B696-9B487B5AD6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4436640"/>
            <a:ext cx="7704000" cy="207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рок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Барометр профе</a:t>
            </a:r>
            <a:r>
              <a:rPr b="1" i="1" lang="uk-UA" sz="6000" spc="-1" strike="noStrike">
                <a:solidFill>
                  <a:srgbClr val="ffffff"/>
                </a:solidFill>
                <a:latin typeface="Arial"/>
              </a:rPr>
              <a:t>сій</a:t>
            </a: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i="1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4" name="Picture 5" descr="C:\Users\User\Downloads\1.png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705720" y="6477120"/>
            <a:ext cx="2286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179280" y="765000"/>
            <a:ext cx="583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80808"/>
                </a:solidFill>
                <a:latin typeface="Segoe Print"/>
              </a:rPr>
              <a:t>«... професії здаються нам найбільш піднесеними, якщо вони пустили в нашому серці глибоке коріння…</a:t>
            </a:r>
            <a:br>
              <a:rPr sz="2800"/>
            </a:br>
            <a:r>
              <a:rPr b="1" i="1" lang="uk-UA" sz="2800" spc="-1" strike="noStrike">
                <a:solidFill>
                  <a:srgbClr val="080808"/>
                </a:solidFill>
                <a:latin typeface="Segoe Print"/>
              </a:rPr>
              <a:t> Вони можуть ощасливити того, хто має до них покликання, але вони прирікають на загибель того, хто взявся за них поспішно, непродумано, піддавшись моменту»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17" name="Picture 5" descr="C:\Users\User\Downloads\1.png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 flipV="1">
            <a:off x="2368440" y="2057400"/>
            <a:ext cx="381240" cy="3808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2292480" y="4724280"/>
            <a:ext cx="457200" cy="30492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2749680" y="20574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2749680" y="50292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2673360" y="281952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2749680" y="358128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2673360" y="426708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25" name="Rectangle 9" descr=""/>
          <p:cNvPicPr/>
          <p:nvPr/>
        </p:nvPicPr>
        <p:blipFill>
          <a:blip r:embed="rId1"/>
          <a:stretch/>
        </p:blipFill>
        <p:spPr>
          <a:xfrm>
            <a:off x="396720" y="225360"/>
            <a:ext cx="8350560" cy="8780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20"/>
          <p:cNvSpPr/>
          <p:nvPr/>
        </p:nvSpPr>
        <p:spPr>
          <a:xfrm>
            <a:off x="3352680" y="18288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Глобалізаційні та інтеграційні процеси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AutoShape 22"/>
          <p:cNvSpPr/>
          <p:nvPr/>
        </p:nvSpPr>
        <p:spPr>
          <a:xfrm>
            <a:off x="3352680" y="257796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Зміна систем економічних відносин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AutoShape 24"/>
          <p:cNvSpPr/>
          <p:nvPr/>
        </p:nvSpPr>
        <p:spPr>
          <a:xfrm>
            <a:off x="3349800" y="3321000"/>
            <a:ext cx="5254560" cy="612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Зростання клієнтоорієнтованості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та ексклюзивності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надання послуг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Oval 26"/>
          <p:cNvSpPr/>
          <p:nvPr/>
        </p:nvSpPr>
        <p:spPr>
          <a:xfrm>
            <a:off x="3263760" y="1946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Oval 27"/>
          <p:cNvSpPr/>
          <p:nvPr/>
        </p:nvSpPr>
        <p:spPr>
          <a:xfrm>
            <a:off x="3276720" y="2711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Oval 28"/>
          <p:cNvSpPr/>
          <p:nvPr/>
        </p:nvSpPr>
        <p:spPr>
          <a:xfrm>
            <a:off x="3276720" y="3467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5f025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AutoShape 29"/>
          <p:cNvSpPr/>
          <p:nvPr/>
        </p:nvSpPr>
        <p:spPr>
          <a:xfrm>
            <a:off x="3352680" y="4052880"/>
            <a:ext cx="539604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рограмування та автоматизація процесів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Oval 31"/>
          <p:cNvSpPr/>
          <p:nvPr/>
        </p:nvSpPr>
        <p:spPr>
          <a:xfrm>
            <a:off x="326376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AutoShape 32"/>
          <p:cNvSpPr/>
          <p:nvPr/>
        </p:nvSpPr>
        <p:spPr>
          <a:xfrm>
            <a:off x="3352680" y="48420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Штучний інтелек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Oval 34"/>
          <p:cNvSpPr/>
          <p:nvPr/>
        </p:nvSpPr>
        <p:spPr>
          <a:xfrm>
            <a:off x="3276720" y="4975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3348000" y="1125360"/>
            <a:ext cx="51847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Розвиток інформаційних технологій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Oval 26"/>
          <p:cNvSpPr/>
          <p:nvPr/>
        </p:nvSpPr>
        <p:spPr>
          <a:xfrm>
            <a:off x="3276720" y="1268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38" name="Picture 11" descr="Результат пошуку зображень за запитом &quot;глобалізація&quot;"/>
          <p:cNvPicPr/>
          <p:nvPr/>
        </p:nvPicPr>
        <p:blipFill>
          <a:blip r:embed="rId2"/>
          <a:stretch/>
        </p:blipFill>
        <p:spPr>
          <a:xfrm>
            <a:off x="179280" y="2060640"/>
            <a:ext cx="28432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400536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"</a:t>
            </a: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Барометр професій" - це дуже зручний інструмент оцінки поточної ситуації на ринку праці і інформування усіх зацікавлених учасників ринку праці про недолік/надлишку робочих місць в розрізі професій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41" name="Picture 8" descr="Похожее изображение"/>
          <p:cNvPicPr/>
          <p:nvPr/>
        </p:nvPicPr>
        <p:blipFill>
          <a:blip r:embed="rId1"/>
          <a:stretch/>
        </p:blipFill>
        <p:spPr>
          <a:xfrm>
            <a:off x="755640" y="0"/>
            <a:ext cx="7763040" cy="2852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Похожее изоб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2" descr="Картинки по запросу барометр професий"/>
          <p:cNvPicPr/>
          <p:nvPr/>
        </p:nvPicPr>
        <p:blipFill>
          <a:blip r:embed="rId1"/>
          <a:stretch/>
        </p:blipFill>
        <p:spPr>
          <a:xfrm>
            <a:off x="826920" y="4365720"/>
            <a:ext cx="2359080" cy="1655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Картинки по запросу специалист по профориентации рисунок"/>
          <p:cNvPicPr/>
          <p:nvPr/>
        </p:nvPicPr>
        <p:blipFill>
          <a:blip r:embed="rId2"/>
          <a:stretch/>
        </p:blipFill>
        <p:spPr>
          <a:xfrm>
            <a:off x="900000" y="1700280"/>
            <a:ext cx="2232000" cy="1508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Картинки по запросу образование рисунок"/>
          <p:cNvPicPr/>
          <p:nvPr/>
        </p:nvPicPr>
        <p:blipFill>
          <a:blip r:embed="rId3"/>
          <a:stretch/>
        </p:blipFill>
        <p:spPr>
          <a:xfrm>
            <a:off x="5940360" y="1916280"/>
            <a:ext cx="1800360" cy="1657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Похожее изображение"/>
          <p:cNvPicPr/>
          <p:nvPr/>
        </p:nvPicPr>
        <p:blipFill>
          <a:blip r:embed="rId4"/>
          <a:stretch/>
        </p:blipFill>
        <p:spPr>
          <a:xfrm>
            <a:off x="5940360" y="4724280"/>
            <a:ext cx="2016360" cy="1368720"/>
          </a:xfrm>
          <a:prstGeom prst="rect">
            <a:avLst/>
          </a:prstGeom>
          <a:ln w="0">
            <a:noFill/>
          </a:ln>
        </p:spPr>
      </p:pic>
      <p:sp>
        <p:nvSpPr>
          <p:cNvPr id="247" name="Скругленный прямоугольник 7"/>
          <p:cNvSpPr/>
          <p:nvPr/>
        </p:nvSpPr>
        <p:spPr>
          <a:xfrm>
            <a:off x="3635280" y="2997360"/>
            <a:ext cx="1944720" cy="1079280"/>
          </a:xfrm>
          <a:prstGeom prst="roundRect">
            <a:avLst>
              <a:gd name="adj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80808"/>
                </a:solidFill>
                <a:latin typeface="Arial"/>
              </a:rPr>
              <a:t>ОБРАНА ПРОФЕСІЯ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Скругленная прямоугольная выноска 9"/>
          <p:cNvSpPr/>
          <p:nvPr/>
        </p:nvSpPr>
        <p:spPr>
          <a:xfrm>
            <a:off x="684360" y="1052640"/>
            <a:ext cx="3166920" cy="3254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кі професії мені  підходять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Скругленная прямоугольная выноска 10"/>
          <p:cNvSpPr/>
          <p:nvPr/>
        </p:nvSpPr>
        <p:spPr>
          <a:xfrm>
            <a:off x="5796000" y="1052640"/>
            <a:ext cx="2305080" cy="360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Де отримати освіту?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Скругленная прямоугольная выноска 11"/>
          <p:cNvSpPr/>
          <p:nvPr/>
        </p:nvSpPr>
        <p:spPr>
          <a:xfrm>
            <a:off x="755640" y="3860640"/>
            <a:ext cx="2808360" cy="3254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Які професіі затребувані?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Скругленная прямоугольная выноска 12"/>
          <p:cNvSpPr/>
          <p:nvPr/>
        </p:nvSpPr>
        <p:spPr>
          <a:xfrm>
            <a:off x="5796000" y="3860640"/>
            <a:ext cx="2592360" cy="2890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Куди піти працювати?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Плюс 13"/>
          <p:cNvSpPr/>
          <p:nvPr/>
        </p:nvSpPr>
        <p:spPr>
          <a:xfrm>
            <a:off x="1692360" y="3357720"/>
            <a:ext cx="358560" cy="358560"/>
          </a:xfrm>
          <a:custGeom>
            <a:avLst/>
            <a:gdLst>
              <a:gd name="textAreaLeft" fmla="*/ 47520 w 358560"/>
              <a:gd name="textAreaRight" fmla="*/ 311040 w 358560"/>
              <a:gd name="textAreaTop" fmla="*/ 137160 h 358560"/>
              <a:gd name="textAreaBottom" fmla="*/ 221400 h 358560"/>
            </a:gdLst>
            <a:ahLst/>
            <a:rect l="textAreaLeft" t="textAreaTop" r="textAreaRight" b="textAreaBottom"/>
            <a:pathLst>
              <a:path w="358775" h="358775">
                <a:moveTo>
                  <a:pt x="47556" y="137196"/>
                </a:moveTo>
                <a:lnTo>
                  <a:pt x="137196" y="137196"/>
                </a:lnTo>
                <a:lnTo>
                  <a:pt x="137196" y="47556"/>
                </a:lnTo>
                <a:lnTo>
                  <a:pt x="221579" y="47556"/>
                </a:lnTo>
                <a:lnTo>
                  <a:pt x="221579" y="137196"/>
                </a:lnTo>
                <a:lnTo>
                  <a:pt x="311219" y="137196"/>
                </a:lnTo>
                <a:lnTo>
                  <a:pt x="311219" y="221579"/>
                </a:lnTo>
                <a:lnTo>
                  <a:pt x="221579" y="221579"/>
                </a:lnTo>
                <a:lnTo>
                  <a:pt x="221579" y="311219"/>
                </a:lnTo>
                <a:lnTo>
                  <a:pt x="137196" y="311219"/>
                </a:lnTo>
                <a:lnTo>
                  <a:pt x="137196" y="221579"/>
                </a:lnTo>
                <a:lnTo>
                  <a:pt x="47556" y="221579"/>
                </a:lnTo>
                <a:close/>
              </a:path>
            </a:pathLst>
          </a:custGeom>
          <a:solidFill>
            <a:srgbClr val="4ab1e4"/>
          </a:solidFill>
          <a:ln w="25560">
            <a:solidFill>
              <a:srgbClr val="348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Равно 14"/>
          <p:cNvSpPr/>
          <p:nvPr/>
        </p:nvSpPr>
        <p:spPr>
          <a:xfrm>
            <a:off x="2771640" y="3357720"/>
            <a:ext cx="482760" cy="358560"/>
          </a:xfrm>
          <a:custGeom>
            <a:avLst/>
            <a:gdLst>
              <a:gd name="textAreaLeft" fmla="*/ 63720 w 482760"/>
              <a:gd name="textAreaRight" fmla="*/ 419040 w 482760"/>
              <a:gd name="textAreaTop" fmla="*/ 73800 h 358560"/>
              <a:gd name="textAreaBottom" fmla="*/ 284760 h 358560"/>
            </a:gdLst>
            <a:ahLst/>
            <a:rect l="textAreaLeft" t="textAreaTop" r="textAreaRight" b="textAreaBottom"/>
            <a:pathLst>
              <a:path w="482600" h="358775">
                <a:moveTo>
                  <a:pt x="63969" y="73908"/>
                </a:moveTo>
                <a:lnTo>
                  <a:pt x="418631" y="73908"/>
                </a:lnTo>
                <a:lnTo>
                  <a:pt x="418631" y="158292"/>
                </a:lnTo>
                <a:lnTo>
                  <a:pt x="63969" y="158292"/>
                </a:lnTo>
                <a:close/>
                <a:moveTo>
                  <a:pt x="63969" y="200483"/>
                </a:moveTo>
                <a:lnTo>
                  <a:pt x="418631" y="200483"/>
                </a:lnTo>
                <a:lnTo>
                  <a:pt x="418631" y="284867"/>
                </a:lnTo>
                <a:lnTo>
                  <a:pt x="63969" y="284867"/>
                </a:lnTo>
                <a:close/>
              </a:path>
            </a:pathLst>
          </a:custGeom>
          <a:solidFill>
            <a:srgbClr val="4ab1e4"/>
          </a:solidFill>
          <a:ln w="25560">
            <a:solidFill>
              <a:srgbClr val="348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Блок-схема: процесс 15"/>
          <p:cNvSpPr/>
          <p:nvPr/>
        </p:nvSpPr>
        <p:spPr>
          <a:xfrm>
            <a:off x="971640" y="1484280"/>
            <a:ext cx="2158920" cy="2160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0808"/>
                </a:solidFill>
                <a:latin typeface="Arial"/>
              </a:rPr>
              <a:t>ПРОФОРІЄНТАЦІЯ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Блок-схема: процесс 16"/>
          <p:cNvSpPr/>
          <p:nvPr/>
        </p:nvSpPr>
        <p:spPr>
          <a:xfrm>
            <a:off x="6156360" y="1557360"/>
            <a:ext cx="1562040" cy="2160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0808"/>
                </a:solidFill>
                <a:latin typeface="Arial"/>
              </a:rPr>
              <a:t>ОСВІТА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Блок-схема: процесс 18"/>
          <p:cNvSpPr/>
          <p:nvPr/>
        </p:nvSpPr>
        <p:spPr>
          <a:xfrm>
            <a:off x="5796000" y="4508640"/>
            <a:ext cx="2303280" cy="2156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80808"/>
                </a:solidFill>
                <a:latin typeface="Arial"/>
              </a:rPr>
              <a:t>РОБОТОДАВЦІ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Стрелка вправо с вырезом 19"/>
          <p:cNvSpPr/>
          <p:nvPr/>
        </p:nvSpPr>
        <p:spPr>
          <a:xfrm rot="19789800">
            <a:off x="5218200" y="2603160"/>
            <a:ext cx="855720" cy="223920"/>
          </a:xfrm>
          <a:custGeom>
            <a:avLst/>
            <a:gdLst>
              <a:gd name="textAreaLeft" fmla="*/ 55800 w 855720"/>
              <a:gd name="textAreaRight" fmla="*/ 799920 w 855720"/>
              <a:gd name="textAreaTop" fmla="*/ 55800 h 223920"/>
              <a:gd name="textAreaBottom" fmla="*/ 168120 h 223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775" y="5400"/>
                </a:lnTo>
                <a:lnTo>
                  <a:pt x="18775" y="0"/>
                </a:lnTo>
                <a:lnTo>
                  <a:pt x="21600" y="10800"/>
                </a:lnTo>
                <a:lnTo>
                  <a:pt x="18775" y="21600"/>
                </a:lnTo>
                <a:lnTo>
                  <a:pt x="18775" y="16200"/>
                </a:lnTo>
                <a:lnTo>
                  <a:pt x="0" y="16200"/>
                </a:lnTo>
                <a:lnTo>
                  <a:pt x="141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Стрелка вправо с вырезом 17"/>
          <p:cNvSpPr/>
          <p:nvPr/>
        </p:nvSpPr>
        <p:spPr>
          <a:xfrm rot="2133600">
            <a:off x="5203800" y="4308120"/>
            <a:ext cx="866880" cy="222120"/>
          </a:xfrm>
          <a:custGeom>
            <a:avLst/>
            <a:gdLst>
              <a:gd name="textAreaLeft" fmla="*/ 55440 w 866880"/>
              <a:gd name="textAreaRight" fmla="*/ 811440 w 866880"/>
              <a:gd name="textAreaTop" fmla="*/ 55440 h 222120"/>
              <a:gd name="textAreaBottom" fmla="*/ 1666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831" y="5400"/>
                </a:lnTo>
                <a:lnTo>
                  <a:pt x="18831" y="0"/>
                </a:lnTo>
                <a:lnTo>
                  <a:pt x="21600" y="10800"/>
                </a:lnTo>
                <a:lnTo>
                  <a:pt x="18831" y="21600"/>
                </a:lnTo>
                <a:lnTo>
                  <a:pt x="18831" y="16200"/>
                </a:lnTo>
                <a:lnTo>
                  <a:pt x="0" y="16200"/>
                </a:lnTo>
                <a:lnTo>
                  <a:pt x="138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ab1e4"/>
          </a:solidFill>
          <a:ln w="25560">
            <a:solidFill>
              <a:srgbClr val="348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6840" y="1294920"/>
            <a:ext cx="274644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6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"Барометр професій" - це дуже зручний інструмент оцінки поточної ситуації на ринку праці і інформування усіх зацікавлених учасників ринку праці про недолік/надлишку робочих місць в розрізі професій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0" name="Picture 2" descr="C:\Users\User\Desktop\Профориентация\Барометр январь.jpg"/>
          <p:cNvPicPr/>
          <p:nvPr/>
        </p:nvPicPr>
        <p:blipFill>
          <a:blip r:embed="rId1"/>
          <a:stretch/>
        </p:blipFill>
        <p:spPr>
          <a:xfrm>
            <a:off x="395280" y="1268280"/>
            <a:ext cx="8475840" cy="531360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9" descr=""/>
          <p:cNvPicPr/>
          <p:nvPr/>
        </p:nvPicPr>
        <p:blipFill>
          <a:blip r:embed="rId2"/>
          <a:stretch/>
        </p:blipFill>
        <p:spPr>
          <a:xfrm>
            <a:off x="463680" y="231840"/>
            <a:ext cx="8242200" cy="13716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4"/>
          <p:cNvSpPr/>
          <p:nvPr/>
        </p:nvSpPr>
        <p:spPr>
          <a:xfrm>
            <a:off x="1116000" y="573264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Артист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ТОП 10  спеціальностей, які користуються попитом в Україні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5" name="Диаграмма 8" descr=""/>
          <p:cNvPicPr/>
          <p:nvPr/>
        </p:nvPicPr>
        <p:blipFill>
          <a:blip r:embed="rId1"/>
          <a:stretch/>
        </p:blipFill>
        <p:spPr>
          <a:xfrm>
            <a:off x="633240" y="1217520"/>
            <a:ext cx="7805880" cy="5357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ая соединительная линия 10"/>
          <p:cNvSpPr/>
          <p:nvPr/>
        </p:nvSpPr>
        <p:spPr>
          <a:xfrm>
            <a:off x="3708360" y="3860640"/>
            <a:ext cx="576360" cy="0"/>
          </a:xfrm>
          <a:prstGeom prst="line">
            <a:avLst/>
          </a:prstGeom>
          <a:ln w="9360">
            <a:solidFill>
              <a:srgbClr val="44a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Прямая соединительная линия 12"/>
          <p:cNvSpPr/>
          <p:nvPr/>
        </p:nvSpPr>
        <p:spPr>
          <a:xfrm>
            <a:off x="4284720" y="3860640"/>
            <a:ext cx="792000" cy="863640"/>
          </a:xfrm>
          <a:prstGeom prst="line">
            <a:avLst/>
          </a:prstGeom>
          <a:ln w="9360">
            <a:solidFill>
              <a:srgbClr val="44a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Прямая соединительная линия 16"/>
          <p:cNvSpPr/>
          <p:nvPr/>
        </p:nvSpPr>
        <p:spPr>
          <a:xfrm>
            <a:off x="5076720" y="4724280"/>
            <a:ext cx="1582920" cy="0"/>
          </a:xfrm>
          <a:prstGeom prst="line">
            <a:avLst/>
          </a:prstGeom>
          <a:ln w="9360">
            <a:solidFill>
              <a:srgbClr val="44a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4627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Arial"/>
              </a:rPr>
              <a:t>Найзатребуваніші професії в світі</a:t>
            </a:r>
            <a:endParaRPr b="1" i="1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0" name="Picture 2" descr="Изображение к материалу IT-специалист"/>
          <p:cNvPicPr/>
          <p:nvPr/>
        </p:nvPicPr>
        <p:blipFill>
          <a:blip r:embed="rId1"/>
          <a:stretch/>
        </p:blipFill>
        <p:spPr>
          <a:xfrm>
            <a:off x="5724360" y="260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Изображение к материалу Специалисты по инжинирингу"/>
          <p:cNvPicPr/>
          <p:nvPr/>
        </p:nvPicPr>
        <p:blipFill>
          <a:blip r:embed="rId2"/>
          <a:stretch/>
        </p:blipFill>
        <p:spPr>
          <a:xfrm>
            <a:off x="7451640" y="260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Изображение к материалу Врачи"/>
          <p:cNvPicPr/>
          <p:nvPr/>
        </p:nvPicPr>
        <p:blipFill>
          <a:blip r:embed="rId3"/>
          <a:stretch/>
        </p:blipFill>
        <p:spPr>
          <a:xfrm>
            <a:off x="3995640" y="9079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Изображение к материалу Специалисты в сфере туризма"/>
          <p:cNvPicPr/>
          <p:nvPr/>
        </p:nvPicPr>
        <p:blipFill>
          <a:blip r:embed="rId4"/>
          <a:stretch/>
        </p:blipFill>
        <p:spPr>
          <a:xfrm>
            <a:off x="2268360" y="1268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Изображение к материалу Логист"/>
          <p:cNvPicPr/>
          <p:nvPr/>
        </p:nvPicPr>
        <p:blipFill>
          <a:blip r:embed="rId5"/>
          <a:stretch/>
        </p:blipFill>
        <p:spPr>
          <a:xfrm>
            <a:off x="250920" y="1700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Изображение к материалу Экологи"/>
          <p:cNvPicPr/>
          <p:nvPr/>
        </p:nvPicPr>
        <p:blipFill>
          <a:blip r:embed="rId6"/>
          <a:stretch/>
        </p:blipFill>
        <p:spPr>
          <a:xfrm>
            <a:off x="179280" y="40053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8" descr="Изображение к материалу Химики и энергетики"/>
          <p:cNvPicPr/>
          <p:nvPr/>
        </p:nvPicPr>
        <p:blipFill>
          <a:blip r:embed="rId7"/>
          <a:stretch/>
        </p:blipFill>
        <p:spPr>
          <a:xfrm>
            <a:off x="1763640" y="450864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0" descr="Изображение к материалу Нанотехнологи"/>
          <p:cNvPicPr/>
          <p:nvPr/>
        </p:nvPicPr>
        <p:blipFill>
          <a:blip r:embed="rId8"/>
          <a:stretch/>
        </p:blipFill>
        <p:spPr>
          <a:xfrm>
            <a:off x="3348000" y="4724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2" descr="Изображение к материалу Сервис - специалисты"/>
          <p:cNvPicPr/>
          <p:nvPr/>
        </p:nvPicPr>
        <p:blipFill>
          <a:blip r:embed="rId9"/>
          <a:stretch/>
        </p:blipFill>
        <p:spPr>
          <a:xfrm>
            <a:off x="5076720" y="486900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4" descr="Изображение к материалу Журналист, имиджмейкер"/>
          <p:cNvPicPr/>
          <p:nvPr/>
        </p:nvPicPr>
        <p:blipFill>
          <a:blip r:embed="rId10"/>
          <a:stretch/>
        </p:blipFill>
        <p:spPr>
          <a:xfrm>
            <a:off x="6948360" y="4941720"/>
            <a:ext cx="1584360" cy="15829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27"/>
          <p:cNvSpPr/>
          <p:nvPr/>
        </p:nvSpPr>
        <p:spPr>
          <a:xfrm>
            <a:off x="2268360" y="2708280"/>
            <a:ext cx="1440000" cy="64260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Менеджер з туризму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TextBox 28"/>
          <p:cNvSpPr/>
          <p:nvPr/>
        </p:nvSpPr>
        <p:spPr>
          <a:xfrm>
            <a:off x="7451640" y="1628640"/>
            <a:ext cx="1441440" cy="64260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Фахівець з інжинірінгу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TextBox 30"/>
          <p:cNvSpPr/>
          <p:nvPr/>
        </p:nvSpPr>
        <p:spPr>
          <a:xfrm>
            <a:off x="5724360" y="1700280"/>
            <a:ext cx="1440000" cy="36828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ІТ-фахівец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TextBox 31"/>
          <p:cNvSpPr/>
          <p:nvPr/>
        </p:nvSpPr>
        <p:spPr>
          <a:xfrm>
            <a:off x="3995640" y="2349360"/>
            <a:ext cx="1440000" cy="36828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Лікар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TextBox 32"/>
          <p:cNvSpPr/>
          <p:nvPr/>
        </p:nvSpPr>
        <p:spPr>
          <a:xfrm flipV="1" rot="10800000">
            <a:off x="250920" y="3140640"/>
            <a:ext cx="1441440" cy="36828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54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Логис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TextBox 35"/>
          <p:cNvSpPr/>
          <p:nvPr/>
        </p:nvSpPr>
        <p:spPr>
          <a:xfrm>
            <a:off x="179280" y="5445000"/>
            <a:ext cx="1440000" cy="36828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Еколог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6" name="TextBox 36"/>
          <p:cNvSpPr/>
          <p:nvPr/>
        </p:nvSpPr>
        <p:spPr>
          <a:xfrm>
            <a:off x="1763640" y="5877000"/>
            <a:ext cx="1440000" cy="64260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Хімік і енергетик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7" name="TextBox 37"/>
          <p:cNvSpPr/>
          <p:nvPr/>
        </p:nvSpPr>
        <p:spPr>
          <a:xfrm>
            <a:off x="3276720" y="6165720"/>
            <a:ext cx="1582560" cy="61236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80808"/>
                </a:solidFill>
                <a:latin typeface="Arial"/>
              </a:rPr>
              <a:t>Нанотехнолог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TextBox 38"/>
          <p:cNvSpPr/>
          <p:nvPr/>
        </p:nvSpPr>
        <p:spPr>
          <a:xfrm>
            <a:off x="5076720" y="6211800"/>
            <a:ext cx="1440000" cy="642600"/>
          </a:xfrm>
          <a:prstGeom prst="rect">
            <a:avLst/>
          </a:prstGeom>
          <a:gradFill rotWithShape="0">
            <a:gsLst>
              <a:gs pos="0">
                <a:srgbClr val="e6a6e6"/>
              </a:gs>
              <a:gs pos="100000">
                <a:srgbClr val="f9e7f9"/>
              </a:gs>
            </a:gsLst>
            <a:lin ang="16200000"/>
          </a:gradFill>
          <a:ln w="9360">
            <a:solidFill>
              <a:srgbClr val="8f008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Сервіс -спеціаліс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TextBox 39"/>
          <p:cNvSpPr/>
          <p:nvPr/>
        </p:nvSpPr>
        <p:spPr>
          <a:xfrm>
            <a:off x="6948360" y="6488280"/>
            <a:ext cx="1584360" cy="368280"/>
          </a:xfrm>
          <a:prstGeom prst="rect">
            <a:avLst/>
          </a:prstGeom>
          <a:gradFill rotWithShape="0">
            <a:gsLst>
              <a:gs pos="0">
                <a:srgbClr val="deaade"/>
              </a:gs>
              <a:gs pos="100000">
                <a:srgbClr val="f6e8f6"/>
              </a:gs>
            </a:gsLst>
            <a:lin ang="16200000"/>
          </a:gradFill>
          <a:ln w="9360">
            <a:solidFill>
              <a:srgbClr val="81008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"/>
              </a:rPr>
              <a:t>Іміджмейкер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43624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165320"/>
                <a:tab algn="l" pos="179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r>
              <a:rPr b="1" i="1" lang="uk-UA" sz="3600" spc="-1" strike="noStrike">
                <a:solidFill>
                  <a:srgbClr val="0070c0"/>
                </a:solidFill>
                <a:latin typeface="Segoe Print"/>
              </a:rPr>
              <a:t>«Розберіться в собі і зрозумійте, що ж ви любите. Робота займе велику частину вашого життя, і єдиний шлях до самоповаги - робити те, що ви вважаєте вартим великих зусиль. А єдиний спосіб виконати таку роботу-це любити те, чим ви зайняті»</a:t>
            </a:r>
            <a:br>
              <a:rPr sz="3600"/>
            </a:br>
            <a:r>
              <a:rPr b="1" i="1" lang="uk-UA" sz="4200" spc="-1" strike="noStrike">
                <a:solidFill>
                  <a:srgbClr val="0070c0"/>
                </a:solidFill>
                <a:latin typeface="Segoe Print"/>
              </a:rPr>
              <a:t>                                       </a:t>
            </a:r>
            <a:br>
              <a:rPr sz="4200"/>
            </a:b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4859280" y="5373720"/>
            <a:ext cx="31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70c0"/>
                </a:solidFill>
                <a:latin typeface="Segoe Print"/>
              </a:rPr>
              <a:t>Стів Джобс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6T09:57:37Z</dcterms:created>
  <dc:creator>User</dc:creator>
  <dc:description/>
  <dc:language>en-US</dc:language>
  <cp:lastModifiedBy>User</cp:lastModifiedBy>
  <dcterms:modified xsi:type="dcterms:W3CDTF">2018-03-06T08:07:02Z</dcterms:modified>
  <cp:revision>49</cp:revision>
  <dc:subject/>
  <dc:title>Барометр професій</dc:title>
</cp:coreProperties>
</file>