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3150C-04C8-4C8C-AF46-3F8E5BAD29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F8E118C6-98F6-4759-9D10-42F5EA0B26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79312CD7-B98C-4C17-9317-93552C02B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BD8F0FA6-6364-4A94-86A5-384D909B4B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33373D-1DC2-404D-B8DE-AF1969B1B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A3623F-EDA6-4985-91FC-41BAFAB403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5D0180-F240-4054-8B03-DFC14F59BB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20C5F5-927D-4873-B2A3-79AF15A8E0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0A671301-6661-4F06-A628-025A999FC8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7815389-A874-4632-B201-8C6BEE536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EE0F56-02DA-4551-8566-196C47F878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A6E511F-E932-4AA9-A69F-A3167456CF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8B1BF213-A499-49D8-8632-E5C084F07E9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314B1255-4D55-4259-89FD-18A20DECB4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B677B84C-4D6D-4DF3-8ED1-2FFB839A6B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AE9A810E-9038-4E7B-9779-0638070A5D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C491D057-3CE3-4D2E-A4E0-E6DCA2B935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A29100A9-F2A1-4EA9-A34C-0F378628B7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23FC2E-D892-4BFE-952F-64BAC4D2569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B360FAD-EA98-48F8-8429-00F7A585CF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45CDDEF-DA4A-49B5-91A2-C144F974C1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27816BB-835C-483E-A259-B9942EDD77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AD2276E0-52E2-4964-ACF1-1F28899D9F8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9AE1ABD-A98A-4BAB-A4B7-0A071701407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C91FAB4-9177-47A4-BD96-92E053D5D99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AE882899-0783-4210-9F1C-0C0011227EB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15DD7504-CA26-479B-A8A9-FC32121BF54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9C6EB999-2FCD-43A0-8D78-2451E0CDEBC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BDA91CB0-4F98-4E6F-A7D5-97595DDED21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5DC377A4-6188-461C-B977-9EC30D14F75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F6C7A96D-F584-4C65-B7CC-19992398295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4049EF-2FD6-4F43-AC85-573B7B6F3A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45A9E23B-FC0F-42B6-970B-ADDC161EC4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9B34EFF2-2548-4C74-9041-1B5A07F16DE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840F2A0B-C408-4D0F-8D4C-BAA7DF5F6C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63CC2C9D-DD64-45C5-AE44-9558312E03F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A10C1AAA-2EB1-42F5-A5FB-BD7684C887C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18EF62DE-5D69-4BE1-8F34-2E24C2A5747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91866F5A-D15F-43EB-AAC3-E8CCD06EBE0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40926FB-91EE-451E-AEDB-580081D5A46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9799C949-11B9-4F5C-96C4-DA6BCAC174C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0B93A141-C1C3-484D-BD8B-642B3223F45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118AA8CB-2614-479C-A555-B2C270416E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001ED4E2-8963-4000-AE02-3B29F880F08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D4A0E5D2-8D3B-4168-BE62-C48F4412EE8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4319204-6A36-4AFA-AFA0-06C01661F99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9D3BC6F5-BD70-4450-8150-E9B2588F719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39440D0E-6EE7-4477-83A0-503E0514517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7FBB81B7-04E2-4101-9322-10C1F7CC50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28F572DF-499D-4DAD-A71D-BE1E500ED1B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53C80E3A-9CEE-45D5-A32A-33074C7CCD7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922B9EBF-AC43-4832-9EB2-D712CA6F3E4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C0A54B5D-E62C-4E00-BBB4-32E176DB827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A6FC9B49-A9F5-4719-9438-C17DF9A5FD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E7BD695B-3BEE-4524-8E47-12A43538BA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2BB8E9CC-8641-469A-968D-BEDA1052AA2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F88B7706-2882-4A89-BA91-A4E436BFF61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E23AD9A6-523B-4E07-9B81-9834773579D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336E980-56CC-45DE-B766-D0ABC7028B4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506F1BD0-DB4C-4999-BBB3-F6652D7CFBA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AACE5887-EFB6-470D-859E-2766A95C27D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7F5EC246-2E14-4654-9C53-3425FCE0217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5295804B-7729-4280-A1BD-16EB8B25178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F35767B9-7968-45A5-BF2A-6A13E69A410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2ECF5D83-20C3-4D8D-82A4-A6C5A8230F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B7D3B742-DE29-4D62-AD85-B2D0A3FCD0E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DC1307B6-D2D8-406D-807E-AE08B240796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57A85B0E-FB8E-4394-BE73-DCF62B6D23A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1E7AA407-D9B1-4991-B105-45762053D67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6"/>
          </p:nvPr>
        </p:nvSpPr>
        <p:spPr/>
        <p:txBody>
          <a:bodyPr/>
          <a:p>
            <a:fld id="{E79E3D42-E395-4DC3-A2B4-23BB5D12698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6"/>
          </p:nvPr>
        </p:nvSpPr>
        <p:spPr/>
        <p:txBody>
          <a:bodyPr/>
          <a:p>
            <a:fld id="{2A226B59-9B18-4D28-BBBB-462448C4181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802F24F-AF14-4362-89DF-615B3C21F4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31FE0515-FBB9-458C-94B8-A468EDF216E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616C2FDA-B093-4A70-9439-54A1A0D3AD8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A5A31C77-B88A-474A-AB6F-E324BAA18A7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69B59C31-1C1B-4926-905E-5955F2333C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86E24A89-8956-4D0F-B4E4-5E3EEC28C5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5BD891B7-2516-4C79-9F41-B5B5EE50573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5AEFA2B9-4428-44A9-BFB2-23D82234E71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1E6E9EAD-A1C9-488D-8F06-56232AADD1C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20B981D5-D3F7-4B68-AD85-7E32B106EA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59C229A9-3F03-4120-ABBF-223C1DAED16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7"/>
          </p:nvPr>
        </p:nvSpPr>
        <p:spPr/>
        <p:txBody>
          <a:bodyPr/>
          <a:p>
            <a:fld id="{33ABAB1A-2400-4A80-8599-8C7F2DD10C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7"/>
          </p:nvPr>
        </p:nvSpPr>
        <p:spPr/>
        <p:txBody>
          <a:bodyPr/>
          <a:p>
            <a:fld id="{973CFE3C-FB2F-443A-BDC7-25EB949AD8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33DB-4B51-4E38-A287-D944A209F459}"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b5d9"/>
        </a:solidFill>
      </p:bgPr>
    </p:bg>
    <p:spTree>
      <p:nvGrpSpPr>
        <p:cNvPr id="1" name=""/>
        <p:cNvGrpSpPr/>
        <p:nvPr/>
      </p:nvGrpSpPr>
      <p:grpSpPr>
        <a:xfrm>
          <a:off x="0" y="0"/>
          <a:ext cx="0" cy="0"/>
          <a:chOff x="0" y="0"/>
          <a:chExt cx="0" cy="0"/>
        </a:xfrm>
      </p:grpSpPr>
      <p:grpSp>
        <p:nvGrpSpPr>
          <p:cNvPr id="39" name="Google Shape;10;p2"/>
          <p:cNvGrpSpPr/>
          <p:nvPr/>
        </p:nvGrpSpPr>
        <p:grpSpPr>
          <a:xfrm>
            <a:off x="5468760" y="2185920"/>
            <a:ext cx="3675240" cy="3533760"/>
            <a:chOff x="5468760" y="2185920"/>
            <a:chExt cx="3675240" cy="3533760"/>
          </a:xfrm>
        </p:grpSpPr>
        <p:sp>
          <p:nvSpPr>
            <p:cNvPr id="40" name="Google Shape;11;p2"/>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Google Shape;12;p2"/>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Google Shape;13;p2"/>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Google Shape;14;p2"/>
            <p:cNvSpPr/>
            <p:nvPr/>
          </p:nvSpPr>
          <p:spPr>
            <a:xfrm flipH="1" rot="9208200">
              <a:off x="5609520" y="4634280"/>
              <a:ext cx="284040" cy="6987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Google Shape;15;p2"/>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45" name="Google Shape;16;p2"/>
          <p:cNvGrpSpPr/>
          <p:nvPr/>
        </p:nvGrpSpPr>
        <p:grpSpPr>
          <a:xfrm>
            <a:off x="0" y="-392040"/>
            <a:ext cx="3243960" cy="2046240"/>
            <a:chOff x="0" y="-392040"/>
            <a:chExt cx="3243960" cy="2046240"/>
          </a:xfrm>
        </p:grpSpPr>
        <p:sp>
          <p:nvSpPr>
            <p:cNvPr id="46" name="Google Shape;17;p2"/>
            <p:cNvSpPr/>
            <p:nvPr/>
          </p:nvSpPr>
          <p:spPr>
            <a:xfrm flipH="1" rot="20008800">
              <a:off x="2040480" y="-162000"/>
              <a:ext cx="307080" cy="7765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Google Shape;18;p2"/>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Google Shape;19;p2"/>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Google Shape;20;p2"/>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Google Shape;21;p2"/>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5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89" name="Google Shape;24;p3"/>
          <p:cNvGrpSpPr/>
          <p:nvPr/>
        </p:nvGrpSpPr>
        <p:grpSpPr>
          <a:xfrm>
            <a:off x="6053400" y="2655720"/>
            <a:ext cx="3090600" cy="2971440"/>
            <a:chOff x="6053400" y="2655720"/>
            <a:chExt cx="3090600" cy="2971440"/>
          </a:xfrm>
        </p:grpSpPr>
        <p:sp>
          <p:nvSpPr>
            <p:cNvPr id="90" name="Google Shape;25;p3"/>
            <p:cNvSpPr/>
            <p:nvPr/>
          </p:nvSpPr>
          <p:spPr>
            <a:xfrm flipH="1" rot="9208200">
              <a:off x="6605280" y="4151520"/>
              <a:ext cx="503640" cy="123876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26;p3"/>
            <p:cNvSpPr/>
            <p:nvPr/>
          </p:nvSpPr>
          <p:spPr>
            <a:xfrm flipH="1" rot="9208200">
              <a:off x="7749720" y="3295800"/>
              <a:ext cx="912960" cy="22453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27;p3"/>
            <p:cNvSpPr/>
            <p:nvPr/>
          </p:nvSpPr>
          <p:spPr>
            <a:xfrm flipH="1" rot="9208200">
              <a:off x="7414200" y="4322520"/>
              <a:ext cx="425160" cy="10461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28;p3"/>
            <p:cNvSpPr/>
            <p:nvPr/>
          </p:nvSpPr>
          <p:spPr>
            <a:xfrm flipH="1" rot="9208200">
              <a:off x="6171840" y="4715280"/>
              <a:ext cx="238680" cy="5871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29;p3"/>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95" name="Google Shape;30;p3"/>
          <p:cNvGrpSpPr/>
          <p:nvPr/>
        </p:nvGrpSpPr>
        <p:grpSpPr>
          <a:xfrm>
            <a:off x="0" y="-276480"/>
            <a:ext cx="2288160" cy="1443960"/>
            <a:chOff x="0" y="-276480"/>
            <a:chExt cx="2288160" cy="1443960"/>
          </a:xfrm>
        </p:grpSpPr>
        <p:sp>
          <p:nvSpPr>
            <p:cNvPr id="96" name="Google Shape;31;p3"/>
            <p:cNvSpPr/>
            <p:nvPr/>
          </p:nvSpPr>
          <p:spPr>
            <a:xfrm flipH="1" rot="20008800">
              <a:off x="1438200" y="-113760"/>
              <a:ext cx="216360" cy="5479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32;p3"/>
            <p:cNvSpPr/>
            <p:nvPr/>
          </p:nvSpPr>
          <p:spPr>
            <a:xfrm flipH="1" rot="20008800">
              <a:off x="252000" y="-209520"/>
              <a:ext cx="459000" cy="116208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33;p3"/>
            <p:cNvSpPr/>
            <p:nvPr/>
          </p:nvSpPr>
          <p:spPr>
            <a:xfrm flipH="1" rot="20008800">
              <a:off x="942480" y="-228240"/>
              <a:ext cx="532800" cy="134784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34;p3"/>
            <p:cNvSpPr/>
            <p:nvPr/>
          </p:nvSpPr>
          <p:spPr>
            <a:xfrm flipH="1" rot="20008800">
              <a:off x="1920600" y="-128520"/>
              <a:ext cx="242640" cy="6138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35;p3"/>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0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0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03" name="PlaceHolder 3"/>
          <p:cNvSpPr>
            <a:spLocks noGrp="1"/>
          </p:cNvSpPr>
          <p:nvPr>
            <p:ph type="sldNum" idx="2"/>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2333-D095-43F5-9667-DEFC503B9BAE}"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oogle Shape;41;p4"/>
          <p:cNvGrpSpPr/>
          <p:nvPr/>
        </p:nvGrpSpPr>
        <p:grpSpPr>
          <a:xfrm>
            <a:off x="5468760" y="2185920"/>
            <a:ext cx="3675240" cy="3533760"/>
            <a:chOff x="5468760" y="2185920"/>
            <a:chExt cx="3675240" cy="3533760"/>
          </a:xfrm>
        </p:grpSpPr>
        <p:sp>
          <p:nvSpPr>
            <p:cNvPr id="141" name="Google Shape;42;p4"/>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43;p4"/>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44;p4"/>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45;p4"/>
            <p:cNvSpPr/>
            <p:nvPr/>
          </p:nvSpPr>
          <p:spPr>
            <a:xfrm flipH="1" rot="9208200">
              <a:off x="5609520" y="4634280"/>
              <a:ext cx="284040" cy="69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46;p4"/>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46" name="Google Shape;47;p4"/>
          <p:cNvGrpSpPr/>
          <p:nvPr/>
        </p:nvGrpSpPr>
        <p:grpSpPr>
          <a:xfrm>
            <a:off x="0" y="-392040"/>
            <a:ext cx="3243960" cy="2046240"/>
            <a:chOff x="0" y="-392040"/>
            <a:chExt cx="3243960" cy="2046240"/>
          </a:xfrm>
        </p:grpSpPr>
        <p:sp>
          <p:nvSpPr>
            <p:cNvPr id="147" name="Google Shape;48;p4"/>
            <p:cNvSpPr/>
            <p:nvPr/>
          </p:nvSpPr>
          <p:spPr>
            <a:xfrm flipH="1" rot="20008800">
              <a:off x="2040480" y="-162000"/>
              <a:ext cx="307080" cy="77652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49;p4"/>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50;p4"/>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51;p4"/>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52;p4"/>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5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3"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54" name="PlaceHolder 3"/>
          <p:cNvSpPr>
            <a:spLocks noGrp="1"/>
          </p:cNvSpPr>
          <p:nvPr>
            <p:ph type="sldNum" idx="3"/>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4BDE-1324-4D21-B8F8-BC793AAF76A4}"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oogle Shape;55;p5"/>
          <p:cNvGrpSpPr/>
          <p:nvPr/>
        </p:nvGrpSpPr>
        <p:grpSpPr>
          <a:xfrm>
            <a:off x="6053400" y="2655720"/>
            <a:ext cx="3090600" cy="2971440"/>
            <a:chOff x="6053400" y="2655720"/>
            <a:chExt cx="3090600" cy="2971440"/>
          </a:xfrm>
        </p:grpSpPr>
        <p:sp>
          <p:nvSpPr>
            <p:cNvPr id="192" name="Google Shape;56;p5"/>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57;p5"/>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58;p5"/>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59;p5"/>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60;p5"/>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97" name="Google Shape;61;p5"/>
          <p:cNvGrpSpPr/>
          <p:nvPr/>
        </p:nvGrpSpPr>
        <p:grpSpPr>
          <a:xfrm>
            <a:off x="0" y="-276480"/>
            <a:ext cx="2288160" cy="1443960"/>
            <a:chOff x="0" y="-276480"/>
            <a:chExt cx="2288160" cy="1443960"/>
          </a:xfrm>
        </p:grpSpPr>
        <p:sp>
          <p:nvSpPr>
            <p:cNvPr id="198" name="Google Shape;62;p5"/>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63;p5"/>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64;p5"/>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65;p5"/>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66;p5"/>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0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4"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5" name="PlaceHolder 3"/>
          <p:cNvSpPr>
            <a:spLocks noGrp="1"/>
          </p:cNvSpPr>
          <p:nvPr>
            <p:ph type="sldNum" idx="4"/>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7E81-7215-4ADC-B7C7-74B2E4A81FFC}"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Google Shape;106;p8"/>
          <p:cNvGrpSpPr/>
          <p:nvPr/>
        </p:nvGrpSpPr>
        <p:grpSpPr>
          <a:xfrm>
            <a:off x="6053400" y="2655720"/>
            <a:ext cx="3090600" cy="2971440"/>
            <a:chOff x="6053400" y="2655720"/>
            <a:chExt cx="3090600" cy="2971440"/>
          </a:xfrm>
        </p:grpSpPr>
        <p:sp>
          <p:nvSpPr>
            <p:cNvPr id="243" name="Google Shape;107;p8"/>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Google Shape;108;p8"/>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Google Shape;109;p8"/>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10;p8"/>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11;p8"/>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48" name="Google Shape;112;p8"/>
          <p:cNvGrpSpPr/>
          <p:nvPr/>
        </p:nvGrpSpPr>
        <p:grpSpPr>
          <a:xfrm>
            <a:off x="0" y="-276480"/>
            <a:ext cx="2288160" cy="1443960"/>
            <a:chOff x="0" y="-276480"/>
            <a:chExt cx="2288160" cy="1443960"/>
          </a:xfrm>
        </p:grpSpPr>
        <p:sp>
          <p:nvSpPr>
            <p:cNvPr id="249" name="Google Shape;113;p8"/>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Google Shape;114;p8"/>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Google Shape;115;p8"/>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Google Shape;116;p8"/>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Google Shape;117;p8"/>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5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5"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6" name="PlaceHolder 3"/>
          <p:cNvSpPr>
            <a:spLocks noGrp="1"/>
          </p:cNvSpPr>
          <p:nvPr>
            <p:ph type="sldNum" idx="5"/>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3943-7F80-466F-B645-866CCBCDFB6D}"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oogle Shape;136;p10"/>
          <p:cNvGrpSpPr/>
          <p:nvPr/>
        </p:nvGrpSpPr>
        <p:grpSpPr>
          <a:xfrm>
            <a:off x="6053400" y="2655720"/>
            <a:ext cx="3090600" cy="2971440"/>
            <a:chOff x="6053400" y="2655720"/>
            <a:chExt cx="3090600" cy="2971440"/>
          </a:xfrm>
        </p:grpSpPr>
        <p:sp>
          <p:nvSpPr>
            <p:cNvPr id="294" name="Google Shape;137;p10"/>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Google Shape;138;p10"/>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Google Shape;139;p10"/>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Google Shape;140;p10"/>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Google Shape;141;p10"/>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99" name="Google Shape;142;p10"/>
          <p:cNvGrpSpPr/>
          <p:nvPr/>
        </p:nvGrpSpPr>
        <p:grpSpPr>
          <a:xfrm>
            <a:off x="0" y="-276480"/>
            <a:ext cx="2288160" cy="1443960"/>
            <a:chOff x="0" y="-276480"/>
            <a:chExt cx="2288160" cy="1443960"/>
          </a:xfrm>
        </p:grpSpPr>
        <p:sp>
          <p:nvSpPr>
            <p:cNvPr id="300" name="Google Shape;143;p10"/>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Google Shape;144;p10"/>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Google Shape;145;p10"/>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Google Shape;146;p10"/>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Google Shape;147;p10"/>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0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6"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07" name="PlaceHolder 3"/>
          <p:cNvSpPr>
            <a:spLocks noGrp="1"/>
          </p:cNvSpPr>
          <p:nvPr>
            <p:ph type="sldNum" idx="6"/>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8545-0CDF-4EB0-928B-D22247567D08}"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96bf"/>
        </a:solidFill>
      </p:bgPr>
    </p:bg>
    <p:spTree>
      <p:nvGrpSpPr>
        <p:cNvPr id="1" name=""/>
        <p:cNvGrpSpPr/>
        <p:nvPr/>
      </p:nvGrpSpPr>
      <p:grpSpPr>
        <a:xfrm>
          <a:off x="0" y="0"/>
          <a:ext cx="0" cy="0"/>
          <a:chOff x="0" y="0"/>
          <a:chExt cx="0" cy="0"/>
        </a:xfrm>
      </p:grpSpPr>
      <p:grpSp>
        <p:nvGrpSpPr>
          <p:cNvPr id="344" name="Google Shape;150;p11"/>
          <p:cNvGrpSpPr/>
          <p:nvPr/>
        </p:nvGrpSpPr>
        <p:grpSpPr>
          <a:xfrm>
            <a:off x="6053400" y="2655720"/>
            <a:ext cx="3090600" cy="2971440"/>
            <a:chOff x="6053400" y="2655720"/>
            <a:chExt cx="3090600" cy="2971440"/>
          </a:xfrm>
        </p:grpSpPr>
        <p:sp>
          <p:nvSpPr>
            <p:cNvPr id="345" name="Google Shape;151;p11"/>
            <p:cNvSpPr/>
            <p:nvPr/>
          </p:nvSpPr>
          <p:spPr>
            <a:xfrm flipH="1" rot="9208200">
              <a:off x="6605280" y="4151520"/>
              <a:ext cx="503640" cy="12387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Google Shape;152;p11"/>
            <p:cNvSpPr/>
            <p:nvPr/>
          </p:nvSpPr>
          <p:spPr>
            <a:xfrm flipH="1" rot="9208200">
              <a:off x="7749720" y="3295800"/>
              <a:ext cx="912960" cy="22453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Google Shape;153;p11"/>
            <p:cNvSpPr/>
            <p:nvPr/>
          </p:nvSpPr>
          <p:spPr>
            <a:xfrm flipH="1" rot="9208200">
              <a:off x="7414200" y="4322520"/>
              <a:ext cx="425160" cy="1046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Google Shape;154;p11"/>
            <p:cNvSpPr/>
            <p:nvPr/>
          </p:nvSpPr>
          <p:spPr>
            <a:xfrm flipH="1" rot="9208200">
              <a:off x="6171840" y="4715280"/>
              <a:ext cx="238680" cy="587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Google Shape;155;p11"/>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350" name="Google Shape;156;p11"/>
          <p:cNvGrpSpPr/>
          <p:nvPr/>
        </p:nvGrpSpPr>
        <p:grpSpPr>
          <a:xfrm>
            <a:off x="0" y="-276480"/>
            <a:ext cx="2288160" cy="1443960"/>
            <a:chOff x="0" y="-276480"/>
            <a:chExt cx="2288160" cy="1443960"/>
          </a:xfrm>
        </p:grpSpPr>
        <p:sp>
          <p:nvSpPr>
            <p:cNvPr id="351" name="Google Shape;157;p11"/>
            <p:cNvSpPr/>
            <p:nvPr/>
          </p:nvSpPr>
          <p:spPr>
            <a:xfrm flipH="1" rot="20008800">
              <a:off x="1438200" y="-113760"/>
              <a:ext cx="216360" cy="5479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Google Shape;158;p11"/>
            <p:cNvSpPr/>
            <p:nvPr/>
          </p:nvSpPr>
          <p:spPr>
            <a:xfrm flipH="1" rot="20008800">
              <a:off x="252000" y="-209520"/>
              <a:ext cx="459000" cy="116208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Google Shape;159;p11"/>
            <p:cNvSpPr/>
            <p:nvPr/>
          </p:nvSpPr>
          <p:spPr>
            <a:xfrm flipH="1" rot="20008800">
              <a:off x="942480" y="-228240"/>
              <a:ext cx="532800" cy="134784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Google Shape;160;p11"/>
            <p:cNvSpPr/>
            <p:nvPr/>
          </p:nvSpPr>
          <p:spPr>
            <a:xfrm flipH="1" rot="20008800">
              <a:off x="1920600" y="-128520"/>
              <a:ext cx="242640" cy="61380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Google Shape;161;p11"/>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5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7"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8" name="PlaceHolder 3"/>
          <p:cNvSpPr>
            <a:spLocks noGrp="1"/>
          </p:cNvSpPr>
          <p:nvPr>
            <p:ph type="sldNum" idx="7"/>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0243-3A45-498F-A791-C68038FB67B6}"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Лента лицом вверх 2"/>
          <p:cNvSpPr/>
          <p:nvPr/>
        </p:nvSpPr>
        <p:spPr>
          <a:xfrm>
            <a:off x="250920" y="1203480"/>
            <a:ext cx="8642160" cy="2736720"/>
          </a:xfrm>
          <a:custGeom>
            <a:avLst/>
            <a:gdLst>
              <a:gd name="textAreaLeft" fmla="*/ 1360440 w 8642160"/>
              <a:gd name="textAreaRight" fmla="*/ 7281720 w 8642160"/>
              <a:gd name="textAreaTop" fmla="*/ 0 h 2736720"/>
              <a:gd name="textAreaBottom" fmla="*/ 2121480 h 2736720"/>
            </a:gdLst>
            <a:ahLst/>
            <a:rect l="textAreaLeft" t="textAreaTop" r="textAreaRight" b="textAreaBottom"/>
            <a:pathLst>
              <a:path w="21600" h="21600">
                <a:moveTo>
                  <a:pt x="6101" y="16744"/>
                </a:moveTo>
                <a:lnTo>
                  <a:pt x="6101" y="20386"/>
                </a:lnTo>
                <a:cubicBezTo>
                  <a:pt x="6101" y="20993"/>
                  <a:pt x="5681" y="21600"/>
                  <a:pt x="5261" y="21600"/>
                </a:cubicBezTo>
                <a:lnTo>
                  <a:pt x="0" y="21600"/>
                </a:lnTo>
                <a:lnTo>
                  <a:pt x="2750" y="13228"/>
                </a:lnTo>
                <a:lnTo>
                  <a:pt x="0" y="4856"/>
                </a:lnTo>
                <a:lnTo>
                  <a:pt x="3401" y="4856"/>
                </a:lnTo>
                <a:lnTo>
                  <a:pt x="3401" y="1214"/>
                </a:lnTo>
                <a:cubicBezTo>
                  <a:pt x="3401" y="607"/>
                  <a:pt x="3821" y="0"/>
                  <a:pt x="4241" y="0"/>
                </a:cubicBezTo>
                <a:lnTo>
                  <a:pt x="17359" y="0"/>
                </a:lnTo>
                <a:cubicBezTo>
                  <a:pt x="17779" y="0"/>
                  <a:pt x="18199" y="607"/>
                  <a:pt x="18199" y="1214"/>
                </a:cubicBezTo>
                <a:lnTo>
                  <a:pt x="18199" y="4856"/>
                </a:lnTo>
                <a:lnTo>
                  <a:pt x="21600" y="4856"/>
                </a:lnTo>
                <a:lnTo>
                  <a:pt x="18850" y="13228"/>
                </a:lnTo>
                <a:lnTo>
                  <a:pt x="21600" y="21600"/>
                </a:lnTo>
                <a:lnTo>
                  <a:pt x="16339" y="21600"/>
                </a:lnTo>
                <a:cubicBezTo>
                  <a:pt x="15919" y="21600"/>
                  <a:pt x="15499" y="20993"/>
                  <a:pt x="15499" y="20386"/>
                </a:cubicBezTo>
                <a:lnTo>
                  <a:pt x="15499" y="16744"/>
                </a:lnTo>
                <a:close/>
              </a:path>
              <a:path fill="darkenLess" w="21600" h="21600">
                <a:moveTo>
                  <a:pt x="6101" y="16744"/>
                </a:moveTo>
                <a:lnTo>
                  <a:pt x="6101" y="20386"/>
                </a:lnTo>
                <a:cubicBezTo>
                  <a:pt x="6101" y="19779"/>
                  <a:pt x="5681" y="19172"/>
                  <a:pt x="5261" y="19172"/>
                </a:cubicBezTo>
                <a:lnTo>
                  <a:pt x="4241" y="19172"/>
                </a:lnTo>
                <a:cubicBezTo>
                  <a:pt x="3821" y="19172"/>
                  <a:pt x="3401" y="18565"/>
                  <a:pt x="3401" y="17958"/>
                </a:cubicBezTo>
                <a:cubicBezTo>
                  <a:pt x="3401" y="17351"/>
                  <a:pt x="3821" y="16744"/>
                  <a:pt x="4241" y="16744"/>
                </a:cubicBezTo>
                <a:close/>
              </a:path>
              <a:path fill="darkenLess" w="21600" h="21600">
                <a:moveTo>
                  <a:pt x="15499" y="16744"/>
                </a:moveTo>
                <a:lnTo>
                  <a:pt x="15499" y="20386"/>
                </a:lnTo>
                <a:cubicBezTo>
                  <a:pt x="15499" y="19779"/>
                  <a:pt x="15919" y="19172"/>
                  <a:pt x="16339" y="19172"/>
                </a:cubicBezTo>
                <a:lnTo>
                  <a:pt x="17359" y="19172"/>
                </a:lnTo>
                <a:cubicBezTo>
                  <a:pt x="17779" y="19172"/>
                  <a:pt x="18199" y="18565"/>
                  <a:pt x="18199" y="17958"/>
                </a:cubicBezTo>
                <a:cubicBezTo>
                  <a:pt x="18199" y="17351"/>
                  <a:pt x="17779" y="16744"/>
                  <a:pt x="17359" y="16744"/>
                </a:cubicBezTo>
                <a:close/>
              </a:path>
              <a:path fill="darkenLess" w="21600" h="21600">
                <a:moveTo>
                  <a:pt x="3401" y="17958"/>
                </a:moveTo>
                <a:lnTo>
                  <a:pt x="3401" y="4856"/>
                </a:lnTo>
              </a:path>
              <a:path fill="darkenLess" w="21600" h="21600">
                <a:moveTo>
                  <a:pt x="18199" y="17958"/>
                </a:moveTo>
                <a:lnTo>
                  <a:pt x="18199" y="4856"/>
                </a:lnTo>
              </a:path>
            </a:pathLst>
          </a:custGeom>
          <a:solidFill>
            <a:srgbClr val="3796bf">
              <a:alpha val="46000"/>
            </a:srgbClr>
          </a:solidFill>
          <a:ln w="255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1"/>
          <p:cNvSpPr>
            <a:spLocks noGrp="1"/>
          </p:cNvSpPr>
          <p:nvPr>
            <p:ph type="title"/>
          </p:nvPr>
        </p:nvSpPr>
        <p:spPr>
          <a:xfrm>
            <a:off x="1042920" y="1634760"/>
            <a:ext cx="6896160" cy="15843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ffff"/>
                </a:solidFill>
                <a:latin typeface="Oswald"/>
              </a:rPr>
              <a:t>ПРОФЕСІЯ: </a:t>
            </a:r>
            <a:br>
              <a:rPr sz="6000"/>
            </a:br>
            <a:r>
              <a:rPr b="1" lang="uk-UA" sz="6000" spc="-1" strike="noStrike">
                <a:solidFill>
                  <a:srgbClr val="ffffff"/>
                </a:solidFill>
                <a:latin typeface="Oswald"/>
              </a:rPr>
              <a:t>моделюємо успіх</a:t>
            </a:r>
            <a:endParaRPr b="0" lang="en-US" sz="6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979640" y="2066760"/>
            <a:ext cx="4896000" cy="965520"/>
          </a:xfrm>
          <a:prstGeom prst="rect">
            <a:avLst/>
          </a:prstGeom>
          <a:noFill/>
          <a:ln w="0">
            <a:noFill/>
          </a:ln>
        </p:spPr>
        <p:txBody>
          <a:bodyPr tIns="91440" bIns="91440" anchor="ctr">
            <a:normAutofit fontScale="8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3796bf"/>
                </a:solidFill>
                <a:latin typeface="Oswald"/>
                <a:ea typeface="Oswald"/>
              </a:rPr>
              <a:t>ЗДІБНОСТІ ЛЮДИНИ</a:t>
            </a:r>
            <a:endParaRPr b="0" lang="en-US" sz="4000" spc="-1" strike="noStrike">
              <a:solidFill>
                <a:srgbClr val="000000"/>
              </a:solidFill>
              <a:latin typeface="Arial"/>
            </a:endParaRPr>
          </a:p>
        </p:txBody>
      </p:sp>
      <p:pic>
        <p:nvPicPr>
          <p:cNvPr id="456" name="Picture 4" descr=""/>
          <p:cNvPicPr/>
          <p:nvPr/>
        </p:nvPicPr>
        <p:blipFill>
          <a:blip r:embed="rId1"/>
          <a:stretch/>
        </p:blipFill>
        <p:spPr>
          <a:xfrm>
            <a:off x="1979640" y="123840"/>
            <a:ext cx="2539800" cy="1871640"/>
          </a:xfrm>
          <a:prstGeom prst="rect">
            <a:avLst/>
          </a:prstGeom>
          <a:ln w="0">
            <a:noFill/>
          </a:ln>
        </p:spPr>
      </p:pic>
      <p:pic>
        <p:nvPicPr>
          <p:cNvPr id="457" name="Picture 5" descr=""/>
          <p:cNvPicPr/>
          <p:nvPr/>
        </p:nvPicPr>
        <p:blipFill>
          <a:blip r:embed="rId2"/>
          <a:stretch/>
        </p:blipFill>
        <p:spPr>
          <a:xfrm>
            <a:off x="4572000" y="123840"/>
            <a:ext cx="2232000" cy="1871640"/>
          </a:xfrm>
          <a:prstGeom prst="rect">
            <a:avLst/>
          </a:prstGeom>
          <a:ln w="0">
            <a:noFill/>
          </a:ln>
        </p:spPr>
      </p:pic>
      <p:pic>
        <p:nvPicPr>
          <p:cNvPr id="458" name="Picture 13" descr=""/>
          <p:cNvPicPr/>
          <p:nvPr/>
        </p:nvPicPr>
        <p:blipFill>
          <a:blip r:embed="rId3"/>
          <a:stretch/>
        </p:blipFill>
        <p:spPr>
          <a:xfrm>
            <a:off x="4572000" y="3271680"/>
            <a:ext cx="2340000" cy="1872000"/>
          </a:xfrm>
          <a:prstGeom prst="rect">
            <a:avLst/>
          </a:prstGeom>
          <a:ln w="0">
            <a:noFill/>
          </a:ln>
        </p:spPr>
      </p:pic>
      <p:pic>
        <p:nvPicPr>
          <p:cNvPr id="459" name="Picture 8" descr=""/>
          <p:cNvPicPr/>
          <p:nvPr/>
        </p:nvPicPr>
        <p:blipFill>
          <a:blip r:embed="rId4"/>
          <a:srcRect l="0" t="0" r="28903" b="0"/>
          <a:stretch/>
        </p:blipFill>
        <p:spPr>
          <a:xfrm>
            <a:off x="0" y="771480"/>
            <a:ext cx="1920960" cy="1801800"/>
          </a:xfrm>
          <a:prstGeom prst="rect">
            <a:avLst/>
          </a:prstGeom>
          <a:ln w="0">
            <a:noFill/>
          </a:ln>
        </p:spPr>
      </p:pic>
      <p:pic>
        <p:nvPicPr>
          <p:cNvPr id="460" name="Picture 3" descr=""/>
          <p:cNvPicPr/>
          <p:nvPr/>
        </p:nvPicPr>
        <p:blipFill>
          <a:blip r:embed="rId5"/>
          <a:srcRect l="8654" t="0" r="9383" b="0"/>
          <a:stretch/>
        </p:blipFill>
        <p:spPr>
          <a:xfrm>
            <a:off x="1908000" y="3102120"/>
            <a:ext cx="2673360" cy="2041560"/>
          </a:xfrm>
          <a:prstGeom prst="rect">
            <a:avLst/>
          </a:prstGeom>
          <a:ln w="0">
            <a:noFill/>
          </a:ln>
        </p:spPr>
      </p:pic>
      <p:pic>
        <p:nvPicPr>
          <p:cNvPr id="461" name="Picture 11" descr=""/>
          <p:cNvPicPr/>
          <p:nvPr/>
        </p:nvPicPr>
        <p:blipFill>
          <a:blip r:embed="rId6"/>
          <a:srcRect l="24493" t="0" r="0" b="0"/>
          <a:stretch/>
        </p:blipFill>
        <p:spPr>
          <a:xfrm>
            <a:off x="0" y="2643120"/>
            <a:ext cx="1905120" cy="1674720"/>
          </a:xfrm>
          <a:prstGeom prst="rect">
            <a:avLst/>
          </a:prstGeom>
          <a:ln w="0">
            <a:noFill/>
          </a:ln>
        </p:spPr>
      </p:pic>
      <p:sp>
        <p:nvSpPr>
          <p:cNvPr id="462" name="Rectangle 1"/>
          <p:cNvSpPr/>
          <p:nvPr/>
        </p:nvSpPr>
        <p:spPr>
          <a:xfrm>
            <a:off x="6804000" y="1005840"/>
            <a:ext cx="2268720" cy="3502080"/>
          </a:xfrm>
          <a:prstGeom prst="rect">
            <a:avLst/>
          </a:prstGeom>
          <a:solidFill>
            <a:srgbClr val="f8f9fa">
              <a:alpha val="78000"/>
            </a:srgbClr>
          </a:solidFill>
          <a:ln w="0">
            <a:noFill/>
          </a:ln>
        </p:spPr>
        <p:style>
          <a:lnRef idx="0"/>
          <a:fillRef idx="0"/>
          <a:effectRef idx="0"/>
          <a:fontRef idx="minor"/>
        </p:style>
        <p:txBody>
          <a:bodyPr lIns="0" rIns="0" tIns="-9360" bIns="-936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595959"/>
                </a:solidFill>
                <a:latin typeface="Oswald"/>
              </a:rPr>
              <a:t>Одному легко дається математика, іншому - іноземні мови, третій пише вірші, четвертий домагається успіхів у спорті - а які у тебе здібності?</a:t>
            </a:r>
            <a:r>
              <a:rPr b="0" lang="uk-UA" sz="600" spc="-1" strike="noStrike">
                <a:solidFill>
                  <a:srgbClr val="595959"/>
                </a:solidFill>
                <a:latin typeface="Oswald"/>
              </a:rPr>
              <a:t> </a:t>
            </a:r>
            <a:endParaRPr b="0" lang="en-US" sz="600" spc="-1" strike="noStrike">
              <a:solidFill>
                <a:srgbClr val="000000"/>
              </a:solidFill>
              <a:latin typeface="Arial"/>
            </a:endParaRPr>
          </a:p>
        </p:txBody>
      </p:sp>
      <p:sp>
        <p:nvSpPr>
          <p:cNvPr id="463" name="Прямоугольник 10"/>
          <p:cNvSpPr/>
          <p:nvPr/>
        </p:nvSpPr>
        <p:spPr>
          <a:xfrm>
            <a:off x="7164360" y="0"/>
            <a:ext cx="16556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607896"/>
                </a:solidFill>
                <a:latin typeface="Roboto Condensed"/>
              </a:rPr>
              <a:t>👪</a:t>
            </a:r>
            <a:endParaRPr b="0" lang="en-US" sz="12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3348000" y="-360"/>
            <a:ext cx="5688000" cy="576360"/>
          </a:xfrm>
          <a:prstGeom prst="rect">
            <a:avLst/>
          </a:prstGeom>
          <a:noFill/>
          <a:ln w="0">
            <a:noFill/>
          </a:ln>
        </p:spPr>
        <p:txBody>
          <a:bodyPr tIns="91440" bIns="91440" anchor="ctr">
            <a:normAutofit fontScale="70000"/>
          </a:bodyPr>
          <a:p>
            <a:pPr marL="320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796bf"/>
                </a:solidFill>
                <a:latin typeface="Oswald"/>
                <a:ea typeface="Oswald"/>
              </a:rPr>
              <a:t>«Мислитель або художник»</a:t>
            </a:r>
            <a:endParaRPr b="0" lang="en-US" sz="3600" spc="-1" strike="noStrike">
              <a:solidFill>
                <a:srgbClr val="000000"/>
              </a:solidFill>
              <a:latin typeface="Arial"/>
            </a:endParaRPr>
          </a:p>
        </p:txBody>
      </p:sp>
      <p:graphicFrame>
        <p:nvGraphicFramePr>
          <p:cNvPr id="465" name=""/>
          <p:cNvGraphicFramePr/>
          <p:nvPr/>
        </p:nvGraphicFramePr>
        <p:xfrm>
          <a:off x="1042920" y="1276200"/>
          <a:ext cx="7274160" cy="3687840"/>
        </p:xfrm>
        <a:graphic>
          <a:graphicData uri="http://schemas.openxmlformats.org/drawingml/2006/table">
            <a:tbl>
              <a:tblPr/>
              <a:tblGrid>
                <a:gridCol w="3565440"/>
                <a:gridCol w="395280"/>
                <a:gridCol w="360360"/>
                <a:gridCol w="360360"/>
                <a:gridCol w="360360"/>
                <a:gridCol w="358920"/>
                <a:gridCol w="357120"/>
                <a:gridCol w="379440"/>
                <a:gridCol w="378000"/>
                <a:gridCol w="379440"/>
                <a:gridCol w="3794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 Я не бачу причин для смутк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 Прослухавши мелодію, я можу точно відтворити її.</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 Я пам'ятаю те, чому мене вчили кілька років том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 Коли я чую чиюсь розповідь, я ніби бачу, як все відбувається.</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 Я вважаю, що емоції тільки заважають в розмов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 Мені важко дається алгебра.</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 Мені легко першому почати розмов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 Я легко запам'ятовую незнайомих осіб.</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 Якщо хтось висуває ідеї, я вимагаю аргументів.</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0. </a:t>
                      </a:r>
                      <a:r>
                        <a:rPr b="0" lang="uk-UA" sz="1200" spc="-1" strike="noStrike">
                          <a:solidFill>
                            <a:srgbClr val="000000"/>
                          </a:solidFill>
                          <a:latin typeface="Arial"/>
                        </a:rPr>
                        <a:t>Я не бачу особливих причин для радост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bl>
          </a:graphicData>
        </a:graphic>
      </p:graphicFrame>
      <p:sp>
        <p:nvSpPr>
          <p:cNvPr id="466" name="Rectangle 1"/>
          <p:cNvSpPr/>
          <p:nvPr/>
        </p:nvSpPr>
        <p:spPr>
          <a:xfrm>
            <a:off x="1763640" y="703080"/>
            <a:ext cx="6121440" cy="529200"/>
          </a:xfrm>
          <a:prstGeom prst="rect">
            <a:avLst/>
          </a:prstGeom>
          <a:solidFill>
            <a:srgbClr val="f8f9fa">
              <a:alpha val="83000"/>
            </a:srgbClr>
          </a:solidFill>
          <a:ln w="0">
            <a:noFill/>
          </a:ln>
        </p:spPr>
        <p:style>
          <a:lnRef idx="0"/>
          <a:fillRef idx="0"/>
          <a:effectRef idx="0"/>
          <a:fontRef idx="minor"/>
        </p:style>
        <p:txBody>
          <a:bodyPr lIns="0" rIns="0" tIns="-9360" bIns="-9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222222"/>
                </a:solidFill>
                <a:latin typeface="Roboto Condensed"/>
              </a:rPr>
              <a:t>Прочитайте ці твердження і оцініть, наскільки вони точно відображають вашу поведінку за десятибальною шкалою від 1 - абсолютно не відповідає до 10 - відповідає повністю, обведіть потрібне число.</a:t>
            </a:r>
            <a:r>
              <a:rPr b="0" lang="uk-UA" sz="1200" spc="-1" strike="noStrike">
                <a:solidFill>
                  <a:srgbClr val="000000"/>
                </a:solidFill>
                <a:latin typeface="Roboto Condensed"/>
              </a:rPr>
              <a:t> </a:t>
            </a:r>
            <a:endParaRPr b="0" lang="en-US" sz="1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123640" y="123840"/>
            <a:ext cx="5759640" cy="7524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796bf"/>
                </a:solidFill>
                <a:latin typeface="Oswald"/>
              </a:rPr>
              <a:t>ОБРОБКА РЕЗУЛЬТАТІВ</a:t>
            </a:r>
            <a:endParaRPr b="0" lang="en-US" sz="4400" spc="-1" strike="noStrike">
              <a:solidFill>
                <a:srgbClr val="000000"/>
              </a:solidFill>
              <a:latin typeface="Arial"/>
            </a:endParaRPr>
          </a:p>
        </p:txBody>
      </p:sp>
      <p:sp>
        <p:nvSpPr>
          <p:cNvPr id="468" name="PlaceHolder 2"/>
          <p:cNvSpPr>
            <a:spLocks noGrp="1"/>
          </p:cNvSpPr>
          <p:nvPr>
            <p:ph/>
          </p:nvPr>
        </p:nvSpPr>
        <p:spPr>
          <a:xfrm>
            <a:off x="539640" y="842760"/>
            <a:ext cx="8064720" cy="3816360"/>
          </a:xfrm>
          <a:prstGeom prst="rect">
            <a:avLst/>
          </a:prstGeom>
          <a:solidFill>
            <a:srgbClr val="ffffff">
              <a:alpha val="78000"/>
            </a:srgbClr>
          </a:solidFill>
          <a:ln w="0">
            <a:noFill/>
          </a:ln>
        </p:spPr>
        <p:txBody>
          <a:bodyPr tIns="91440" bIns="91440" anchor="t">
            <a:normAutofit fontScale="94000"/>
          </a:bodyPr>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Підрахуйте суму балів окремо по непарним і по парним пунктам тверджень. Якщо перша сума (Л) більше, ніж на 5 перевищує другу (П), ви належите до логічного типу. Ви схильні діяти під впливом розуму, а не емоцій. При прийнятті рішень частіше покладаєтеся на розрахунок, ніж на інтуїцію. Більше довіряєте зовнішній інформації, ніж внутрішнім враженням. Ваша сильна сторона - логіка. Ви оптимістичні, життєрадісні і товариські. Ви можете стати математиком, викладачем, програмістом, конструктором, інженером.</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Якщо друга сума (П) більше, ніж на 5 перевищує першу (Л), ви - людина художнього типу. Ймовірно, ви приймаєте рішення на інтуїтивному рівні, більше покладаючись на емоції, ніж на розум, довіряєте більше своїм почуттям, ніж зовнішній інформації. Ви ранимі і вразливі, тому не відчуваєте потреби у широкому колі спілкування, цінуєте незалежність. При наявності спеціальних здібностей можете бути успішним в естетичних видах діяльності. </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Чим більше різниця між двома сумами, тим сильніше домінує відповідне півкуля (Л - ліве, П - праве). Якщо різниця мала, значить, ви в рівній мірі поєднуєте характеристики «мислителя» і «художника». Уміння мислити образно і логічно, аналізувати і синтезувати інформацію, керуватися при прийнятті рішень не тільки розумом, а й серцем відкриває перед вами широке поле діяльності.</a:t>
            </a:r>
            <a:endParaRPr b="0" lang="en-US" sz="1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39640" y="0"/>
            <a:ext cx="5111640" cy="94464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ЛЮДСЬКИЙ ФАКТОР</a:t>
            </a:r>
            <a:endParaRPr b="0" lang="en-US" sz="4400" spc="-1" strike="noStrike">
              <a:solidFill>
                <a:srgbClr val="000000"/>
              </a:solidFill>
              <a:latin typeface="Arial"/>
            </a:endParaRPr>
          </a:p>
        </p:txBody>
      </p:sp>
      <p:sp>
        <p:nvSpPr>
          <p:cNvPr id="470" name="PlaceHolder 2"/>
          <p:cNvSpPr>
            <a:spLocks noGrp="1"/>
          </p:cNvSpPr>
          <p:nvPr>
            <p:ph type="subTitle"/>
          </p:nvPr>
        </p:nvSpPr>
        <p:spPr>
          <a:xfrm>
            <a:off x="971280" y="1131840"/>
            <a:ext cx="7272360" cy="3384720"/>
          </a:xfrm>
          <a:prstGeom prst="rect">
            <a:avLst/>
          </a:prstGeom>
          <a:solidFill>
            <a:srgbClr val="00b0f0">
              <a:alpha val="58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      </a:t>
            </a:r>
            <a:r>
              <a:rPr b="1" lang="uk-UA" sz="1600" spc="-1" strike="noStrike">
                <a:solidFill>
                  <a:srgbClr val="ffffff"/>
                </a:solidFill>
                <a:latin typeface="Roboto Condensed"/>
              </a:rPr>
              <a:t>Добре, якщо інтерес до професії поєднується з набором професійно важливих якостей. А якщо ні? Якщо професійний інтерес слабкий або нестійкий, краще змінити свій вибір: «Не вийде з мене хорошого артиста - не боляче і хотілося, піду в юристи!»</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Якщо людина не хоче відмовитися від своєї мрії, вона повинна розвинути необхідні якості. Справитися з забудькуватістю допомагає систематичне ведення різних записів, подолати страх висоти - сила волі і самовладання, слабкість просторового і образного мислення - використання макетів і наочних посібників. Недолік аналітичних здібностей юрист може компенсувати високою працездатністю. Але є якості, відсутність яких нічим не можна компенсувати, наприклад, порядність, відповідальність, працьовитість. Непорядна, ледача або безвідповідальна людина здатна створити багато проблем, і чим відповідальніше його робота, тим він небезпечніший для оточуючих.</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8000" y="1347840"/>
            <a:ext cx="4390920" cy="9367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600" spc="-1" strike="noStrike">
                <a:solidFill>
                  <a:srgbClr val="81d1ec"/>
                </a:solidFill>
                <a:latin typeface="Oswald"/>
              </a:rPr>
              <a:t>Я - КЕРІВНИК</a:t>
            </a:r>
            <a:endParaRPr b="0" lang="en-US" sz="5600" spc="-1" strike="noStrike">
              <a:solidFill>
                <a:srgbClr val="000000"/>
              </a:solidFill>
              <a:latin typeface="Arial"/>
            </a:endParaRPr>
          </a:p>
        </p:txBody>
      </p:sp>
      <p:sp>
        <p:nvSpPr>
          <p:cNvPr id="472" name="PlaceHolder 2"/>
          <p:cNvSpPr>
            <a:spLocks noGrp="1"/>
          </p:cNvSpPr>
          <p:nvPr>
            <p:ph/>
          </p:nvPr>
        </p:nvSpPr>
        <p:spPr>
          <a:xfrm>
            <a:off x="250920" y="2211480"/>
            <a:ext cx="4968720" cy="252072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607896"/>
                </a:solidFill>
                <a:latin typeface="Roboto Condensed"/>
              </a:rPr>
              <a:t>За даними досліджень, більше половини підлітків збирається управляти іншими людьми або фінансами, планує стати менеджерами, підприємцями або просто керівниками, хоча тільки 5-7% людей мають необхідні для цього здібності.</a:t>
            </a:r>
            <a:r>
              <a:rPr b="0" lang="ru-RU" sz="2000" spc="-1" strike="noStrike">
                <a:solidFill>
                  <a:srgbClr val="607896"/>
                </a:solidFill>
                <a:latin typeface="Roboto Condensed"/>
              </a:rPr>
              <a:t> </a:t>
            </a:r>
            <a:endParaRPr b="0" lang="en-US" sz="2000" spc="-1" strike="noStrike">
              <a:solidFill>
                <a:srgbClr val="000000"/>
              </a:solidFill>
              <a:latin typeface="Arial"/>
            </a:endParaRPr>
          </a:p>
        </p:txBody>
      </p:sp>
      <p:pic>
        <p:nvPicPr>
          <p:cNvPr id="473" name="Google Shape;248;p21" descr=""/>
          <p:cNvPicPr/>
          <p:nvPr/>
        </p:nvPicPr>
        <p:blipFill>
          <a:blip r:embed="rId1"/>
          <a:srcRect l="17702" t="0" r="5551" b="0"/>
          <a:stretch/>
        </p:blipFill>
        <p:spPr>
          <a:xfrm>
            <a:off x="5195880" y="0"/>
            <a:ext cx="3948120" cy="51436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oogle Shape;338;p31"/>
          <p:cNvSpPr/>
          <p:nvPr/>
        </p:nvSpPr>
        <p:spPr>
          <a:xfrm>
            <a:off x="2195640" y="0"/>
            <a:ext cx="6948360" cy="771480"/>
          </a:xfrm>
          <a:prstGeom prst="rect">
            <a:avLst/>
          </a:prstGeom>
          <a:noFill/>
          <a:ln w="0">
            <a:noFill/>
          </a:ln>
        </p:spPr>
        <p:style>
          <a:lnRef idx="0"/>
          <a:fillRef idx="0"/>
          <a:effectRef idx="0"/>
          <a:fontRef idx="minor"/>
        </p:style>
        <p:txBody>
          <a:bodyPr tIns="9144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607896"/>
                </a:solidFill>
                <a:latin typeface="Roboto Condensed"/>
              </a:rPr>
              <a:t>Розгляньте таблицю, в якій наведено професійно важливі якості керівника і підприємця, і оціните ступінь розвитку цих якостей у себе, зазначивши відповідну клітку в таблиці</a:t>
            </a:r>
            <a:endParaRPr b="0" lang="en-US" sz="1600" spc="-1" strike="noStrike">
              <a:solidFill>
                <a:srgbClr val="000000"/>
              </a:solidFill>
              <a:latin typeface="Arial"/>
            </a:endParaRPr>
          </a:p>
        </p:txBody>
      </p:sp>
      <p:graphicFrame>
        <p:nvGraphicFramePr>
          <p:cNvPr id="475" name=""/>
          <p:cNvGraphicFramePr/>
          <p:nvPr/>
        </p:nvGraphicFramePr>
        <p:xfrm>
          <a:off x="108000" y="936720"/>
          <a:ext cx="8928000" cy="4206960"/>
        </p:xfrm>
        <a:graphic>
          <a:graphicData uri="http://schemas.openxmlformats.org/drawingml/2006/table">
            <a:tbl>
              <a:tblPr/>
              <a:tblGrid>
                <a:gridCol w="1581120"/>
                <a:gridCol w="2531880"/>
                <a:gridCol w="2527560"/>
                <a:gridCol w="2287440"/>
              </a:tblGrid>
              <a:tr h="319680">
                <a:tc>
                  <a:txBody>
                    <a:bodyPr tIns="68400" bIns="68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Висо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Середні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Низь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Інтелект</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Може працювати при дефіциті інформації, тому що реконструює події по деталях, володіє інтуїцією, яка допомагає передбач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аналізувати і систематизувати інформацію, приймати правильні рішення і в ряді випадків прогнозув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труднощі при аналізі інформації, не може побудувати цілісну картину подій з окремих фактів.</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Комунікабе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щирим інтересом і дружелюбністю, легко встановлює контакти з представниками різних кіл.</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повагою і інтересом, ввічливий, коректний, не уникає контактів з людьми, але і не прагне ї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більшості людей відчуває погано приховуване роздратування, досить складно знайти спільну мову з іншими людь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Відповіда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брати на себе відповідальність не тільки за свої дії і рішення, але і за дії своїх підлеглих, причини невдач шукає в соб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Визнає відповідальність за свої дії і рішення, але готовий розділити її з інши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никає приймати рішення, при слушній нагоді перекладає відповідальність на інши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Організаторські здібності</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захопити людей своєю ідеєю, може знайти застосування кожній людині, створити умови для її роботи і переконати в її важливост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організувати інших людей на спільну справу, але може відчувати при цьому труднощі. Іноді простіше це зробити самому.</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Не любить і не вміє організовувати інших людей і відчуває труднощі із самоорганізацією.</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Наполеглив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Якщо прийняв рішення, приводить його в життя швидко, рішуче і безповоротно. Йде до наміченої мети, не звертаючи уваги на труднощ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хвалення рішення дається ціною деяких зусиль. Долає перешкоди на шляху до мети ціною великої напруг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занепокоєння, якщо від нього вимагають активних дій, займає вичікувальну позицію. Відступає при перших трудноща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bl>
          </a:graphicData>
        </a:graphic>
      </p:graphicFrame>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Прямоугольник 2"/>
          <p:cNvSpPr/>
          <p:nvPr/>
        </p:nvSpPr>
        <p:spPr>
          <a:xfrm>
            <a:off x="1908000" y="0"/>
            <a:ext cx="424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Прочитайте притчу і подумайте, чому Івану платять більше, ніж Петр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Як називається зараз професія прикажчика?</a:t>
            </a:r>
            <a:endParaRPr b="0" lang="en-US" sz="1800" spc="-1" strike="noStrike">
              <a:solidFill>
                <a:srgbClr val="000000"/>
              </a:solidFill>
              <a:latin typeface="Arial"/>
            </a:endParaRPr>
          </a:p>
        </p:txBody>
      </p:sp>
      <p:sp>
        <p:nvSpPr>
          <p:cNvPr id="477" name="Rectangle 2"/>
          <p:cNvSpPr/>
          <p:nvPr/>
        </p:nvSpPr>
        <p:spPr>
          <a:xfrm>
            <a:off x="108000" y="762840"/>
            <a:ext cx="5904000" cy="4604040"/>
          </a:xfrm>
          <a:prstGeom prst="horizontalScroll">
            <a:avLst>
              <a:gd name="adj" fmla="val 3912"/>
            </a:avLst>
          </a:prstGeom>
          <a:solidFill>
            <a:srgbClr val="ddedf0"/>
          </a:solidFill>
          <a:ln w="19080">
            <a:solidFill>
              <a:srgbClr val="81d1ec"/>
            </a:solidFill>
            <a:miter/>
          </a:ln>
        </p:spPr>
        <p:style>
          <a:lnRef idx="0"/>
          <a:fillRef idx="0"/>
          <a:effectRef idx="0"/>
          <a:fontRef idx="minor"/>
        </p:style>
        <p:txBody>
          <a:bodyPr lIns="0" rIns="0" tIns="-9360" bIns="-9360" anchor="ctr">
            <a:spAutoFit/>
          </a:bodyPr>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рикажчик Петро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ти несправедливий. Я прикажчик, і Іван прикажчик, а платиш ти Івану вдвічі більше. Чому так? Адже я виконую всі твої доруче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Я поясню тобі, - відповів купець. Але зараз збігай-но швидко до дороги. За нею йде обоз, дізнайся, звідки він.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збігав до обозу і, повернувшись, повідомив: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з села Федорина.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Добре, - сказав купець, - а тепер дізнайся, куд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виконав і це завда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в село.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 гукнув купець другого прикажчика, - збігай-но до обозу і дізнайся, звідк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побіг до дороги і, повернувшись,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обоз їде з села Федорина в село на ярмарок. Везе багато картоплі. Нам не треба сьогодні відправляти картоплю на ярмарок - ціна на неї впаде. Треба терміново відправляти туди капусту.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Тепер ти зрозумів, чому я плачу Івану вдвічі більше? - запитав купець у Петра. </a:t>
            </a:r>
            <a:endParaRPr b="0" lang="en-US" sz="1400" spc="-1" strike="noStrike">
              <a:solidFill>
                <a:srgbClr val="000000"/>
              </a:solidFill>
              <a:latin typeface="Arial"/>
            </a:endParaRPr>
          </a:p>
        </p:txBody>
      </p:sp>
      <p:pic>
        <p:nvPicPr>
          <p:cNvPr id="478" name="Picture 5" descr="Похожее изображение"/>
          <p:cNvPicPr/>
          <p:nvPr/>
        </p:nvPicPr>
        <p:blipFill>
          <a:blip r:embed="rId1"/>
          <a:stretch/>
        </p:blipFill>
        <p:spPr>
          <a:xfrm>
            <a:off x="6156360" y="1851120"/>
            <a:ext cx="2808360" cy="1873080"/>
          </a:xfrm>
          <a:prstGeom prst="rect">
            <a:avLst/>
          </a:prstGeom>
          <a:ln w="0">
            <a:noFill/>
          </a:ln>
        </p:spPr>
      </p:pic>
      <p:pic>
        <p:nvPicPr>
          <p:cNvPr id="479" name="Picture 7" descr="Картинки по запросу украинская ярмарка"/>
          <p:cNvPicPr/>
          <p:nvPr/>
        </p:nvPicPr>
        <p:blipFill>
          <a:blip r:embed="rId2"/>
          <a:stretch/>
        </p:blipFill>
        <p:spPr>
          <a:xfrm>
            <a:off x="6156360" y="0"/>
            <a:ext cx="2808360" cy="1871640"/>
          </a:xfrm>
          <a:prstGeom prst="rect">
            <a:avLst/>
          </a:prstGeom>
          <a:ln w="0">
            <a:noFill/>
          </a:ln>
        </p:spPr>
      </p:pic>
      <p:pic>
        <p:nvPicPr>
          <p:cNvPr id="480" name="Picture 9" descr="Картинки по запросу сорочинская ярмарка"/>
          <p:cNvPicPr/>
          <p:nvPr/>
        </p:nvPicPr>
        <p:blipFill>
          <a:blip r:embed="rId3"/>
          <a:stretch/>
        </p:blipFill>
        <p:spPr>
          <a:xfrm>
            <a:off x="6156360" y="3346560"/>
            <a:ext cx="2849400" cy="1797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Картинки по запросу менеджер"/>
          <p:cNvPicPr/>
          <p:nvPr/>
        </p:nvPicPr>
        <p:blipFill>
          <a:blip r:embed="rId1"/>
          <a:stretch/>
        </p:blipFill>
        <p:spPr>
          <a:xfrm>
            <a:off x="539640" y="0"/>
            <a:ext cx="8064720" cy="5143680"/>
          </a:xfrm>
          <a:prstGeom prst="rect">
            <a:avLst/>
          </a:prstGeom>
          <a:ln w="0">
            <a:noFill/>
          </a:ln>
        </p:spPr>
      </p:pic>
      <p:sp>
        <p:nvSpPr>
          <p:cNvPr id="482" name="Google Shape;301;p27"/>
          <p:cNvSpPr/>
          <p:nvPr/>
        </p:nvSpPr>
        <p:spPr>
          <a:xfrm>
            <a:off x="971640" y="0"/>
            <a:ext cx="7272360" cy="2211480"/>
          </a:xfrm>
          <a:prstGeom prst="rect">
            <a:avLst/>
          </a:prstGeom>
          <a:noFill/>
          <a:ln w="0">
            <a:noFill/>
          </a:ln>
        </p:spPr>
        <p:style>
          <a:lnRef idx="0"/>
          <a:fillRef idx="0"/>
          <a:effectRef idx="0"/>
          <a:fontRef idx="minor"/>
        </p:style>
        <p:txBody>
          <a:bodyPr tIns="9144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07896"/>
                </a:solidFill>
                <a:latin typeface="Roboto Condensed"/>
              </a:rPr>
              <a:t>Прикажчик - це та сама професія, яка сьогодні</a:t>
            </a:r>
            <a:r>
              <a:rPr b="1" lang="en-US" sz="2400" spc="-1" strike="noStrike">
                <a:solidFill>
                  <a:srgbClr val="607896"/>
                </a:solidFill>
                <a:latin typeface="Roboto Condensed"/>
              </a:rPr>
              <a:t> </a:t>
            </a:r>
            <a:r>
              <a:rPr b="1" lang="uk-UA" sz="2400" spc="-1" strike="noStrike">
                <a:solidFill>
                  <a:srgbClr val="607896"/>
                </a:solidFill>
                <a:latin typeface="Roboto Condensed"/>
              </a:rPr>
              <a:t>називається «менеджер». До виконання однакових обов'язків двоє людей підходять по-різному: </a:t>
            </a:r>
            <a:br>
              <a:rPr sz="2400"/>
            </a:br>
            <a:r>
              <a:rPr b="1" lang="uk-UA" sz="2400" spc="-1" strike="noStrike">
                <a:solidFill>
                  <a:srgbClr val="607896"/>
                </a:solidFill>
                <a:latin typeface="Roboto Condensed"/>
              </a:rPr>
              <a:t>Петро - стандартно, Іван - творч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Google Shape;211;p18"/>
          <p:cNvSpPr/>
          <p:nvPr/>
        </p:nvSpPr>
        <p:spPr>
          <a:xfrm>
            <a:off x="4572000" y="555480"/>
            <a:ext cx="282600" cy="270000"/>
          </a:xfrm>
          <a:custGeom>
            <a:avLst/>
            <a:gdLst>
              <a:gd name="textAreaLeft" fmla="*/ 0 w 282600"/>
              <a:gd name="textAreaRight" fmla="*/ 282960 w 2826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nvGrpSpPr>
          <p:cNvPr id="484" name="Google Shape;212;p18"/>
          <p:cNvGrpSpPr/>
          <p:nvPr/>
        </p:nvGrpSpPr>
        <p:grpSpPr>
          <a:xfrm>
            <a:off x="5076720" y="0"/>
            <a:ext cx="1208160" cy="1209600"/>
            <a:chOff x="5076720" y="0"/>
            <a:chExt cx="1208160" cy="1209600"/>
          </a:xfrm>
        </p:grpSpPr>
        <p:sp>
          <p:nvSpPr>
            <p:cNvPr id="485" name="Google Shape;213;p18"/>
            <p:cNvSpPr/>
            <p:nvPr/>
          </p:nvSpPr>
          <p:spPr>
            <a:xfrm>
              <a:off x="5531040" y="455040"/>
              <a:ext cx="625680" cy="626400"/>
            </a:xfrm>
            <a:custGeom>
              <a:avLst/>
              <a:gdLst>
                <a:gd name="textAreaLeft" fmla="*/ 0 w 625680"/>
                <a:gd name="textAreaRight" fmla="*/ 626040 w 625680"/>
                <a:gd name="textAreaTop" fmla="*/ 0 h 626400"/>
                <a:gd name="textAreaBottom" fmla="*/ 626760 h 626400"/>
              </a:gdLst>
              <a:ahLst/>
              <a:rect l="textAreaLeft" t="textAreaTop" r="textAreaRight" b="textAreaBottom"/>
              <a:pathLst>
                <a:path w="8475" h="8476">
                  <a:moveTo>
                    <a:pt x="8157" y="0"/>
                  </a:moveTo>
                  <a:lnTo>
                    <a:pt x="7327" y="1075"/>
                  </a:lnTo>
                  <a:lnTo>
                    <a:pt x="6399" y="2150"/>
                  </a:lnTo>
                  <a:lnTo>
                    <a:pt x="5422" y="3249"/>
                  </a:lnTo>
                  <a:lnTo>
                    <a:pt x="4347" y="4348"/>
                  </a:lnTo>
                  <a:lnTo>
                    <a:pt x="3248" y="5422"/>
                  </a:lnTo>
                  <a:lnTo>
                    <a:pt x="2149" y="6399"/>
                  </a:lnTo>
                  <a:lnTo>
                    <a:pt x="1075" y="7327"/>
                  </a:lnTo>
                  <a:lnTo>
                    <a:pt x="0" y="8158"/>
                  </a:lnTo>
                  <a:lnTo>
                    <a:pt x="440" y="8280"/>
                  </a:lnTo>
                  <a:lnTo>
                    <a:pt x="855" y="8377"/>
                  </a:lnTo>
                  <a:lnTo>
                    <a:pt x="1294" y="8426"/>
                  </a:lnTo>
                  <a:lnTo>
                    <a:pt x="1734" y="8475"/>
                  </a:lnTo>
                  <a:lnTo>
                    <a:pt x="2174" y="8475"/>
                  </a:lnTo>
                  <a:lnTo>
                    <a:pt x="2613" y="8451"/>
                  </a:lnTo>
                  <a:lnTo>
                    <a:pt x="3028" y="8402"/>
                  </a:lnTo>
                  <a:lnTo>
                    <a:pt x="3468" y="8304"/>
                  </a:lnTo>
                  <a:lnTo>
                    <a:pt x="3883" y="8207"/>
                  </a:lnTo>
                  <a:lnTo>
                    <a:pt x="4323" y="8060"/>
                  </a:lnTo>
                  <a:lnTo>
                    <a:pt x="4714" y="7889"/>
                  </a:lnTo>
                  <a:lnTo>
                    <a:pt x="5129" y="7694"/>
                  </a:lnTo>
                  <a:lnTo>
                    <a:pt x="5520" y="7449"/>
                  </a:lnTo>
                  <a:lnTo>
                    <a:pt x="5886" y="7205"/>
                  </a:lnTo>
                  <a:lnTo>
                    <a:pt x="6252" y="6912"/>
                  </a:lnTo>
                  <a:lnTo>
                    <a:pt x="6594" y="6595"/>
                  </a:lnTo>
                  <a:lnTo>
                    <a:pt x="6912" y="6253"/>
                  </a:lnTo>
                  <a:lnTo>
                    <a:pt x="7205" y="5886"/>
                  </a:lnTo>
                  <a:lnTo>
                    <a:pt x="7449" y="5520"/>
                  </a:lnTo>
                  <a:lnTo>
                    <a:pt x="7693" y="5129"/>
                  </a:lnTo>
                  <a:lnTo>
                    <a:pt x="7889" y="4714"/>
                  </a:lnTo>
                  <a:lnTo>
                    <a:pt x="8060" y="4323"/>
                  </a:lnTo>
                  <a:lnTo>
                    <a:pt x="8206" y="3884"/>
                  </a:lnTo>
                  <a:lnTo>
                    <a:pt x="8304" y="3468"/>
                  </a:lnTo>
                  <a:lnTo>
                    <a:pt x="8402" y="3029"/>
                  </a:lnTo>
                  <a:lnTo>
                    <a:pt x="8450" y="2614"/>
                  </a:lnTo>
                  <a:lnTo>
                    <a:pt x="8475" y="2174"/>
                  </a:lnTo>
                  <a:lnTo>
                    <a:pt x="8475" y="1734"/>
                  </a:lnTo>
                  <a:lnTo>
                    <a:pt x="8426" y="1295"/>
                  </a:lnTo>
                  <a:lnTo>
                    <a:pt x="8377" y="855"/>
                  </a:lnTo>
                  <a:lnTo>
                    <a:pt x="8279" y="440"/>
                  </a:lnTo>
                  <a:lnTo>
                    <a:pt x="8157" y="0"/>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6" name="Google Shape;214;p18"/>
            <p:cNvSpPr/>
            <p:nvPr/>
          </p:nvSpPr>
          <p:spPr>
            <a:xfrm>
              <a:off x="5076720" y="0"/>
              <a:ext cx="1208160" cy="1209600"/>
            </a:xfrm>
            <a:custGeom>
              <a:avLst/>
              <a:gdLst>
                <a:gd name="textAreaLeft" fmla="*/ 0 w 1208160"/>
                <a:gd name="textAreaRight" fmla="*/ 1208520 w 1208160"/>
                <a:gd name="textAreaTop" fmla="*/ 0 h 1209600"/>
                <a:gd name="textAreaBottom" fmla="*/ 1209960 h 1209600"/>
              </a:gdLst>
              <a:ahLst/>
              <a:rect l="textAreaLeft" t="textAreaTop" r="textAreaRight" b="textAreaBottom"/>
              <a:pathLst>
                <a:path w="16364" h="16365">
                  <a:moveTo>
                    <a:pt x="13580" y="1686"/>
                  </a:moveTo>
                  <a:lnTo>
                    <a:pt x="13677" y="1735"/>
                  </a:lnTo>
                  <a:lnTo>
                    <a:pt x="13775" y="1759"/>
                  </a:lnTo>
                  <a:lnTo>
                    <a:pt x="13848" y="1832"/>
                  </a:lnTo>
                  <a:lnTo>
                    <a:pt x="13897" y="1906"/>
                  </a:lnTo>
                  <a:lnTo>
                    <a:pt x="13946" y="1979"/>
                  </a:lnTo>
                  <a:lnTo>
                    <a:pt x="13970" y="2077"/>
                  </a:lnTo>
                  <a:lnTo>
                    <a:pt x="13995" y="2174"/>
                  </a:lnTo>
                  <a:lnTo>
                    <a:pt x="13995" y="2419"/>
                  </a:lnTo>
                  <a:lnTo>
                    <a:pt x="13922" y="2687"/>
                  </a:lnTo>
                  <a:lnTo>
                    <a:pt x="13824" y="3029"/>
                  </a:lnTo>
                  <a:lnTo>
                    <a:pt x="13677" y="3371"/>
                  </a:lnTo>
                  <a:lnTo>
                    <a:pt x="13482" y="3762"/>
                  </a:lnTo>
                  <a:lnTo>
                    <a:pt x="13238" y="4177"/>
                  </a:lnTo>
                  <a:lnTo>
                    <a:pt x="12993" y="3908"/>
                  </a:lnTo>
                  <a:lnTo>
                    <a:pt x="12749" y="3615"/>
                  </a:lnTo>
                  <a:lnTo>
                    <a:pt x="12407" y="3298"/>
                  </a:lnTo>
                  <a:lnTo>
                    <a:pt x="12041" y="3029"/>
                  </a:lnTo>
                  <a:lnTo>
                    <a:pt x="11675" y="2761"/>
                  </a:lnTo>
                  <a:lnTo>
                    <a:pt x="11308" y="2541"/>
                  </a:lnTo>
                  <a:lnTo>
                    <a:pt x="11748" y="2272"/>
                  </a:lnTo>
                  <a:lnTo>
                    <a:pt x="12187" y="2052"/>
                  </a:lnTo>
                  <a:lnTo>
                    <a:pt x="12554" y="1881"/>
                  </a:lnTo>
                  <a:lnTo>
                    <a:pt x="12920" y="1759"/>
                  </a:lnTo>
                  <a:lnTo>
                    <a:pt x="13213" y="1686"/>
                  </a:lnTo>
                  <a:close/>
                  <a:moveTo>
                    <a:pt x="9721" y="3591"/>
                  </a:moveTo>
                  <a:lnTo>
                    <a:pt x="9794" y="3615"/>
                  </a:lnTo>
                  <a:lnTo>
                    <a:pt x="9916" y="3713"/>
                  </a:lnTo>
                  <a:lnTo>
                    <a:pt x="10014" y="3835"/>
                  </a:lnTo>
                  <a:lnTo>
                    <a:pt x="10038" y="3908"/>
                  </a:lnTo>
                  <a:lnTo>
                    <a:pt x="10038" y="3982"/>
                  </a:lnTo>
                  <a:lnTo>
                    <a:pt x="10038" y="4055"/>
                  </a:lnTo>
                  <a:lnTo>
                    <a:pt x="10014" y="4128"/>
                  </a:lnTo>
                  <a:lnTo>
                    <a:pt x="9916" y="4250"/>
                  </a:lnTo>
                  <a:lnTo>
                    <a:pt x="9794" y="4348"/>
                  </a:lnTo>
                  <a:lnTo>
                    <a:pt x="9721" y="4372"/>
                  </a:lnTo>
                  <a:lnTo>
                    <a:pt x="9574" y="4372"/>
                  </a:lnTo>
                  <a:lnTo>
                    <a:pt x="9501" y="4348"/>
                  </a:lnTo>
                  <a:lnTo>
                    <a:pt x="9379" y="4250"/>
                  </a:lnTo>
                  <a:lnTo>
                    <a:pt x="9281" y="4128"/>
                  </a:lnTo>
                  <a:lnTo>
                    <a:pt x="9257" y="4055"/>
                  </a:lnTo>
                  <a:lnTo>
                    <a:pt x="9257" y="3982"/>
                  </a:lnTo>
                  <a:lnTo>
                    <a:pt x="9257" y="3908"/>
                  </a:lnTo>
                  <a:lnTo>
                    <a:pt x="9281" y="3835"/>
                  </a:lnTo>
                  <a:lnTo>
                    <a:pt x="9379" y="3713"/>
                  </a:lnTo>
                  <a:lnTo>
                    <a:pt x="9501" y="3615"/>
                  </a:lnTo>
                  <a:lnTo>
                    <a:pt x="9574" y="3591"/>
                  </a:lnTo>
                  <a:close/>
                  <a:moveTo>
                    <a:pt x="8182" y="3322"/>
                  </a:moveTo>
                  <a:lnTo>
                    <a:pt x="8304" y="3347"/>
                  </a:lnTo>
                  <a:lnTo>
                    <a:pt x="8402" y="3371"/>
                  </a:lnTo>
                  <a:lnTo>
                    <a:pt x="8500" y="3420"/>
                  </a:lnTo>
                  <a:lnTo>
                    <a:pt x="8597" y="3493"/>
                  </a:lnTo>
                  <a:lnTo>
                    <a:pt x="8671" y="3591"/>
                  </a:lnTo>
                  <a:lnTo>
                    <a:pt x="8719" y="3689"/>
                  </a:lnTo>
                  <a:lnTo>
                    <a:pt x="8768" y="3786"/>
                  </a:lnTo>
                  <a:lnTo>
                    <a:pt x="8768" y="3908"/>
                  </a:lnTo>
                  <a:lnTo>
                    <a:pt x="8768" y="4031"/>
                  </a:lnTo>
                  <a:lnTo>
                    <a:pt x="8719" y="4153"/>
                  </a:lnTo>
                  <a:lnTo>
                    <a:pt x="8671" y="4250"/>
                  </a:lnTo>
                  <a:lnTo>
                    <a:pt x="8597" y="4324"/>
                  </a:lnTo>
                  <a:lnTo>
                    <a:pt x="8500" y="4397"/>
                  </a:lnTo>
                  <a:lnTo>
                    <a:pt x="8402" y="4446"/>
                  </a:lnTo>
                  <a:lnTo>
                    <a:pt x="8304" y="4495"/>
                  </a:lnTo>
                  <a:lnTo>
                    <a:pt x="8060" y="4495"/>
                  </a:lnTo>
                  <a:lnTo>
                    <a:pt x="7962" y="4446"/>
                  </a:lnTo>
                  <a:lnTo>
                    <a:pt x="7865" y="4397"/>
                  </a:lnTo>
                  <a:lnTo>
                    <a:pt x="7767" y="4324"/>
                  </a:lnTo>
                  <a:lnTo>
                    <a:pt x="7694" y="4250"/>
                  </a:lnTo>
                  <a:lnTo>
                    <a:pt x="7645" y="4153"/>
                  </a:lnTo>
                  <a:lnTo>
                    <a:pt x="7596" y="4031"/>
                  </a:lnTo>
                  <a:lnTo>
                    <a:pt x="7596" y="3908"/>
                  </a:lnTo>
                  <a:lnTo>
                    <a:pt x="7596" y="3786"/>
                  </a:lnTo>
                  <a:lnTo>
                    <a:pt x="7645" y="3689"/>
                  </a:lnTo>
                  <a:lnTo>
                    <a:pt x="7694" y="3591"/>
                  </a:lnTo>
                  <a:lnTo>
                    <a:pt x="7767" y="3493"/>
                  </a:lnTo>
                  <a:lnTo>
                    <a:pt x="7865" y="3420"/>
                  </a:lnTo>
                  <a:lnTo>
                    <a:pt x="7962" y="3371"/>
                  </a:lnTo>
                  <a:lnTo>
                    <a:pt x="8060" y="3347"/>
                  </a:lnTo>
                  <a:lnTo>
                    <a:pt x="8182" y="3322"/>
                  </a:lnTo>
                  <a:close/>
                  <a:moveTo>
                    <a:pt x="9086" y="4763"/>
                  </a:moveTo>
                  <a:lnTo>
                    <a:pt x="9159" y="4788"/>
                  </a:lnTo>
                  <a:lnTo>
                    <a:pt x="9281" y="4885"/>
                  </a:lnTo>
                  <a:lnTo>
                    <a:pt x="9354" y="5007"/>
                  </a:lnTo>
                  <a:lnTo>
                    <a:pt x="9379" y="5081"/>
                  </a:lnTo>
                  <a:lnTo>
                    <a:pt x="9379" y="5154"/>
                  </a:lnTo>
                  <a:lnTo>
                    <a:pt x="9379" y="5227"/>
                  </a:lnTo>
                  <a:lnTo>
                    <a:pt x="9354" y="5301"/>
                  </a:lnTo>
                  <a:lnTo>
                    <a:pt x="9281" y="5423"/>
                  </a:lnTo>
                  <a:lnTo>
                    <a:pt x="9159" y="5520"/>
                  </a:lnTo>
                  <a:lnTo>
                    <a:pt x="9086" y="5545"/>
                  </a:lnTo>
                  <a:lnTo>
                    <a:pt x="8915" y="5545"/>
                  </a:lnTo>
                  <a:lnTo>
                    <a:pt x="8842" y="5520"/>
                  </a:lnTo>
                  <a:lnTo>
                    <a:pt x="8719" y="5423"/>
                  </a:lnTo>
                  <a:lnTo>
                    <a:pt x="8646" y="5301"/>
                  </a:lnTo>
                  <a:lnTo>
                    <a:pt x="8622" y="5227"/>
                  </a:lnTo>
                  <a:lnTo>
                    <a:pt x="8597" y="5154"/>
                  </a:lnTo>
                  <a:lnTo>
                    <a:pt x="8622" y="5081"/>
                  </a:lnTo>
                  <a:lnTo>
                    <a:pt x="8646" y="5007"/>
                  </a:lnTo>
                  <a:lnTo>
                    <a:pt x="8719" y="4885"/>
                  </a:lnTo>
                  <a:lnTo>
                    <a:pt x="8842" y="4788"/>
                  </a:lnTo>
                  <a:lnTo>
                    <a:pt x="8915" y="4763"/>
                  </a:lnTo>
                  <a:close/>
                  <a:moveTo>
                    <a:pt x="2540" y="11309"/>
                  </a:moveTo>
                  <a:lnTo>
                    <a:pt x="2760" y="11675"/>
                  </a:lnTo>
                  <a:lnTo>
                    <a:pt x="3029" y="12041"/>
                  </a:lnTo>
                  <a:lnTo>
                    <a:pt x="3298" y="12408"/>
                  </a:lnTo>
                  <a:lnTo>
                    <a:pt x="3615" y="12750"/>
                  </a:lnTo>
                  <a:lnTo>
                    <a:pt x="3908" y="12994"/>
                  </a:lnTo>
                  <a:lnTo>
                    <a:pt x="4177" y="13238"/>
                  </a:lnTo>
                  <a:lnTo>
                    <a:pt x="3762" y="13482"/>
                  </a:lnTo>
                  <a:lnTo>
                    <a:pt x="3371" y="13678"/>
                  </a:lnTo>
                  <a:lnTo>
                    <a:pt x="3029" y="13824"/>
                  </a:lnTo>
                  <a:lnTo>
                    <a:pt x="2687" y="13922"/>
                  </a:lnTo>
                  <a:lnTo>
                    <a:pt x="2418" y="13995"/>
                  </a:lnTo>
                  <a:lnTo>
                    <a:pt x="2174" y="13995"/>
                  </a:lnTo>
                  <a:lnTo>
                    <a:pt x="2076" y="13971"/>
                  </a:lnTo>
                  <a:lnTo>
                    <a:pt x="1979" y="13946"/>
                  </a:lnTo>
                  <a:lnTo>
                    <a:pt x="1905" y="13897"/>
                  </a:lnTo>
                  <a:lnTo>
                    <a:pt x="1832" y="13849"/>
                  </a:lnTo>
                  <a:lnTo>
                    <a:pt x="1759" y="13775"/>
                  </a:lnTo>
                  <a:lnTo>
                    <a:pt x="1734" y="13678"/>
                  </a:lnTo>
                  <a:lnTo>
                    <a:pt x="1686" y="13580"/>
                  </a:lnTo>
                  <a:lnTo>
                    <a:pt x="1686" y="13482"/>
                  </a:lnTo>
                  <a:lnTo>
                    <a:pt x="1686" y="13214"/>
                  </a:lnTo>
                  <a:lnTo>
                    <a:pt x="1759" y="12921"/>
                  </a:lnTo>
                  <a:lnTo>
                    <a:pt x="1881" y="12554"/>
                  </a:lnTo>
                  <a:lnTo>
                    <a:pt x="2052" y="12188"/>
                  </a:lnTo>
                  <a:lnTo>
                    <a:pt x="2272" y="11748"/>
                  </a:lnTo>
                  <a:lnTo>
                    <a:pt x="2540" y="11309"/>
                  </a:lnTo>
                  <a:close/>
                  <a:moveTo>
                    <a:pt x="15362" y="1"/>
                  </a:moveTo>
                  <a:lnTo>
                    <a:pt x="15094" y="25"/>
                  </a:lnTo>
                  <a:lnTo>
                    <a:pt x="14801" y="74"/>
                  </a:lnTo>
                  <a:lnTo>
                    <a:pt x="14483" y="172"/>
                  </a:lnTo>
                  <a:lnTo>
                    <a:pt x="14141" y="294"/>
                  </a:lnTo>
                  <a:lnTo>
                    <a:pt x="13775" y="440"/>
                  </a:lnTo>
                  <a:lnTo>
                    <a:pt x="13384" y="611"/>
                  </a:lnTo>
                  <a:lnTo>
                    <a:pt x="12993" y="831"/>
                  </a:lnTo>
                  <a:lnTo>
                    <a:pt x="12578" y="1051"/>
                  </a:lnTo>
                  <a:lnTo>
                    <a:pt x="11699" y="1613"/>
                  </a:lnTo>
                  <a:lnTo>
                    <a:pt x="10747" y="2272"/>
                  </a:lnTo>
                  <a:lnTo>
                    <a:pt x="10307" y="2101"/>
                  </a:lnTo>
                  <a:lnTo>
                    <a:pt x="9843" y="1955"/>
                  </a:lnTo>
                  <a:lnTo>
                    <a:pt x="9379" y="1857"/>
                  </a:lnTo>
                  <a:lnTo>
                    <a:pt x="8915" y="1784"/>
                  </a:lnTo>
                  <a:lnTo>
                    <a:pt x="8451" y="1735"/>
                  </a:lnTo>
                  <a:lnTo>
                    <a:pt x="7962" y="1735"/>
                  </a:lnTo>
                  <a:lnTo>
                    <a:pt x="7498" y="1784"/>
                  </a:lnTo>
                  <a:lnTo>
                    <a:pt x="7034" y="1832"/>
                  </a:lnTo>
                  <a:lnTo>
                    <a:pt x="6570" y="1930"/>
                  </a:lnTo>
                  <a:lnTo>
                    <a:pt x="6106" y="2077"/>
                  </a:lnTo>
                  <a:lnTo>
                    <a:pt x="5667" y="2248"/>
                  </a:lnTo>
                  <a:lnTo>
                    <a:pt x="5227" y="2443"/>
                  </a:lnTo>
                  <a:lnTo>
                    <a:pt x="4787" y="2687"/>
                  </a:lnTo>
                  <a:lnTo>
                    <a:pt x="4397" y="2980"/>
                  </a:lnTo>
                  <a:lnTo>
                    <a:pt x="4006" y="3273"/>
                  </a:lnTo>
                  <a:lnTo>
                    <a:pt x="3615" y="3615"/>
                  </a:lnTo>
                  <a:lnTo>
                    <a:pt x="3273" y="4006"/>
                  </a:lnTo>
                  <a:lnTo>
                    <a:pt x="2980" y="4397"/>
                  </a:lnTo>
                  <a:lnTo>
                    <a:pt x="2687" y="4788"/>
                  </a:lnTo>
                  <a:lnTo>
                    <a:pt x="2443" y="5227"/>
                  </a:lnTo>
                  <a:lnTo>
                    <a:pt x="2247" y="5667"/>
                  </a:lnTo>
                  <a:lnTo>
                    <a:pt x="2076" y="6107"/>
                  </a:lnTo>
                  <a:lnTo>
                    <a:pt x="1930" y="6571"/>
                  </a:lnTo>
                  <a:lnTo>
                    <a:pt x="1832" y="7035"/>
                  </a:lnTo>
                  <a:lnTo>
                    <a:pt x="1783" y="7499"/>
                  </a:lnTo>
                  <a:lnTo>
                    <a:pt x="1734" y="7963"/>
                  </a:lnTo>
                  <a:lnTo>
                    <a:pt x="1734" y="8451"/>
                  </a:lnTo>
                  <a:lnTo>
                    <a:pt x="1783" y="8915"/>
                  </a:lnTo>
                  <a:lnTo>
                    <a:pt x="1857" y="9379"/>
                  </a:lnTo>
                  <a:lnTo>
                    <a:pt x="1954" y="9843"/>
                  </a:lnTo>
                  <a:lnTo>
                    <a:pt x="2101" y="10307"/>
                  </a:lnTo>
                  <a:lnTo>
                    <a:pt x="2272" y="10747"/>
                  </a:lnTo>
                  <a:lnTo>
                    <a:pt x="1612" y="11699"/>
                  </a:lnTo>
                  <a:lnTo>
                    <a:pt x="1051" y="12579"/>
                  </a:lnTo>
                  <a:lnTo>
                    <a:pt x="831" y="12994"/>
                  </a:lnTo>
                  <a:lnTo>
                    <a:pt x="611" y="13385"/>
                  </a:lnTo>
                  <a:lnTo>
                    <a:pt x="440" y="13775"/>
                  </a:lnTo>
                  <a:lnTo>
                    <a:pt x="293" y="14142"/>
                  </a:lnTo>
                  <a:lnTo>
                    <a:pt x="171" y="14484"/>
                  </a:lnTo>
                  <a:lnTo>
                    <a:pt x="74" y="14801"/>
                  </a:lnTo>
                  <a:lnTo>
                    <a:pt x="25" y="15094"/>
                  </a:lnTo>
                  <a:lnTo>
                    <a:pt x="0" y="15363"/>
                  </a:lnTo>
                  <a:lnTo>
                    <a:pt x="0" y="15583"/>
                  </a:lnTo>
                  <a:lnTo>
                    <a:pt x="49" y="15802"/>
                  </a:lnTo>
                  <a:lnTo>
                    <a:pt x="123" y="15973"/>
                  </a:lnTo>
                  <a:lnTo>
                    <a:pt x="245" y="16120"/>
                  </a:lnTo>
                  <a:lnTo>
                    <a:pt x="342" y="16218"/>
                  </a:lnTo>
                  <a:lnTo>
                    <a:pt x="489" y="16291"/>
                  </a:lnTo>
                  <a:lnTo>
                    <a:pt x="635" y="16340"/>
                  </a:lnTo>
                  <a:lnTo>
                    <a:pt x="806" y="16364"/>
                  </a:lnTo>
                  <a:lnTo>
                    <a:pt x="1173" y="16364"/>
                  </a:lnTo>
                  <a:lnTo>
                    <a:pt x="1393" y="16315"/>
                  </a:lnTo>
                  <a:lnTo>
                    <a:pt x="1637" y="16267"/>
                  </a:lnTo>
                  <a:lnTo>
                    <a:pt x="2150" y="16120"/>
                  </a:lnTo>
                  <a:lnTo>
                    <a:pt x="2711" y="15876"/>
                  </a:lnTo>
                  <a:lnTo>
                    <a:pt x="3322" y="15583"/>
                  </a:lnTo>
                  <a:lnTo>
                    <a:pt x="3957" y="15192"/>
                  </a:lnTo>
                  <a:lnTo>
                    <a:pt x="4665" y="14752"/>
                  </a:lnTo>
                  <a:lnTo>
                    <a:pt x="5373" y="14264"/>
                  </a:lnTo>
                  <a:lnTo>
                    <a:pt x="6131" y="13702"/>
                  </a:lnTo>
                  <a:lnTo>
                    <a:pt x="6912" y="13092"/>
                  </a:lnTo>
                  <a:lnTo>
                    <a:pt x="7718" y="12432"/>
                  </a:lnTo>
                  <a:lnTo>
                    <a:pt x="8524" y="11724"/>
                  </a:lnTo>
                  <a:lnTo>
                    <a:pt x="9330" y="10967"/>
                  </a:lnTo>
                  <a:lnTo>
                    <a:pt x="10160" y="10161"/>
                  </a:lnTo>
                  <a:lnTo>
                    <a:pt x="10966" y="9330"/>
                  </a:lnTo>
                  <a:lnTo>
                    <a:pt x="11723" y="8524"/>
                  </a:lnTo>
                  <a:lnTo>
                    <a:pt x="12432" y="7718"/>
                  </a:lnTo>
                  <a:lnTo>
                    <a:pt x="13091" y="6912"/>
                  </a:lnTo>
                  <a:lnTo>
                    <a:pt x="13702" y="6131"/>
                  </a:lnTo>
                  <a:lnTo>
                    <a:pt x="14263" y="5374"/>
                  </a:lnTo>
                  <a:lnTo>
                    <a:pt x="14752" y="4666"/>
                  </a:lnTo>
                  <a:lnTo>
                    <a:pt x="15192" y="3957"/>
                  </a:lnTo>
                  <a:lnTo>
                    <a:pt x="15582" y="3322"/>
                  </a:lnTo>
                  <a:lnTo>
                    <a:pt x="15875" y="2712"/>
                  </a:lnTo>
                  <a:lnTo>
                    <a:pt x="16120" y="2150"/>
                  </a:lnTo>
                  <a:lnTo>
                    <a:pt x="16266" y="1637"/>
                  </a:lnTo>
                  <a:lnTo>
                    <a:pt x="16315" y="1393"/>
                  </a:lnTo>
                  <a:lnTo>
                    <a:pt x="16364" y="1173"/>
                  </a:lnTo>
                  <a:lnTo>
                    <a:pt x="16364" y="978"/>
                  </a:lnTo>
                  <a:lnTo>
                    <a:pt x="16364" y="807"/>
                  </a:lnTo>
                  <a:lnTo>
                    <a:pt x="16339" y="636"/>
                  </a:lnTo>
                  <a:lnTo>
                    <a:pt x="16291" y="489"/>
                  </a:lnTo>
                  <a:lnTo>
                    <a:pt x="16217" y="343"/>
                  </a:lnTo>
                  <a:lnTo>
                    <a:pt x="16120" y="245"/>
                  </a:lnTo>
                  <a:lnTo>
                    <a:pt x="15973" y="123"/>
                  </a:lnTo>
                  <a:lnTo>
                    <a:pt x="15802" y="50"/>
                  </a:lnTo>
                  <a:lnTo>
                    <a:pt x="15582" y="1"/>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grpSp>
        <p:nvGrpSpPr>
          <p:cNvPr id="487" name="Google Shape;215;p18"/>
          <p:cNvGrpSpPr/>
          <p:nvPr/>
        </p:nvGrpSpPr>
        <p:grpSpPr>
          <a:xfrm>
            <a:off x="3347280" y="195120"/>
            <a:ext cx="1002960" cy="1004040"/>
            <a:chOff x="3347280" y="195120"/>
            <a:chExt cx="1002960" cy="1004040"/>
          </a:xfrm>
        </p:grpSpPr>
        <p:sp>
          <p:nvSpPr>
            <p:cNvPr id="488" name="Google Shape;216;p18"/>
            <p:cNvSpPr/>
            <p:nvPr/>
          </p:nvSpPr>
          <p:spPr>
            <a:xfrm rot="1056600">
              <a:off x="3449160" y="297000"/>
              <a:ext cx="798480" cy="799920"/>
            </a:xfrm>
            <a:custGeom>
              <a:avLst/>
              <a:gdLst>
                <a:gd name="textAreaLeft" fmla="*/ 0 w 798480"/>
                <a:gd name="textAreaRight" fmla="*/ 798840 w 798480"/>
                <a:gd name="textAreaTop" fmla="*/ 0 h 799920"/>
                <a:gd name="textAreaBottom" fmla="*/ 800280 h 799920"/>
              </a:gdLst>
              <a:ahLst/>
              <a:rect l="textAreaLeft" t="textAreaTop" r="textAreaRight" b="textAreaBottom"/>
              <a:pathLst>
                <a:path w="17732" h="17733">
                  <a:moveTo>
                    <a:pt x="13091" y="2712"/>
                  </a:moveTo>
                  <a:lnTo>
                    <a:pt x="13286" y="2736"/>
                  </a:lnTo>
                  <a:lnTo>
                    <a:pt x="13506" y="2785"/>
                  </a:lnTo>
                  <a:lnTo>
                    <a:pt x="13702" y="2858"/>
                  </a:lnTo>
                  <a:lnTo>
                    <a:pt x="13873" y="2956"/>
                  </a:lnTo>
                  <a:lnTo>
                    <a:pt x="14068" y="3054"/>
                  </a:lnTo>
                  <a:lnTo>
                    <a:pt x="14239" y="3176"/>
                  </a:lnTo>
                  <a:lnTo>
                    <a:pt x="14410" y="3323"/>
                  </a:lnTo>
                  <a:lnTo>
                    <a:pt x="14556" y="3493"/>
                  </a:lnTo>
                  <a:lnTo>
                    <a:pt x="14679" y="3664"/>
                  </a:lnTo>
                  <a:lnTo>
                    <a:pt x="14776" y="3860"/>
                  </a:lnTo>
                  <a:lnTo>
                    <a:pt x="14874" y="4031"/>
                  </a:lnTo>
                  <a:lnTo>
                    <a:pt x="14947" y="4226"/>
                  </a:lnTo>
                  <a:lnTo>
                    <a:pt x="14996" y="4446"/>
                  </a:lnTo>
                  <a:lnTo>
                    <a:pt x="15021" y="4641"/>
                  </a:lnTo>
                  <a:lnTo>
                    <a:pt x="15021" y="4861"/>
                  </a:lnTo>
                  <a:lnTo>
                    <a:pt x="15021" y="5057"/>
                  </a:lnTo>
                  <a:lnTo>
                    <a:pt x="14996" y="5252"/>
                  </a:lnTo>
                  <a:lnTo>
                    <a:pt x="14947" y="5472"/>
                  </a:lnTo>
                  <a:lnTo>
                    <a:pt x="14874" y="5667"/>
                  </a:lnTo>
                  <a:lnTo>
                    <a:pt x="14776" y="5838"/>
                  </a:lnTo>
                  <a:lnTo>
                    <a:pt x="14679" y="6033"/>
                  </a:lnTo>
                  <a:lnTo>
                    <a:pt x="14556" y="6204"/>
                  </a:lnTo>
                  <a:lnTo>
                    <a:pt x="14410" y="6375"/>
                  </a:lnTo>
                  <a:lnTo>
                    <a:pt x="13433" y="7328"/>
                  </a:lnTo>
                  <a:lnTo>
                    <a:pt x="13311" y="7426"/>
                  </a:lnTo>
                  <a:lnTo>
                    <a:pt x="13189" y="7499"/>
                  </a:lnTo>
                  <a:lnTo>
                    <a:pt x="13042" y="7548"/>
                  </a:lnTo>
                  <a:lnTo>
                    <a:pt x="12871" y="7572"/>
                  </a:lnTo>
                  <a:lnTo>
                    <a:pt x="12725" y="7548"/>
                  </a:lnTo>
                  <a:lnTo>
                    <a:pt x="12578" y="7499"/>
                  </a:lnTo>
                  <a:lnTo>
                    <a:pt x="12456" y="7426"/>
                  </a:lnTo>
                  <a:lnTo>
                    <a:pt x="12334" y="7328"/>
                  </a:lnTo>
                  <a:lnTo>
                    <a:pt x="10405" y="5398"/>
                  </a:lnTo>
                  <a:lnTo>
                    <a:pt x="10307" y="5276"/>
                  </a:lnTo>
                  <a:lnTo>
                    <a:pt x="10234" y="5154"/>
                  </a:lnTo>
                  <a:lnTo>
                    <a:pt x="10185" y="5008"/>
                  </a:lnTo>
                  <a:lnTo>
                    <a:pt x="10160" y="4861"/>
                  </a:lnTo>
                  <a:lnTo>
                    <a:pt x="10185" y="4690"/>
                  </a:lnTo>
                  <a:lnTo>
                    <a:pt x="10234" y="4544"/>
                  </a:lnTo>
                  <a:lnTo>
                    <a:pt x="10307" y="4422"/>
                  </a:lnTo>
                  <a:lnTo>
                    <a:pt x="10405" y="4299"/>
                  </a:lnTo>
                  <a:lnTo>
                    <a:pt x="11357" y="3323"/>
                  </a:lnTo>
                  <a:lnTo>
                    <a:pt x="11528" y="3176"/>
                  </a:lnTo>
                  <a:lnTo>
                    <a:pt x="11699" y="3054"/>
                  </a:lnTo>
                  <a:lnTo>
                    <a:pt x="11894" y="2956"/>
                  </a:lnTo>
                  <a:lnTo>
                    <a:pt x="12065" y="2858"/>
                  </a:lnTo>
                  <a:lnTo>
                    <a:pt x="12261" y="2785"/>
                  </a:lnTo>
                  <a:lnTo>
                    <a:pt x="12481" y="2736"/>
                  </a:lnTo>
                  <a:lnTo>
                    <a:pt x="12676" y="2712"/>
                  </a:lnTo>
                  <a:close/>
                  <a:moveTo>
                    <a:pt x="8377" y="8867"/>
                  </a:moveTo>
                  <a:lnTo>
                    <a:pt x="8475" y="8891"/>
                  </a:lnTo>
                  <a:lnTo>
                    <a:pt x="8548" y="8915"/>
                  </a:lnTo>
                  <a:lnTo>
                    <a:pt x="8646" y="8964"/>
                  </a:lnTo>
                  <a:lnTo>
                    <a:pt x="8719" y="9013"/>
                  </a:lnTo>
                  <a:lnTo>
                    <a:pt x="8768" y="9086"/>
                  </a:lnTo>
                  <a:lnTo>
                    <a:pt x="8817" y="9184"/>
                  </a:lnTo>
                  <a:lnTo>
                    <a:pt x="8841" y="9257"/>
                  </a:lnTo>
                  <a:lnTo>
                    <a:pt x="8866" y="9355"/>
                  </a:lnTo>
                  <a:lnTo>
                    <a:pt x="8841" y="9453"/>
                  </a:lnTo>
                  <a:lnTo>
                    <a:pt x="8817" y="9550"/>
                  </a:lnTo>
                  <a:lnTo>
                    <a:pt x="8768" y="9624"/>
                  </a:lnTo>
                  <a:lnTo>
                    <a:pt x="8719" y="9697"/>
                  </a:lnTo>
                  <a:lnTo>
                    <a:pt x="6179" y="12237"/>
                  </a:lnTo>
                  <a:lnTo>
                    <a:pt x="6106" y="12310"/>
                  </a:lnTo>
                  <a:lnTo>
                    <a:pt x="6033" y="12359"/>
                  </a:lnTo>
                  <a:lnTo>
                    <a:pt x="5935" y="12383"/>
                  </a:lnTo>
                  <a:lnTo>
                    <a:pt x="5740" y="12383"/>
                  </a:lnTo>
                  <a:lnTo>
                    <a:pt x="5642" y="12359"/>
                  </a:lnTo>
                  <a:lnTo>
                    <a:pt x="5569" y="12310"/>
                  </a:lnTo>
                  <a:lnTo>
                    <a:pt x="5496" y="12237"/>
                  </a:lnTo>
                  <a:lnTo>
                    <a:pt x="5422" y="12164"/>
                  </a:lnTo>
                  <a:lnTo>
                    <a:pt x="5373" y="12090"/>
                  </a:lnTo>
                  <a:lnTo>
                    <a:pt x="5349" y="11993"/>
                  </a:lnTo>
                  <a:lnTo>
                    <a:pt x="5349" y="11895"/>
                  </a:lnTo>
                  <a:lnTo>
                    <a:pt x="5349" y="11797"/>
                  </a:lnTo>
                  <a:lnTo>
                    <a:pt x="5373" y="11700"/>
                  </a:lnTo>
                  <a:lnTo>
                    <a:pt x="5422" y="11626"/>
                  </a:lnTo>
                  <a:lnTo>
                    <a:pt x="5496" y="11553"/>
                  </a:lnTo>
                  <a:lnTo>
                    <a:pt x="8036" y="9013"/>
                  </a:lnTo>
                  <a:lnTo>
                    <a:pt x="8109" y="8964"/>
                  </a:lnTo>
                  <a:lnTo>
                    <a:pt x="8182" y="8915"/>
                  </a:lnTo>
                  <a:lnTo>
                    <a:pt x="8280" y="8891"/>
                  </a:lnTo>
                  <a:lnTo>
                    <a:pt x="8377" y="8867"/>
                  </a:lnTo>
                  <a:close/>
                  <a:moveTo>
                    <a:pt x="14825" y="1"/>
                  </a:moveTo>
                  <a:lnTo>
                    <a:pt x="14288" y="25"/>
                  </a:lnTo>
                  <a:lnTo>
                    <a:pt x="13751" y="50"/>
                  </a:lnTo>
                  <a:lnTo>
                    <a:pt x="13213" y="123"/>
                  </a:lnTo>
                  <a:lnTo>
                    <a:pt x="12676" y="245"/>
                  </a:lnTo>
                  <a:lnTo>
                    <a:pt x="12163" y="367"/>
                  </a:lnTo>
                  <a:lnTo>
                    <a:pt x="11675" y="538"/>
                  </a:lnTo>
                  <a:lnTo>
                    <a:pt x="11235" y="758"/>
                  </a:lnTo>
                  <a:lnTo>
                    <a:pt x="11015" y="856"/>
                  </a:lnTo>
                  <a:lnTo>
                    <a:pt x="10844" y="1002"/>
                  </a:lnTo>
                  <a:lnTo>
                    <a:pt x="10649" y="1124"/>
                  </a:lnTo>
                  <a:lnTo>
                    <a:pt x="10502" y="1271"/>
                  </a:lnTo>
                  <a:lnTo>
                    <a:pt x="5544" y="6229"/>
                  </a:lnTo>
                  <a:lnTo>
                    <a:pt x="391" y="6229"/>
                  </a:lnTo>
                  <a:lnTo>
                    <a:pt x="245" y="6253"/>
                  </a:lnTo>
                  <a:lnTo>
                    <a:pt x="147" y="6278"/>
                  </a:lnTo>
                  <a:lnTo>
                    <a:pt x="49" y="6327"/>
                  </a:lnTo>
                  <a:lnTo>
                    <a:pt x="0" y="6400"/>
                  </a:lnTo>
                  <a:lnTo>
                    <a:pt x="0" y="6473"/>
                  </a:lnTo>
                  <a:lnTo>
                    <a:pt x="25" y="6571"/>
                  </a:lnTo>
                  <a:lnTo>
                    <a:pt x="74" y="6668"/>
                  </a:lnTo>
                  <a:lnTo>
                    <a:pt x="171" y="6791"/>
                  </a:lnTo>
                  <a:lnTo>
                    <a:pt x="2589" y="9184"/>
                  </a:lnTo>
                  <a:lnTo>
                    <a:pt x="2272" y="9502"/>
                  </a:lnTo>
                  <a:lnTo>
                    <a:pt x="953" y="9746"/>
                  </a:lnTo>
                  <a:lnTo>
                    <a:pt x="806" y="9795"/>
                  </a:lnTo>
                  <a:lnTo>
                    <a:pt x="684" y="9843"/>
                  </a:lnTo>
                  <a:lnTo>
                    <a:pt x="611" y="9941"/>
                  </a:lnTo>
                  <a:lnTo>
                    <a:pt x="562" y="10014"/>
                  </a:lnTo>
                  <a:lnTo>
                    <a:pt x="562" y="10112"/>
                  </a:lnTo>
                  <a:lnTo>
                    <a:pt x="586" y="10234"/>
                  </a:lnTo>
                  <a:lnTo>
                    <a:pt x="635" y="10332"/>
                  </a:lnTo>
                  <a:lnTo>
                    <a:pt x="733" y="10454"/>
                  </a:lnTo>
                  <a:lnTo>
                    <a:pt x="7278" y="16999"/>
                  </a:lnTo>
                  <a:lnTo>
                    <a:pt x="7401" y="17097"/>
                  </a:lnTo>
                  <a:lnTo>
                    <a:pt x="7498" y="17146"/>
                  </a:lnTo>
                  <a:lnTo>
                    <a:pt x="7620" y="17170"/>
                  </a:lnTo>
                  <a:lnTo>
                    <a:pt x="7718" y="17170"/>
                  </a:lnTo>
                  <a:lnTo>
                    <a:pt x="7791" y="17122"/>
                  </a:lnTo>
                  <a:lnTo>
                    <a:pt x="7889" y="17048"/>
                  </a:lnTo>
                  <a:lnTo>
                    <a:pt x="7938" y="16926"/>
                  </a:lnTo>
                  <a:lnTo>
                    <a:pt x="7987" y="16780"/>
                  </a:lnTo>
                  <a:lnTo>
                    <a:pt x="8231" y="15461"/>
                  </a:lnTo>
                  <a:lnTo>
                    <a:pt x="8548" y="15143"/>
                  </a:lnTo>
                  <a:lnTo>
                    <a:pt x="10942" y="17561"/>
                  </a:lnTo>
                  <a:lnTo>
                    <a:pt x="11064" y="17659"/>
                  </a:lnTo>
                  <a:lnTo>
                    <a:pt x="11162" y="17708"/>
                  </a:lnTo>
                  <a:lnTo>
                    <a:pt x="11259" y="17732"/>
                  </a:lnTo>
                  <a:lnTo>
                    <a:pt x="11333" y="17732"/>
                  </a:lnTo>
                  <a:lnTo>
                    <a:pt x="11406" y="17683"/>
                  </a:lnTo>
                  <a:lnTo>
                    <a:pt x="11455" y="17586"/>
                  </a:lnTo>
                  <a:lnTo>
                    <a:pt x="11479" y="17488"/>
                  </a:lnTo>
                  <a:lnTo>
                    <a:pt x="11504" y="17341"/>
                  </a:lnTo>
                  <a:lnTo>
                    <a:pt x="11504" y="12188"/>
                  </a:lnTo>
                  <a:lnTo>
                    <a:pt x="16461" y="7230"/>
                  </a:lnTo>
                  <a:lnTo>
                    <a:pt x="16608" y="7084"/>
                  </a:lnTo>
                  <a:lnTo>
                    <a:pt x="16730" y="6888"/>
                  </a:lnTo>
                  <a:lnTo>
                    <a:pt x="16877" y="6693"/>
                  </a:lnTo>
                  <a:lnTo>
                    <a:pt x="16974" y="6498"/>
                  </a:lnTo>
                  <a:lnTo>
                    <a:pt x="17194" y="6058"/>
                  </a:lnTo>
                  <a:lnTo>
                    <a:pt x="17365" y="5569"/>
                  </a:lnTo>
                  <a:lnTo>
                    <a:pt x="17487" y="5057"/>
                  </a:lnTo>
                  <a:lnTo>
                    <a:pt x="17609" y="4519"/>
                  </a:lnTo>
                  <a:lnTo>
                    <a:pt x="17683" y="3982"/>
                  </a:lnTo>
                  <a:lnTo>
                    <a:pt x="17707" y="3445"/>
                  </a:lnTo>
                  <a:lnTo>
                    <a:pt x="17731" y="2907"/>
                  </a:lnTo>
                  <a:lnTo>
                    <a:pt x="17731" y="2419"/>
                  </a:lnTo>
                  <a:lnTo>
                    <a:pt x="17707" y="1955"/>
                  </a:lnTo>
                  <a:lnTo>
                    <a:pt x="17658" y="1515"/>
                  </a:lnTo>
                  <a:lnTo>
                    <a:pt x="17585" y="1149"/>
                  </a:lnTo>
                  <a:lnTo>
                    <a:pt x="17512" y="831"/>
                  </a:lnTo>
                  <a:lnTo>
                    <a:pt x="17414" y="587"/>
                  </a:lnTo>
                  <a:lnTo>
                    <a:pt x="17341" y="489"/>
                  </a:lnTo>
                  <a:lnTo>
                    <a:pt x="17292" y="441"/>
                  </a:lnTo>
                  <a:lnTo>
                    <a:pt x="17243" y="392"/>
                  </a:lnTo>
                  <a:lnTo>
                    <a:pt x="17145" y="318"/>
                  </a:lnTo>
                  <a:lnTo>
                    <a:pt x="16901" y="221"/>
                  </a:lnTo>
                  <a:lnTo>
                    <a:pt x="16584" y="148"/>
                  </a:lnTo>
                  <a:lnTo>
                    <a:pt x="16217" y="74"/>
                  </a:lnTo>
                  <a:lnTo>
                    <a:pt x="15778" y="25"/>
                  </a:lnTo>
                  <a:lnTo>
                    <a:pt x="15314" y="1"/>
                  </a:lnTo>
                  <a:close/>
                </a:path>
              </a:pathLst>
            </a:custGeom>
            <a:solidFill>
              <a:srgbClr val="3796b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9" name="Google Shape;217;p18"/>
            <p:cNvSpPr/>
            <p:nvPr/>
          </p:nvSpPr>
          <p:spPr>
            <a:xfrm rot="1056600">
              <a:off x="3424320" y="816120"/>
              <a:ext cx="131760" cy="132120"/>
            </a:xfrm>
            <a:custGeom>
              <a:avLst/>
              <a:gdLst>
                <a:gd name="textAreaLeft" fmla="*/ 0 w 131760"/>
                <a:gd name="textAreaRight" fmla="*/ 132120 w 131760"/>
                <a:gd name="textAreaTop" fmla="*/ 0 h 132120"/>
                <a:gd name="textAreaBottom" fmla="*/ 132480 h 132120"/>
              </a:gdLst>
              <a:ahLst/>
              <a:rect l="textAreaLeft" t="textAreaTop" r="textAreaRight" b="textAreaBottom"/>
              <a:pathLst>
                <a:path w="2932" h="2932">
                  <a:moveTo>
                    <a:pt x="2028" y="1"/>
                  </a:moveTo>
                  <a:lnTo>
                    <a:pt x="1857" y="25"/>
                  </a:lnTo>
                  <a:lnTo>
                    <a:pt x="1686" y="74"/>
                  </a:lnTo>
                  <a:lnTo>
                    <a:pt x="1515" y="147"/>
                  </a:lnTo>
                  <a:lnTo>
                    <a:pt x="1369" y="269"/>
                  </a:lnTo>
                  <a:lnTo>
                    <a:pt x="1222" y="489"/>
                  </a:lnTo>
                  <a:lnTo>
                    <a:pt x="1002" y="831"/>
                  </a:lnTo>
                  <a:lnTo>
                    <a:pt x="563" y="1735"/>
                  </a:lnTo>
                  <a:lnTo>
                    <a:pt x="172" y="2565"/>
                  </a:lnTo>
                  <a:lnTo>
                    <a:pt x="1" y="2932"/>
                  </a:lnTo>
                  <a:lnTo>
                    <a:pt x="367" y="2761"/>
                  </a:lnTo>
                  <a:lnTo>
                    <a:pt x="1198" y="2370"/>
                  </a:lnTo>
                  <a:lnTo>
                    <a:pt x="2101" y="1930"/>
                  </a:lnTo>
                  <a:lnTo>
                    <a:pt x="2443" y="1710"/>
                  </a:lnTo>
                  <a:lnTo>
                    <a:pt x="2663" y="1564"/>
                  </a:lnTo>
                  <a:lnTo>
                    <a:pt x="2785" y="1417"/>
                  </a:lnTo>
                  <a:lnTo>
                    <a:pt x="2858" y="1246"/>
                  </a:lnTo>
                  <a:lnTo>
                    <a:pt x="2907" y="1075"/>
                  </a:lnTo>
                  <a:lnTo>
                    <a:pt x="2932" y="904"/>
                  </a:lnTo>
                  <a:lnTo>
                    <a:pt x="2907" y="733"/>
                  </a:lnTo>
                  <a:lnTo>
                    <a:pt x="2858" y="562"/>
                  </a:lnTo>
                  <a:lnTo>
                    <a:pt x="2785" y="416"/>
                  </a:lnTo>
                  <a:lnTo>
                    <a:pt x="2663" y="269"/>
                  </a:lnTo>
                  <a:lnTo>
                    <a:pt x="2517" y="147"/>
                  </a:lnTo>
                  <a:lnTo>
                    <a:pt x="2370" y="74"/>
                  </a:lnTo>
                  <a:lnTo>
                    <a:pt x="2199" y="25"/>
                  </a:lnTo>
                  <a:lnTo>
                    <a:pt x="2028" y="1"/>
                  </a:lnTo>
                  <a:close/>
                </a:path>
              </a:pathLst>
            </a:custGeom>
            <a:solidFill>
              <a:srgbClr val="3796bf"/>
            </a:solidFill>
            <a:ln w="0">
              <a:noFill/>
            </a:ln>
          </p:spPr>
          <p:style>
            <a:lnRef idx="0"/>
            <a:fillRef idx="0"/>
            <a:effectRef idx="0"/>
            <a:fontRef idx="minor"/>
          </p:style>
          <p:txBody>
            <a:bodyPr lIns="91080" rIns="91080" tIns="41400" bIns="41400" anchor="ctr">
              <a:noAutofit/>
            </a:bodyPr>
            <a:p>
              <a:endParaRPr b="0" lang="en-US" sz="1400" spc="-1" strike="noStrike">
                <a:solidFill>
                  <a:srgbClr val="000000"/>
                </a:solidFill>
                <a:latin typeface="Arial"/>
              </a:endParaRPr>
            </a:p>
          </p:txBody>
        </p:sp>
        <p:sp>
          <p:nvSpPr>
            <p:cNvPr id="490" name="Google Shape;218;p18"/>
            <p:cNvSpPr/>
            <p:nvPr/>
          </p:nvSpPr>
          <p:spPr>
            <a:xfrm rot="1056600">
              <a:off x="3506760" y="9151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1" h="1881">
                  <a:moveTo>
                    <a:pt x="1124" y="0"/>
                  </a:moveTo>
                  <a:lnTo>
                    <a:pt x="977" y="25"/>
                  </a:lnTo>
                  <a:lnTo>
                    <a:pt x="831" y="74"/>
                  </a:lnTo>
                  <a:lnTo>
                    <a:pt x="709" y="147"/>
                  </a:lnTo>
                  <a:lnTo>
                    <a:pt x="586" y="245"/>
                  </a:lnTo>
                  <a:lnTo>
                    <a:pt x="464" y="391"/>
                  </a:lnTo>
                  <a:lnTo>
                    <a:pt x="367" y="611"/>
                  </a:lnTo>
                  <a:lnTo>
                    <a:pt x="269" y="880"/>
                  </a:lnTo>
                  <a:lnTo>
                    <a:pt x="171" y="1173"/>
                  </a:lnTo>
                  <a:lnTo>
                    <a:pt x="49" y="1686"/>
                  </a:lnTo>
                  <a:lnTo>
                    <a:pt x="0" y="1881"/>
                  </a:lnTo>
                  <a:lnTo>
                    <a:pt x="220" y="1857"/>
                  </a:lnTo>
                  <a:lnTo>
                    <a:pt x="733" y="1710"/>
                  </a:lnTo>
                  <a:lnTo>
                    <a:pt x="1002" y="1637"/>
                  </a:lnTo>
                  <a:lnTo>
                    <a:pt x="1270" y="1539"/>
                  </a:lnTo>
                  <a:lnTo>
                    <a:pt x="1515" y="1417"/>
                  </a:lnTo>
                  <a:lnTo>
                    <a:pt x="1661" y="1319"/>
                  </a:lnTo>
                  <a:lnTo>
                    <a:pt x="1759" y="1197"/>
                  </a:lnTo>
                  <a:lnTo>
                    <a:pt x="1832" y="1051"/>
                  </a:lnTo>
                  <a:lnTo>
                    <a:pt x="1881" y="928"/>
                  </a:lnTo>
                  <a:lnTo>
                    <a:pt x="1881" y="782"/>
                  </a:lnTo>
                  <a:lnTo>
                    <a:pt x="1881" y="635"/>
                  </a:lnTo>
                  <a:lnTo>
                    <a:pt x="1832" y="489"/>
                  </a:lnTo>
                  <a:lnTo>
                    <a:pt x="1759" y="367"/>
                  </a:lnTo>
                  <a:lnTo>
                    <a:pt x="1661" y="245"/>
                  </a:lnTo>
                  <a:lnTo>
                    <a:pt x="1539" y="147"/>
                  </a:lnTo>
                  <a:lnTo>
                    <a:pt x="1417" y="74"/>
                  </a:lnTo>
                  <a:lnTo>
                    <a:pt x="1270" y="25"/>
                  </a:lnTo>
                  <a:lnTo>
                    <a:pt x="1124" y="0"/>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sp>
          <p:nvSpPr>
            <p:cNvPr id="491" name="Google Shape;219;p18"/>
            <p:cNvSpPr/>
            <p:nvPr/>
          </p:nvSpPr>
          <p:spPr>
            <a:xfrm rot="1056600">
              <a:off x="3421080" y="7491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2" h="1882">
                  <a:moveTo>
                    <a:pt x="953" y="1"/>
                  </a:moveTo>
                  <a:lnTo>
                    <a:pt x="831" y="49"/>
                  </a:lnTo>
                  <a:lnTo>
                    <a:pt x="684" y="123"/>
                  </a:lnTo>
                  <a:lnTo>
                    <a:pt x="562" y="220"/>
                  </a:lnTo>
                  <a:lnTo>
                    <a:pt x="465" y="367"/>
                  </a:lnTo>
                  <a:lnTo>
                    <a:pt x="342" y="611"/>
                  </a:lnTo>
                  <a:lnTo>
                    <a:pt x="245" y="880"/>
                  </a:lnTo>
                  <a:lnTo>
                    <a:pt x="171" y="1148"/>
                  </a:lnTo>
                  <a:lnTo>
                    <a:pt x="25" y="1661"/>
                  </a:lnTo>
                  <a:lnTo>
                    <a:pt x="1" y="1881"/>
                  </a:lnTo>
                  <a:lnTo>
                    <a:pt x="196" y="1832"/>
                  </a:lnTo>
                  <a:lnTo>
                    <a:pt x="709" y="1710"/>
                  </a:lnTo>
                  <a:lnTo>
                    <a:pt x="1002" y="1613"/>
                  </a:lnTo>
                  <a:lnTo>
                    <a:pt x="1271" y="1515"/>
                  </a:lnTo>
                  <a:lnTo>
                    <a:pt x="1490" y="1417"/>
                  </a:lnTo>
                  <a:lnTo>
                    <a:pt x="1637" y="1295"/>
                  </a:lnTo>
                  <a:lnTo>
                    <a:pt x="1735" y="1173"/>
                  </a:lnTo>
                  <a:lnTo>
                    <a:pt x="1808" y="1051"/>
                  </a:lnTo>
                  <a:lnTo>
                    <a:pt x="1857" y="904"/>
                  </a:lnTo>
                  <a:lnTo>
                    <a:pt x="1881" y="758"/>
                  </a:lnTo>
                  <a:lnTo>
                    <a:pt x="1857" y="611"/>
                  </a:lnTo>
                  <a:lnTo>
                    <a:pt x="1808" y="465"/>
                  </a:lnTo>
                  <a:lnTo>
                    <a:pt x="1735" y="343"/>
                  </a:lnTo>
                  <a:lnTo>
                    <a:pt x="1637" y="220"/>
                  </a:lnTo>
                  <a:lnTo>
                    <a:pt x="1515" y="123"/>
                  </a:lnTo>
                  <a:lnTo>
                    <a:pt x="1393" y="49"/>
                  </a:lnTo>
                  <a:lnTo>
                    <a:pt x="1246" y="1"/>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grpSp>
      <p:sp>
        <p:nvSpPr>
          <p:cNvPr id="492" name="Google Shape;220;p18"/>
          <p:cNvSpPr/>
          <p:nvPr/>
        </p:nvSpPr>
        <p:spPr>
          <a:xfrm rot="2466600">
            <a:off x="7743960" y="493560"/>
            <a:ext cx="390240" cy="374760"/>
          </a:xfrm>
          <a:custGeom>
            <a:avLst/>
            <a:gdLst>
              <a:gd name="textAreaLeft" fmla="*/ 0 w 390240"/>
              <a:gd name="textAreaRight" fmla="*/ 390600 w 390240"/>
              <a:gd name="textAreaTop" fmla="*/ 0 h 374760"/>
              <a:gd name="textAreaBottom" fmla="*/ 375120 h 37476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3" name="Google Shape;221;p18"/>
          <p:cNvSpPr/>
          <p:nvPr/>
        </p:nvSpPr>
        <p:spPr>
          <a:xfrm rot="19990200">
            <a:off x="4113000" y="4896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4" name="Google Shape;222;p18"/>
          <p:cNvSpPr/>
          <p:nvPr/>
        </p:nvSpPr>
        <p:spPr>
          <a:xfrm rot="2925600">
            <a:off x="4755960" y="16812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5" name="Google Shape;223;p18"/>
          <p:cNvSpPr/>
          <p:nvPr/>
        </p:nvSpPr>
        <p:spPr>
          <a:xfrm rot="19990800">
            <a:off x="4243320" y="948960"/>
            <a:ext cx="189000" cy="181080"/>
          </a:xfrm>
          <a:custGeom>
            <a:avLst/>
            <a:gdLst>
              <a:gd name="textAreaLeft" fmla="*/ 0 w 189000"/>
              <a:gd name="textAreaRight" fmla="*/ 189360 w 189000"/>
              <a:gd name="textAreaTop" fmla="*/ 0 h 181080"/>
              <a:gd name="textAreaBottom" fmla="*/ 181440 h 18108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sp>
        <p:nvSpPr>
          <p:cNvPr id="496" name="Google Shape;220;p18"/>
          <p:cNvSpPr/>
          <p:nvPr/>
        </p:nvSpPr>
        <p:spPr>
          <a:xfrm rot="2466600">
            <a:off x="3277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7" name="Google Shape;222;p18"/>
          <p:cNvSpPr/>
          <p:nvPr/>
        </p:nvSpPr>
        <p:spPr>
          <a:xfrm rot="2925600">
            <a:off x="2883240" y="456480"/>
            <a:ext cx="210960" cy="203400"/>
          </a:xfrm>
          <a:custGeom>
            <a:avLst/>
            <a:gdLst>
              <a:gd name="textAreaLeft" fmla="*/ 0 w 210960"/>
              <a:gd name="textAreaRight" fmla="*/ 211320 w 210960"/>
              <a:gd name="textAreaTop" fmla="*/ 0 h 203400"/>
              <a:gd name="textAreaBottom" fmla="*/ 203760 h 203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8" name="Google Shape;211;p18"/>
          <p:cNvSpPr/>
          <p:nvPr/>
        </p:nvSpPr>
        <p:spPr>
          <a:xfrm>
            <a:off x="2987640" y="8431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9" name="Google Shape;222;p18"/>
          <p:cNvSpPr/>
          <p:nvPr/>
        </p:nvSpPr>
        <p:spPr>
          <a:xfrm rot="2925600">
            <a:off x="2379240" y="74412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0" name="Google Shape;211;p18"/>
          <p:cNvSpPr/>
          <p:nvPr/>
        </p:nvSpPr>
        <p:spPr>
          <a:xfrm rot="1465800">
            <a:off x="6486120" y="7459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1" name="Google Shape;222;p18"/>
          <p:cNvSpPr/>
          <p:nvPr/>
        </p:nvSpPr>
        <p:spPr>
          <a:xfrm rot="2925600">
            <a:off x="7635600" y="4428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2" name="Google Shape;223;p18"/>
          <p:cNvSpPr/>
          <p:nvPr/>
        </p:nvSpPr>
        <p:spPr>
          <a:xfrm rot="19990800">
            <a:off x="7122600" y="876240"/>
            <a:ext cx="190800" cy="182520"/>
          </a:xfrm>
          <a:custGeom>
            <a:avLst/>
            <a:gdLst>
              <a:gd name="textAreaLeft" fmla="*/ 0 w 190800"/>
              <a:gd name="textAreaRight" fmla="*/ 191160 w 190800"/>
              <a:gd name="textAreaTop" fmla="*/ 0 h 182520"/>
              <a:gd name="textAreaBottom" fmla="*/ 182880 h 18252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3" name="Google Shape;220;p18"/>
          <p:cNvSpPr/>
          <p:nvPr/>
        </p:nvSpPr>
        <p:spPr>
          <a:xfrm rot="2466600">
            <a:off x="6733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4" name="Google Shape;222;p18"/>
          <p:cNvSpPr/>
          <p:nvPr/>
        </p:nvSpPr>
        <p:spPr>
          <a:xfrm rot="2925600">
            <a:off x="6340320" y="45684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5" name="Google Shape;211;p18"/>
          <p:cNvSpPr/>
          <p:nvPr/>
        </p:nvSpPr>
        <p:spPr>
          <a:xfrm>
            <a:off x="7093080" y="411120"/>
            <a:ext cx="280800" cy="270000"/>
          </a:xfrm>
          <a:custGeom>
            <a:avLst/>
            <a:gdLst>
              <a:gd name="textAreaLeft" fmla="*/ 0 w 280800"/>
              <a:gd name="textAreaRight" fmla="*/ 281160 w 2808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6" name="Google Shape;211;p18"/>
          <p:cNvSpPr/>
          <p:nvPr/>
        </p:nvSpPr>
        <p:spPr>
          <a:xfrm rot="1465800">
            <a:off x="8720280" y="313920"/>
            <a:ext cx="280800" cy="268200"/>
          </a:xfrm>
          <a:custGeom>
            <a:avLst/>
            <a:gdLst>
              <a:gd name="textAreaLeft" fmla="*/ 0 w 280800"/>
              <a:gd name="textAreaRight" fmla="*/ 281160 w 2808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7" name="Google Shape;222;p18"/>
          <p:cNvSpPr/>
          <p:nvPr/>
        </p:nvSpPr>
        <p:spPr>
          <a:xfrm rot="2925600">
            <a:off x="8356320" y="67284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8" name="Google Shape;211;p18"/>
          <p:cNvSpPr/>
          <p:nvPr/>
        </p:nvSpPr>
        <p:spPr>
          <a:xfrm>
            <a:off x="817236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9" name="Google Shape;211;p18"/>
          <p:cNvSpPr/>
          <p:nvPr/>
        </p:nvSpPr>
        <p:spPr>
          <a:xfrm>
            <a:off x="255600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10" name="Google Shape;210;p18"/>
          <p:cNvSpPr/>
          <p:nvPr/>
        </p:nvSpPr>
        <p:spPr>
          <a:xfrm>
            <a:off x="971640" y="1203480"/>
            <a:ext cx="7272360" cy="3456000"/>
          </a:xfrm>
          <a:prstGeom prst="rect">
            <a:avLst/>
          </a:prstGeom>
          <a:solidFill>
            <a:srgbClr val="00b0f0">
              <a:alpha val="49000"/>
            </a:srgbClr>
          </a:solidFill>
          <a:ln w="0">
            <a:noFill/>
          </a:ln>
        </p:spPr>
        <p:style>
          <a:lnRef idx="0"/>
          <a:fillRef idx="0"/>
          <a:effectRef idx="0"/>
          <a:fontRef idx="minor"/>
        </p:style>
        <p:txBody>
          <a:bodyPr tIns="91440" bIns="91440" anchor="t">
            <a:noAutofit/>
          </a:bodyPr>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В тому, що стосується майбутнього: за щоб ви не брались, головне – будьте віддані власній справі до кінця. Не обов’язково досягати якогось зіркового успіху, але бути чесним перед самим собою у вибраній професії – ОБОВ</a:t>
            </a:r>
            <a:r>
              <a:rPr b="1" lang="uk-UA" sz="2000" spc="-1" strike="noStrike">
                <a:solidFill>
                  <a:srgbClr val="ffffff"/>
                </a:solidFill>
                <a:latin typeface="Roboto Condensed"/>
              </a:rPr>
              <a:t>’</a:t>
            </a:r>
            <a:r>
              <a:rPr b="1" lang="ru-RU" sz="2000" spc="-1" strike="noStrike">
                <a:solidFill>
                  <a:srgbClr val="ffffff"/>
                </a:solidFill>
                <a:latin typeface="Roboto Condensed"/>
              </a:rPr>
              <a:t>ЯЗКОВО.</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удьте по-справжньому розумними, добрими, вольовими людьми. Адже саме кожному з вас писати історію завтрашнього дня, і, хто б там що не казав, але ваше майбутнє в ваших руках. Вірте у свої сили, можливості  та думайте про правильність своїх дій і їх наслідки! </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ажаємо Вам успіхів!!!</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699840"/>
            <a:ext cx="6912000" cy="3166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ff"/>
                </a:solidFill>
                <a:latin typeface="Oswald"/>
              </a:rPr>
              <a:t>«Якщо професія стає способом життя, то ремесло перетворюється в мистецтво» </a:t>
            </a:r>
            <a:endParaRPr b="0" lang="en-US" sz="4800" spc="-1" strike="noStrike">
              <a:solidFill>
                <a:srgbClr val="000000"/>
              </a:solidFill>
              <a:latin typeface="Arial"/>
            </a:endParaRPr>
          </a:p>
        </p:txBody>
      </p:sp>
      <p:sp>
        <p:nvSpPr>
          <p:cNvPr id="398" name="Номер слайда 3"/>
          <p:cNvSpPr/>
          <p:nvPr/>
        </p:nvSpPr>
        <p:spPr>
          <a:xfrm>
            <a:off x="8556480" y="0"/>
            <a:ext cx="549360" cy="39384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EBD9-EEC9-4640-8E63-FF9F871CCD58}" type="slidenum">
              <a:rPr b="0" lang="ru-RU" sz="1300" spc="-1" strike="noStrike">
                <a:solidFill>
                  <a:srgbClr val="ffffff"/>
                </a:solidFill>
                <a:latin typeface="Roboto Condensed"/>
              </a:rPr>
              <a:t>&lt;number&gt;</a:t>
            </a:fld>
            <a:endParaRPr b="0" lang="en-US" sz="1300" spc="-1" strike="noStrike">
              <a:solidFill>
                <a:srgbClr val="000000"/>
              </a:solidFill>
              <a:latin typeface="Arial"/>
            </a:endParaRPr>
          </a:p>
        </p:txBody>
      </p:sp>
      <p:sp>
        <p:nvSpPr>
          <p:cNvPr id="399" name="Прямоугольник 4"/>
          <p:cNvSpPr/>
          <p:nvPr/>
        </p:nvSpPr>
        <p:spPr>
          <a:xfrm>
            <a:off x="3094200" y="3867120"/>
            <a:ext cx="372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Шевельов І.</a:t>
            </a:r>
            <a:endParaRPr b="0" lang="en-US" sz="4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050920" y="339840"/>
            <a:ext cx="5400720" cy="699840"/>
          </a:xfrm>
          <a:prstGeom prst="rect">
            <a:avLst/>
          </a:prstGeom>
          <a:solidFill>
            <a:srgbClr val="ffffff">
              <a:alpha val="64000"/>
            </a:srgbClr>
          </a:solid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607896"/>
                </a:solidFill>
                <a:latin typeface="Oswald"/>
              </a:rPr>
              <a:t>МИСЛЕННЯ ТА ІНТЕЛЕКТ</a:t>
            </a:r>
            <a:endParaRPr b="0" lang="en-US" sz="4000" spc="-1" strike="noStrike">
              <a:solidFill>
                <a:srgbClr val="000000"/>
              </a:solidFill>
              <a:latin typeface="Arial"/>
            </a:endParaRPr>
          </a:p>
        </p:txBody>
      </p:sp>
      <p:sp>
        <p:nvSpPr>
          <p:cNvPr id="401" name="Прямоугольник 3"/>
          <p:cNvSpPr/>
          <p:nvPr/>
        </p:nvSpPr>
        <p:spPr>
          <a:xfrm>
            <a:off x="684360" y="1419120"/>
            <a:ext cx="7775280" cy="3751560"/>
          </a:xfrm>
          <a:prstGeom prst="rect">
            <a:avLst/>
          </a:prstGeom>
          <a:solidFill>
            <a:srgbClr val="0070c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Oswald"/>
              </a:rPr>
              <a:t>Якби людина пізнавала світ лише за допомогою зору, слуху, дотику, нюху, вона ніколи б не зробила відкриттів, які піднесли її над світом тварин. Нарівні з органами почуттів у нас є спеціальний засіб пізнання - МИСЛЕННЯ. Тип мислення - це індивідуальний спосіб перетворення інформації. Знаючи свій тип мислення, можна прогнозувати успішність в певних видах професійної діяльності.</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7640" y="699840"/>
            <a:ext cx="3311640" cy="397980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uk-UA" sz="1600" spc="-1" strike="noStrike">
                <a:solidFill>
                  <a:srgbClr val="3796bf"/>
                </a:solidFill>
                <a:latin typeface="Oswald"/>
              </a:rPr>
              <a:t>ПРОДУКТИВНІСТЬ - кількість нових ідей, переключення, використання інформації в різних контекстах </a:t>
            </a:r>
            <a:br>
              <a:rPr sz="1600"/>
            </a:br>
            <a:br>
              <a:rPr sz="1600"/>
            </a:br>
            <a:r>
              <a:rPr b="1" lang="uk-UA" sz="1600" spc="-1" strike="noStrike">
                <a:solidFill>
                  <a:srgbClr val="3796bf"/>
                </a:solidFill>
                <a:latin typeface="Oswald"/>
              </a:rPr>
              <a:t>ОРИГІНАЛЬНІСТЬ - генерація парадоксальних рішень</a:t>
            </a:r>
            <a:br>
              <a:rPr sz="1600"/>
            </a:br>
            <a:br>
              <a:rPr sz="1600"/>
            </a:br>
            <a:r>
              <a:rPr b="1" lang="uk-UA" sz="1600" spc="-1" strike="noStrike">
                <a:solidFill>
                  <a:srgbClr val="3796bf"/>
                </a:solidFill>
                <a:latin typeface="Oswald"/>
              </a:rPr>
              <a:t>ДОПИТЛИВІСТЬ - мислення починається з питань </a:t>
            </a:r>
            <a:br>
              <a:rPr sz="1600"/>
            </a:br>
            <a:br>
              <a:rPr sz="1600"/>
            </a:br>
            <a:r>
              <a:rPr b="1" lang="uk-UA" sz="1600" spc="-1" strike="noStrike">
                <a:solidFill>
                  <a:srgbClr val="3796bf"/>
                </a:solidFill>
                <a:latin typeface="Oswald"/>
              </a:rPr>
              <a:t>МУЖНІСТЬ - здатність приймати рішення в ситуації невизначеності, доводити справу до кінця.</a:t>
            </a:r>
            <a:endParaRPr b="0" lang="en-US" sz="1600" spc="-1" strike="noStrike">
              <a:solidFill>
                <a:srgbClr val="000000"/>
              </a:solidFill>
              <a:latin typeface="Arial"/>
            </a:endParaRPr>
          </a:p>
        </p:txBody>
      </p:sp>
      <p:sp>
        <p:nvSpPr>
          <p:cNvPr id="403" name="Google Shape;249;p28"/>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378A-D90A-4F06-8515-19C95EE19BD4}"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04" name="Google Shape;251;p28"/>
          <p:cNvSpPr/>
          <p:nvPr/>
        </p:nvSpPr>
        <p:spPr>
          <a:xfrm>
            <a:off x="3635280" y="484200"/>
            <a:ext cx="1955880" cy="1906560"/>
          </a:xfrm>
          <a:prstGeom prst="ellipse">
            <a:avLst/>
          </a:prstGeom>
          <a:solidFill>
            <a:srgbClr val="ff9900"/>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ПРОДУКТИВНІСТЬ</a:t>
            </a:r>
            <a:endParaRPr b="0" lang="en-US" sz="1200" spc="-1" strike="noStrike">
              <a:solidFill>
                <a:srgbClr val="000000"/>
              </a:solidFill>
              <a:latin typeface="Arial"/>
            </a:endParaRPr>
          </a:p>
        </p:txBody>
      </p:sp>
      <p:sp>
        <p:nvSpPr>
          <p:cNvPr id="405" name="Google Shape;252;p28"/>
          <p:cNvSpPr/>
          <p:nvPr/>
        </p:nvSpPr>
        <p:spPr>
          <a:xfrm>
            <a:off x="6000840" y="484200"/>
            <a:ext cx="1906560" cy="1906560"/>
          </a:xfrm>
          <a:prstGeom prst="ellipse">
            <a:avLst/>
          </a:prstGeom>
          <a:solidFill>
            <a:srgbClr val="f4520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МУЖНІСТЬ</a:t>
            </a:r>
            <a:endParaRPr b="0" lang="en-US" sz="1200" spc="-1" strike="noStrike">
              <a:solidFill>
                <a:srgbClr val="000000"/>
              </a:solidFill>
              <a:latin typeface="Arial"/>
            </a:endParaRPr>
          </a:p>
        </p:txBody>
      </p:sp>
      <p:sp>
        <p:nvSpPr>
          <p:cNvPr id="406" name="Google Shape;253;p28"/>
          <p:cNvSpPr/>
          <p:nvPr/>
        </p:nvSpPr>
        <p:spPr>
          <a:xfrm>
            <a:off x="3635280" y="2859120"/>
            <a:ext cx="1906560" cy="1908000"/>
          </a:xfrm>
          <a:prstGeom prst="ellipse">
            <a:avLst/>
          </a:prstGeom>
          <a:solidFill>
            <a:srgbClr val="de5f46"/>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ОРИГІНАЛЬНІСТЬ</a:t>
            </a:r>
            <a:endParaRPr b="0" lang="en-US" sz="1200" spc="-1" strike="noStrike">
              <a:solidFill>
                <a:srgbClr val="000000"/>
              </a:solidFill>
              <a:latin typeface="Arial"/>
            </a:endParaRPr>
          </a:p>
        </p:txBody>
      </p:sp>
      <p:sp>
        <p:nvSpPr>
          <p:cNvPr id="407" name="Google Shape;254;p28"/>
          <p:cNvSpPr/>
          <p:nvPr/>
        </p:nvSpPr>
        <p:spPr>
          <a:xfrm>
            <a:off x="6000840" y="2833560"/>
            <a:ext cx="1906560" cy="1906560"/>
          </a:xfrm>
          <a:prstGeom prst="ellipse">
            <a:avLst/>
          </a:prstGeom>
          <a:solidFill>
            <a:srgbClr val="ff3b6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ДОПИТЛИВІСТЬ</a:t>
            </a:r>
            <a:endParaRPr b="0" lang="en-US" sz="1200" spc="-1" strike="noStrike">
              <a:solidFill>
                <a:srgbClr val="000000"/>
              </a:solidFill>
              <a:latin typeface="Arial"/>
            </a:endParaRPr>
          </a:p>
        </p:txBody>
      </p:sp>
      <p:grpSp>
        <p:nvGrpSpPr>
          <p:cNvPr id="408" name="Google Shape;294;p28"/>
          <p:cNvGrpSpPr/>
          <p:nvPr/>
        </p:nvGrpSpPr>
        <p:grpSpPr>
          <a:xfrm>
            <a:off x="4427640" y="3292560"/>
            <a:ext cx="360360" cy="503280"/>
            <a:chOff x="4427640" y="3292560"/>
            <a:chExt cx="360360" cy="503280"/>
          </a:xfrm>
        </p:grpSpPr>
        <p:sp>
          <p:nvSpPr>
            <p:cNvPr id="409" name="Google Shape;295;p28"/>
            <p:cNvSpPr/>
            <p:nvPr/>
          </p:nvSpPr>
          <p:spPr>
            <a:xfrm>
              <a:off x="4536000" y="37314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2"/>
                  </a:moveTo>
                  <a:lnTo>
                    <a:pt x="4092" y="1"/>
                  </a:lnTo>
                  <a:lnTo>
                    <a:pt x="0" y="1"/>
                  </a:lnTo>
                  <a:lnTo>
                    <a:pt x="0" y="902"/>
                  </a:lnTo>
                  <a:lnTo>
                    <a:pt x="4092" y="902"/>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0" name="Google Shape;296;p28"/>
            <p:cNvSpPr/>
            <p:nvPr/>
          </p:nvSpPr>
          <p:spPr>
            <a:xfrm>
              <a:off x="4536000" y="37026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1"/>
                  </a:moveTo>
                  <a:lnTo>
                    <a:pt x="4092" y="0"/>
                  </a:lnTo>
                  <a:lnTo>
                    <a:pt x="0" y="0"/>
                  </a:lnTo>
                  <a:lnTo>
                    <a:pt x="0" y="901"/>
                  </a:lnTo>
                  <a:lnTo>
                    <a:pt x="4092" y="901"/>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1" name="Google Shape;297;p28"/>
            <p:cNvSpPr/>
            <p:nvPr/>
          </p:nvSpPr>
          <p:spPr>
            <a:xfrm>
              <a:off x="4536000" y="3759120"/>
              <a:ext cx="143280" cy="36720"/>
            </a:xfrm>
            <a:custGeom>
              <a:avLst/>
              <a:gdLst>
                <a:gd name="textAreaLeft" fmla="*/ 0 w 143280"/>
                <a:gd name="textAreaRight" fmla="*/ 143640 w 143280"/>
                <a:gd name="textAreaTop" fmla="*/ 0 h 36720"/>
                <a:gd name="textAreaBottom" fmla="*/ 37080 h 36720"/>
              </a:gdLst>
              <a:ahLst/>
              <a:rect l="textAreaLeft" t="textAreaTop" r="textAreaRight" b="textAreaBottom"/>
              <a:pathLst>
                <a:path fill="none" w="4092" h="1195">
                  <a:moveTo>
                    <a:pt x="0" y="1"/>
                  </a:moveTo>
                  <a:lnTo>
                    <a:pt x="0" y="171"/>
                  </a:lnTo>
                  <a:lnTo>
                    <a:pt x="24" y="318"/>
                  </a:lnTo>
                  <a:lnTo>
                    <a:pt x="98" y="464"/>
                  </a:lnTo>
                  <a:lnTo>
                    <a:pt x="195" y="585"/>
                  </a:lnTo>
                  <a:lnTo>
                    <a:pt x="341" y="659"/>
                  </a:lnTo>
                  <a:lnTo>
                    <a:pt x="1875" y="1170"/>
                  </a:lnTo>
                  <a:lnTo>
                    <a:pt x="2046" y="1194"/>
                  </a:lnTo>
                  <a:lnTo>
                    <a:pt x="2216" y="1170"/>
                  </a:lnTo>
                  <a:lnTo>
                    <a:pt x="3751" y="659"/>
                  </a:lnTo>
                  <a:lnTo>
                    <a:pt x="3897" y="585"/>
                  </a:lnTo>
                  <a:lnTo>
                    <a:pt x="3994" y="464"/>
                  </a:lnTo>
                  <a:lnTo>
                    <a:pt x="4067" y="318"/>
                  </a:lnTo>
                  <a:lnTo>
                    <a:pt x="4092" y="171"/>
                  </a:lnTo>
                  <a:lnTo>
                    <a:pt x="4092" y="1"/>
                  </a:lnTo>
                  <a:lnTo>
                    <a:pt x="0" y="1"/>
                  </a:lnTo>
                  <a:close/>
                </a:path>
              </a:pathLst>
            </a:custGeom>
            <a:noFill/>
            <a:ln cap="rnd" w="12240">
              <a:solidFill>
                <a:srgbClr val="ffffff"/>
              </a:solidFill>
              <a:round/>
            </a:ln>
          </p:spPr>
          <p:style>
            <a:lnRef idx="0"/>
            <a:fillRef idx="0"/>
            <a:effectRef idx="0"/>
            <a:fontRef idx="minor"/>
          </p:style>
          <p:txBody>
            <a:bodyPr lIns="91080" rIns="91080" tIns="-54000" bIns="-54000" anchor="ctr">
              <a:noAutofit/>
            </a:bodyPr>
            <a:p>
              <a:endParaRPr b="0" lang="en-US" sz="1400" spc="-1" strike="noStrike">
                <a:solidFill>
                  <a:srgbClr val="000000"/>
                </a:solidFill>
                <a:latin typeface="Arial"/>
              </a:endParaRPr>
            </a:p>
          </p:txBody>
        </p:sp>
        <p:sp>
          <p:nvSpPr>
            <p:cNvPr id="412" name="Google Shape;298;p28"/>
            <p:cNvSpPr/>
            <p:nvPr/>
          </p:nvSpPr>
          <p:spPr>
            <a:xfrm>
              <a:off x="452052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6674"/>
                  </a:moveTo>
                  <a:lnTo>
                    <a:pt x="1413" y="6674"/>
                  </a:lnTo>
                  <a:lnTo>
                    <a:pt x="585" y="2850"/>
                  </a:lnTo>
                  <a:lnTo>
                    <a:pt x="1" y="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3" name="Google Shape;299;p28"/>
            <p:cNvSpPr/>
            <p:nvPr/>
          </p:nvSpPr>
          <p:spPr>
            <a:xfrm>
              <a:off x="4427640" y="3292560"/>
              <a:ext cx="360360" cy="380160"/>
            </a:xfrm>
            <a:custGeom>
              <a:avLst/>
              <a:gdLst>
                <a:gd name="textAreaLeft" fmla="*/ 0 w 360360"/>
                <a:gd name="textAreaRight" fmla="*/ 360360 w 360360"/>
                <a:gd name="textAreaTop" fmla="*/ 0 h 380160"/>
                <a:gd name="textAreaBottom" fmla="*/ 380520 h 380160"/>
              </a:gdLst>
              <a:ahLst/>
              <a:rect l="textAreaLeft" t="textAreaTop" r="textAreaRight" b="textAreaBottom"/>
              <a:pathLst>
                <a:path fill="none" w="10278" h="12301">
                  <a:moveTo>
                    <a:pt x="7185" y="12300"/>
                  </a:moveTo>
                  <a:lnTo>
                    <a:pt x="7185" y="12300"/>
                  </a:lnTo>
                  <a:lnTo>
                    <a:pt x="7307" y="11764"/>
                  </a:lnTo>
                  <a:lnTo>
                    <a:pt x="7477" y="11253"/>
                  </a:lnTo>
                  <a:lnTo>
                    <a:pt x="7672" y="10766"/>
                  </a:lnTo>
                  <a:lnTo>
                    <a:pt x="7891" y="10327"/>
                  </a:lnTo>
                  <a:lnTo>
                    <a:pt x="8135" y="9913"/>
                  </a:lnTo>
                  <a:lnTo>
                    <a:pt x="8378" y="9499"/>
                  </a:lnTo>
                  <a:lnTo>
                    <a:pt x="8914" y="8720"/>
                  </a:lnTo>
                  <a:lnTo>
                    <a:pt x="9182" y="8330"/>
                  </a:lnTo>
                  <a:lnTo>
                    <a:pt x="9425" y="7941"/>
                  </a:lnTo>
                  <a:lnTo>
                    <a:pt x="9645" y="7551"/>
                  </a:lnTo>
                  <a:lnTo>
                    <a:pt x="9864" y="7113"/>
                  </a:lnTo>
                  <a:lnTo>
                    <a:pt x="10034" y="6674"/>
                  </a:lnTo>
                  <a:lnTo>
                    <a:pt x="10156" y="6187"/>
                  </a:lnTo>
                  <a:lnTo>
                    <a:pt x="10229" y="5676"/>
                  </a:lnTo>
                  <a:lnTo>
                    <a:pt x="10253" y="5408"/>
                  </a:lnTo>
                  <a:lnTo>
                    <a:pt x="10278" y="5140"/>
                  </a:lnTo>
                  <a:lnTo>
                    <a:pt x="10229" y="4604"/>
                  </a:lnTo>
                  <a:lnTo>
                    <a:pt x="10156" y="4093"/>
                  </a:lnTo>
                  <a:lnTo>
                    <a:pt x="10034" y="3605"/>
                  </a:lnTo>
                  <a:lnTo>
                    <a:pt x="9864" y="3143"/>
                  </a:lnTo>
                  <a:lnTo>
                    <a:pt x="9645" y="2680"/>
                  </a:lnTo>
                  <a:lnTo>
                    <a:pt x="9401" y="2266"/>
                  </a:lnTo>
                  <a:lnTo>
                    <a:pt x="9084" y="1876"/>
                  </a:lnTo>
                  <a:lnTo>
                    <a:pt x="8768" y="1511"/>
                  </a:lnTo>
                  <a:lnTo>
                    <a:pt x="8402" y="1170"/>
                  </a:lnTo>
                  <a:lnTo>
                    <a:pt x="8013" y="878"/>
                  </a:lnTo>
                  <a:lnTo>
                    <a:pt x="7574" y="634"/>
                  </a:lnTo>
                  <a:lnTo>
                    <a:pt x="7136" y="415"/>
                  </a:lnTo>
                  <a:lnTo>
                    <a:pt x="6673" y="244"/>
                  </a:lnTo>
                  <a:lnTo>
                    <a:pt x="6162" y="98"/>
                  </a:lnTo>
                  <a:lnTo>
                    <a:pt x="5675" y="25"/>
                  </a:lnTo>
                  <a:lnTo>
                    <a:pt x="5139" y="1"/>
                  </a:lnTo>
                  <a:lnTo>
                    <a:pt x="4603" y="25"/>
                  </a:lnTo>
                  <a:lnTo>
                    <a:pt x="4116" y="98"/>
                  </a:lnTo>
                  <a:lnTo>
                    <a:pt x="3605" y="244"/>
                  </a:lnTo>
                  <a:lnTo>
                    <a:pt x="3142" y="415"/>
                  </a:lnTo>
                  <a:lnTo>
                    <a:pt x="2703" y="634"/>
                  </a:lnTo>
                  <a:lnTo>
                    <a:pt x="2265" y="878"/>
                  </a:lnTo>
                  <a:lnTo>
                    <a:pt x="1875" y="1170"/>
                  </a:lnTo>
                  <a:lnTo>
                    <a:pt x="1510" y="1511"/>
                  </a:lnTo>
                  <a:lnTo>
                    <a:pt x="1193" y="1876"/>
                  </a:lnTo>
                  <a:lnTo>
                    <a:pt x="877" y="2266"/>
                  </a:lnTo>
                  <a:lnTo>
                    <a:pt x="633" y="2680"/>
                  </a:lnTo>
                  <a:lnTo>
                    <a:pt x="414" y="3143"/>
                  </a:lnTo>
                  <a:lnTo>
                    <a:pt x="244" y="3605"/>
                  </a:lnTo>
                  <a:lnTo>
                    <a:pt x="122" y="4093"/>
                  </a:lnTo>
                  <a:lnTo>
                    <a:pt x="49" y="4604"/>
                  </a:lnTo>
                  <a:lnTo>
                    <a:pt x="0" y="5140"/>
                  </a:lnTo>
                  <a:lnTo>
                    <a:pt x="24" y="5408"/>
                  </a:lnTo>
                  <a:lnTo>
                    <a:pt x="49" y="5676"/>
                  </a:lnTo>
                  <a:lnTo>
                    <a:pt x="122" y="6187"/>
                  </a:lnTo>
                  <a:lnTo>
                    <a:pt x="244" y="6674"/>
                  </a:lnTo>
                  <a:lnTo>
                    <a:pt x="414" y="7113"/>
                  </a:lnTo>
                  <a:lnTo>
                    <a:pt x="633" y="7551"/>
                  </a:lnTo>
                  <a:lnTo>
                    <a:pt x="852" y="7941"/>
                  </a:lnTo>
                  <a:lnTo>
                    <a:pt x="1096" y="8330"/>
                  </a:lnTo>
                  <a:lnTo>
                    <a:pt x="1364" y="8720"/>
                  </a:lnTo>
                  <a:lnTo>
                    <a:pt x="1900" y="9499"/>
                  </a:lnTo>
                  <a:lnTo>
                    <a:pt x="2143" y="9913"/>
                  </a:lnTo>
                  <a:lnTo>
                    <a:pt x="2387" y="10327"/>
                  </a:lnTo>
                  <a:lnTo>
                    <a:pt x="2606" y="10766"/>
                  </a:lnTo>
                  <a:lnTo>
                    <a:pt x="2801" y="11253"/>
                  </a:lnTo>
                  <a:lnTo>
                    <a:pt x="2971" y="11764"/>
                  </a:lnTo>
                  <a:lnTo>
                    <a:pt x="3093" y="12300"/>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4" name="Google Shape;300;p28"/>
            <p:cNvSpPr/>
            <p:nvPr/>
          </p:nvSpPr>
          <p:spPr>
            <a:xfrm>
              <a:off x="464544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1"/>
                  </a:moveTo>
                  <a:lnTo>
                    <a:pt x="1413" y="1"/>
                  </a:lnTo>
                  <a:lnTo>
                    <a:pt x="829" y="2850"/>
                  </a:lnTo>
                  <a:lnTo>
                    <a:pt x="1" y="6674"/>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5" name="Google Shape;301;p28"/>
            <p:cNvSpPr/>
            <p:nvPr/>
          </p:nvSpPr>
          <p:spPr>
            <a:xfrm>
              <a:off x="4544640" y="3458880"/>
              <a:ext cx="126360" cy="23760"/>
            </a:xfrm>
            <a:custGeom>
              <a:avLst/>
              <a:gdLst>
                <a:gd name="textAreaLeft" fmla="*/ 0 w 126360"/>
                <a:gd name="textAreaRight" fmla="*/ 126720 w 126360"/>
                <a:gd name="textAreaTop" fmla="*/ 0 h 23760"/>
                <a:gd name="textAreaBottom" fmla="*/ 24120 h 23760"/>
              </a:gdLst>
              <a:ahLst/>
              <a:rect l="textAreaLeft" t="textAreaTop" r="textAreaRight" b="textAreaBottom"/>
              <a:pathLst>
                <a:path fill="none" w="3606" h="780">
                  <a:moveTo>
                    <a:pt x="1" y="73"/>
                  </a:moveTo>
                  <a:lnTo>
                    <a:pt x="829" y="780"/>
                  </a:lnTo>
                  <a:lnTo>
                    <a:pt x="1657" y="73"/>
                  </a:lnTo>
                  <a:lnTo>
                    <a:pt x="1730" y="25"/>
                  </a:lnTo>
                  <a:lnTo>
                    <a:pt x="1803" y="0"/>
                  </a:lnTo>
                  <a:lnTo>
                    <a:pt x="1876" y="25"/>
                  </a:lnTo>
                  <a:lnTo>
                    <a:pt x="1949" y="73"/>
                  </a:lnTo>
                  <a:lnTo>
                    <a:pt x="2777" y="780"/>
                  </a:lnTo>
                  <a:lnTo>
                    <a:pt x="3605" y="73"/>
                  </a:lnTo>
                </a:path>
              </a:pathLst>
            </a:custGeom>
            <a:noFill/>
            <a:ln cap="rnd" w="12240">
              <a:solidFill>
                <a:srgbClr val="ffffff"/>
              </a:solidFill>
              <a:round/>
            </a:ln>
          </p:spPr>
          <p:style>
            <a:lnRef idx="0"/>
            <a:fillRef idx="0"/>
            <a:effectRef idx="0"/>
            <a:fontRef idx="minor"/>
          </p:style>
          <p:txBody>
            <a:bodyPr lIns="91080" rIns="91080" tIns="-66960" bIns="-66960" anchor="ctr">
              <a:noAutofit/>
            </a:bodyPr>
            <a:p>
              <a:endParaRPr b="0" lang="en-US" sz="1400" spc="-1" strike="noStrike">
                <a:solidFill>
                  <a:srgbClr val="000000"/>
                </a:solidFill>
                <a:latin typeface="Arial"/>
              </a:endParaRPr>
            </a:p>
          </p:txBody>
        </p:sp>
        <p:sp>
          <p:nvSpPr>
            <p:cNvPr id="416" name="Google Shape;302;p28"/>
            <p:cNvSpPr/>
            <p:nvPr/>
          </p:nvSpPr>
          <p:spPr>
            <a:xfrm>
              <a:off x="4536000" y="3675600"/>
              <a:ext cx="143280" cy="360"/>
            </a:xfrm>
            <a:custGeom>
              <a:avLst/>
              <a:gdLst>
                <a:gd name="textAreaLeft" fmla="*/ 0 w 143280"/>
                <a:gd name="textAreaRight" fmla="*/ 143640 w 143280"/>
                <a:gd name="textAreaTop" fmla="*/ 0 h 360"/>
                <a:gd name="textAreaBottom" fmla="*/ 720 h 360"/>
              </a:gdLst>
              <a:ahLst/>
              <a:rect l="textAreaLeft" t="textAreaTop" r="textAreaRight" b="textAreaBottom"/>
              <a:pathLst>
                <a:path fill="none" w="4092" h="1">
                  <a:moveTo>
                    <a:pt x="0" y="1"/>
                  </a:moveTo>
                  <a:lnTo>
                    <a:pt x="4092" y="1"/>
                  </a:lnTo>
                </a:path>
              </a:pathLst>
            </a:custGeom>
            <a:noFill/>
            <a:ln cap="rnd" w="12240">
              <a:solidFill>
                <a:srgbClr val="ffffff"/>
              </a:solidFill>
              <a:round/>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grpSp>
      <p:grpSp>
        <p:nvGrpSpPr>
          <p:cNvPr id="417" name="Google Shape;544;p38"/>
          <p:cNvGrpSpPr/>
          <p:nvPr/>
        </p:nvGrpSpPr>
        <p:grpSpPr>
          <a:xfrm>
            <a:off x="4356000" y="915840"/>
            <a:ext cx="647640" cy="503280"/>
            <a:chOff x="4356000" y="915840"/>
            <a:chExt cx="647640" cy="503280"/>
          </a:xfrm>
        </p:grpSpPr>
        <p:sp>
          <p:nvSpPr>
            <p:cNvPr id="418" name="Google Shape;545;p38"/>
            <p:cNvSpPr/>
            <p:nvPr/>
          </p:nvSpPr>
          <p:spPr>
            <a:xfrm>
              <a:off x="4356000" y="915840"/>
              <a:ext cx="442800" cy="465120"/>
            </a:xfrm>
            <a:custGeom>
              <a:avLst/>
              <a:gdLst>
                <a:gd name="textAreaLeft" fmla="*/ 0 w 442800"/>
                <a:gd name="textAreaRight" fmla="*/ 443160 w 442800"/>
                <a:gd name="textAreaTop" fmla="*/ 0 h 465120"/>
                <a:gd name="textAreaBottom" fmla="*/ 465480 h 465120"/>
              </a:gdLst>
              <a:ahLst/>
              <a:rect l="textAreaLeft" t="textAreaTop" r="textAreaRight" b="textAreaBottom"/>
              <a:pathLst>
                <a:path w="13996" h="13995">
                  <a:moveTo>
                    <a:pt x="6986" y="4714"/>
                  </a:moveTo>
                  <a:lnTo>
                    <a:pt x="7206" y="4738"/>
                  </a:lnTo>
                  <a:lnTo>
                    <a:pt x="7425" y="4763"/>
                  </a:lnTo>
                  <a:lnTo>
                    <a:pt x="7645" y="4812"/>
                  </a:lnTo>
                  <a:lnTo>
                    <a:pt x="7841" y="4885"/>
                  </a:lnTo>
                  <a:lnTo>
                    <a:pt x="8060" y="4983"/>
                  </a:lnTo>
                  <a:lnTo>
                    <a:pt x="8256" y="5105"/>
                  </a:lnTo>
                  <a:lnTo>
                    <a:pt x="8427" y="5227"/>
                  </a:lnTo>
                  <a:lnTo>
                    <a:pt x="8598" y="5398"/>
                  </a:lnTo>
                  <a:lnTo>
                    <a:pt x="8769" y="5569"/>
                  </a:lnTo>
                  <a:lnTo>
                    <a:pt x="8891" y="5740"/>
                  </a:lnTo>
                  <a:lnTo>
                    <a:pt x="9013" y="5935"/>
                  </a:lnTo>
                  <a:lnTo>
                    <a:pt x="9111" y="6155"/>
                  </a:lnTo>
                  <a:lnTo>
                    <a:pt x="9184" y="6350"/>
                  </a:lnTo>
                  <a:lnTo>
                    <a:pt x="9233" y="6570"/>
                  </a:lnTo>
                  <a:lnTo>
                    <a:pt x="9257" y="6790"/>
                  </a:lnTo>
                  <a:lnTo>
                    <a:pt x="9257" y="7010"/>
                  </a:lnTo>
                  <a:lnTo>
                    <a:pt x="9257" y="7229"/>
                  </a:lnTo>
                  <a:lnTo>
                    <a:pt x="9233" y="7425"/>
                  </a:lnTo>
                  <a:lnTo>
                    <a:pt x="9184" y="7645"/>
                  </a:lnTo>
                  <a:lnTo>
                    <a:pt x="9111" y="7864"/>
                  </a:lnTo>
                  <a:lnTo>
                    <a:pt x="9013" y="8060"/>
                  </a:lnTo>
                  <a:lnTo>
                    <a:pt x="8891" y="8255"/>
                  </a:lnTo>
                  <a:lnTo>
                    <a:pt x="8769" y="8451"/>
                  </a:lnTo>
                  <a:lnTo>
                    <a:pt x="8598" y="8622"/>
                  </a:lnTo>
                  <a:lnTo>
                    <a:pt x="8427" y="8768"/>
                  </a:lnTo>
                  <a:lnTo>
                    <a:pt x="8256" y="8915"/>
                  </a:lnTo>
                  <a:lnTo>
                    <a:pt x="8060" y="9012"/>
                  </a:lnTo>
                  <a:lnTo>
                    <a:pt x="7841" y="9110"/>
                  </a:lnTo>
                  <a:lnTo>
                    <a:pt x="7645" y="9183"/>
                  </a:lnTo>
                  <a:lnTo>
                    <a:pt x="7425" y="9232"/>
                  </a:lnTo>
                  <a:lnTo>
                    <a:pt x="7206" y="9257"/>
                  </a:lnTo>
                  <a:lnTo>
                    <a:pt x="6986" y="9281"/>
                  </a:lnTo>
                  <a:lnTo>
                    <a:pt x="6766" y="9257"/>
                  </a:lnTo>
                  <a:lnTo>
                    <a:pt x="6546" y="9232"/>
                  </a:lnTo>
                  <a:lnTo>
                    <a:pt x="6351" y="9183"/>
                  </a:lnTo>
                  <a:lnTo>
                    <a:pt x="6131" y="9110"/>
                  </a:lnTo>
                  <a:lnTo>
                    <a:pt x="5936" y="9012"/>
                  </a:lnTo>
                  <a:lnTo>
                    <a:pt x="5740" y="8915"/>
                  </a:lnTo>
                  <a:lnTo>
                    <a:pt x="5545" y="8768"/>
                  </a:lnTo>
                  <a:lnTo>
                    <a:pt x="5374" y="8622"/>
                  </a:lnTo>
                  <a:lnTo>
                    <a:pt x="5227" y="8451"/>
                  </a:lnTo>
                  <a:lnTo>
                    <a:pt x="5081" y="8255"/>
                  </a:lnTo>
                  <a:lnTo>
                    <a:pt x="4983" y="8060"/>
                  </a:lnTo>
                  <a:lnTo>
                    <a:pt x="4885" y="7864"/>
                  </a:lnTo>
                  <a:lnTo>
                    <a:pt x="4812" y="7645"/>
                  </a:lnTo>
                  <a:lnTo>
                    <a:pt x="4763" y="7425"/>
                  </a:lnTo>
                  <a:lnTo>
                    <a:pt x="4714" y="7229"/>
                  </a:lnTo>
                  <a:lnTo>
                    <a:pt x="4714" y="7010"/>
                  </a:lnTo>
                  <a:lnTo>
                    <a:pt x="4714" y="6790"/>
                  </a:lnTo>
                  <a:lnTo>
                    <a:pt x="4763" y="6570"/>
                  </a:lnTo>
                  <a:lnTo>
                    <a:pt x="4812" y="6350"/>
                  </a:lnTo>
                  <a:lnTo>
                    <a:pt x="4885" y="6155"/>
                  </a:lnTo>
                  <a:lnTo>
                    <a:pt x="4983" y="5935"/>
                  </a:lnTo>
                  <a:lnTo>
                    <a:pt x="5081" y="5740"/>
                  </a:lnTo>
                  <a:lnTo>
                    <a:pt x="5227" y="5569"/>
                  </a:lnTo>
                  <a:lnTo>
                    <a:pt x="5374" y="5398"/>
                  </a:lnTo>
                  <a:lnTo>
                    <a:pt x="5545" y="5227"/>
                  </a:lnTo>
                  <a:lnTo>
                    <a:pt x="5740" y="5105"/>
                  </a:lnTo>
                  <a:lnTo>
                    <a:pt x="5936" y="4983"/>
                  </a:lnTo>
                  <a:lnTo>
                    <a:pt x="6131" y="4885"/>
                  </a:lnTo>
                  <a:lnTo>
                    <a:pt x="6351" y="4812"/>
                  </a:lnTo>
                  <a:lnTo>
                    <a:pt x="6546" y="4763"/>
                  </a:lnTo>
                  <a:lnTo>
                    <a:pt x="6766" y="4738"/>
                  </a:lnTo>
                  <a:lnTo>
                    <a:pt x="6986" y="4714"/>
                  </a:lnTo>
                  <a:close/>
                  <a:moveTo>
                    <a:pt x="6497" y="0"/>
                  </a:moveTo>
                  <a:lnTo>
                    <a:pt x="6375" y="25"/>
                  </a:lnTo>
                  <a:lnTo>
                    <a:pt x="6253" y="49"/>
                  </a:lnTo>
                  <a:lnTo>
                    <a:pt x="6131" y="122"/>
                  </a:lnTo>
                  <a:lnTo>
                    <a:pt x="6033" y="196"/>
                  </a:lnTo>
                  <a:lnTo>
                    <a:pt x="5936" y="293"/>
                  </a:lnTo>
                  <a:lnTo>
                    <a:pt x="5862" y="391"/>
                  </a:lnTo>
                  <a:lnTo>
                    <a:pt x="5813" y="513"/>
                  </a:lnTo>
                  <a:lnTo>
                    <a:pt x="5789" y="635"/>
                  </a:lnTo>
                  <a:lnTo>
                    <a:pt x="5618" y="2076"/>
                  </a:lnTo>
                  <a:lnTo>
                    <a:pt x="5325" y="2174"/>
                  </a:lnTo>
                  <a:lnTo>
                    <a:pt x="5032" y="2296"/>
                  </a:lnTo>
                  <a:lnTo>
                    <a:pt x="4763" y="2418"/>
                  </a:lnTo>
                  <a:lnTo>
                    <a:pt x="4495" y="2565"/>
                  </a:lnTo>
                  <a:lnTo>
                    <a:pt x="3347" y="1661"/>
                  </a:lnTo>
                  <a:lnTo>
                    <a:pt x="3225" y="1588"/>
                  </a:lnTo>
                  <a:lnTo>
                    <a:pt x="3103" y="1539"/>
                  </a:lnTo>
                  <a:lnTo>
                    <a:pt x="2980" y="1514"/>
                  </a:lnTo>
                  <a:lnTo>
                    <a:pt x="2736" y="1514"/>
                  </a:lnTo>
                  <a:lnTo>
                    <a:pt x="2590" y="1563"/>
                  </a:lnTo>
                  <a:lnTo>
                    <a:pt x="2492" y="1637"/>
                  </a:lnTo>
                  <a:lnTo>
                    <a:pt x="2394" y="1710"/>
                  </a:lnTo>
                  <a:lnTo>
                    <a:pt x="1710" y="2394"/>
                  </a:lnTo>
                  <a:lnTo>
                    <a:pt x="1613" y="2491"/>
                  </a:lnTo>
                  <a:lnTo>
                    <a:pt x="1564" y="2614"/>
                  </a:lnTo>
                  <a:lnTo>
                    <a:pt x="1515" y="2736"/>
                  </a:lnTo>
                  <a:lnTo>
                    <a:pt x="1491" y="2858"/>
                  </a:lnTo>
                  <a:lnTo>
                    <a:pt x="1491" y="3004"/>
                  </a:lnTo>
                  <a:lnTo>
                    <a:pt x="1515" y="3126"/>
                  </a:lnTo>
                  <a:lnTo>
                    <a:pt x="1564" y="3249"/>
                  </a:lnTo>
                  <a:lnTo>
                    <a:pt x="1637" y="3346"/>
                  </a:lnTo>
                  <a:lnTo>
                    <a:pt x="2541" y="4494"/>
                  </a:lnTo>
                  <a:lnTo>
                    <a:pt x="2394" y="4763"/>
                  </a:lnTo>
                  <a:lnTo>
                    <a:pt x="2272" y="5056"/>
                  </a:lnTo>
                  <a:lnTo>
                    <a:pt x="2174" y="5349"/>
                  </a:lnTo>
                  <a:lnTo>
                    <a:pt x="2077" y="5642"/>
                  </a:lnTo>
                  <a:lnTo>
                    <a:pt x="636" y="5789"/>
                  </a:lnTo>
                  <a:lnTo>
                    <a:pt x="514" y="5837"/>
                  </a:lnTo>
                  <a:lnTo>
                    <a:pt x="392" y="5886"/>
                  </a:lnTo>
                  <a:lnTo>
                    <a:pt x="269" y="5959"/>
                  </a:lnTo>
                  <a:lnTo>
                    <a:pt x="172" y="6033"/>
                  </a:lnTo>
                  <a:lnTo>
                    <a:pt x="99" y="6155"/>
                  </a:lnTo>
                  <a:lnTo>
                    <a:pt x="50" y="6253"/>
                  </a:lnTo>
                  <a:lnTo>
                    <a:pt x="1" y="6399"/>
                  </a:lnTo>
                  <a:lnTo>
                    <a:pt x="1" y="6521"/>
                  </a:lnTo>
                  <a:lnTo>
                    <a:pt x="1" y="7474"/>
                  </a:lnTo>
                  <a:lnTo>
                    <a:pt x="1" y="7620"/>
                  </a:lnTo>
                  <a:lnTo>
                    <a:pt x="50" y="7742"/>
                  </a:lnTo>
                  <a:lnTo>
                    <a:pt x="99" y="7864"/>
                  </a:lnTo>
                  <a:lnTo>
                    <a:pt x="172" y="7962"/>
                  </a:lnTo>
                  <a:lnTo>
                    <a:pt x="269" y="8060"/>
                  </a:lnTo>
                  <a:lnTo>
                    <a:pt x="392" y="8133"/>
                  </a:lnTo>
                  <a:lnTo>
                    <a:pt x="514" y="8182"/>
                  </a:lnTo>
                  <a:lnTo>
                    <a:pt x="636" y="8206"/>
                  </a:lnTo>
                  <a:lnTo>
                    <a:pt x="2077" y="8377"/>
                  </a:lnTo>
                  <a:lnTo>
                    <a:pt x="2174" y="8670"/>
                  </a:lnTo>
                  <a:lnTo>
                    <a:pt x="2272" y="8939"/>
                  </a:lnTo>
                  <a:lnTo>
                    <a:pt x="2394" y="9232"/>
                  </a:lnTo>
                  <a:lnTo>
                    <a:pt x="2541" y="9501"/>
                  </a:lnTo>
                  <a:lnTo>
                    <a:pt x="1637" y="10649"/>
                  </a:lnTo>
                  <a:lnTo>
                    <a:pt x="1564" y="10771"/>
                  </a:lnTo>
                  <a:lnTo>
                    <a:pt x="1515" y="10893"/>
                  </a:lnTo>
                  <a:lnTo>
                    <a:pt x="1491" y="11015"/>
                  </a:lnTo>
                  <a:lnTo>
                    <a:pt x="1491" y="11137"/>
                  </a:lnTo>
                  <a:lnTo>
                    <a:pt x="1515" y="11259"/>
                  </a:lnTo>
                  <a:lnTo>
                    <a:pt x="1564" y="11381"/>
                  </a:lnTo>
                  <a:lnTo>
                    <a:pt x="1613" y="11504"/>
                  </a:lnTo>
                  <a:lnTo>
                    <a:pt x="1710" y="11601"/>
                  </a:lnTo>
                  <a:lnTo>
                    <a:pt x="2394" y="12285"/>
                  </a:lnTo>
                  <a:lnTo>
                    <a:pt x="2492" y="12383"/>
                  </a:lnTo>
                  <a:lnTo>
                    <a:pt x="2590" y="12432"/>
                  </a:lnTo>
                  <a:lnTo>
                    <a:pt x="2736" y="12480"/>
                  </a:lnTo>
                  <a:lnTo>
                    <a:pt x="2858" y="12505"/>
                  </a:lnTo>
                  <a:lnTo>
                    <a:pt x="2980" y="12505"/>
                  </a:lnTo>
                  <a:lnTo>
                    <a:pt x="3103" y="12456"/>
                  </a:lnTo>
                  <a:lnTo>
                    <a:pt x="3225" y="12407"/>
                  </a:lnTo>
                  <a:lnTo>
                    <a:pt x="3347" y="12358"/>
                  </a:lnTo>
                  <a:lnTo>
                    <a:pt x="4495" y="11455"/>
                  </a:lnTo>
                  <a:lnTo>
                    <a:pt x="4763" y="11577"/>
                  </a:lnTo>
                  <a:lnTo>
                    <a:pt x="5032" y="11723"/>
                  </a:lnTo>
                  <a:lnTo>
                    <a:pt x="5325" y="11821"/>
                  </a:lnTo>
                  <a:lnTo>
                    <a:pt x="5618" y="11919"/>
                  </a:lnTo>
                  <a:lnTo>
                    <a:pt x="5789" y="13360"/>
                  </a:lnTo>
                  <a:lnTo>
                    <a:pt x="5813" y="13482"/>
                  </a:lnTo>
                  <a:lnTo>
                    <a:pt x="5862" y="13604"/>
                  </a:lnTo>
                  <a:lnTo>
                    <a:pt x="5936" y="13726"/>
                  </a:lnTo>
                  <a:lnTo>
                    <a:pt x="6033" y="13824"/>
                  </a:lnTo>
                  <a:lnTo>
                    <a:pt x="6131" y="13897"/>
                  </a:lnTo>
                  <a:lnTo>
                    <a:pt x="6253" y="13946"/>
                  </a:lnTo>
                  <a:lnTo>
                    <a:pt x="6375" y="13995"/>
                  </a:lnTo>
                  <a:lnTo>
                    <a:pt x="7596" y="13995"/>
                  </a:lnTo>
                  <a:lnTo>
                    <a:pt x="7743" y="13946"/>
                  </a:lnTo>
                  <a:lnTo>
                    <a:pt x="7841" y="13897"/>
                  </a:lnTo>
                  <a:lnTo>
                    <a:pt x="7963" y="13824"/>
                  </a:lnTo>
                  <a:lnTo>
                    <a:pt x="8036" y="13726"/>
                  </a:lnTo>
                  <a:lnTo>
                    <a:pt x="8109" y="13604"/>
                  </a:lnTo>
                  <a:lnTo>
                    <a:pt x="8158" y="13482"/>
                  </a:lnTo>
                  <a:lnTo>
                    <a:pt x="8183" y="13360"/>
                  </a:lnTo>
                  <a:lnTo>
                    <a:pt x="8353" y="11919"/>
                  </a:lnTo>
                  <a:lnTo>
                    <a:pt x="8647" y="11821"/>
                  </a:lnTo>
                  <a:lnTo>
                    <a:pt x="8940" y="11723"/>
                  </a:lnTo>
                  <a:lnTo>
                    <a:pt x="9233" y="11577"/>
                  </a:lnTo>
                  <a:lnTo>
                    <a:pt x="9501" y="11455"/>
                  </a:lnTo>
                  <a:lnTo>
                    <a:pt x="10649" y="12358"/>
                  </a:lnTo>
                  <a:lnTo>
                    <a:pt x="10747" y="12407"/>
                  </a:lnTo>
                  <a:lnTo>
                    <a:pt x="10869" y="12456"/>
                  </a:lnTo>
                  <a:lnTo>
                    <a:pt x="10991" y="12505"/>
                  </a:lnTo>
                  <a:lnTo>
                    <a:pt x="11138" y="12505"/>
                  </a:lnTo>
                  <a:lnTo>
                    <a:pt x="11260" y="12480"/>
                  </a:lnTo>
                  <a:lnTo>
                    <a:pt x="11382" y="12432"/>
                  </a:lnTo>
                  <a:lnTo>
                    <a:pt x="11504" y="12383"/>
                  </a:lnTo>
                  <a:lnTo>
                    <a:pt x="11602" y="12285"/>
                  </a:lnTo>
                  <a:lnTo>
                    <a:pt x="12286" y="11601"/>
                  </a:lnTo>
                  <a:lnTo>
                    <a:pt x="12359" y="11504"/>
                  </a:lnTo>
                  <a:lnTo>
                    <a:pt x="12432" y="11381"/>
                  </a:lnTo>
                  <a:lnTo>
                    <a:pt x="12457" y="11259"/>
                  </a:lnTo>
                  <a:lnTo>
                    <a:pt x="12481" y="11137"/>
                  </a:lnTo>
                  <a:lnTo>
                    <a:pt x="12481" y="11015"/>
                  </a:lnTo>
                  <a:lnTo>
                    <a:pt x="12457" y="10893"/>
                  </a:lnTo>
                  <a:lnTo>
                    <a:pt x="12408" y="10771"/>
                  </a:lnTo>
                  <a:lnTo>
                    <a:pt x="12334" y="10649"/>
                  </a:lnTo>
                  <a:lnTo>
                    <a:pt x="11431" y="9501"/>
                  </a:lnTo>
                  <a:lnTo>
                    <a:pt x="11577" y="9232"/>
                  </a:lnTo>
                  <a:lnTo>
                    <a:pt x="11699" y="8939"/>
                  </a:lnTo>
                  <a:lnTo>
                    <a:pt x="11822" y="8670"/>
                  </a:lnTo>
                  <a:lnTo>
                    <a:pt x="11895" y="8377"/>
                  </a:lnTo>
                  <a:lnTo>
                    <a:pt x="13360" y="8206"/>
                  </a:lnTo>
                  <a:lnTo>
                    <a:pt x="13482" y="8182"/>
                  </a:lnTo>
                  <a:lnTo>
                    <a:pt x="13604" y="8133"/>
                  </a:lnTo>
                  <a:lnTo>
                    <a:pt x="13702" y="8060"/>
                  </a:lnTo>
                  <a:lnTo>
                    <a:pt x="13800" y="7962"/>
                  </a:lnTo>
                  <a:lnTo>
                    <a:pt x="13873" y="7864"/>
                  </a:lnTo>
                  <a:lnTo>
                    <a:pt x="13946" y="7742"/>
                  </a:lnTo>
                  <a:lnTo>
                    <a:pt x="13971" y="7620"/>
                  </a:lnTo>
                  <a:lnTo>
                    <a:pt x="13995" y="7474"/>
                  </a:lnTo>
                  <a:lnTo>
                    <a:pt x="13995" y="6521"/>
                  </a:lnTo>
                  <a:lnTo>
                    <a:pt x="13971" y="6399"/>
                  </a:lnTo>
                  <a:lnTo>
                    <a:pt x="13946" y="6253"/>
                  </a:lnTo>
                  <a:lnTo>
                    <a:pt x="13873" y="6155"/>
                  </a:lnTo>
                  <a:lnTo>
                    <a:pt x="13800" y="6033"/>
                  </a:lnTo>
                  <a:lnTo>
                    <a:pt x="13702" y="5959"/>
                  </a:lnTo>
                  <a:lnTo>
                    <a:pt x="13604" y="5886"/>
                  </a:lnTo>
                  <a:lnTo>
                    <a:pt x="13482" y="5837"/>
                  </a:lnTo>
                  <a:lnTo>
                    <a:pt x="13360" y="5789"/>
                  </a:lnTo>
                  <a:lnTo>
                    <a:pt x="11895" y="5642"/>
                  </a:lnTo>
                  <a:lnTo>
                    <a:pt x="11822" y="5349"/>
                  </a:lnTo>
                  <a:lnTo>
                    <a:pt x="11699" y="5056"/>
                  </a:lnTo>
                  <a:lnTo>
                    <a:pt x="11577" y="4763"/>
                  </a:lnTo>
                  <a:lnTo>
                    <a:pt x="11431" y="4494"/>
                  </a:lnTo>
                  <a:lnTo>
                    <a:pt x="12334" y="3346"/>
                  </a:lnTo>
                  <a:lnTo>
                    <a:pt x="12408" y="3249"/>
                  </a:lnTo>
                  <a:lnTo>
                    <a:pt x="12457" y="3126"/>
                  </a:lnTo>
                  <a:lnTo>
                    <a:pt x="12481" y="3004"/>
                  </a:lnTo>
                  <a:lnTo>
                    <a:pt x="12481" y="2858"/>
                  </a:lnTo>
                  <a:lnTo>
                    <a:pt x="12457" y="2736"/>
                  </a:lnTo>
                  <a:lnTo>
                    <a:pt x="12432" y="2614"/>
                  </a:lnTo>
                  <a:lnTo>
                    <a:pt x="12359" y="2491"/>
                  </a:lnTo>
                  <a:lnTo>
                    <a:pt x="12286" y="2394"/>
                  </a:lnTo>
                  <a:lnTo>
                    <a:pt x="11602" y="1710"/>
                  </a:lnTo>
                  <a:lnTo>
                    <a:pt x="11504" y="1637"/>
                  </a:lnTo>
                  <a:lnTo>
                    <a:pt x="11382" y="1563"/>
                  </a:lnTo>
                  <a:lnTo>
                    <a:pt x="11260" y="1514"/>
                  </a:lnTo>
                  <a:lnTo>
                    <a:pt x="10991" y="1514"/>
                  </a:lnTo>
                  <a:lnTo>
                    <a:pt x="10869" y="1539"/>
                  </a:lnTo>
                  <a:lnTo>
                    <a:pt x="10747" y="1588"/>
                  </a:lnTo>
                  <a:lnTo>
                    <a:pt x="10649" y="1661"/>
                  </a:lnTo>
                  <a:lnTo>
                    <a:pt x="9501" y="2565"/>
                  </a:lnTo>
                  <a:lnTo>
                    <a:pt x="9233" y="2418"/>
                  </a:lnTo>
                  <a:lnTo>
                    <a:pt x="8940" y="2296"/>
                  </a:lnTo>
                  <a:lnTo>
                    <a:pt x="8647" y="2174"/>
                  </a:lnTo>
                  <a:lnTo>
                    <a:pt x="8353" y="2076"/>
                  </a:lnTo>
                  <a:lnTo>
                    <a:pt x="8183" y="635"/>
                  </a:lnTo>
                  <a:lnTo>
                    <a:pt x="8158" y="513"/>
                  </a:lnTo>
                  <a:lnTo>
                    <a:pt x="8109" y="391"/>
                  </a:lnTo>
                  <a:lnTo>
                    <a:pt x="8036" y="293"/>
                  </a:lnTo>
                  <a:lnTo>
                    <a:pt x="7963" y="196"/>
                  </a:lnTo>
                  <a:lnTo>
                    <a:pt x="7841" y="122"/>
                  </a:lnTo>
                  <a:lnTo>
                    <a:pt x="7743" y="49"/>
                  </a:lnTo>
                  <a:lnTo>
                    <a:pt x="7596" y="25"/>
                  </a:lnTo>
                  <a:lnTo>
                    <a:pt x="7474"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9" name="Google Shape;546;p38"/>
            <p:cNvSpPr/>
            <p:nvPr/>
          </p:nvSpPr>
          <p:spPr>
            <a:xfrm>
              <a:off x="4751640" y="1154520"/>
              <a:ext cx="252000" cy="264600"/>
            </a:xfrm>
            <a:custGeom>
              <a:avLst/>
              <a:gdLst>
                <a:gd name="textAreaLeft" fmla="*/ 0 w 252000"/>
                <a:gd name="textAreaRight" fmla="*/ 252360 w 252000"/>
                <a:gd name="textAreaTop" fmla="*/ 0 h 264600"/>
                <a:gd name="textAreaBottom" fmla="*/ 264960 h 264600"/>
              </a:gdLst>
              <a:ahLst/>
              <a:rect l="textAreaLeft" t="textAreaTop" r="textAreaRight" b="textAreaBottom"/>
              <a:pathLst>
                <a:path w="7963" h="7963">
                  <a:moveTo>
                    <a:pt x="3933" y="2296"/>
                  </a:moveTo>
                  <a:lnTo>
                    <a:pt x="4103" y="2321"/>
                  </a:lnTo>
                  <a:lnTo>
                    <a:pt x="4274" y="2321"/>
                  </a:lnTo>
                  <a:lnTo>
                    <a:pt x="4421" y="2370"/>
                  </a:lnTo>
                  <a:lnTo>
                    <a:pt x="4592" y="2419"/>
                  </a:lnTo>
                  <a:lnTo>
                    <a:pt x="4738" y="2492"/>
                  </a:lnTo>
                  <a:lnTo>
                    <a:pt x="4885" y="2565"/>
                  </a:lnTo>
                  <a:lnTo>
                    <a:pt x="5032" y="2663"/>
                  </a:lnTo>
                  <a:lnTo>
                    <a:pt x="5154" y="2785"/>
                  </a:lnTo>
                  <a:lnTo>
                    <a:pt x="5276" y="2883"/>
                  </a:lnTo>
                  <a:lnTo>
                    <a:pt x="5373" y="3029"/>
                  </a:lnTo>
                  <a:lnTo>
                    <a:pt x="5447" y="3151"/>
                  </a:lnTo>
                  <a:lnTo>
                    <a:pt x="5520" y="3298"/>
                  </a:lnTo>
                  <a:lnTo>
                    <a:pt x="5593" y="3444"/>
                  </a:lnTo>
                  <a:lnTo>
                    <a:pt x="5618" y="3615"/>
                  </a:lnTo>
                  <a:lnTo>
                    <a:pt x="5642" y="3762"/>
                  </a:lnTo>
                  <a:lnTo>
                    <a:pt x="5667" y="3933"/>
                  </a:lnTo>
                  <a:lnTo>
                    <a:pt x="5667" y="4079"/>
                  </a:lnTo>
                  <a:lnTo>
                    <a:pt x="5642" y="4250"/>
                  </a:lnTo>
                  <a:lnTo>
                    <a:pt x="5618" y="4421"/>
                  </a:lnTo>
                  <a:lnTo>
                    <a:pt x="5569" y="4568"/>
                  </a:lnTo>
                  <a:lnTo>
                    <a:pt x="5496" y="4739"/>
                  </a:lnTo>
                  <a:lnTo>
                    <a:pt x="5398" y="4885"/>
                  </a:lnTo>
                  <a:lnTo>
                    <a:pt x="5300" y="5007"/>
                  </a:lnTo>
                  <a:lnTo>
                    <a:pt x="5203" y="5154"/>
                  </a:lnTo>
                  <a:lnTo>
                    <a:pt x="5080" y="5252"/>
                  </a:lnTo>
                  <a:lnTo>
                    <a:pt x="4958" y="5349"/>
                  </a:lnTo>
                  <a:lnTo>
                    <a:pt x="4812" y="5447"/>
                  </a:lnTo>
                  <a:lnTo>
                    <a:pt x="4665" y="5520"/>
                  </a:lnTo>
                  <a:lnTo>
                    <a:pt x="4519" y="5569"/>
                  </a:lnTo>
                  <a:lnTo>
                    <a:pt x="4372" y="5618"/>
                  </a:lnTo>
                  <a:lnTo>
                    <a:pt x="4201" y="5642"/>
                  </a:lnTo>
                  <a:lnTo>
                    <a:pt x="4055" y="5667"/>
                  </a:lnTo>
                  <a:lnTo>
                    <a:pt x="3884" y="5642"/>
                  </a:lnTo>
                  <a:lnTo>
                    <a:pt x="3713" y="5642"/>
                  </a:lnTo>
                  <a:lnTo>
                    <a:pt x="3566" y="5594"/>
                  </a:lnTo>
                  <a:lnTo>
                    <a:pt x="3395" y="5545"/>
                  </a:lnTo>
                  <a:lnTo>
                    <a:pt x="3249" y="5471"/>
                  </a:lnTo>
                  <a:lnTo>
                    <a:pt x="3102" y="5398"/>
                  </a:lnTo>
                  <a:lnTo>
                    <a:pt x="2956" y="5300"/>
                  </a:lnTo>
                  <a:lnTo>
                    <a:pt x="2833" y="5178"/>
                  </a:lnTo>
                  <a:lnTo>
                    <a:pt x="2711" y="5081"/>
                  </a:lnTo>
                  <a:lnTo>
                    <a:pt x="2614" y="4934"/>
                  </a:lnTo>
                  <a:lnTo>
                    <a:pt x="2540" y="4812"/>
                  </a:lnTo>
                  <a:lnTo>
                    <a:pt x="2467" y="4665"/>
                  </a:lnTo>
                  <a:lnTo>
                    <a:pt x="2394" y="4519"/>
                  </a:lnTo>
                  <a:lnTo>
                    <a:pt x="2369" y="4348"/>
                  </a:lnTo>
                  <a:lnTo>
                    <a:pt x="2321" y="4201"/>
                  </a:lnTo>
                  <a:lnTo>
                    <a:pt x="2321" y="4030"/>
                  </a:lnTo>
                  <a:lnTo>
                    <a:pt x="2321" y="3884"/>
                  </a:lnTo>
                  <a:lnTo>
                    <a:pt x="2345" y="3713"/>
                  </a:lnTo>
                  <a:lnTo>
                    <a:pt x="2369" y="3542"/>
                  </a:lnTo>
                  <a:lnTo>
                    <a:pt x="2418" y="3395"/>
                  </a:lnTo>
                  <a:lnTo>
                    <a:pt x="2492" y="3224"/>
                  </a:lnTo>
                  <a:lnTo>
                    <a:pt x="2589" y="3078"/>
                  </a:lnTo>
                  <a:lnTo>
                    <a:pt x="2687" y="2956"/>
                  </a:lnTo>
                  <a:lnTo>
                    <a:pt x="2785" y="2809"/>
                  </a:lnTo>
                  <a:lnTo>
                    <a:pt x="2907" y="2712"/>
                  </a:lnTo>
                  <a:lnTo>
                    <a:pt x="3029" y="2614"/>
                  </a:lnTo>
                  <a:lnTo>
                    <a:pt x="3175" y="2516"/>
                  </a:lnTo>
                  <a:lnTo>
                    <a:pt x="3322" y="2443"/>
                  </a:lnTo>
                  <a:lnTo>
                    <a:pt x="3468" y="2394"/>
                  </a:lnTo>
                  <a:lnTo>
                    <a:pt x="3615" y="2345"/>
                  </a:lnTo>
                  <a:lnTo>
                    <a:pt x="3786" y="2321"/>
                  </a:lnTo>
                  <a:lnTo>
                    <a:pt x="3933" y="2296"/>
                  </a:lnTo>
                  <a:close/>
                  <a:moveTo>
                    <a:pt x="3053" y="1"/>
                  </a:moveTo>
                  <a:lnTo>
                    <a:pt x="2980" y="25"/>
                  </a:lnTo>
                  <a:lnTo>
                    <a:pt x="2443" y="196"/>
                  </a:lnTo>
                  <a:lnTo>
                    <a:pt x="2369" y="220"/>
                  </a:lnTo>
                  <a:lnTo>
                    <a:pt x="2296" y="269"/>
                  </a:lnTo>
                  <a:lnTo>
                    <a:pt x="2198" y="391"/>
                  </a:lnTo>
                  <a:lnTo>
                    <a:pt x="2150" y="538"/>
                  </a:lnTo>
                  <a:lnTo>
                    <a:pt x="2150" y="611"/>
                  </a:lnTo>
                  <a:lnTo>
                    <a:pt x="2150" y="684"/>
                  </a:lnTo>
                  <a:lnTo>
                    <a:pt x="2394" y="1832"/>
                  </a:lnTo>
                  <a:lnTo>
                    <a:pt x="2223" y="1954"/>
                  </a:lnTo>
                  <a:lnTo>
                    <a:pt x="2076" y="2101"/>
                  </a:lnTo>
                  <a:lnTo>
                    <a:pt x="1002" y="1686"/>
                  </a:lnTo>
                  <a:lnTo>
                    <a:pt x="928" y="1686"/>
                  </a:lnTo>
                  <a:lnTo>
                    <a:pt x="831" y="1661"/>
                  </a:lnTo>
                  <a:lnTo>
                    <a:pt x="684" y="1710"/>
                  </a:lnTo>
                  <a:lnTo>
                    <a:pt x="562" y="1784"/>
                  </a:lnTo>
                  <a:lnTo>
                    <a:pt x="513" y="1832"/>
                  </a:lnTo>
                  <a:lnTo>
                    <a:pt x="464" y="1906"/>
                  </a:lnTo>
                  <a:lnTo>
                    <a:pt x="220" y="2394"/>
                  </a:lnTo>
                  <a:lnTo>
                    <a:pt x="196" y="2467"/>
                  </a:lnTo>
                  <a:lnTo>
                    <a:pt x="171" y="2541"/>
                  </a:lnTo>
                  <a:lnTo>
                    <a:pt x="196" y="2712"/>
                  </a:lnTo>
                  <a:lnTo>
                    <a:pt x="245" y="2834"/>
                  </a:lnTo>
                  <a:lnTo>
                    <a:pt x="293" y="2907"/>
                  </a:lnTo>
                  <a:lnTo>
                    <a:pt x="367" y="2956"/>
                  </a:lnTo>
                  <a:lnTo>
                    <a:pt x="1344" y="3591"/>
                  </a:lnTo>
                  <a:lnTo>
                    <a:pt x="1319" y="3786"/>
                  </a:lnTo>
                  <a:lnTo>
                    <a:pt x="1295" y="4006"/>
                  </a:lnTo>
                  <a:lnTo>
                    <a:pt x="245" y="4494"/>
                  </a:lnTo>
                  <a:lnTo>
                    <a:pt x="196" y="4519"/>
                  </a:lnTo>
                  <a:lnTo>
                    <a:pt x="123" y="4568"/>
                  </a:lnTo>
                  <a:lnTo>
                    <a:pt x="49" y="4714"/>
                  </a:lnTo>
                  <a:lnTo>
                    <a:pt x="0" y="4861"/>
                  </a:lnTo>
                  <a:lnTo>
                    <a:pt x="25" y="4934"/>
                  </a:lnTo>
                  <a:lnTo>
                    <a:pt x="25" y="5007"/>
                  </a:lnTo>
                  <a:lnTo>
                    <a:pt x="220" y="5545"/>
                  </a:lnTo>
                  <a:lnTo>
                    <a:pt x="245" y="5594"/>
                  </a:lnTo>
                  <a:lnTo>
                    <a:pt x="293" y="5667"/>
                  </a:lnTo>
                  <a:lnTo>
                    <a:pt x="391" y="5764"/>
                  </a:lnTo>
                  <a:lnTo>
                    <a:pt x="538" y="5813"/>
                  </a:lnTo>
                  <a:lnTo>
                    <a:pt x="684" y="5813"/>
                  </a:lnTo>
                  <a:lnTo>
                    <a:pt x="1832" y="5569"/>
                  </a:lnTo>
                  <a:lnTo>
                    <a:pt x="1954" y="5740"/>
                  </a:lnTo>
                  <a:lnTo>
                    <a:pt x="2101" y="5887"/>
                  </a:lnTo>
                  <a:lnTo>
                    <a:pt x="1710" y="6986"/>
                  </a:lnTo>
                  <a:lnTo>
                    <a:pt x="1686" y="7059"/>
                  </a:lnTo>
                  <a:lnTo>
                    <a:pt x="1686" y="7132"/>
                  </a:lnTo>
                  <a:lnTo>
                    <a:pt x="1710" y="7279"/>
                  </a:lnTo>
                  <a:lnTo>
                    <a:pt x="1783" y="7401"/>
                  </a:lnTo>
                  <a:lnTo>
                    <a:pt x="1857" y="7450"/>
                  </a:lnTo>
                  <a:lnTo>
                    <a:pt x="1905" y="7499"/>
                  </a:lnTo>
                  <a:lnTo>
                    <a:pt x="2418" y="7743"/>
                  </a:lnTo>
                  <a:lnTo>
                    <a:pt x="2492" y="7792"/>
                  </a:lnTo>
                  <a:lnTo>
                    <a:pt x="2711" y="7792"/>
                  </a:lnTo>
                  <a:lnTo>
                    <a:pt x="2858" y="7718"/>
                  </a:lnTo>
                  <a:lnTo>
                    <a:pt x="2907" y="7669"/>
                  </a:lnTo>
                  <a:lnTo>
                    <a:pt x="2956" y="7621"/>
                  </a:lnTo>
                  <a:lnTo>
                    <a:pt x="3591" y="6644"/>
                  </a:lnTo>
                  <a:lnTo>
                    <a:pt x="3810" y="6668"/>
                  </a:lnTo>
                  <a:lnTo>
                    <a:pt x="4006" y="6668"/>
                  </a:lnTo>
                  <a:lnTo>
                    <a:pt x="4494" y="7718"/>
                  </a:lnTo>
                  <a:lnTo>
                    <a:pt x="4543" y="7792"/>
                  </a:lnTo>
                  <a:lnTo>
                    <a:pt x="4592" y="7840"/>
                  </a:lnTo>
                  <a:lnTo>
                    <a:pt x="4714" y="7914"/>
                  </a:lnTo>
                  <a:lnTo>
                    <a:pt x="4861" y="7963"/>
                  </a:lnTo>
                  <a:lnTo>
                    <a:pt x="4934" y="7963"/>
                  </a:lnTo>
                  <a:lnTo>
                    <a:pt x="5007" y="7938"/>
                  </a:lnTo>
                  <a:lnTo>
                    <a:pt x="5544" y="7767"/>
                  </a:lnTo>
                  <a:lnTo>
                    <a:pt x="5618" y="7743"/>
                  </a:lnTo>
                  <a:lnTo>
                    <a:pt x="5667" y="7694"/>
                  </a:lnTo>
                  <a:lnTo>
                    <a:pt x="5764" y="7572"/>
                  </a:lnTo>
                  <a:lnTo>
                    <a:pt x="5838" y="7425"/>
                  </a:lnTo>
                  <a:lnTo>
                    <a:pt x="5838" y="7352"/>
                  </a:lnTo>
                  <a:lnTo>
                    <a:pt x="5838" y="7279"/>
                  </a:lnTo>
                  <a:lnTo>
                    <a:pt x="5593" y="6131"/>
                  </a:lnTo>
                  <a:lnTo>
                    <a:pt x="5740" y="6009"/>
                  </a:lnTo>
                  <a:lnTo>
                    <a:pt x="5911" y="5862"/>
                  </a:lnTo>
                  <a:lnTo>
                    <a:pt x="6985" y="6277"/>
                  </a:lnTo>
                  <a:lnTo>
                    <a:pt x="7059" y="6277"/>
                  </a:lnTo>
                  <a:lnTo>
                    <a:pt x="7132" y="6302"/>
                  </a:lnTo>
                  <a:lnTo>
                    <a:pt x="7278" y="6253"/>
                  </a:lnTo>
                  <a:lnTo>
                    <a:pt x="7425" y="6180"/>
                  </a:lnTo>
                  <a:lnTo>
                    <a:pt x="7474" y="6131"/>
                  </a:lnTo>
                  <a:lnTo>
                    <a:pt x="7523" y="6058"/>
                  </a:lnTo>
                  <a:lnTo>
                    <a:pt x="7767" y="5545"/>
                  </a:lnTo>
                  <a:lnTo>
                    <a:pt x="7791" y="5496"/>
                  </a:lnTo>
                  <a:lnTo>
                    <a:pt x="7816" y="5398"/>
                  </a:lnTo>
                  <a:lnTo>
                    <a:pt x="7791" y="5252"/>
                  </a:lnTo>
                  <a:lnTo>
                    <a:pt x="7718" y="5129"/>
                  </a:lnTo>
                  <a:lnTo>
                    <a:pt x="7669" y="5056"/>
                  </a:lnTo>
                  <a:lnTo>
                    <a:pt x="7620" y="5007"/>
                  </a:lnTo>
                  <a:lnTo>
                    <a:pt x="6643" y="4372"/>
                  </a:lnTo>
                  <a:lnTo>
                    <a:pt x="6668" y="4177"/>
                  </a:lnTo>
                  <a:lnTo>
                    <a:pt x="6668" y="3957"/>
                  </a:lnTo>
                  <a:lnTo>
                    <a:pt x="7718" y="3469"/>
                  </a:lnTo>
                  <a:lnTo>
                    <a:pt x="7791" y="3444"/>
                  </a:lnTo>
                  <a:lnTo>
                    <a:pt x="7865" y="3395"/>
                  </a:lnTo>
                  <a:lnTo>
                    <a:pt x="7938" y="3249"/>
                  </a:lnTo>
                  <a:lnTo>
                    <a:pt x="7962" y="3102"/>
                  </a:lnTo>
                  <a:lnTo>
                    <a:pt x="7962" y="3029"/>
                  </a:lnTo>
                  <a:lnTo>
                    <a:pt x="7962" y="2956"/>
                  </a:lnTo>
                  <a:lnTo>
                    <a:pt x="7767" y="2419"/>
                  </a:lnTo>
                  <a:lnTo>
                    <a:pt x="7743" y="2345"/>
                  </a:lnTo>
                  <a:lnTo>
                    <a:pt x="7694" y="2296"/>
                  </a:lnTo>
                  <a:lnTo>
                    <a:pt x="7572" y="2199"/>
                  </a:lnTo>
                  <a:lnTo>
                    <a:pt x="7449" y="2150"/>
                  </a:lnTo>
                  <a:lnTo>
                    <a:pt x="7278" y="2150"/>
                  </a:lnTo>
                  <a:lnTo>
                    <a:pt x="6155" y="2394"/>
                  </a:lnTo>
                  <a:lnTo>
                    <a:pt x="6033" y="2223"/>
                  </a:lnTo>
                  <a:lnTo>
                    <a:pt x="5886" y="2077"/>
                  </a:lnTo>
                  <a:lnTo>
                    <a:pt x="6277" y="978"/>
                  </a:lnTo>
                  <a:lnTo>
                    <a:pt x="6302" y="904"/>
                  </a:lnTo>
                  <a:lnTo>
                    <a:pt x="6302" y="831"/>
                  </a:lnTo>
                  <a:lnTo>
                    <a:pt x="6277" y="684"/>
                  </a:lnTo>
                  <a:lnTo>
                    <a:pt x="6179" y="562"/>
                  </a:lnTo>
                  <a:lnTo>
                    <a:pt x="6131" y="489"/>
                  </a:lnTo>
                  <a:lnTo>
                    <a:pt x="6082" y="465"/>
                  </a:lnTo>
                  <a:lnTo>
                    <a:pt x="5569" y="196"/>
                  </a:lnTo>
                  <a:lnTo>
                    <a:pt x="5496" y="172"/>
                  </a:lnTo>
                  <a:lnTo>
                    <a:pt x="5276" y="172"/>
                  </a:lnTo>
                  <a:lnTo>
                    <a:pt x="5129" y="245"/>
                  </a:lnTo>
                  <a:lnTo>
                    <a:pt x="5080" y="294"/>
                  </a:lnTo>
                  <a:lnTo>
                    <a:pt x="5032" y="343"/>
                  </a:lnTo>
                  <a:lnTo>
                    <a:pt x="4397" y="1319"/>
                  </a:lnTo>
                  <a:lnTo>
                    <a:pt x="4177" y="1295"/>
                  </a:lnTo>
                  <a:lnTo>
                    <a:pt x="3981" y="1295"/>
                  </a:lnTo>
                  <a:lnTo>
                    <a:pt x="3493" y="245"/>
                  </a:lnTo>
                  <a:lnTo>
                    <a:pt x="3444" y="172"/>
                  </a:lnTo>
                  <a:lnTo>
                    <a:pt x="3395" y="123"/>
                  </a:lnTo>
                  <a:lnTo>
                    <a:pt x="3273" y="49"/>
                  </a:lnTo>
                  <a:lnTo>
                    <a:pt x="3127"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20" name="Прямоугольник 59"/>
          <p:cNvSpPr/>
          <p:nvPr/>
        </p:nvSpPr>
        <p:spPr>
          <a:xfrm>
            <a:off x="6659640" y="77148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Roboto Condensed"/>
              </a:rPr>
              <a:t>💃</a:t>
            </a:r>
            <a:endParaRPr b="0" lang="en-US" sz="4400" spc="-1" strike="noStrike">
              <a:solidFill>
                <a:srgbClr val="000000"/>
              </a:solidFill>
              <a:latin typeface="Arial"/>
            </a:endParaRPr>
          </a:p>
        </p:txBody>
      </p:sp>
      <p:grpSp>
        <p:nvGrpSpPr>
          <p:cNvPr id="421" name="Google Shape;547;p38"/>
          <p:cNvGrpSpPr/>
          <p:nvPr/>
        </p:nvGrpSpPr>
        <p:grpSpPr>
          <a:xfrm>
            <a:off x="6804000" y="3363840"/>
            <a:ext cx="432000" cy="432000"/>
            <a:chOff x="6804000" y="3363840"/>
            <a:chExt cx="432000" cy="432000"/>
          </a:xfrm>
        </p:grpSpPr>
        <p:sp>
          <p:nvSpPr>
            <p:cNvPr id="422" name="Google Shape;548;p38"/>
            <p:cNvSpPr/>
            <p:nvPr/>
          </p:nvSpPr>
          <p:spPr>
            <a:xfrm>
              <a:off x="6804000" y="3363840"/>
              <a:ext cx="329400" cy="322920"/>
            </a:xfrm>
            <a:custGeom>
              <a:avLst/>
              <a:gdLst>
                <a:gd name="textAreaLeft" fmla="*/ 0 w 329400"/>
                <a:gd name="textAreaRight" fmla="*/ 329760 w 329400"/>
                <a:gd name="textAreaTop" fmla="*/ 0 h 322920"/>
                <a:gd name="textAreaBottom" fmla="*/ 322920 h 322920"/>
              </a:gdLst>
              <a:ahLst/>
              <a:rect l="textAreaLeft" t="textAreaTop" r="textAreaRight" b="textAreaBottom"/>
              <a:pathLst>
                <a:path w="12628" h="12627">
                  <a:moveTo>
                    <a:pt x="6302" y="977"/>
                  </a:moveTo>
                  <a:lnTo>
                    <a:pt x="6863" y="1026"/>
                  </a:lnTo>
                  <a:lnTo>
                    <a:pt x="7376" y="1099"/>
                  </a:lnTo>
                  <a:lnTo>
                    <a:pt x="7889" y="1221"/>
                  </a:lnTo>
                  <a:lnTo>
                    <a:pt x="8378" y="1417"/>
                  </a:lnTo>
                  <a:lnTo>
                    <a:pt x="8842" y="1636"/>
                  </a:lnTo>
                  <a:lnTo>
                    <a:pt x="9281" y="1905"/>
                  </a:lnTo>
                  <a:lnTo>
                    <a:pt x="9697" y="2198"/>
                  </a:lnTo>
                  <a:lnTo>
                    <a:pt x="10087" y="2540"/>
                  </a:lnTo>
                  <a:lnTo>
                    <a:pt x="10429" y="2931"/>
                  </a:lnTo>
                  <a:lnTo>
                    <a:pt x="10722" y="3346"/>
                  </a:lnTo>
                  <a:lnTo>
                    <a:pt x="10991" y="3786"/>
                  </a:lnTo>
                  <a:lnTo>
                    <a:pt x="11211" y="4250"/>
                  </a:lnTo>
                  <a:lnTo>
                    <a:pt x="11406" y="4738"/>
                  </a:lnTo>
                  <a:lnTo>
                    <a:pt x="11528" y="5251"/>
                  </a:lnTo>
                  <a:lnTo>
                    <a:pt x="11626" y="5764"/>
                  </a:lnTo>
                  <a:lnTo>
                    <a:pt x="11650" y="6326"/>
                  </a:lnTo>
                  <a:lnTo>
                    <a:pt x="11626" y="6863"/>
                  </a:lnTo>
                  <a:lnTo>
                    <a:pt x="11528" y="7400"/>
                  </a:lnTo>
                  <a:lnTo>
                    <a:pt x="11406" y="7913"/>
                  </a:lnTo>
                  <a:lnTo>
                    <a:pt x="11211" y="8402"/>
                  </a:lnTo>
                  <a:lnTo>
                    <a:pt x="10991" y="8866"/>
                  </a:lnTo>
                  <a:lnTo>
                    <a:pt x="10722" y="9305"/>
                  </a:lnTo>
                  <a:lnTo>
                    <a:pt x="10429" y="9696"/>
                  </a:lnTo>
                  <a:lnTo>
                    <a:pt x="10087" y="10087"/>
                  </a:lnTo>
                  <a:lnTo>
                    <a:pt x="9697" y="10429"/>
                  </a:lnTo>
                  <a:lnTo>
                    <a:pt x="9281" y="10746"/>
                  </a:lnTo>
                  <a:lnTo>
                    <a:pt x="8842" y="11015"/>
                  </a:lnTo>
                  <a:lnTo>
                    <a:pt x="8378" y="11235"/>
                  </a:lnTo>
                  <a:lnTo>
                    <a:pt x="7889" y="11406"/>
                  </a:lnTo>
                  <a:lnTo>
                    <a:pt x="7376" y="11552"/>
                  </a:lnTo>
                  <a:lnTo>
                    <a:pt x="6863" y="11625"/>
                  </a:lnTo>
                  <a:lnTo>
                    <a:pt x="6302" y="11650"/>
                  </a:lnTo>
                  <a:lnTo>
                    <a:pt x="5764" y="11625"/>
                  </a:lnTo>
                  <a:lnTo>
                    <a:pt x="5227" y="11552"/>
                  </a:lnTo>
                  <a:lnTo>
                    <a:pt x="4714" y="11406"/>
                  </a:lnTo>
                  <a:lnTo>
                    <a:pt x="4226" y="11235"/>
                  </a:lnTo>
                  <a:lnTo>
                    <a:pt x="3762" y="11015"/>
                  </a:lnTo>
                  <a:lnTo>
                    <a:pt x="3322" y="10746"/>
                  </a:lnTo>
                  <a:lnTo>
                    <a:pt x="2931" y="10429"/>
                  </a:lnTo>
                  <a:lnTo>
                    <a:pt x="2541" y="10087"/>
                  </a:lnTo>
                  <a:lnTo>
                    <a:pt x="2199" y="9696"/>
                  </a:lnTo>
                  <a:lnTo>
                    <a:pt x="1881" y="9305"/>
                  </a:lnTo>
                  <a:lnTo>
                    <a:pt x="1613" y="8866"/>
                  </a:lnTo>
                  <a:lnTo>
                    <a:pt x="1393" y="8402"/>
                  </a:lnTo>
                  <a:lnTo>
                    <a:pt x="1222" y="7913"/>
                  </a:lnTo>
                  <a:lnTo>
                    <a:pt x="1075" y="7400"/>
                  </a:lnTo>
                  <a:lnTo>
                    <a:pt x="1002" y="6863"/>
                  </a:lnTo>
                  <a:lnTo>
                    <a:pt x="978" y="6326"/>
                  </a:lnTo>
                  <a:lnTo>
                    <a:pt x="1002" y="5764"/>
                  </a:lnTo>
                  <a:lnTo>
                    <a:pt x="1075" y="5251"/>
                  </a:lnTo>
                  <a:lnTo>
                    <a:pt x="1222" y="4738"/>
                  </a:lnTo>
                  <a:lnTo>
                    <a:pt x="1393" y="4250"/>
                  </a:lnTo>
                  <a:lnTo>
                    <a:pt x="1613" y="3786"/>
                  </a:lnTo>
                  <a:lnTo>
                    <a:pt x="1881" y="3346"/>
                  </a:lnTo>
                  <a:lnTo>
                    <a:pt x="2199" y="2931"/>
                  </a:lnTo>
                  <a:lnTo>
                    <a:pt x="2541" y="2540"/>
                  </a:lnTo>
                  <a:lnTo>
                    <a:pt x="2931" y="2198"/>
                  </a:lnTo>
                  <a:lnTo>
                    <a:pt x="3322" y="1905"/>
                  </a:lnTo>
                  <a:lnTo>
                    <a:pt x="3762" y="1636"/>
                  </a:lnTo>
                  <a:lnTo>
                    <a:pt x="4226" y="1417"/>
                  </a:lnTo>
                  <a:lnTo>
                    <a:pt x="4714" y="1221"/>
                  </a:lnTo>
                  <a:lnTo>
                    <a:pt x="5227" y="1099"/>
                  </a:lnTo>
                  <a:lnTo>
                    <a:pt x="5764" y="1026"/>
                  </a:lnTo>
                  <a:lnTo>
                    <a:pt x="6302" y="977"/>
                  </a:lnTo>
                  <a:close/>
                  <a:moveTo>
                    <a:pt x="6302" y="0"/>
                  </a:moveTo>
                  <a:lnTo>
                    <a:pt x="5984" y="24"/>
                  </a:lnTo>
                  <a:lnTo>
                    <a:pt x="5667" y="49"/>
                  </a:lnTo>
                  <a:lnTo>
                    <a:pt x="5349" y="73"/>
                  </a:lnTo>
                  <a:lnTo>
                    <a:pt x="5032" y="147"/>
                  </a:lnTo>
                  <a:lnTo>
                    <a:pt x="4739" y="220"/>
                  </a:lnTo>
                  <a:lnTo>
                    <a:pt x="4446" y="293"/>
                  </a:lnTo>
                  <a:lnTo>
                    <a:pt x="4153" y="391"/>
                  </a:lnTo>
                  <a:lnTo>
                    <a:pt x="3859" y="513"/>
                  </a:lnTo>
                  <a:lnTo>
                    <a:pt x="3566" y="635"/>
                  </a:lnTo>
                  <a:lnTo>
                    <a:pt x="3298" y="782"/>
                  </a:lnTo>
                  <a:lnTo>
                    <a:pt x="3029" y="928"/>
                  </a:lnTo>
                  <a:lnTo>
                    <a:pt x="2785" y="1075"/>
                  </a:lnTo>
                  <a:lnTo>
                    <a:pt x="2296" y="1441"/>
                  </a:lnTo>
                  <a:lnTo>
                    <a:pt x="1857" y="1856"/>
                  </a:lnTo>
                  <a:lnTo>
                    <a:pt x="1442" y="2296"/>
                  </a:lnTo>
                  <a:lnTo>
                    <a:pt x="1075" y="2784"/>
                  </a:lnTo>
                  <a:lnTo>
                    <a:pt x="904" y="3053"/>
                  </a:lnTo>
                  <a:lnTo>
                    <a:pt x="758" y="3322"/>
                  </a:lnTo>
                  <a:lnTo>
                    <a:pt x="611" y="3590"/>
                  </a:lnTo>
                  <a:lnTo>
                    <a:pt x="489" y="3859"/>
                  </a:lnTo>
                  <a:lnTo>
                    <a:pt x="391" y="4152"/>
                  </a:lnTo>
                  <a:lnTo>
                    <a:pt x="294" y="4445"/>
                  </a:lnTo>
                  <a:lnTo>
                    <a:pt x="196" y="4738"/>
                  </a:lnTo>
                  <a:lnTo>
                    <a:pt x="123" y="5056"/>
                  </a:lnTo>
                  <a:lnTo>
                    <a:pt x="74" y="5349"/>
                  </a:lnTo>
                  <a:lnTo>
                    <a:pt x="25" y="5666"/>
                  </a:lnTo>
                  <a:lnTo>
                    <a:pt x="1" y="5984"/>
                  </a:lnTo>
                  <a:lnTo>
                    <a:pt x="1" y="6326"/>
                  </a:lnTo>
                  <a:lnTo>
                    <a:pt x="1" y="6643"/>
                  </a:lnTo>
                  <a:lnTo>
                    <a:pt x="25" y="6961"/>
                  </a:lnTo>
                  <a:lnTo>
                    <a:pt x="74" y="7278"/>
                  </a:lnTo>
                  <a:lnTo>
                    <a:pt x="123" y="7596"/>
                  </a:lnTo>
                  <a:lnTo>
                    <a:pt x="196" y="7889"/>
                  </a:lnTo>
                  <a:lnTo>
                    <a:pt x="294" y="8206"/>
                  </a:lnTo>
                  <a:lnTo>
                    <a:pt x="391" y="8499"/>
                  </a:lnTo>
                  <a:lnTo>
                    <a:pt x="489" y="8768"/>
                  </a:lnTo>
                  <a:lnTo>
                    <a:pt x="611" y="9061"/>
                  </a:lnTo>
                  <a:lnTo>
                    <a:pt x="758" y="9330"/>
                  </a:lnTo>
                  <a:lnTo>
                    <a:pt x="904" y="9598"/>
                  </a:lnTo>
                  <a:lnTo>
                    <a:pt x="1075" y="9843"/>
                  </a:lnTo>
                  <a:lnTo>
                    <a:pt x="1442" y="10331"/>
                  </a:lnTo>
                  <a:lnTo>
                    <a:pt x="1857" y="10771"/>
                  </a:lnTo>
                  <a:lnTo>
                    <a:pt x="2296" y="11186"/>
                  </a:lnTo>
                  <a:lnTo>
                    <a:pt x="2785" y="11552"/>
                  </a:lnTo>
                  <a:lnTo>
                    <a:pt x="3029" y="11723"/>
                  </a:lnTo>
                  <a:lnTo>
                    <a:pt x="3298" y="11870"/>
                  </a:lnTo>
                  <a:lnTo>
                    <a:pt x="3566" y="12016"/>
                  </a:lnTo>
                  <a:lnTo>
                    <a:pt x="3859" y="12138"/>
                  </a:lnTo>
                  <a:lnTo>
                    <a:pt x="4153" y="12236"/>
                  </a:lnTo>
                  <a:lnTo>
                    <a:pt x="4446" y="12334"/>
                  </a:lnTo>
                  <a:lnTo>
                    <a:pt x="4739" y="12431"/>
                  </a:lnTo>
                  <a:lnTo>
                    <a:pt x="5032" y="12505"/>
                  </a:lnTo>
                  <a:lnTo>
                    <a:pt x="5349" y="12553"/>
                  </a:lnTo>
                  <a:lnTo>
                    <a:pt x="5667" y="12602"/>
                  </a:lnTo>
                  <a:lnTo>
                    <a:pt x="5984" y="12627"/>
                  </a:lnTo>
                  <a:lnTo>
                    <a:pt x="6644" y="12627"/>
                  </a:lnTo>
                  <a:lnTo>
                    <a:pt x="6961" y="12602"/>
                  </a:lnTo>
                  <a:lnTo>
                    <a:pt x="7279" y="12553"/>
                  </a:lnTo>
                  <a:lnTo>
                    <a:pt x="7572" y="12505"/>
                  </a:lnTo>
                  <a:lnTo>
                    <a:pt x="7889" y="12431"/>
                  </a:lnTo>
                  <a:lnTo>
                    <a:pt x="8182" y="12334"/>
                  </a:lnTo>
                  <a:lnTo>
                    <a:pt x="8475" y="12236"/>
                  </a:lnTo>
                  <a:lnTo>
                    <a:pt x="8768" y="12138"/>
                  </a:lnTo>
                  <a:lnTo>
                    <a:pt x="9037" y="12016"/>
                  </a:lnTo>
                  <a:lnTo>
                    <a:pt x="9306" y="11870"/>
                  </a:lnTo>
                  <a:lnTo>
                    <a:pt x="9574" y="11723"/>
                  </a:lnTo>
                  <a:lnTo>
                    <a:pt x="9843" y="11552"/>
                  </a:lnTo>
                  <a:lnTo>
                    <a:pt x="10332" y="11186"/>
                  </a:lnTo>
                  <a:lnTo>
                    <a:pt x="10771" y="10771"/>
                  </a:lnTo>
                  <a:lnTo>
                    <a:pt x="11186" y="10331"/>
                  </a:lnTo>
                  <a:lnTo>
                    <a:pt x="11553" y="9843"/>
                  </a:lnTo>
                  <a:lnTo>
                    <a:pt x="11699" y="9598"/>
                  </a:lnTo>
                  <a:lnTo>
                    <a:pt x="11846" y="9330"/>
                  </a:lnTo>
                  <a:lnTo>
                    <a:pt x="11992" y="9061"/>
                  </a:lnTo>
                  <a:lnTo>
                    <a:pt x="12114" y="8768"/>
                  </a:lnTo>
                  <a:lnTo>
                    <a:pt x="12237" y="8499"/>
                  </a:lnTo>
                  <a:lnTo>
                    <a:pt x="12334" y="8206"/>
                  </a:lnTo>
                  <a:lnTo>
                    <a:pt x="12432" y="7889"/>
                  </a:lnTo>
                  <a:lnTo>
                    <a:pt x="12481" y="7596"/>
                  </a:lnTo>
                  <a:lnTo>
                    <a:pt x="12554" y="7278"/>
                  </a:lnTo>
                  <a:lnTo>
                    <a:pt x="12578" y="6961"/>
                  </a:lnTo>
                  <a:lnTo>
                    <a:pt x="12603" y="6643"/>
                  </a:lnTo>
                  <a:lnTo>
                    <a:pt x="12627" y="6326"/>
                  </a:lnTo>
                  <a:lnTo>
                    <a:pt x="12603" y="5984"/>
                  </a:lnTo>
                  <a:lnTo>
                    <a:pt x="12578" y="5666"/>
                  </a:lnTo>
                  <a:lnTo>
                    <a:pt x="12554" y="5349"/>
                  </a:lnTo>
                  <a:lnTo>
                    <a:pt x="12481" y="5056"/>
                  </a:lnTo>
                  <a:lnTo>
                    <a:pt x="12432" y="4738"/>
                  </a:lnTo>
                  <a:lnTo>
                    <a:pt x="12334" y="4445"/>
                  </a:lnTo>
                  <a:lnTo>
                    <a:pt x="12237" y="4152"/>
                  </a:lnTo>
                  <a:lnTo>
                    <a:pt x="12114" y="3859"/>
                  </a:lnTo>
                  <a:lnTo>
                    <a:pt x="11992" y="3590"/>
                  </a:lnTo>
                  <a:lnTo>
                    <a:pt x="11846" y="3322"/>
                  </a:lnTo>
                  <a:lnTo>
                    <a:pt x="11699" y="3053"/>
                  </a:lnTo>
                  <a:lnTo>
                    <a:pt x="11553" y="2784"/>
                  </a:lnTo>
                  <a:lnTo>
                    <a:pt x="11186" y="2296"/>
                  </a:lnTo>
                  <a:lnTo>
                    <a:pt x="10771" y="1856"/>
                  </a:lnTo>
                  <a:lnTo>
                    <a:pt x="10332" y="1441"/>
                  </a:lnTo>
                  <a:lnTo>
                    <a:pt x="9843" y="1075"/>
                  </a:lnTo>
                  <a:lnTo>
                    <a:pt x="9574" y="928"/>
                  </a:lnTo>
                  <a:lnTo>
                    <a:pt x="9306" y="782"/>
                  </a:lnTo>
                  <a:lnTo>
                    <a:pt x="9037" y="635"/>
                  </a:lnTo>
                  <a:lnTo>
                    <a:pt x="8768" y="513"/>
                  </a:lnTo>
                  <a:lnTo>
                    <a:pt x="8475" y="391"/>
                  </a:lnTo>
                  <a:lnTo>
                    <a:pt x="8182" y="293"/>
                  </a:lnTo>
                  <a:lnTo>
                    <a:pt x="7889" y="220"/>
                  </a:lnTo>
                  <a:lnTo>
                    <a:pt x="7572" y="147"/>
                  </a:lnTo>
                  <a:lnTo>
                    <a:pt x="7279" y="73"/>
                  </a:lnTo>
                  <a:lnTo>
                    <a:pt x="6961" y="49"/>
                  </a:lnTo>
                  <a:lnTo>
                    <a:pt x="6644" y="24"/>
                  </a:lnTo>
                  <a:lnTo>
                    <a:pt x="6302"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3" name="Google Shape;549;p38"/>
            <p:cNvSpPr/>
            <p:nvPr/>
          </p:nvSpPr>
          <p:spPr>
            <a:xfrm>
              <a:off x="6842160" y="3401280"/>
              <a:ext cx="253080" cy="248040"/>
            </a:xfrm>
            <a:custGeom>
              <a:avLst/>
              <a:gdLst>
                <a:gd name="textAreaLeft" fmla="*/ 0 w 253080"/>
                <a:gd name="textAreaRight" fmla="*/ 253440 w 253080"/>
                <a:gd name="textAreaTop" fmla="*/ 0 h 248040"/>
                <a:gd name="textAreaBottom" fmla="*/ 248400 h 248040"/>
              </a:gdLst>
              <a:ahLst/>
              <a:rect l="textAreaLeft" t="textAreaTop" r="textAreaRight" b="textAreaBottom"/>
              <a:pathLst>
                <a:path w="9697" h="9697">
                  <a:moveTo>
                    <a:pt x="4934" y="1466"/>
                  </a:moveTo>
                  <a:lnTo>
                    <a:pt x="5008" y="1490"/>
                  </a:lnTo>
                  <a:lnTo>
                    <a:pt x="5081" y="1539"/>
                  </a:lnTo>
                  <a:lnTo>
                    <a:pt x="5154" y="1588"/>
                  </a:lnTo>
                  <a:lnTo>
                    <a:pt x="5203" y="1637"/>
                  </a:lnTo>
                  <a:lnTo>
                    <a:pt x="5252" y="1734"/>
                  </a:lnTo>
                  <a:lnTo>
                    <a:pt x="5276" y="1808"/>
                  </a:lnTo>
                  <a:lnTo>
                    <a:pt x="5276" y="1905"/>
                  </a:lnTo>
                  <a:lnTo>
                    <a:pt x="5276" y="1979"/>
                  </a:lnTo>
                  <a:lnTo>
                    <a:pt x="5252" y="2076"/>
                  </a:lnTo>
                  <a:lnTo>
                    <a:pt x="5203" y="2150"/>
                  </a:lnTo>
                  <a:lnTo>
                    <a:pt x="5154" y="2198"/>
                  </a:lnTo>
                  <a:lnTo>
                    <a:pt x="5081" y="2247"/>
                  </a:lnTo>
                  <a:lnTo>
                    <a:pt x="5008" y="2296"/>
                  </a:lnTo>
                  <a:lnTo>
                    <a:pt x="4934" y="2321"/>
                  </a:lnTo>
                  <a:lnTo>
                    <a:pt x="4837" y="2345"/>
                  </a:lnTo>
                  <a:lnTo>
                    <a:pt x="4593" y="2345"/>
                  </a:lnTo>
                  <a:lnTo>
                    <a:pt x="4348" y="2394"/>
                  </a:lnTo>
                  <a:lnTo>
                    <a:pt x="4104" y="2443"/>
                  </a:lnTo>
                  <a:lnTo>
                    <a:pt x="3860" y="2540"/>
                  </a:lnTo>
                  <a:lnTo>
                    <a:pt x="3640" y="2638"/>
                  </a:lnTo>
                  <a:lnTo>
                    <a:pt x="3445" y="2760"/>
                  </a:lnTo>
                  <a:lnTo>
                    <a:pt x="3249" y="2907"/>
                  </a:lnTo>
                  <a:lnTo>
                    <a:pt x="3054" y="3078"/>
                  </a:lnTo>
                  <a:lnTo>
                    <a:pt x="2907" y="3249"/>
                  </a:lnTo>
                  <a:lnTo>
                    <a:pt x="2761" y="3444"/>
                  </a:lnTo>
                  <a:lnTo>
                    <a:pt x="2639" y="3664"/>
                  </a:lnTo>
                  <a:lnTo>
                    <a:pt x="2517" y="3884"/>
                  </a:lnTo>
                  <a:lnTo>
                    <a:pt x="2443" y="4103"/>
                  </a:lnTo>
                  <a:lnTo>
                    <a:pt x="2370" y="4348"/>
                  </a:lnTo>
                  <a:lnTo>
                    <a:pt x="2346" y="4592"/>
                  </a:lnTo>
                  <a:lnTo>
                    <a:pt x="2321" y="4861"/>
                  </a:lnTo>
                  <a:lnTo>
                    <a:pt x="2321" y="4934"/>
                  </a:lnTo>
                  <a:lnTo>
                    <a:pt x="2297" y="5032"/>
                  </a:lnTo>
                  <a:lnTo>
                    <a:pt x="2248" y="5105"/>
                  </a:lnTo>
                  <a:lnTo>
                    <a:pt x="2199" y="5154"/>
                  </a:lnTo>
                  <a:lnTo>
                    <a:pt x="2126" y="5227"/>
                  </a:lnTo>
                  <a:lnTo>
                    <a:pt x="2053" y="5251"/>
                  </a:lnTo>
                  <a:lnTo>
                    <a:pt x="1979" y="5276"/>
                  </a:lnTo>
                  <a:lnTo>
                    <a:pt x="1882" y="5300"/>
                  </a:lnTo>
                  <a:lnTo>
                    <a:pt x="1808" y="5276"/>
                  </a:lnTo>
                  <a:lnTo>
                    <a:pt x="1711" y="5251"/>
                  </a:lnTo>
                  <a:lnTo>
                    <a:pt x="1637" y="5227"/>
                  </a:lnTo>
                  <a:lnTo>
                    <a:pt x="1564" y="5154"/>
                  </a:lnTo>
                  <a:lnTo>
                    <a:pt x="1515" y="5105"/>
                  </a:lnTo>
                  <a:lnTo>
                    <a:pt x="1491" y="5032"/>
                  </a:lnTo>
                  <a:lnTo>
                    <a:pt x="1466" y="4934"/>
                  </a:lnTo>
                  <a:lnTo>
                    <a:pt x="1442" y="4861"/>
                  </a:lnTo>
                  <a:lnTo>
                    <a:pt x="1466" y="4494"/>
                  </a:lnTo>
                  <a:lnTo>
                    <a:pt x="1515" y="4177"/>
                  </a:lnTo>
                  <a:lnTo>
                    <a:pt x="1588" y="3835"/>
                  </a:lnTo>
                  <a:lnTo>
                    <a:pt x="1711" y="3542"/>
                  </a:lnTo>
                  <a:lnTo>
                    <a:pt x="1857" y="3224"/>
                  </a:lnTo>
                  <a:lnTo>
                    <a:pt x="2028" y="2956"/>
                  </a:lnTo>
                  <a:lnTo>
                    <a:pt x="2223" y="2687"/>
                  </a:lnTo>
                  <a:lnTo>
                    <a:pt x="2443" y="2443"/>
                  </a:lnTo>
                  <a:lnTo>
                    <a:pt x="2688" y="2223"/>
                  </a:lnTo>
                  <a:lnTo>
                    <a:pt x="2956" y="2028"/>
                  </a:lnTo>
                  <a:lnTo>
                    <a:pt x="3225" y="1857"/>
                  </a:lnTo>
                  <a:lnTo>
                    <a:pt x="3518" y="1710"/>
                  </a:lnTo>
                  <a:lnTo>
                    <a:pt x="3835" y="1612"/>
                  </a:lnTo>
                  <a:lnTo>
                    <a:pt x="4153" y="1515"/>
                  </a:lnTo>
                  <a:lnTo>
                    <a:pt x="4495" y="1466"/>
                  </a:lnTo>
                  <a:close/>
                  <a:moveTo>
                    <a:pt x="4837" y="0"/>
                  </a:moveTo>
                  <a:lnTo>
                    <a:pt x="4348" y="25"/>
                  </a:lnTo>
                  <a:lnTo>
                    <a:pt x="3860" y="98"/>
                  </a:lnTo>
                  <a:lnTo>
                    <a:pt x="3396" y="220"/>
                  </a:lnTo>
                  <a:lnTo>
                    <a:pt x="2956" y="391"/>
                  </a:lnTo>
                  <a:lnTo>
                    <a:pt x="2541" y="587"/>
                  </a:lnTo>
                  <a:lnTo>
                    <a:pt x="2150" y="831"/>
                  </a:lnTo>
                  <a:lnTo>
                    <a:pt x="1759" y="1124"/>
                  </a:lnTo>
                  <a:lnTo>
                    <a:pt x="1418" y="1441"/>
                  </a:lnTo>
                  <a:lnTo>
                    <a:pt x="1100" y="1783"/>
                  </a:lnTo>
                  <a:lnTo>
                    <a:pt x="831" y="2150"/>
                  </a:lnTo>
                  <a:lnTo>
                    <a:pt x="587" y="2540"/>
                  </a:lnTo>
                  <a:lnTo>
                    <a:pt x="392" y="2980"/>
                  </a:lnTo>
                  <a:lnTo>
                    <a:pt x="221" y="3420"/>
                  </a:lnTo>
                  <a:lnTo>
                    <a:pt x="99" y="3884"/>
                  </a:lnTo>
                  <a:lnTo>
                    <a:pt x="25" y="4348"/>
                  </a:lnTo>
                  <a:lnTo>
                    <a:pt x="1" y="4861"/>
                  </a:lnTo>
                  <a:lnTo>
                    <a:pt x="25" y="5349"/>
                  </a:lnTo>
                  <a:lnTo>
                    <a:pt x="99" y="5838"/>
                  </a:lnTo>
                  <a:lnTo>
                    <a:pt x="221" y="6302"/>
                  </a:lnTo>
                  <a:lnTo>
                    <a:pt x="392" y="6741"/>
                  </a:lnTo>
                  <a:lnTo>
                    <a:pt x="587" y="7156"/>
                  </a:lnTo>
                  <a:lnTo>
                    <a:pt x="831" y="7547"/>
                  </a:lnTo>
                  <a:lnTo>
                    <a:pt x="1100" y="7938"/>
                  </a:lnTo>
                  <a:lnTo>
                    <a:pt x="1418" y="8280"/>
                  </a:lnTo>
                  <a:lnTo>
                    <a:pt x="1759" y="8597"/>
                  </a:lnTo>
                  <a:lnTo>
                    <a:pt x="2150" y="8866"/>
                  </a:lnTo>
                  <a:lnTo>
                    <a:pt x="2541" y="9110"/>
                  </a:lnTo>
                  <a:lnTo>
                    <a:pt x="2956" y="9306"/>
                  </a:lnTo>
                  <a:lnTo>
                    <a:pt x="3396" y="9477"/>
                  </a:lnTo>
                  <a:lnTo>
                    <a:pt x="3860" y="9599"/>
                  </a:lnTo>
                  <a:lnTo>
                    <a:pt x="4348" y="9672"/>
                  </a:lnTo>
                  <a:lnTo>
                    <a:pt x="4837" y="9696"/>
                  </a:lnTo>
                  <a:lnTo>
                    <a:pt x="5350" y="9672"/>
                  </a:lnTo>
                  <a:lnTo>
                    <a:pt x="5814" y="9599"/>
                  </a:lnTo>
                  <a:lnTo>
                    <a:pt x="6278" y="9477"/>
                  </a:lnTo>
                  <a:lnTo>
                    <a:pt x="6717" y="9306"/>
                  </a:lnTo>
                  <a:lnTo>
                    <a:pt x="7157" y="9110"/>
                  </a:lnTo>
                  <a:lnTo>
                    <a:pt x="7548" y="8866"/>
                  </a:lnTo>
                  <a:lnTo>
                    <a:pt x="7914" y="8597"/>
                  </a:lnTo>
                  <a:lnTo>
                    <a:pt x="8256" y="8280"/>
                  </a:lnTo>
                  <a:lnTo>
                    <a:pt x="8573" y="7938"/>
                  </a:lnTo>
                  <a:lnTo>
                    <a:pt x="8867" y="7547"/>
                  </a:lnTo>
                  <a:lnTo>
                    <a:pt x="9111" y="7156"/>
                  </a:lnTo>
                  <a:lnTo>
                    <a:pt x="9306" y="6741"/>
                  </a:lnTo>
                  <a:lnTo>
                    <a:pt x="9477" y="6302"/>
                  </a:lnTo>
                  <a:lnTo>
                    <a:pt x="9599" y="5838"/>
                  </a:lnTo>
                  <a:lnTo>
                    <a:pt x="9673" y="5349"/>
                  </a:lnTo>
                  <a:lnTo>
                    <a:pt x="9697" y="4861"/>
                  </a:lnTo>
                  <a:lnTo>
                    <a:pt x="9673" y="4348"/>
                  </a:lnTo>
                  <a:lnTo>
                    <a:pt x="9599" y="3884"/>
                  </a:lnTo>
                  <a:lnTo>
                    <a:pt x="9477" y="3420"/>
                  </a:lnTo>
                  <a:lnTo>
                    <a:pt x="9306" y="2980"/>
                  </a:lnTo>
                  <a:lnTo>
                    <a:pt x="9111" y="2540"/>
                  </a:lnTo>
                  <a:lnTo>
                    <a:pt x="8867" y="2150"/>
                  </a:lnTo>
                  <a:lnTo>
                    <a:pt x="8573" y="1783"/>
                  </a:lnTo>
                  <a:lnTo>
                    <a:pt x="8256" y="1441"/>
                  </a:lnTo>
                  <a:lnTo>
                    <a:pt x="7914" y="1124"/>
                  </a:lnTo>
                  <a:lnTo>
                    <a:pt x="7548" y="831"/>
                  </a:lnTo>
                  <a:lnTo>
                    <a:pt x="7157" y="587"/>
                  </a:lnTo>
                  <a:lnTo>
                    <a:pt x="6717" y="391"/>
                  </a:lnTo>
                  <a:lnTo>
                    <a:pt x="6278" y="220"/>
                  </a:lnTo>
                  <a:lnTo>
                    <a:pt x="5814" y="98"/>
                  </a:lnTo>
                  <a:lnTo>
                    <a:pt x="5350" y="25"/>
                  </a:lnTo>
                  <a:lnTo>
                    <a:pt x="4837"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4" name="Google Shape;550;p38"/>
            <p:cNvSpPr/>
            <p:nvPr/>
          </p:nvSpPr>
          <p:spPr>
            <a:xfrm>
              <a:off x="7074720" y="3638520"/>
              <a:ext cx="161280" cy="157320"/>
            </a:xfrm>
            <a:custGeom>
              <a:avLst/>
              <a:gdLst>
                <a:gd name="textAreaLeft" fmla="*/ 0 w 161280"/>
                <a:gd name="textAreaRight" fmla="*/ 161640 w 161280"/>
                <a:gd name="textAreaTop" fmla="*/ 0 h 157320"/>
                <a:gd name="textAreaBottom" fmla="*/ 157680 h 157320"/>
              </a:gdLst>
              <a:ahLst/>
              <a:rect l="textAreaLeft" t="textAreaTop" r="textAreaRight" b="textAreaBottom"/>
              <a:pathLst>
                <a:path w="6180" h="6155">
                  <a:moveTo>
                    <a:pt x="1075" y="0"/>
                  </a:moveTo>
                  <a:lnTo>
                    <a:pt x="831" y="269"/>
                  </a:lnTo>
                  <a:lnTo>
                    <a:pt x="562" y="537"/>
                  </a:lnTo>
                  <a:lnTo>
                    <a:pt x="293" y="782"/>
                  </a:lnTo>
                  <a:lnTo>
                    <a:pt x="0" y="1026"/>
                  </a:lnTo>
                  <a:lnTo>
                    <a:pt x="4983" y="6008"/>
                  </a:lnTo>
                  <a:lnTo>
                    <a:pt x="5056" y="6057"/>
                  </a:lnTo>
                  <a:lnTo>
                    <a:pt x="5129" y="6106"/>
                  </a:lnTo>
                  <a:lnTo>
                    <a:pt x="5227" y="6130"/>
                  </a:lnTo>
                  <a:lnTo>
                    <a:pt x="5325" y="6155"/>
                  </a:lnTo>
                  <a:lnTo>
                    <a:pt x="5422" y="6130"/>
                  </a:lnTo>
                  <a:lnTo>
                    <a:pt x="5496" y="6106"/>
                  </a:lnTo>
                  <a:lnTo>
                    <a:pt x="5593" y="6057"/>
                  </a:lnTo>
                  <a:lnTo>
                    <a:pt x="5667" y="6008"/>
                  </a:lnTo>
                  <a:lnTo>
                    <a:pt x="6033" y="5642"/>
                  </a:lnTo>
                  <a:lnTo>
                    <a:pt x="6106" y="5569"/>
                  </a:lnTo>
                  <a:lnTo>
                    <a:pt x="6155" y="5471"/>
                  </a:lnTo>
                  <a:lnTo>
                    <a:pt x="6179" y="5373"/>
                  </a:lnTo>
                  <a:lnTo>
                    <a:pt x="6179" y="5300"/>
                  </a:lnTo>
                  <a:lnTo>
                    <a:pt x="6179" y="5202"/>
                  </a:lnTo>
                  <a:lnTo>
                    <a:pt x="6155" y="5105"/>
                  </a:lnTo>
                  <a:lnTo>
                    <a:pt x="6106" y="5031"/>
                  </a:lnTo>
                  <a:lnTo>
                    <a:pt x="6033" y="4934"/>
                  </a:lnTo>
                  <a:lnTo>
                    <a:pt x="1075" y="0"/>
                  </a:lnTo>
                  <a:close/>
                </a:path>
              </a:pathLst>
            </a:custGeom>
            <a:solidFill>
              <a:srgbClr val="ffffff"/>
            </a:solidFill>
            <a:ln w="0">
              <a:noFill/>
            </a:ln>
          </p:spPr>
          <p:style>
            <a:lnRef idx="0"/>
            <a:fillRef idx="0"/>
            <a:effectRef idx="0"/>
            <a:fontRef idx="minor"/>
          </p:style>
          <p:txBody>
            <a:bodyPr lIns="91080" rIns="91080" tIns="66600" bIns="66600" anchor="ctr">
              <a:noAutofit/>
            </a:bodyPr>
            <a:p>
              <a:endParaRPr b="0" lang="en-US" sz="1400" spc="-1" strike="noStrike">
                <a:solidFill>
                  <a:srgbClr val="000000"/>
                </a:solidFill>
                <a:latin typeface="Arial"/>
              </a:endParaRPr>
            </a:p>
          </p:txBody>
        </p:sp>
      </p:grpSp>
      <p:sp>
        <p:nvSpPr>
          <p:cNvPr id="425" name="Прямоугольник 64"/>
          <p:cNvSpPr/>
          <p:nvPr/>
        </p:nvSpPr>
        <p:spPr>
          <a:xfrm>
            <a:off x="3780000" y="1924200"/>
            <a:ext cx="3960720" cy="1295280"/>
          </a:xfrm>
          <a:prstGeom prst="rect">
            <a:avLst/>
          </a:prstGeom>
          <a:solidFill>
            <a:srgbClr val="3d808c">
              <a:alpha val="7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Oswald"/>
              </a:rPr>
              <a:t>Основні риси, властиві МИСЛЕННЮ талановитих людей</a:t>
            </a:r>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920" y="123840"/>
            <a:ext cx="7274160" cy="1008000"/>
          </a:xfrm>
          <a:prstGeom prst="rect">
            <a:avLst/>
          </a:prstGeom>
          <a:solidFill>
            <a:srgbClr val="ffffff">
              <a:alpha val="73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3796bf"/>
                </a:solidFill>
                <a:latin typeface="Oswald"/>
              </a:rPr>
              <a:t>Визначення типу мислення</a:t>
            </a:r>
            <a:endParaRPr b="0" lang="en-US" sz="4800" spc="-1" strike="noStrike">
              <a:solidFill>
                <a:srgbClr val="000000"/>
              </a:solidFill>
              <a:latin typeface="Arial"/>
            </a:endParaRPr>
          </a:p>
        </p:txBody>
      </p:sp>
      <p:sp>
        <p:nvSpPr>
          <p:cNvPr id="427" name="Google Shape;309;p29"/>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AB75-991B-46ED-97EA-88354C3BC071}"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28" name="PlaceHolder 2"/>
          <p:cNvSpPr>
            <a:spLocks noGrp="1"/>
          </p:cNvSpPr>
          <p:nvPr>
            <p:ph/>
          </p:nvPr>
        </p:nvSpPr>
        <p:spPr>
          <a:xfrm>
            <a:off x="-360" y="1276200"/>
            <a:ext cx="2700360" cy="316728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У кожної людини переважає певний тип мислення. Даний опитувальник допоможе вам визначити тип свого мислення.</a:t>
            </a:r>
            <a:endParaRPr b="0" lang="en-US" sz="1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Якщо згодні з висловлюванням, поставте в бланку "+", якщо ні "-".</a:t>
            </a:r>
            <a:endParaRPr b="0" lang="en-US" sz="1800" spc="-1" strike="noStrike">
              <a:solidFill>
                <a:srgbClr val="000000"/>
              </a:solidFill>
              <a:latin typeface="Arial"/>
            </a:endParaRPr>
          </a:p>
        </p:txBody>
      </p:sp>
      <p:pic>
        <p:nvPicPr>
          <p:cNvPr id="429" name="Таблица 6" descr=""/>
          <p:cNvPicPr/>
          <p:nvPr/>
        </p:nvPicPr>
        <p:blipFill>
          <a:blip r:embed="rId1"/>
          <a:stretch/>
        </p:blipFill>
        <p:spPr>
          <a:xfrm>
            <a:off x="2700360" y="1274760"/>
            <a:ext cx="6242040" cy="34862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1"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2"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ше що-небудь зробити самому, ніж пояснити іншом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було б складати комп'ютерні програ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читати книг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живопис, скульптура, архітектур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авіть у налагодженій справі я намагаюся щось поліпши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краще розумію, якщо мені пояснюють на предметах або малюнках.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грати в шах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егко висловлюю свої думки як в усній, так і в письмовій форм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ли я читаю книгу, я візуально уявляю собі її героїв.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віддаю перевагу самостійному плануванню своєї робо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все робити своїми руками.</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 дитинстві я створював(ла) свій шифр для листування з друзя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надаю великого значення сказаному слов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найомі мелодії часто викликають у мене спогад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Різноманітні захоплення роблять життя людини багатше і яскравіше.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и вирішенні завдання мені легше йти шляхом спроб і помилок.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розбиратися в природі фізичних явищ.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а робота ведучого телерадіопрограм, журналіст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ко уявити предмет або тварину, яких немає в природ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більше подобається процес діяльності, ніж сам результат.</a:t>
            </a:r>
            <a:endParaRPr b="0" lang="en-US" sz="1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4"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5"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1. Мені подобалося в дитинстві збирати конструктор з деталей.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 Я віддаю перевагу точним наукам (математика, фізик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 Мене захоплює точність і глибина деяких вірш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4. Знайомий запах викликає в моїй пам'яті минулі події.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5. Мені важко підпорядковувати своє життя певній систем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6. Коли я чую музику, мені хочеться танцю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7. Я розумію красу математичних формул.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8. Мені легко говорити перед будь-якою аудиторіє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9. Я люблю відвідувати виставки, спектаклі, концер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0. Я сумніваюся навіть в тому, що для інших очевидно.</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1. Я люблю займатися рукоділлям, щось майстру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2. Мені цікаво було б розшифрувати значення древніх символ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3. Я легко засвоюю граматичні конструкції мов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4. Я розумію красу природи і мистецтв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5. Не люблю ходити одним і тим же шляхом.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6. Мені подобається робота, що вимагає фізичної активност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7. Я легко запам'ятовую формули, символи, умовні позначення.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8. Друзі люблять слухати, коли я їм щось розповіда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9. Мені легко уявити в образах зміст оповідання або фільму.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0. Я не можу заспокоїтися, поки не доведу свою роботу до досконалості. </a:t>
            </a:r>
            <a:endParaRPr b="0" lang="en-US" sz="12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Google Shape;343;p32"/>
          <p:cNvSpPr/>
          <p:nvPr/>
        </p:nvSpPr>
        <p:spPr>
          <a:xfrm>
            <a:off x="8556480" y="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7A52-303E-42CA-B74E-7C7A159D08A9}" type="slidenum">
              <a:rPr b="0" lang="ru-RU" sz="1300" spc="-1" strike="noStrike">
                <a:solidFill>
                  <a:srgbClr val="cccccc"/>
                </a:solidFill>
                <a:latin typeface="Roboto Condensed"/>
              </a:rPr>
              <a:t>&lt;number&gt;</a:t>
            </a:fld>
            <a:endParaRPr b="0" lang="en-US" sz="1300" spc="-1" strike="noStrike">
              <a:solidFill>
                <a:srgbClr val="000000"/>
              </a:solidFill>
              <a:latin typeface="Arial"/>
            </a:endParaRPr>
          </a:p>
        </p:txBody>
      </p:sp>
      <p:sp>
        <p:nvSpPr>
          <p:cNvPr id="437" name="PlaceHolder 1"/>
          <p:cNvSpPr>
            <a:spLocks noGrp="1"/>
          </p:cNvSpPr>
          <p:nvPr>
            <p:ph type="title"/>
          </p:nvPr>
        </p:nvSpPr>
        <p:spPr>
          <a:xfrm>
            <a:off x="178920" y="123840"/>
            <a:ext cx="2592360" cy="4896000"/>
          </a:xfrm>
          <a:prstGeom prst="rect">
            <a:avLst/>
          </a:prstGeom>
          <a:solidFill>
            <a:srgbClr val="ffffff"/>
          </a:solidFill>
          <a:ln w="38160">
            <a:solidFill>
              <a:srgbClr val="2970ff"/>
            </a:solidFill>
            <a:miter/>
          </a:ln>
        </p:spPr>
        <p:txBody>
          <a:bodyPr tIns="9144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ea typeface="Roboto Condensed"/>
              </a:rPr>
              <a:t>У чистому вигляді ці типи мислення зустрічаються рідко. У більшості людей переважає один або два типи мислення. Для багатьох професій необхідне поєднання різних типів мислення, наприклад, для психолога. Таке мислення називають синтетичним.</a:t>
            </a:r>
            <a:endParaRPr b="0" lang="en-US" sz="1800" spc="-1" strike="noStrike">
              <a:solidFill>
                <a:srgbClr val="000000"/>
              </a:solidFill>
              <a:latin typeface="Arial"/>
            </a:endParaRPr>
          </a:p>
        </p:txBody>
      </p:sp>
      <p:sp>
        <p:nvSpPr>
          <p:cNvPr id="438" name="PlaceHolder 2"/>
          <p:cNvSpPr>
            <a:spLocks noGrp="1"/>
          </p:cNvSpPr>
          <p:nvPr>
            <p:ph type="title"/>
          </p:nvPr>
        </p:nvSpPr>
        <p:spPr>
          <a:xfrm>
            <a:off x="3022560" y="123840"/>
            <a:ext cx="6121440" cy="1008000"/>
          </a:xfrm>
          <a:prstGeom prst="rect">
            <a:avLst/>
          </a:prstGeom>
          <a:solidFill>
            <a:srgbClr val="ffffff"/>
          </a:solidFill>
          <a:ln w="38160">
            <a:solidFill>
              <a:srgbClr val="7d72cc"/>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Предметно-дієве (П-Д) мислення властиво людям справи. Вони засвоюють інформацію через рухи. Зазвичай , вони мають гарну координацію рухів. Їх руками створений весь навколишній предметний світ. Вони водять машини, стоять біля верстатів, збирають комп'ютери. Без них неможливо реалізувати найблискучішу ідею. Це мислення важливо для спортсменів, танцюристів, артистів.</a:t>
            </a:r>
            <a:endParaRPr b="0" lang="en-US" sz="1200" spc="-1" strike="noStrike">
              <a:solidFill>
                <a:srgbClr val="000000"/>
              </a:solidFill>
              <a:latin typeface="Arial"/>
            </a:endParaRPr>
          </a:p>
        </p:txBody>
      </p:sp>
      <p:sp>
        <p:nvSpPr>
          <p:cNvPr id="439" name="PlaceHolder 3"/>
          <p:cNvSpPr>
            <a:spLocks noGrp="1"/>
          </p:cNvSpPr>
          <p:nvPr>
            <p:ph type="title"/>
          </p:nvPr>
        </p:nvSpPr>
        <p:spPr>
          <a:xfrm>
            <a:off x="3022560" y="1203480"/>
            <a:ext cx="6121440" cy="1008000"/>
          </a:xfrm>
          <a:prstGeom prst="rect">
            <a:avLst/>
          </a:prstGeom>
          <a:solidFill>
            <a:srgbClr val="ffffff"/>
          </a:solidFill>
          <a:ln w="38160">
            <a:solidFill>
              <a:srgbClr val="ff7575"/>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Абстрактно-символічним (А-С) мисленням володіють багато вчених - фізики-теоретики, математики, економісти, програмісти, аналітики. Вони можуть засвоювати інформацію за допомогою математичних кодів, формул і операцій, до якої не можна ні доторкнутися, ні уявити. Завдяки особливостям такого мислення на основі гіпотез зроблено багато відкриттів у всіх областях науки.</a:t>
            </a:r>
            <a:endParaRPr b="0" lang="en-US" sz="1200" spc="-1" strike="noStrike">
              <a:solidFill>
                <a:srgbClr val="000000"/>
              </a:solidFill>
              <a:latin typeface="Arial"/>
            </a:endParaRPr>
          </a:p>
        </p:txBody>
      </p:sp>
      <p:sp>
        <p:nvSpPr>
          <p:cNvPr id="440" name="PlaceHolder 4"/>
          <p:cNvSpPr>
            <a:spLocks noGrp="1"/>
          </p:cNvSpPr>
          <p:nvPr>
            <p:ph type="title"/>
          </p:nvPr>
        </p:nvSpPr>
        <p:spPr>
          <a:xfrm>
            <a:off x="3022560" y="2284560"/>
            <a:ext cx="6121440" cy="1008000"/>
          </a:xfrm>
          <a:prstGeom prst="rect">
            <a:avLst/>
          </a:prstGeom>
          <a:solidFill>
            <a:srgbClr val="ffffff"/>
          </a:solidFill>
          <a:ln w="38160">
            <a:solidFill>
              <a:srgbClr val="e8c588"/>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Словесно-логічне мислення (С-Л) відрізняє людей з яскраво-вираженим вербальним інтелектом (від лат. Verbalis - словесний). Завдяки розвиненому словесно-логічному мисленню вчений, викладач, перекладач, письменник, філолог, журналіст можуть сформулювати свої думки і донести їх до людей. Це вміння необхідно керівникам, політикам і громадським діячам.</a:t>
            </a:r>
            <a:endParaRPr b="0" lang="en-US" sz="1200" spc="-1" strike="noStrike">
              <a:solidFill>
                <a:srgbClr val="000000"/>
              </a:solidFill>
              <a:latin typeface="Arial"/>
            </a:endParaRPr>
          </a:p>
        </p:txBody>
      </p:sp>
      <p:grpSp>
        <p:nvGrpSpPr>
          <p:cNvPr id="441" name="Google Shape;349;p32"/>
          <p:cNvGrpSpPr/>
          <p:nvPr/>
        </p:nvGrpSpPr>
        <p:grpSpPr>
          <a:xfrm>
            <a:off x="7458120" y="3619440"/>
            <a:ext cx="582480" cy="547920"/>
            <a:chOff x="7458120" y="3619440"/>
            <a:chExt cx="582480" cy="547920"/>
          </a:xfrm>
        </p:grpSpPr>
        <p:sp>
          <p:nvSpPr>
            <p:cNvPr id="442" name="Google Shape;350;p32"/>
            <p:cNvSpPr/>
            <p:nvPr/>
          </p:nvSpPr>
          <p:spPr>
            <a:xfrm>
              <a:off x="7458120" y="3827160"/>
              <a:ext cx="138600" cy="311040"/>
            </a:xfrm>
            <a:custGeom>
              <a:avLst/>
              <a:gdLst>
                <a:gd name="textAreaLeft" fmla="*/ 0 w 138600"/>
                <a:gd name="textAreaRight" fmla="*/ 138960 w 138600"/>
                <a:gd name="textAreaTop" fmla="*/ 0 h 311040"/>
                <a:gd name="textAreaBottom" fmla="*/ 311400 h 311040"/>
              </a:gdLst>
              <a:ahLst/>
              <a:rect l="textAreaLeft" t="textAreaTop" r="textAreaRight" b="textAreaBottom"/>
              <a:pathLst>
                <a:path fill="none" w="3922" h="8793">
                  <a:moveTo>
                    <a:pt x="0" y="0"/>
                  </a:moveTo>
                  <a:lnTo>
                    <a:pt x="0" y="8792"/>
                  </a:lnTo>
                  <a:lnTo>
                    <a:pt x="3921" y="8792"/>
                  </a:lnTo>
                  <a:lnTo>
                    <a:pt x="3921" y="0"/>
                  </a:lnTo>
                  <a:lnTo>
                    <a:pt x="0" y="0"/>
                  </a:lnTo>
                  <a:close/>
                  <a:moveTo>
                    <a:pt x="2411" y="2411"/>
                  </a:moveTo>
                  <a:lnTo>
                    <a:pt x="2411" y="2411"/>
                  </a:lnTo>
                  <a:lnTo>
                    <a:pt x="2265" y="2387"/>
                  </a:lnTo>
                  <a:lnTo>
                    <a:pt x="2143" y="2363"/>
                  </a:lnTo>
                  <a:lnTo>
                    <a:pt x="2022" y="2290"/>
                  </a:lnTo>
                  <a:lnTo>
                    <a:pt x="1924" y="2216"/>
                  </a:lnTo>
                  <a:lnTo>
                    <a:pt x="1827" y="2095"/>
                  </a:lnTo>
                  <a:lnTo>
                    <a:pt x="1754" y="1973"/>
                  </a:lnTo>
                  <a:lnTo>
                    <a:pt x="1729" y="1851"/>
                  </a:lnTo>
                  <a:lnTo>
                    <a:pt x="1705" y="1705"/>
                  </a:lnTo>
                  <a:lnTo>
                    <a:pt x="1729" y="1559"/>
                  </a:lnTo>
                  <a:lnTo>
                    <a:pt x="1754" y="1437"/>
                  </a:lnTo>
                  <a:lnTo>
                    <a:pt x="1827" y="1315"/>
                  </a:lnTo>
                  <a:lnTo>
                    <a:pt x="1924" y="1218"/>
                  </a:lnTo>
                  <a:lnTo>
                    <a:pt x="2022" y="1120"/>
                  </a:lnTo>
                  <a:lnTo>
                    <a:pt x="2143" y="1072"/>
                  </a:lnTo>
                  <a:lnTo>
                    <a:pt x="2265" y="1023"/>
                  </a:lnTo>
                  <a:lnTo>
                    <a:pt x="2411" y="999"/>
                  </a:lnTo>
                  <a:lnTo>
                    <a:pt x="2557" y="1023"/>
                  </a:lnTo>
                  <a:lnTo>
                    <a:pt x="2679" y="1072"/>
                  </a:lnTo>
                  <a:lnTo>
                    <a:pt x="2801" y="1120"/>
                  </a:lnTo>
                  <a:lnTo>
                    <a:pt x="2898" y="1218"/>
                  </a:lnTo>
                  <a:lnTo>
                    <a:pt x="2996" y="1315"/>
                  </a:lnTo>
                  <a:lnTo>
                    <a:pt x="3069" y="1437"/>
                  </a:lnTo>
                  <a:lnTo>
                    <a:pt x="3093" y="1559"/>
                  </a:lnTo>
                  <a:lnTo>
                    <a:pt x="3118" y="1705"/>
                  </a:lnTo>
                  <a:lnTo>
                    <a:pt x="3093" y="1851"/>
                  </a:lnTo>
                  <a:lnTo>
                    <a:pt x="3069" y="1973"/>
                  </a:lnTo>
                  <a:lnTo>
                    <a:pt x="2996" y="2095"/>
                  </a:lnTo>
                  <a:lnTo>
                    <a:pt x="2898" y="2216"/>
                  </a:lnTo>
                  <a:lnTo>
                    <a:pt x="2801" y="2290"/>
                  </a:lnTo>
                  <a:lnTo>
                    <a:pt x="2679" y="2363"/>
                  </a:lnTo>
                  <a:lnTo>
                    <a:pt x="2557" y="2387"/>
                  </a:lnTo>
                  <a:lnTo>
                    <a:pt x="2411" y="2411"/>
                  </a:lnTo>
                  <a:close/>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43" name="Google Shape;351;p32"/>
            <p:cNvSpPr/>
            <p:nvPr/>
          </p:nvSpPr>
          <p:spPr>
            <a:xfrm>
              <a:off x="7607160" y="3619440"/>
              <a:ext cx="433440" cy="547920"/>
            </a:xfrm>
            <a:custGeom>
              <a:avLst/>
              <a:gdLst>
                <a:gd name="textAreaLeft" fmla="*/ 0 w 433440"/>
                <a:gd name="textAreaRight" fmla="*/ 433800 w 433440"/>
                <a:gd name="textAreaTop" fmla="*/ 0 h 547920"/>
                <a:gd name="textAreaBottom" fmla="*/ 548280 h 547920"/>
              </a:gdLst>
              <a:ahLst/>
              <a:rect l="textAreaLeft" t="textAreaTop" r="textAreaRight" b="textAreaBottom"/>
              <a:pathLst>
                <a:path fill="none" w="12252" h="15491">
                  <a:moveTo>
                    <a:pt x="1" y="13396"/>
                  </a:moveTo>
                  <a:lnTo>
                    <a:pt x="1511" y="13396"/>
                  </a:lnTo>
                  <a:lnTo>
                    <a:pt x="1998" y="13639"/>
                  </a:lnTo>
                  <a:lnTo>
                    <a:pt x="2680" y="13932"/>
                  </a:lnTo>
                  <a:lnTo>
                    <a:pt x="3556" y="14273"/>
                  </a:lnTo>
                  <a:lnTo>
                    <a:pt x="4531" y="14638"/>
                  </a:lnTo>
                  <a:lnTo>
                    <a:pt x="5578" y="14955"/>
                  </a:lnTo>
                  <a:lnTo>
                    <a:pt x="6114" y="15101"/>
                  </a:lnTo>
                  <a:lnTo>
                    <a:pt x="6650" y="15222"/>
                  </a:lnTo>
                  <a:lnTo>
                    <a:pt x="7161" y="15344"/>
                  </a:lnTo>
                  <a:lnTo>
                    <a:pt x="7672" y="15417"/>
                  </a:lnTo>
                  <a:lnTo>
                    <a:pt x="8135" y="15466"/>
                  </a:lnTo>
                  <a:lnTo>
                    <a:pt x="8598" y="15490"/>
                  </a:lnTo>
                  <a:lnTo>
                    <a:pt x="9377" y="15490"/>
                  </a:lnTo>
                  <a:lnTo>
                    <a:pt x="9791" y="15466"/>
                  </a:lnTo>
                  <a:lnTo>
                    <a:pt x="10181" y="15417"/>
                  </a:lnTo>
                  <a:lnTo>
                    <a:pt x="10522" y="15320"/>
                  </a:lnTo>
                  <a:lnTo>
                    <a:pt x="10692" y="15271"/>
                  </a:lnTo>
                  <a:lnTo>
                    <a:pt x="10814" y="15222"/>
                  </a:lnTo>
                  <a:lnTo>
                    <a:pt x="10936" y="15149"/>
                  </a:lnTo>
                  <a:lnTo>
                    <a:pt x="11033" y="15052"/>
                  </a:lnTo>
                  <a:lnTo>
                    <a:pt x="11082" y="14955"/>
                  </a:lnTo>
                  <a:lnTo>
                    <a:pt x="11131" y="14833"/>
                  </a:lnTo>
                  <a:lnTo>
                    <a:pt x="11204" y="14126"/>
                  </a:lnTo>
                  <a:lnTo>
                    <a:pt x="11180" y="13956"/>
                  </a:lnTo>
                  <a:lnTo>
                    <a:pt x="11131" y="13810"/>
                  </a:lnTo>
                  <a:lnTo>
                    <a:pt x="11033" y="13664"/>
                  </a:lnTo>
                  <a:lnTo>
                    <a:pt x="10887" y="13542"/>
                  </a:lnTo>
                  <a:lnTo>
                    <a:pt x="11009" y="13518"/>
                  </a:lnTo>
                  <a:lnTo>
                    <a:pt x="11131" y="13469"/>
                  </a:lnTo>
                  <a:lnTo>
                    <a:pt x="11253" y="13420"/>
                  </a:lnTo>
                  <a:lnTo>
                    <a:pt x="11350" y="13323"/>
                  </a:lnTo>
                  <a:lnTo>
                    <a:pt x="11423" y="13225"/>
                  </a:lnTo>
                  <a:lnTo>
                    <a:pt x="11496" y="13104"/>
                  </a:lnTo>
                  <a:lnTo>
                    <a:pt x="11545" y="12957"/>
                  </a:lnTo>
                  <a:lnTo>
                    <a:pt x="11569" y="12836"/>
                  </a:lnTo>
                  <a:lnTo>
                    <a:pt x="11642" y="11959"/>
                  </a:lnTo>
                  <a:lnTo>
                    <a:pt x="11642" y="11837"/>
                  </a:lnTo>
                  <a:lnTo>
                    <a:pt x="11642" y="11740"/>
                  </a:lnTo>
                  <a:lnTo>
                    <a:pt x="11618" y="11618"/>
                  </a:lnTo>
                  <a:lnTo>
                    <a:pt x="11569" y="11521"/>
                  </a:lnTo>
                  <a:lnTo>
                    <a:pt x="11447" y="11350"/>
                  </a:lnTo>
                  <a:lnTo>
                    <a:pt x="11374" y="11277"/>
                  </a:lnTo>
                  <a:lnTo>
                    <a:pt x="11301" y="11204"/>
                  </a:lnTo>
                  <a:lnTo>
                    <a:pt x="11423" y="11180"/>
                  </a:lnTo>
                  <a:lnTo>
                    <a:pt x="11521" y="11131"/>
                  </a:lnTo>
                  <a:lnTo>
                    <a:pt x="11618" y="11058"/>
                  </a:lnTo>
                  <a:lnTo>
                    <a:pt x="11715" y="10960"/>
                  </a:lnTo>
                  <a:lnTo>
                    <a:pt x="11788" y="10863"/>
                  </a:lnTo>
                  <a:lnTo>
                    <a:pt x="11837" y="10766"/>
                  </a:lnTo>
                  <a:lnTo>
                    <a:pt x="11886" y="10644"/>
                  </a:lnTo>
                  <a:lnTo>
                    <a:pt x="11910" y="10498"/>
                  </a:lnTo>
                  <a:lnTo>
                    <a:pt x="11983" y="9645"/>
                  </a:lnTo>
                  <a:lnTo>
                    <a:pt x="11983" y="9523"/>
                  </a:lnTo>
                  <a:lnTo>
                    <a:pt x="11983" y="9402"/>
                  </a:lnTo>
                  <a:lnTo>
                    <a:pt x="11959" y="9280"/>
                  </a:lnTo>
                  <a:lnTo>
                    <a:pt x="11910" y="9182"/>
                  </a:lnTo>
                  <a:lnTo>
                    <a:pt x="11861" y="9085"/>
                  </a:lnTo>
                  <a:lnTo>
                    <a:pt x="11788" y="9012"/>
                  </a:lnTo>
                  <a:lnTo>
                    <a:pt x="11715" y="8939"/>
                  </a:lnTo>
                  <a:lnTo>
                    <a:pt x="11618" y="8866"/>
                  </a:lnTo>
                  <a:lnTo>
                    <a:pt x="11715" y="8841"/>
                  </a:lnTo>
                  <a:lnTo>
                    <a:pt x="11813" y="8768"/>
                  </a:lnTo>
                  <a:lnTo>
                    <a:pt x="11910" y="8695"/>
                  </a:lnTo>
                  <a:lnTo>
                    <a:pt x="11983" y="8622"/>
                  </a:lnTo>
                  <a:lnTo>
                    <a:pt x="12056" y="8525"/>
                  </a:lnTo>
                  <a:lnTo>
                    <a:pt x="12105" y="8427"/>
                  </a:lnTo>
                  <a:lnTo>
                    <a:pt x="12129" y="8306"/>
                  </a:lnTo>
                  <a:lnTo>
                    <a:pt x="12154" y="8184"/>
                  </a:lnTo>
                  <a:lnTo>
                    <a:pt x="12251" y="7307"/>
                  </a:lnTo>
                  <a:lnTo>
                    <a:pt x="12227" y="7185"/>
                  </a:lnTo>
                  <a:lnTo>
                    <a:pt x="12202" y="7064"/>
                  </a:lnTo>
                  <a:lnTo>
                    <a:pt x="12154" y="6966"/>
                  </a:lnTo>
                  <a:lnTo>
                    <a:pt x="12105" y="6869"/>
                  </a:lnTo>
                  <a:lnTo>
                    <a:pt x="12032" y="6771"/>
                  </a:lnTo>
                  <a:lnTo>
                    <a:pt x="11935" y="6698"/>
                  </a:lnTo>
                  <a:lnTo>
                    <a:pt x="11715" y="6552"/>
                  </a:lnTo>
                  <a:lnTo>
                    <a:pt x="11472" y="6430"/>
                  </a:lnTo>
                  <a:lnTo>
                    <a:pt x="11180" y="6333"/>
                  </a:lnTo>
                  <a:lnTo>
                    <a:pt x="10863" y="6260"/>
                  </a:lnTo>
                  <a:lnTo>
                    <a:pt x="10546" y="6211"/>
                  </a:lnTo>
                  <a:lnTo>
                    <a:pt x="9864" y="6114"/>
                  </a:lnTo>
                  <a:lnTo>
                    <a:pt x="8817" y="6016"/>
                  </a:lnTo>
                  <a:lnTo>
                    <a:pt x="7575" y="5943"/>
                  </a:lnTo>
                  <a:lnTo>
                    <a:pt x="6309" y="5870"/>
                  </a:lnTo>
                  <a:lnTo>
                    <a:pt x="6479" y="5578"/>
                  </a:lnTo>
                  <a:lnTo>
                    <a:pt x="6625" y="5237"/>
                  </a:lnTo>
                  <a:lnTo>
                    <a:pt x="6771" y="4872"/>
                  </a:lnTo>
                  <a:lnTo>
                    <a:pt x="6869" y="4482"/>
                  </a:lnTo>
                  <a:lnTo>
                    <a:pt x="6966" y="4092"/>
                  </a:lnTo>
                  <a:lnTo>
                    <a:pt x="7064" y="3678"/>
                  </a:lnTo>
                  <a:lnTo>
                    <a:pt x="7161" y="2875"/>
                  </a:lnTo>
                  <a:lnTo>
                    <a:pt x="7234" y="2144"/>
                  </a:lnTo>
                  <a:lnTo>
                    <a:pt x="7283" y="1535"/>
                  </a:lnTo>
                  <a:lnTo>
                    <a:pt x="7283" y="975"/>
                  </a:lnTo>
                  <a:lnTo>
                    <a:pt x="7283" y="804"/>
                  </a:lnTo>
                  <a:lnTo>
                    <a:pt x="7210" y="609"/>
                  </a:lnTo>
                  <a:lnTo>
                    <a:pt x="7137" y="463"/>
                  </a:lnTo>
                  <a:lnTo>
                    <a:pt x="7015" y="317"/>
                  </a:lnTo>
                  <a:lnTo>
                    <a:pt x="6869" y="171"/>
                  </a:lnTo>
                  <a:lnTo>
                    <a:pt x="6698" y="98"/>
                  </a:lnTo>
                  <a:lnTo>
                    <a:pt x="6503" y="25"/>
                  </a:lnTo>
                  <a:lnTo>
                    <a:pt x="6309" y="1"/>
                  </a:lnTo>
                  <a:lnTo>
                    <a:pt x="5943" y="25"/>
                  </a:lnTo>
                  <a:lnTo>
                    <a:pt x="5700" y="74"/>
                  </a:lnTo>
                  <a:lnTo>
                    <a:pt x="5505" y="147"/>
                  </a:lnTo>
                  <a:lnTo>
                    <a:pt x="5359" y="220"/>
                  </a:lnTo>
                  <a:lnTo>
                    <a:pt x="4969" y="1462"/>
                  </a:lnTo>
                  <a:lnTo>
                    <a:pt x="4774" y="2022"/>
                  </a:lnTo>
                  <a:lnTo>
                    <a:pt x="4579" y="2534"/>
                  </a:lnTo>
                  <a:lnTo>
                    <a:pt x="4385" y="2996"/>
                  </a:lnTo>
                  <a:lnTo>
                    <a:pt x="4190" y="3386"/>
                  </a:lnTo>
                  <a:lnTo>
                    <a:pt x="4019" y="3678"/>
                  </a:lnTo>
                  <a:lnTo>
                    <a:pt x="3873" y="3922"/>
                  </a:lnTo>
                  <a:lnTo>
                    <a:pt x="3654" y="4141"/>
                  </a:lnTo>
                  <a:lnTo>
                    <a:pt x="3313" y="4482"/>
                  </a:lnTo>
                  <a:lnTo>
                    <a:pt x="2509" y="5237"/>
                  </a:lnTo>
                  <a:lnTo>
                    <a:pt x="1438" y="6211"/>
                  </a:lnTo>
                  <a:lnTo>
                    <a:pt x="1" y="621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44" name="Google Shape;347;p32"/>
          <p:cNvSpPr/>
          <p:nvPr/>
        </p:nvSpPr>
        <p:spPr>
          <a:xfrm>
            <a:off x="3022560" y="3363840"/>
            <a:ext cx="6121440" cy="936720"/>
          </a:xfrm>
          <a:prstGeom prst="rect">
            <a:avLst/>
          </a:prstGeom>
          <a:solidFill>
            <a:srgbClr val="ffffff"/>
          </a:solidFill>
          <a:ln w="38160">
            <a:solidFill>
              <a:srgbClr val="92d050"/>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Наочно-образне мислення (Н-О) мають люди з художнім складом розуму, які можуть представити і те, що було, і те, що буде, і те, чого ніколи не було і не буде - художники, поети, письменники, режисери. Архітектор, конструктор, дизайнер, художник, режисер повинні володіти розвиненим наочно-образним мисленням.</a:t>
            </a:r>
            <a:endParaRPr b="0" lang="en-US" sz="1200" spc="-1" strike="noStrike">
              <a:solidFill>
                <a:srgbClr val="000000"/>
              </a:solidFill>
              <a:latin typeface="Arial"/>
            </a:endParaRPr>
          </a:p>
        </p:txBody>
      </p:sp>
      <p:sp>
        <p:nvSpPr>
          <p:cNvPr id="445" name="Google Shape;347;p32"/>
          <p:cNvSpPr/>
          <p:nvPr/>
        </p:nvSpPr>
        <p:spPr>
          <a:xfrm>
            <a:off x="3022560" y="4371840"/>
            <a:ext cx="6121440" cy="668520"/>
          </a:xfrm>
          <a:prstGeom prst="rect">
            <a:avLst/>
          </a:prstGeom>
          <a:solidFill>
            <a:srgbClr val="ffffff"/>
          </a:solidFill>
          <a:ln w="38160">
            <a:solidFill>
              <a:srgbClr val="ffd54f"/>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Креативність (К) - це здатність мислити творчо, знаходити нестандартні рішення задачі. Це рідкісна і нічим не замінна якість, що відрізняє людей талановитих у будь-якій сфері діяльності.</a:t>
            </a:r>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763640" y="1203120"/>
            <a:ext cx="5508720" cy="136836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rPr>
              <a:t>Мислення - важка робота. Для її виконання потрібні:</a:t>
            </a:r>
            <a:endParaRPr b="0" lang="en-US" sz="1800" spc="-1" strike="noStrike">
              <a:solidFill>
                <a:srgbClr val="000000"/>
              </a:solidFill>
              <a:latin typeface="Arial"/>
            </a:endParaRPr>
          </a:p>
        </p:txBody>
      </p:sp>
      <p:sp>
        <p:nvSpPr>
          <p:cNvPr id="447" name="Google Shape;361;p33"/>
          <p:cNvSpPr/>
          <p:nvPr/>
        </p:nvSpPr>
        <p:spPr>
          <a:xfrm>
            <a:off x="1763640" y="1995480"/>
            <a:ext cx="2808360" cy="1657440"/>
          </a:xfrm>
          <a:custGeom>
            <a:avLst/>
            <a:gdLst>
              <a:gd name="textAreaLeft" fmla="*/ 0 w 2808360"/>
              <a:gd name="textAreaRight" fmla="*/ 2808720 w 2808360"/>
              <a:gd name="textAreaTop" fmla="*/ 0 h 1657440"/>
              <a:gd name="textAreaBottom" fmla="*/ 1657800 h 1657440"/>
            </a:gdLst>
            <a:ahLst/>
            <a:rect l="textAreaLeft" t="textAreaTop" r="textAreaRight" b="textAreaBottom"/>
            <a:pathLst>
              <a:path w="21600" h="21600">
                <a:moveTo>
                  <a:pt x="0" y="0"/>
                </a:moveTo>
                <a:lnTo>
                  <a:pt x="17794" y="0"/>
                </a:lnTo>
                <a:lnTo>
                  <a:pt x="21600" y="10800"/>
                </a:lnTo>
                <a:lnTo>
                  <a:pt x="17794" y="21600"/>
                </a:lnTo>
                <a:lnTo>
                  <a:pt x="0" y="21600"/>
                </a:lnTo>
                <a:lnTo>
                  <a:pt x="3806" y="10800"/>
                </a:lnTo>
                <a:close/>
              </a:path>
            </a:pathLst>
          </a:custGeom>
          <a:solidFill>
            <a:srgbClr val="f67031"/>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працездатність</a:t>
            </a:r>
            <a:endParaRPr b="0" lang="en-US" sz="1600" spc="-1" strike="noStrike">
              <a:solidFill>
                <a:srgbClr val="000000"/>
              </a:solidFill>
              <a:latin typeface="Arial"/>
            </a:endParaRPr>
          </a:p>
        </p:txBody>
      </p:sp>
      <p:sp>
        <p:nvSpPr>
          <p:cNvPr id="448" name="Google Shape;362;p33"/>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65B1-E863-4086-8F03-1A6459F0E405}"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49" name="Google Shape;363;p33"/>
          <p:cNvSpPr/>
          <p:nvPr/>
        </p:nvSpPr>
        <p:spPr>
          <a:xfrm>
            <a:off x="4067280" y="1851120"/>
            <a:ext cx="2933640" cy="1944720"/>
          </a:xfrm>
          <a:custGeom>
            <a:avLst/>
            <a:gdLst>
              <a:gd name="textAreaLeft" fmla="*/ 0 w 2933640"/>
              <a:gd name="textAreaRight" fmla="*/ 2934000 w 2933640"/>
              <a:gd name="textAreaTop" fmla="*/ 0 h 1944720"/>
              <a:gd name="textAreaBottom" fmla="*/ 1945080 h 1944720"/>
            </a:gdLst>
            <a:ahLst/>
            <a:rect l="textAreaLeft" t="textAreaTop" r="textAreaRight" b="textAreaBottom"/>
            <a:pathLst>
              <a:path w="21600" h="21600">
                <a:moveTo>
                  <a:pt x="0" y="0"/>
                </a:moveTo>
                <a:lnTo>
                  <a:pt x="17326" y="0"/>
                </a:lnTo>
                <a:lnTo>
                  <a:pt x="21600" y="10800"/>
                </a:lnTo>
                <a:lnTo>
                  <a:pt x="17326" y="21600"/>
                </a:lnTo>
                <a:lnTo>
                  <a:pt x="0" y="21600"/>
                </a:lnTo>
                <a:lnTo>
                  <a:pt x="4274" y="10800"/>
                </a:lnTo>
                <a:close/>
              </a:path>
            </a:pathLst>
          </a:custGeom>
          <a:solidFill>
            <a:srgbClr val="ed0036">
              <a:alpha val="71000"/>
            </a:srgbClr>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спостережливість </a:t>
            </a:r>
            <a:endParaRPr b="0" lang="en-US" sz="1600" spc="-1" strike="noStrike">
              <a:solidFill>
                <a:srgbClr val="000000"/>
              </a:solidFill>
              <a:latin typeface="Arial"/>
            </a:endParaRPr>
          </a:p>
        </p:txBody>
      </p:sp>
      <p:sp>
        <p:nvSpPr>
          <p:cNvPr id="450" name="Google Shape;364;p33"/>
          <p:cNvSpPr/>
          <p:nvPr/>
        </p:nvSpPr>
        <p:spPr>
          <a:xfrm>
            <a:off x="0" y="2211480"/>
            <a:ext cx="2195640" cy="1238040"/>
          </a:xfrm>
          <a:custGeom>
            <a:avLst/>
            <a:gdLst>
              <a:gd name="textAreaLeft" fmla="*/ 0 w 2195640"/>
              <a:gd name="textAreaRight" fmla="*/ 2195640 w 2195640"/>
              <a:gd name="textAreaTop" fmla="*/ 0 h 1238040"/>
              <a:gd name="textAreaBottom" fmla="*/ 1238400 h 1238040"/>
            </a:gdLst>
            <a:ahLst/>
            <a:rect l="textAreaLeft" t="textAreaTop" r="textAreaRight" b="textAreaBottom"/>
            <a:pathLst>
              <a:path w="21600" h="21600">
                <a:moveTo>
                  <a:pt x="0" y="0"/>
                </a:moveTo>
                <a:lnTo>
                  <a:pt x="17963" y="0"/>
                </a:lnTo>
                <a:lnTo>
                  <a:pt x="21600" y="10800"/>
                </a:lnTo>
                <a:lnTo>
                  <a:pt x="17963" y="21600"/>
                </a:lnTo>
                <a:lnTo>
                  <a:pt x="0" y="21600"/>
                </a:lnTo>
                <a:lnTo>
                  <a:pt x="3637" y="10800"/>
                </a:lnTo>
                <a:close/>
              </a:path>
            </a:pathLst>
          </a:custGeom>
          <a:solidFill>
            <a:srgbClr val="ffa400">
              <a:alpha val="91000"/>
            </a:srgbClr>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Roboto Condensed"/>
              </a:rPr>
              <a:t>організованість</a:t>
            </a:r>
            <a:endParaRPr b="0" lang="en-US" sz="1500" spc="-1" strike="noStrike">
              <a:solidFill>
                <a:srgbClr val="000000"/>
              </a:solidFill>
              <a:latin typeface="Arial"/>
            </a:endParaRPr>
          </a:p>
        </p:txBody>
      </p:sp>
      <p:sp>
        <p:nvSpPr>
          <p:cNvPr id="451" name="Google Shape;363;p33"/>
          <p:cNvSpPr/>
          <p:nvPr/>
        </p:nvSpPr>
        <p:spPr>
          <a:xfrm>
            <a:off x="6480000" y="1708200"/>
            <a:ext cx="2664000" cy="2232000"/>
          </a:xfrm>
          <a:custGeom>
            <a:avLst/>
            <a:gdLst>
              <a:gd name="textAreaLeft" fmla="*/ 0 w 2664000"/>
              <a:gd name="textAreaRight" fmla="*/ 2664360 w 2664000"/>
              <a:gd name="textAreaTop" fmla="*/ 0 h 2232000"/>
              <a:gd name="textAreaBottom" fmla="*/ 2232360 h 2232000"/>
            </a:gdLst>
            <a:ahLst/>
            <a:rect l="textAreaLeft" t="textAreaTop" r="textAreaRight" b="textAreaBottom"/>
            <a:pathLst>
              <a:path w="21600" h="21600">
                <a:moveTo>
                  <a:pt x="0" y="0"/>
                </a:moveTo>
                <a:lnTo>
                  <a:pt x="16197" y="0"/>
                </a:lnTo>
                <a:lnTo>
                  <a:pt x="21600" y="10800"/>
                </a:lnTo>
                <a:lnTo>
                  <a:pt x="16197" y="21600"/>
                </a:lnTo>
                <a:lnTo>
                  <a:pt x="0" y="21600"/>
                </a:lnTo>
                <a:lnTo>
                  <a:pt x="5403" y="10800"/>
                </a:lnTo>
                <a:close/>
              </a:path>
            </a:pathLst>
          </a:custGeom>
          <a:solidFill>
            <a:srgbClr val="8d42c6"/>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добре розвинені увага і пам'ять</a:t>
            </a:r>
            <a:endParaRPr b="0" lang="en-US" sz="1600" spc="-1" strike="noStrike">
              <a:solidFill>
                <a:srgbClr val="000000"/>
              </a:solidFill>
              <a:latin typeface="Arial"/>
            </a:endParaRPr>
          </a:p>
        </p:txBody>
      </p:sp>
      <p:sp>
        <p:nvSpPr>
          <p:cNvPr id="452" name="Прямоугольник 7"/>
          <p:cNvSpPr/>
          <p:nvPr/>
        </p:nvSpPr>
        <p:spPr>
          <a:xfrm>
            <a:off x="2340360" y="195120"/>
            <a:ext cx="4252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ВАЖЛИВО</a:t>
            </a:r>
            <a:endParaRPr b="0" lang="en-US" sz="6000" spc="-1" strike="noStrike">
              <a:solidFill>
                <a:srgbClr val="000000"/>
              </a:solidFill>
              <a:latin typeface="Arial"/>
            </a:endParaRPr>
          </a:p>
        </p:txBody>
      </p:sp>
      <p:sp>
        <p:nvSpPr>
          <p:cNvPr id="453" name="Прямоугольник 8"/>
          <p:cNvSpPr/>
          <p:nvPr/>
        </p:nvSpPr>
        <p:spPr>
          <a:xfrm>
            <a:off x="324000" y="3940200"/>
            <a:ext cx="590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Зіставте свій провідний тип мислення з вибраним видом діяльності чи профілем навчанн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Якщо ваші професійні плани не відповідають типу мислення, подумайте, що вам легше змінити плани або тип мислення? </a:t>
            </a:r>
            <a:endParaRPr b="0" lang="en-US" sz="1400" spc="-1" strike="noStrike">
              <a:solidFill>
                <a:srgbClr val="000000"/>
              </a:solidFill>
              <a:latin typeface="Arial"/>
            </a:endParaRPr>
          </a:p>
        </p:txBody>
      </p:sp>
      <p:pic>
        <p:nvPicPr>
          <p:cNvPr id="454" name="Picture 4" descr="Картинки по запросу важливо"/>
          <p:cNvPicPr/>
          <p:nvPr/>
        </p:nvPicPr>
        <p:blipFill>
          <a:blip r:embed="rId1"/>
          <a:stretch/>
        </p:blipFill>
        <p:spPr>
          <a:xfrm>
            <a:off x="7380360" y="123840"/>
            <a:ext cx="1276200" cy="12747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итинова</dc:creator>
  <dc:description/>
  <dc:language>en-US</dc:language>
  <cp:lastModifiedBy>Питинова</cp:lastModifiedBy>
  <dcterms:modified xsi:type="dcterms:W3CDTF">2020-02-06T12:49:03Z</dcterms:modified>
  <cp:revision>192</cp:revision>
  <dc:subject/>
  <dc:title>ТРАЕКТОРІЯ УСПІХУ: професійна самосвідомість</dc:title>
</cp:coreProperties>
</file>