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9C4-34B3-4197-A2D4-C0AB8414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549-635D-4F14-9E3A-C98FD88A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059-331E-4D1C-BE68-2E8E7CF5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617-5F0D-4F5E-A0F2-75E5AE5E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D5F4-EA02-4820-84A6-9BFE5502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95F2-6E52-4F04-89CE-977596D5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2611-0EF7-4C18-AAA2-8F62B4C9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C811-E82C-47E8-A966-166F2F0A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A7A6-CEDB-42A2-9AE1-FCC99F87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B4F0-D4EB-4274-AF16-558E99F1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79F1-5F74-467C-8AFD-ED0BC6C8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FFC-6626-43A0-AF26-F42B699F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9CF7-23D4-40DA-86C3-F91F6299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07F5-9B20-4318-BC9F-99891BC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F936-0899-44FC-811D-93753945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AC0F-6661-4948-A1C8-47B0055B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F31F-E9F7-40CC-891D-B7024529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5E3-CE31-4AB2-A87E-DA259E4F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261-A95D-4D06-A665-E8A8FC11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F7C-06FB-4F9E-B6B8-EB3D110C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464-15CC-4F55-AB31-C723C28E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D35-2325-481D-8DDD-0063C08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B71-F7D2-4617-986F-EF11DDC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CBD-7F56-4D88-A280-6671A460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80F0-7A16-41EF-8902-2F2F76E9C3C7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F290-C2AD-4294-85AA-EF7CEA93A16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0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Органічні речовини як основа сучасних матеріалів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800"/>
            </a:b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ластмаси, синтетичні каучуки, гума, штучні й синтетичні волокн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руга половина XX ст. стала періодом інтенсивного пошуку, дослідження і виробництва полімерів. За своїми властивостями полімерні матеріали вигідно відрізняються від природних. Вони довговічніші, не зазнають корозії, мають невелику густину, досить міцні; їх легко формувати, обробляти, забарвлюва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24360" y="620280"/>
            <a:ext cx="49687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Пластмаси</a:t>
            </a:r>
            <a:endParaRPr b="1" lang="en-US" sz="7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5184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стмаси — це матеріали, створені на основі полімерів, які здатні під впливом температури і тиску набувати певної форми і зберігати ї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28800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6d18"/>
                </a:solidFill>
                <a:latin typeface="Times New Roman"/>
              </a:rPr>
              <a:t>До складу найважливіших пластмас входять такі полімери :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ліетил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ліпропіл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лівінілхлори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лівінілацета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енолоформальдегідні смо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341960" cy="34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26d18"/>
                </a:solidFill>
                <a:latin typeface="Times New Roman"/>
              </a:rPr>
              <a:t>Каучук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аучуки — полімерні матеріали рослинного або синтетичного походження, з яких виготовляють гуму та гумові вироб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фери застосування каучуків — виробництво на їхній основі клеїв, деяких пластмас, штучної шкіри, взуття, плитки для підлоги, електроізоляційних оболо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3645000"/>
            <a:ext cx="4535640" cy="24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иродний (натуральний) каучу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ститься в соку деяких росл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гевеї, фікуса, кульбаби), який нагаду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локо і є емульсією каучуку у воді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интетичні каучук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перше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чали виробляти в Радянському Союз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1932 р. за технологіє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зробленою академіком С. В. Лебєдєв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їх синтезують за реакціями полімеризації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льшість яких відбувається за участ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аталізаторів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384360" cy="25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24360" y="4302000"/>
            <a:ext cx="3168720" cy="236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1603440" cy="16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26d18"/>
                </a:solidFill>
                <a:latin typeface="Times New Roman"/>
              </a:rPr>
              <a:t>Волокна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локна — це довгі гнучкі нитки, які виробляють із природних або синтетичних полімерів і використовують для виготовлення пряжі й текстильних виробів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3141720"/>
            <a:ext cx="554364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иродні волокна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слинні волок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ються на поверхні насіння (бавовна), у стебл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 листі (коноплі, льон). їхня основа — целюло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варинні волокна є білковими полімер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Штучні волокна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бувають переробк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природних полімерів, здебільшого целюлози. Вони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мають низку переваг, які стосуються технології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волокон і якості виробів із них. Найважливішими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             штучними волокнами є віскозне й ацетат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интетичні волокна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робляю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з органічних сполук, здійснюючи хімічн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еакції. До волокон цього типу належ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прон, найлон, енант, нітрон, лавсан та ін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5745" r="16840" b="0"/>
          <a:stretch/>
        </p:blipFill>
        <p:spPr>
          <a:xfrm>
            <a:off x="6300720" y="189000"/>
            <a:ext cx="2448000" cy="214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292720" y="4243320"/>
            <a:ext cx="32400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26d18"/>
                </a:solidFill>
                <a:latin typeface="Times New Roman"/>
              </a:rPr>
              <a:t>Дякую за увагу!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7:01:53Z</dcterms:created>
  <dc:creator>Admin</dc:creator>
  <dc:description/>
  <dc:language>en-US</dc:language>
  <cp:lastModifiedBy>Serg</cp:lastModifiedBy>
  <dcterms:modified xsi:type="dcterms:W3CDTF">2012-12-28T18:24:49Z</dcterms:modified>
  <cp:revision>8</cp:revision>
  <dc:subject/>
  <dc:title>Органічні речовини як основа сучасних матеріалів:  пластмаси, синтетичні каучуки, гума, штучні й синтетичні волокна</dc:title>
</cp:coreProperties>
</file>