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2B1-EC41-432A-809D-97539573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EA3-8E2D-43FE-BB2D-4452A328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6E4-BCC6-4876-9E3C-2E582C66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570-BB4A-4C50-8C36-007A3A10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EA4C-1592-4779-93CF-B33E13D2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276B-081E-4127-819E-A105575F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EC63-7838-43F6-922A-B3080A3F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EA27-16BD-41B7-A134-4D8C1CFD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6EC4-CEB3-4A4E-9F27-8031B0AB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57E1-D23A-4C60-AB25-33D67CB7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2104-4D00-4C33-9953-0CABE159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EAF-B3F0-4B7A-943C-A8465D6A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80AB-D957-43FA-9A59-B63661EF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6F98-572C-4A0E-97FB-7BDCBCE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D2F5-4417-4BB5-AA44-40ABE2C4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06D8-48E9-4662-B529-13C25DBC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E828-15D8-4BE1-8E17-E4AB41E3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423-4A7E-4F81-A676-32DE34A2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06F-C684-4980-AA50-B44FF3BA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C6F-5361-4062-919D-A12A1C50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943-DAEA-4BA6-B49E-69501A1F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A41-12CD-4FFA-9C51-33E66DB5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745-91CC-4B25-B868-E17F19B3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21E-6508-4E5D-A232-C6DB6A97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08B2-6CF0-42FE-9084-BAF489CFB89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7A77-368B-4CB1-8215-217E2949346B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09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Органічні речовини як основа сучасних матеріалів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800"/>
            </a:b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пластмаси, синтетичні каучуки, гума, штучні й синтетичні волокн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уга половина XX ст. стала періодом інтенсивного пошуку, дослідження і виробництва полімерів. За своїми властивостями полімерні матеріали вигідно відрізняються від природних. Вони довговічніші, не зазнають корозії, мають невелику густину, досить міцні; їх легко формувати, обробляти, забарвлюва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24360" y="620280"/>
            <a:ext cx="49687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Пластмаси</a:t>
            </a:r>
            <a:endParaRPr b="1" lang="en-US" sz="7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5184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стмаси — це матеріали, створені на основі полімерів, які здатні під впливом температури і тиску набувати певної форми і зберігати ї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28800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26d18"/>
                </a:solidFill>
                <a:latin typeface="Times New Roman"/>
              </a:rPr>
              <a:t>До складу найважливіших пластмас входять такі полімери :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ліети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ліпропіл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лівінілхлори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лівінілацета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енолоформальдегідні смо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41960" cy="34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26d18"/>
                </a:solidFill>
                <a:latin typeface="Times New Roman"/>
              </a:rPr>
              <a:t>Каучук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аучуки — полімерні матеріали рослинного або синтетичного походження, з яких виготовляють гуму та гумові вироб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фери застосування каучуків — виробництво на їхній основі клеїв, деяких пластмас, штучної шкіри, взуття, плитки для підлоги, електроізоляційних оболо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4535640" cy="24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риродний (натуральний) каучу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ститься в соку деяких росл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гевеї, фікуса, кульбаби), який нагаду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локо і є емульсією каучуку у воді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интетичні каучук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перше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чали виробляти в Радянському Союз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1932 р. за технологіє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зробленою академіком С. В. Лебєдєв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х синтезують за реакціями полімеризації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ільшість яких відбувається за участ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аталізаторів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384360" cy="2506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24360" y="4302000"/>
            <a:ext cx="3168720" cy="236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1603440" cy="16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26d18"/>
                </a:solidFill>
                <a:latin typeface="Times New Roman"/>
              </a:rPr>
              <a:t>Волокна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локна — це довгі гнучкі нитки, які виробляють із природних або синтетичних полімерів і використовують для виготовлення пряжі й текстильних виробів.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3141720"/>
            <a:ext cx="554364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иродні волокна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слинні волок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ормуються на поверхні насіння (бавовна), у стебл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 листі (коноплі, льон). їхня основа — целюло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варинні волокна є білковими полімер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Штучні волокна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бувають переробко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природних полімерів, здебільшого целюлози. Вон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мають низку переваг, які стосуються технології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волокон і якості виробів із них. Найважливішим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                 штучними волокнами є віскозне й ацетат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интетичні волокна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робляю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з органічних сполук, здійснюючи хімічн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еакції. До волокон цього типу належа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апрон, найлон, енант, нітрон, лавсан та ін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5745" r="16840" b="0"/>
          <a:stretch/>
        </p:blipFill>
        <p:spPr>
          <a:xfrm>
            <a:off x="6300720" y="189000"/>
            <a:ext cx="2448000" cy="2143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292720" y="4243320"/>
            <a:ext cx="32400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26d18"/>
                </a:solidFill>
                <a:latin typeface="Times New Roman"/>
              </a:rPr>
              <a:t>Дякую за увагу!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68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7:01:53Z</dcterms:created>
  <dc:creator>Admin</dc:creator>
  <dc:description/>
  <dc:language>en-US</dc:language>
  <cp:lastModifiedBy>Serg</cp:lastModifiedBy>
  <dcterms:modified xsi:type="dcterms:W3CDTF">2012-12-28T18:24:49Z</dcterms:modified>
  <cp:revision>8</cp:revision>
  <dc:subject/>
  <dc:title>Органічні речовини як основа сучасних матеріалів:  пластмаси, синтетичні каучуки, гума, штучні й синтетичні волокна</dc:title>
</cp:coreProperties>
</file>