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484-5453-4D55-A631-28B16A6D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BCC-0294-40FD-A234-0B971220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230-AADB-473C-B5FB-D1E8C602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A4C-ECD9-4A62-9D4F-6488EB1B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1C15-8C65-46B7-99A2-380B3B15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2E12-6CE0-4FA8-B230-88E65327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8559-75C4-4FBC-B9E4-BA4C9D72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7717-D5D2-488A-86A5-D5E72C19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30B-F0FF-42E8-8A15-281C8766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B04D-E52F-4101-BF5B-1BB891C0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CCEC-F4AD-4CF5-8C50-F01C0F5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50A-C601-44C9-BA61-8294087E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B679-4F45-4393-8419-C499E35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7602-BB16-47AE-93A8-F779E59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38D1-58EF-484C-86BE-4DD9B6F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D8A2-A551-4EFC-A757-A96033DA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7BE-A897-4426-9769-11CA9C0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024-1E40-4B44-BC3B-C13F52BE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3F4-EF56-4F0F-B600-317DDAD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6F3-0F9D-4EF3-90F3-ECB298A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174-0E83-498F-BDA1-63A80FA0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332-7AAC-424D-B77E-795B5D2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713-A61F-4789-ACBC-CA16C02B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240-F522-4D77-ADE9-6F95A4BF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7AB-9763-4E17-A409-7E4599EC4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E1E-E1D8-4389-9A00-B446C1623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1844640"/>
            <a:ext cx="6705720" cy="256284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4"/>
                </a:solidFill>
                <a:latin typeface="Times New Roman"/>
              </a:rPr>
              <a:t>Общая характеристика галоген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1628640"/>
            <a:ext cx="7777080" cy="4718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!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3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тесняет другие галогены из растворов солей, так как вз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имодействует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од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4HF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140520" cy="517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«Ряд активности» галоге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2492280"/>
            <a:ext cx="720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6548400" cy="365580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Cl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Cl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KBr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-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2KCl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KBr + 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2KCl + B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5440" y="372960"/>
            <a:ext cx="5375160" cy="349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0364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ru-RU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А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ожение в периоди-ческой системе Д.И. Менде-ле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роение (схема электрон-ного строения, электрон-ные формул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томный радиу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-тельная 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степени окис-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1268280"/>
            <a:ext cx="410508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2400" spc="-1" strike="noStrike" u="sng">
                <a:solidFill>
                  <a:srgbClr val="3100bc"/>
                </a:solidFill>
                <a:uFillTx/>
                <a:latin typeface="Times New Roman"/>
                <a:ea typeface="Times New Roman"/>
              </a:rPr>
              <a:t>. Простые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ста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троение (Химическая связ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ческ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луч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мен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хождение в природ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стория откры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1680" y="1068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404640"/>
            <a:ext cx="648180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оение атомов галоге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066680"/>
          <a:ext cx="7102440" cy="631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10244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92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Причины многообразия степеней окис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42920" y="1197000"/>
          <a:ext cx="69454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69454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489800" cy="57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Схема образования химической свя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24000" y="1484280"/>
            <a:ext cx="5905440" cy="4675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867280" y="2276640"/>
            <a:ext cx="2592360" cy="1839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 – 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валентная неполяр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йд №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26920" y="1341360"/>
            <a:ext cx="7417080" cy="4680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035760" cy="495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Физические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4941720"/>
            <a:ext cx="137160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б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6360" y="3213000"/>
            <a:ext cx="167652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й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3213000"/>
            <a:ext cx="1752840" cy="5814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хл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751120" cy="280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1680" y="1068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6961320" cy="4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Химические св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294920"/>
            <a:ext cx="8280360" cy="4797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F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ru-RU" sz="38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Br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  <a:ea typeface="Times New Roman"/>
              </a:rPr>
              <a:t>→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ru-RU" sz="3800" spc="-1" strike="noStrike" baseline="-25000">
                <a:solidFill>
                  <a:srgbClr val="000004"/>
                </a:solidFill>
                <a:latin typeface="Times New Roman"/>
              </a:rPr>
              <a:t>   </a:t>
            </a:r>
            <a:r>
              <a:rPr b="1" lang="en-US" sz="38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8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ислительная способность уменьш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Ряд активности галогенов»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    &gt;    </a:t>
            </a:r>
            <a:r>
              <a:rPr b="1" lang="ru-RU" sz="3600" spc="-1" strike="noStrike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 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&gt;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Br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    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 &gt;      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6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637000"/>
            <a:ext cx="7561080" cy="64764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Взаимодействие с металлами =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&gt;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со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4221000"/>
            <a:ext cx="7561080" cy="64800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Вытесняют друг друга из растворов их со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3429000"/>
            <a:ext cx="7561080" cy="647640"/>
          </a:xfrm>
          <a:prstGeom prst="rect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Взаимодействие с водородом =</a:t>
            </a:r>
            <a:r>
              <a:rPr b="1" lang="en-US" sz="2400" spc="-1" strike="noStrike">
                <a:solidFill>
                  <a:srgbClr val="000004"/>
                </a:solidFill>
                <a:latin typeface="Times New Roman"/>
              </a:rPr>
              <a:t>&gt;</a:t>
            </a:r>
            <a:r>
              <a:rPr b="1" lang="ru-RU" sz="2400" spc="-1" strike="noStrike">
                <a:solidFill>
                  <a:srgbClr val="000004"/>
                </a:solidFill>
                <a:latin typeface="Times New Roman"/>
              </a:rPr>
              <a:t> галогеноводор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92428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364500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437000"/>
            <a:ext cx="147600" cy="147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32360" y="2565360"/>
            <a:ext cx="316872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373800" cy="497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Взаимодействие с металл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341360"/>
            <a:ext cx="7488360" cy="5702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логен + металл = с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Fe +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Cl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FeCl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4"/>
                </a:solidFill>
                <a:latin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0004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Al +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</a:t>
            </a: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AlI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4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u + Br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Cu Br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ru-RU" sz="3200" spc="-1" strike="noStrike" baseline="-25000">
                <a:solidFill>
                  <a:srgbClr val="00000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Zn + F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4"/>
                </a:solidFill>
                <a:latin typeface="Times New Roman"/>
              </a:rPr>
              <a:t> = ZnF</a:t>
            </a:r>
            <a:r>
              <a:rPr b="1" lang="en-US" sz="3200" spc="-1" strike="noStrike" baseline="-25000">
                <a:solidFill>
                  <a:srgbClr val="000004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4"/>
                </a:solidFill>
                <a:latin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3100bc"/>
                </a:solidFill>
                <a:latin typeface="Times New Roman"/>
              </a:rPr>
              <a:t>?                       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30064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2565360"/>
            <a:ext cx="266364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e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Хлорид железа (</a:t>
            </a:r>
            <a:r>
              <a:rPr b="1" lang="en-US" sz="2200" spc="-1" strike="noStrike">
                <a:solidFill>
                  <a:srgbClr val="000004"/>
                </a:solidFill>
                <a:latin typeface="Times New Roman"/>
              </a:rPr>
              <a:t>III</a:t>
            </a: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4005360"/>
            <a:ext cx="2663640" cy="576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e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4"/>
                </a:solidFill>
                <a:latin typeface="Times New Roman"/>
              </a:rPr>
              <a:t>Иодид алюми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1197000"/>
            <a:ext cx="7417080" cy="52531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уменьш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6662880" cy="48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4"/>
                </a:solidFill>
                <a:latin typeface="Times New Roman"/>
              </a:rPr>
              <a:t>Взаимодействие с водородом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19162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5589720"/>
            <a:ext cx="1944720" cy="576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йод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4437000"/>
            <a:ext cx="194472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бром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141720"/>
            <a:ext cx="201636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хлор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844640"/>
            <a:ext cx="2016360" cy="57636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cc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4"/>
                </a:solidFill>
                <a:latin typeface="Times New Roman"/>
              </a:rPr>
              <a:t>фтороводор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260280"/>
            <a:ext cx="151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4"/>
                </a:solidFill>
                <a:latin typeface="Arial"/>
              </a:rPr>
              <a:t>Слайд №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5:57:33Z</dcterms:created>
  <dc:creator>Егорик</dc:creator>
  <dc:description/>
  <dc:language>en-US</dc:language>
  <cp:lastModifiedBy>Лена</cp:lastModifiedBy>
  <dcterms:modified xsi:type="dcterms:W3CDTF">2006-01-29T14:42:52Z</dcterms:modified>
  <cp:revision>111</cp:revision>
  <dc:subject/>
  <dc:title>  Физические свойства</dc:title>
</cp:coreProperties>
</file>