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9B9-A95A-46EB-8C60-19F415C6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53A-840C-400D-9A67-69A8613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F69-57F2-4B55-B0B0-0D14DC2C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425-1BA0-4143-9834-7F5CC98F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F6DB-F577-4CAF-B919-95533A4F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EAF6-53A2-45DD-AEDC-89772EA5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DDC0-70BC-462B-856A-91B4D8F1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FC61-3D33-41AC-886B-28F07BDD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BC85-4F98-4C95-A567-C01670FB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28F9-5FB2-4C89-8353-F532CEAD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FB90-1BC2-4678-B7EF-04709599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DB8-5C62-4258-A7BB-16C17638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568C-52D3-437A-BB56-ACD41817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3514-6623-4E14-B7E3-EA558299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882B-B530-49E5-8EC7-7875C585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39EC-003C-4642-AC84-2030311E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EF08-3D1F-4977-B6C0-F0C0B805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9A2-CCF2-467A-8257-230BB940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479-652B-4575-B8D0-C241B5BA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1C4-65F8-4405-8E9C-49787573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D96-B7D4-4C1B-A0FC-86E9B4ED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39A-9681-42FC-A33B-AC507F87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93E-E0E4-41E0-B8D1-A265A48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63B-43D6-49C2-ABB8-3275C1B3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FF14-04C4-4B2C-B4E8-3E8941FC1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A049-2A4F-4A26-A436-E90B4C4A5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1844640"/>
            <a:ext cx="6705720" cy="256284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4"/>
                </a:solidFill>
                <a:latin typeface="Times New Roman"/>
              </a:rPr>
              <a:t>Общая характеристика галоге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11280" y="1628640"/>
            <a:ext cx="7777080" cy="471888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!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тесняет другие галогены из растворов солей, так как вз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имодействует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од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= 4HF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140520" cy="517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«Ряд активности» галоге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2492280"/>
            <a:ext cx="720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58920" y="1915920"/>
            <a:ext cx="6548400" cy="3655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Cl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-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+ 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Cl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-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KBr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-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+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2KCl + 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KBr +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2KCl + 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5440" y="372960"/>
            <a:ext cx="5375160" cy="349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10364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100bc"/>
                </a:solidFill>
                <a:uFillTx/>
                <a:latin typeface="Times New Roman"/>
                <a:ea typeface="Times New Roman"/>
              </a:rPr>
              <a:t>I. </a:t>
            </a:r>
            <a:r>
              <a:rPr b="1" lang="ru-RU" sz="2400" spc="-1" strike="noStrike" u="sng">
                <a:solidFill>
                  <a:srgbClr val="3100bc"/>
                </a:solidFill>
                <a:uFillTx/>
                <a:latin typeface="Times New Roman"/>
                <a:ea typeface="Times New Roman"/>
              </a:rPr>
              <a:t>А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ложение в периоди-ческой системе Д.И. Менде-лее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ст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роение (схема электрон-ного строения, электрон-ные формул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вой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томный радиу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-тельная способ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степени окис-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268280"/>
            <a:ext cx="410508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100bc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ru-RU" sz="2400" spc="-1" strike="noStrike" u="sng">
                <a:solidFill>
                  <a:srgbClr val="3100bc"/>
                </a:solidFill>
                <a:uFillTx/>
                <a:latin typeface="Times New Roman"/>
                <a:ea typeface="Times New Roman"/>
              </a:rPr>
              <a:t>. Простые ве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ста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роение (Химическая связь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луч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мен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хождение в приро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стория откры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1680" y="1068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9144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04640"/>
            <a:ext cx="648180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оение атомов галоге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066680"/>
          <a:ext cx="7102440" cy="631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710244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69228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Причины многообразия степеней окис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42920" y="1197000"/>
          <a:ext cx="69454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69454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48980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Схема образования химической связ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24000" y="1484280"/>
            <a:ext cx="5905440" cy="4675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867280" y="2276640"/>
            <a:ext cx="2592360" cy="183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 – 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валентная неполяр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1341360"/>
            <a:ext cx="7417080" cy="4680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6035760" cy="495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Физические св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4941720"/>
            <a:ext cx="1371600" cy="581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бр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6360" y="3213000"/>
            <a:ext cx="1676520" cy="581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cc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й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3213000"/>
            <a:ext cx="1752840" cy="581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хл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916280"/>
            <a:ext cx="2751120" cy="280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4"/>
                </a:solidFill>
                <a:latin typeface="Arial"/>
              </a:rPr>
              <a:t>Слайд №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1680" y="1068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6961320" cy="4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Химические св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294920"/>
            <a:ext cx="8280360" cy="4797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F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  <a:ea typeface="Times New Roman"/>
              </a:rPr>
              <a:t>→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   </a:t>
            </a:r>
            <a:r>
              <a:rPr b="1" lang="ru-RU" sz="3800" spc="-1" strike="noStrike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Cl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2 </a:t>
            </a:r>
            <a:r>
              <a:rPr b="1" lang="ru-RU" sz="3800" spc="-1" strike="noStrike" baseline="-25000">
                <a:solidFill>
                  <a:srgbClr val="000004"/>
                </a:solidFill>
                <a:latin typeface="Times New Roman"/>
              </a:rPr>
              <a:t> 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  <a:ea typeface="Times New Roman"/>
              </a:rPr>
              <a:t>→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ru-RU" sz="3800" spc="-1" strike="noStrike" baseline="-25000">
                <a:solidFill>
                  <a:srgbClr val="000004"/>
                </a:solidFill>
                <a:latin typeface="Times New Roman"/>
              </a:rPr>
              <a:t>  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Br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2 </a:t>
            </a:r>
            <a:r>
              <a:rPr b="1" lang="ru-RU" sz="3800" spc="-1" strike="noStrike" baseline="-25000">
                <a:solidFill>
                  <a:srgbClr val="000004"/>
                </a:solidFill>
                <a:latin typeface="Times New Roman"/>
              </a:rPr>
              <a:t>  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  <a:ea typeface="Times New Roman"/>
              </a:rPr>
              <a:t>→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ru-RU" sz="3800" spc="-1" strike="noStrike" baseline="-25000">
                <a:solidFill>
                  <a:srgbClr val="000004"/>
                </a:solidFill>
                <a:latin typeface="Times New Roman"/>
              </a:rPr>
              <a:t>  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I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ислительная способность уменьш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Ряд активности галогенов»: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    &gt;    </a:t>
            </a:r>
            <a:r>
              <a:rPr b="1" lang="ru-RU" sz="3600" spc="-1" strike="noStrike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Cl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2      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&gt;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Br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2     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 &gt;      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2637000"/>
            <a:ext cx="7561080" cy="64764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4"/>
                </a:solidFill>
                <a:latin typeface="Times New Roman"/>
              </a:rPr>
              <a:t>Взаимодействие с металлами =</a:t>
            </a:r>
            <a:r>
              <a:rPr b="1" lang="en-US" sz="2400" spc="-1" strike="noStrike">
                <a:solidFill>
                  <a:srgbClr val="000004"/>
                </a:solidFill>
                <a:latin typeface="Times New Roman"/>
              </a:rPr>
              <a:t>&gt; </a:t>
            </a:r>
            <a:r>
              <a:rPr b="1" lang="ru-RU" sz="2400" spc="-1" strike="noStrike">
                <a:solidFill>
                  <a:srgbClr val="000004"/>
                </a:solidFill>
                <a:latin typeface="Times New Roman"/>
              </a:rPr>
              <a:t>со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4221000"/>
            <a:ext cx="7561080" cy="64800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4"/>
                </a:solidFill>
                <a:latin typeface="Times New Roman"/>
              </a:rPr>
              <a:t>Вытесняют друг друга из растворов их со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3429000"/>
            <a:ext cx="7561080" cy="64764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4"/>
                </a:solidFill>
                <a:latin typeface="Times New Roman"/>
              </a:rPr>
              <a:t>Взаимодействие с водородом =</a:t>
            </a:r>
            <a:r>
              <a:rPr b="1" lang="en-US" sz="2400" spc="-1" strike="noStrike">
                <a:solidFill>
                  <a:srgbClr val="000004"/>
                </a:solidFill>
                <a:latin typeface="Times New Roman"/>
              </a:rPr>
              <a:t>&gt;</a:t>
            </a:r>
            <a:r>
              <a:rPr b="1" lang="ru-RU" sz="2400" spc="-1" strike="noStrike">
                <a:solidFill>
                  <a:srgbClr val="000004"/>
                </a:solidFill>
                <a:latin typeface="Times New Roman"/>
              </a:rPr>
              <a:t> галогеноводор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2924280"/>
            <a:ext cx="147600" cy="147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3645000"/>
            <a:ext cx="147600" cy="147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4437000"/>
            <a:ext cx="147600" cy="147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4"/>
                </a:solidFill>
                <a:latin typeface="Arial"/>
              </a:rPr>
              <a:t>Слайд №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32360" y="2565360"/>
            <a:ext cx="316872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373800" cy="497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Взаимодействие с металл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341360"/>
            <a:ext cx="7488360" cy="5702400"/>
          </a:xfrm>
          <a:prstGeom prst="rect">
            <a:avLst/>
          </a:prstGeom>
          <a:solidFill>
            <a:srgbClr val="99cc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логен + металл = с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Fe + </a:t>
            </a: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Cl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 = </a:t>
            </a: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FeCl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4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0004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00000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Al + </a:t>
            </a: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 = </a:t>
            </a: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AlI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u + Br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 = Cu Br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ru-RU" sz="3200" spc="-1" strike="noStrike" baseline="-25000">
                <a:solidFill>
                  <a:srgbClr val="00000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Zn + F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 = ZnF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4"/>
                </a:solidFill>
                <a:latin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3100bc"/>
                </a:solidFill>
                <a:latin typeface="Times New Roman"/>
              </a:rPr>
              <a:t>?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300640"/>
            <a:ext cx="662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2565360"/>
            <a:ext cx="2663640" cy="576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e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Хлорид железа (</a:t>
            </a:r>
            <a:r>
              <a:rPr b="1" lang="en-US" sz="2200" spc="-1" strike="noStrike">
                <a:solidFill>
                  <a:srgbClr val="000004"/>
                </a:solidFill>
                <a:latin typeface="Times New Roman"/>
              </a:rPr>
              <a:t>III</a:t>
            </a: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4005360"/>
            <a:ext cx="2663640" cy="576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e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4"/>
                </a:solidFill>
                <a:latin typeface="Times New Roman"/>
              </a:rPr>
              <a:t>Иодид алюми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4"/>
                </a:solidFill>
                <a:latin typeface="Arial"/>
              </a:rPr>
              <a:t>Слайд №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1197000"/>
            <a:ext cx="7417080" cy="525312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уменьш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6662880" cy="48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4"/>
                </a:solidFill>
                <a:latin typeface="Times New Roman"/>
              </a:rPr>
              <a:t>Взаимодействие с водородом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191628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5589720"/>
            <a:ext cx="1944720" cy="576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йодоводор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4437000"/>
            <a:ext cx="1944720" cy="576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бромоводор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3141720"/>
            <a:ext cx="2016360" cy="576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хлороводор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1844640"/>
            <a:ext cx="2016360" cy="576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фтороводор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4"/>
                </a:solidFill>
                <a:latin typeface="Arial"/>
              </a:rPr>
              <a:t>Слайд №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5:57:33Z</dcterms:created>
  <dc:creator>Егорик</dc:creator>
  <dc:description/>
  <dc:language>en-US</dc:language>
  <cp:lastModifiedBy>Лена</cp:lastModifiedBy>
  <dcterms:modified xsi:type="dcterms:W3CDTF">2006-01-29T14:42:52Z</dcterms:modified>
  <cp:revision>111</cp:revision>
  <dc:subject/>
  <dc:title>  Физические свойства</dc:title>
</cp:coreProperties>
</file>