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606D-EB1F-412D-8B73-A5023C6D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2821-5C59-47E2-9E80-EE948091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BF4A-E7C1-4B81-B490-55EFDA9B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B6F2-9F36-4D66-9EDD-CAAF81BE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E91-9E14-458E-8806-49EEF842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964C-D563-49E3-B082-F82788D1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F977-4855-4C3C-A347-DF38308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6D33-931B-4247-B45B-2AA458C0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193A-874C-424B-B7AA-901D998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8ECA-8307-4D9B-8402-AF5E11E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5C7A-363A-498A-B4C4-C98C139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D450-B2CE-4251-98D5-609325DD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476-2001-48A3-86F8-7B36C81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877-FE20-4B20-B34D-9FE8ED2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78D9-50CF-4099-A18D-1993554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60F-CFCF-433B-8AF7-E53A15EB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B592-A8EC-4266-87D2-35F74E50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A7B7-88DC-4B01-BEA3-DC90AFC1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E543-BDD9-4119-AC1F-C69ECE51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5F0B-7426-49C0-ADB0-86DCDCD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AFD2-2A1D-4FAA-B637-2428DBBD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FFEC-D801-41A4-A81B-45EABAC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6AD4-2C51-4E9B-A702-C3F6A76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ADDF-A114-4595-AF08-BDF29A7D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1C12-E1A8-4AFA-AE85-64AAA7FA32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EDD8-55F3-4FCC-B9B4-0F4ED6B388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dfdef6"/>
                </a:solidFill>
                <a:latin typeface="Ravie"/>
              </a:rPr>
              <a:t>Дієприслівник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облива незмінна форма дієслова,що позначає додаткову дію, яка супроводжує іншу та відповідає на питання </a:t>
            </a:r>
            <a:r>
              <a:rPr b="0" i="1" lang="uk-UA" sz="2000" spc="-1" strike="noStrike">
                <a:solidFill>
                  <a:srgbClr val="ffffff"/>
                </a:solidFill>
                <a:latin typeface="Colonna MT"/>
              </a:rPr>
              <a:t>що роблячи? що зробивш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реченні найчастіше пов'язаний з дієсловом присудком і є обставин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Ознаки ві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є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ас(теп. і майб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д(док. і недок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слів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змінні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лежність від прис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начення обст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61"/>
          <p:cNvSpPr/>
          <p:nvPr/>
        </p:nvSpPr>
        <p:spPr>
          <a:xfrm>
            <a:off x="5580000" y="1268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62"/>
          <p:cNvSpPr/>
          <p:nvPr/>
        </p:nvSpPr>
        <p:spPr>
          <a:xfrm flipH="1">
            <a:off x="1547280" y="134136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fdef6"/>
                </a:solidFill>
                <a:latin typeface="Arial"/>
              </a:rPr>
              <a:t>Дієприслівниковий звор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дієприслівник  із залежними від нього словами. У реченні є обставиною. Підкреслюється пунктиром з крапкою. На письмі виділяється комами. Але,якщо звороти стоять після дієслів і є фразеологізмами, їх комами не виділяю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dfdef6"/>
                </a:solidFill>
                <a:latin typeface="Tekton Pro"/>
              </a:rPr>
              <a:t>Творення дієприслівникі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–вши- -ш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-вши- -ши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п.час: основа теперішнього часу + суфікси –учи- -юч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ачи- -я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    </a:t>
            </a: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Послідовність розбору як форми       дієсло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єприслівник,значення, пит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стійні морфологічні озна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таксична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i="1" lang="uk-UA" sz="4400" spc="-1" strike="noStrike">
                <a:solidFill>
                  <a:srgbClr val="dfdef6"/>
                </a:solidFill>
                <a:latin typeface="Garamond Premr Pro"/>
              </a:rPr>
              <a:t>Не з дієприслівник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ільки ті, які без </a:t>
            </a:r>
            <a:r>
              <a:rPr b="0" i="1" lang="uk-UA" sz="2800" spc="-1" strike="noStrike">
                <a:solidFill>
                  <a:srgbClr val="ffffff"/>
                </a:solidFill>
                <a:latin typeface="Chiller"/>
              </a:rPr>
              <a:t>н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живаю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р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сіх інших випад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5:29:48Z</dcterms:created>
  <dc:creator>Master</dc:creator>
  <dc:description/>
  <dc:language>en-US</dc:language>
  <cp:lastModifiedBy>LADY</cp:lastModifiedBy>
  <dcterms:modified xsi:type="dcterms:W3CDTF">2018-01-20T17:15:11Z</dcterms:modified>
  <cp:revision>6</cp:revision>
  <dc:subject/>
  <dc:title>Дієприслівник</dc:title>
</cp:coreProperties>
</file>