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008A-F6B8-44EF-8BF3-BEB02F77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C640-8823-44AE-AD3D-A3463215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6FEA-9024-489E-9D17-AB3C4A71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7E4C-ABC4-4D41-8CD9-A5C8DCAD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7777-2A7A-4202-86F0-9C561D51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86A5-6285-4D38-896E-1886FDAF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9E50-E0D6-4432-B837-E92EA2B0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7200-22C2-4E63-A565-7AF2EC4C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1D31-B32A-4FAA-AFE5-7BDCC36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2C49-4E8B-45B3-AF9B-0E392752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D09A-B785-437D-83E8-4C996A7D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A720-5B0B-47D1-B169-2CE99FF0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41C3-898C-41C2-B249-6A143399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4063-B70A-4520-BD19-5A836760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C515-D4B9-4741-BC12-E08B5E95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87A4-A26B-4C7C-A7BC-B92A530C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0E5C-0135-4AA9-9DF5-C1B4F34A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1319-D263-4053-8EAC-AFAE5E90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62AF-7E8B-41F6-9F81-5505367B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2463-51F3-4B9C-9855-3F2560C6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F494-DDB2-4281-8E6B-712A0AA0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D5A9-388C-4A0A-9B2F-44E64E72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AC4A-699B-4354-B3A3-C1041C10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046F-70EE-46A7-A868-753540A8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8A92-B9EF-4FA4-90AB-AC3172FFB1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5257-F273-433F-BB7C-39DF0153622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dfdef6"/>
                </a:solidFill>
                <a:latin typeface="Ravie"/>
              </a:rPr>
              <a:t>Дієприслівник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соблива незмінна форма дієслова,що позначає додаткову дію, яка супроводжує іншу та відповідає на питання </a:t>
            </a:r>
            <a:r>
              <a:rPr b="0" i="1" lang="uk-UA" sz="2000" spc="-1" strike="noStrike">
                <a:solidFill>
                  <a:srgbClr val="ffffff"/>
                </a:solidFill>
                <a:latin typeface="Colonna MT"/>
              </a:rPr>
              <a:t>що роблячи? що зробивш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реченні найчастіше пов'язаний з дієсловом присудком і є обставин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Ознаки від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ієсл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час(теп. і майб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д(док. і недок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ислівни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змінні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лежність від присуд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начення обстав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61"/>
          <p:cNvSpPr/>
          <p:nvPr/>
        </p:nvSpPr>
        <p:spPr>
          <a:xfrm>
            <a:off x="5580000" y="126828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62"/>
          <p:cNvSpPr/>
          <p:nvPr/>
        </p:nvSpPr>
        <p:spPr>
          <a:xfrm flipH="1">
            <a:off x="1547280" y="1341360"/>
            <a:ext cx="1008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fdef6"/>
                </a:solidFill>
                <a:latin typeface="Arial"/>
              </a:rPr>
              <a:t>Дієприслівниковий зворо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е дієприслівник  із залежними від нього словами. У реченні є обставиною. Підкреслюється пунктиром з крапкою. На письмі виділяється комами. Але,якщо звороти стоять після дієслів і є фразеологізмами, їх комами не виділяю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1" i="1" lang="uk-UA" sz="4400" spc="-1" strike="noStrike">
                <a:solidFill>
                  <a:srgbClr val="dfdef6"/>
                </a:solidFill>
                <a:latin typeface="Tekton Pro"/>
              </a:rPr>
              <a:t>Творення дієприслівникі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–вши- -ш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-вши- -ши-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п.час: основа теперішнього часу + суфікси –учи- -юч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ачи- -яч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    </a:t>
            </a: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Послідовність розбору як форми       дієсло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ієприслівник,значення, пит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стійні морфологічні озна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нтаксична р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     </a:t>
            </a:r>
            <a:r>
              <a:rPr b="0" i="1" lang="uk-UA" sz="4400" spc="-1" strike="noStrike">
                <a:solidFill>
                  <a:srgbClr val="dfdef6"/>
                </a:solidFill>
                <a:latin typeface="Garamond Premr Pro"/>
              </a:rPr>
              <a:t>Не з дієприслівникам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аз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ільки ті, які без </a:t>
            </a:r>
            <a:r>
              <a:rPr b="0" i="1" lang="uk-UA" sz="2800" spc="-1" strike="noStrike">
                <a:solidFill>
                  <a:srgbClr val="ffffff"/>
                </a:solidFill>
                <a:latin typeface="Chiller"/>
              </a:rPr>
              <a:t>не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живаю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кре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усіх інших випад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05:29:48Z</dcterms:created>
  <dc:creator>Master</dc:creator>
  <dc:description/>
  <dc:language>en-US</dc:language>
  <cp:lastModifiedBy>LADY</cp:lastModifiedBy>
  <dcterms:modified xsi:type="dcterms:W3CDTF">2018-01-20T17:15:11Z</dcterms:modified>
  <cp:revision>6</cp:revision>
  <dc:subject/>
  <dc:title>Дієприслівник</dc:title>
</cp:coreProperties>
</file>