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0F21-E4B4-44BB-9777-211B1D56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9D6F-848C-4562-8E5B-AD4215C6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0217-4A96-4255-885D-C7B87DE7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10C1-FB48-4248-98F5-DFBD840E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B58B-B1AE-4B71-9195-0C2B3615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754B-0348-4972-B792-F8EB47A5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A16F-D568-4CC3-B6CF-1107BA65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DF40-3757-438C-9F68-B0038260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6109-4EF6-452D-A6FE-210001EB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BC40-37FE-40F2-988A-E5A16ABF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CC17-6BC7-4D64-991D-A6FC6A5F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1A4C-F860-4B96-9D34-3C3C54D1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5CC7-1E60-4A1E-9A94-18A74B42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BFBF-62BE-40DB-8641-766AB30E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E8F1-C6D5-4207-A650-01A6D7ED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E186-52EF-474E-BEAA-AAB9F66F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B8BC-2D2B-4706-AE4F-F3888A09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05F9-12C4-4BC4-AEA5-FE043C40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FD44-D776-4671-8E3C-54B4E540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1F2B-68AA-4B1D-97D2-8F2E73C6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3930-A87D-4ADC-8D6F-CE0D3182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C0F7-401A-4CF3-93B0-2A0E4596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8B67-B781-4D6F-894E-111AF492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1353-CAD9-424D-8E94-5AA071E0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4209-2A3E-43DA-827E-9F7F34F97E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E3B9-0FEC-47F4-910A-DA7D2EAE696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dfdef6"/>
                </a:solidFill>
                <a:latin typeface="Ravie"/>
              </a:rPr>
              <a:t>Дієприслівник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соблива незмінна форма дієслова,що позначає додаткову дію, яка супроводжує іншу та відповідає на питання </a:t>
            </a:r>
            <a:r>
              <a:rPr b="0" i="1" lang="uk-UA" sz="2000" spc="-1" strike="noStrike">
                <a:solidFill>
                  <a:srgbClr val="ffffff"/>
                </a:solidFill>
                <a:latin typeface="Colonna MT"/>
              </a:rPr>
              <a:t>що роблячи? що зробивш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 реченні найчастіше пов'язаний з дієсловом присудком і є обставино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Ознаки від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ієсло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час(теп. і майб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д(док. і недок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рислівни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змінні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лежність від присуд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начення обстав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61"/>
          <p:cNvSpPr/>
          <p:nvPr/>
        </p:nvSpPr>
        <p:spPr>
          <a:xfrm>
            <a:off x="5580000" y="1268280"/>
            <a:ext cx="936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62"/>
          <p:cNvSpPr/>
          <p:nvPr/>
        </p:nvSpPr>
        <p:spPr>
          <a:xfrm flipH="1">
            <a:off x="1547280" y="1341360"/>
            <a:ext cx="1008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fdef6"/>
                </a:solidFill>
                <a:latin typeface="Arial"/>
              </a:rPr>
              <a:t>Дієприслівниковий зворо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Це дієприслівник  із залежними від нього словами. У реченні є обставиною. Підкреслюється пунктиром з крапкою. На письмі виділяється комами. Але,якщо звороти стоять після дієслів і є фразеологізмами, їх комами не виділяю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1" i="1" lang="uk-UA" sz="4400" spc="-1" strike="noStrike">
                <a:solidFill>
                  <a:srgbClr val="dfdef6"/>
                </a:solidFill>
                <a:latin typeface="Tekton Pro"/>
              </a:rPr>
              <a:t>Творення дієприслівникі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оконаний 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ин.час: основа інфінітива + суфікси –вши- -ш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доконаний 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ин.час: основа інфінітива + суфікси -вши- -ши-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п.час: основа теперішнього часу + суфікси –учи- -ючи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ачи- -яч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dfdef6"/>
                </a:solidFill>
                <a:latin typeface="Corbel"/>
              </a:rPr>
              <a:t>    </a:t>
            </a:r>
            <a:r>
              <a:rPr b="0" i="1" lang="uk-UA" sz="4000" spc="-1" strike="noStrike">
                <a:solidFill>
                  <a:srgbClr val="dfdef6"/>
                </a:solidFill>
                <a:latin typeface="Corbel"/>
              </a:rPr>
              <a:t>Послідовність розбору як форми       дієслов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ієприслівник,значення, питанн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стійні морфологічні озна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интаксична р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        </a:t>
            </a:r>
            <a:r>
              <a:rPr b="0" i="1" lang="uk-UA" sz="4400" spc="-1" strike="noStrike">
                <a:solidFill>
                  <a:srgbClr val="dfdef6"/>
                </a:solidFill>
                <a:latin typeface="Garamond Premr Pro"/>
              </a:rPr>
              <a:t>Не з дієприслівникам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аз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ільки ті, які без </a:t>
            </a:r>
            <a:r>
              <a:rPr b="0" i="1" lang="uk-UA" sz="2800" spc="-1" strike="noStrike">
                <a:solidFill>
                  <a:srgbClr val="ffffff"/>
                </a:solidFill>
                <a:latin typeface="Chiller"/>
              </a:rPr>
              <a:t>не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живаю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кре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 усіх інших випад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4T05:29:48Z</dcterms:created>
  <dc:creator>Master</dc:creator>
  <dc:description/>
  <dc:language>en-US</dc:language>
  <cp:lastModifiedBy>LADY</cp:lastModifiedBy>
  <dcterms:modified xsi:type="dcterms:W3CDTF">2018-01-20T17:15:11Z</dcterms:modified>
  <cp:revision>6</cp:revision>
  <dc:subject/>
  <dc:title>Дієприслівник</dc:title>
</cp:coreProperties>
</file>