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8053-67A1-4CF9-9D3F-62AE87A8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2BEC-FA33-4CB1-9F33-98E72664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A535-1B66-4E58-9DAD-19660B5B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F7B7-DB72-47EC-8A5B-FA7EF66A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E6EE-C925-44E0-815E-259F6786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50B5-C7F3-481A-80C9-F284DE70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AE1C-1596-4FE1-A0F9-C807B036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4690-1102-4CA7-8AB1-174E4AA2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631A-FCDD-460F-A4D0-5CA87E7C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A77E-FD55-47B0-A3E1-625A0FB5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F9FB-25AC-4C79-96BE-A566902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EA54-46BD-4CD2-A3D7-D9C13624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991E-1CF8-4EDB-BEF6-C5154933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4EFA-FF48-4757-A954-3156B771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F298-0C68-47C1-A683-14BF1086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A0DC-EF9E-4386-BC6D-DD65A236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7EE6-21BA-4389-A65B-65DFD16F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404A-DA0F-4F7F-8DFD-C60C9B1A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244E-3335-4DC7-8E7A-3F2BC135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DE9A-347E-45FB-A6AD-97869606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9ECB-9AD2-42A0-B5DE-BECD5A96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5145-2AD7-4D31-B0B4-0A2EB387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0549-E9CA-4A87-B538-5831121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35C8-AF7D-4A31-977D-AD63DAE8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F6A-91B2-4C7A-95E4-4C9FE58D91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36D0-5008-4316-9B1A-00989B8C78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dfdef6"/>
                </a:solidFill>
                <a:latin typeface="Ravie"/>
              </a:rPr>
              <a:t>Дієприслівник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соблива незмінна форма дієслова,що позначає додаткову дію, яка супроводжує іншу та відповідає на питання </a:t>
            </a:r>
            <a:r>
              <a:rPr b="0" i="1" lang="uk-UA" sz="2000" spc="-1" strike="noStrike">
                <a:solidFill>
                  <a:srgbClr val="ffffff"/>
                </a:solidFill>
                <a:latin typeface="Colonna MT"/>
              </a:rPr>
              <a:t>що роблячи? що зробивш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реченні найчастіше пов'язаний з дієсловом присудком і є обставин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Ознаки ві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є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ас(теп. і майб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д(док. і недок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ислівн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змінні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лежність від прису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начення обстав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61"/>
          <p:cNvSpPr/>
          <p:nvPr/>
        </p:nvSpPr>
        <p:spPr>
          <a:xfrm>
            <a:off x="5580000" y="126828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62"/>
          <p:cNvSpPr/>
          <p:nvPr/>
        </p:nvSpPr>
        <p:spPr>
          <a:xfrm flipH="1">
            <a:off x="1547280" y="1341360"/>
            <a:ext cx="1008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fdef6"/>
                </a:solidFill>
                <a:latin typeface="Arial"/>
              </a:rPr>
              <a:t>Дієприслівниковий зворо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е дієприслівник  із залежними від нього словами. У реченні є обставиною. Підкреслюється пунктиром з крапкою. На письмі виділяється комами. Але,якщо звороти стоять після дієслів і є фразеологізмами, їх комами не виділяю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1" i="1" lang="uk-UA" sz="4400" spc="-1" strike="noStrike">
                <a:solidFill>
                  <a:srgbClr val="dfdef6"/>
                </a:solidFill>
                <a:latin typeface="Tekton Pro"/>
              </a:rPr>
              <a:t>Творення дієприслівникі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–вши- -ш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-вши- -ши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п.час: основа теперішнього часу + суфікси –учи- -юч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ачи- -яч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    </a:t>
            </a: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Послідовність розбору як форми       дієсло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ієприслівник,значення, пит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стійні морфологічні озна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нтаксична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     </a:t>
            </a:r>
            <a:r>
              <a:rPr b="0" i="1" lang="uk-UA" sz="4400" spc="-1" strike="noStrike">
                <a:solidFill>
                  <a:srgbClr val="dfdef6"/>
                </a:solidFill>
                <a:latin typeface="Garamond Premr Pro"/>
              </a:rPr>
              <a:t>Не з дієприслівникам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ільки ті, які без </a:t>
            </a:r>
            <a:r>
              <a:rPr b="0" i="1" lang="uk-UA" sz="2800" spc="-1" strike="noStrike">
                <a:solidFill>
                  <a:srgbClr val="ffffff"/>
                </a:solidFill>
                <a:latin typeface="Chiller"/>
              </a:rPr>
              <a:t>не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живаю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кр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усіх інших випад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05:29:48Z</dcterms:created>
  <dc:creator>Master</dc:creator>
  <dc:description/>
  <dc:language>en-US</dc:language>
  <cp:lastModifiedBy>LADY</cp:lastModifiedBy>
  <dcterms:modified xsi:type="dcterms:W3CDTF">2018-01-20T17:15:11Z</dcterms:modified>
  <cp:revision>6</cp:revision>
  <dc:subject/>
  <dc:title>Дієприслівник</dc:title>
</cp:coreProperties>
</file>