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FDCA-D4CC-4B89-B54A-97CB6716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09DC-DF96-4F79-9161-06C52761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E796-1C01-4814-89EB-8EF48704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C0CD-4EC9-46F8-A305-CDCE2DCF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6DA-4630-4F22-AF04-92EE1F0E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4677-BDE1-48DE-BA13-BF633CB8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6156-8DA2-4924-A78F-C74FE59D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92E-BB4D-47BA-A3AC-8314C22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E94-1DA3-4DFB-BD94-BC3FE05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C223-4FF4-4D75-9E4E-76B7D73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FA0A-A6D1-4D3D-9C4B-E3A198D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A856-C275-447B-B2B8-FFCFBC0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773-5C90-454F-88B9-4EE47D4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D2A-EFEE-4568-8D01-BFB47E3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358F-3F6E-4480-88D2-FE53C6D4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713-92B2-486C-A687-2EA4F7BE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BF6E-0030-4296-B2BA-5EF1F4F0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2C97-AF47-41F6-B00D-E19E2108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4789-1E1F-4F9B-B4D7-3A6999F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FE767-DE2A-4054-A958-4EF4998B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A354-BD71-405E-92E5-AB028439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13FC-34AA-412E-9E82-D5AAE48C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79D1-03C1-46E8-B096-C5C5EE6E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78F0F-B462-4F57-9E42-1C50B1BB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F7F6-1CAD-4364-BD8E-AC74D1B5BF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AD3A-DC0B-49DA-82D4-DADE3654D9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dfdef6"/>
                </a:solidFill>
                <a:latin typeface="Ravie"/>
              </a:rPr>
              <a:t>Дієприслівник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Особлива незмінна форма дієслова,що позначає додаткову дію, яка супроводжує іншу та відповідає на питання </a:t>
            </a:r>
            <a:r>
              <a:rPr b="0" i="1" lang="uk-UA" sz="2000" spc="-1" strike="noStrike">
                <a:solidFill>
                  <a:srgbClr val="ffffff"/>
                </a:solidFill>
                <a:latin typeface="Colonna MT"/>
              </a:rPr>
              <a:t>що роблячи? що зробивш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У реченні найчастіше пов'язаний з дієсловом присудком і є обставин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Ознаки від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ієслов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час(теп. і майб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ид(док. і недок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055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ислівни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змінніст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лежність від присуд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начення обстав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Line 61"/>
          <p:cNvSpPr/>
          <p:nvPr/>
        </p:nvSpPr>
        <p:spPr>
          <a:xfrm>
            <a:off x="5580000" y="126828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Line 62"/>
          <p:cNvSpPr/>
          <p:nvPr/>
        </p:nvSpPr>
        <p:spPr>
          <a:xfrm flipH="1">
            <a:off x="1547280" y="1341360"/>
            <a:ext cx="100836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dfdef6"/>
                </a:solidFill>
                <a:latin typeface="Arial"/>
              </a:rPr>
              <a:t>Дієприслівниковий зворо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дієприслівник  із залежними від нього словами. У реченні є обставиною. Підкреслюється пунктиром з крапкою. На письмі виділяється комами. Але,якщо звороти стоять після дієслів і є фразеологізмами, їх комами не виділяют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</a:t>
            </a:r>
            <a:r>
              <a:rPr b="1" i="1" lang="uk-UA" sz="4400" spc="-1" strike="noStrike">
                <a:solidFill>
                  <a:srgbClr val="dfdef6"/>
                </a:solidFill>
                <a:latin typeface="Tekton Pro"/>
              </a:rPr>
              <a:t>Творення дієприслівників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–вши- -ш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доконаний ви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ин.час: основа інфінітива + суфікси -вши- -ши-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еп.час: основа теперішнього часу + суфікси –учи- -ючи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-ачи- -ячи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    </a:t>
            </a:r>
            <a:r>
              <a:rPr b="0" i="1" lang="uk-UA" sz="4000" spc="-1" strike="noStrike">
                <a:solidFill>
                  <a:srgbClr val="dfdef6"/>
                </a:solidFill>
                <a:latin typeface="Corbel"/>
              </a:rPr>
              <a:t>Послідовність розбору як форми       дієслов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ієприслівник,значення, пит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стійні морфологічні озна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таксична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ef6"/>
                </a:solidFill>
                <a:latin typeface="Arial"/>
              </a:rPr>
              <a:t>        </a:t>
            </a:r>
            <a:r>
              <a:rPr b="0" i="1" lang="uk-UA" sz="4400" spc="-1" strike="noStrike">
                <a:solidFill>
                  <a:srgbClr val="dfdef6"/>
                </a:solidFill>
                <a:latin typeface="Garamond Premr Pro"/>
              </a:rPr>
              <a:t>Не з дієприслівникам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Разо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тільки ті, які без </a:t>
            </a:r>
            <a:r>
              <a:rPr b="0" i="1" lang="uk-UA" sz="2800" spc="-1" strike="noStrike">
                <a:solidFill>
                  <a:srgbClr val="ffffff"/>
                </a:solidFill>
                <a:latin typeface="Chiller"/>
              </a:rPr>
              <a:t>не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живають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кре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усіх інших випадк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4T05:29:48Z</dcterms:created>
  <dc:creator>Master</dc:creator>
  <dc:description/>
  <dc:language>en-US</dc:language>
  <cp:lastModifiedBy>LADY</cp:lastModifiedBy>
  <dcterms:modified xsi:type="dcterms:W3CDTF">2018-01-20T17:15:11Z</dcterms:modified>
  <cp:revision>6</cp:revision>
  <dc:subject/>
  <dc:title>Дієприслівник</dc:title>
</cp:coreProperties>
</file>