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24.jpeg" ContentType="image/jpeg"/>
  <Override PartName="/ppt/media/image3.jpeg" ContentType="image/jpeg"/>
  <Override PartName="/ppt/media/image67.png" ContentType="image/png"/>
  <Override PartName="/ppt/media/image37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69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2.jpeg" ContentType="image/jpeg"/>
  <Override PartName="/ppt/media/image19.jpeg" ContentType="image/jpeg"/>
  <Override PartName="/ppt/media/image62.png" ContentType="image/png"/>
  <Override PartName="/ppt/media/image51.jpeg" ContentType="image/jpeg"/>
  <Override PartName="/ppt/media/image60.png" ContentType="image/png"/>
  <Override PartName="/ppt/media/image6.jpeg" ContentType="image/jpeg"/>
  <Override PartName="/ppt/media/image21.jpeg" ContentType="image/jpeg"/>
  <Override PartName="/ppt/media/image65.png" ContentType="image/png"/>
  <Override PartName="/ppt/media/image18.jpeg" ContentType="image/jpeg"/>
  <Override PartName="/ppt/media/image63.png" ContentType="image/png"/>
  <Override PartName="/ppt/media/image17.jpeg" ContentType="image/jpeg"/>
  <Override PartName="/ppt/media/image4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50.jpeg" ContentType="image/jpeg"/>
  <Override PartName="/ppt/media/image52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EFA-27CD-43BF-96A0-02C97E95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987-4D19-4697-9960-3BBBF702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F2E-130F-4BC3-A7FD-85687C9F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D25-FBA1-4E46-BA43-F42BD2E4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293FD-91B4-4965-900C-C6C69A52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58DB-023B-4E19-AA8B-81BB8FD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93226-087F-471B-ADA1-81420FCA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D0E69-ACF3-4CA8-9E07-1DC4171A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1DDB-CB60-4C5D-8727-8B9350A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64654-B9F1-4A3A-84D7-CE368D43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618A1-0370-4882-87C4-B0713969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18D-1B95-4A62-8C83-2CF29C95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BC251-A242-4806-B7DF-8D5D01E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EDC7F-14E4-4D90-935D-456B08DB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FE2D-0C43-4893-9640-F13022FD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1028E-9695-4E60-A155-6B519BEC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DD4F8-A4B2-484F-A9F5-E8A6B510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E20-82F3-449E-BA90-D1D93421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0DF-833E-478D-9FEB-A17341FC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331-58C1-4061-8716-5F27B4B4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261-8B53-46D2-88AC-44F640D6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88C-A75F-403C-B36D-49496CD9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A3E-C744-44DC-AD8F-FC227F5A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242-CEA2-4E34-8100-E5096CF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F403-72FB-4D95-B0B1-E4A7BBBD9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6703-769A-4F2B-BCC0-8F8E90B8B9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ffffff"/>
                </a:solidFill>
                <a:uFillTx/>
                <a:latin typeface="Tahoma"/>
              </a:rPr>
              <a:t>Тема уроку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0920" y="2565000"/>
            <a:ext cx="7777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Tahoma"/>
              </a:rPr>
              <a:t>Мета урок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ивати просторову уя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робляти навички самоконтролю    за трудовими діям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ховувати відповідальність за якість виконаної робо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3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26028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33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26028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33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33336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3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87280" y="260280"/>
            <a:ext cx="6939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3 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87280" y="260280"/>
            <a:ext cx="6939000" cy="6176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68360" y="189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аралельно-косокутне 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44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476280"/>
            <a:ext cx="61754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44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476280"/>
            <a:ext cx="6174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44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03280" y="476280"/>
            <a:ext cx="61768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4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476280"/>
            <a:ext cx="61754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4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476280"/>
            <a:ext cx="617400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116000" y="1125360"/>
            <a:ext cx="6840720" cy="535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иклад 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44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476280"/>
            <a:ext cx="6175440" cy="5992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84360" y="333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ahoma"/>
              </a:rPr>
              <a:t>Паралельно-прямокутне проеціюв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141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Приклади проекцій різних фігур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66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93800" y="907920"/>
            <a:ext cx="555012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66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981000"/>
            <a:ext cx="52401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66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981000"/>
            <a:ext cx="541188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6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63640" y="907920"/>
            <a:ext cx="55310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риклади проекцій складних деталей на одну площину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5 а"/>
          <p:cNvPicPr/>
          <p:nvPr/>
        </p:nvPicPr>
        <p:blipFill>
          <a:blip r:embed="rId1"/>
          <a:stretch/>
        </p:blipFill>
        <p:spPr>
          <a:xfrm>
            <a:off x="971640" y="476280"/>
            <a:ext cx="73342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55 б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5 г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2 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2944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55 д"/>
          <p:cNvPicPr/>
          <p:nvPr/>
        </p:nvPicPr>
        <p:blipFill>
          <a:blip r:embed="rId1"/>
          <a:stretch/>
        </p:blipFill>
        <p:spPr>
          <a:xfrm>
            <a:off x="900000" y="476280"/>
            <a:ext cx="7347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55 е"/>
          <p:cNvPicPr/>
          <p:nvPr/>
        </p:nvPicPr>
        <p:blipFill>
          <a:blip r:embed="rId1"/>
          <a:stretch/>
        </p:blipFill>
        <p:spPr>
          <a:xfrm>
            <a:off x="90000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55 ж"/>
          <p:cNvPicPr/>
          <p:nvPr/>
        </p:nvPicPr>
        <p:blipFill>
          <a:blip r:embed="rId1"/>
          <a:stretch/>
        </p:blipFill>
        <p:spPr>
          <a:xfrm>
            <a:off x="971640" y="404640"/>
            <a:ext cx="73342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55 з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55 л"/>
          <p:cNvPicPr/>
          <p:nvPr/>
        </p:nvPicPr>
        <p:blipFill>
          <a:blip r:embed="rId1"/>
          <a:stretch/>
        </p:blipFill>
        <p:spPr>
          <a:xfrm>
            <a:off x="90000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55 м"/>
          <p:cNvPicPr/>
          <p:nvPr/>
        </p:nvPicPr>
        <p:blipFill>
          <a:blip r:embed="rId1"/>
          <a:stretch/>
        </p:blipFill>
        <p:spPr>
          <a:xfrm>
            <a:off x="90000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55 н"/>
          <p:cNvPicPr/>
          <p:nvPr/>
        </p:nvPicPr>
        <p:blipFill>
          <a:blip r:embed="rId1"/>
          <a:stretch/>
        </p:blipFill>
        <p:spPr>
          <a:xfrm>
            <a:off x="971640" y="549360"/>
            <a:ext cx="733428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1280" y="981000"/>
            <a:ext cx="777240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риклади проекцій складних деталей на дві площини (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V, H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88-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8-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2 б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247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88-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35280" y="549360"/>
            <a:ext cx="54054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88-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476280"/>
            <a:ext cx="54054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88-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549360"/>
            <a:ext cx="54054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88-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54936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88-ж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88 л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404640"/>
            <a:ext cx="54054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88 о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54936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88 о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88 п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88 р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2 в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312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88 с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88 т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88 у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88 ф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76280"/>
            <a:ext cx="5403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88 я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09800" y="404640"/>
            <a:ext cx="540396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Розгорнемо наші площини з вигляд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2050920" y="1774800"/>
          <a:ext cx="52578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74800"/>
                    <a:ext cx="52578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27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Tahoma"/>
              </a:rPr>
              <a:t>Накреслимо їх на форматі А4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99а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99б"/>
          <p:cNvPicPr/>
          <p:nvPr/>
        </p:nvPicPr>
        <p:blipFill>
          <a:blip r:embed="rId1"/>
          <a:stretch/>
        </p:blipFill>
        <p:spPr>
          <a:xfrm>
            <a:off x="611280" y="83664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99в"/>
          <p:cNvPicPr/>
          <p:nvPr/>
        </p:nvPicPr>
        <p:blipFill>
          <a:blip r:embed="rId1"/>
          <a:stretch/>
        </p:blipFill>
        <p:spPr>
          <a:xfrm>
            <a:off x="61920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22 г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260280"/>
            <a:ext cx="62312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99в1"/>
          <p:cNvPicPr/>
          <p:nvPr/>
        </p:nvPicPr>
        <p:blipFill>
          <a:blip r:embed="rId1"/>
          <a:stretch/>
        </p:blipFill>
        <p:spPr>
          <a:xfrm>
            <a:off x="611280" y="69228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99в2"/>
          <p:cNvPicPr/>
          <p:nvPr/>
        </p:nvPicPr>
        <p:blipFill>
          <a:blip r:embed="rId1"/>
          <a:stretch/>
        </p:blipFill>
        <p:spPr>
          <a:xfrm>
            <a:off x="539640" y="836640"/>
            <a:ext cx="791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99г"/>
          <p:cNvPicPr/>
          <p:nvPr/>
        </p:nvPicPr>
        <p:blipFill>
          <a:blip r:embed="rId1"/>
          <a:stretch/>
        </p:blipFill>
        <p:spPr>
          <a:xfrm>
            <a:off x="546120" y="83664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99д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99е"/>
          <p:cNvPicPr/>
          <p:nvPr/>
        </p:nvPicPr>
        <p:blipFill>
          <a:blip r:embed="rId1"/>
          <a:stretch/>
        </p:blipFill>
        <p:spPr>
          <a:xfrm>
            <a:off x="68436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99ж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99з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99л"/>
          <p:cNvPicPr/>
          <p:nvPr/>
        </p:nvPicPr>
        <p:blipFill>
          <a:blip r:embed="rId1"/>
          <a:stretch/>
        </p:blipFill>
        <p:spPr>
          <a:xfrm>
            <a:off x="619200" y="69228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99м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99н"/>
          <p:cNvPicPr/>
          <p:nvPr/>
        </p:nvPicPr>
        <p:blipFill>
          <a:blip r:embed="rId1"/>
          <a:stretch/>
        </p:blipFill>
        <p:spPr>
          <a:xfrm>
            <a:off x="54612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2 д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477800" y="333360"/>
            <a:ext cx="62312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99о1"/>
          <p:cNvPicPr/>
          <p:nvPr/>
        </p:nvPicPr>
        <p:blipFill>
          <a:blip r:embed="rId1"/>
          <a:stretch/>
        </p:blipFill>
        <p:spPr>
          <a:xfrm>
            <a:off x="68436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99о2"/>
          <p:cNvPicPr/>
          <p:nvPr/>
        </p:nvPicPr>
        <p:blipFill>
          <a:blip r:embed="rId1"/>
          <a:stretch/>
        </p:blipFill>
        <p:spPr>
          <a:xfrm>
            <a:off x="690480" y="765000"/>
            <a:ext cx="7913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99п"/>
          <p:cNvPicPr/>
          <p:nvPr/>
        </p:nvPicPr>
        <p:blipFill>
          <a:blip r:embed="rId1"/>
          <a:stretch/>
        </p:blipFill>
        <p:spPr>
          <a:xfrm>
            <a:off x="611280" y="765000"/>
            <a:ext cx="79135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99р"/>
          <p:cNvPicPr/>
          <p:nvPr/>
        </p:nvPicPr>
        <p:blipFill>
          <a:blip r:embed="rId1"/>
          <a:stretch/>
        </p:blipFill>
        <p:spPr>
          <a:xfrm>
            <a:off x="619200" y="836640"/>
            <a:ext cx="79135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Щоб краще орінтуватись великій кількості променів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c121c"/>
                </a:solidFill>
                <a:latin typeface="Tahoma"/>
              </a:rPr>
              <a:t>Зайві промені витираємо, а ті, які входять в площину, позначимо іншим кольор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8"/>
          <p:cNvGraphicFramePr/>
          <p:nvPr/>
        </p:nvGraphicFramePr>
        <p:xfrm>
          <a:off x="900000" y="596880"/>
          <a:ext cx="733752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96880"/>
                    <a:ext cx="733752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u="sng">
                <a:solidFill>
                  <a:srgbClr val="ffffff"/>
                </a:solidFill>
                <a:uFillTx/>
                <a:latin typeface="Tahoma"/>
              </a:rPr>
              <a:t>Висновок: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Маючи дві проекції, ми можемо побудувати третю, використовуючи при цьому допоміжну прям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22 е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333360"/>
            <a:ext cx="6232680" cy="6176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ahoma"/>
              </a:rPr>
              <a:t>Центральне проеціюванн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121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3а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16000" y="333360"/>
            <a:ext cx="694044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4:03:13Z</dcterms:created>
  <dc:creator>komp</dc:creator>
  <dc:description/>
  <dc:language>en-US</dc:language>
  <cp:lastModifiedBy>User</cp:lastModifiedBy>
  <dcterms:modified xsi:type="dcterms:W3CDTF">2020-01-30T10:41:15Z</dcterms:modified>
  <cp:revision>49</cp:revision>
  <dc:subject/>
  <dc:title>Тема уроку: Проеціювання</dc:title>
</cp:coreProperties>
</file>