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6.png" ContentType="image/png"/>
  <Override PartName="/ppt/media/image40.jpeg" ContentType="image/jpeg"/>
  <Override PartName="/ppt/media/image53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55.png" ContentType="image/png"/>
  <Override PartName="/ppt/media/image20.jpeg" ContentType="image/jpeg"/>
  <Override PartName="/ppt/media/image59.png" ContentType="image/png"/>
  <Override PartName="/ppt/media/image24.jpeg" ContentType="image/jpeg"/>
  <Override PartName="/ppt/media/image3.jpeg" ContentType="image/jpeg"/>
  <Override PartName="/ppt/media/image67.png" ContentType="image/png"/>
  <Override PartName="/ppt/media/image37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23.jpeg" ContentType="image/jpeg"/>
  <Override PartName="/ppt/media/image54.png" ContentType="image/png"/>
  <Override PartName="/ppt/media/image14.jpeg" ContentType="image/jpeg"/>
  <Override PartName="/ppt/media/image41.jpeg" ContentType="image/jpeg"/>
  <Override PartName="/ppt/media/image66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70.png" ContentType="image/png"/>
  <Override PartName="/ppt/media/image7.jpeg" ContentType="image/jpeg"/>
  <Override PartName="/ppt/media/image38.jpeg" ContentType="image/jpeg"/>
  <Override PartName="/ppt/media/image69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2.jpeg" ContentType="image/jpeg"/>
  <Override PartName="/ppt/media/image19.jpeg" ContentType="image/jpeg"/>
  <Override PartName="/ppt/media/image62.png" ContentType="image/png"/>
  <Override PartName="/ppt/media/image51.jpeg" ContentType="image/jpeg"/>
  <Override PartName="/ppt/media/image60.png" ContentType="image/png"/>
  <Override PartName="/ppt/media/image6.jpeg" ContentType="image/jpeg"/>
  <Override PartName="/ppt/media/image21.jpeg" ContentType="image/jpeg"/>
  <Override PartName="/ppt/media/image65.png" ContentType="image/png"/>
  <Override PartName="/ppt/media/image18.jpeg" ContentType="image/jpeg"/>
  <Override PartName="/ppt/media/image63.png" ContentType="image/png"/>
  <Override PartName="/ppt/media/image17.jpeg" ContentType="image/jpeg"/>
  <Override PartName="/ppt/media/image4.jpeg" ContentType="image/jpeg"/>
  <Override PartName="/ppt/media/image26.jpeg" ContentType="image/jpeg"/>
  <Override PartName="/ppt/media/image61.png" ContentType="image/png"/>
  <Override PartName="/ppt/media/image5.jpeg" ContentType="image/jpeg"/>
  <Override PartName="/ppt/media/image50.jpeg" ContentType="image/jpeg"/>
  <Override PartName="/ppt/media/image52.png" ContentType="image/pn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20A-B30B-4063-94F2-B25AA4AB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8159-C22A-4268-8E33-A950F517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6A0-789E-49E3-A92C-A6E941EF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27FD-3039-4351-9885-3CBB0E8F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E87E0-E645-441C-A589-B79558FA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59D80-D214-4A31-B3E9-F718AD1A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B08F8-2A18-4DA5-B3D1-F0677A9D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62EA4-E667-4D2B-9EB7-94FC0BDC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6D1F4-E2FC-40E8-8516-667572B8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41F60-5B93-46FD-9E5C-B12F2812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DBA12-147F-4853-B0B3-B080452F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0B0-6D81-4766-B2F1-5036B552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1ABC5-ACB1-4527-86B2-47990DB2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28463-BCF0-466B-A69A-907A381C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4DA35-4D26-45F2-8981-60D580F7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68877-1109-4998-B4A4-84B300AE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E3210-F4BA-4721-B938-2A8694CF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E66-BAA5-473F-8E66-65963416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9D9-D646-41E8-9407-609F88D9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F36-2DFE-4DCD-9BBD-7CD21C62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0754-0A91-4149-B429-225BECE0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0BDC-D39D-467B-B722-20200613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5452-7A25-4AA5-BA35-01E7D838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323-D637-4404-AFB3-5D2D7FD6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DE73-9466-4805-9F80-3118F82583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EEFB-D03C-4705-AA2A-0137004381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ffffff"/>
                </a:solidFill>
                <a:uFillTx/>
                <a:latin typeface="Tahoma"/>
              </a:rPr>
              <a:t>Тема уроку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uk-UA" sz="4400" spc="-1" strike="noStrike">
                <a:solidFill>
                  <a:srgbClr val="ffffff"/>
                </a:solidFill>
                <a:latin typeface="Arial Black"/>
              </a:rPr>
              <a:t>Проеціюван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0920" y="2565000"/>
            <a:ext cx="7777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Мета уроку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Розвивати просторову уяв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иробляти навички самоконтролю    за трудовими діям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иховувати відповідальність за якість виконаної робо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33б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116000" y="260280"/>
            <a:ext cx="694044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33в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116000" y="260280"/>
            <a:ext cx="694044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33г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116000" y="333360"/>
            <a:ext cx="694044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33д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187280" y="260280"/>
            <a:ext cx="693900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33 е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187280" y="260280"/>
            <a:ext cx="6939000" cy="61768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468360" y="1890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Паралельно-косокутне проеціюван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121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44а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547640" y="476280"/>
            <a:ext cx="617544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44б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477800" y="476280"/>
            <a:ext cx="617400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44в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403280" y="476280"/>
            <a:ext cx="617688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44г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547640" y="476280"/>
            <a:ext cx="617544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44д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477800" y="476280"/>
            <a:ext cx="617400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116000" y="1125360"/>
            <a:ext cx="6840720" cy="5357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Приклад проеціюван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44е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547640" y="476280"/>
            <a:ext cx="6175440" cy="5992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684360" y="33336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Паралельно-прямокутне проеціюван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121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1413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ahoma"/>
              </a:rPr>
              <a:t>Приклади проекцій різних фігур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66а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693800" y="907920"/>
            <a:ext cx="555012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66б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79640" y="981000"/>
            <a:ext cx="52401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66в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981000"/>
            <a:ext cx="541188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66г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763640" y="907920"/>
            <a:ext cx="55310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3808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Приклади проекцій складних деталей на одну площину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55 а"/>
          <p:cNvPicPr/>
          <p:nvPr/>
        </p:nvPicPr>
        <p:blipFill>
          <a:blip r:embed="rId1"/>
          <a:stretch/>
        </p:blipFill>
        <p:spPr>
          <a:xfrm>
            <a:off x="971640" y="476280"/>
            <a:ext cx="733428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55 б"/>
          <p:cNvPicPr/>
          <p:nvPr/>
        </p:nvPicPr>
        <p:blipFill>
          <a:blip r:embed="rId1"/>
          <a:stretch/>
        </p:blipFill>
        <p:spPr>
          <a:xfrm>
            <a:off x="971640" y="549360"/>
            <a:ext cx="733428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55 г"/>
          <p:cNvPicPr/>
          <p:nvPr/>
        </p:nvPicPr>
        <p:blipFill>
          <a:blip r:embed="rId1"/>
          <a:stretch/>
        </p:blipFill>
        <p:spPr>
          <a:xfrm>
            <a:off x="971640" y="549360"/>
            <a:ext cx="733428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2 а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477800" y="333360"/>
            <a:ext cx="622944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55 д"/>
          <p:cNvPicPr/>
          <p:nvPr/>
        </p:nvPicPr>
        <p:blipFill>
          <a:blip r:embed="rId1"/>
          <a:stretch/>
        </p:blipFill>
        <p:spPr>
          <a:xfrm>
            <a:off x="900000" y="476280"/>
            <a:ext cx="734724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55 е"/>
          <p:cNvPicPr/>
          <p:nvPr/>
        </p:nvPicPr>
        <p:blipFill>
          <a:blip r:embed="rId1"/>
          <a:stretch/>
        </p:blipFill>
        <p:spPr>
          <a:xfrm>
            <a:off x="900000" y="549360"/>
            <a:ext cx="733428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55 ж"/>
          <p:cNvPicPr/>
          <p:nvPr/>
        </p:nvPicPr>
        <p:blipFill>
          <a:blip r:embed="rId1"/>
          <a:stretch/>
        </p:blipFill>
        <p:spPr>
          <a:xfrm>
            <a:off x="971640" y="404640"/>
            <a:ext cx="733428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55 з"/>
          <p:cNvPicPr/>
          <p:nvPr/>
        </p:nvPicPr>
        <p:blipFill>
          <a:blip r:embed="rId1"/>
          <a:stretch/>
        </p:blipFill>
        <p:spPr>
          <a:xfrm>
            <a:off x="971640" y="549360"/>
            <a:ext cx="733428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55 л"/>
          <p:cNvPicPr/>
          <p:nvPr/>
        </p:nvPicPr>
        <p:blipFill>
          <a:blip r:embed="rId1"/>
          <a:stretch/>
        </p:blipFill>
        <p:spPr>
          <a:xfrm>
            <a:off x="900000" y="549360"/>
            <a:ext cx="733428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55 м"/>
          <p:cNvPicPr/>
          <p:nvPr/>
        </p:nvPicPr>
        <p:blipFill>
          <a:blip r:embed="rId1"/>
          <a:stretch/>
        </p:blipFill>
        <p:spPr>
          <a:xfrm>
            <a:off x="900000" y="549360"/>
            <a:ext cx="733428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55 н"/>
          <p:cNvPicPr/>
          <p:nvPr/>
        </p:nvPicPr>
        <p:blipFill>
          <a:blip r:embed="rId1"/>
          <a:stretch/>
        </p:blipFill>
        <p:spPr>
          <a:xfrm>
            <a:off x="971640" y="549360"/>
            <a:ext cx="733428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611280" y="981000"/>
            <a:ext cx="777240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Приклади проекцій складних деталей на дві площини (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V, H</a:t>
            </a: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88-а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404640"/>
            <a:ext cx="540396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88-б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404640"/>
            <a:ext cx="540396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22 б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477800" y="333360"/>
            <a:ext cx="622476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88-в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835280" y="549360"/>
            <a:ext cx="540540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88-г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79640" y="476280"/>
            <a:ext cx="540540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88-д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79640" y="549360"/>
            <a:ext cx="540540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88-е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549360"/>
            <a:ext cx="54039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88-ж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476280"/>
            <a:ext cx="54039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88 л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79640" y="404640"/>
            <a:ext cx="540540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88 о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549360"/>
            <a:ext cx="54039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88 о1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404640"/>
            <a:ext cx="540396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88 п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404640"/>
            <a:ext cx="540396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88 р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404640"/>
            <a:ext cx="540396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22 в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477800" y="333360"/>
            <a:ext cx="623124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88 с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404640"/>
            <a:ext cx="540396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88 т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476280"/>
            <a:ext cx="54039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88 у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476280"/>
            <a:ext cx="54039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88 ф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476280"/>
            <a:ext cx="54039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88 я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404640"/>
            <a:ext cx="540396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Розгорнемо наші площини з вигляда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Object 7"/>
          <p:cNvGraphicFramePr/>
          <p:nvPr/>
        </p:nvGraphicFramePr>
        <p:xfrm>
          <a:off x="2050920" y="1774800"/>
          <a:ext cx="5257800" cy="48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774800"/>
                    <a:ext cx="5257800" cy="48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27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ffff"/>
                </a:solidFill>
                <a:latin typeface="Tahoma"/>
              </a:rPr>
              <a:t>Накреслимо їх на форматі А4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99а"/>
          <p:cNvPicPr/>
          <p:nvPr/>
        </p:nvPicPr>
        <p:blipFill>
          <a:blip r:embed="rId1"/>
          <a:stretch/>
        </p:blipFill>
        <p:spPr>
          <a:xfrm>
            <a:off x="684360" y="765000"/>
            <a:ext cx="79214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99б"/>
          <p:cNvPicPr/>
          <p:nvPr/>
        </p:nvPicPr>
        <p:blipFill>
          <a:blip r:embed="rId1"/>
          <a:stretch/>
        </p:blipFill>
        <p:spPr>
          <a:xfrm>
            <a:off x="611280" y="836640"/>
            <a:ext cx="79135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99в"/>
          <p:cNvPicPr/>
          <p:nvPr/>
        </p:nvPicPr>
        <p:blipFill>
          <a:blip r:embed="rId1"/>
          <a:stretch/>
        </p:blipFill>
        <p:spPr>
          <a:xfrm>
            <a:off x="619200" y="765000"/>
            <a:ext cx="79135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22 г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477800" y="260280"/>
            <a:ext cx="623124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99в1"/>
          <p:cNvPicPr/>
          <p:nvPr/>
        </p:nvPicPr>
        <p:blipFill>
          <a:blip r:embed="rId1"/>
          <a:stretch/>
        </p:blipFill>
        <p:spPr>
          <a:xfrm>
            <a:off x="611280" y="692280"/>
            <a:ext cx="79135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99в2"/>
          <p:cNvPicPr/>
          <p:nvPr/>
        </p:nvPicPr>
        <p:blipFill>
          <a:blip r:embed="rId1"/>
          <a:stretch/>
        </p:blipFill>
        <p:spPr>
          <a:xfrm>
            <a:off x="539640" y="836640"/>
            <a:ext cx="79138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99г"/>
          <p:cNvPicPr/>
          <p:nvPr/>
        </p:nvPicPr>
        <p:blipFill>
          <a:blip r:embed="rId1"/>
          <a:stretch/>
        </p:blipFill>
        <p:spPr>
          <a:xfrm>
            <a:off x="546120" y="836640"/>
            <a:ext cx="79135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99д"/>
          <p:cNvPicPr/>
          <p:nvPr/>
        </p:nvPicPr>
        <p:blipFill>
          <a:blip r:embed="rId1"/>
          <a:stretch/>
        </p:blipFill>
        <p:spPr>
          <a:xfrm>
            <a:off x="611280" y="765000"/>
            <a:ext cx="79135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99е"/>
          <p:cNvPicPr/>
          <p:nvPr/>
        </p:nvPicPr>
        <p:blipFill>
          <a:blip r:embed="rId1"/>
          <a:stretch/>
        </p:blipFill>
        <p:spPr>
          <a:xfrm>
            <a:off x="684360" y="765000"/>
            <a:ext cx="79135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99ж"/>
          <p:cNvPicPr/>
          <p:nvPr/>
        </p:nvPicPr>
        <p:blipFill>
          <a:blip r:embed="rId1"/>
          <a:stretch/>
        </p:blipFill>
        <p:spPr>
          <a:xfrm>
            <a:off x="611280" y="765000"/>
            <a:ext cx="79135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99з"/>
          <p:cNvPicPr/>
          <p:nvPr/>
        </p:nvPicPr>
        <p:blipFill>
          <a:blip r:embed="rId1"/>
          <a:stretch/>
        </p:blipFill>
        <p:spPr>
          <a:xfrm>
            <a:off x="611280" y="765000"/>
            <a:ext cx="79135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99л"/>
          <p:cNvPicPr/>
          <p:nvPr/>
        </p:nvPicPr>
        <p:blipFill>
          <a:blip r:embed="rId1"/>
          <a:stretch/>
        </p:blipFill>
        <p:spPr>
          <a:xfrm>
            <a:off x="619200" y="692280"/>
            <a:ext cx="79135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99м"/>
          <p:cNvPicPr/>
          <p:nvPr/>
        </p:nvPicPr>
        <p:blipFill>
          <a:blip r:embed="rId1"/>
          <a:stretch/>
        </p:blipFill>
        <p:spPr>
          <a:xfrm>
            <a:off x="611280" y="765000"/>
            <a:ext cx="79135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99н"/>
          <p:cNvPicPr/>
          <p:nvPr/>
        </p:nvPicPr>
        <p:blipFill>
          <a:blip r:embed="rId1"/>
          <a:stretch/>
        </p:blipFill>
        <p:spPr>
          <a:xfrm>
            <a:off x="546120" y="765000"/>
            <a:ext cx="79135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22 д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477800" y="333360"/>
            <a:ext cx="623124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99о1"/>
          <p:cNvPicPr/>
          <p:nvPr/>
        </p:nvPicPr>
        <p:blipFill>
          <a:blip r:embed="rId1"/>
          <a:stretch/>
        </p:blipFill>
        <p:spPr>
          <a:xfrm>
            <a:off x="684360" y="765000"/>
            <a:ext cx="79135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99о2"/>
          <p:cNvPicPr/>
          <p:nvPr/>
        </p:nvPicPr>
        <p:blipFill>
          <a:blip r:embed="rId1"/>
          <a:stretch/>
        </p:blipFill>
        <p:spPr>
          <a:xfrm>
            <a:off x="690480" y="765000"/>
            <a:ext cx="79138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99п"/>
          <p:cNvPicPr/>
          <p:nvPr/>
        </p:nvPicPr>
        <p:blipFill>
          <a:blip r:embed="rId1"/>
          <a:stretch/>
        </p:blipFill>
        <p:spPr>
          <a:xfrm>
            <a:off x="611280" y="765000"/>
            <a:ext cx="79135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99р"/>
          <p:cNvPicPr/>
          <p:nvPr/>
        </p:nvPicPr>
        <p:blipFill>
          <a:blip r:embed="rId1"/>
          <a:stretch/>
        </p:blipFill>
        <p:spPr>
          <a:xfrm>
            <a:off x="619200" y="836640"/>
            <a:ext cx="79135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Щоб краще орінтуватись великій кількості променів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ec121c"/>
                </a:solidFill>
                <a:latin typeface="Tahoma"/>
              </a:rPr>
              <a:t>Зайві промені витираємо, а ті, які входять в площину, позначимо іншим кольоро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8"/>
          <p:cNvGraphicFramePr/>
          <p:nvPr/>
        </p:nvGraphicFramePr>
        <p:xfrm>
          <a:off x="900000" y="596880"/>
          <a:ext cx="733752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96880"/>
                    <a:ext cx="733752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 u="sng">
                <a:solidFill>
                  <a:srgbClr val="ffffff"/>
                </a:solidFill>
                <a:uFillTx/>
                <a:latin typeface="Tahoma"/>
              </a:rPr>
              <a:t>Висновок: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Tahoma"/>
              </a:rPr>
              <a:t>Маючи дві проекції, ми можемо побудувати третю, використовуючи при цьому допоміжну прям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121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22 е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547640" y="333360"/>
            <a:ext cx="6232680" cy="6176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ahoma"/>
              </a:rPr>
              <a:t>Центральне проеціюванн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121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33а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116000" y="333360"/>
            <a:ext cx="694044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4:03:13Z</dcterms:created>
  <dc:creator>komp</dc:creator>
  <dc:description/>
  <dc:language>en-US</dc:language>
  <cp:lastModifiedBy>User</cp:lastModifiedBy>
  <dcterms:modified xsi:type="dcterms:W3CDTF">2020-01-30T10:41:15Z</dcterms:modified>
  <cp:revision>49</cp:revision>
  <dc:subject/>
  <dc:title>Тема уроку: Проеціювання</dc:title>
</cp:coreProperties>
</file>