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E6D-A561-4B1F-A832-463FC87B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1F4-3376-471D-9351-921C329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D7A-7951-4D8C-B785-49B45D2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507-36BA-4FEF-A173-05146802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5358-3C29-456A-81F4-CF0620DE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9745-D951-4832-A77A-BE8A97E0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FDD1-9886-41E2-95BC-F55814B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5FF-34B8-4D3E-8748-EC05FAF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74CC-71D1-41E6-9AFA-BF77349E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5651-4B4D-4601-93F4-0922F882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3D6F-DFEA-4ACE-ADAE-CFAD51F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630-A8DE-4BCA-8730-A9618747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E29-4CCF-4AF5-A136-BA66A26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66BA-B4D4-486E-B084-6B5E097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99E2-A67A-40C7-B734-613E70FD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A6E-3920-4533-B930-CCFE40F2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505-CCA3-4357-AF83-0DA59F49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B7F-A57A-4A0F-B296-C60231D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9C9-D991-4504-8BBD-EA96FE9C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263-F7EF-4B5F-97E4-3CAB287C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E78-AF73-4978-A15A-6190D1B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DD5-CE51-4F9E-8B30-C707336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32F-3908-4EB8-82FC-7F090660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BA8-1DC0-4D16-B949-FB592F9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FA0C-99C5-4C74-B158-2936C0D352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76E-6877-4D1C-85A8-363677083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547640" y="2205000"/>
            <a:ext cx="5977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еціюв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153" name="Line 6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Text Box 12"/>
          <p:cNvSpPr/>
          <p:nvPr/>
        </p:nvSpPr>
        <p:spPr>
          <a:xfrm>
            <a:off x="3708360" y="4005360"/>
            <a:ext cx="482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a0aff"/>
                </a:solidFill>
                <a:latin typeface="Comic Sans MS"/>
              </a:rPr>
              <a:t>Солодуха Ярослав Трохимови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вчитель трудового навчання, кресленн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Полого – Вергунівської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ЗОШ І _ІІІ ступені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Переяслав – Хмельницького район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4378320" y="5950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3040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9900cc"/>
                </a:solidFill>
                <a:latin typeface="Comic Sans MS"/>
              </a:rPr>
              <a:t>Коли ми виконуємо креслення предмета, то наш погляд направлений перпендикулярно до площини. Таке проеціювання називають паралельни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Proekcii"/>
          <p:cNvPicPr/>
          <p:nvPr/>
        </p:nvPicPr>
        <p:blipFill>
          <a:blip r:embed="rId1"/>
          <a:stretch/>
        </p:blipFill>
        <p:spPr>
          <a:xfrm>
            <a:off x="3132000" y="1773360"/>
            <a:ext cx="5284800" cy="3457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655640" y="5445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В науці, техніці, виробництві використовують паралельне проєціювання, так як вони достатньо наглядні і виконувати їх набагато простіш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179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Застосування прямокутного проеціювання на практиці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9" descr="s19150709"/>
          <p:cNvPicPr/>
          <p:nvPr/>
        </p:nvPicPr>
        <p:blipFill>
          <a:blip r:embed="rId1"/>
          <a:stretch/>
        </p:blipFill>
        <p:spPr>
          <a:xfrm>
            <a:off x="1116000" y="1916280"/>
            <a:ext cx="2481120" cy="24843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218" name="Прямоугольник 3"/>
          <p:cNvSpPr/>
          <p:nvPr/>
        </p:nvSpPr>
        <p:spPr>
          <a:xfrm>
            <a:off x="611280" y="1268280"/>
            <a:ext cx="30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omic Sans MS"/>
              </a:rPr>
              <a:t>Побудова кресл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4067280" y="2133720"/>
            <a:ext cx="410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omic Sans MS"/>
              </a:rPr>
              <a:t>Отвес для перевірки вертикальності лінії сті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8" descr="stone29_clip_image002"/>
          <p:cNvPicPr/>
          <p:nvPr/>
        </p:nvPicPr>
        <p:blipFill>
          <a:blip r:embed="rId2"/>
          <a:stretch/>
        </p:blipFill>
        <p:spPr>
          <a:xfrm>
            <a:off x="5003640" y="3068640"/>
            <a:ext cx="2624400" cy="3097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2637000"/>
            <a:ext cx="85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3366"/>
                </a:solidFill>
                <a:latin typeface="Comic Sans MS"/>
              </a:rPr>
              <a:t>Якщо проецюючі промені паралельні між собою, то проеціювання називається </a:t>
            </a:r>
            <a:r>
              <a:rPr b="0" lang="uk-UA" sz="2400" spc="-1" strike="noStrike">
                <a:solidFill>
                  <a:srgbClr val="993366"/>
                </a:solidFill>
                <a:latin typeface="Comic Sans MS"/>
              </a:rPr>
              <a:t>паралельн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24000" y="26028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Comic Sans MS"/>
              </a:rPr>
              <a:t>Якщо проецюючі промені виходять з однієї точки то проеціювання називається </a:t>
            </a: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центральним</a:t>
            </a:r>
            <a:r>
              <a:rPr b="0" lang="ru-RU" sz="2400" spc="-1" strike="noStrike">
                <a:solidFill>
                  <a:srgbClr val="6600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2857680" cy="22672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95"/>
          <p:cNvSpPr/>
          <p:nvPr/>
        </p:nvSpPr>
        <p:spPr>
          <a:xfrm>
            <a:off x="179280" y="465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Косокутне проеціювання – це коли промені паралельні між собою і падають під куто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оугольник 96"/>
          <p:cNvSpPr/>
          <p:nvPr/>
        </p:nvSpPr>
        <p:spPr>
          <a:xfrm>
            <a:off x="3924360" y="3357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cc"/>
                </a:solidFill>
                <a:latin typeface="Comic Sans MS"/>
              </a:rPr>
              <a:t>Прямокутне проеціювання – це коли проецюючі промені перпендикулярні площині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0_3ef5b_d3d7e290_XL"/>
          <p:cNvPicPr/>
          <p:nvPr/>
        </p:nvPicPr>
        <p:blipFill>
          <a:blip r:embed="rId1"/>
          <a:stretch/>
        </p:blipFill>
        <p:spPr>
          <a:xfrm>
            <a:off x="-6480" y="-6480"/>
            <a:ext cx="3256200" cy="287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3682"/>
          <p:cNvPicPr/>
          <p:nvPr/>
        </p:nvPicPr>
        <p:blipFill>
          <a:blip r:embed="rId2"/>
          <a:stretch/>
        </p:blipFill>
        <p:spPr>
          <a:xfrm>
            <a:off x="4565520" y="306072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6600cc"/>
                </a:solidFill>
                <a:latin typeface="Comic Sans MS"/>
              </a:rPr>
              <a:t>Види проеціюванн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77040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Слово </a:t>
            </a:r>
            <a:r>
              <a:rPr b="0" lang="uk-UA" sz="3200" spc="-1" strike="noStrike">
                <a:solidFill>
                  <a:srgbClr val="cc0099"/>
                </a:solidFill>
                <a:latin typeface="Comic Sans MS"/>
              </a:rPr>
              <a:t>проекція</a:t>
            </a: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 виникло від латинського projection – кидання вперед. </a:t>
            </a:r>
            <a:br>
              <a:rPr sz="2800"/>
            </a:b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В даному випадку ми дивимось </a:t>
            </a:r>
            <a:br>
              <a:rPr sz="2800"/>
            </a:b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( кидаємо погляд) і зображуємо те, що бачимо, на площині аркушу папер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1844640"/>
            <a:ext cx="86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Comic Sans MS"/>
              </a:rPr>
              <a:t>Проеціювання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– процес отримання зображення предмета на площині за допомогою проецюючих промені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1100520" y="5805360"/>
            <a:ext cx="73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c3300"/>
                </a:solidFill>
                <a:latin typeface="Comic Sans MS"/>
              </a:rPr>
              <a:t>Проекция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- своєрідна тінь предм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5940360" y="1052640"/>
            <a:ext cx="211608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:\Мои документы\фото майстерня\dscn0856.jpg"/>
          <p:cNvPicPr/>
          <p:nvPr/>
        </p:nvPicPr>
        <p:blipFill>
          <a:blip r:embed="rId2"/>
          <a:srcRect l="0" t="16421" r="30220" b="4774"/>
          <a:stretch/>
        </p:blipFill>
        <p:spPr>
          <a:xfrm>
            <a:off x="539640" y="836640"/>
            <a:ext cx="273708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064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Види зображень на площині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16000" y="5229000"/>
            <a:ext cx="2016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Comic Sans MS"/>
              </a:rPr>
              <a:t>малюнок</a:t>
            </a: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718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Comic Sans MS"/>
              </a:rPr>
              <a:t>креслення</a:t>
            </a:r>
            <a:r>
              <a:rPr b="0" lang="uk-UA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09840" y="24199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Comic Sans MS"/>
              </a:rPr>
              <a:t>фотограф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84480" y="443844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00cc"/>
                </a:solidFill>
                <a:latin typeface="Comic Sans MS"/>
              </a:rPr>
              <a:t>рентгенівський знімок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49560" y="299952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66"/>
                </a:solidFill>
                <a:latin typeface="Comic Sans MS"/>
              </a:rPr>
              <a:t>відео та кінокад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9" descr="j0304933"/>
          <p:cNvPicPr/>
          <p:nvPr/>
        </p:nvPicPr>
        <p:blipFill>
          <a:blip r:embed="rId3"/>
          <a:stretch/>
        </p:blipFill>
        <p:spPr>
          <a:xfrm>
            <a:off x="6156360" y="4941720"/>
            <a:ext cx="1819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центр проец"/>
          <p:cNvPicPr/>
          <p:nvPr/>
        </p:nvPicPr>
        <p:blipFill>
          <a:blip r:embed="rId1"/>
          <a:stretch/>
        </p:blipFill>
        <p:spPr>
          <a:xfrm>
            <a:off x="3348000" y="1268280"/>
            <a:ext cx="496728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3456000" cy="252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оеціювання – це процес отримання проекції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В даному випадку з пучком світла та екраном ми бачимо приклад центрального проеціюванн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170028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Всі промені виходять з однієї точ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computer-projector-work_-800X800"/>
          <p:cNvPicPr/>
          <p:nvPr/>
        </p:nvPicPr>
        <p:blipFill>
          <a:blip r:embed="rId1"/>
          <a:stretch/>
        </p:blipFill>
        <p:spPr>
          <a:xfrm>
            <a:off x="3851280" y="836640"/>
            <a:ext cx="409716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projector"/>
          <p:cNvPicPr/>
          <p:nvPr/>
        </p:nvPicPr>
        <p:blipFill>
          <a:blip r:embed="rId2"/>
          <a:stretch/>
        </p:blipFill>
        <p:spPr>
          <a:xfrm>
            <a:off x="179280" y="3068640"/>
            <a:ext cx="2376720" cy="2197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1332000" y="0"/>
            <a:ext cx="50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a0aff"/>
                </a:solidFill>
                <a:latin typeface="Comic Sans MS"/>
              </a:rPr>
              <a:t>Застосування центрального проеціювання в житт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197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робота проектор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кінотеат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фотографія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aqua_tv_b"/>
          <p:cNvPicPr/>
          <p:nvPr/>
        </p:nvPicPr>
        <p:blipFill>
          <a:blip r:embed="rId3"/>
          <a:stretch/>
        </p:blipFill>
        <p:spPr>
          <a:xfrm>
            <a:off x="2843280" y="3068640"/>
            <a:ext cx="2665440" cy="257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3242"/>
          <p:cNvPicPr/>
          <p:nvPr/>
        </p:nvPicPr>
        <p:blipFill>
          <a:blip r:embed="rId4"/>
          <a:stretch/>
        </p:blipFill>
        <p:spPr>
          <a:xfrm>
            <a:off x="5724360" y="314172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9"/>
          <p:cNvSpPr/>
          <p:nvPr/>
        </p:nvSpPr>
        <p:spPr>
          <a:xfrm>
            <a:off x="1619280" y="573264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3366"/>
                </a:solidFill>
                <a:latin typeface="Comic Sans MS"/>
              </a:rPr>
              <a:t>Центральну проекцію часто називають персперкти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cc"/>
                </a:solidFill>
                <a:latin typeface="Comic Sans MS"/>
              </a:rPr>
              <a:t>Перспективу використовують при малюванні з натури, в архітектурі, будівництві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upr6"/>
          <p:cNvPicPr/>
          <p:nvPr/>
        </p:nvPicPr>
        <p:blipFill>
          <a:blip r:embed="rId1"/>
          <a:stretch/>
        </p:blipFill>
        <p:spPr>
          <a:xfrm>
            <a:off x="1187280" y="1341360"/>
            <a:ext cx="6048720" cy="208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95640" y="3212640"/>
            <a:ext cx="230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dom_6_6_fasad"/>
          <p:cNvPicPr/>
          <p:nvPr/>
        </p:nvPicPr>
        <p:blipFill>
          <a:blip r:embed="rId2"/>
          <a:srcRect l="3999" t="21994" r="0" b="12024"/>
          <a:stretch/>
        </p:blipFill>
        <p:spPr>
          <a:xfrm>
            <a:off x="4932360" y="2852640"/>
            <a:ext cx="3456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342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Існує інший метод проеціювання – паралельн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и такому методі проеціювання проецюючі промені паралельні один до одног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pic4"/>
          <p:cNvPicPr/>
          <p:nvPr/>
        </p:nvPicPr>
        <p:blipFill>
          <a:blip r:embed="rId1"/>
          <a:stretch/>
        </p:blipFill>
        <p:spPr>
          <a:xfrm>
            <a:off x="179280" y="1484280"/>
            <a:ext cx="3672000" cy="30592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1763640" y="5157720"/>
            <a:ext cx="6838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Якщо не очікувано піде дождь, а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наш Буратіно сховається під зонтиком, то ми побачимо, що каплі дождю падають паралельно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, і під зонтиком залишилося суха пляма, яка по формі повторює зонт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6" descr="buratino1"/>
          <p:cNvPicPr/>
          <p:nvPr/>
        </p:nvPicPr>
        <p:blipFill>
          <a:blip r:embed="rId2"/>
          <a:stretch/>
        </p:blipFill>
        <p:spPr>
          <a:xfrm>
            <a:off x="3838680" y="3500280"/>
            <a:ext cx="9302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M57081"/>
          <p:cNvPicPr/>
          <p:nvPr/>
        </p:nvPicPr>
        <p:blipFill>
          <a:blip r:embed="rId3"/>
          <a:stretch/>
        </p:blipFill>
        <p:spPr>
          <a:xfrm>
            <a:off x="5076720" y="184464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9528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Comic Sans MS"/>
              </a:rPr>
              <a:t>Прямокутне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– проецюючі промені проходять під прямим кутом до площини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00000" y="1159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араллельное проецію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4140360" y="2637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Comic Sans MS"/>
              </a:rPr>
              <a:t>Косокутне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– проецюючі промені проходять під кутом до площини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rcRect l="0" t="0" r="10522" b="0"/>
          <a:stretch/>
        </p:blipFill>
        <p:spPr>
          <a:xfrm>
            <a:off x="4356000" y="3573360"/>
            <a:ext cx="36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0" t="0" r="12378" b="0"/>
          <a:stretch/>
        </p:blipFill>
        <p:spPr>
          <a:xfrm>
            <a:off x="179280" y="1773360"/>
            <a:ext cx="3888000" cy="28191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ая соединительная линия 7"/>
          <p:cNvSpPr/>
          <p:nvPr/>
        </p:nvSpPr>
        <p:spPr>
          <a:xfrm>
            <a:off x="8028000" y="3573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Прямая соединительная линия 9"/>
          <p:cNvSpPr/>
          <p:nvPr/>
        </p:nvSpPr>
        <p:spPr>
          <a:xfrm>
            <a:off x="4067280" y="1773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552456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Comic Sans MS"/>
              </a:rPr>
              <a:t>Елементи проецію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350208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462760" y="56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геометрич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фігур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864120" y="45810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лощ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оекці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81320" y="1196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цюючі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804000" y="16851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екц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7" name="AutoShape 14"/>
          <p:cNvCxnSpPr/>
          <p:nvPr/>
        </p:nvCxnSpPr>
        <p:spPr>
          <a:xfrm>
            <a:off x="1763280" y="3350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08" name="Picture 15" descr="упрощение куба копия"/>
          <p:cNvPicPr/>
          <p:nvPr/>
        </p:nvPicPr>
        <p:blipFill>
          <a:blip r:embed="rId1"/>
          <a:stretch/>
        </p:blipFill>
        <p:spPr>
          <a:xfrm>
            <a:off x="2050920" y="1557360"/>
            <a:ext cx="4751640" cy="4062240"/>
          </a:xfrm>
          <a:prstGeom prst="rect">
            <a:avLst/>
          </a:prstGeom>
          <a:ln w="0">
            <a:noFill/>
          </a:ln>
        </p:spPr>
      </p:pic>
      <p:sp>
        <p:nvSpPr>
          <p:cNvPr id="209" name="Line 16"/>
          <p:cNvSpPr/>
          <p:nvPr/>
        </p:nvSpPr>
        <p:spPr>
          <a:xfrm flipV="1">
            <a:off x="3276720" y="4221000"/>
            <a:ext cx="5745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 flipH="1" flipV="1">
            <a:off x="6443640" y="3141720"/>
            <a:ext cx="100800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8"/>
          <p:cNvSpPr/>
          <p:nvPr/>
        </p:nvSpPr>
        <p:spPr>
          <a:xfrm flipH="1">
            <a:off x="5219640" y="1916280"/>
            <a:ext cx="1657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763640" y="1557360"/>
            <a:ext cx="266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6:51:50Z</dcterms:created>
  <dc:creator>Вован</dc:creator>
  <dc:description/>
  <dc:language>en-US</dc:language>
  <cp:lastModifiedBy>Користувач</cp:lastModifiedBy>
  <dcterms:modified xsi:type="dcterms:W3CDTF">2013-10-30T16:39:55Z</dcterms:modified>
  <cp:revision>98</cp:revision>
  <dc:subject/>
  <dc:title>Слайд 1</dc:title>
</cp:coreProperties>
</file>