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151-2E97-45DF-8F34-EFDF1AB7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C00-9BE8-47BD-898F-DD6AFDEC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576-8F1B-41DC-B418-36B128C0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67E-FD66-47F6-95EA-ABB514CC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1E63-F674-4F0C-A8D0-77886CCF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261E-074F-4FBB-AE6C-C69F2989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8EB4-8AC9-4833-810C-8AD1D79E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914D-308A-47D7-9676-F08B7FF0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119C-0EA8-488F-80EF-42690960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0C0B-693E-4CA7-A730-0E5322DE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F87D-DAB1-4731-934A-EA028473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40E-751B-4D58-8634-A5EC7906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E7B7-0221-4AC9-9BF5-AE8C586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1E9A-2C6B-49CB-96F1-D8C47793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84E1-6A43-4C72-B8FF-AC040C5C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7934-BEED-4F85-821C-B0566F54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56EF-05DC-4E4A-BC2A-96364F1C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D06-F76D-4B1D-B82E-ED666FA7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284-81B1-49FE-9156-B762F9D2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050-4A3D-40EB-B8FD-07F619B1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5F6-46ED-4FC3-BD52-8ACD88B1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A67-40EB-4EC7-BFFD-F0ABD63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D51-5842-464E-AFF4-FF0E905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178-FE7D-428E-B767-819EAC6A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13C3-287F-403F-A7D0-E517575D3C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958C-05BB-48B3-BEC2-3D909AEF94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Інструкція</a:t>
            </a:r>
            <a:br>
              <a:rPr sz="2400"/>
            </a:b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з охорони праці для учнів під час проведення занять з волейболу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7040" y="1905120"/>
            <a:ext cx="628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гальні положенн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о уроків по волейболу допускаються учні основної медичної групи. Заняття проводяться на стадіоні і спортивному залі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ні займаються на уроці в спортивній формі і взутті встановленого зразка з урахуванням всіх санітарно-гігієнічних вимог і норм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ні, які не допущені до занять через відсутність належної спортивної форми, хвороби, погане самопочуття і ін., присутні на уроці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рок починається і закінчується за дзвінком відповідно до розклад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имоги безпеки перед початком заняття волейболом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перерві учні переодягаються в роздягальнях в належну спортивну форму. У роздягальнях дотримується чистота і порядок. Кожен клас складає свої речі окремо від іншог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 починається за дзвінком з побудов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 вивченням нової теми учні проходять інструктаж з охорони праці, про що робиться запис у відповідному журналі реєстрації проведення інструктажу з питань охорони праці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 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имоги безпеки на уроці фізкультури під час занять учнів волейболом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На уроках з волейболу учні виконують програмні вправи і здають навчальні нормативи, згідно з якими отримують поточні, підсумкові і четвертні оцінки.</a:t>
            </a:r>
            <a:br>
              <a:rPr sz="1300"/>
            </a:b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ffff"/>
                </a:solidFill>
                <a:uFillTx/>
                <a:latin typeface="Arial"/>
              </a:rPr>
              <a:t>На уроках по волейболу учні виконують наступні вимоги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а) Технічна підготовк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індивідуальні та групові вправи виконуються після команди вчителя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ри сигналі про припинення виконання вправи все учні зобов'язані взяти м'ячі в руки і вислухати методичні вказівки вчителя фізичної культури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виконувати тільки ту вправу, яке було дано вчителем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забороняється учням бити м'яч ногам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б) Тактична підготовк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ри навчальної двосторонній грі суворо виконувати правила розстановки і переходу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виконувати подачу тільки після свистка вчителя фізкультури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між вправами передавати м'яч тільки під сіткою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в) Спеціальна силова підготовк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обов'язково виконувати загальну і спеціальну розминку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ри виконанні спеціальних силових вправ дотримуватися необхідну дистанцію і інтервал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ри виконанні стрибків, приземлятися на обидві ноги на всю стоп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На уроках по волейболу учні опановують методами самоконтролю. При поганому самопочутті на уроці фізкультури учень повинен припинити заняття, повідомити вчителя і звернутися в медпункт школ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Вимоги техніки безпеки після закінчення заняття волейболом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командою вчителя фізкультури учні на уроці фізичної культури будуються в шерен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ісля підведення підсумків, повідомлення оцінок, домашнього завдання, учні ладом залишають спортзал або спортивний майданчик і розходяться по роздягальнях, уникаючи зіткн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3T13:00:54Z</dcterms:created>
  <dc:creator>User</dc:creator>
  <dc:description/>
  <dc:language>en-US</dc:language>
  <cp:lastModifiedBy>User</cp:lastModifiedBy>
  <dcterms:modified xsi:type="dcterms:W3CDTF">2020-03-23T13:19:43Z</dcterms:modified>
  <cp:revision>2</cp:revision>
  <dc:subject/>
  <dc:title>Інструкція з охорони праці для учнів під час проведення занять з волейболу </dc:title>
</cp:coreProperties>
</file>