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F28-6EEC-4A6C-AF8B-DD485C47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8CE-7612-4F71-A018-823BD0DF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45B-833D-4691-8207-66F58039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C49-65CF-4881-88C8-7BF65EA9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03E0-5886-4687-8E27-71BDFE83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4E9-47A4-491D-95CB-08634D8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110-9E10-4959-9492-DA17D08E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8BA7-BCFB-46B0-9833-80DD7FA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6EB-67C6-4B8E-98CA-413D5CBF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9E2-0534-43FE-AD4F-712A40B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ED8D-8711-4EBC-BE34-0483D77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C70-8AA1-4B92-802A-0061586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141-3099-47C2-A347-1699A3A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B59B-16CA-4787-A731-4D6BFA7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DDEE-9CB5-43EA-AAA2-0DE6133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32F3-045D-435B-8822-AE6C1B07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6694-7FF1-419E-967B-A8B73E96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218-BF45-4CE6-BDF2-7A8B958D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BF7-55AD-4FE9-9E52-999D91F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1D3-9F82-4879-9F1B-69338BE5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5AE-1ABC-42C6-B4B3-C96DECF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A68-F22D-411A-98C9-EAB5720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987-7F55-4319-9AEB-D3AAF0B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086-C5B1-4C9B-81D7-1E28DDC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A77A-0AD2-4E93-96C1-77D11DC919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B089-60CE-4DC0-8B7B-94FD62E8A6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Інструкція</a:t>
            </a:r>
            <a:br>
              <a:rPr sz="2400"/>
            </a:b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з охорони праці для учнів під час проведення занять з волейболу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7040" y="1905120"/>
            <a:ext cx="628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гальні положенн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 уроків по волейболу допускаються учні основної медичної групи. Заняття проводяться на стадіоні і спортивному залі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ні займаються на уроці в спортивній формі і взутті встановленого зразка з урахуванням всіх санітарно-гігієнічних вимог і норм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ні, які не допущені до занять через відсутність належної спортивної форми, хвороби, погане самопочуття і ін., присутні на уроці.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рок починається і закінчується за дзвінком відповідно до розклад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имоги безпеки перед початком заняття волейболом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перерві учні переодягаються в роздягальнях в належну спортивну форму. У роздягальнях дотримується чистота і порядок. Кожен клас складає свої речі окремо від іншог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починається за дзвінком з побудов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 вивченням нової теми учні проходять інструктаж з охорони праці, про що робиться запис у відповідному журналі реєстрації проведення інструктажу з питань охорони прац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 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имоги безпеки на уроці фізкультури під час занять учнів волейболом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На уроках з волейболу учні виконують програмні вправи і здають навчальні нормативи, згідно з якими отримують поточні, підсумкові і четвертні оцінки.</a:t>
            </a:r>
            <a:br>
              <a:rPr sz="1300"/>
            </a:b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"/>
              </a:rPr>
              <a:t>На уроках по волейболу учні виконують наступні вимоги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а) Технічн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індивідуальні та групові вправи виконуються після команди вчителя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сигналі про припинення виконання вправи все учні зобов'язані взяти м'ячі в руки і вислухати методичні вказівки вчителя фізичної культур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иконувати тільки ту вправу, яке було дано вчителем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забороняється учням бити м'яч ногам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б) Тактичн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навчальної двосторонній грі суворо виконувати правила розстановки і переходу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иконувати подачу тільки після свистка вчителя фізкультур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між вправами передавати м'яч тільки під сіткою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в) Спеціальна силова підготовк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обов'язково виконувати загальну і спеціальну розминку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виконанні спеціальних силових вправ дотримуватися необхідну дистанцію і інтервал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при виконанні стрибків, приземлятися на обидві ноги на всю стоп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На уроках по волейболу учні опановують методами самоконтролю. При поганому самопочутті на уроці фізкультури учень повинен припинити заняття, повідомити вчителя і звернутися в медпункт школ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Вимоги техніки безпеки після закінчення заняття волейболо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командою вчителя фізкультури учні на уроці фізичної культури будуються в шере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сля підведення підсумків, повідомлення оцінок, домашнього завдання, учні ладом залишають спортзал або спортивний майданчик і розходяться по роздягальнях, уникаючи зіткн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3T13:00:54Z</dcterms:created>
  <dc:creator>User</dc:creator>
  <dc:description/>
  <dc:language>en-US</dc:language>
  <cp:lastModifiedBy>User</cp:lastModifiedBy>
  <dcterms:modified xsi:type="dcterms:W3CDTF">2020-03-23T13:19:43Z</dcterms:modified>
  <cp:revision>2</cp:revision>
  <dc:subject/>
  <dc:title>Інструкція з охорони праці для учнів під час проведення занять з волейболу </dc:title>
</cp:coreProperties>
</file>