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722-57AE-412E-86D8-68A6088C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3C9-DA18-47CA-B8A4-6F1897D0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D6A-6A0C-4D15-AEE0-28EC6727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EE4-2645-4F01-8385-90C666E7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D0D-DFAA-46E0-807B-F7E7FB9A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FD3-984A-4119-9F72-1E3A1525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C0F-69B0-4779-BA59-2259B4DA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452-6188-47C3-A22D-11C82BFE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65C-3227-4E03-8C6B-AA503EA8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2DB-A07D-4139-A60C-26ACC9BB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A52-50A5-4F2A-81AE-EDBB8F2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5E1F-D8F0-4A7C-AAD6-2A0F7D3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7BAD-4EAC-4286-9C7C-8C3DD9D26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9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7.xml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94000" y="2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751040" y="1700280"/>
            <a:ext cx="548496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9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ИНТЕЗАТОР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Puzzle3">
            <a:hlinkClick r:id="rId1" action="ppaction://hlinksldjump"/>
          </p:cNvPr>
          <p:cNvSpPr/>
          <p:nvPr/>
        </p:nvSpPr>
        <p:spPr>
          <a:xfrm>
            <a:off x="573120" y="62064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uzzle2">
            <a:hlinkClick r:id="rId2" action="ppaction://hlinksldjump"/>
          </p:cNvPr>
          <p:cNvSpPr/>
          <p:nvPr/>
        </p:nvSpPr>
        <p:spPr>
          <a:xfrm>
            <a:off x="3300480" y="237024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uzzle4">
            <a:hlinkClick r:id="rId3" action="ppaction://hlinksldjump"/>
          </p:cNvPr>
          <p:cNvSpPr/>
          <p:nvPr/>
        </p:nvSpPr>
        <p:spPr>
          <a:xfrm>
            <a:off x="8785080" y="246528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uzzle1">
            <a:hlinkClick r:id="rId4" action="ppaction://hlinksldjump"/>
          </p:cNvPr>
          <p:cNvSpPr/>
          <p:nvPr/>
        </p:nvSpPr>
        <p:spPr>
          <a:xfrm>
            <a:off x="1646280" y="443700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uzzle2">
            <a:hlinkClick r:id="rId5" action="ppaction://hlinksldjump"/>
          </p:cNvPr>
          <p:cNvSpPr/>
          <p:nvPr/>
        </p:nvSpPr>
        <p:spPr>
          <a:xfrm>
            <a:off x="46080" y="236376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uzzle1">
            <a:hlinkClick r:id="rId6" action="ppaction://hlinksldjump"/>
          </p:cNvPr>
          <p:cNvSpPr/>
          <p:nvPr/>
        </p:nvSpPr>
        <p:spPr>
          <a:xfrm>
            <a:off x="1646280" y="135396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zzle3">
            <a:hlinkClick r:id="rId7" action="ppaction://hlinksldjump"/>
          </p:cNvPr>
          <p:cNvSpPr/>
          <p:nvPr/>
        </p:nvSpPr>
        <p:spPr>
          <a:xfrm>
            <a:off x="3803760" y="3693960"/>
            <a:ext cx="1766880" cy="239904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9040"/>
              <a:gd name="textAreaBottom" fmla="*/ 2247840 h 239904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uzzle2">
            <a:hlinkClick r:id="rId8" action="ppaction://hlinksldjump"/>
          </p:cNvPr>
          <p:cNvSpPr/>
          <p:nvPr/>
        </p:nvSpPr>
        <p:spPr>
          <a:xfrm>
            <a:off x="3276720" y="5445000"/>
            <a:ext cx="2820960" cy="218628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6280"/>
              <a:gd name="textAreaBottom" fmla="*/ 2069280 h 21862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uzzle4">
            <a:hlinkClick r:id="rId9" action="ppaction://hlinksldjump"/>
          </p:cNvPr>
          <p:cNvSpPr/>
          <p:nvPr/>
        </p:nvSpPr>
        <p:spPr>
          <a:xfrm>
            <a:off x="2224080" y="237024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uzzle4"/>
          <p:cNvSpPr/>
          <p:nvPr/>
        </p:nvSpPr>
        <p:spPr>
          <a:xfrm>
            <a:off x="-973080" y="-7477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5f5f5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uzzle2">
            <a:hlinkClick r:id="rId10" action="ppaction://hlinksldjump"/>
          </p:cNvPr>
          <p:cNvSpPr/>
          <p:nvPr/>
        </p:nvSpPr>
        <p:spPr>
          <a:xfrm>
            <a:off x="3276720" y="-74772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uzzle1">
            <a:hlinkClick r:id="rId11" action="ppaction://hlinksldjump"/>
          </p:cNvPr>
          <p:cNvSpPr/>
          <p:nvPr/>
        </p:nvSpPr>
        <p:spPr>
          <a:xfrm>
            <a:off x="4886280" y="135396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uzzle2">
            <a:hlinkClick r:id="rId12" action="ppaction://hlinksldjump"/>
          </p:cNvPr>
          <p:cNvSpPr/>
          <p:nvPr/>
        </p:nvSpPr>
        <p:spPr>
          <a:xfrm>
            <a:off x="34920" y="-665280"/>
            <a:ext cx="2820960" cy="218628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6280"/>
              <a:gd name="textAreaBottom" fmla="*/ 2069280 h 21862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zzle3"/>
          <p:cNvSpPr/>
          <p:nvPr/>
        </p:nvSpPr>
        <p:spPr>
          <a:xfrm>
            <a:off x="3803760" y="67932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uzzle1"/>
          <p:cNvSpPr/>
          <p:nvPr/>
        </p:nvSpPr>
        <p:spPr>
          <a:xfrm>
            <a:off x="-1620720" y="134136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uzzle4"/>
          <p:cNvSpPr/>
          <p:nvPr/>
        </p:nvSpPr>
        <p:spPr>
          <a:xfrm>
            <a:off x="2195640" y="-733320"/>
            <a:ext cx="1699920" cy="2793960"/>
          </a:xfrm>
          <a:custGeom>
            <a:avLst/>
            <a:gdLst>
              <a:gd name="textAreaLeft" fmla="*/ 163080 w 1699920"/>
              <a:gd name="textAreaRight" fmla="*/ 1590120 w 169992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uzzle4"/>
          <p:cNvSpPr/>
          <p:nvPr/>
        </p:nvSpPr>
        <p:spPr>
          <a:xfrm>
            <a:off x="5464080" y="-7477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uzzle1"/>
          <p:cNvSpPr/>
          <p:nvPr/>
        </p:nvSpPr>
        <p:spPr>
          <a:xfrm>
            <a:off x="4859280" y="442764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uzzle2"/>
          <p:cNvSpPr/>
          <p:nvPr/>
        </p:nvSpPr>
        <p:spPr>
          <a:xfrm>
            <a:off x="6575400" y="-70164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zzle3"/>
          <p:cNvSpPr/>
          <p:nvPr/>
        </p:nvSpPr>
        <p:spPr>
          <a:xfrm>
            <a:off x="7093080" y="66996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uzzle4"/>
          <p:cNvSpPr/>
          <p:nvPr/>
        </p:nvSpPr>
        <p:spPr>
          <a:xfrm>
            <a:off x="8748720" y="-7477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uzzle4"/>
          <p:cNvSpPr/>
          <p:nvPr/>
        </p:nvSpPr>
        <p:spPr>
          <a:xfrm>
            <a:off x="-1044720" y="2349360"/>
            <a:ext cx="1700280" cy="279432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4320"/>
              <a:gd name="textAreaBottom" fmla="*/ 2067480 h 279432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5f5f5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uzzle3"/>
          <p:cNvSpPr/>
          <p:nvPr/>
        </p:nvSpPr>
        <p:spPr>
          <a:xfrm>
            <a:off x="539640" y="376704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zzle1"/>
          <p:cNvSpPr/>
          <p:nvPr/>
        </p:nvSpPr>
        <p:spPr>
          <a:xfrm>
            <a:off x="-1622520" y="4500720"/>
            <a:ext cx="2855880" cy="166500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000"/>
              <a:gd name="textAreaBottom" fmla="*/ 1507320 h 166500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zzle2"/>
          <p:cNvSpPr/>
          <p:nvPr/>
        </p:nvSpPr>
        <p:spPr>
          <a:xfrm>
            <a:off x="34920" y="551664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4"/>
          <p:cNvSpPr/>
          <p:nvPr/>
        </p:nvSpPr>
        <p:spPr>
          <a:xfrm>
            <a:off x="-1044720" y="545940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5f5f5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zzle2"/>
          <p:cNvSpPr/>
          <p:nvPr/>
        </p:nvSpPr>
        <p:spPr>
          <a:xfrm>
            <a:off x="6588000" y="238752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uzzle3"/>
          <p:cNvSpPr/>
          <p:nvPr/>
        </p:nvSpPr>
        <p:spPr>
          <a:xfrm>
            <a:off x="7102440" y="365292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uzzle4"/>
          <p:cNvSpPr/>
          <p:nvPr/>
        </p:nvSpPr>
        <p:spPr>
          <a:xfrm>
            <a:off x="5464080" y="53881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uzzle2"/>
          <p:cNvSpPr/>
          <p:nvPr/>
        </p:nvSpPr>
        <p:spPr>
          <a:xfrm>
            <a:off x="6588000" y="541980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uzzle1"/>
          <p:cNvSpPr/>
          <p:nvPr/>
        </p:nvSpPr>
        <p:spPr>
          <a:xfrm>
            <a:off x="8172360" y="1413000"/>
            <a:ext cx="2855880" cy="166500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000"/>
              <a:gd name="textAreaBottom" fmla="*/ 1507320 h 166500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zzle4"/>
          <p:cNvSpPr/>
          <p:nvPr/>
        </p:nvSpPr>
        <p:spPr>
          <a:xfrm>
            <a:off x="8775720" y="236376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uzzle1"/>
          <p:cNvSpPr/>
          <p:nvPr/>
        </p:nvSpPr>
        <p:spPr>
          <a:xfrm>
            <a:off x="8172360" y="443700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5f5f5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uzzle4"/>
          <p:cNvSpPr/>
          <p:nvPr/>
        </p:nvSpPr>
        <p:spPr>
          <a:xfrm>
            <a:off x="2195640" y="5445000"/>
            <a:ext cx="1699920" cy="2793960"/>
          </a:xfrm>
          <a:custGeom>
            <a:avLst/>
            <a:gdLst>
              <a:gd name="textAreaLeft" fmla="*/ 163080 w 1699920"/>
              <a:gd name="textAreaRight" fmla="*/ 1590120 w 169992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uzzle4"/>
          <p:cNvSpPr/>
          <p:nvPr/>
        </p:nvSpPr>
        <p:spPr>
          <a:xfrm>
            <a:off x="5448240" y="239724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238760" y="2840760"/>
            <a:ext cx="683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5f5f5f"/>
                </a:solidFill>
                <a:latin typeface="Arial"/>
              </a:rPr>
              <a:t>З якої країни Ісаіо Томі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1285920" y="4292640"/>
            <a:ext cx="63579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Японі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31" name="Picture 9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3"/>
          <a:stretch/>
        </p:blipFill>
        <p:spPr>
          <a:xfrm>
            <a:off x="3132000" y="81000"/>
            <a:ext cx="3146400" cy="2757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2060"/>
                </a:solidFill>
                <a:latin typeface="Arial"/>
              </a:rPr>
              <a:t>САУНДТР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Arial"/>
              </a:rPr>
              <a:t>Звукове оформлення фільму, мультфільму, комп’ютерної г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3"/>
          <a:srcRect l="21313" t="16973" r="21612" b="34356"/>
          <a:stretch/>
        </p:blipFill>
        <p:spPr>
          <a:xfrm>
            <a:off x="1547640" y="260280"/>
            <a:ext cx="6477120" cy="252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93800" y="4868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70c0"/>
                </a:solidFill>
                <a:latin typeface="Arial"/>
              </a:rPr>
              <a:t>ЕЛЕКТРОННА МУЗИКА МАЙБУТНЬ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0" t="0" r="0" b="7989"/>
          <a:stretch/>
        </p:blipFill>
        <p:spPr>
          <a:xfrm>
            <a:off x="1692360" y="404640"/>
            <a:ext cx="5975280" cy="3983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uzzle3"/>
          <p:cNvSpPr/>
          <p:nvPr/>
        </p:nvSpPr>
        <p:spPr>
          <a:xfrm rot="556200">
            <a:off x="468360" y="1196640"/>
            <a:ext cx="1766880" cy="239868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857160 h 2398680"/>
              <a:gd name="textAreaBottom" fmla="*/ 2247480 h 239868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zzle4"/>
          <p:cNvSpPr/>
          <p:nvPr/>
        </p:nvSpPr>
        <p:spPr>
          <a:xfrm rot="3408000">
            <a:off x="2340360" y="2059920"/>
            <a:ext cx="1700280" cy="2793960"/>
          </a:xfrm>
          <a:custGeom>
            <a:avLst/>
            <a:gdLst>
              <a:gd name="textAreaLeft" fmla="*/ 163440 w 1700280"/>
              <a:gd name="textAreaRight" fmla="*/ 1590480 w 1700280"/>
              <a:gd name="textAreaTop" fmla="*/ 732600 h 2793960"/>
              <a:gd name="textAreaBottom" fmla="*/ 2067120 h 279396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zzle1"/>
          <p:cNvSpPr/>
          <p:nvPr/>
        </p:nvSpPr>
        <p:spPr>
          <a:xfrm rot="229200">
            <a:off x="0" y="4292640"/>
            <a:ext cx="2855880" cy="1665360"/>
          </a:xfrm>
          <a:custGeom>
            <a:avLst/>
            <a:gdLst>
              <a:gd name="textAreaLeft" fmla="*/ 804600 w 2855880"/>
              <a:gd name="textAreaRight" fmla="*/ 2133000 w 2855880"/>
              <a:gd name="textAreaTop" fmla="*/ 198000 h 1665360"/>
              <a:gd name="textAreaBottom" fmla="*/ 1507680 h 166536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zzle2"/>
          <p:cNvSpPr/>
          <p:nvPr/>
        </p:nvSpPr>
        <p:spPr>
          <a:xfrm rot="21129600">
            <a:off x="1763280" y="260280"/>
            <a:ext cx="2820960" cy="2185920"/>
          </a:xfrm>
          <a:custGeom>
            <a:avLst/>
            <a:gdLst>
              <a:gd name="textAreaLeft" fmla="*/ 703440 w 2820960"/>
              <a:gd name="textAreaRight" fmla="*/ 2112840 w 2820960"/>
              <a:gd name="textAreaTop" fmla="*/ 682200 h 2185920"/>
              <a:gd name="textAreaBottom" fmla="*/ 2068920 h 218592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solidFill>
            <a:srgbClr val="0099ff"/>
          </a:solidFill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uzzle3"/>
          <p:cNvSpPr/>
          <p:nvPr/>
        </p:nvSpPr>
        <p:spPr>
          <a:xfrm rot="20466600">
            <a:off x="2771640" y="4508640"/>
            <a:ext cx="1766880" cy="2038320"/>
          </a:xfrm>
          <a:custGeom>
            <a:avLst/>
            <a:gdLst>
              <a:gd name="textAreaLeft" fmla="*/ 185760 w 1766880"/>
              <a:gd name="textAreaRight" fmla="*/ 1566360 w 1766880"/>
              <a:gd name="textAreaTop" fmla="*/ 728280 h 2038320"/>
              <a:gd name="textAreaBottom" fmla="*/ 1909800 h 203832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solidFill>
            <a:srgbClr val="cc66ff"/>
          </a:solidFill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747720" y="3500280"/>
            <a:ext cx="821700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жаю успіх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 вивченні музичного мистецтва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322200" y="1052640"/>
            <a:ext cx="86425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ітаю з перемогою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previousslide"/>
          </p:cNvPr>
          <p:cNvSpPr/>
          <p:nvPr/>
        </p:nvSpPr>
        <p:spPr>
          <a:xfrm>
            <a:off x="7885080" y="5338800"/>
            <a:ext cx="825480" cy="82692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38">
                <a:moveTo>
                  <a:pt x="0" y="0"/>
                </a:moveTo>
                <a:lnTo>
                  <a:pt x="21600" y="0"/>
                </a:lnTo>
                <a:lnTo>
                  <a:pt x="21600" y="21638"/>
                </a:lnTo>
                <a:lnTo>
                  <a:pt x="0" y="21638"/>
                </a:lnTo>
                <a:close/>
              </a:path>
              <a:path fill="lightenLess" w="21600" h="216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8">
                <a:moveTo>
                  <a:pt x="21600" y="0"/>
                </a:moveTo>
                <a:lnTo>
                  <a:pt x="21600" y="21638"/>
                </a:lnTo>
                <a:lnTo>
                  <a:pt x="20200" y="20238"/>
                </a:lnTo>
                <a:lnTo>
                  <a:pt x="20200" y="1400"/>
                </a:lnTo>
                <a:close/>
              </a:path>
              <a:path fill="darkenLess" w="21600" h="21638">
                <a:moveTo>
                  <a:pt x="21600" y="21638"/>
                </a:moveTo>
                <a:lnTo>
                  <a:pt x="0" y="21638"/>
                </a:lnTo>
                <a:lnTo>
                  <a:pt x="1400" y="20238"/>
                </a:lnTo>
                <a:lnTo>
                  <a:pt x="20200" y="20238"/>
                </a:lnTo>
                <a:close/>
              </a:path>
              <a:path fill="lighten" w="21600" h="21638">
                <a:moveTo>
                  <a:pt x="0" y="216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8"/>
                </a:lnTo>
                <a:close/>
              </a:path>
              <a:path fill="darken" w="21600" h="21638">
                <a:moveTo>
                  <a:pt x="3794" y="7511"/>
                </a:moveTo>
                <a:lnTo>
                  <a:pt x="7301" y="7511"/>
                </a:lnTo>
                <a:lnTo>
                  <a:pt x="7301" y="12847"/>
                </a:lnTo>
                <a:cubicBezTo>
                  <a:pt x="7301" y="13769"/>
                  <a:pt x="8102" y="14500"/>
                  <a:pt x="9138" y="14500"/>
                </a:cubicBezTo>
                <a:lnTo>
                  <a:pt x="10800" y="14500"/>
                </a:lnTo>
                <a:cubicBezTo>
                  <a:pt x="11836" y="14500"/>
                  <a:pt x="12636" y="13769"/>
                  <a:pt x="12636" y="12847"/>
                </a:cubicBezTo>
                <a:lnTo>
                  <a:pt x="12636" y="7511"/>
                </a:lnTo>
                <a:lnTo>
                  <a:pt x="10800" y="7511"/>
                </a:lnTo>
                <a:lnTo>
                  <a:pt x="14308" y="4004"/>
                </a:lnTo>
                <a:lnTo>
                  <a:pt x="17981" y="7511"/>
                </a:lnTo>
                <a:lnTo>
                  <a:pt x="16144" y="7511"/>
                </a:lnTo>
                <a:lnTo>
                  <a:pt x="16144" y="12847"/>
                </a:lnTo>
                <a:cubicBezTo>
                  <a:pt x="16144" y="15615"/>
                  <a:pt x="13568" y="18173"/>
                  <a:pt x="10800" y="18173"/>
                </a:cubicBezTo>
                <a:lnTo>
                  <a:pt x="9138" y="18173"/>
                </a:lnTo>
                <a:cubicBezTo>
                  <a:pt x="6370" y="18173"/>
                  <a:pt x="3794" y="15615"/>
                  <a:pt x="3794" y="12847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61440" y="3472920"/>
            <a:ext cx="826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Цей незвичайний інструмент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створений  у 1919 роц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ли навіть звичайні електрич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лампочки були для багатьох д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clock14"/>
          <p:cNvPicPr/>
          <p:nvPr/>
        </p:nvPicPr>
        <p:blipFill>
          <a:blip r:embed="rId2"/>
          <a:stretch/>
        </p:blipFill>
        <p:spPr>
          <a:xfrm flipH="1">
            <a:off x="7916760" y="196920"/>
            <a:ext cx="966960" cy="966600"/>
          </a:xfrm>
          <a:prstGeom prst="rect">
            <a:avLst/>
          </a:prstGeom>
          <a:ln w="0">
            <a:noFill/>
          </a:ln>
        </p:spPr>
      </p:pic>
      <p:sp>
        <p:nvSpPr>
          <p:cNvPr id="82" name="WordArt 10"/>
          <p:cNvSpPr txBox="1"/>
          <p:nvPr/>
        </p:nvSpPr>
        <p:spPr>
          <a:xfrm>
            <a:off x="2857680" y="5072040"/>
            <a:ext cx="32432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(Терменвокс)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2771640" y="120600"/>
            <a:ext cx="3770280" cy="3016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973080" y="2828880"/>
            <a:ext cx="727092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Arial"/>
              </a:rPr>
              <a:t>Сукупність «викривлених» природних шумів, для якої характерна відсутність мелод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58920" y="4578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2060"/>
                </a:solidFill>
                <a:latin typeface="Arial"/>
              </a:rPr>
              <a:t>Конкретна музи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Результат пошуку зображень за запитом &quot;картинки природа птахи&quot;"/>
          <p:cNvPicPr/>
          <p:nvPr/>
        </p:nvPicPr>
        <p:blipFill>
          <a:blip r:embed="rId3"/>
          <a:stretch/>
        </p:blipFill>
        <p:spPr>
          <a:xfrm>
            <a:off x="2836800" y="173160"/>
            <a:ext cx="3543480" cy="2655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2357280" y="4786200"/>
            <a:ext cx="47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(Синтезатор)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Електронний  музичний  інструмент, який  синтезує звуки  за  допомогою  генераторів  звукових  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1876320" y="260280"/>
            <a:ext cx="5389560" cy="2121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24720" y="2999520"/>
            <a:ext cx="85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Як називається цей інструмен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324000" y="4087800"/>
            <a:ext cx="7732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Електро-акустичний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музичний інструмент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9c9c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Arial"/>
              </a:rPr>
              <a:t>Reactable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solidFill>
                <a:srgbClr val="9c9c9c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3"/>
          <a:stretch/>
        </p:blipFill>
        <p:spPr>
          <a:xfrm>
            <a:off x="2463840" y="69840"/>
            <a:ext cx="4952880" cy="292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2071800" y="4508640"/>
            <a:ext cx="48956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Терменвок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Лазерна арф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3"/>
          <a:stretch/>
        </p:blipFill>
        <p:spPr>
          <a:xfrm>
            <a:off x="3225960" y="0"/>
            <a:ext cx="2862000" cy="3579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2040" y="357840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Що ц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8360" y="1628640"/>
            <a:ext cx="720720" cy="79236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37280" y="712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0"/>
          <p:cNvSpPr txBox="1"/>
          <p:nvPr/>
        </p:nvSpPr>
        <p:spPr>
          <a:xfrm>
            <a:off x="1285920" y="4786200"/>
            <a:ext cx="59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Електронну музи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12" name="Picture 9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2862360" y="263520"/>
            <a:ext cx="3589200" cy="273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2040" y="304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Що винайшов К.Штокхаузе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7"/>
          <p:cNvSpPr/>
          <p:nvPr/>
        </p:nvSpPr>
        <p:spPr>
          <a:xfrm>
            <a:off x="3893040" y="613584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369720" y="4221000"/>
            <a:ext cx="8386920" cy="19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Вібрації, якими пронизан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весь Всесві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18" name="Picture 9" descr="clock14"/>
          <p:cNvPicPr/>
          <p:nvPr/>
        </p:nvPicPr>
        <p:blipFill>
          <a:blip r:embed="rId2"/>
          <a:stretch/>
        </p:blipFill>
        <p:spPr>
          <a:xfrm>
            <a:off x="8244000" y="17017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"/>
          <p:cNvSpPr/>
          <p:nvPr/>
        </p:nvSpPr>
        <p:spPr>
          <a:xfrm>
            <a:off x="399240" y="3249720"/>
            <a:ext cx="85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ля Штокхаузена музика — це…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3"/>
          <a:stretch/>
        </p:blipFill>
        <p:spPr>
          <a:xfrm>
            <a:off x="2527200" y="184320"/>
            <a:ext cx="4272120" cy="2889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7"/>
          <p:cNvSpPr/>
          <p:nvPr/>
        </p:nvSpPr>
        <p:spPr>
          <a:xfrm>
            <a:off x="3893040" y="6194520"/>
            <a:ext cx="152784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>
                <a:alpha val="58000"/>
              </a:srgbClr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пові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885080" y="5300640"/>
            <a:ext cx="825480" cy="827280"/>
          </a:xfrm>
          <a:custGeom>
            <a:avLst/>
            <a:gdLst>
              <a:gd name="textAreaLeft" fmla="*/ 53280 w 825480"/>
              <a:gd name="textAreaRight" fmla="*/ 772200 w 825480"/>
              <a:gd name="textAreaTop" fmla="*/ 53280 h 827280"/>
              <a:gd name="textAreaBottom" fmla="*/ 774000 h 827280"/>
            </a:gdLst>
            <a:ahLst/>
            <a:rect l="textAreaLeft" t="textAreaTop" r="textAreaRight" b="textAreaBottom"/>
            <a:pathLst>
              <a:path w="21600" h="21647">
                <a:moveTo>
                  <a:pt x="0" y="0"/>
                </a:moveTo>
                <a:lnTo>
                  <a:pt x="21600" y="0"/>
                </a:lnTo>
                <a:lnTo>
                  <a:pt x="21600" y="21647"/>
                </a:lnTo>
                <a:lnTo>
                  <a:pt x="0" y="21647"/>
                </a:lnTo>
                <a:close/>
              </a:path>
              <a:path fill="lightenLess" w="21600" h="216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7">
                <a:moveTo>
                  <a:pt x="21600" y="0"/>
                </a:moveTo>
                <a:lnTo>
                  <a:pt x="21600" y="21647"/>
                </a:lnTo>
                <a:lnTo>
                  <a:pt x="20200" y="20247"/>
                </a:lnTo>
                <a:lnTo>
                  <a:pt x="20200" y="1400"/>
                </a:lnTo>
                <a:close/>
              </a:path>
              <a:path fill="darkenLess" w="21600" h="21647">
                <a:moveTo>
                  <a:pt x="21600" y="21647"/>
                </a:moveTo>
                <a:lnTo>
                  <a:pt x="0" y="21647"/>
                </a:lnTo>
                <a:lnTo>
                  <a:pt x="1400" y="20247"/>
                </a:lnTo>
                <a:lnTo>
                  <a:pt x="20200" y="20247"/>
                </a:lnTo>
                <a:close/>
              </a:path>
              <a:path fill="lighten" w="21600" h="21647">
                <a:moveTo>
                  <a:pt x="0" y="216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7"/>
                </a:lnTo>
                <a:close/>
              </a:path>
              <a:path fill="darken" w="21600" h="21647">
                <a:moveTo>
                  <a:pt x="3794" y="7516"/>
                </a:moveTo>
                <a:lnTo>
                  <a:pt x="7301" y="7516"/>
                </a:lnTo>
                <a:lnTo>
                  <a:pt x="7301" y="12852"/>
                </a:lnTo>
                <a:cubicBezTo>
                  <a:pt x="7301" y="13774"/>
                  <a:pt x="8102" y="14505"/>
                  <a:pt x="9138" y="14505"/>
                </a:cubicBezTo>
                <a:lnTo>
                  <a:pt x="10800" y="14505"/>
                </a:lnTo>
                <a:cubicBezTo>
                  <a:pt x="11836" y="14505"/>
                  <a:pt x="12636" y="13774"/>
                  <a:pt x="12636" y="12852"/>
                </a:cubicBezTo>
                <a:lnTo>
                  <a:pt x="12636" y="7516"/>
                </a:lnTo>
                <a:lnTo>
                  <a:pt x="10800" y="7516"/>
                </a:lnTo>
                <a:lnTo>
                  <a:pt x="14308" y="4009"/>
                </a:lnTo>
                <a:lnTo>
                  <a:pt x="17981" y="7516"/>
                </a:lnTo>
                <a:lnTo>
                  <a:pt x="16144" y="7516"/>
                </a:lnTo>
                <a:lnTo>
                  <a:pt x="16144" y="12852"/>
                </a:lnTo>
                <a:cubicBezTo>
                  <a:pt x="16144" y="15619"/>
                  <a:pt x="13568" y="18178"/>
                  <a:pt x="10800" y="18178"/>
                </a:cubicBezTo>
                <a:lnTo>
                  <a:pt x="9138" y="18178"/>
                </a:lnTo>
                <a:cubicBezTo>
                  <a:pt x="6370" y="18178"/>
                  <a:pt x="3794" y="15619"/>
                  <a:pt x="3794" y="1285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15960" y="3002760"/>
            <a:ext cx="807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Ісао  Томіта створював електронні аранжування якої музики?</a:t>
            </a:r>
            <a:r>
              <a:rPr b="0" lang="ru-RU" sz="4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1908000" y="4797360"/>
            <a:ext cx="489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latin typeface="Arial"/>
              </a:rPr>
              <a:t>Класично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latin typeface="Arial"/>
              <a:ea typeface="Arial"/>
            </a:endParaRPr>
          </a:p>
        </p:txBody>
      </p:sp>
      <p:pic>
        <p:nvPicPr>
          <p:cNvPr id="125" name="Picture 9" descr="clock14"/>
          <p:cNvPicPr/>
          <p:nvPr/>
        </p:nvPicPr>
        <p:blipFill>
          <a:blip r:embed="rId2"/>
          <a:stretch/>
        </p:blipFill>
        <p:spPr>
          <a:xfrm>
            <a:off x="8244000" y="260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3"/>
          <a:stretch/>
        </p:blipFill>
        <p:spPr>
          <a:xfrm>
            <a:off x="2665440" y="260280"/>
            <a:ext cx="3975120" cy="2702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newsflash/>
  </p:transition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5:32:46Z</dcterms:created>
  <dc:creator>Admin</dc:creator>
  <dc:description/>
  <dc:language>en-US</dc:language>
  <cp:lastModifiedBy>Марина</cp:lastModifiedBy>
  <dcterms:modified xsi:type="dcterms:W3CDTF">2018-01-17T17:23:54Z</dcterms:modified>
  <cp:revision>103</cp:revision>
  <dc:subject/>
  <dc:title>Слайд 1</dc:title>
</cp:coreProperties>
</file>