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3.png" ContentType="image/png"/>
  <Override PartName="/ppt/media/image55.jpeg" ContentType="image/jpeg"/>
  <Override PartName="/ppt/media/image33.jpeg" ContentType="image/jpeg"/>
  <Override PartName="/ppt/media/image37.jpeg" ContentType="image/jpeg"/>
  <Override PartName="/ppt/media/image48.png" ContentType="image/png"/>
  <Override PartName="/ppt/media/image50.png" ContentType="image/png"/>
  <Override PartName="/ppt/media/image45.png" ContentType="image/png"/>
  <Override PartName="/ppt/media/image44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53.jpeg" ContentType="image/jpeg"/>
  <Override PartName="/ppt/media/image57.png" ContentType="image/png"/>
  <Override PartName="/ppt/media/image36.jpeg" ContentType="image/jpeg"/>
  <Override PartName="/ppt/media/image56.png" ContentType="image/png"/>
  <Override PartName="/ppt/media/image32.jpeg" ContentType="image/jpeg"/>
  <Override PartName="/ppt/media/image31.png" ContentType="image/png"/>
  <Override PartName="/ppt/media/image6.png" ContentType="image/png"/>
  <Override PartName="/ppt/media/image30.jpeg" ContentType="image/jpeg"/>
  <Override PartName="/ppt/media/image9.png" ContentType="image/png"/>
  <Override PartName="/ppt/media/image39.png" ContentType="image/png"/>
  <Override PartName="/ppt/media/image8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585-2750-4D41-8424-7390C6DB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EDE-1FDD-4891-826E-262A7C47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896-BAFA-47D4-AA56-CB24B559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5A1-A249-402E-8925-3B6A4DEB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BA3F-3D76-4EE9-8AC8-F10CACF4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75B-C5AC-4B5E-9137-A9CAF03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6EF2-F121-40A9-97A5-A0640674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912E-671C-4E11-A84F-7D557369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92B6-46E7-472F-8F6F-412CEDFB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6274-15C8-45EF-81A2-9D30CF03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CEEB-FA4A-4183-A8FC-26DF521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8EF-CA78-4770-BF30-D166FF1F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081-EE81-4604-A1A8-A74672C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8AF8-3E38-4C6C-8FF8-A469B70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5E8B-F1B4-4033-AE7E-56CC839D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81DB-C0DB-4225-9319-20B08D4B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18D2-ED9A-4E44-A112-5F38A4DF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44ED-01E7-4DC1-9D76-40C59285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5CBF-C2EB-48CE-9AAB-5A4F7D3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571F-2CF1-43CD-A4BA-3C17B46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96D7-FFF3-43CD-ACFC-8CA13907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CC00-DBD0-47F5-9BA0-7DD372C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987-44CE-4427-9123-4369CC7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3DC0-3EFF-4389-94EA-2BB4B6E9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8555-4C87-4504-A3D6-FA64B35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F6E4-B01A-4026-94A0-2E17C8D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8681-BE88-45BE-B2CE-8098F44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7C5F0-829C-4DBA-90C4-65D1B0A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EBEF-B41E-4B1F-A0D7-7007EDA7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58B3B-3539-4B0D-B134-2618A178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ABE0-E239-417B-95B2-C410E5EB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917D-8D98-42C1-B1FE-B961610A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8FC8-F288-40DD-9899-1628586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5BB-713A-450E-8DEE-067F1F7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7DE6-632F-4CB9-8B95-B61C95F9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84623-C5C0-4F55-BE78-D55E76F3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D361-C3B9-42C3-8035-01FE65F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67F6-5751-4A50-9DB5-8B42118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1659-EE41-4B41-91A7-8151C5A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7631-6F2B-4224-99D0-05733C7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4B14-D36E-43E9-961D-551D89DD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6C1A-D53D-46FD-BD99-06A7DF7D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43C2-C6E3-4259-89AD-AEFC0B04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90-B79D-4A80-873A-D01B4650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B00-2306-4C0D-BFCA-091D062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1C4-1D44-4D48-815C-4E4CEBA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4FA-B225-474C-9EEE-2CBF6FC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78F-E378-4B33-9CDB-A0973E47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529-8C43-4C4F-A67C-7A51A84290D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F92F-2D27-4D0D-924A-17222E05F5D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549D-28B5-4F3E-BEA3-ED45E2C9FC5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0C5-A667-412C-8392-FC92412C8A4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17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s://uk.wikipedia.org/wiki/&#1060;&#1072;&#1081;&#1083;:Mt_fuji(R469_Yuno)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s://uk.wikipedia.org/wiki/&#1060;&#1072;&#1081;&#1083;:Position_of_Mount_Fuji.png" TargetMode="External"/><Relationship Id="rId5" Type="http://schemas.openxmlformats.org/officeDocument/2006/relationships/image" Target="../media/image48.png"/><Relationship Id="rId6" Type="http://schemas.openxmlformats.org/officeDocument/2006/relationships/hyperlink" Target="https://uk.wikipedia.org/wiki/&#1060;&#1072;&#1081;&#1083;:FujiSunriseKawaguchiko2025WP.jpg" TargetMode="External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23.pn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0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s://uk.wikipedia.org/wiki/&#1060;&#1072;&#1081;&#1083;:Mt_fuji(R469_Yuno)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hyperlink" Target="https://uk.wikipedia.org/wiki/&#1060;&#1072;&#1081;&#1083;:A_stream_at_Fual_Pani_I_IMG_6845.jpg" TargetMode="External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s://ru.wikipedia.org/wiki/&#1064;&#1072;&#1073;&#1083;&#1086;&#1085;:&#1055;&#1086;&#1079;&#1050;&#1072;&#1088;&#1090;&#1072;_&#1048;&#1085;&#1076;&#1086;&#1085;&#1077;&#1079;&#1080;&#1103;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s://uk.wikipedia.org/wiki/&#1060;&#1072;&#1081;&#1083;:Assam_042_yfb_edit.jpg" TargetMode="External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-360" y="5914800"/>
            <a:ext cx="900108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212745"/>
                </a:solidFill>
                <a:latin typeface="Trebuchet MS"/>
              </a:rPr>
              <a:t>Презентація  підготовлена вчителем географії Васютинського навчально-виховного комплексу “ Дошкільний навчальний заклад-загальноосвітня школа І-ІІІ ступенів ”  Чорнобаївської районної рад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1400" spc="-1" strike="noStrike">
                <a:solidFill>
                  <a:srgbClr val="212745"/>
                </a:solidFill>
                <a:latin typeface="Trebuchet MS"/>
              </a:rPr>
              <a:t>Суховій Вірою Дмитрівною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1858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https://encrypted-tbn3.gstatic.com/images?q=tbn:ANd9GcTIjPsocPtP598LYl-9tKAe9VwI7M4Jg40TkJWN1VXdeI_gcKb5TgcyW8Y8"/>
          <p:cNvPicPr/>
          <p:nvPr/>
        </p:nvPicPr>
        <p:blipFill>
          <a:blip r:embed="rId2"/>
          <a:stretch/>
        </p:blipFill>
        <p:spPr>
          <a:xfrm>
            <a:off x="1116000" y="2198520"/>
            <a:ext cx="192420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46800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1743120" y="-152280"/>
            <a:ext cx="6834240" cy="1268280"/>
          </a:xfrm>
          <a:prstGeom prst="rect">
            <a:avLst/>
          </a:prstGeom>
          <a:ln w="0">
            <a:noFill/>
          </a:ln>
        </p:spPr>
      </p:pic>
      <p:pic>
        <p:nvPicPr>
          <p:cNvPr id="269" name="Объект 4" descr="http://russian1.people.com.cn/mediafile/201309/11/F201309111421131438612208.jpg"/>
          <p:cNvPicPr/>
          <p:nvPr/>
        </p:nvPicPr>
        <p:blipFill>
          <a:blip r:embed="rId2"/>
          <a:stretch/>
        </p:blipFill>
        <p:spPr>
          <a:xfrm>
            <a:off x="611280" y="1052640"/>
            <a:ext cx="2952720" cy="21985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http://kmlv114.com/upload/images/2013/12/712212546.jpg"/>
          <p:cNvPicPr/>
          <p:nvPr/>
        </p:nvPicPr>
        <p:blipFill>
          <a:blip r:embed="rId3"/>
          <a:stretch/>
        </p:blipFill>
        <p:spPr>
          <a:xfrm>
            <a:off x="4067280" y="1052640"/>
            <a:ext cx="4860720" cy="2198520"/>
          </a:xfrm>
          <a:prstGeom prst="rect">
            <a:avLst/>
          </a:prstGeom>
          <a:ln w="0">
            <a:noFill/>
          </a:ln>
        </p:spPr>
      </p:pic>
      <p:pic>
        <p:nvPicPr>
          <p:cNvPr id="271" name="Три параллельные реки. Туры в Китай.mp4" descr=""/>
          <p:cNvPicPr/>
          <p:nvPr/>
        </p:nvPicPr>
        <p:blipFill>
          <a:blip r:embed="rId4"/>
          <a:stretch/>
        </p:blipFill>
        <p:spPr>
          <a:xfrm>
            <a:off x="2195640" y="3645000"/>
            <a:ext cx="4537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1401840" y="208080"/>
            <a:ext cx="6510240" cy="1309680"/>
          </a:xfrm>
          <a:prstGeom prst="rect">
            <a:avLst/>
          </a:prstGeom>
          <a:ln w="0">
            <a:noFill/>
          </a:ln>
        </p:spPr>
      </p:pic>
      <p:pic>
        <p:nvPicPr>
          <p:cNvPr id="273" name="Объект 3" descr="Фуджі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273320"/>
            <a:ext cx="2089440" cy="1800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"/>
          <p:cNvSpPr/>
          <p:nvPr/>
        </p:nvSpPr>
        <p:spPr>
          <a:xfrm>
            <a:off x="2816280" y="1557360"/>
            <a:ext cx="57769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 Фудзі (Фуджі, Фудзіяма) 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ючий базальтовий вулкан в Японії. Розташований на кордоні східнояпонських префектур Яманасі та Сідзуока, західніше Токіо. Це найвища вершина  країни, висотою  3 776 м. Головний пік  пасма Фудзі. Має симетричну конусоподібну форму. Біля підніжжя розташовані 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ь озер Фудзі: Яманака, Кавагуті, Сай, Сьодзі, Мот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1936 року є головною окрасою національного парку Фудзі-Хаконе-Ідзу. Має статус особливої історичної п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тки. Разом з горами Татеяма й Хакудзан належить до трьох священних гір Япон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6" descr="Position of Mount Fuji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4120" y="3933720"/>
            <a:ext cx="2192400" cy="178920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FujiSunriseKawaguchiko2025WP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64360" y="260280"/>
            <a:ext cx="1584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189080" y="133200"/>
            <a:ext cx="6510240" cy="1311480"/>
          </a:xfrm>
          <a:prstGeom prst="rect">
            <a:avLst/>
          </a:prstGeom>
          <a:ln w="0">
            <a:noFill/>
          </a:ln>
        </p:spPr>
      </p:pic>
      <p:pic>
        <p:nvPicPr>
          <p:cNvPr id="278" name="Объект 3" descr="Socotra dragon tree.JPG"/>
          <p:cNvPicPr/>
          <p:nvPr/>
        </p:nvPicPr>
        <p:blipFill>
          <a:blip r:embed="rId2"/>
          <a:stretch/>
        </p:blipFill>
        <p:spPr>
          <a:xfrm>
            <a:off x="755640" y="18900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3851280" y="1773360"/>
            <a:ext cx="4897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тр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евеликий архіпелаг з чотирьох островів та двох скель (населені Сокотра, Абд-ель-Курі і Самха) вІндійському океані недалеко на північний схід від узбережжя Сомалі, приблизно 350 км на південь від Аравійського півострова. Площа островів 3,6 тис. км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5" descr="https://upload.wikimedia.org/wikipedia/commons/thumb/5/5a/Topographic_map_of_Socotra-ru.svg/220px-Topographic_map_of_Socotra-ru.svg.png"/>
          <p:cNvPicPr/>
          <p:nvPr/>
        </p:nvPicPr>
        <p:blipFill>
          <a:blip r:embed="rId3"/>
          <a:stretch/>
        </p:blipFill>
        <p:spPr>
          <a:xfrm>
            <a:off x="5796000" y="333360"/>
            <a:ext cx="295272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Остров Сокотра, Йемен.mp4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8" descr="http://eco-turizm.net/uploads/2013/05/ostrov-Sokotra-v-Yemene.jpg"/>
          <p:cNvPicPr/>
          <p:nvPr/>
        </p:nvPicPr>
        <p:blipFill>
          <a:blip r:embed="rId5"/>
          <a:stretch/>
        </p:blipFill>
        <p:spPr>
          <a:xfrm>
            <a:off x="749160" y="4848120"/>
            <a:ext cx="2629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455320" cy="2017440"/>
          </a:xfrm>
          <a:prstGeom prst="rect">
            <a:avLst/>
          </a:prstGeom>
          <a:ln w="0">
            <a:noFill/>
          </a:ln>
        </p:spPr>
      </p:pic>
      <p:pic>
        <p:nvPicPr>
          <p:cNvPr id="284" name="Объект 3" descr="A stream at Fual Pani I IMG 6845.jpg"/>
          <p:cNvPicPr/>
          <p:nvPr/>
        </p:nvPicPr>
        <p:blipFill>
          <a:blip r:embed="rId2"/>
          <a:stretch/>
        </p:blipFill>
        <p:spPr>
          <a:xfrm>
            <a:off x="6732720" y="1197000"/>
            <a:ext cx="1726920" cy="20257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Великі Гімалаї (національний парк) (Індія)"/>
          <p:cNvPicPr/>
          <p:nvPr/>
        </p:nvPicPr>
        <p:blipFill>
          <a:blip r:embed="rId3"/>
          <a:stretch/>
        </p:blipFill>
        <p:spPr>
          <a:xfrm>
            <a:off x="324000" y="907920"/>
            <a:ext cx="2611440" cy="280836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5"/>
          <p:cNvSpPr/>
          <p:nvPr/>
        </p:nvSpPr>
        <p:spPr>
          <a:xfrm>
            <a:off x="468360" y="612720"/>
            <a:ext cx="81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 Гімалаї»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— національний парк в Індії. Розташований у регіоні Куллу індійського штату Хімачал-Прадеш на території Гімалайських гір. Створений 1984  року. У червні 2014 року національний парк Великі Гімалаї було занесено до списку Світової спадщини ЮНЕСКО ЮНЕСКО відзначило цей національний парк за «визначну роль у збереженні біологічного різноманітт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 парку становить 755 км². Висота над рівнем моря коливається між 1600 та 6000 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уна представлена 31 видом ссавців, 181 видом птахів, 3 видами рептилій, 9 видами земноводних, 11 видами кільчастих червів, 17 видами молюсків і 127 видами кома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969840" y="274680"/>
            <a:ext cx="6516720" cy="1316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1116000" y="1916280"/>
            <a:ext cx="640080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і заходи, спрямовані на покращення екологічної ситуації у вашій місцевості, ви можете запропонувати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1" descr="F:\ЭКУ\крутяк\Пояснення.gif"/>
          <p:cNvPicPr/>
          <p:nvPr/>
        </p:nvPicPr>
        <p:blipFill>
          <a:blip r:embed="rId2"/>
          <a:stretch/>
        </p:blipFill>
        <p:spPr>
          <a:xfrm>
            <a:off x="3375000" y="3933720"/>
            <a:ext cx="2085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1"/>
          <p:cNvSpPr/>
          <p:nvPr/>
        </p:nvSpPr>
        <p:spPr>
          <a:xfrm>
            <a:off x="571680" y="428760"/>
            <a:ext cx="8248320" cy="6000480"/>
          </a:xfrm>
          <a:prstGeom prst="rect">
            <a:avLst/>
          </a:prstGeom>
          <a:solidFill>
            <a:srgbClr val="bfebfa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і джерела:</a:t>
            </a:r>
            <a:br>
              <a:rPr sz="24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Капіруліна С.Л. Усі уроки географії. 7 клас. Харків. Видавнича група «Основа». 2007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нєєв В.П. «На допомогу вчителю». Географія материків і океанів.7 клас. Посібник для вчителя. Харків. Видавництво «Ранок».Веста.2002.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авлюк Н.І., Довгань Г.Д.Географія. Материки і океани. Мій конспект. Харків. Видавнича група «Основа». 2015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. Методичний комп’ютерний посібник «Електронний конструктор уроку». Географія.6, 7, 8, 9, 10 клас. Видавнича група «Основа». 2010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и: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compas.ucoz.com/dir/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blog.turmir.com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a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https://uk.wikipedia.org/wiki/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ЕСКО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https://uk.wikipedia.org/wiki/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tu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9"/>
          <p:cNvSpPr/>
          <p:nvPr/>
        </p:nvSpPr>
        <p:spPr>
          <a:xfrm>
            <a:off x="2881440" y="2203560"/>
            <a:ext cx="259236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гора Фудз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6070680" y="6078600"/>
            <a:ext cx="263988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Казіра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460440" y="2092320"/>
            <a:ext cx="196380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укові праліси Карп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5649840" y="1784520"/>
            <a:ext cx="31766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аціональний парк  Комо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4" descr="http://portal.azertag.az/sites/default/files/drakon3.jpg"/>
          <p:cNvPicPr/>
          <p:nvPr/>
        </p:nvPicPr>
        <p:blipFill>
          <a:blip r:embed="rId1"/>
          <a:stretch/>
        </p:blipFill>
        <p:spPr>
          <a:xfrm>
            <a:off x="5649840" y="414360"/>
            <a:ext cx="3176640" cy="1373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3"/>
          <p:cNvSpPr/>
          <p:nvPr/>
        </p:nvSpPr>
        <p:spPr>
          <a:xfrm>
            <a:off x="5649840" y="3645000"/>
            <a:ext cx="31766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Arial"/>
              </a:rPr>
              <a:t>Ліпарські ост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6" descr="http://www.setwalls.ru/pic/201507/1600x900/setwalls.ru-84202.jpg"/>
          <p:cNvPicPr/>
          <p:nvPr/>
        </p:nvPicPr>
        <p:blipFill>
          <a:blip r:embed="rId2"/>
          <a:stretch/>
        </p:blipFill>
        <p:spPr>
          <a:xfrm>
            <a:off x="5649840" y="2341440"/>
            <a:ext cx="3176640" cy="13208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http://www.fuccha.in/wp-content/uploads/2015/09/kaziranga-national-park.jpg"/>
          <p:cNvPicPr/>
          <p:nvPr/>
        </p:nvPicPr>
        <p:blipFill>
          <a:blip r:embed="rId3"/>
          <a:stretch/>
        </p:blipFill>
        <p:spPr>
          <a:xfrm>
            <a:off x="6004080" y="4265640"/>
            <a:ext cx="2697120" cy="179856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3" descr="Фуджі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22400" y="303120"/>
            <a:ext cx="2641680" cy="19274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http://kmlv114.com/upload/images/2013/12/712212546.jpg"/>
          <p:cNvPicPr/>
          <p:nvPr/>
        </p:nvPicPr>
        <p:blipFill>
          <a:blip r:embed="rId6"/>
          <a:stretch/>
        </p:blipFill>
        <p:spPr>
          <a:xfrm>
            <a:off x="1187280" y="2511360"/>
            <a:ext cx="4119840" cy="18637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2"/>
          <p:cNvSpPr/>
          <p:nvPr/>
        </p:nvSpPr>
        <p:spPr>
          <a:xfrm>
            <a:off x="2195640" y="4375080"/>
            <a:ext cx="311148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и паралельні рі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Объект 3" descr="Beskidy Bieszczady"/>
          <p:cNvPicPr/>
          <p:nvPr/>
        </p:nvPicPr>
        <p:blipFill>
          <a:blip r:embed="rId7"/>
          <a:stretch/>
        </p:blipFill>
        <p:spPr>
          <a:xfrm>
            <a:off x="479520" y="352440"/>
            <a:ext cx="1944720" cy="1728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2"/>
          <p:cNvSpPr/>
          <p:nvPr/>
        </p:nvSpPr>
        <p:spPr>
          <a:xfrm>
            <a:off x="2914560" y="6216480"/>
            <a:ext cx="257976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кот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5" descr="http://cs.mypleer.com/news/uploads/2013/09/Socotra12-730x487.jpg"/>
          <p:cNvPicPr/>
          <p:nvPr/>
        </p:nvPicPr>
        <p:blipFill>
          <a:blip r:embed="rId8"/>
          <a:stretch/>
        </p:blipFill>
        <p:spPr>
          <a:xfrm>
            <a:off x="2914560" y="4908600"/>
            <a:ext cx="2586240" cy="1293840"/>
          </a:xfrm>
          <a:prstGeom prst="rect">
            <a:avLst/>
          </a:prstGeom>
          <a:ln w="0">
            <a:noFill/>
          </a:ln>
        </p:spPr>
      </p:pic>
      <p:pic>
        <p:nvPicPr>
          <p:cNvPr id="233" name="Объект 3" descr="A stream at Fual Pani I IMG 6845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0440" y="4375080"/>
            <a:ext cx="1735200" cy="1944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2"/>
          <p:cNvSpPr/>
          <p:nvPr/>
        </p:nvSpPr>
        <p:spPr>
          <a:xfrm>
            <a:off x="417600" y="6319800"/>
            <a:ext cx="1778040" cy="2764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ликі Гімала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755640" y="219240"/>
            <a:ext cx="7559640" cy="1212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65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382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 списку світової спадщини ЮНЕСКО занесено такі природні об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’</a:t>
            </a:r>
            <a:r>
              <a:rPr b="0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єкти Євразії: національні парки Фуджі (Японія), Комодо (Індонезія), Ліпарські острови (Італія), Казіранга (Індія),Великі Гімалаї, острів Сокотра (Йємен), транснаціональний серійний природний об'єкт Букові праліси Карпат та багато і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ступи учнів-дослідникі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378080" y="60480"/>
            <a:ext cx="7022880" cy="131760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3" descr="Beskidy Bieszczady"/>
          <p:cNvPicPr/>
          <p:nvPr/>
        </p:nvPicPr>
        <p:blipFill>
          <a:blip r:embed="rId2"/>
          <a:stretch/>
        </p:blipFill>
        <p:spPr>
          <a:xfrm>
            <a:off x="250920" y="4221000"/>
            <a:ext cx="3960720" cy="252108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"/>
          <p:cNvSpPr/>
          <p:nvPr/>
        </p:nvSpPr>
        <p:spPr>
          <a:xfrm>
            <a:off x="4211640" y="1413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ові праліси Карпа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ранснаціональний серійний природний об'єкт, що складається з десяти окремих масивів, які розташовані вздовж осі завдовжки 185 км. Простягається від Рахівських гір та Чорногірського хребта в Україні на захід Полонинським хребтом до гір Буковські Врхи  та Вигорлат  у Словаччи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Дрімучі праліси.mp4" descr=""/>
          <p:cNvPicPr/>
          <p:nvPr/>
        </p:nvPicPr>
        <p:blipFill>
          <a:blip r:embed="rId3"/>
          <a:stretch/>
        </p:blipFill>
        <p:spPr>
          <a:xfrm>
            <a:off x="395280" y="1143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3760" y="60480"/>
            <a:ext cx="8686800" cy="1317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57320" y="57326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Рисунок 11" descr="Комодо (Индонезия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071720"/>
            <a:ext cx="3346560" cy="2000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2" descr="http://www.votpusk.ru/story/edit/foto/large/29344.jpg"/>
          <p:cNvPicPr/>
          <p:nvPr/>
        </p:nvPicPr>
        <p:blipFill>
          <a:blip r:embed="rId4"/>
          <a:stretch/>
        </p:blipFill>
        <p:spPr>
          <a:xfrm>
            <a:off x="500040" y="3252960"/>
            <a:ext cx="331956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4" descr="http://portal.azertag.az/sites/default/files/drakon3.jpg"/>
          <p:cNvPicPr/>
          <p:nvPr/>
        </p:nvPicPr>
        <p:blipFill>
          <a:blip r:embed="rId5"/>
          <a:stretch/>
        </p:blipFill>
        <p:spPr>
          <a:xfrm>
            <a:off x="4067280" y="4697280"/>
            <a:ext cx="3887640" cy="16812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3846600" y="1071720"/>
            <a:ext cx="46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ціональний парк Комодо  -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знаходиться в центрі індонезійського архіпелагу. Цей національний парк заснований в 1980 роц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в 1986 році оголошений біосферним    заповідником і включений ЮНЕСКО до Списку пам'яток всесвітньої природної спадщини. Він розкинувся на 603 квадратних кілометрів суші і 1214 квадратних кілометрів морських вод. Його унікальне широке біорізноманіття зробило його  найпопулярнішим парком Індонез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182520" y="-12600"/>
            <a:ext cx="8491680" cy="1317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94920" y="83664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риторія національного парку із включає три головні острови: Комодо, Рінка і Падар, а також безліч невеликих островів і коралових рифів. Всі вони входять до групи Малих Зондських островів і розташовані між островами Сумбава і Флорес, індонезійського архіпелагу. Найбільший з них - Комодо.  Спочатку парк був створений для захисту вимираючого унікального гігантського варана під назвою "комодо". З часом метою національного парку стало збереження дикої природи як наземної, так і морської. На цих вулканічних островах проживає близько 5700 видів цих гігантських ящірок, чиє агресивне поводження стало причиною назви цих ящірок-варанів "драконами комодо"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Рисунок 3" descr="http://2.bp.blogspot.com/-aEOqSJAOKZU/TdmttA_qPXI/AAAAAAAABGs/-7ZrpkbLMdM/s1600/komodo-national-park.jpg"/>
          <p:cNvPicPr/>
          <p:nvPr/>
        </p:nvPicPr>
        <p:blipFill>
          <a:blip r:embed="rId2"/>
          <a:stretch/>
        </p:blipFill>
        <p:spPr>
          <a:xfrm>
            <a:off x="2700360" y="5094360"/>
            <a:ext cx="5851440" cy="14288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5" descr="http://storge.pic2.me/c/1360x800/801/52d1b7e68a91c.jpg"/>
          <p:cNvPicPr/>
          <p:nvPr/>
        </p:nvPicPr>
        <p:blipFill>
          <a:blip r:embed="rId3"/>
          <a:stretch/>
        </p:blipFill>
        <p:spPr>
          <a:xfrm>
            <a:off x="539640" y="3357720"/>
            <a:ext cx="3853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362800" cy="1457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http://www.setwalls.ru/pic/201507/1600x900/setwalls.ru-84202.jpg"/>
          <p:cNvPicPr/>
          <p:nvPr/>
        </p:nvPicPr>
        <p:blipFill>
          <a:blip r:embed="rId2"/>
          <a:stretch/>
        </p:blipFill>
        <p:spPr>
          <a:xfrm>
            <a:off x="1187280" y="4745160"/>
            <a:ext cx="4364280" cy="1647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8" descr="http://www.beachguide.org/images/Andreas54a825a6c583b_Isola-Bella-Beach.JPG"/>
          <p:cNvPicPr/>
          <p:nvPr/>
        </p:nvPicPr>
        <p:blipFill>
          <a:blip r:embed="rId3"/>
          <a:stretch/>
        </p:blipFill>
        <p:spPr>
          <a:xfrm>
            <a:off x="4572000" y="1484280"/>
            <a:ext cx="4121280" cy="223200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3" descr="http://upload.wikimedia.org/wikipedia/commons/thumb/f/fb/Alicudi_filicudi.jpg/548px-Alicudi_filicudi.jpg"/>
          <p:cNvPicPr/>
          <p:nvPr/>
        </p:nvPicPr>
        <p:blipFill>
          <a:blip r:embed="rId4"/>
          <a:stretch/>
        </p:blipFill>
        <p:spPr>
          <a:xfrm>
            <a:off x="6051600" y="4076640"/>
            <a:ext cx="2608200" cy="19638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611280" y="157464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ські острови</a:t>
            </a: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 група вулканічних островів (архіпелаг) у Тірренському морі на північ від Сицилії. Острови є у списку Світової спадщини ЮНЕСКО. Утворені приблизно 260 000 років тому під час вулканічної активності. На острові Стромболі знаходиться діючий вулк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1262160" y="133200"/>
            <a:ext cx="6510240" cy="1311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68360" y="999720"/>
            <a:ext cx="78897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 архіпелагу входять такі остров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і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лі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улькан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омболі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ілікуд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ікуд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наре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силуцц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п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іпарські острови є досить популярним туристичним маршрутом. Приблизно 200 000 туристів відвідують острови щороку. У літній період до островів три рази на тиждень ходить паром з Неаполю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Рисунок 4" descr="http://www.gizmodo.in/photo/32838958/indiamodo/How-Volcanoes-Are-Helping-In-Controlling-Global-Warming.jpg"/>
          <p:cNvPicPr/>
          <p:nvPr/>
        </p:nvPicPr>
        <p:blipFill>
          <a:blip r:embed="rId2"/>
          <a:stretch/>
        </p:blipFill>
        <p:spPr>
          <a:xfrm>
            <a:off x="4921200" y="1125360"/>
            <a:ext cx="3552840" cy="24354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http://www.dream-wallpaper.com/free-wallpaper/nature-wallpaper/blue-sea-coast-landscape-2-wallpaper/1920x1200/free-wallpaper-1.jpg"/>
          <p:cNvPicPr/>
          <p:nvPr/>
        </p:nvPicPr>
        <p:blipFill>
          <a:blip r:embed="rId3"/>
          <a:stretch/>
        </p:blipFill>
        <p:spPr>
          <a:xfrm>
            <a:off x="2771640" y="3716280"/>
            <a:ext cx="3357720" cy="1295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http://www.esys.org/rev_info/Italien/liparische_inseln-stromboli-hq.jpg"/>
          <p:cNvPicPr/>
          <p:nvPr/>
        </p:nvPicPr>
        <p:blipFill>
          <a:blip r:embed="rId4"/>
          <a:stretch/>
        </p:blipFill>
        <p:spPr>
          <a:xfrm>
            <a:off x="1908000" y="1773360"/>
            <a:ext cx="2700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-19080" y="133200"/>
            <a:ext cx="9401040" cy="1268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3137040" y="2276640"/>
            <a:ext cx="56959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1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ціональний парк Казіранґа</a:t>
            </a:r>
            <a:r>
              <a:rPr b="0" lang="uk-UA" sz="19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— національний парк в індійському штаті Ассам, об'єкт Світової спадщини ЮНЕСКО. Площа території, що займає парк, становить 688 км². У парку знаходяться тропічні ліси, річки, луки, де пасуться слони. Світову популярність парку принесло його велике біорізноманіття, зокрема те, що тут мешкає найбільша (2/3 світовій чисельності) у світі популяції однорогого носорога. Також в парку можна побачити бенгальських тигрів, індійських слонів, водяних буйволів, болотних оленів та інших диких тварин. У парку є зони охорони птахів і тигр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Рисунок 6" descr="Assam 042 yfb edi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4280" y="2924280"/>
            <a:ext cx="2552760" cy="17161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7" descr="http://www.fuccha.in/wp-content/uploads/2015/09/kaziranga-national-park.jpg"/>
          <p:cNvPicPr/>
          <p:nvPr/>
        </p:nvPicPr>
        <p:blipFill>
          <a:blip r:embed="rId4"/>
          <a:stretch/>
        </p:blipFill>
        <p:spPr>
          <a:xfrm>
            <a:off x="3419640" y="1006560"/>
            <a:ext cx="2716200" cy="15793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8" descr="https://im3-tub-ua.yandex.net/i?id=41608ff07079176023c720528900427e&amp;n=33&amp;h=215&amp;w=480"/>
          <p:cNvPicPr/>
          <p:nvPr/>
        </p:nvPicPr>
        <p:blipFill>
          <a:blip r:embed="rId5"/>
          <a:stretch/>
        </p:blipFill>
        <p:spPr>
          <a:xfrm>
            <a:off x="444600" y="5124600"/>
            <a:ext cx="2743200" cy="9601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0" descr="http://static.panoramio.com/photos/large/57745652.jpg"/>
          <p:cNvPicPr/>
          <p:nvPr/>
        </p:nvPicPr>
        <p:blipFill>
          <a:blip r:embed="rId6"/>
          <a:stretch/>
        </p:blipFill>
        <p:spPr>
          <a:xfrm>
            <a:off x="6443640" y="1089000"/>
            <a:ext cx="2119320" cy="1413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1" descr="http://kailash.ru/img/2012/articles/img_8107.jpg"/>
          <p:cNvPicPr/>
          <p:nvPr/>
        </p:nvPicPr>
        <p:blipFill>
          <a:blip r:embed="rId7"/>
          <a:stretch/>
        </p:blipFill>
        <p:spPr>
          <a:xfrm>
            <a:off x="652320" y="1268280"/>
            <a:ext cx="2347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італька</cp:lastModifiedBy>
  <dcterms:modified xsi:type="dcterms:W3CDTF">2016-02-21T19:05:11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O-diski\01 Продукт\География 7 класс\Материалы диска\Уроки\1 семестр\Урок 35 Органический мир и природные зоны Южной Америки\P-Урок 35 Органический мир и природные зоны Южной Америки.Ppt</vt:lpwstr>
  </property>
</Properties>
</file>