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36A-9E97-49B0-AE4A-4923CBBB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4D87-3D7B-41EC-8645-A9349C79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2DF-02EE-492C-B3A5-56970984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2AF6-C210-4C5A-9580-FB7E09CE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EE2D-B147-48D5-B62D-195B3EC3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D221-A11D-4096-B2B0-3277F51B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ABEF-B84F-4943-8E41-0E866BDE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C096-B080-4192-AE2E-246482C9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CF37-7385-4259-847F-F6AD8AC3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5291-F79E-4D2A-B620-F9F9A240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4A7B-8B5F-40B0-93CB-625E1090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D3D-5606-47EC-9917-44BD268C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5C2E-3957-40FC-873F-75212516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7AFD-78C8-4D60-967E-C2952000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CDCA-96D3-410D-8B8A-AA9777E8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542F-2BC6-4B27-B40B-B77F1264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2037-F99A-4BE6-9DA0-062ECFD9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85897-5050-47CE-A202-0ACB7565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7F6A5-BDA8-49ED-B3BC-F9577499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135FB-73DF-4EC1-BE6E-B0345B4E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51E47-20A6-40DE-BBC4-7FD9617F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F9F55-72B6-45B0-97D2-32C072F3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A25-9E8D-469D-8588-F6E0FCE2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20633-6D70-4FF2-86DE-6DB059FA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86AB-AF19-4450-901A-661BFA35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4B0A4-2BBE-4DEE-B4DA-C06FA85C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FF40C-25B3-4EC8-8533-0814A6A6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D52F1-94A9-45D5-A411-3F2EB869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4FEF5-3D40-4003-916B-AB2A34BF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CB131-8A4A-4167-862B-9A33DC66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06DC5-ED71-4B85-8CAE-428E70B0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DC666-F68F-42FF-B7CE-07D0C313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3CAA8-A218-4824-8966-B1B9DDAA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5AF-9A32-4F7E-94E0-05882B38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676D2-16B5-41F8-A7F2-F9A9A0F7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54134-149C-4B8C-A9CB-4298E43E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96684-D7D4-476F-B21A-F2EE2B4E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76B49-6147-4D8E-8DB8-115949FA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236C1-4C28-41FC-B7E7-159584E4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406A1-A8A5-444B-ACC2-5B319D7E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2D4BC-613D-4A62-B91B-BFA6A7DE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5D555-11C8-4BB2-B488-1CEC039A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B86A3-F2ED-4FB9-A192-50DC70D7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85ABD-CE5F-491E-803B-9D20CB58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8339-A65A-4C45-9EDE-7C6B8ECC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844BD-E9D4-4316-95F2-A5644B7D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979CC-D01D-451E-A662-5B06BA17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127E6-AD48-4413-B836-B6F2AA04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ED71F-F3AB-4AE0-BE43-7D30FCC1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4C2D2-9D86-45A8-949A-D587DDA5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027C4-01A5-4086-A256-E82D7D40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2C5BD-9DC9-4F1D-A254-EB2037CA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8A425-459F-44BE-A0E1-2FBE40BF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8B6D4-4C8F-4276-8AB9-4F06CC78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E38B1-46EA-4715-8447-981424EA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CB93-FF5D-4722-A187-81522554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E003C-9299-4B22-BE59-943B0A36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9617-122A-4E9E-BCF8-5A26207B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3A4-501E-4984-B528-8A720206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D0B2-2799-4287-9D5D-8E155181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C3CE-CA5D-4C14-BC97-C81B693FAA2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8A8B-5D23-4640-910A-6BD1DFC036C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2FCC-AFBD-4BC7-98C8-FD52BB14C60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3083-1A3B-485D-8392-8BE8AFF55987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A651-6128-422A-BC9C-7C03CC6FAD7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706840" y="530280"/>
            <a:ext cx="6723000" cy="44067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714840" y="550080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Trebuchet MS"/>
              </a:rPr>
              <a:t>6 клас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TextBox 2"/>
          <p:cNvGrpSpPr/>
          <p:nvPr/>
        </p:nvGrpSpPr>
        <p:grpSpPr>
          <a:xfrm>
            <a:off x="628560" y="1042920"/>
            <a:ext cx="7064640" cy="4357800"/>
            <a:chOff x="628560" y="1042920"/>
            <a:chExt cx="7064640" cy="4357800"/>
          </a:xfrm>
        </p:grpSpPr>
        <p:pic>
          <p:nvPicPr>
            <p:cNvPr id="273" name="TextBox 2" descr=""/>
            <p:cNvPicPr/>
            <p:nvPr/>
          </p:nvPicPr>
          <p:blipFill>
            <a:blip r:embed="rId1"/>
            <a:stretch/>
          </p:blipFill>
          <p:spPr>
            <a:xfrm>
              <a:off x="628560" y="1042920"/>
              <a:ext cx="7064640" cy="43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84360" y="1071720"/>
              <a:ext cx="695952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0000ff"/>
                  </a:solidFill>
                  <a:latin typeface="Trebuchet MS"/>
                  <a:ea typeface="Arial"/>
                </a:rPr>
                <a:t>Так, паралельні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0000ff"/>
                  </a:solidFill>
                  <a:latin typeface="Trebuchet MS"/>
                  <a:ea typeface="Arial"/>
                </a:rPr>
                <a:t>( якщо не довіряєш очам, приклади лінійку)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0000ff"/>
                  </a:solidFill>
                  <a:latin typeface="Trebuchet MS"/>
                  <a:ea typeface="Arial"/>
                </a:rPr>
                <a:t>Це – приклад оптичних ілюзій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Прямоугольник 3"/>
          <p:cNvSpPr/>
          <p:nvPr/>
        </p:nvSpPr>
        <p:spPr>
          <a:xfrm>
            <a:off x="4071960" y="5429160"/>
            <a:ext cx="4286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Повернутись 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7255080" cy="8175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99680" y="1285920"/>
            <a:ext cx="3521160" cy="457200"/>
          </a:xfrm>
          <a:prstGeom prst="rect">
            <a:avLst/>
          </a:prstGeom>
          <a:solidFill>
            <a:srgbClr val="fbf5f8"/>
          </a:solidFill>
          <a:ln w="12600">
            <a:solidFill>
              <a:srgbClr val="b13f9a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ff"/>
                </a:solidFill>
                <a:latin typeface="Trebuchet MS"/>
              </a:rPr>
              <a:t>Паралельні прямі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00720" y="1285920"/>
            <a:ext cx="3520800" cy="457200"/>
          </a:xfrm>
          <a:prstGeom prst="rect">
            <a:avLst/>
          </a:prstGeom>
          <a:solidFill>
            <a:srgbClr val="fbf5f8"/>
          </a:solidFill>
          <a:ln w="12600">
            <a:solidFill>
              <a:srgbClr val="b13f9a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ff"/>
                </a:solidFill>
                <a:latin typeface="Trebuchet MS"/>
              </a:rPr>
              <a:t>Перпендикулярні прямі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29840" y="1928520"/>
            <a:ext cx="39322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Дві прямі називаються </a:t>
            </a:r>
            <a:r>
              <a:rPr b="1" lang="uk-UA" sz="2400" spc="-1" strike="noStrike">
                <a:solidFill>
                  <a:srgbClr val="ffff00"/>
                </a:solidFill>
                <a:latin typeface="Trebuchet MS"/>
              </a:rPr>
              <a:t>паралельними</a:t>
            </a: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,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якщо вон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rebuchet MS"/>
              </a:rPr>
              <a:t>не перетинаютьс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0" y="1928520"/>
            <a:ext cx="3286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Дві прямі називаються </a:t>
            </a:r>
            <a:r>
              <a:rPr b="1" lang="uk-UA" sz="2400" spc="-1" strike="noStrike">
                <a:solidFill>
                  <a:srgbClr val="ffff00"/>
                </a:solidFill>
                <a:latin typeface="Trebuchet MS"/>
              </a:rPr>
              <a:t>перпендикулярними</a:t>
            </a: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, якщо вони </a:t>
            </a:r>
            <a:r>
              <a:rPr b="1" lang="uk-UA" sz="2400" spc="-1" strike="noStrike">
                <a:solidFill>
                  <a:srgbClr val="ff0000"/>
                </a:solidFill>
                <a:latin typeface="Trebuchet MS"/>
              </a:rPr>
              <a:t>перетинаються під прямим ку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928800" y="4143240"/>
            <a:ext cx="2828880" cy="1895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4500720" y="4143240"/>
            <a:ext cx="26762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ая соединительная линия 8"/>
          <p:cNvSpPr/>
          <p:nvPr/>
        </p:nvSpPr>
        <p:spPr>
          <a:xfrm flipH="1">
            <a:off x="1714320" y="3143160"/>
            <a:ext cx="1571400" cy="171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7"/>
          <p:cNvSpPr/>
          <p:nvPr/>
        </p:nvSpPr>
        <p:spPr>
          <a:xfrm flipH="1">
            <a:off x="857160" y="2786040"/>
            <a:ext cx="1571760" cy="171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85680" y="171360"/>
            <a:ext cx="7620120" cy="10479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28760" y="1500120"/>
            <a:ext cx="3520800" cy="457200"/>
          </a:xfrm>
          <a:prstGeom prst="rect">
            <a:avLst/>
          </a:prstGeom>
          <a:solidFill>
            <a:srgbClr val="fbf5f8"/>
          </a:solidFill>
          <a:ln w="12600">
            <a:solidFill>
              <a:srgbClr val="b13f9a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ff"/>
                </a:solidFill>
                <a:latin typeface="Trebuchet MS"/>
              </a:rPr>
              <a:t>Паралельність</a:t>
            </a:r>
            <a:r>
              <a:rPr b="1" lang="uk-UA" sz="1700" spc="-1" strike="noStrike">
                <a:solidFill>
                  <a:srgbClr val="0000ff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85800" y="1500120"/>
            <a:ext cx="3521160" cy="457200"/>
          </a:xfrm>
          <a:prstGeom prst="rect">
            <a:avLst/>
          </a:prstGeom>
          <a:solidFill>
            <a:srgbClr val="fbf5f8"/>
          </a:solidFill>
          <a:ln w="12600">
            <a:solidFill>
              <a:srgbClr val="b13f9a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Trebuchet MS"/>
              </a:rPr>
              <a:t>Перпендикулярні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TextBox 9"/>
          <p:cNvSpPr/>
          <p:nvPr/>
        </p:nvSpPr>
        <p:spPr>
          <a:xfrm>
            <a:off x="357120" y="42148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2000160" y="2357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3500280" y="28576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1857240" y="4857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357120" y="5500800"/>
            <a:ext cx="400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║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D -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рям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B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аралельн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рямій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15"/>
          <p:cNvSpPr/>
          <p:nvPr/>
        </p:nvSpPr>
        <p:spPr>
          <a:xfrm flipH="1">
            <a:off x="6643800" y="2786040"/>
            <a:ext cx="1440" cy="2144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17"/>
          <p:cNvSpPr/>
          <p:nvPr/>
        </p:nvSpPr>
        <p:spPr>
          <a:xfrm>
            <a:off x="5572080" y="3929040"/>
            <a:ext cx="2143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8"/>
          <p:cNvSpPr/>
          <p:nvPr/>
        </p:nvSpPr>
        <p:spPr>
          <a:xfrm>
            <a:off x="7500960" y="3357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9"/>
          <p:cNvSpPr/>
          <p:nvPr/>
        </p:nvSpPr>
        <p:spPr>
          <a:xfrm>
            <a:off x="5357880" y="3357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0"/>
          <p:cNvSpPr/>
          <p:nvPr/>
        </p:nvSpPr>
        <p:spPr>
          <a:xfrm>
            <a:off x="6786720" y="4714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1"/>
          <p:cNvSpPr/>
          <p:nvPr/>
        </p:nvSpPr>
        <p:spPr>
          <a:xfrm>
            <a:off x="6858000" y="2428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2"/>
          <p:cNvSpPr/>
          <p:nvPr/>
        </p:nvSpPr>
        <p:spPr>
          <a:xfrm>
            <a:off x="4643280" y="55008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S    LN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 прям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S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ерпендикулярна прямій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24"/>
          <p:cNvSpPr/>
          <p:nvPr/>
        </p:nvSpPr>
        <p:spPr>
          <a:xfrm>
            <a:off x="5715000" y="5500800"/>
            <a:ext cx="0" cy="28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29"/>
          <p:cNvSpPr/>
          <p:nvPr/>
        </p:nvSpPr>
        <p:spPr>
          <a:xfrm>
            <a:off x="5643720" y="5786280"/>
            <a:ext cx="1425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30"/>
          <p:cNvSpPr/>
          <p:nvPr/>
        </p:nvSpPr>
        <p:spPr>
          <a:xfrm>
            <a:off x="6643800" y="3786120"/>
            <a:ext cx="142920" cy="14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115920" y="208080"/>
            <a:ext cx="7589880" cy="99828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500040" y="1357200"/>
            <a:ext cx="59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На малюнку знайди та запиши пар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Паралельних прям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Перпендикулярних прям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428760" y="2643120"/>
            <a:ext cx="631332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7297920" cy="12859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2"/>
          <p:cNvSpPr/>
          <p:nvPr/>
        </p:nvSpPr>
        <p:spPr>
          <a:xfrm>
            <a:off x="857160" y="2071800"/>
            <a:ext cx="6929640" cy="3506760"/>
          </a:xfrm>
          <a:prstGeom prst="rect">
            <a:avLst/>
          </a:prstGeom>
          <a:gradFill rotWithShape="0">
            <a:gsLst>
              <a:gs pos="0">
                <a:srgbClr val="ffeae5"/>
              </a:gs>
              <a:gs pos="100000">
                <a:srgbClr val="ffc5b7"/>
              </a:gs>
            </a:gsLst>
            <a:lin ang="5400000"/>
          </a:gradFill>
          <a:ln w="11520">
            <a:solidFill>
              <a:srgbClr val="de6c36"/>
            </a:solidFill>
            <a:miter/>
          </a:ln>
          <a:effectLst>
            <a:outerShdw dist="24840" dir="5400000" blurRad="0" rotWithShape="0">
              <a:srgbClr val="9a3302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точку, що не лежить на даній прямій, можна пров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ільки одну прям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ельну дані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7255080" cy="1225440"/>
          </a:xfrm>
          <a:prstGeom prst="rect">
            <a:avLst/>
          </a:prstGeom>
          <a:ln w="0">
            <a:noFill/>
          </a:ln>
        </p:spPr>
      </p:pic>
      <p:grpSp>
        <p:nvGrpSpPr>
          <p:cNvPr id="255" name="TextBox 2"/>
          <p:cNvGrpSpPr/>
          <p:nvPr/>
        </p:nvGrpSpPr>
        <p:grpSpPr>
          <a:xfrm>
            <a:off x="353880" y="2041560"/>
            <a:ext cx="7601040" cy="4998600"/>
            <a:chOff x="353880" y="2041560"/>
            <a:chExt cx="7601040" cy="4998600"/>
          </a:xfrm>
        </p:grpSpPr>
        <p:pic>
          <p:nvPicPr>
            <p:cNvPr id="256" name="TextBox 2" descr=""/>
            <p:cNvPicPr/>
            <p:nvPr/>
          </p:nvPicPr>
          <p:blipFill>
            <a:blip r:embed="rId2"/>
            <a:stretch/>
          </p:blipFill>
          <p:spPr>
            <a:xfrm>
              <a:off x="353880" y="2041560"/>
              <a:ext cx="7601040" cy="40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71680" y="2071800"/>
              <a:ext cx="714348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rebuchet MS"/>
                </a:rPr>
                <a:t>Через будь-яку точку на прямій проходи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uk-UA" sz="3200" spc="-1" strike="noStrike">
                  <a:solidFill>
                    <a:srgbClr val="000000"/>
                  </a:solidFill>
                  <a:latin typeface="Trebuchet MS"/>
                </a:rPr>
                <a:t>тільки одна пряма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rebuchet MS"/>
                </a:rPr>
                <a:t>перпендикулярна до даної прямої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437600" cy="11764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rebuchet MS"/>
              </a:rPr>
              <a:t>Промені або відрізки, що лежать на перпендикулярних  прямих, також вважають перпендикулярними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Рисунок 6" descr="Изображение 213.jpg"/>
          <p:cNvPicPr/>
          <p:nvPr/>
        </p:nvPicPr>
        <p:blipFill>
          <a:blip r:embed="rId2"/>
          <a:stretch/>
        </p:blipFill>
        <p:spPr>
          <a:xfrm>
            <a:off x="571680" y="2857680"/>
            <a:ext cx="7358040" cy="2585880"/>
          </a:xfrm>
          <a:prstGeom prst="rect">
            <a:avLst/>
          </a:prstGeom>
          <a:ln w="0">
            <a:noFill/>
          </a:ln>
        </p:spPr>
      </p:pic>
      <p:sp>
        <p:nvSpPr>
          <p:cNvPr id="261" name="TextBox 7"/>
          <p:cNvSpPr/>
          <p:nvPr/>
        </p:nvSpPr>
        <p:spPr>
          <a:xfrm>
            <a:off x="428760" y="5572080"/>
            <a:ext cx="30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мінь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3071880" y="5572080"/>
            <a:ext cx="22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ідрізок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5286240" y="5572080"/>
            <a:ext cx="28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мінь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 прямій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390600" y="317520"/>
            <a:ext cx="7369200" cy="1150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rebuchet MS"/>
              </a:rPr>
              <a:t>Промені або відрізки, що лежать на паралельних  прямих, також вважають паралельними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7"/>
          <p:cNvSpPr/>
          <p:nvPr/>
        </p:nvSpPr>
        <p:spPr>
          <a:xfrm>
            <a:off x="5214960" y="2286000"/>
            <a:ext cx="242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 паралельні лінії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1071720" y="2000160"/>
            <a:ext cx="207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 паралельні смуг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Заголовок 2" descr=""/>
          <p:cNvPicPr/>
          <p:nvPr/>
        </p:nvPicPr>
        <p:blipFill>
          <a:blip r:embed="rId1"/>
          <a:stretch/>
        </p:blipFill>
        <p:spPr>
          <a:xfrm>
            <a:off x="1639800" y="122400"/>
            <a:ext cx="5907240" cy="1047600"/>
          </a:xfrm>
          <a:prstGeom prst="rect">
            <a:avLst/>
          </a:prstGeom>
          <a:ln w="0">
            <a:noFill/>
          </a:ln>
        </p:spPr>
      </p:pic>
      <p:pic>
        <p:nvPicPr>
          <p:cNvPr id="269" name="Содержимое 4" descr="parall2.gif"/>
          <p:cNvPicPr/>
          <p:nvPr/>
        </p:nvPicPr>
        <p:blipFill>
          <a:blip r:embed="rId2"/>
          <a:stretch/>
        </p:blipFill>
        <p:spPr>
          <a:xfrm>
            <a:off x="714240" y="1357200"/>
            <a:ext cx="2857680" cy="469584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5" descr="rope.gif"/>
          <p:cNvPicPr/>
          <p:nvPr/>
        </p:nvPicPr>
        <p:blipFill>
          <a:blip r:embed="rId3"/>
          <a:stretch/>
        </p:blipFill>
        <p:spPr>
          <a:xfrm>
            <a:off x="4857840" y="1428840"/>
            <a:ext cx="3000240" cy="46702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8"/>
          <p:cNvSpPr/>
          <p:nvPr/>
        </p:nvSpPr>
        <p:spPr>
          <a:xfrm>
            <a:off x="4786200" y="592920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Відпові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1,-37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1,-37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7:49:56Z</dcterms:created>
  <dc:creator>Admin</dc:creator>
  <dc:description/>
  <dc:language>en-US</dc:language>
  <cp:lastModifiedBy>BCS</cp:lastModifiedBy>
  <dcterms:modified xsi:type="dcterms:W3CDTF">2020-04-12T20:30:25Z</dcterms:modified>
  <cp:revision>56</cp:revision>
  <dc:subject/>
  <dc:title>Паралельні та перпендикулярні прямі</dc:title>
</cp:coreProperties>
</file>