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8A1C-3824-43ED-B187-9E736311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7B1-957E-4155-8567-12AC5046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0879-3F17-43EF-8F4B-CB1529A2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B8A-1BE8-41D0-840B-AD01624C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8ADB-9241-4151-A1EA-E0906BE2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D9DD-D55C-48F7-817B-4464D94F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ECA2-6D3C-4192-8064-53D48697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0C6A-7A6C-4D02-B9E7-F353D94A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701E-0D18-420A-BDB8-84DC091E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BA8A-EC8E-4A5E-9AE1-570CE067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8B19-0C93-4992-B1AA-173D2F6E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C305-3908-472B-84D2-37A1BAD5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00BE-02A1-4202-93C0-024EFC45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81E6-9935-4565-8CC5-B77BF891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FABB-3003-45E8-9CB6-3E218941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2CD0-4725-4E61-9A2D-729D218F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102E-F047-406E-B1F5-E6A5313D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091DB-23E0-48F3-BC3E-0CCA820B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7A31F-D2D9-4C98-8B42-9CC7CD64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EEB42-1506-4F5A-AD3C-67743E12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B97C8-E7CA-4561-8462-256D7CCF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73DC9-D5C3-4C0A-886B-51D536F6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401-70AF-4654-932B-39634C10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DAA9B-0CCF-4316-B7A7-FD1F2F1B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5253D-2545-4CED-93EF-E2194A65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4BBC7-2FDE-42DC-AD89-FEAA6AED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0C60C-331A-46E1-BDA8-88E6285D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906C8-7322-453F-97C1-A525BA79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B0FEF-5892-4066-B2EC-02049D25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2AB92-7E85-40F6-A235-3942BF8E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8EB11-D3B5-46C7-AEA7-B94BB900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5B42E-CC13-47BA-ABE7-EC09CDF8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4092C-499C-4C76-9300-B4619F98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BCCE-22C4-426E-9503-D3C8774B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01F87-A382-4019-9F89-6919DF1E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14F13-4689-4ED8-A4B0-9642075A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D6975-4DE3-4C60-BE47-09AD543D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851DB-08DF-4655-98DC-97746BE8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4016C-580A-4E42-9F28-8B226B62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B76A4-5DA4-4191-82A4-A149B168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051AA-8695-40B0-AA07-AA699D43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3FF7B-FFCA-47AF-B906-43D49D34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8A688-6DAF-4682-8247-286DA052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07898-22E6-46E9-9D4F-9B9420F8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416F-E39D-4960-92B5-CDAB2460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E1A0F-A3CD-4818-AF8C-DDD5920A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5B175-57AB-47D6-8140-1855FFB1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FD661-542E-4A49-B3C2-235349D2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11698-7F78-412D-87D2-BC04764A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85D0D-E9C6-4107-B178-B68A0198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178D0-DCB7-4500-AB1D-BD651FC4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88567-DA07-4A3B-85F1-B0FE7831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98B73-3FB1-4006-8A76-94B92680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2563F-99D2-40EE-BE57-7C281489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F9D9B-1CDA-4DCD-AB7C-A4EC8F5E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5C1D-D36D-446F-AEED-DCD0678C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F454B-8756-4CEC-8030-505ED80A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B724-CA84-40F9-ADAC-82E936CA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5A2-E561-4319-B0C1-178773C8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DDF9-42C7-43C1-AC2E-601EF920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061D-22DE-41F5-A944-A2937962237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58DF-832A-4C78-B0CB-F74E6CFB00E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8C4A-8D2B-4F8F-B4A8-32DCD966AC4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CF36-07FC-4582-B5D5-7EE3B05B21DD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5199-EBCF-4022-A41F-6F79F9D0400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706840" y="530280"/>
            <a:ext cx="6723000" cy="44067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714840" y="550080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Trebuchet MS"/>
              </a:rPr>
              <a:t>6 клас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TextBox 2"/>
          <p:cNvGrpSpPr/>
          <p:nvPr/>
        </p:nvGrpSpPr>
        <p:grpSpPr>
          <a:xfrm>
            <a:off x="628560" y="1042920"/>
            <a:ext cx="7064640" cy="4357800"/>
            <a:chOff x="628560" y="1042920"/>
            <a:chExt cx="7064640" cy="4357800"/>
          </a:xfrm>
        </p:grpSpPr>
        <p:pic>
          <p:nvPicPr>
            <p:cNvPr id="273" name="TextBox 2" descr=""/>
            <p:cNvPicPr/>
            <p:nvPr/>
          </p:nvPicPr>
          <p:blipFill>
            <a:blip r:embed="rId1"/>
            <a:stretch/>
          </p:blipFill>
          <p:spPr>
            <a:xfrm>
              <a:off x="628560" y="1042920"/>
              <a:ext cx="7064640" cy="43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684360" y="1071720"/>
              <a:ext cx="695952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0000ff"/>
                  </a:solidFill>
                  <a:latin typeface="Trebuchet MS"/>
                  <a:ea typeface="Arial"/>
                </a:rPr>
                <a:t>Так, паралельні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0000ff"/>
                  </a:solidFill>
                  <a:latin typeface="Trebuchet MS"/>
                  <a:ea typeface="Arial"/>
                </a:rPr>
                <a:t>( якщо не довіряєш очам, приклади лінійку)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0000ff"/>
                  </a:solidFill>
                  <a:latin typeface="Trebuchet MS"/>
                  <a:ea typeface="Arial"/>
                </a:rPr>
                <a:t>Це – приклад оптичних ілюзій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Прямоугольник 3"/>
          <p:cNvSpPr/>
          <p:nvPr/>
        </p:nvSpPr>
        <p:spPr>
          <a:xfrm>
            <a:off x="4071960" y="5429160"/>
            <a:ext cx="4286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Повернутись 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7255080" cy="8175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99680" y="1285920"/>
            <a:ext cx="3521160" cy="457200"/>
          </a:xfrm>
          <a:prstGeom prst="rect">
            <a:avLst/>
          </a:prstGeom>
          <a:solidFill>
            <a:srgbClr val="fbf5f8"/>
          </a:solidFill>
          <a:ln w="12600">
            <a:solidFill>
              <a:srgbClr val="b13f9a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ff"/>
                </a:solidFill>
                <a:latin typeface="Trebuchet MS"/>
              </a:rPr>
              <a:t>Паралельні прямі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00720" y="1285920"/>
            <a:ext cx="3520800" cy="457200"/>
          </a:xfrm>
          <a:prstGeom prst="rect">
            <a:avLst/>
          </a:prstGeom>
          <a:solidFill>
            <a:srgbClr val="fbf5f8"/>
          </a:solidFill>
          <a:ln w="12600">
            <a:solidFill>
              <a:srgbClr val="b13f9a"/>
            </a:solidFill>
            <a:miter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ff"/>
                </a:solidFill>
                <a:latin typeface="Trebuchet MS"/>
              </a:rPr>
              <a:t>Перпендикулярні прямі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29840" y="1928520"/>
            <a:ext cx="39322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Дві прямі називаються </a:t>
            </a:r>
            <a:r>
              <a:rPr b="1" lang="uk-UA" sz="2400" spc="-1" strike="noStrike">
                <a:solidFill>
                  <a:srgbClr val="ffff00"/>
                </a:solidFill>
                <a:latin typeface="Trebuchet MS"/>
              </a:rPr>
              <a:t>паралельними</a:t>
            </a: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,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якщо вон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rebuchet MS"/>
              </a:rPr>
              <a:t>не перетинаютьс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0" y="1928520"/>
            <a:ext cx="3286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Дві прямі називаються </a:t>
            </a:r>
            <a:r>
              <a:rPr b="1" lang="uk-UA" sz="2400" spc="-1" strike="noStrike">
                <a:solidFill>
                  <a:srgbClr val="ffff00"/>
                </a:solidFill>
                <a:latin typeface="Trebuchet MS"/>
              </a:rPr>
              <a:t>перпендикулярними</a:t>
            </a: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, якщо вони </a:t>
            </a:r>
            <a:r>
              <a:rPr b="1" lang="uk-UA" sz="2400" spc="-1" strike="noStrike">
                <a:solidFill>
                  <a:srgbClr val="ff0000"/>
                </a:solidFill>
                <a:latin typeface="Trebuchet MS"/>
              </a:rPr>
              <a:t>перетинаються під прямим ку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928800" y="4143240"/>
            <a:ext cx="2828880" cy="1895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4500720" y="4143240"/>
            <a:ext cx="26762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ая соединительная линия 8"/>
          <p:cNvSpPr/>
          <p:nvPr/>
        </p:nvSpPr>
        <p:spPr>
          <a:xfrm flipH="1">
            <a:off x="1714320" y="3143160"/>
            <a:ext cx="1571400" cy="1714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7"/>
          <p:cNvSpPr/>
          <p:nvPr/>
        </p:nvSpPr>
        <p:spPr>
          <a:xfrm flipH="1">
            <a:off x="857160" y="2786040"/>
            <a:ext cx="1571760" cy="1714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85680" y="171360"/>
            <a:ext cx="7620120" cy="10479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28760" y="1500120"/>
            <a:ext cx="3520800" cy="457200"/>
          </a:xfrm>
          <a:prstGeom prst="rect">
            <a:avLst/>
          </a:prstGeom>
          <a:solidFill>
            <a:srgbClr val="fbf5f8"/>
          </a:solidFill>
          <a:ln w="12600">
            <a:solidFill>
              <a:srgbClr val="b13f9a"/>
            </a:solidFill>
            <a:miter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ff"/>
                </a:solidFill>
                <a:latin typeface="Trebuchet MS"/>
              </a:rPr>
              <a:t>Паралельність</a:t>
            </a:r>
            <a:r>
              <a:rPr b="1" lang="uk-UA" sz="1700" spc="-1" strike="noStrike">
                <a:solidFill>
                  <a:srgbClr val="0000ff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85800" y="1500120"/>
            <a:ext cx="3521160" cy="457200"/>
          </a:xfrm>
          <a:prstGeom prst="rect">
            <a:avLst/>
          </a:prstGeom>
          <a:solidFill>
            <a:srgbClr val="fbf5f8"/>
          </a:solidFill>
          <a:ln w="12600">
            <a:solidFill>
              <a:srgbClr val="b13f9a"/>
            </a:solidFill>
            <a:miter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Trebuchet MS"/>
              </a:rPr>
              <a:t>Перпендикулярніс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TextBox 9"/>
          <p:cNvSpPr/>
          <p:nvPr/>
        </p:nvSpPr>
        <p:spPr>
          <a:xfrm>
            <a:off x="357120" y="42148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2000160" y="2357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3500280" y="28576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1857240" y="48578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3"/>
          <p:cNvSpPr/>
          <p:nvPr/>
        </p:nvSpPr>
        <p:spPr>
          <a:xfrm>
            <a:off x="357120" y="5500800"/>
            <a:ext cx="400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║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D -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прям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B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паралельн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прямій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15"/>
          <p:cNvSpPr/>
          <p:nvPr/>
        </p:nvSpPr>
        <p:spPr>
          <a:xfrm flipH="1">
            <a:off x="6643800" y="2786040"/>
            <a:ext cx="1440" cy="2144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17"/>
          <p:cNvSpPr/>
          <p:nvPr/>
        </p:nvSpPr>
        <p:spPr>
          <a:xfrm>
            <a:off x="5572080" y="3929040"/>
            <a:ext cx="2143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8"/>
          <p:cNvSpPr/>
          <p:nvPr/>
        </p:nvSpPr>
        <p:spPr>
          <a:xfrm>
            <a:off x="7500960" y="3357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9"/>
          <p:cNvSpPr/>
          <p:nvPr/>
        </p:nvSpPr>
        <p:spPr>
          <a:xfrm>
            <a:off x="5357880" y="3357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0"/>
          <p:cNvSpPr/>
          <p:nvPr/>
        </p:nvSpPr>
        <p:spPr>
          <a:xfrm>
            <a:off x="6786720" y="4714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1"/>
          <p:cNvSpPr/>
          <p:nvPr/>
        </p:nvSpPr>
        <p:spPr>
          <a:xfrm>
            <a:off x="6858000" y="2428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2"/>
          <p:cNvSpPr/>
          <p:nvPr/>
        </p:nvSpPr>
        <p:spPr>
          <a:xfrm>
            <a:off x="4643280" y="55008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S    LN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 прям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S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перпендикулярна прямій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24"/>
          <p:cNvSpPr/>
          <p:nvPr/>
        </p:nvSpPr>
        <p:spPr>
          <a:xfrm>
            <a:off x="5715000" y="5500800"/>
            <a:ext cx="0" cy="28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29"/>
          <p:cNvSpPr/>
          <p:nvPr/>
        </p:nvSpPr>
        <p:spPr>
          <a:xfrm>
            <a:off x="5643720" y="5786280"/>
            <a:ext cx="1425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30"/>
          <p:cNvSpPr/>
          <p:nvPr/>
        </p:nvSpPr>
        <p:spPr>
          <a:xfrm>
            <a:off x="6643800" y="3786120"/>
            <a:ext cx="142920" cy="14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115920" y="208080"/>
            <a:ext cx="7589880" cy="99828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>
            <a:off x="500040" y="1357200"/>
            <a:ext cx="59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На малюнку знайди та запиши пар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Паралельних прям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Перпендикулярних прям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428760" y="2643120"/>
            <a:ext cx="631332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7297920" cy="12859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2"/>
          <p:cNvSpPr/>
          <p:nvPr/>
        </p:nvSpPr>
        <p:spPr>
          <a:xfrm>
            <a:off x="857160" y="2071800"/>
            <a:ext cx="6929640" cy="3506760"/>
          </a:xfrm>
          <a:prstGeom prst="rect">
            <a:avLst/>
          </a:prstGeom>
          <a:gradFill rotWithShape="0">
            <a:gsLst>
              <a:gs pos="0">
                <a:srgbClr val="ffeae5"/>
              </a:gs>
              <a:gs pos="100000">
                <a:srgbClr val="ffc5b7"/>
              </a:gs>
            </a:gsLst>
            <a:lin ang="5400000"/>
          </a:gradFill>
          <a:ln w="11520">
            <a:solidFill>
              <a:srgbClr val="de6c36"/>
            </a:solidFill>
            <a:miter/>
          </a:ln>
          <a:effectLst>
            <a:outerShdw dist="24840" dir="5400000" blurRad="0" rotWithShape="0">
              <a:srgbClr val="9a3302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точку, що не лежить на даній прямій, можна пров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ільки одну прям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ельну дані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7255080" cy="1225440"/>
          </a:xfrm>
          <a:prstGeom prst="rect">
            <a:avLst/>
          </a:prstGeom>
          <a:ln w="0">
            <a:noFill/>
          </a:ln>
        </p:spPr>
      </p:pic>
      <p:grpSp>
        <p:nvGrpSpPr>
          <p:cNvPr id="255" name="TextBox 2"/>
          <p:cNvGrpSpPr/>
          <p:nvPr/>
        </p:nvGrpSpPr>
        <p:grpSpPr>
          <a:xfrm>
            <a:off x="353880" y="2041560"/>
            <a:ext cx="7601040" cy="4998600"/>
            <a:chOff x="353880" y="2041560"/>
            <a:chExt cx="7601040" cy="4998600"/>
          </a:xfrm>
        </p:grpSpPr>
        <p:pic>
          <p:nvPicPr>
            <p:cNvPr id="256" name="TextBox 2" descr=""/>
            <p:cNvPicPr/>
            <p:nvPr/>
          </p:nvPicPr>
          <p:blipFill>
            <a:blip r:embed="rId2"/>
            <a:stretch/>
          </p:blipFill>
          <p:spPr>
            <a:xfrm>
              <a:off x="353880" y="2041560"/>
              <a:ext cx="7601040" cy="40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71680" y="2071800"/>
              <a:ext cx="714348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Trebuchet MS"/>
                </a:rPr>
                <a:t>Через будь-яку точку на прямій проходи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uk-UA" sz="3200" spc="-1" strike="noStrike">
                  <a:solidFill>
                    <a:srgbClr val="000000"/>
                  </a:solidFill>
                  <a:latin typeface="Trebuchet MS"/>
                </a:rPr>
                <a:t>тільки одна пряма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Trebuchet MS"/>
                </a:rPr>
                <a:t>перпендикулярна до даної прямої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437600" cy="11764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rebuchet MS"/>
              </a:rPr>
              <a:t>Промені або відрізки, що лежать на перпендикулярних  прямих, також вважають перпендикулярними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Рисунок 6" descr="Изображение 213.jpg"/>
          <p:cNvPicPr/>
          <p:nvPr/>
        </p:nvPicPr>
        <p:blipFill>
          <a:blip r:embed="rId2"/>
          <a:stretch/>
        </p:blipFill>
        <p:spPr>
          <a:xfrm>
            <a:off x="571680" y="2857680"/>
            <a:ext cx="7358040" cy="2585880"/>
          </a:xfrm>
          <a:prstGeom prst="rect">
            <a:avLst/>
          </a:prstGeom>
          <a:ln w="0">
            <a:noFill/>
          </a:ln>
        </p:spPr>
      </p:pic>
      <p:sp>
        <p:nvSpPr>
          <p:cNvPr id="261" name="TextBox 7"/>
          <p:cNvSpPr/>
          <p:nvPr/>
        </p:nvSpPr>
        <p:spPr>
          <a:xfrm>
            <a:off x="428760" y="5572080"/>
            <a:ext cx="30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мінь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┴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8"/>
          <p:cNvSpPr/>
          <p:nvPr/>
        </p:nvSpPr>
        <p:spPr>
          <a:xfrm>
            <a:off x="3071880" y="5572080"/>
            <a:ext cx="22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ідрізок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┴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5286240" y="5572080"/>
            <a:ext cx="28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мінь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┴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Arial"/>
              </a:rPr>
              <a:t> прямій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390600" y="317520"/>
            <a:ext cx="7369200" cy="11509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Trebuchet MS"/>
              </a:rPr>
              <a:t>Промені або відрізки, що лежать на паралельних  прямих, також вважають паралельними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7"/>
          <p:cNvSpPr/>
          <p:nvPr/>
        </p:nvSpPr>
        <p:spPr>
          <a:xfrm>
            <a:off x="5214960" y="2286000"/>
            <a:ext cx="242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 паралельні лінії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1071720" y="2000160"/>
            <a:ext cx="207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 паралельні смуг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Заголовок 2" descr=""/>
          <p:cNvPicPr/>
          <p:nvPr/>
        </p:nvPicPr>
        <p:blipFill>
          <a:blip r:embed="rId1"/>
          <a:stretch/>
        </p:blipFill>
        <p:spPr>
          <a:xfrm>
            <a:off x="1639800" y="122400"/>
            <a:ext cx="5907240" cy="1047600"/>
          </a:xfrm>
          <a:prstGeom prst="rect">
            <a:avLst/>
          </a:prstGeom>
          <a:ln w="0">
            <a:noFill/>
          </a:ln>
        </p:spPr>
      </p:pic>
      <p:pic>
        <p:nvPicPr>
          <p:cNvPr id="269" name="Содержимое 4" descr="parall2.gif"/>
          <p:cNvPicPr/>
          <p:nvPr/>
        </p:nvPicPr>
        <p:blipFill>
          <a:blip r:embed="rId2"/>
          <a:stretch/>
        </p:blipFill>
        <p:spPr>
          <a:xfrm>
            <a:off x="714240" y="1357200"/>
            <a:ext cx="2857680" cy="469584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5" descr="rope.gif"/>
          <p:cNvPicPr/>
          <p:nvPr/>
        </p:nvPicPr>
        <p:blipFill>
          <a:blip r:embed="rId3"/>
          <a:stretch/>
        </p:blipFill>
        <p:spPr>
          <a:xfrm>
            <a:off x="4857840" y="1428840"/>
            <a:ext cx="3000240" cy="4670280"/>
          </a:xfrm>
          <a:prstGeom prst="rect">
            <a:avLst/>
          </a:prstGeom>
          <a:ln w="0">
            <a:noFill/>
          </a:ln>
        </p:spPr>
      </p:pic>
      <p:sp>
        <p:nvSpPr>
          <p:cNvPr id="271" name="TextBox 8"/>
          <p:cNvSpPr/>
          <p:nvPr/>
        </p:nvSpPr>
        <p:spPr>
          <a:xfrm>
            <a:off x="4786200" y="592920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de66"/>
                </a:solidFill>
                <a:uFillTx/>
                <a:latin typeface="Arial"/>
                <a:hlinkClick r:id="rId4" action="ppaction://hlinksldjump"/>
              </a:rPr>
              <a:t>Відпові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1,-37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1,-37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7:49:56Z</dcterms:created>
  <dc:creator>Admin</dc:creator>
  <dc:description/>
  <dc:language>en-US</dc:language>
  <cp:lastModifiedBy>BCS</cp:lastModifiedBy>
  <dcterms:modified xsi:type="dcterms:W3CDTF">2020-04-12T20:30:25Z</dcterms:modified>
  <cp:revision>56</cp:revision>
  <dc:subject/>
  <dc:title>Паралельні та перпендикулярні прямі</dc:title>
</cp:coreProperties>
</file>